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CAEEF-B7BC-4291-8233-8E0593A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8AC85-50B9-4BEB-9E08-745B6EB4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56DB5-AD99-47DA-B58F-EF7E09C4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85C60-0B49-4417-A318-F05F975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E27E4-4FDC-4846-9D2C-72AE51F3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99C49-C9AB-4236-B356-AD66CA57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E1A37-E006-407B-BEF3-1018498B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A2A2B-53A1-4E1C-8709-D0CF9315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5BDE-CAB6-4378-AEBB-898F9DC4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C044A-92FA-48F9-8C7A-B42C4CD7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B8B37-D8D4-45CF-A98F-7FE14DEC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60DAF-0E33-431A-9C60-E03D41F4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0FEA0-156A-4FF3-A42D-26A3CC80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266BA-ABFA-451E-83A5-62AE64CD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C305F-81D7-417C-956E-714AA4ED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462CC-B1A7-4BCF-BD89-AC808542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F2DFD-4657-42A8-AA8A-7FB6E7BD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0BBD0-63CE-4BB5-A555-BBF7CA6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20CBF-4816-4109-A43A-7F0CD5DB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3B457-5309-4316-B709-0EC3EF21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56001-417C-4A57-ACCE-928EFD46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E9073-C616-4D85-AB99-6D93A626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7997E-2A7E-4520-9F31-4D324A50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49D00-5B25-45CA-A023-1B7E601E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B5D94-D053-4947-A421-2ECE8DAC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E05E9-E20D-46B8-A869-B42F29DC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83F36-F403-487F-A701-420D807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DF50A-FCD4-4F64-A394-EEB260A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BE002-404C-4808-BCFC-9F87405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0810B-2E32-46C9-B403-9DDAB20F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6D0-B1C0-4B3E-A197-FD8CD739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A14BC-6008-4944-9CD1-99F3548B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18920-CAB8-4351-9FE9-E9ABDCB1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4BACC-FA6B-418B-B923-406F2B12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D2AA7-D792-419E-B7F6-DDF47440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1C9A2-4176-45A3-9742-7B95C2A9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D478D-9C9B-45DA-9444-FBB26AB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D14FB-1805-4717-8FBE-B2BA9563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B1798-ED99-450A-9044-A084BE9C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2A82C-62CD-46A1-A63D-2715CB59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16928-65C6-405C-BEB7-270C40A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620-4546-4AA3-AB3D-DD72653A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5D37B-949B-4B5E-80F8-906E8903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6E0CB-8B48-4140-998A-8A1B63C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C9391-C311-4C70-AF46-32C25F65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CE0AE-B46E-4A28-9919-7AC55089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83F24-76F1-46E7-8203-94DF9C95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A2CF4-81D6-4D92-8AC4-62D358F7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B2D6D-854C-49DD-B77F-E603B9D1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EB894-B807-4233-9124-56853ECB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B5C7C-A94D-4E96-8D4E-74C626D9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AAD78-BBAF-40B6-BF26-BA017DD2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EB0-4520-4909-A117-61842924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4F3E3-4D25-4912-BC5C-6534628E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4C710-BCCC-4561-A9C2-64ED9F6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203D4-B2C2-4AA0-956D-15ACDD2C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C1285-7294-421B-8925-01D3B25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5EE2A-8E10-4045-BAE3-D41D8616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9A91D-6296-4B3D-85B9-041A83AD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F1372-9416-44E0-BF3E-712CDA34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039-71B0-457C-9E53-63E19121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85C-B719-402B-9065-B2D7F1B4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8BF-0D98-47B7-BA5C-6FA42AAD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C77-6F96-45A3-9442-AE08E3C0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657-3A63-4E77-9FFD-6A9C85CA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3E6-3AD2-4DA1-8A5C-BA3C7E3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924-43CC-4EAC-B8CD-F62AAD9F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AE2-020F-499C-876D-C5438EB3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326-1089-4D3C-BB82-C22BA607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2C16-3042-4B99-B967-E0A721AB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C021-BE82-47F7-9849-49954DBE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23D4-D542-4389-A9AF-3D01BB36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9E88-8BFA-4C9F-8395-25E93FD5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5A16-67E2-44DE-9F34-AAB1475F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B394-BB43-4101-A1AA-567013D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F497-5EDD-481A-8A14-3B032B0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2727-4530-4716-A20B-4C55FA5D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3807-E8E1-4E7F-936D-9D9D7050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EBD3-698F-4F39-84B5-CAE5F060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C539-D0DB-4409-B5CB-C4788661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C62A-0434-46A0-BAA2-C8D08AFA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14F2-9F26-4212-B282-A0F556D3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877D-6B15-4816-8DEF-4BC52E98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C567-B206-4CE7-A9B6-3FF8884A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31C31-3D7F-40CD-B594-E6F581C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54C5-82DF-4BDE-B22A-9983B176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B970-4D55-422C-AB7D-7A4F6AAC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4E3D-DE38-4645-B4E9-D9D62D82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C50A-7105-443D-B695-20045A74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51F4-6E89-44FC-8DA4-7C5ABDF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95D5-8287-4EA3-BA26-F4A55F69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AA6A-FAB4-414A-A032-C4827F67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649A-6BD4-4EAF-9369-96B2B222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0F7E-6574-4D2F-AF2B-29FD000F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FD0E9-7C9A-46DC-BC8C-4B7F21DF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6C02-78F3-4AC8-93CD-59D2BFB0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763F-6466-40BF-97FD-3E2C6CE4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0B002-5E10-45A1-9182-A00C4998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53F49-8E7F-4809-BA81-49145CB8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CE1A-2DBC-43F4-AD2B-8982E206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306A-07E0-4C31-BCF2-517B9B0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8EDB-DD49-4A14-B9D6-EC8EB82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9CF9-4D68-49EA-B29B-93F75086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8CE5-5A28-4D27-9174-86200C4F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E8F2-0FAC-4D15-8869-17CD5C86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6D9CA-D92E-450C-8A5F-7A07EE75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D0A05-42FA-4987-8177-88797D67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8A97A-B344-478E-A779-3CBC05D3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86C61-F918-4B25-8196-AF1F8E16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80A7C-3BDC-4119-AFC4-A7FE2D0A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56D7-9884-46E7-AB14-7D78B3D5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362CB-DDF0-4B8D-9CB9-74129F4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B8DB2-6857-4DDC-82CF-1C56268E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CA51-CFC3-447B-992B-5F4D50B1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96D8-A99C-4BB6-AEE6-C4173E6E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1264-6CB5-49C7-839E-983A475C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276FC-3AE1-465B-9356-3EF3764F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9FAA8-A662-40C3-A3C1-0A8D6433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62FE5-8206-433B-89FF-B73DF31D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F19EE-4ACB-427F-B2D3-3275AE45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F4D8C-5B1F-4585-ACD8-291F2EB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B4F5-0F03-492E-99B3-A230EAB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F59CE-FF4F-4BD5-8775-4EFE468B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02DC-A2BB-47B1-9862-B7A4E83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4E78-CC1C-42E9-99AC-2D76759A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FD61A-C415-4E70-85DE-DECAFB1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B23C-A04F-41C8-A36F-7341AFE3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2D3B-90AF-44CB-BCC1-2C1A5318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1F3BE-12BC-4D2C-A4CE-0ACC2C5E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F530E-BB99-48A9-9F7D-1E77D2D1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3F375-DF19-49F9-8630-48C8A629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FFF4D-6DE7-4277-89D3-092AFF32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8A988-AFBF-4280-BD4B-D6A9CDA0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84A6A-7A3D-40B6-8704-EE504DEC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3A774-43BF-4021-B405-416D1AB8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6CBBD-7BCF-4E6D-A6A8-1B2C0FB7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F4901-C6C8-4845-8260-C99600B6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788E8-5A35-41D5-9A4E-AEBB1387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D0AD1-3199-4F76-A981-477D0DAF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E0FA2-9138-4459-B787-EB9F5ACA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50152-2769-4E54-AE81-10207212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7E0C5-F6D6-45C4-9AA4-A23E6B66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728B3-C287-42BF-9B32-0C80991B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391EB-6D23-4B30-AFAE-94B2D58D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981C-2F3A-4EA4-80BE-D04E627C37B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38A-A9FD-4607-8F79-AE68F75FE53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62A4-34B6-4D4C-B105-D7E3D11A064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BCB8-83CD-47CD-A05C-772A3BD89B2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7722-A592-42B2-A84E-B3B8044B1C9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FE14-4148-48F4-BA4D-245297902B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BA17-A4DC-4E1E-9462-847ECAC88D8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B55-98A5-4EA3-9A2E-F630C20E841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8536-F601-4763-927A-ABF61A8AE946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2CA8-FAF6-4FD4-8B42-06C92AB68DF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5542-8B6D-4797-837B-58FDE87E784B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B7A-02D5-4BBB-AB6B-6ABDB0E4EA0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451D-FBAB-40C3-AA15-36E5567F2E3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8800" y="1628280"/>
            <a:ext cx="7137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25198"/>
                </a:solidFill>
                <a:latin typeface="宋体"/>
                <a:ea typeface="宋体"/>
              </a:rPr>
              <a:t>精品蓝色毕业答辩</a:t>
            </a:r>
            <a:r>
              <a:rPr b="1" lang="en-US" sz="4000" spc="-1" strike="noStrike">
                <a:solidFill>
                  <a:srgbClr val="025198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25198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4"/>
          <p:cNvSpPr/>
          <p:nvPr/>
        </p:nvSpPr>
        <p:spPr>
          <a:xfrm>
            <a:off x="30240" y="573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8199"/>
          <p:cNvSpPr/>
          <p:nvPr/>
        </p:nvSpPr>
        <p:spPr>
          <a:xfrm>
            <a:off x="898560" y="263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457F-1BB1-4897-8981-CE6370FAEF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47Z</dcterms:modified>
  <cp:revision>6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