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25.png" ContentType="image/pn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30.jpeg" ContentType="image/jpeg"/>
  <Override PartName="/ppt/media/image6.png" ContentType="image/png"/>
  <Override PartName="/ppt/media/image14.wmf" ContentType="image/x-wmf"/>
  <Override PartName="/ppt/media/image29.wmf" ContentType="image/x-wmf"/>
  <Override PartName="/ppt/media/image1.png" ContentType="image/png"/>
  <Override PartName="/ppt/media/image31.png" ContentType="image/png"/>
  <Override PartName="/ppt/media/image24.png" ContentType="image/png"/>
  <Override PartName="/ppt/media/image16.wmf" ContentType="image/x-wmf"/>
  <Override PartName="/ppt/media/image18.png" ContentType="image/png"/>
  <Override PartName="/ppt/media/image17.png" ContentType="image/png"/>
  <Override PartName="/ppt/media/image20.wmf" ContentType="image/x-wmf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26.wmf" ContentType="image/x-wmf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7D8-E453-47DE-90E0-CFFB0E46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017-7DD7-433D-9A9D-A23B4375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45B-927D-408C-A6E0-A0D008B9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9EE-9C70-415A-BB4B-FAA7E3D6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AA0B-91F8-4059-BADD-24D46835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7DF5-52C1-4C04-98D3-E13FC309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1458-B8DA-40D5-A9E2-D969ADB9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75BD-0DFF-421F-9915-3ABB150B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F002-8A4C-4F79-B0DC-C9C59DC0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2555-8C39-4189-8B1E-9042F921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0897-EC16-4C33-9747-E86CF2C3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E78-1746-4FE4-A023-969E3447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3CF7-1C6D-42FB-A832-1643C567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FE9B-1FC8-40A9-9258-4317A69F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76B7-6B58-4712-ADDE-4C17308C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760D-4B8D-45D4-98A2-EE7A687B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5CFC-ED33-4A94-BB35-303F10BD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ADA-9016-43B4-A507-F6E345AF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C23-154C-49E0-AFCA-CBA290B6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BDE-F17B-4C83-A5E7-758798E0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4E0-71CF-40D2-8A03-EB53FE52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494-F79C-43FD-9FE2-25F4A25D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BD0-6155-4CBB-901D-79AE066F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F77-3BE7-4765-B768-212CA62A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6FCB-7A3F-4006-A130-F30868F6AD8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FAFB-C5F8-4435-8FD8-DB9A6F6136B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FC36-B3C7-4915-B017-B912112CBCE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B746-EB8D-4A29-83C5-F48C86D88B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7" descr=""/>
          <p:cNvPicPr/>
          <p:nvPr/>
        </p:nvPicPr>
        <p:blipFill>
          <a:blip r:embed="rId1"/>
          <a:srcRect l="0" t="0" r="50004" b="0"/>
          <a:stretch/>
        </p:blipFill>
        <p:spPr>
          <a:xfrm>
            <a:off x="10248840" y="-425520"/>
            <a:ext cx="1943280" cy="3962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"/>
          <p:cNvPicPr/>
          <p:nvPr/>
        </p:nvPicPr>
        <p:blipFill>
          <a:blip r:embed="rId2"/>
          <a:stretch/>
        </p:blipFill>
        <p:spPr>
          <a:xfrm rot="5400000">
            <a:off x="-382680" y="4932360"/>
            <a:ext cx="1532160" cy="766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1228680" y="1393920"/>
            <a:ext cx="9998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高速铁路枢纽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到发线运用计划编制与评价问题研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6727680" y="4722840"/>
            <a:ext cx="44928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生：曹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导师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专业：交通运输规划与管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2"/>
          <p:cNvSpPr/>
          <p:nvPr/>
        </p:nvSpPr>
        <p:spPr>
          <a:xfrm>
            <a:off x="1332000" y="1555920"/>
            <a:ext cx="4316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>
            <a:off x="1332000" y="3855960"/>
            <a:ext cx="98949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 rot="5400000">
            <a:off x="-382680" y="6091200"/>
            <a:ext cx="1532160" cy="76680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714240" y="231840"/>
            <a:ext cx="989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交通运输规划与管理论文答辩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5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5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50"/>
                            </p:stCondLst>
                            <p:childTnLst>
                              <p:par>
                                <p:cTn id="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组合 5"/>
          <p:cNvGrpSpPr/>
          <p:nvPr/>
        </p:nvGrpSpPr>
        <p:grpSpPr>
          <a:xfrm>
            <a:off x="10783800" y="157320"/>
            <a:ext cx="1258920" cy="1298520"/>
            <a:chOff x="10783800" y="157320"/>
            <a:chExt cx="1258920" cy="1298520"/>
          </a:xfrm>
        </p:grpSpPr>
        <p:sp>
          <p:nvSpPr>
            <p:cNvPr id="602" name="矩形 6"/>
            <p:cNvSpPr/>
            <p:nvPr/>
          </p:nvSpPr>
          <p:spPr>
            <a:xfrm>
              <a:off x="10783800" y="157320"/>
              <a:ext cx="125892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3" name="Group 2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604" name="文本框 46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2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研究对象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矩形 45"/>
          <p:cNvSpPr/>
          <p:nvPr/>
        </p:nvSpPr>
        <p:spPr>
          <a:xfrm>
            <a:off x="950760" y="2787480"/>
            <a:ext cx="3094200" cy="5954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伸入到城市中心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48"/>
          <p:cNvSpPr/>
          <p:nvPr/>
        </p:nvSpPr>
        <p:spPr>
          <a:xfrm>
            <a:off x="950760" y="3687840"/>
            <a:ext cx="3094200" cy="5936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作业类型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49"/>
          <p:cNvSpPr/>
          <p:nvPr/>
        </p:nvSpPr>
        <p:spPr>
          <a:xfrm>
            <a:off x="950760" y="4586400"/>
            <a:ext cx="3094200" cy="59508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控信息系统先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矩形 50"/>
          <p:cNvSpPr/>
          <p:nvPr/>
        </p:nvSpPr>
        <p:spPr>
          <a:xfrm>
            <a:off x="0" y="1455840"/>
            <a:ext cx="3092400" cy="91908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铁枢纽站的特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51"/>
          <p:cNvSpPr/>
          <p:nvPr/>
        </p:nvSpPr>
        <p:spPr>
          <a:xfrm>
            <a:off x="8431200" y="1486080"/>
            <a:ext cx="3760920" cy="92520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类列车技术作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矩形 52"/>
          <p:cNvSpPr/>
          <p:nvPr/>
        </p:nvSpPr>
        <p:spPr>
          <a:xfrm>
            <a:off x="7353360" y="2787480"/>
            <a:ext cx="3760560" cy="5954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列车技术作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53"/>
          <p:cNvSpPr/>
          <p:nvPr/>
        </p:nvSpPr>
        <p:spPr>
          <a:xfrm>
            <a:off x="7353360" y="3687840"/>
            <a:ext cx="3760560" cy="5936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列车技术作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矩形 54"/>
          <p:cNvSpPr/>
          <p:nvPr/>
        </p:nvSpPr>
        <p:spPr>
          <a:xfrm>
            <a:off x="7353360" y="4586400"/>
            <a:ext cx="3760560" cy="59508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列车技术作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55"/>
          <p:cNvSpPr/>
          <p:nvPr/>
        </p:nvSpPr>
        <p:spPr>
          <a:xfrm>
            <a:off x="7353360" y="5486400"/>
            <a:ext cx="3760560" cy="5954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折返列车技术作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97"/>
          <p:cNvSpPr/>
          <p:nvPr/>
        </p:nvSpPr>
        <p:spPr>
          <a:xfrm>
            <a:off x="3222720" y="82548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提出研究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97"/>
          <p:cNvSpPr/>
          <p:nvPr/>
        </p:nvSpPr>
        <p:spPr>
          <a:xfrm>
            <a:off x="3222720" y="193500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研究对象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97"/>
          <p:cNvSpPr/>
          <p:nvPr/>
        </p:nvSpPr>
        <p:spPr>
          <a:xfrm>
            <a:off x="3222720" y="304632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型与算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97"/>
          <p:cNvSpPr/>
          <p:nvPr/>
        </p:nvSpPr>
        <p:spPr>
          <a:xfrm>
            <a:off x="3222720" y="4156200"/>
            <a:ext cx="7518240" cy="92844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仿真与评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97"/>
          <p:cNvSpPr/>
          <p:nvPr/>
        </p:nvSpPr>
        <p:spPr>
          <a:xfrm>
            <a:off x="3222720" y="526716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案例验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4" descr="\\MAGNUM\Projects\Microsoft\Cloud Power FY12\Design\ICONS_PNG\Open_Web_Platform.png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2141640" y="874800"/>
            <a:ext cx="826920" cy="828720"/>
          </a:xfrm>
          <a:prstGeom prst="rect">
            <a:avLst/>
          </a:prstGeom>
          <a:ln w="0">
            <a:noFill/>
          </a:ln>
        </p:spPr>
      </p:pic>
      <p:grpSp>
        <p:nvGrpSpPr>
          <p:cNvPr id="621" name="组合 9"/>
          <p:cNvGrpSpPr/>
          <p:nvPr/>
        </p:nvGrpSpPr>
        <p:grpSpPr>
          <a:xfrm>
            <a:off x="1922400" y="1754280"/>
            <a:ext cx="1258920" cy="1298520"/>
            <a:chOff x="1922400" y="1754280"/>
            <a:chExt cx="1258920" cy="1298520"/>
          </a:xfrm>
        </p:grpSpPr>
        <p:sp>
          <p:nvSpPr>
            <p:cNvPr id="622" name="矩形 10"/>
            <p:cNvSpPr/>
            <p:nvPr/>
          </p:nvSpPr>
          <p:spPr>
            <a:xfrm>
              <a:off x="1922400" y="1754280"/>
              <a:ext cx="125892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3" name="Group 2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624" name="Freeform 22"/>
          <p:cNvSpPr/>
          <p:nvPr/>
        </p:nvSpPr>
        <p:spPr>
          <a:xfrm>
            <a:off x="2254320" y="3233880"/>
            <a:ext cx="611280" cy="628560"/>
          </a:xfrm>
          <a:custGeom>
            <a:avLst/>
            <a:gdLst/>
            <a:ahLst/>
            <a:rect l="l" t="t" r="r" b="b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Picture 28" descr=""/>
          <p:cNvPicPr/>
          <p:nvPr/>
        </p:nvPicPr>
        <p:blipFill>
          <a:blip r:embed="rId2"/>
          <a:stretch/>
        </p:blipFill>
        <p:spPr>
          <a:xfrm>
            <a:off x="2220840" y="4332240"/>
            <a:ext cx="679680" cy="5778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\\MAGNUM\Projects\Microsoft\Cloud Power FY12\Design\Icons\PNGs\Self_Service.png"/>
          <p:cNvPicPr/>
          <p:nvPr/>
        </p:nvPicPr>
        <p:blipFill>
          <a:blip r:embed="rId3"/>
          <a:stretch/>
        </p:blipFill>
        <p:spPr>
          <a:xfrm>
            <a:off x="2125800" y="5305320"/>
            <a:ext cx="852480" cy="852480"/>
          </a:xfrm>
          <a:prstGeom prst="rect">
            <a:avLst/>
          </a:prstGeom>
          <a:ln w="0">
            <a:noFill/>
          </a:ln>
        </p:spPr>
      </p:pic>
      <p:sp>
        <p:nvSpPr>
          <p:cNvPr id="627" name="TextBox 97"/>
          <p:cNvSpPr/>
          <p:nvPr/>
        </p:nvSpPr>
        <p:spPr>
          <a:xfrm>
            <a:off x="3222720" y="3040200"/>
            <a:ext cx="7518240" cy="928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500" autoRev="1" fill="hold"/>
                                        <p:tgtEl>
                                          <p:spTgt spid="6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45"/>
          <p:cNvSpPr/>
          <p:nvPr/>
        </p:nvSpPr>
        <p:spPr>
          <a:xfrm>
            <a:off x="0" y="1165320"/>
            <a:ext cx="3760920" cy="8348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目标函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22"/>
          <p:cNvSpPr/>
          <p:nvPr/>
        </p:nvSpPr>
        <p:spPr>
          <a:xfrm>
            <a:off x="11120400" y="604800"/>
            <a:ext cx="682560" cy="701640"/>
          </a:xfrm>
          <a:custGeom>
            <a:avLst/>
            <a:gdLst/>
            <a:ahLst/>
            <a:rect l="l" t="t" r="r" b="b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矩形 43"/>
          <p:cNvSpPr/>
          <p:nvPr/>
        </p:nvSpPr>
        <p:spPr>
          <a:xfrm>
            <a:off x="1020600" y="2166840"/>
            <a:ext cx="3760920" cy="59400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到发线利用均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55"/>
          <p:cNvSpPr/>
          <p:nvPr/>
        </p:nvSpPr>
        <p:spPr>
          <a:xfrm>
            <a:off x="1020600" y="4532400"/>
            <a:ext cx="3760920" cy="59508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旅客乘降便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组合 41"/>
          <p:cNvGrpSpPr/>
          <p:nvPr/>
        </p:nvGrpSpPr>
        <p:grpSpPr>
          <a:xfrm>
            <a:off x="1020600" y="2905200"/>
            <a:ext cx="9906120" cy="1517400"/>
            <a:chOff x="1020600" y="2905200"/>
            <a:chExt cx="9906120" cy="1517400"/>
          </a:xfrm>
        </p:grpSpPr>
        <p:sp>
          <p:nvSpPr>
            <p:cNvPr id="636" name="矩形 56"/>
            <p:cNvSpPr/>
            <p:nvPr/>
          </p:nvSpPr>
          <p:spPr>
            <a:xfrm>
              <a:off x="1020600" y="2905200"/>
              <a:ext cx="9906120" cy="1517400"/>
            </a:xfrm>
            <a:prstGeom prst="rect">
              <a:avLst/>
            </a:prstGeom>
            <a:solidFill>
              <a:srgbClr val="007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7" name="对象 36" descr=""/>
            <p:cNvPicPr/>
            <p:nvPr/>
          </p:nvPicPr>
          <p:blipFill>
            <a:blip r:embed="rId1"/>
            <a:stretch/>
          </p:blipFill>
          <p:spPr>
            <a:xfrm>
              <a:off x="1449360" y="2913840"/>
              <a:ext cx="9477360" cy="146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组合 58"/>
          <p:cNvGrpSpPr/>
          <p:nvPr/>
        </p:nvGrpSpPr>
        <p:grpSpPr>
          <a:xfrm>
            <a:off x="1020600" y="5238720"/>
            <a:ext cx="9906120" cy="1515960"/>
            <a:chOff x="1020600" y="5238720"/>
            <a:chExt cx="9906120" cy="1515960"/>
          </a:xfrm>
        </p:grpSpPr>
        <p:sp>
          <p:nvSpPr>
            <p:cNvPr id="639" name="矩形 57"/>
            <p:cNvSpPr/>
            <p:nvPr/>
          </p:nvSpPr>
          <p:spPr>
            <a:xfrm>
              <a:off x="1020600" y="5238720"/>
              <a:ext cx="9906120" cy="1515960"/>
            </a:xfrm>
            <a:prstGeom prst="rect">
              <a:avLst/>
            </a:prstGeom>
            <a:solidFill>
              <a:srgbClr val="007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0" name="对象 40" descr=""/>
            <p:cNvPicPr/>
            <p:nvPr/>
          </p:nvPicPr>
          <p:blipFill>
            <a:blip r:embed="rId2"/>
            <a:stretch/>
          </p:blipFill>
          <p:spPr>
            <a:xfrm>
              <a:off x="1476360" y="5322960"/>
              <a:ext cx="4360680" cy="131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1" name="文本框 16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3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型与算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矩形 45"/>
          <p:cNvSpPr/>
          <p:nvPr/>
        </p:nvSpPr>
        <p:spPr>
          <a:xfrm>
            <a:off x="0" y="1198440"/>
            <a:ext cx="3760920" cy="66528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约束条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22"/>
          <p:cNvSpPr/>
          <p:nvPr/>
        </p:nvSpPr>
        <p:spPr>
          <a:xfrm>
            <a:off x="11120400" y="604800"/>
            <a:ext cx="682560" cy="701640"/>
          </a:xfrm>
          <a:custGeom>
            <a:avLst/>
            <a:gdLst/>
            <a:ahLst/>
            <a:rect l="l" t="t" r="r" b="b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组合 11"/>
          <p:cNvGrpSpPr/>
          <p:nvPr/>
        </p:nvGrpSpPr>
        <p:grpSpPr>
          <a:xfrm>
            <a:off x="2509920" y="2062080"/>
            <a:ext cx="6396120" cy="955800"/>
            <a:chOff x="2509920" y="2062080"/>
            <a:chExt cx="6396120" cy="955800"/>
          </a:xfrm>
        </p:grpSpPr>
        <p:sp>
          <p:nvSpPr>
            <p:cNvPr id="649" name="矩形 43"/>
            <p:cNvSpPr/>
            <p:nvPr/>
          </p:nvSpPr>
          <p:spPr>
            <a:xfrm>
              <a:off x="2509920" y="2062080"/>
              <a:ext cx="6396120" cy="955080"/>
            </a:xfrm>
            <a:prstGeom prst="rect">
              <a:avLst/>
            </a:prstGeom>
            <a:solidFill>
              <a:srgbClr val="007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0" name="对象 6" descr=""/>
            <p:cNvPicPr/>
            <p:nvPr/>
          </p:nvPicPr>
          <p:blipFill>
            <a:blip r:embed="rId1"/>
            <a:stretch/>
          </p:blipFill>
          <p:spPr>
            <a:xfrm>
              <a:off x="2749320" y="2076120"/>
              <a:ext cx="2466720" cy="94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组合 12"/>
          <p:cNvGrpSpPr/>
          <p:nvPr/>
        </p:nvGrpSpPr>
        <p:grpSpPr>
          <a:xfrm>
            <a:off x="2509920" y="3187800"/>
            <a:ext cx="6396120" cy="736560"/>
            <a:chOff x="2509920" y="3187800"/>
            <a:chExt cx="6396120" cy="736560"/>
          </a:xfrm>
        </p:grpSpPr>
        <p:sp>
          <p:nvSpPr>
            <p:cNvPr id="652" name="矩形 22"/>
            <p:cNvSpPr/>
            <p:nvPr/>
          </p:nvSpPr>
          <p:spPr>
            <a:xfrm>
              <a:off x="2509920" y="3187800"/>
              <a:ext cx="6396120" cy="736560"/>
            </a:xfrm>
            <a:prstGeom prst="rect">
              <a:avLst/>
            </a:prstGeom>
            <a:solidFill>
              <a:srgbClr val="007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3" name="对象 8" descr=""/>
            <p:cNvPicPr/>
            <p:nvPr/>
          </p:nvPicPr>
          <p:blipFill>
            <a:blip r:embed="rId2"/>
            <a:stretch/>
          </p:blipFill>
          <p:spPr>
            <a:xfrm>
              <a:off x="2784960" y="3298320"/>
              <a:ext cx="5593680" cy="54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4" name="组合 13"/>
          <p:cNvGrpSpPr/>
          <p:nvPr/>
        </p:nvGrpSpPr>
        <p:grpSpPr>
          <a:xfrm>
            <a:off x="2509920" y="4098960"/>
            <a:ext cx="6396120" cy="882720"/>
            <a:chOff x="2509920" y="4098960"/>
            <a:chExt cx="6396120" cy="882720"/>
          </a:xfrm>
        </p:grpSpPr>
        <p:sp>
          <p:nvSpPr>
            <p:cNvPr id="655" name="矩形 24"/>
            <p:cNvSpPr/>
            <p:nvPr/>
          </p:nvSpPr>
          <p:spPr>
            <a:xfrm>
              <a:off x="2509920" y="4098960"/>
              <a:ext cx="6396120" cy="882720"/>
            </a:xfrm>
            <a:prstGeom prst="rect">
              <a:avLst/>
            </a:prstGeom>
            <a:solidFill>
              <a:srgbClr val="007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6" name="对象 10" descr=""/>
            <p:cNvPicPr/>
            <p:nvPr/>
          </p:nvPicPr>
          <p:blipFill>
            <a:blip r:embed="rId3"/>
            <a:stretch/>
          </p:blipFill>
          <p:spPr>
            <a:xfrm>
              <a:off x="2758680" y="4172400"/>
              <a:ext cx="2276280" cy="74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组合 28"/>
          <p:cNvGrpSpPr/>
          <p:nvPr/>
        </p:nvGrpSpPr>
        <p:grpSpPr>
          <a:xfrm>
            <a:off x="2509920" y="5130720"/>
            <a:ext cx="6396120" cy="736560"/>
            <a:chOff x="2509920" y="5130720"/>
            <a:chExt cx="6396120" cy="736560"/>
          </a:xfrm>
        </p:grpSpPr>
        <p:sp>
          <p:nvSpPr>
            <p:cNvPr id="658" name="矩形 38"/>
            <p:cNvSpPr/>
            <p:nvPr/>
          </p:nvSpPr>
          <p:spPr>
            <a:xfrm>
              <a:off x="2509920" y="5130720"/>
              <a:ext cx="6396120" cy="736560"/>
            </a:xfrm>
            <a:prstGeom prst="rect">
              <a:avLst/>
            </a:prstGeom>
            <a:solidFill>
              <a:srgbClr val="007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9" name="对象 15" descr=""/>
            <p:cNvPicPr/>
            <p:nvPr/>
          </p:nvPicPr>
          <p:blipFill>
            <a:blip r:embed="rId4"/>
            <a:stretch/>
          </p:blipFill>
          <p:spPr>
            <a:xfrm>
              <a:off x="2726280" y="5217120"/>
              <a:ext cx="5335920" cy="55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组合 21"/>
          <p:cNvGrpSpPr/>
          <p:nvPr/>
        </p:nvGrpSpPr>
        <p:grpSpPr>
          <a:xfrm>
            <a:off x="2509920" y="6070680"/>
            <a:ext cx="6396120" cy="660240"/>
            <a:chOff x="2509920" y="6070680"/>
            <a:chExt cx="6396120" cy="660240"/>
          </a:xfrm>
        </p:grpSpPr>
        <p:sp>
          <p:nvSpPr>
            <p:cNvPr id="661" name="矩形 26"/>
            <p:cNvSpPr/>
            <p:nvPr/>
          </p:nvSpPr>
          <p:spPr>
            <a:xfrm>
              <a:off x="2509920" y="6070680"/>
              <a:ext cx="6396120" cy="660240"/>
            </a:xfrm>
            <a:prstGeom prst="rect">
              <a:avLst/>
            </a:prstGeom>
            <a:solidFill>
              <a:srgbClr val="007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2" name="对象 20" descr=""/>
            <p:cNvPicPr/>
            <p:nvPr/>
          </p:nvPicPr>
          <p:blipFill>
            <a:blip r:embed="rId5"/>
            <a:stretch/>
          </p:blipFill>
          <p:spPr>
            <a:xfrm>
              <a:off x="2726280" y="6135120"/>
              <a:ext cx="3161520" cy="5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文本框 23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3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型与算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矩形 45"/>
          <p:cNvSpPr/>
          <p:nvPr/>
        </p:nvSpPr>
        <p:spPr>
          <a:xfrm>
            <a:off x="0" y="1106640"/>
            <a:ext cx="3760920" cy="75060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疫克隆选择算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reeform 22"/>
          <p:cNvSpPr/>
          <p:nvPr/>
        </p:nvSpPr>
        <p:spPr>
          <a:xfrm>
            <a:off x="11120400" y="604800"/>
            <a:ext cx="682560" cy="701640"/>
          </a:xfrm>
          <a:custGeom>
            <a:avLst/>
            <a:gdLst/>
            <a:ahLst/>
            <a:rect l="l" t="t" r="r" b="b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文本框 15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3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型与算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流程图: 终止 6"/>
          <p:cNvSpPr/>
          <p:nvPr/>
        </p:nvSpPr>
        <p:spPr>
          <a:xfrm>
            <a:off x="5133960" y="1365120"/>
            <a:ext cx="2060640" cy="447840"/>
          </a:xfrm>
          <a:prstGeom prst="flowChartTerminator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流程图: 过程 7"/>
          <p:cNvSpPr/>
          <p:nvPr/>
        </p:nvSpPr>
        <p:spPr>
          <a:xfrm>
            <a:off x="5133960" y="2081160"/>
            <a:ext cx="2060640" cy="430200"/>
          </a:xfrm>
          <a:prstGeom prst="flowChartProcess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抗体初始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流程图: 过程 19"/>
          <p:cNvSpPr/>
          <p:nvPr/>
        </p:nvSpPr>
        <p:spPr>
          <a:xfrm>
            <a:off x="5133960" y="2744640"/>
            <a:ext cx="2060640" cy="392400"/>
          </a:xfrm>
          <a:prstGeom prst="flowChartProcess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亲和度计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流程图: 过程 20"/>
          <p:cNvSpPr/>
          <p:nvPr/>
        </p:nvSpPr>
        <p:spPr>
          <a:xfrm>
            <a:off x="7697880" y="2744640"/>
            <a:ext cx="2062080" cy="392400"/>
          </a:xfrm>
          <a:prstGeom prst="flowChartProcess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忆细胞分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流程图: 过程 21"/>
          <p:cNvSpPr/>
          <p:nvPr/>
        </p:nvSpPr>
        <p:spPr>
          <a:xfrm>
            <a:off x="5133960" y="3406680"/>
            <a:ext cx="2060640" cy="392040"/>
          </a:xfrm>
          <a:prstGeom prst="flowChartProcess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促进或者抑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流程图: 过程 22"/>
          <p:cNvSpPr/>
          <p:nvPr/>
        </p:nvSpPr>
        <p:spPr>
          <a:xfrm>
            <a:off x="5133960" y="4064040"/>
            <a:ext cx="2060640" cy="393840"/>
          </a:xfrm>
          <a:prstGeom prst="flowChartProcess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群体更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流程图: 过程 24"/>
          <p:cNvSpPr/>
          <p:nvPr/>
        </p:nvSpPr>
        <p:spPr>
          <a:xfrm>
            <a:off x="5133960" y="5533920"/>
            <a:ext cx="2060640" cy="393840"/>
          </a:xfrm>
          <a:prstGeom prst="flowChartProcess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出最优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9" name="直接箭头连接符 10"/>
          <p:cNvCxnSpPr>
            <a:stCxn id="673" idx="2"/>
            <a:endCxn id="674" idx="0"/>
          </p:cNvCxnSpPr>
          <p:nvPr/>
        </p:nvCxnSpPr>
        <p:spPr>
          <a:xfrm>
            <a:off x="6163920" y="2511360"/>
            <a:ext cx="1080" cy="2340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0" name="直接箭头连接符 28"/>
          <p:cNvCxnSpPr>
            <a:stCxn id="674" idx="2"/>
            <a:endCxn id="676" idx="0"/>
          </p:cNvCxnSpPr>
          <p:nvPr/>
        </p:nvCxnSpPr>
        <p:spPr>
          <a:xfrm>
            <a:off x="6163920" y="3136680"/>
            <a:ext cx="1080" cy="270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1" name="直接箭头连接符 34"/>
          <p:cNvCxnSpPr>
            <a:stCxn id="676" idx="2"/>
            <a:endCxn id="677" idx="0"/>
          </p:cNvCxnSpPr>
          <p:nvPr/>
        </p:nvCxnSpPr>
        <p:spPr>
          <a:xfrm>
            <a:off x="6163920" y="3798360"/>
            <a:ext cx="1080" cy="266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2" name="直接箭头连接符 35"/>
          <p:cNvCxnSpPr>
            <a:stCxn id="677" idx="2"/>
            <a:endCxn id="683" idx="0"/>
          </p:cNvCxnSpPr>
          <p:nvPr/>
        </p:nvCxnSpPr>
        <p:spPr>
          <a:xfrm flipH="1">
            <a:off x="6163560" y="4457520"/>
            <a:ext cx="1080" cy="2782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4" name="直接箭头连接符 36"/>
          <p:cNvCxnSpPr>
            <a:stCxn id="683" idx="2"/>
            <a:endCxn id="678" idx="0"/>
          </p:cNvCxnSpPr>
          <p:nvPr/>
        </p:nvCxnSpPr>
        <p:spPr>
          <a:xfrm>
            <a:off x="6163920" y="5268960"/>
            <a:ext cx="1080" cy="265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5" name="直接箭头连接符 37"/>
          <p:cNvCxnSpPr>
            <a:stCxn id="678" idx="2"/>
            <a:endCxn id="686" idx="0"/>
          </p:cNvCxnSpPr>
          <p:nvPr/>
        </p:nvCxnSpPr>
        <p:spPr>
          <a:xfrm>
            <a:off x="6163920" y="5927760"/>
            <a:ext cx="1080" cy="270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7" name="直接箭头连接符 38"/>
          <p:cNvCxnSpPr>
            <a:stCxn id="672" idx="2"/>
            <a:endCxn id="673" idx="0"/>
          </p:cNvCxnSpPr>
          <p:nvPr/>
        </p:nvCxnSpPr>
        <p:spPr>
          <a:xfrm>
            <a:off x="6163920" y="1812600"/>
            <a:ext cx="1080" cy="268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8" name="直接箭头连接符 39"/>
          <p:cNvCxnSpPr>
            <a:stCxn id="674" idx="3"/>
            <a:endCxn id="675" idx="1"/>
          </p:cNvCxnSpPr>
          <p:nvPr/>
        </p:nvCxnSpPr>
        <p:spPr>
          <a:xfrm>
            <a:off x="7194600" y="2939760"/>
            <a:ext cx="504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9" name="直接箭头连接符 40"/>
          <p:cNvCxnSpPr>
            <a:endCxn id="673" idx="3"/>
          </p:cNvCxnSpPr>
          <p:nvPr/>
        </p:nvCxnSpPr>
        <p:spPr>
          <a:xfrm flipH="1">
            <a:off x="7193880" y="2296800"/>
            <a:ext cx="15548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90" name="直接连接符 23"/>
          <p:cNvSpPr/>
          <p:nvPr/>
        </p:nvSpPr>
        <p:spPr>
          <a:xfrm>
            <a:off x="8728200" y="2297160"/>
            <a:ext cx="0" cy="447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直接连接符 43"/>
          <p:cNvSpPr/>
          <p:nvPr/>
        </p:nvSpPr>
        <p:spPr>
          <a:xfrm flipV="1">
            <a:off x="4287960" y="5001840"/>
            <a:ext cx="822240" cy="1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直接连接符 46"/>
          <p:cNvSpPr/>
          <p:nvPr/>
        </p:nvSpPr>
        <p:spPr>
          <a:xfrm flipH="1">
            <a:off x="4299120" y="2919240"/>
            <a:ext cx="2880" cy="2094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3" name="直接箭头连接符 48"/>
          <p:cNvCxnSpPr/>
          <p:nvPr/>
        </p:nvCxnSpPr>
        <p:spPr>
          <a:xfrm>
            <a:off x="4298760" y="2935440"/>
            <a:ext cx="835560" cy="10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86" name="流程图: 终止 81"/>
          <p:cNvSpPr/>
          <p:nvPr/>
        </p:nvSpPr>
        <p:spPr>
          <a:xfrm>
            <a:off x="5133960" y="6197760"/>
            <a:ext cx="2060640" cy="447480"/>
          </a:xfrm>
          <a:prstGeom prst="flowChartTerminator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4" name="组合 111"/>
          <p:cNvGrpSpPr/>
          <p:nvPr/>
        </p:nvGrpSpPr>
        <p:grpSpPr>
          <a:xfrm>
            <a:off x="5089680" y="4735440"/>
            <a:ext cx="2149200" cy="533520"/>
            <a:chOff x="5089680" y="4735440"/>
            <a:chExt cx="2149200" cy="533520"/>
          </a:xfrm>
        </p:grpSpPr>
        <p:sp>
          <p:nvSpPr>
            <p:cNvPr id="683" name="流程图: 决策 8"/>
            <p:cNvSpPr/>
            <p:nvPr/>
          </p:nvSpPr>
          <p:spPr>
            <a:xfrm>
              <a:off x="5089680" y="4735440"/>
              <a:ext cx="2149200" cy="533520"/>
            </a:xfrm>
            <a:prstGeom prst="flowChartDecision">
              <a:avLst/>
            </a:prstGeom>
            <a:solidFill>
              <a:srgbClr val="007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文本框 108"/>
            <p:cNvSpPr/>
            <p:nvPr/>
          </p:nvSpPr>
          <p:spPr>
            <a:xfrm>
              <a:off x="5297040" y="4776120"/>
              <a:ext cx="17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足终止条件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6" name="文本框 5"/>
          <p:cNvSpPr/>
          <p:nvPr/>
        </p:nvSpPr>
        <p:spPr>
          <a:xfrm>
            <a:off x="4570560" y="461160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文本框 41"/>
          <p:cNvSpPr/>
          <p:nvPr/>
        </p:nvSpPr>
        <p:spPr>
          <a:xfrm>
            <a:off x="6305400" y="5200560"/>
            <a:ext cx="3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8199"/>
          <p:cNvSpPr/>
          <p:nvPr/>
        </p:nvSpPr>
        <p:spPr>
          <a:xfrm>
            <a:off x="755640" y="2928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6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500"/>
                            </p:stCondLst>
                            <p:childTnLst>
                              <p:par>
                                <p:cTn id="68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6000"/>
                            </p:stCondLst>
                            <p:childTnLst>
                              <p:par>
                                <p:cTn id="6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500"/>
                            </p:stCondLst>
                            <p:childTnLst>
                              <p:par>
                                <p:cTn id="7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7000"/>
                            </p:stCondLst>
                            <p:childTnLst>
                              <p:par>
                                <p:cTn id="7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7500"/>
                            </p:stCondLst>
                            <p:childTnLst>
                              <p:par>
                                <p:cTn id="7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8000"/>
                            </p:stCondLst>
                            <p:childTnLst>
                              <p:par>
                                <p:cTn id="7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8500"/>
                            </p:stCondLst>
                            <p:childTnLst>
                              <p:par>
                                <p:cTn id="7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9000"/>
                            </p:stCondLst>
                            <p:childTnLst>
                              <p:par>
                                <p:cTn id="7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9500"/>
                            </p:stCondLst>
                            <p:childTnLst>
                              <p:par>
                                <p:cTn id="7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97"/>
          <p:cNvSpPr/>
          <p:nvPr/>
        </p:nvSpPr>
        <p:spPr>
          <a:xfrm>
            <a:off x="3222720" y="82548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提出研究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97"/>
          <p:cNvSpPr/>
          <p:nvPr/>
        </p:nvSpPr>
        <p:spPr>
          <a:xfrm>
            <a:off x="3222720" y="193500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研究对象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97"/>
          <p:cNvSpPr/>
          <p:nvPr/>
        </p:nvSpPr>
        <p:spPr>
          <a:xfrm>
            <a:off x="3222720" y="304632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型与算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97"/>
          <p:cNvSpPr/>
          <p:nvPr/>
        </p:nvSpPr>
        <p:spPr>
          <a:xfrm>
            <a:off x="3222720" y="4156200"/>
            <a:ext cx="7518240" cy="92844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仿真与评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97"/>
          <p:cNvSpPr/>
          <p:nvPr/>
        </p:nvSpPr>
        <p:spPr>
          <a:xfrm>
            <a:off x="3222720" y="526716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案例验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4" descr="\\MAGNUM\Projects\Microsoft\Cloud Power FY12\Design\ICONS_PNG\Open_Web_Platform.png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2141640" y="874800"/>
            <a:ext cx="826920" cy="828720"/>
          </a:xfrm>
          <a:prstGeom prst="rect">
            <a:avLst/>
          </a:prstGeom>
          <a:ln w="0">
            <a:noFill/>
          </a:ln>
        </p:spPr>
      </p:pic>
      <p:grpSp>
        <p:nvGrpSpPr>
          <p:cNvPr id="705" name="组合 9"/>
          <p:cNvGrpSpPr/>
          <p:nvPr/>
        </p:nvGrpSpPr>
        <p:grpSpPr>
          <a:xfrm>
            <a:off x="1922400" y="1754280"/>
            <a:ext cx="1258920" cy="1298520"/>
            <a:chOff x="1922400" y="1754280"/>
            <a:chExt cx="1258920" cy="1298520"/>
          </a:xfrm>
        </p:grpSpPr>
        <p:sp>
          <p:nvSpPr>
            <p:cNvPr id="706" name="矩形 10"/>
            <p:cNvSpPr/>
            <p:nvPr/>
          </p:nvSpPr>
          <p:spPr>
            <a:xfrm>
              <a:off x="1922400" y="1754280"/>
              <a:ext cx="125892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7" name="Group 2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708" name="Freeform 22"/>
          <p:cNvSpPr/>
          <p:nvPr/>
        </p:nvSpPr>
        <p:spPr>
          <a:xfrm>
            <a:off x="2254320" y="3233880"/>
            <a:ext cx="611280" cy="628560"/>
          </a:xfrm>
          <a:custGeom>
            <a:avLst/>
            <a:gdLst/>
            <a:ahLst/>
            <a:rect l="l" t="t" r="r" b="b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8" descr=""/>
          <p:cNvPicPr/>
          <p:nvPr/>
        </p:nvPicPr>
        <p:blipFill>
          <a:blip r:embed="rId2"/>
          <a:stretch/>
        </p:blipFill>
        <p:spPr>
          <a:xfrm>
            <a:off x="2220840" y="4332240"/>
            <a:ext cx="679680" cy="5778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" descr="\\MAGNUM\Projects\Microsoft\Cloud Power FY12\Design\Icons\PNGs\Self_Service.png"/>
          <p:cNvPicPr/>
          <p:nvPr/>
        </p:nvPicPr>
        <p:blipFill>
          <a:blip r:embed="rId3"/>
          <a:stretch/>
        </p:blipFill>
        <p:spPr>
          <a:xfrm>
            <a:off x="2125800" y="5305320"/>
            <a:ext cx="852480" cy="852480"/>
          </a:xfrm>
          <a:prstGeom prst="rect">
            <a:avLst/>
          </a:prstGeom>
          <a:ln w="0">
            <a:noFill/>
          </a:ln>
        </p:spPr>
      </p:pic>
      <p:sp>
        <p:nvSpPr>
          <p:cNvPr id="711" name="TextBox 97"/>
          <p:cNvSpPr/>
          <p:nvPr/>
        </p:nvSpPr>
        <p:spPr>
          <a:xfrm>
            <a:off x="3222720" y="4156200"/>
            <a:ext cx="7518240" cy="928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5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7" dur="500" autoRev="1" fill="hold"/>
                                        <p:tgtEl>
                                          <p:spTgt spid="7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45"/>
          <p:cNvSpPr/>
          <p:nvPr/>
        </p:nvSpPr>
        <p:spPr>
          <a:xfrm>
            <a:off x="0" y="1236600"/>
            <a:ext cx="3760920" cy="66672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tri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理论发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28" descr=""/>
          <p:cNvPicPr/>
          <p:nvPr/>
        </p:nvPicPr>
        <p:blipFill>
          <a:blip r:embed="rId1"/>
          <a:stretch/>
        </p:blipFill>
        <p:spPr>
          <a:xfrm>
            <a:off x="11120400" y="660240"/>
            <a:ext cx="679320" cy="576360"/>
          </a:xfrm>
          <a:prstGeom prst="rect">
            <a:avLst/>
          </a:prstGeom>
          <a:ln w="0">
            <a:noFill/>
          </a:ln>
        </p:spPr>
      </p:pic>
      <p:sp>
        <p:nvSpPr>
          <p:cNvPr id="717" name="Pentagon 78"/>
          <p:cNvSpPr/>
          <p:nvPr/>
        </p:nvSpPr>
        <p:spPr>
          <a:xfrm>
            <a:off x="0" y="5383080"/>
            <a:ext cx="2424240" cy="700200"/>
          </a:xfrm>
          <a:custGeom>
            <a:avLst/>
            <a:gdLst>
              <a:gd name="textAreaLeft" fmla="*/ 0 w 2424240"/>
              <a:gd name="textAreaRight" fmla="*/ 2424600 w 24242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81" y="0"/>
                </a:lnTo>
                <a:lnTo>
                  <a:pt x="21600" y="10800"/>
                </a:lnTo>
                <a:lnTo>
                  <a:pt x="184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tri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Chevron 252"/>
          <p:cNvSpPr/>
          <p:nvPr/>
        </p:nvSpPr>
        <p:spPr>
          <a:xfrm>
            <a:off x="2278080" y="5383080"/>
            <a:ext cx="2759040" cy="698760"/>
          </a:xfrm>
          <a:custGeom>
            <a:avLst/>
            <a:gdLst>
              <a:gd name="textAreaLeft" fmla="*/ 0 w 2759040"/>
              <a:gd name="textAreaRight" fmla="*/ 2759400 w 275904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6" y="0"/>
                </a:lnTo>
                <a:lnTo>
                  <a:pt x="21600" y="10800"/>
                </a:lnTo>
                <a:lnTo>
                  <a:pt x="18866" y="21600"/>
                </a:lnTo>
                <a:lnTo>
                  <a:pt x="0" y="21600"/>
                </a:lnTo>
                <a:lnTo>
                  <a:pt x="2734" y="10800"/>
                </a:lnTo>
                <a:close/>
              </a:path>
            </a:pathLst>
          </a:cu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tri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Chevron 252"/>
          <p:cNvSpPr/>
          <p:nvPr/>
        </p:nvSpPr>
        <p:spPr>
          <a:xfrm>
            <a:off x="4862520" y="5383080"/>
            <a:ext cx="3281400" cy="698760"/>
          </a:xfrm>
          <a:custGeom>
            <a:avLst/>
            <a:gdLst>
              <a:gd name="textAreaLeft" fmla="*/ 0 w 3281400"/>
              <a:gd name="textAreaRight" fmla="*/ 3281760 w 328140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02" y="0"/>
                </a:lnTo>
                <a:lnTo>
                  <a:pt x="21600" y="10800"/>
                </a:lnTo>
                <a:lnTo>
                  <a:pt x="19302" y="21600"/>
                </a:lnTo>
                <a:lnTo>
                  <a:pt x="0" y="21600"/>
                </a:lnTo>
                <a:lnTo>
                  <a:pt x="2298" y="10800"/>
                </a:lnTo>
                <a:close/>
              </a:path>
            </a:pathLst>
          </a:cu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赋时着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tri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Chevron 252"/>
          <p:cNvSpPr/>
          <p:nvPr/>
        </p:nvSpPr>
        <p:spPr>
          <a:xfrm>
            <a:off x="7961400" y="5383080"/>
            <a:ext cx="4230720" cy="698760"/>
          </a:xfrm>
          <a:custGeom>
            <a:avLst/>
            <a:gdLst>
              <a:gd name="textAreaLeft" fmla="*/ 0 w 4230720"/>
              <a:gd name="textAreaRight" fmla="*/ 4231080 w 423072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7" y="0"/>
                </a:lnTo>
                <a:lnTo>
                  <a:pt x="21600" y="10800"/>
                </a:lnTo>
                <a:lnTo>
                  <a:pt x="19817" y="21600"/>
                </a:lnTo>
                <a:lnTo>
                  <a:pt x="0" y="21600"/>
                </a:lnTo>
                <a:lnTo>
                  <a:pt x="1783" y="10800"/>
                </a:lnTo>
                <a:close/>
              </a:path>
            </a:pathLst>
          </a:cu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层赋时着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tri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矩形 5"/>
          <p:cNvSpPr/>
          <p:nvPr/>
        </p:nvSpPr>
        <p:spPr>
          <a:xfrm>
            <a:off x="0" y="4586400"/>
            <a:ext cx="12214080" cy="49212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组合 28"/>
          <p:cNvGrpSpPr/>
          <p:nvPr/>
        </p:nvGrpSpPr>
        <p:grpSpPr>
          <a:xfrm>
            <a:off x="930240" y="4786200"/>
            <a:ext cx="208080" cy="596880"/>
            <a:chOff x="930240" y="4786200"/>
            <a:chExt cx="208080" cy="596880"/>
          </a:xfrm>
        </p:grpSpPr>
        <p:sp>
          <p:nvSpPr>
            <p:cNvPr id="723" name="椭圆 6"/>
            <p:cNvSpPr/>
            <p:nvPr/>
          </p:nvSpPr>
          <p:spPr>
            <a:xfrm>
              <a:off x="930240" y="4786200"/>
              <a:ext cx="208080" cy="208080"/>
            </a:xfrm>
            <a:prstGeom prst="ellipse">
              <a:avLst/>
            </a:pr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直接连接符 12"/>
            <p:cNvSpPr/>
            <p:nvPr/>
          </p:nvSpPr>
          <p:spPr>
            <a:xfrm>
              <a:off x="1034280" y="4911120"/>
              <a:ext cx="0" cy="471960"/>
            </a:xfrm>
            <a:prstGeom prst="line">
              <a:avLst/>
            </a:prstGeom>
            <a:ln w="28440">
              <a:solidFill>
                <a:srgbClr val="fac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矩形 24"/>
          <p:cNvSpPr/>
          <p:nvPr/>
        </p:nvSpPr>
        <p:spPr>
          <a:xfrm>
            <a:off x="9223200" y="2279520"/>
            <a:ext cx="2968920" cy="49212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25"/>
          <p:cNvSpPr/>
          <p:nvPr/>
        </p:nvSpPr>
        <p:spPr>
          <a:xfrm>
            <a:off x="5894280" y="3048120"/>
            <a:ext cx="6297840" cy="49212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26"/>
          <p:cNvSpPr/>
          <p:nvPr/>
        </p:nvSpPr>
        <p:spPr>
          <a:xfrm>
            <a:off x="3008160" y="3817800"/>
            <a:ext cx="9205920" cy="49212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31"/>
          <p:cNvGrpSpPr/>
          <p:nvPr/>
        </p:nvGrpSpPr>
        <p:grpSpPr>
          <a:xfrm>
            <a:off x="3470400" y="4011480"/>
            <a:ext cx="207720" cy="1371600"/>
            <a:chOff x="3470400" y="4011480"/>
            <a:chExt cx="207720" cy="1371600"/>
          </a:xfrm>
        </p:grpSpPr>
        <p:sp>
          <p:nvSpPr>
            <p:cNvPr id="729" name="椭圆 32"/>
            <p:cNvSpPr/>
            <p:nvPr/>
          </p:nvSpPr>
          <p:spPr>
            <a:xfrm>
              <a:off x="3470400" y="4011480"/>
              <a:ext cx="207720" cy="208080"/>
            </a:xfrm>
            <a:prstGeom prst="ellipse">
              <a:avLst/>
            </a:pr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接连接符 33"/>
            <p:cNvSpPr/>
            <p:nvPr/>
          </p:nvSpPr>
          <p:spPr>
            <a:xfrm>
              <a:off x="3574080" y="4136400"/>
              <a:ext cx="0" cy="1246680"/>
            </a:xfrm>
            <a:prstGeom prst="line">
              <a:avLst/>
            </a:prstGeom>
            <a:ln w="28440">
              <a:solidFill>
                <a:srgbClr val="fac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35"/>
          <p:cNvGrpSpPr/>
          <p:nvPr/>
        </p:nvGrpSpPr>
        <p:grpSpPr>
          <a:xfrm>
            <a:off x="6404040" y="3213000"/>
            <a:ext cx="207720" cy="2170080"/>
            <a:chOff x="6404040" y="3213000"/>
            <a:chExt cx="207720" cy="2170080"/>
          </a:xfrm>
        </p:grpSpPr>
        <p:sp>
          <p:nvSpPr>
            <p:cNvPr id="732" name="椭圆 36"/>
            <p:cNvSpPr/>
            <p:nvPr/>
          </p:nvSpPr>
          <p:spPr>
            <a:xfrm>
              <a:off x="6404040" y="3213000"/>
              <a:ext cx="207720" cy="208080"/>
            </a:xfrm>
            <a:prstGeom prst="ellipse">
              <a:avLst/>
            </a:pr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直接连接符 37"/>
            <p:cNvSpPr/>
            <p:nvPr/>
          </p:nvSpPr>
          <p:spPr>
            <a:xfrm>
              <a:off x="6507720" y="3337920"/>
              <a:ext cx="0" cy="2045160"/>
            </a:xfrm>
            <a:prstGeom prst="line">
              <a:avLst/>
            </a:prstGeom>
            <a:ln w="28440">
              <a:solidFill>
                <a:srgbClr val="fac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4" name="组合 39"/>
          <p:cNvGrpSpPr/>
          <p:nvPr/>
        </p:nvGrpSpPr>
        <p:grpSpPr>
          <a:xfrm>
            <a:off x="9766440" y="2455920"/>
            <a:ext cx="207720" cy="2927160"/>
            <a:chOff x="9766440" y="2455920"/>
            <a:chExt cx="207720" cy="2927160"/>
          </a:xfrm>
        </p:grpSpPr>
        <p:sp>
          <p:nvSpPr>
            <p:cNvPr id="735" name="椭圆 40"/>
            <p:cNvSpPr/>
            <p:nvPr/>
          </p:nvSpPr>
          <p:spPr>
            <a:xfrm>
              <a:off x="9766440" y="2455920"/>
              <a:ext cx="207720" cy="208080"/>
            </a:xfrm>
            <a:prstGeom prst="ellipse">
              <a:avLst/>
            </a:pr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接连接符 41"/>
            <p:cNvSpPr/>
            <p:nvPr/>
          </p:nvSpPr>
          <p:spPr>
            <a:xfrm>
              <a:off x="9870120" y="2580840"/>
              <a:ext cx="0" cy="2802240"/>
            </a:xfrm>
            <a:prstGeom prst="line">
              <a:avLst/>
            </a:prstGeom>
            <a:ln w="28440">
              <a:solidFill>
                <a:srgbClr val="fac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7" name="文本框 29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4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仿真与评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500"/>
                            </p:stCondLst>
                            <p:childTnLst>
                              <p:par>
                                <p:cTn id="7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3000"/>
                            </p:stCondLst>
                            <p:childTnLst>
                              <p:par>
                                <p:cTn id="7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500"/>
                            </p:stCondLst>
                            <p:childTnLst>
                              <p:par>
                                <p:cTn id="7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4000"/>
                            </p:stCondLst>
                            <p:childTnLst>
                              <p:par>
                                <p:cTn id="7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8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500"/>
                            </p:stCondLst>
                            <p:childTnLst>
                              <p:par>
                                <p:cTn id="8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7000"/>
                            </p:stCondLst>
                            <p:childTnLst>
                              <p:par>
                                <p:cTn id="8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7500"/>
                            </p:stCondLst>
                            <p:childTnLst>
                              <p:par>
                                <p:cTn id="823" dur="indefinite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5" dur="250" autoRev="1" fill="hold"/>
                                        <p:tgtEl>
                                          <p:spTgt spid="7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矩形 45"/>
          <p:cNvSpPr/>
          <p:nvPr/>
        </p:nvSpPr>
        <p:spPr>
          <a:xfrm>
            <a:off x="0" y="1236600"/>
            <a:ext cx="3760920" cy="66672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模步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3" name="Picture 28" descr=""/>
          <p:cNvPicPr/>
          <p:nvPr/>
        </p:nvPicPr>
        <p:blipFill>
          <a:blip r:embed="rId1"/>
          <a:stretch/>
        </p:blipFill>
        <p:spPr>
          <a:xfrm>
            <a:off x="11120400" y="660240"/>
            <a:ext cx="679320" cy="576360"/>
          </a:xfrm>
          <a:prstGeom prst="rect">
            <a:avLst/>
          </a:prstGeom>
          <a:ln w="0">
            <a:noFill/>
          </a:ln>
        </p:spPr>
      </p:pic>
      <p:sp>
        <p:nvSpPr>
          <p:cNvPr id="744" name="矩形 27"/>
          <p:cNvSpPr/>
          <p:nvPr/>
        </p:nvSpPr>
        <p:spPr>
          <a:xfrm>
            <a:off x="0" y="2457360"/>
            <a:ext cx="3760920" cy="5954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高铁枢纽站简化布置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矩形 30"/>
          <p:cNvSpPr/>
          <p:nvPr/>
        </p:nvSpPr>
        <p:spPr>
          <a:xfrm>
            <a:off x="0" y="3541680"/>
            <a:ext cx="3760920" cy="5936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抽象高铁枢纽站要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34"/>
          <p:cNvSpPr/>
          <p:nvPr/>
        </p:nvSpPr>
        <p:spPr>
          <a:xfrm>
            <a:off x="0" y="4624560"/>
            <a:ext cx="3760920" cy="59508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建立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tri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顶层模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矩形 38"/>
          <p:cNvSpPr/>
          <p:nvPr/>
        </p:nvSpPr>
        <p:spPr>
          <a:xfrm>
            <a:off x="0" y="5708520"/>
            <a:ext cx="3760920" cy="59400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建立道岔子网模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组合 47"/>
          <p:cNvGrpSpPr/>
          <p:nvPr/>
        </p:nvGrpSpPr>
        <p:grpSpPr>
          <a:xfrm>
            <a:off x="4035600" y="2457360"/>
            <a:ext cx="7781760" cy="3845160"/>
            <a:chOff x="4035600" y="2457360"/>
            <a:chExt cx="7781760" cy="3845160"/>
          </a:xfrm>
        </p:grpSpPr>
        <p:sp>
          <p:nvSpPr>
            <p:cNvPr id="749" name="矩形 48"/>
            <p:cNvSpPr/>
            <p:nvPr/>
          </p:nvSpPr>
          <p:spPr>
            <a:xfrm>
              <a:off x="4035600" y="2457360"/>
              <a:ext cx="7764480" cy="38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0" name="图片 49" descr=""/>
            <p:cNvPicPr/>
            <p:nvPr/>
          </p:nvPicPr>
          <p:blipFill>
            <a:blip r:embed="rId2"/>
            <a:stretch/>
          </p:blipFill>
          <p:spPr>
            <a:xfrm>
              <a:off x="4035600" y="3052440"/>
              <a:ext cx="7781760" cy="270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1" name="组合 11"/>
          <p:cNvGrpSpPr/>
          <p:nvPr/>
        </p:nvGrpSpPr>
        <p:grpSpPr>
          <a:xfrm>
            <a:off x="4035600" y="2457360"/>
            <a:ext cx="7764120" cy="3845160"/>
            <a:chOff x="4035600" y="2457360"/>
            <a:chExt cx="7764120" cy="3845160"/>
          </a:xfrm>
        </p:grpSpPr>
        <p:sp>
          <p:nvSpPr>
            <p:cNvPr id="752" name="矩形 50"/>
            <p:cNvSpPr/>
            <p:nvPr/>
          </p:nvSpPr>
          <p:spPr>
            <a:xfrm>
              <a:off x="4035600" y="2457360"/>
              <a:ext cx="7764120" cy="38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3" name="图片 51" descr=""/>
            <p:cNvPicPr/>
            <p:nvPr/>
          </p:nvPicPr>
          <p:blipFill>
            <a:blip r:embed="rId3"/>
            <a:stretch/>
          </p:blipFill>
          <p:spPr>
            <a:xfrm>
              <a:off x="4048920" y="3346920"/>
              <a:ext cx="7737480" cy="206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4" name="图片 13" descr=""/>
          <p:cNvPicPr/>
          <p:nvPr/>
        </p:nvPicPr>
        <p:blipFill>
          <a:blip r:embed="rId4"/>
          <a:stretch/>
        </p:blipFill>
        <p:spPr>
          <a:xfrm>
            <a:off x="3957480" y="2700360"/>
            <a:ext cx="7920360" cy="340668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14" descr=""/>
          <p:cNvPicPr/>
          <p:nvPr/>
        </p:nvPicPr>
        <p:blipFill>
          <a:blip r:embed="rId5"/>
          <a:stretch/>
        </p:blipFill>
        <p:spPr>
          <a:xfrm>
            <a:off x="3989520" y="2738520"/>
            <a:ext cx="7807320" cy="3300480"/>
          </a:xfrm>
          <a:prstGeom prst="rect">
            <a:avLst/>
          </a:prstGeom>
          <a:ln w="0">
            <a:noFill/>
          </a:ln>
        </p:spPr>
      </p:pic>
      <p:sp>
        <p:nvSpPr>
          <p:cNvPr id="756" name="文本框 19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4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仿真与评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54" dur="indefinite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56" dur="indefinite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58" dur="indefinite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68" dur="indefinite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70" dur="indefinite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72" dur="indefinite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82" dur="indefinite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84" dur="indefinite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86" dur="indefinite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99" dur="indefinite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01" dur="indefinite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03" dur="indefinite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矩形 45"/>
          <p:cNvSpPr/>
          <p:nvPr/>
        </p:nvSpPr>
        <p:spPr>
          <a:xfrm>
            <a:off x="0" y="1236600"/>
            <a:ext cx="3760920" cy="66672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价指标统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Picture 28" descr=""/>
          <p:cNvPicPr/>
          <p:nvPr/>
        </p:nvPicPr>
        <p:blipFill>
          <a:blip r:embed="rId1"/>
          <a:stretch/>
        </p:blipFill>
        <p:spPr>
          <a:xfrm>
            <a:off x="11120400" y="660240"/>
            <a:ext cx="679320" cy="576360"/>
          </a:xfrm>
          <a:prstGeom prst="rect">
            <a:avLst/>
          </a:prstGeom>
          <a:ln w="0">
            <a:noFill/>
          </a:ln>
        </p:spPr>
      </p:pic>
      <p:sp>
        <p:nvSpPr>
          <p:cNvPr id="763" name="矩形 19"/>
          <p:cNvSpPr/>
          <p:nvPr/>
        </p:nvSpPr>
        <p:spPr>
          <a:xfrm>
            <a:off x="0" y="2739960"/>
            <a:ext cx="2104920" cy="5936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占用时间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矩形 21"/>
          <p:cNvSpPr/>
          <p:nvPr/>
        </p:nvSpPr>
        <p:spPr>
          <a:xfrm>
            <a:off x="0" y="4638600"/>
            <a:ext cx="2104920" cy="5954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便捷度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图片 22" descr=""/>
          <p:cNvPicPr/>
          <p:nvPr/>
        </p:nvPicPr>
        <p:blipFill>
          <a:blip r:embed="rId2"/>
          <a:stretch/>
        </p:blipFill>
        <p:spPr>
          <a:xfrm>
            <a:off x="3760920" y="2008080"/>
            <a:ext cx="6134040" cy="211788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2"/>
          <p:cNvSpPr/>
          <p:nvPr/>
        </p:nvSpPr>
        <p:spPr>
          <a:xfrm>
            <a:off x="3760920" y="4576680"/>
            <a:ext cx="2018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对象 6" descr=""/>
          <p:cNvPicPr/>
          <p:nvPr/>
        </p:nvPicPr>
        <p:blipFill>
          <a:blip r:embed="rId3"/>
          <a:stretch/>
        </p:blipFill>
        <p:spPr>
          <a:xfrm>
            <a:off x="3760920" y="4199040"/>
            <a:ext cx="6134040" cy="261756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12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4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仿真与评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45"/>
          <p:cNvSpPr/>
          <p:nvPr/>
        </p:nvSpPr>
        <p:spPr>
          <a:xfrm>
            <a:off x="0" y="1236600"/>
            <a:ext cx="4489560" cy="66672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制与评价一体化系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4" name="Picture 28" descr=""/>
          <p:cNvPicPr/>
          <p:nvPr/>
        </p:nvPicPr>
        <p:blipFill>
          <a:blip r:embed="rId1"/>
          <a:stretch/>
        </p:blipFill>
        <p:spPr>
          <a:xfrm>
            <a:off x="11120400" y="660240"/>
            <a:ext cx="679320" cy="576360"/>
          </a:xfrm>
          <a:prstGeom prst="rect">
            <a:avLst/>
          </a:prstGeom>
          <a:ln w="0">
            <a:noFill/>
          </a:ln>
        </p:spPr>
      </p:pic>
      <p:sp>
        <p:nvSpPr>
          <p:cNvPr id="775" name="矩形 26"/>
          <p:cNvSpPr/>
          <p:nvPr/>
        </p:nvSpPr>
        <p:spPr>
          <a:xfrm>
            <a:off x="2301840" y="2131920"/>
            <a:ext cx="803160" cy="45396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矩形 27"/>
          <p:cNvSpPr/>
          <p:nvPr/>
        </p:nvSpPr>
        <p:spPr>
          <a:xfrm>
            <a:off x="3305160" y="2131920"/>
            <a:ext cx="1359000" cy="45396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导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28"/>
          <p:cNvSpPr/>
          <p:nvPr/>
        </p:nvSpPr>
        <p:spPr>
          <a:xfrm>
            <a:off x="4861080" y="2131920"/>
            <a:ext cx="847440" cy="45396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矩形 29"/>
          <p:cNvSpPr/>
          <p:nvPr/>
        </p:nvSpPr>
        <p:spPr>
          <a:xfrm>
            <a:off x="5905440" y="2131920"/>
            <a:ext cx="854280" cy="45396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30"/>
          <p:cNvSpPr/>
          <p:nvPr/>
        </p:nvSpPr>
        <p:spPr>
          <a:xfrm>
            <a:off x="6956280" y="2131920"/>
            <a:ext cx="820800" cy="45396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矩形 3"/>
          <p:cNvSpPr/>
          <p:nvPr/>
        </p:nvSpPr>
        <p:spPr>
          <a:xfrm>
            <a:off x="2301840" y="2585880"/>
            <a:ext cx="7419960" cy="4025880"/>
          </a:xfrm>
          <a:prstGeom prst="rect">
            <a:avLst/>
          </a:prstGeom>
          <a:solidFill>
            <a:srgbClr val="0173c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1" name="图片 21" descr=""/>
          <p:cNvPicPr/>
          <p:nvPr/>
        </p:nvPicPr>
        <p:blipFill>
          <a:blip r:embed="rId2"/>
          <a:stretch/>
        </p:blipFill>
        <p:spPr>
          <a:xfrm>
            <a:off x="2855880" y="2824200"/>
            <a:ext cx="6311880" cy="354816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25" descr=""/>
          <p:cNvPicPr/>
          <p:nvPr/>
        </p:nvPicPr>
        <p:blipFill>
          <a:blip r:embed="rId3"/>
          <a:stretch/>
        </p:blipFill>
        <p:spPr>
          <a:xfrm>
            <a:off x="2855880" y="2824200"/>
            <a:ext cx="6311880" cy="354816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31" descr=""/>
          <p:cNvPicPr/>
          <p:nvPr/>
        </p:nvPicPr>
        <p:blipFill>
          <a:blip r:embed="rId4"/>
          <a:stretch/>
        </p:blipFill>
        <p:spPr>
          <a:xfrm>
            <a:off x="2855880" y="2824200"/>
            <a:ext cx="6310440" cy="354816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32" descr=""/>
          <p:cNvPicPr/>
          <p:nvPr/>
        </p:nvPicPr>
        <p:blipFill>
          <a:blip r:embed="rId5"/>
          <a:stretch/>
        </p:blipFill>
        <p:spPr>
          <a:xfrm>
            <a:off x="2855880" y="2824200"/>
            <a:ext cx="6310440" cy="35481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17" descr=""/>
          <p:cNvPicPr/>
          <p:nvPr/>
        </p:nvPicPr>
        <p:blipFill>
          <a:blip r:embed="rId6"/>
          <a:stretch/>
        </p:blipFill>
        <p:spPr>
          <a:xfrm>
            <a:off x="2852640" y="2824200"/>
            <a:ext cx="6313680" cy="35496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18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4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仿真与评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45" dur="indefinite"/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47" dur="indefinite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49" dur="indefinite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51" dur="indefinite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5" dur="5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indefinite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61" dur="indefinite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63" dur="indefinite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65" dur="indefinite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4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78" dur="indefinite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80" dur="indefinite"/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82" dur="indefinite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84" dur="indefinite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97" dur="indefinite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99" dur="indefinite"/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01" dur="indefinite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03" dur="indefinite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2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16" dur="indefinite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18" dur="indefinite"/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0" dur="indefinite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2" dur="indefinite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97"/>
          <p:cNvSpPr/>
          <p:nvPr/>
        </p:nvSpPr>
        <p:spPr>
          <a:xfrm>
            <a:off x="3222720" y="82548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提出研究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97"/>
          <p:cNvSpPr/>
          <p:nvPr/>
        </p:nvSpPr>
        <p:spPr>
          <a:xfrm>
            <a:off x="3222720" y="193500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研究对象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97"/>
          <p:cNvSpPr/>
          <p:nvPr/>
        </p:nvSpPr>
        <p:spPr>
          <a:xfrm>
            <a:off x="3222720" y="304632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型与算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97"/>
          <p:cNvSpPr/>
          <p:nvPr/>
        </p:nvSpPr>
        <p:spPr>
          <a:xfrm>
            <a:off x="3222720" y="4156200"/>
            <a:ext cx="7518240" cy="92844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仿真与评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7"/>
          <p:cNvSpPr/>
          <p:nvPr/>
        </p:nvSpPr>
        <p:spPr>
          <a:xfrm>
            <a:off x="3222720" y="526716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案例验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\\MAGNUM\Projects\Microsoft\Cloud Power FY12\Design\ICONS_PNG\Open_Web_Platform.png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2141640" y="874800"/>
            <a:ext cx="826920" cy="82872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9"/>
          <p:cNvGrpSpPr/>
          <p:nvPr/>
        </p:nvGrpSpPr>
        <p:grpSpPr>
          <a:xfrm>
            <a:off x="1922400" y="1754280"/>
            <a:ext cx="1258920" cy="1298520"/>
            <a:chOff x="1922400" y="1754280"/>
            <a:chExt cx="1258920" cy="1298520"/>
          </a:xfrm>
        </p:grpSpPr>
        <p:sp>
          <p:nvSpPr>
            <p:cNvPr id="98" name="矩形 10"/>
            <p:cNvSpPr/>
            <p:nvPr/>
          </p:nvSpPr>
          <p:spPr>
            <a:xfrm>
              <a:off x="1922400" y="1754280"/>
              <a:ext cx="125892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9" name="Group 2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100" name="Freeform 22"/>
          <p:cNvSpPr/>
          <p:nvPr/>
        </p:nvSpPr>
        <p:spPr>
          <a:xfrm>
            <a:off x="2254320" y="3233880"/>
            <a:ext cx="611280" cy="628560"/>
          </a:xfrm>
          <a:custGeom>
            <a:avLst/>
            <a:gdLst/>
            <a:ahLst/>
            <a:rect l="l" t="t" r="r" b="b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8" descr=""/>
          <p:cNvPicPr/>
          <p:nvPr/>
        </p:nvPicPr>
        <p:blipFill>
          <a:blip r:embed="rId2"/>
          <a:stretch/>
        </p:blipFill>
        <p:spPr>
          <a:xfrm>
            <a:off x="2220840" y="4332240"/>
            <a:ext cx="679680" cy="57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\\MAGNUM\Projects\Microsoft\Cloud Power FY12\Design\Icons\PNGs\Self_Service.png"/>
          <p:cNvPicPr/>
          <p:nvPr/>
        </p:nvPicPr>
        <p:blipFill>
          <a:blip r:embed="rId3"/>
          <a:stretch/>
        </p:blipFill>
        <p:spPr>
          <a:xfrm>
            <a:off x="2125800" y="5305320"/>
            <a:ext cx="852480" cy="852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4" dur="7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75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9" dur="7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4" dur="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750"/>
                            </p:stCondLst>
                            <p:childTnLst>
                              <p:par>
                                <p:cTn id="6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9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75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4" dur="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Box 97"/>
          <p:cNvSpPr/>
          <p:nvPr/>
        </p:nvSpPr>
        <p:spPr>
          <a:xfrm>
            <a:off x="3222720" y="63324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提出研究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97"/>
          <p:cNvSpPr/>
          <p:nvPr/>
        </p:nvSpPr>
        <p:spPr>
          <a:xfrm>
            <a:off x="3222720" y="174456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研究对象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97"/>
          <p:cNvSpPr/>
          <p:nvPr/>
        </p:nvSpPr>
        <p:spPr>
          <a:xfrm>
            <a:off x="3222720" y="2854440"/>
            <a:ext cx="7518240" cy="93024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型与算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97"/>
          <p:cNvSpPr/>
          <p:nvPr/>
        </p:nvSpPr>
        <p:spPr>
          <a:xfrm>
            <a:off x="3222720" y="396540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仿真与评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97"/>
          <p:cNvSpPr/>
          <p:nvPr/>
        </p:nvSpPr>
        <p:spPr>
          <a:xfrm>
            <a:off x="3222720" y="5075280"/>
            <a:ext cx="7518240" cy="93024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案例验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Picture 4" descr="\\MAGNUM\Projects\Microsoft\Cloud Power FY12\Design\ICONS_PNG\Open_Web_Platform.png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2141640" y="684360"/>
            <a:ext cx="826920" cy="826920"/>
          </a:xfrm>
          <a:prstGeom prst="rect">
            <a:avLst/>
          </a:prstGeom>
          <a:ln w="0">
            <a:noFill/>
          </a:ln>
        </p:spPr>
      </p:pic>
      <p:grpSp>
        <p:nvGrpSpPr>
          <p:cNvPr id="794" name="组合 8"/>
          <p:cNvGrpSpPr/>
          <p:nvPr/>
        </p:nvGrpSpPr>
        <p:grpSpPr>
          <a:xfrm>
            <a:off x="1922400" y="1562040"/>
            <a:ext cx="1258920" cy="1298520"/>
            <a:chOff x="1922400" y="1562040"/>
            <a:chExt cx="1258920" cy="1298520"/>
          </a:xfrm>
        </p:grpSpPr>
        <p:sp>
          <p:nvSpPr>
            <p:cNvPr id="795" name="矩形 9"/>
            <p:cNvSpPr/>
            <p:nvPr/>
          </p:nvSpPr>
          <p:spPr>
            <a:xfrm>
              <a:off x="1922400" y="1562040"/>
              <a:ext cx="125892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6" name="Group 2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797" name="Freeform 22"/>
          <p:cNvSpPr/>
          <p:nvPr/>
        </p:nvSpPr>
        <p:spPr>
          <a:xfrm>
            <a:off x="2254320" y="3043080"/>
            <a:ext cx="611280" cy="628920"/>
          </a:xfrm>
          <a:custGeom>
            <a:avLst/>
            <a:gdLst/>
            <a:ahLst/>
            <a:rect l="l" t="t" r="r" b="b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Picture 28" descr=""/>
          <p:cNvPicPr/>
          <p:nvPr/>
        </p:nvPicPr>
        <p:blipFill>
          <a:blip r:embed="rId2"/>
          <a:stretch/>
        </p:blipFill>
        <p:spPr>
          <a:xfrm>
            <a:off x="2220840" y="4141800"/>
            <a:ext cx="679680" cy="5763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\\MAGNUM\Projects\Microsoft\Cloud Power FY12\Design\Icons\PNGs\Self_Service.png"/>
          <p:cNvPicPr/>
          <p:nvPr/>
        </p:nvPicPr>
        <p:blipFill>
          <a:blip r:embed="rId3"/>
          <a:stretch/>
        </p:blipFill>
        <p:spPr>
          <a:xfrm>
            <a:off x="2125800" y="5113440"/>
            <a:ext cx="852480" cy="853920"/>
          </a:xfrm>
          <a:prstGeom prst="rect">
            <a:avLst/>
          </a:prstGeom>
          <a:ln w="0">
            <a:noFill/>
          </a:ln>
        </p:spPr>
      </p:pic>
      <p:sp>
        <p:nvSpPr>
          <p:cNvPr id="800" name="TextBox 97"/>
          <p:cNvSpPr/>
          <p:nvPr/>
        </p:nvSpPr>
        <p:spPr>
          <a:xfrm>
            <a:off x="3222720" y="5075280"/>
            <a:ext cx="7518240" cy="93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0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3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8" dur="500" autoRev="1" fill="hold"/>
                                        <p:tgtEl>
                                          <p:spTgt spid="8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组合 13"/>
          <p:cNvGrpSpPr/>
          <p:nvPr/>
        </p:nvGrpSpPr>
        <p:grpSpPr>
          <a:xfrm>
            <a:off x="822240" y="1417680"/>
            <a:ext cx="10145880" cy="5405400"/>
            <a:chOff x="822240" y="1417680"/>
            <a:chExt cx="10145880" cy="5405400"/>
          </a:xfrm>
        </p:grpSpPr>
        <p:sp>
          <p:nvSpPr>
            <p:cNvPr id="802" name="矩形 34"/>
            <p:cNvSpPr/>
            <p:nvPr/>
          </p:nvSpPr>
          <p:spPr>
            <a:xfrm>
              <a:off x="822240" y="1417680"/>
              <a:ext cx="10145880" cy="540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03" name="图片 11" descr=""/>
            <p:cNvPicPr/>
            <p:nvPr/>
          </p:nvPicPr>
          <p:blipFill>
            <a:blip r:embed="rId1"/>
            <a:stretch/>
          </p:blipFill>
          <p:spPr>
            <a:xfrm>
              <a:off x="1310040" y="1496520"/>
              <a:ext cx="9307080" cy="532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4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45"/>
          <p:cNvSpPr/>
          <p:nvPr/>
        </p:nvSpPr>
        <p:spPr>
          <a:xfrm>
            <a:off x="0" y="1236600"/>
            <a:ext cx="3760920" cy="66672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郑州东站站场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8" name="Picture 5" descr="\\MAGNUM\Projects\Microsoft\Cloud Power FY12\Design\Icons\PNGs\Self_Service.png"/>
          <p:cNvPicPr/>
          <p:nvPr/>
        </p:nvPicPr>
        <p:blipFill>
          <a:blip r:embed="rId2"/>
          <a:stretch/>
        </p:blipFill>
        <p:spPr>
          <a:xfrm>
            <a:off x="10968120" y="415800"/>
            <a:ext cx="852480" cy="852480"/>
          </a:xfrm>
          <a:prstGeom prst="rect">
            <a:avLst/>
          </a:prstGeom>
          <a:ln w="0">
            <a:noFill/>
          </a:ln>
        </p:spPr>
      </p:pic>
      <p:sp>
        <p:nvSpPr>
          <p:cNvPr id="809" name="文本框 12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案例验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45"/>
          <p:cNvSpPr/>
          <p:nvPr/>
        </p:nvSpPr>
        <p:spPr>
          <a:xfrm>
            <a:off x="0" y="1236600"/>
            <a:ext cx="3976560" cy="66672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郑州东站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PJSHR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声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5" name="Picture 5" descr="\\MAGNUM\Projects\Microsoft\Cloud Power FY12\Design\Icons\PNGs\Self_Service.png"/>
          <p:cNvPicPr/>
          <p:nvPr/>
        </p:nvPicPr>
        <p:blipFill>
          <a:blip r:embed="rId1"/>
          <a:stretch/>
        </p:blipFill>
        <p:spPr>
          <a:xfrm>
            <a:off x="10968120" y="41580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5" descr=""/>
          <p:cNvPicPr/>
          <p:nvPr/>
        </p:nvPicPr>
        <p:blipFill>
          <a:blip r:embed="rId2"/>
          <a:srcRect l="0" t="0" r="0" b="13382"/>
          <a:stretch/>
        </p:blipFill>
        <p:spPr>
          <a:xfrm>
            <a:off x="4340160" y="1268280"/>
            <a:ext cx="4791240" cy="5351760"/>
          </a:xfrm>
          <a:prstGeom prst="rect">
            <a:avLst/>
          </a:prstGeom>
          <a:ln w="0">
            <a:noFill/>
          </a:ln>
        </p:spPr>
      </p:pic>
      <p:sp>
        <p:nvSpPr>
          <p:cNvPr id="817" name="文本框 8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案例验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11"/>
          <p:cNvSpPr/>
          <p:nvPr/>
        </p:nvSpPr>
        <p:spPr>
          <a:xfrm>
            <a:off x="3436920" y="2063880"/>
            <a:ext cx="7548480" cy="318056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序号      场别     到时     开时     序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场别      到时     开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:3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0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0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1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3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2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5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3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1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2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3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1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1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4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2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2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4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3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5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2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4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2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3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0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3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3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1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4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4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2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4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4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2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5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5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3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3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5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0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3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0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0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4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4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1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1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4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1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2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4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5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2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2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5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3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2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3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3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4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1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4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4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1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5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5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2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2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1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2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3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5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5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3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0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2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3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0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0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4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4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0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0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4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1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2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5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5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2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3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5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3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3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1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3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4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2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2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3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4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2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4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4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3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4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5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: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5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5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3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3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5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5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3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0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4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1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2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4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5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1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2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5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:5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2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2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0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2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1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3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2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4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5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2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3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4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5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3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4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5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5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4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5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0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4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5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0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0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5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: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1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0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1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0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1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1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1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2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2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2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2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3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3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3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4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4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0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4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5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0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5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1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2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0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1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2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2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2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1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2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2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3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2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3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3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3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3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4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4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4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5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5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5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5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:5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5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5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0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0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1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0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1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1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2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1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2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2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1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2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3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3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2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2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3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2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2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4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5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2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3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5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5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3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5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4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4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2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2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1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2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2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2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2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3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3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2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3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3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3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3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4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4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4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0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4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4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1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5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1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: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0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0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1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1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3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3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4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:2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:2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4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:3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5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:5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:4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:4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0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:4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:5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1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:5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1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2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3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1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4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4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3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3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5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:5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4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5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:0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: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:0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:1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:2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:2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:3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9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:3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:3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:3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6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:4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3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2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:1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4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:3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组合 12"/>
          <p:cNvGrpSpPr/>
          <p:nvPr/>
        </p:nvGrpSpPr>
        <p:grpSpPr>
          <a:xfrm>
            <a:off x="1704960" y="2063880"/>
            <a:ext cx="8999640" cy="4527360"/>
            <a:chOff x="1704960" y="2063880"/>
            <a:chExt cx="8999640" cy="4527360"/>
          </a:xfrm>
        </p:grpSpPr>
        <p:sp>
          <p:nvSpPr>
            <p:cNvPr id="823" name="矩形 13"/>
            <p:cNvSpPr/>
            <p:nvPr/>
          </p:nvSpPr>
          <p:spPr>
            <a:xfrm>
              <a:off x="1704960" y="2063880"/>
              <a:ext cx="8999640" cy="45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4" name="对象 14" descr=""/>
            <p:cNvPicPr/>
            <p:nvPr/>
          </p:nvPicPr>
          <p:blipFill>
            <a:blip r:embed="rId1"/>
            <a:stretch/>
          </p:blipFill>
          <p:spPr>
            <a:xfrm>
              <a:off x="1905480" y="2252520"/>
              <a:ext cx="8524800" cy="410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5" name="组合 15"/>
          <p:cNvGrpSpPr/>
          <p:nvPr/>
        </p:nvGrpSpPr>
        <p:grpSpPr>
          <a:xfrm>
            <a:off x="1704960" y="2081160"/>
            <a:ext cx="8999640" cy="4529160"/>
            <a:chOff x="1704960" y="2081160"/>
            <a:chExt cx="8999640" cy="4529160"/>
          </a:xfrm>
        </p:grpSpPr>
        <p:sp>
          <p:nvSpPr>
            <p:cNvPr id="826" name="矩形 16"/>
            <p:cNvSpPr/>
            <p:nvPr/>
          </p:nvSpPr>
          <p:spPr>
            <a:xfrm>
              <a:off x="1704960" y="2081160"/>
              <a:ext cx="8999640" cy="45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7" name="对象 17" descr=""/>
            <p:cNvPicPr/>
            <p:nvPr/>
          </p:nvPicPr>
          <p:blipFill>
            <a:blip r:embed="rId2"/>
            <a:stretch/>
          </p:blipFill>
          <p:spPr>
            <a:xfrm>
              <a:off x="2725200" y="2291040"/>
              <a:ext cx="6958800" cy="410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8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9" name="Picture 5" descr="\\MAGNUM\Projects\Microsoft\Cloud Power FY12\Design\Icons\PNGs\Self_Service.png"/>
          <p:cNvPicPr/>
          <p:nvPr/>
        </p:nvPicPr>
        <p:blipFill>
          <a:blip r:embed="rId3"/>
          <a:stretch/>
        </p:blipFill>
        <p:spPr>
          <a:xfrm>
            <a:off x="10968120" y="415800"/>
            <a:ext cx="852480" cy="852480"/>
          </a:xfrm>
          <a:prstGeom prst="rect">
            <a:avLst/>
          </a:prstGeom>
          <a:ln w="0">
            <a:noFill/>
          </a:ln>
        </p:spPr>
      </p:pic>
      <p:sp>
        <p:nvSpPr>
          <p:cNvPr id="830" name="矩形 19"/>
          <p:cNvSpPr/>
          <p:nvPr/>
        </p:nvSpPr>
        <p:spPr>
          <a:xfrm>
            <a:off x="0" y="1236600"/>
            <a:ext cx="3541680" cy="66672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到发线运用计划编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20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案例验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7" dur="40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out">
                                      <p:cBhvr additive="repl">
                                        <p:cTn id="1088" dur="4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9" dur="75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75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750"/>
                            </p:stCondLst>
                            <p:childTnLst>
                              <p:par>
                                <p:cTn id="110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矩形 45"/>
          <p:cNvSpPr/>
          <p:nvPr/>
        </p:nvSpPr>
        <p:spPr>
          <a:xfrm>
            <a:off x="0" y="1236600"/>
            <a:ext cx="3760920" cy="66672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均衡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Picture 5" descr="\\MAGNUM\Projects\Microsoft\Cloud Power FY12\Design\Icons\PNGs\Self_Service.png"/>
          <p:cNvPicPr/>
          <p:nvPr/>
        </p:nvPicPr>
        <p:blipFill>
          <a:blip r:embed="rId1"/>
          <a:stretch/>
        </p:blipFill>
        <p:spPr>
          <a:xfrm>
            <a:off x="10968120" y="415800"/>
            <a:ext cx="852480" cy="852480"/>
          </a:xfrm>
          <a:prstGeom prst="rect">
            <a:avLst/>
          </a:prstGeom>
          <a:ln w="0">
            <a:noFill/>
          </a:ln>
        </p:spPr>
      </p:pic>
      <p:sp>
        <p:nvSpPr>
          <p:cNvPr id="838" name="矩形 6"/>
          <p:cNvSpPr/>
          <p:nvPr/>
        </p:nvSpPr>
        <p:spPr>
          <a:xfrm>
            <a:off x="1625760" y="5979960"/>
            <a:ext cx="8678880" cy="5652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调安排的到发线运用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9" name="组合 11"/>
          <p:cNvGrpSpPr/>
          <p:nvPr/>
        </p:nvGrpSpPr>
        <p:grpSpPr>
          <a:xfrm>
            <a:off x="1625760" y="2409840"/>
            <a:ext cx="1277640" cy="3338640"/>
            <a:chOff x="1625760" y="2409840"/>
            <a:chExt cx="1277640" cy="3338640"/>
          </a:xfrm>
        </p:grpSpPr>
        <p:sp>
          <p:nvSpPr>
            <p:cNvPr id="840" name="矩形 5"/>
            <p:cNvSpPr/>
            <p:nvPr/>
          </p:nvSpPr>
          <p:spPr>
            <a:xfrm>
              <a:off x="1625760" y="2409840"/>
              <a:ext cx="1277640" cy="3338640"/>
            </a:xfrm>
            <a:prstGeom prst="rect">
              <a:avLst/>
            </a:prstGeom>
            <a:solidFill>
              <a:srgbClr val="01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7"/>
            <p:cNvSpPr/>
            <p:nvPr/>
          </p:nvSpPr>
          <p:spPr>
            <a:xfrm>
              <a:off x="1654560" y="2567160"/>
              <a:ext cx="1248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徐兰场下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组合 16"/>
          <p:cNvGrpSpPr/>
          <p:nvPr/>
        </p:nvGrpSpPr>
        <p:grpSpPr>
          <a:xfrm>
            <a:off x="4092480" y="2409840"/>
            <a:ext cx="1278000" cy="3338640"/>
            <a:chOff x="4092480" y="2409840"/>
            <a:chExt cx="1278000" cy="3338640"/>
          </a:xfrm>
        </p:grpSpPr>
        <p:sp>
          <p:nvSpPr>
            <p:cNvPr id="843" name="矩形 8"/>
            <p:cNvSpPr/>
            <p:nvPr/>
          </p:nvSpPr>
          <p:spPr>
            <a:xfrm>
              <a:off x="4092480" y="2409840"/>
              <a:ext cx="1278000" cy="3338640"/>
            </a:xfrm>
            <a:prstGeom prst="rect">
              <a:avLst/>
            </a:prstGeom>
            <a:solidFill>
              <a:srgbClr val="01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文本框 17"/>
            <p:cNvSpPr/>
            <p:nvPr/>
          </p:nvSpPr>
          <p:spPr>
            <a:xfrm>
              <a:off x="4121280" y="2567160"/>
              <a:ext cx="1249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徐兰场上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28"/>
          <p:cNvGrpSpPr/>
          <p:nvPr/>
        </p:nvGrpSpPr>
        <p:grpSpPr>
          <a:xfrm>
            <a:off x="6561000" y="2409840"/>
            <a:ext cx="1276560" cy="3338640"/>
            <a:chOff x="6561000" y="2409840"/>
            <a:chExt cx="1276560" cy="3338640"/>
          </a:xfrm>
        </p:grpSpPr>
        <p:sp>
          <p:nvSpPr>
            <p:cNvPr id="846" name="矩形 9"/>
            <p:cNvSpPr/>
            <p:nvPr/>
          </p:nvSpPr>
          <p:spPr>
            <a:xfrm>
              <a:off x="6561000" y="2409840"/>
              <a:ext cx="1276560" cy="3338640"/>
            </a:xfrm>
            <a:prstGeom prst="rect">
              <a:avLst/>
            </a:prstGeom>
            <a:solidFill>
              <a:srgbClr val="01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文本框 18"/>
            <p:cNvSpPr/>
            <p:nvPr/>
          </p:nvSpPr>
          <p:spPr>
            <a:xfrm>
              <a:off x="6589800" y="2567160"/>
              <a:ext cx="1247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京广场下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8" name="组合 30"/>
          <p:cNvGrpSpPr/>
          <p:nvPr/>
        </p:nvGrpSpPr>
        <p:grpSpPr>
          <a:xfrm>
            <a:off x="9028080" y="2409840"/>
            <a:ext cx="1276560" cy="3338640"/>
            <a:chOff x="9028080" y="2409840"/>
            <a:chExt cx="1276560" cy="3338640"/>
          </a:xfrm>
        </p:grpSpPr>
        <p:sp>
          <p:nvSpPr>
            <p:cNvPr id="849" name="矩形 10"/>
            <p:cNvSpPr/>
            <p:nvPr/>
          </p:nvSpPr>
          <p:spPr>
            <a:xfrm>
              <a:off x="9028080" y="2409840"/>
              <a:ext cx="1276560" cy="3338640"/>
            </a:xfrm>
            <a:prstGeom prst="rect">
              <a:avLst/>
            </a:prstGeom>
            <a:solidFill>
              <a:srgbClr val="01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文本框 19"/>
            <p:cNvSpPr/>
            <p:nvPr/>
          </p:nvSpPr>
          <p:spPr>
            <a:xfrm>
              <a:off x="9056880" y="2567160"/>
              <a:ext cx="1247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京广场上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1" name="矩形 20"/>
          <p:cNvSpPr/>
          <p:nvPr/>
        </p:nvSpPr>
        <p:spPr>
          <a:xfrm>
            <a:off x="1930320" y="3352680"/>
            <a:ext cx="696960" cy="233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.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矩形 21"/>
          <p:cNvSpPr/>
          <p:nvPr/>
        </p:nvSpPr>
        <p:spPr>
          <a:xfrm>
            <a:off x="6865920" y="3352680"/>
            <a:ext cx="695520" cy="233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.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矩形 22"/>
          <p:cNvSpPr/>
          <p:nvPr/>
        </p:nvSpPr>
        <p:spPr>
          <a:xfrm>
            <a:off x="4383000" y="3063960"/>
            <a:ext cx="696960" cy="2609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.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矩形 23"/>
          <p:cNvSpPr/>
          <p:nvPr/>
        </p:nvSpPr>
        <p:spPr>
          <a:xfrm>
            <a:off x="9333000" y="3948120"/>
            <a:ext cx="696960" cy="1751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9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24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案例验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800"/>
                            </p:stCondLst>
                            <p:childTnLst>
                              <p:par>
                                <p:cTn id="113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矩形 45"/>
          <p:cNvSpPr/>
          <p:nvPr/>
        </p:nvSpPr>
        <p:spPr>
          <a:xfrm>
            <a:off x="0" y="1236600"/>
            <a:ext cx="3760920" cy="66672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均衡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1" name="Picture 5" descr="\\MAGNUM\Projects\Microsoft\Cloud Power FY12\Design\Icons\PNGs\Self_Service.png"/>
          <p:cNvPicPr/>
          <p:nvPr/>
        </p:nvPicPr>
        <p:blipFill>
          <a:blip r:embed="rId1"/>
          <a:stretch/>
        </p:blipFill>
        <p:spPr>
          <a:xfrm>
            <a:off x="10968120" y="415800"/>
            <a:ext cx="852480" cy="852480"/>
          </a:xfrm>
          <a:prstGeom prst="rect">
            <a:avLst/>
          </a:prstGeom>
          <a:ln w="0">
            <a:noFill/>
          </a:ln>
        </p:spPr>
      </p:pic>
      <p:grpSp>
        <p:nvGrpSpPr>
          <p:cNvPr id="862" name="组合 11"/>
          <p:cNvGrpSpPr/>
          <p:nvPr/>
        </p:nvGrpSpPr>
        <p:grpSpPr>
          <a:xfrm>
            <a:off x="1625760" y="2409840"/>
            <a:ext cx="1277640" cy="3338640"/>
            <a:chOff x="1625760" y="2409840"/>
            <a:chExt cx="1277640" cy="3338640"/>
          </a:xfrm>
        </p:grpSpPr>
        <p:sp>
          <p:nvSpPr>
            <p:cNvPr id="863" name="矩形 5"/>
            <p:cNvSpPr/>
            <p:nvPr/>
          </p:nvSpPr>
          <p:spPr>
            <a:xfrm>
              <a:off x="1625760" y="2409840"/>
              <a:ext cx="1277640" cy="3338640"/>
            </a:xfrm>
            <a:prstGeom prst="rect">
              <a:avLst/>
            </a:prstGeom>
            <a:solidFill>
              <a:srgbClr val="01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文本框 7"/>
            <p:cNvSpPr/>
            <p:nvPr/>
          </p:nvSpPr>
          <p:spPr>
            <a:xfrm>
              <a:off x="1654560" y="2567160"/>
              <a:ext cx="1248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徐兰场下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16"/>
          <p:cNvGrpSpPr/>
          <p:nvPr/>
        </p:nvGrpSpPr>
        <p:grpSpPr>
          <a:xfrm>
            <a:off x="4092480" y="2409840"/>
            <a:ext cx="1278000" cy="3338640"/>
            <a:chOff x="4092480" y="2409840"/>
            <a:chExt cx="1278000" cy="3338640"/>
          </a:xfrm>
        </p:grpSpPr>
        <p:sp>
          <p:nvSpPr>
            <p:cNvPr id="866" name="矩形 8"/>
            <p:cNvSpPr/>
            <p:nvPr/>
          </p:nvSpPr>
          <p:spPr>
            <a:xfrm>
              <a:off x="4092480" y="2409840"/>
              <a:ext cx="1278000" cy="3338640"/>
            </a:xfrm>
            <a:prstGeom prst="rect">
              <a:avLst/>
            </a:prstGeom>
            <a:solidFill>
              <a:srgbClr val="01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文本框 17"/>
            <p:cNvSpPr/>
            <p:nvPr/>
          </p:nvSpPr>
          <p:spPr>
            <a:xfrm>
              <a:off x="4121280" y="2567160"/>
              <a:ext cx="1249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徐兰场上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8" name="组合 28"/>
          <p:cNvGrpSpPr/>
          <p:nvPr/>
        </p:nvGrpSpPr>
        <p:grpSpPr>
          <a:xfrm>
            <a:off x="6561000" y="2409840"/>
            <a:ext cx="1276560" cy="3338640"/>
            <a:chOff x="6561000" y="2409840"/>
            <a:chExt cx="1276560" cy="3338640"/>
          </a:xfrm>
        </p:grpSpPr>
        <p:sp>
          <p:nvSpPr>
            <p:cNvPr id="869" name="矩形 9"/>
            <p:cNvSpPr/>
            <p:nvPr/>
          </p:nvSpPr>
          <p:spPr>
            <a:xfrm>
              <a:off x="6561000" y="2409840"/>
              <a:ext cx="1276560" cy="3338640"/>
            </a:xfrm>
            <a:prstGeom prst="rect">
              <a:avLst/>
            </a:prstGeom>
            <a:solidFill>
              <a:srgbClr val="01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文本框 18"/>
            <p:cNvSpPr/>
            <p:nvPr/>
          </p:nvSpPr>
          <p:spPr>
            <a:xfrm>
              <a:off x="6589800" y="2567160"/>
              <a:ext cx="1247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京广场下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1" name="组合 30"/>
          <p:cNvGrpSpPr/>
          <p:nvPr/>
        </p:nvGrpSpPr>
        <p:grpSpPr>
          <a:xfrm>
            <a:off x="9028080" y="2409840"/>
            <a:ext cx="1276560" cy="3338640"/>
            <a:chOff x="9028080" y="2409840"/>
            <a:chExt cx="1276560" cy="3338640"/>
          </a:xfrm>
        </p:grpSpPr>
        <p:sp>
          <p:nvSpPr>
            <p:cNvPr id="872" name="矩形 10"/>
            <p:cNvSpPr/>
            <p:nvPr/>
          </p:nvSpPr>
          <p:spPr>
            <a:xfrm>
              <a:off x="9028080" y="2409840"/>
              <a:ext cx="1276560" cy="3338640"/>
            </a:xfrm>
            <a:prstGeom prst="rect">
              <a:avLst/>
            </a:prstGeom>
            <a:solidFill>
              <a:srgbClr val="01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文本框 19"/>
            <p:cNvSpPr/>
            <p:nvPr/>
          </p:nvSpPr>
          <p:spPr>
            <a:xfrm>
              <a:off x="9056880" y="2567160"/>
              <a:ext cx="1247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京广场上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矩形 25"/>
          <p:cNvSpPr/>
          <p:nvPr/>
        </p:nvSpPr>
        <p:spPr>
          <a:xfrm>
            <a:off x="1925640" y="4687920"/>
            <a:ext cx="696960" cy="10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矩形 26"/>
          <p:cNvSpPr/>
          <p:nvPr/>
        </p:nvSpPr>
        <p:spPr>
          <a:xfrm>
            <a:off x="1925640" y="3352680"/>
            <a:ext cx="696960" cy="1335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矩形 27"/>
          <p:cNvSpPr/>
          <p:nvPr/>
        </p:nvSpPr>
        <p:spPr>
          <a:xfrm>
            <a:off x="4383000" y="5013360"/>
            <a:ext cx="696960" cy="660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31"/>
          <p:cNvSpPr/>
          <p:nvPr/>
        </p:nvSpPr>
        <p:spPr>
          <a:xfrm>
            <a:off x="4383000" y="3063960"/>
            <a:ext cx="696960" cy="1949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矩形 33"/>
          <p:cNvSpPr/>
          <p:nvPr/>
        </p:nvSpPr>
        <p:spPr>
          <a:xfrm>
            <a:off x="6865920" y="4863960"/>
            <a:ext cx="69552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矩形 34"/>
          <p:cNvSpPr/>
          <p:nvPr/>
        </p:nvSpPr>
        <p:spPr>
          <a:xfrm>
            <a:off x="6865920" y="3352680"/>
            <a:ext cx="695520" cy="1514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矩形 35"/>
          <p:cNvSpPr/>
          <p:nvPr/>
        </p:nvSpPr>
        <p:spPr>
          <a:xfrm>
            <a:off x="9333000" y="5514840"/>
            <a:ext cx="696960" cy="184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矩形 36"/>
          <p:cNvSpPr/>
          <p:nvPr/>
        </p:nvSpPr>
        <p:spPr>
          <a:xfrm>
            <a:off x="9333000" y="3948120"/>
            <a:ext cx="696960" cy="1566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矩形 37"/>
          <p:cNvSpPr/>
          <p:nvPr/>
        </p:nvSpPr>
        <p:spPr>
          <a:xfrm>
            <a:off x="1625760" y="5979960"/>
            <a:ext cx="8678880" cy="5652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生成的到发线运用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矩形 6"/>
          <p:cNvSpPr/>
          <p:nvPr/>
        </p:nvSpPr>
        <p:spPr>
          <a:xfrm>
            <a:off x="1957320" y="50036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12"/>
          <p:cNvSpPr/>
          <p:nvPr/>
        </p:nvSpPr>
        <p:spPr>
          <a:xfrm>
            <a:off x="4412160" y="51595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矩形 13"/>
          <p:cNvSpPr/>
          <p:nvPr/>
        </p:nvSpPr>
        <p:spPr>
          <a:xfrm>
            <a:off x="6896160" y="5092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矩形 14"/>
          <p:cNvSpPr/>
          <p:nvPr/>
        </p:nvSpPr>
        <p:spPr>
          <a:xfrm>
            <a:off x="9429480" y="54212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文本框 46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案例验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dur="indefinite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500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115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116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117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118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组合 25"/>
          <p:cNvGrpSpPr/>
          <p:nvPr/>
        </p:nvGrpSpPr>
        <p:grpSpPr>
          <a:xfrm>
            <a:off x="1625760" y="2409840"/>
            <a:ext cx="1277640" cy="3338640"/>
            <a:chOff x="1625760" y="2409840"/>
            <a:chExt cx="1277640" cy="3338640"/>
          </a:xfrm>
        </p:grpSpPr>
        <p:sp>
          <p:nvSpPr>
            <p:cNvPr id="890" name="矩形 27"/>
            <p:cNvSpPr/>
            <p:nvPr/>
          </p:nvSpPr>
          <p:spPr>
            <a:xfrm>
              <a:off x="1625760" y="2409840"/>
              <a:ext cx="1277640" cy="3338640"/>
            </a:xfrm>
            <a:prstGeom prst="rect">
              <a:avLst/>
            </a:prstGeom>
            <a:solidFill>
              <a:srgbClr val="01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文本框 28"/>
            <p:cNvSpPr/>
            <p:nvPr/>
          </p:nvSpPr>
          <p:spPr>
            <a:xfrm>
              <a:off x="1654560" y="2567160"/>
              <a:ext cx="1248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徐兰场下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2" name="组合 30"/>
          <p:cNvGrpSpPr/>
          <p:nvPr/>
        </p:nvGrpSpPr>
        <p:grpSpPr>
          <a:xfrm>
            <a:off x="4092480" y="2409840"/>
            <a:ext cx="1278000" cy="3338640"/>
            <a:chOff x="4092480" y="2409840"/>
            <a:chExt cx="1278000" cy="3338640"/>
          </a:xfrm>
        </p:grpSpPr>
        <p:sp>
          <p:nvSpPr>
            <p:cNvPr id="893" name="矩形 31"/>
            <p:cNvSpPr/>
            <p:nvPr/>
          </p:nvSpPr>
          <p:spPr>
            <a:xfrm>
              <a:off x="4092480" y="2409840"/>
              <a:ext cx="1278000" cy="3338640"/>
            </a:xfrm>
            <a:prstGeom prst="rect">
              <a:avLst/>
            </a:prstGeom>
            <a:solidFill>
              <a:srgbClr val="01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文本框 32"/>
            <p:cNvSpPr/>
            <p:nvPr/>
          </p:nvSpPr>
          <p:spPr>
            <a:xfrm>
              <a:off x="4121280" y="2567160"/>
              <a:ext cx="1249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徐兰场上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5" name="组合 33"/>
          <p:cNvGrpSpPr/>
          <p:nvPr/>
        </p:nvGrpSpPr>
        <p:grpSpPr>
          <a:xfrm>
            <a:off x="6561000" y="2409840"/>
            <a:ext cx="1276560" cy="3338640"/>
            <a:chOff x="6561000" y="2409840"/>
            <a:chExt cx="1276560" cy="3338640"/>
          </a:xfrm>
        </p:grpSpPr>
        <p:sp>
          <p:nvSpPr>
            <p:cNvPr id="896" name="矩形 34"/>
            <p:cNvSpPr/>
            <p:nvPr/>
          </p:nvSpPr>
          <p:spPr>
            <a:xfrm>
              <a:off x="6561000" y="2409840"/>
              <a:ext cx="1276560" cy="3338640"/>
            </a:xfrm>
            <a:prstGeom prst="rect">
              <a:avLst/>
            </a:prstGeom>
            <a:solidFill>
              <a:srgbClr val="01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35"/>
            <p:cNvSpPr/>
            <p:nvPr/>
          </p:nvSpPr>
          <p:spPr>
            <a:xfrm>
              <a:off x="6589800" y="2567160"/>
              <a:ext cx="1247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京广场下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8" name="组合 36"/>
          <p:cNvGrpSpPr/>
          <p:nvPr/>
        </p:nvGrpSpPr>
        <p:grpSpPr>
          <a:xfrm>
            <a:off x="9028080" y="2409840"/>
            <a:ext cx="1276560" cy="3338640"/>
            <a:chOff x="9028080" y="2409840"/>
            <a:chExt cx="1276560" cy="3338640"/>
          </a:xfrm>
        </p:grpSpPr>
        <p:sp>
          <p:nvSpPr>
            <p:cNvPr id="899" name="矩形 37"/>
            <p:cNvSpPr/>
            <p:nvPr/>
          </p:nvSpPr>
          <p:spPr>
            <a:xfrm>
              <a:off x="9028080" y="2409840"/>
              <a:ext cx="1276560" cy="3338640"/>
            </a:xfrm>
            <a:prstGeom prst="rect">
              <a:avLst/>
            </a:prstGeom>
            <a:solidFill>
              <a:srgbClr val="01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文本框 38"/>
            <p:cNvSpPr/>
            <p:nvPr/>
          </p:nvSpPr>
          <p:spPr>
            <a:xfrm>
              <a:off x="9056880" y="2567160"/>
              <a:ext cx="1247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京广场上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1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45"/>
          <p:cNvSpPr/>
          <p:nvPr/>
        </p:nvSpPr>
        <p:spPr>
          <a:xfrm>
            <a:off x="0" y="1236600"/>
            <a:ext cx="3760920" cy="66672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便捷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5" name="Picture 5" descr="\\MAGNUM\Projects\Microsoft\Cloud Power FY12\Design\Icons\PNGs\Self_Service.png"/>
          <p:cNvPicPr/>
          <p:nvPr/>
        </p:nvPicPr>
        <p:blipFill>
          <a:blip r:embed="rId1"/>
          <a:stretch/>
        </p:blipFill>
        <p:spPr>
          <a:xfrm>
            <a:off x="10968120" y="415800"/>
            <a:ext cx="852480" cy="852480"/>
          </a:xfrm>
          <a:prstGeom prst="rect">
            <a:avLst/>
          </a:prstGeom>
          <a:ln w="0">
            <a:noFill/>
          </a:ln>
        </p:spPr>
      </p:pic>
      <p:sp>
        <p:nvSpPr>
          <p:cNvPr id="906" name="矩形 20"/>
          <p:cNvSpPr/>
          <p:nvPr/>
        </p:nvSpPr>
        <p:spPr>
          <a:xfrm>
            <a:off x="1930320" y="5326200"/>
            <a:ext cx="696960" cy="363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矩形 21"/>
          <p:cNvSpPr/>
          <p:nvPr/>
        </p:nvSpPr>
        <p:spPr>
          <a:xfrm>
            <a:off x="6865920" y="3079800"/>
            <a:ext cx="695520" cy="2609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9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矩形 22"/>
          <p:cNvSpPr/>
          <p:nvPr/>
        </p:nvSpPr>
        <p:spPr>
          <a:xfrm>
            <a:off x="4383000" y="3527280"/>
            <a:ext cx="696960" cy="2146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6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矩形 23"/>
          <p:cNvSpPr/>
          <p:nvPr/>
        </p:nvSpPr>
        <p:spPr>
          <a:xfrm>
            <a:off x="9333000" y="5032440"/>
            <a:ext cx="696960" cy="666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矩形 24"/>
          <p:cNvSpPr/>
          <p:nvPr/>
        </p:nvSpPr>
        <p:spPr>
          <a:xfrm>
            <a:off x="1625760" y="5979960"/>
            <a:ext cx="8678880" cy="5652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调安排的到发线运用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文本框 39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案例验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800"/>
                            </p:stCondLst>
                            <p:childTnLst>
                              <p:par>
                                <p:cTn id="12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矩形 45"/>
          <p:cNvSpPr/>
          <p:nvPr/>
        </p:nvSpPr>
        <p:spPr>
          <a:xfrm>
            <a:off x="0" y="1236600"/>
            <a:ext cx="3760920" cy="66672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便捷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7" name="Picture 5" descr="\\MAGNUM\Projects\Microsoft\Cloud Power FY12\Design\Icons\PNGs\Self_Service.png"/>
          <p:cNvPicPr/>
          <p:nvPr/>
        </p:nvPicPr>
        <p:blipFill>
          <a:blip r:embed="rId1"/>
          <a:stretch/>
        </p:blipFill>
        <p:spPr>
          <a:xfrm>
            <a:off x="10968120" y="415800"/>
            <a:ext cx="852480" cy="852480"/>
          </a:xfrm>
          <a:prstGeom prst="rect">
            <a:avLst/>
          </a:prstGeom>
          <a:ln w="0">
            <a:noFill/>
          </a:ln>
        </p:spPr>
      </p:pic>
      <p:sp>
        <p:nvSpPr>
          <p:cNvPr id="918" name="矩形 5"/>
          <p:cNvSpPr/>
          <p:nvPr/>
        </p:nvSpPr>
        <p:spPr>
          <a:xfrm>
            <a:off x="1625760" y="2409840"/>
            <a:ext cx="1277640" cy="333864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矩形 8"/>
          <p:cNvSpPr/>
          <p:nvPr/>
        </p:nvSpPr>
        <p:spPr>
          <a:xfrm>
            <a:off x="4092480" y="2409840"/>
            <a:ext cx="1278000" cy="333864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矩形 9"/>
          <p:cNvSpPr/>
          <p:nvPr/>
        </p:nvSpPr>
        <p:spPr>
          <a:xfrm>
            <a:off x="6561000" y="2409840"/>
            <a:ext cx="1276560" cy="333864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矩形 10"/>
          <p:cNvSpPr/>
          <p:nvPr/>
        </p:nvSpPr>
        <p:spPr>
          <a:xfrm>
            <a:off x="9028080" y="2409840"/>
            <a:ext cx="1276560" cy="333864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7"/>
          <p:cNvSpPr/>
          <p:nvPr/>
        </p:nvSpPr>
        <p:spPr>
          <a:xfrm>
            <a:off x="1654200" y="2567160"/>
            <a:ext cx="124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场下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17"/>
          <p:cNvSpPr/>
          <p:nvPr/>
        </p:nvSpPr>
        <p:spPr>
          <a:xfrm>
            <a:off x="4122720" y="2567160"/>
            <a:ext cx="124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兰场上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18"/>
          <p:cNvSpPr/>
          <p:nvPr/>
        </p:nvSpPr>
        <p:spPr>
          <a:xfrm>
            <a:off x="6589800" y="2567160"/>
            <a:ext cx="124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场下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19"/>
          <p:cNvSpPr/>
          <p:nvPr/>
        </p:nvSpPr>
        <p:spPr>
          <a:xfrm>
            <a:off x="9056520" y="2567160"/>
            <a:ext cx="124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广场上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矩形 20"/>
          <p:cNvSpPr/>
          <p:nvPr/>
        </p:nvSpPr>
        <p:spPr>
          <a:xfrm>
            <a:off x="1930320" y="5365800"/>
            <a:ext cx="696960" cy="32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矩形 21"/>
          <p:cNvSpPr/>
          <p:nvPr/>
        </p:nvSpPr>
        <p:spPr>
          <a:xfrm>
            <a:off x="6865920" y="3213000"/>
            <a:ext cx="695520" cy="2476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矩形 22"/>
          <p:cNvSpPr/>
          <p:nvPr/>
        </p:nvSpPr>
        <p:spPr>
          <a:xfrm>
            <a:off x="4383000" y="3665520"/>
            <a:ext cx="696960" cy="2008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矩形 23"/>
          <p:cNvSpPr/>
          <p:nvPr/>
        </p:nvSpPr>
        <p:spPr>
          <a:xfrm>
            <a:off x="9333000" y="5200560"/>
            <a:ext cx="696960" cy="49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矩形 25"/>
          <p:cNvSpPr/>
          <p:nvPr/>
        </p:nvSpPr>
        <p:spPr>
          <a:xfrm>
            <a:off x="1625760" y="5979960"/>
            <a:ext cx="8678880" cy="5652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生成的到发线运用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文本框 24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案例验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8199"/>
          <p:cNvSpPr/>
          <p:nvPr/>
        </p:nvSpPr>
        <p:spPr>
          <a:xfrm>
            <a:off x="93600" y="2111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Straight Connector 131"/>
          <p:cNvSpPr/>
          <p:nvPr/>
        </p:nvSpPr>
        <p:spPr>
          <a:xfrm>
            <a:off x="0" y="955800"/>
            <a:ext cx="1219212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TextBox 97"/>
          <p:cNvSpPr/>
          <p:nvPr/>
        </p:nvSpPr>
        <p:spPr>
          <a:xfrm>
            <a:off x="4489560" y="157320"/>
            <a:ext cx="321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主要结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矩形 7"/>
          <p:cNvSpPr/>
          <p:nvPr/>
        </p:nvSpPr>
        <p:spPr>
          <a:xfrm>
            <a:off x="662040" y="1481040"/>
            <a:ext cx="10868040" cy="138600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了高速铁路枢纽站到发线运用计划编制多目标优化模型，并提出免疫克隆选择算法进行求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矩形 8"/>
          <p:cNvSpPr/>
          <p:nvPr/>
        </p:nvSpPr>
        <p:spPr>
          <a:xfrm>
            <a:off x="662040" y="3208320"/>
            <a:ext cx="10868040" cy="138420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了基于分层赋时着色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tri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的高速铁路枢纽站到发线运用计划仿真评价模型，实现对到发线运用计划的评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矩形 9"/>
          <p:cNvSpPr/>
          <p:nvPr/>
        </p:nvSpPr>
        <p:spPr>
          <a:xfrm>
            <a:off x="662040" y="4933800"/>
            <a:ext cx="10868040" cy="138600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了基于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#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高速铁路枢纽站到发线运用计划编制与评价一体化系统，实现到发线运用计划编制与评价的有机统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文本框 10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87F4-1BF6-4554-94B9-9D04508056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97"/>
          <p:cNvSpPr/>
          <p:nvPr/>
        </p:nvSpPr>
        <p:spPr>
          <a:xfrm>
            <a:off x="3222720" y="82548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提出研究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97"/>
          <p:cNvSpPr/>
          <p:nvPr/>
        </p:nvSpPr>
        <p:spPr>
          <a:xfrm>
            <a:off x="3222720" y="193500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研究对象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97"/>
          <p:cNvSpPr/>
          <p:nvPr/>
        </p:nvSpPr>
        <p:spPr>
          <a:xfrm>
            <a:off x="3222720" y="304632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型与算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97"/>
          <p:cNvSpPr/>
          <p:nvPr/>
        </p:nvSpPr>
        <p:spPr>
          <a:xfrm>
            <a:off x="3222720" y="4156200"/>
            <a:ext cx="7518240" cy="92844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仿真与评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97"/>
          <p:cNvSpPr/>
          <p:nvPr/>
        </p:nvSpPr>
        <p:spPr>
          <a:xfrm>
            <a:off x="3222720" y="526716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案例验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\\MAGNUM\Projects\Microsoft\Cloud Power FY12\Design\ICONS_PNG\Open_Web_Platform.png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2141640" y="874800"/>
            <a:ext cx="826920" cy="828720"/>
          </a:xfrm>
          <a:prstGeom prst="rect">
            <a:avLst/>
          </a:prstGeom>
          <a:ln w="0">
            <a:noFill/>
          </a:ln>
        </p:spPr>
      </p:pic>
      <p:grpSp>
        <p:nvGrpSpPr>
          <p:cNvPr id="109" name="组合 9"/>
          <p:cNvGrpSpPr/>
          <p:nvPr/>
        </p:nvGrpSpPr>
        <p:grpSpPr>
          <a:xfrm>
            <a:off x="1922400" y="1754280"/>
            <a:ext cx="1258920" cy="1298520"/>
            <a:chOff x="1922400" y="1754280"/>
            <a:chExt cx="1258920" cy="1298520"/>
          </a:xfrm>
        </p:grpSpPr>
        <p:sp>
          <p:nvSpPr>
            <p:cNvPr id="110" name="矩形 10"/>
            <p:cNvSpPr/>
            <p:nvPr/>
          </p:nvSpPr>
          <p:spPr>
            <a:xfrm>
              <a:off x="1922400" y="1754280"/>
              <a:ext cx="125892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Group 2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112" name="Freeform 22"/>
          <p:cNvSpPr/>
          <p:nvPr/>
        </p:nvSpPr>
        <p:spPr>
          <a:xfrm>
            <a:off x="2254320" y="3233880"/>
            <a:ext cx="611280" cy="628560"/>
          </a:xfrm>
          <a:custGeom>
            <a:avLst/>
            <a:gdLst/>
            <a:ahLst/>
            <a:rect l="l" t="t" r="r" b="b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8" descr=""/>
          <p:cNvPicPr/>
          <p:nvPr/>
        </p:nvPicPr>
        <p:blipFill>
          <a:blip r:embed="rId2"/>
          <a:stretch/>
        </p:blipFill>
        <p:spPr>
          <a:xfrm>
            <a:off x="2220840" y="4332240"/>
            <a:ext cx="679680" cy="577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\\MAGNUM\Projects\Microsoft\Cloud Power FY12\Design\Icons\PNGs\Self_Service.png"/>
          <p:cNvPicPr/>
          <p:nvPr/>
        </p:nvPicPr>
        <p:blipFill>
          <a:blip r:embed="rId3"/>
          <a:stretch/>
        </p:blipFill>
        <p:spPr>
          <a:xfrm>
            <a:off x="2125800" y="5305320"/>
            <a:ext cx="852480" cy="8524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97"/>
          <p:cNvSpPr/>
          <p:nvPr/>
        </p:nvSpPr>
        <p:spPr>
          <a:xfrm>
            <a:off x="3222720" y="825480"/>
            <a:ext cx="7518240" cy="928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矩形 1"/>
          <p:cNvSpPr/>
          <p:nvPr/>
        </p:nvSpPr>
        <p:spPr>
          <a:xfrm>
            <a:off x="3024360" y="2205000"/>
            <a:ext cx="9167760" cy="21049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6"/>
          <p:cNvSpPr/>
          <p:nvPr/>
        </p:nvSpPr>
        <p:spPr>
          <a:xfrm>
            <a:off x="3024360" y="2657520"/>
            <a:ext cx="682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感谢各位老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7" name="组合 6"/>
          <p:cNvGrpSpPr/>
          <p:nvPr/>
        </p:nvGrpSpPr>
        <p:grpSpPr>
          <a:xfrm>
            <a:off x="0" y="2205000"/>
            <a:ext cx="2104920" cy="2104920"/>
            <a:chOff x="0" y="2205000"/>
            <a:chExt cx="2104920" cy="2104920"/>
          </a:xfrm>
        </p:grpSpPr>
        <p:sp>
          <p:nvSpPr>
            <p:cNvPr id="948" name="矩形 5"/>
            <p:cNvSpPr/>
            <p:nvPr/>
          </p:nvSpPr>
          <p:spPr>
            <a:xfrm>
              <a:off x="0" y="2205000"/>
              <a:ext cx="2104920" cy="2104920"/>
            </a:xfrm>
            <a:prstGeom prst="rect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9" name="Picture 29" descr=""/>
            <p:cNvPicPr/>
            <p:nvPr/>
          </p:nvPicPr>
          <p:blipFill>
            <a:blip r:embed="rId1"/>
            <a:stretch/>
          </p:blipFill>
          <p:spPr>
            <a:xfrm>
              <a:off x="0" y="2205000"/>
              <a:ext cx="210492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0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5" dur="75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83"/>
          <p:cNvSpPr/>
          <p:nvPr/>
        </p:nvSpPr>
        <p:spPr>
          <a:xfrm>
            <a:off x="1116000" y="1038240"/>
            <a:ext cx="8928000" cy="5711760"/>
          </a:xfrm>
          <a:prstGeom prst="rect">
            <a:avLst/>
          </a:prstGeom>
          <a:solidFill>
            <a:srgbClr val="2391d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\\MAGNUM\Projects\Microsoft\Cloud Power FY12\Design\ICONS_PNG\Open_Web_Platform.png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10976040" y="279360"/>
            <a:ext cx="1073160" cy="1073160"/>
          </a:xfrm>
          <a:prstGeom prst="rect">
            <a:avLst/>
          </a:prstGeom>
          <a:ln w="0">
            <a:noFill/>
          </a:ln>
        </p:spPr>
      </p:pic>
      <p:sp>
        <p:nvSpPr>
          <p:cNvPr id="119" name="任意多边形 8"/>
          <p:cNvSpPr/>
          <p:nvPr/>
        </p:nvSpPr>
        <p:spPr>
          <a:xfrm>
            <a:off x="3800520" y="1552680"/>
            <a:ext cx="3585960" cy="1333440"/>
          </a:xfrm>
          <a:custGeom>
            <a:avLst/>
            <a:gdLst/>
            <a:ahLst/>
            <a:rect l="l" t="t" r="r" b="b"/>
            <a:pathLst>
              <a:path w="3586165" h="1333500">
                <a:moveTo>
                  <a:pt x="0" y="0"/>
                </a:moveTo>
                <a:cubicBezTo>
                  <a:pt x="3175" y="7938"/>
                  <a:pt x="8119" y="15380"/>
                  <a:pt x="9525" y="23813"/>
                </a:cubicBezTo>
                <a:cubicBezTo>
                  <a:pt x="12928" y="44230"/>
                  <a:pt x="7132" y="66303"/>
                  <a:pt x="14288" y="85725"/>
                </a:cubicBezTo>
                <a:cubicBezTo>
                  <a:pt x="18945" y="98365"/>
                  <a:pt x="35391" y="103092"/>
                  <a:pt x="42863" y="114300"/>
                </a:cubicBezTo>
                <a:cubicBezTo>
                  <a:pt x="46038" y="119063"/>
                  <a:pt x="47918" y="125012"/>
                  <a:pt x="52388" y="128588"/>
                </a:cubicBezTo>
                <a:cubicBezTo>
                  <a:pt x="56308" y="131724"/>
                  <a:pt x="61913" y="131763"/>
                  <a:pt x="66675" y="133350"/>
                </a:cubicBezTo>
                <a:cubicBezTo>
                  <a:pt x="76200" y="139700"/>
                  <a:pt x="91630" y="141540"/>
                  <a:pt x="95250" y="152400"/>
                </a:cubicBezTo>
                <a:cubicBezTo>
                  <a:pt x="106585" y="186405"/>
                  <a:pt x="96421" y="175406"/>
                  <a:pt x="119063" y="190500"/>
                </a:cubicBezTo>
                <a:cubicBezTo>
                  <a:pt x="120650" y="195263"/>
                  <a:pt x="120689" y="200868"/>
                  <a:pt x="123825" y="204788"/>
                </a:cubicBezTo>
                <a:cubicBezTo>
                  <a:pt x="134902" y="218634"/>
                  <a:pt x="152970" y="214692"/>
                  <a:pt x="166688" y="223838"/>
                </a:cubicBezTo>
                <a:lnTo>
                  <a:pt x="195263" y="242888"/>
                </a:lnTo>
                <a:cubicBezTo>
                  <a:pt x="198438" y="247650"/>
                  <a:pt x="201124" y="252778"/>
                  <a:pt x="204788" y="257175"/>
                </a:cubicBezTo>
                <a:cubicBezTo>
                  <a:pt x="218484" y="273610"/>
                  <a:pt x="230102" y="275968"/>
                  <a:pt x="238125" y="300038"/>
                </a:cubicBezTo>
                <a:lnTo>
                  <a:pt x="257175" y="357188"/>
                </a:lnTo>
                <a:lnTo>
                  <a:pt x="266700" y="385763"/>
                </a:lnTo>
                <a:cubicBezTo>
                  <a:pt x="268287" y="390525"/>
                  <a:pt x="268678" y="395873"/>
                  <a:pt x="271463" y="400050"/>
                </a:cubicBezTo>
                <a:lnTo>
                  <a:pt x="280988" y="414338"/>
                </a:lnTo>
                <a:lnTo>
                  <a:pt x="295275" y="457200"/>
                </a:lnTo>
                <a:lnTo>
                  <a:pt x="300038" y="471488"/>
                </a:lnTo>
                <a:cubicBezTo>
                  <a:pt x="298450" y="488950"/>
                  <a:pt x="298949" y="506730"/>
                  <a:pt x="295275" y="523875"/>
                </a:cubicBezTo>
                <a:cubicBezTo>
                  <a:pt x="294076" y="529472"/>
                  <a:pt x="288310" y="533043"/>
                  <a:pt x="285750" y="538163"/>
                </a:cubicBezTo>
                <a:cubicBezTo>
                  <a:pt x="283505" y="542653"/>
                  <a:pt x="283233" y="547960"/>
                  <a:pt x="280988" y="552450"/>
                </a:cubicBezTo>
                <a:cubicBezTo>
                  <a:pt x="262520" y="589386"/>
                  <a:pt x="278674" y="545108"/>
                  <a:pt x="266700" y="581025"/>
                </a:cubicBezTo>
                <a:cubicBezTo>
                  <a:pt x="268288" y="592138"/>
                  <a:pt x="269261" y="603355"/>
                  <a:pt x="271463" y="614363"/>
                </a:cubicBezTo>
                <a:cubicBezTo>
                  <a:pt x="272447" y="619285"/>
                  <a:pt x="273089" y="624730"/>
                  <a:pt x="276225" y="628650"/>
                </a:cubicBezTo>
                <a:cubicBezTo>
                  <a:pt x="284458" y="638941"/>
                  <a:pt x="310357" y="644790"/>
                  <a:pt x="319088" y="647700"/>
                </a:cubicBezTo>
                <a:cubicBezTo>
                  <a:pt x="323850" y="649288"/>
                  <a:pt x="329198" y="649678"/>
                  <a:pt x="333375" y="652463"/>
                </a:cubicBezTo>
                <a:cubicBezTo>
                  <a:pt x="342900" y="658813"/>
                  <a:pt x="351090" y="667893"/>
                  <a:pt x="361950" y="671513"/>
                </a:cubicBezTo>
                <a:cubicBezTo>
                  <a:pt x="410006" y="687529"/>
                  <a:pt x="335437" y="663082"/>
                  <a:pt x="395288" y="681038"/>
                </a:cubicBezTo>
                <a:cubicBezTo>
                  <a:pt x="409713" y="685366"/>
                  <a:pt x="423863" y="690563"/>
                  <a:pt x="438150" y="695325"/>
                </a:cubicBezTo>
                <a:cubicBezTo>
                  <a:pt x="442913" y="696913"/>
                  <a:pt x="447568" y="698871"/>
                  <a:pt x="452438" y="700088"/>
                </a:cubicBezTo>
                <a:cubicBezTo>
                  <a:pt x="458548" y="701615"/>
                  <a:pt x="478938" y="706194"/>
                  <a:pt x="485775" y="709613"/>
                </a:cubicBezTo>
                <a:cubicBezTo>
                  <a:pt x="490895" y="712173"/>
                  <a:pt x="494832" y="716813"/>
                  <a:pt x="500063" y="719138"/>
                </a:cubicBezTo>
                <a:cubicBezTo>
                  <a:pt x="509238" y="723216"/>
                  <a:pt x="519113" y="725488"/>
                  <a:pt x="528638" y="728663"/>
                </a:cubicBezTo>
                <a:lnTo>
                  <a:pt x="542925" y="733425"/>
                </a:lnTo>
                <a:cubicBezTo>
                  <a:pt x="547688" y="736600"/>
                  <a:pt x="553166" y="738903"/>
                  <a:pt x="557213" y="742950"/>
                </a:cubicBezTo>
                <a:cubicBezTo>
                  <a:pt x="561260" y="746997"/>
                  <a:pt x="562430" y="753469"/>
                  <a:pt x="566738" y="757238"/>
                </a:cubicBezTo>
                <a:cubicBezTo>
                  <a:pt x="586893" y="774874"/>
                  <a:pt x="589977" y="774509"/>
                  <a:pt x="609600" y="781050"/>
                </a:cubicBezTo>
                <a:cubicBezTo>
                  <a:pt x="612775" y="785813"/>
                  <a:pt x="614655" y="791762"/>
                  <a:pt x="619125" y="795338"/>
                </a:cubicBezTo>
                <a:cubicBezTo>
                  <a:pt x="623045" y="798474"/>
                  <a:pt x="628923" y="797855"/>
                  <a:pt x="633413" y="800100"/>
                </a:cubicBezTo>
                <a:cubicBezTo>
                  <a:pt x="638532" y="802660"/>
                  <a:pt x="643303" y="805961"/>
                  <a:pt x="647700" y="809625"/>
                </a:cubicBezTo>
                <a:cubicBezTo>
                  <a:pt x="652874" y="813937"/>
                  <a:pt x="656814" y="819601"/>
                  <a:pt x="661988" y="823913"/>
                </a:cubicBezTo>
                <a:cubicBezTo>
                  <a:pt x="666385" y="827577"/>
                  <a:pt x="671878" y="829774"/>
                  <a:pt x="676275" y="833438"/>
                </a:cubicBezTo>
                <a:cubicBezTo>
                  <a:pt x="681449" y="837750"/>
                  <a:pt x="684959" y="843989"/>
                  <a:pt x="690563" y="847725"/>
                </a:cubicBezTo>
                <a:cubicBezTo>
                  <a:pt x="694740" y="850510"/>
                  <a:pt x="700088" y="850900"/>
                  <a:pt x="704850" y="852488"/>
                </a:cubicBezTo>
                <a:lnTo>
                  <a:pt x="733425" y="895350"/>
                </a:lnTo>
                <a:cubicBezTo>
                  <a:pt x="736600" y="900113"/>
                  <a:pt x="741140" y="904208"/>
                  <a:pt x="742950" y="909638"/>
                </a:cubicBezTo>
                <a:cubicBezTo>
                  <a:pt x="746125" y="919163"/>
                  <a:pt x="746906" y="929859"/>
                  <a:pt x="752475" y="938213"/>
                </a:cubicBezTo>
                <a:cubicBezTo>
                  <a:pt x="755650" y="942975"/>
                  <a:pt x="759675" y="947270"/>
                  <a:pt x="762000" y="952500"/>
                </a:cubicBezTo>
                <a:cubicBezTo>
                  <a:pt x="766078" y="961675"/>
                  <a:pt x="765956" y="972721"/>
                  <a:pt x="771525" y="981075"/>
                </a:cubicBezTo>
                <a:cubicBezTo>
                  <a:pt x="793750" y="1014413"/>
                  <a:pt x="781050" y="1003300"/>
                  <a:pt x="804863" y="1019175"/>
                </a:cubicBezTo>
                <a:cubicBezTo>
                  <a:pt x="818008" y="1058611"/>
                  <a:pt x="808818" y="1039395"/>
                  <a:pt x="833438" y="1076325"/>
                </a:cubicBezTo>
                <a:cubicBezTo>
                  <a:pt x="836613" y="1081088"/>
                  <a:pt x="838200" y="1087438"/>
                  <a:pt x="842963" y="1090613"/>
                </a:cubicBezTo>
                <a:cubicBezTo>
                  <a:pt x="847725" y="1093788"/>
                  <a:pt x="852131" y="1097578"/>
                  <a:pt x="857250" y="1100138"/>
                </a:cubicBezTo>
                <a:cubicBezTo>
                  <a:pt x="862259" y="1102642"/>
                  <a:pt x="886862" y="1109324"/>
                  <a:pt x="890588" y="1109663"/>
                </a:cubicBezTo>
                <a:cubicBezTo>
                  <a:pt x="919090" y="1112254"/>
                  <a:pt x="947714" y="1113366"/>
                  <a:pt x="976313" y="1114425"/>
                </a:cubicBezTo>
                <a:lnTo>
                  <a:pt x="1147763" y="1119188"/>
                </a:lnTo>
                <a:lnTo>
                  <a:pt x="1190625" y="1133475"/>
                </a:lnTo>
                <a:lnTo>
                  <a:pt x="1204913" y="1138238"/>
                </a:lnTo>
                <a:lnTo>
                  <a:pt x="1219200" y="1143000"/>
                </a:lnTo>
                <a:cubicBezTo>
                  <a:pt x="1223963" y="1146175"/>
                  <a:pt x="1228257" y="1150200"/>
                  <a:pt x="1233488" y="1152525"/>
                </a:cubicBezTo>
                <a:cubicBezTo>
                  <a:pt x="1242663" y="1156603"/>
                  <a:pt x="1252538" y="1158875"/>
                  <a:pt x="1262063" y="1162050"/>
                </a:cubicBezTo>
                <a:lnTo>
                  <a:pt x="1290638" y="1171575"/>
                </a:lnTo>
                <a:lnTo>
                  <a:pt x="1333500" y="1185863"/>
                </a:lnTo>
                <a:lnTo>
                  <a:pt x="1347788" y="1190625"/>
                </a:lnTo>
                <a:cubicBezTo>
                  <a:pt x="1352550" y="1192212"/>
                  <a:pt x="1357060" y="1195160"/>
                  <a:pt x="1362075" y="1195388"/>
                </a:cubicBezTo>
                <a:lnTo>
                  <a:pt x="1466850" y="1200150"/>
                </a:lnTo>
                <a:cubicBezTo>
                  <a:pt x="1487614" y="1207071"/>
                  <a:pt x="1494620" y="1206622"/>
                  <a:pt x="1509713" y="1219200"/>
                </a:cubicBezTo>
                <a:cubicBezTo>
                  <a:pt x="1514887" y="1223512"/>
                  <a:pt x="1518112" y="1230217"/>
                  <a:pt x="1524000" y="1233488"/>
                </a:cubicBezTo>
                <a:cubicBezTo>
                  <a:pt x="1532777" y="1238364"/>
                  <a:pt x="1544221" y="1237444"/>
                  <a:pt x="1552575" y="1243013"/>
                </a:cubicBezTo>
                <a:cubicBezTo>
                  <a:pt x="1557338" y="1246188"/>
                  <a:pt x="1561632" y="1250213"/>
                  <a:pt x="1566863" y="1252538"/>
                </a:cubicBezTo>
                <a:cubicBezTo>
                  <a:pt x="1566873" y="1252542"/>
                  <a:pt x="1602576" y="1264442"/>
                  <a:pt x="1609725" y="1266825"/>
                </a:cubicBezTo>
                <a:lnTo>
                  <a:pt x="1695450" y="1295400"/>
                </a:lnTo>
                <a:cubicBezTo>
                  <a:pt x="1743482" y="1311411"/>
                  <a:pt x="1668968" y="1286980"/>
                  <a:pt x="1728788" y="1304925"/>
                </a:cubicBezTo>
                <a:cubicBezTo>
                  <a:pt x="1738405" y="1307810"/>
                  <a:pt x="1747623" y="1312015"/>
                  <a:pt x="1757363" y="1314450"/>
                </a:cubicBezTo>
                <a:cubicBezTo>
                  <a:pt x="1770063" y="1317625"/>
                  <a:pt x="1783044" y="1319835"/>
                  <a:pt x="1795463" y="1323975"/>
                </a:cubicBezTo>
                <a:lnTo>
                  <a:pt x="1824038" y="1333500"/>
                </a:lnTo>
                <a:cubicBezTo>
                  <a:pt x="1881188" y="1331913"/>
                  <a:pt x="1938391" y="1331666"/>
                  <a:pt x="1995488" y="1328738"/>
                </a:cubicBezTo>
                <a:cubicBezTo>
                  <a:pt x="2009107" y="1328040"/>
                  <a:pt x="2031886" y="1309235"/>
                  <a:pt x="2038350" y="1304925"/>
                </a:cubicBezTo>
                <a:cubicBezTo>
                  <a:pt x="2043113" y="1301750"/>
                  <a:pt x="2047208" y="1297210"/>
                  <a:pt x="2052638" y="1295400"/>
                </a:cubicBezTo>
                <a:lnTo>
                  <a:pt x="2109788" y="1276350"/>
                </a:lnTo>
                <a:lnTo>
                  <a:pt x="2124075" y="1271588"/>
                </a:lnTo>
                <a:cubicBezTo>
                  <a:pt x="2128838" y="1270000"/>
                  <a:pt x="2133349" y="1267076"/>
                  <a:pt x="2138363" y="1266825"/>
                </a:cubicBezTo>
                <a:lnTo>
                  <a:pt x="2233613" y="1262063"/>
                </a:lnTo>
                <a:cubicBezTo>
                  <a:pt x="2249488" y="1260475"/>
                  <a:pt x="2265444" y="1259556"/>
                  <a:pt x="2281238" y="1257300"/>
                </a:cubicBezTo>
                <a:cubicBezTo>
                  <a:pt x="2287718" y="1256374"/>
                  <a:pt x="2294019" y="1254419"/>
                  <a:pt x="2300288" y="1252538"/>
                </a:cubicBezTo>
                <a:cubicBezTo>
                  <a:pt x="2300355" y="1252518"/>
                  <a:pt x="2335973" y="1240642"/>
                  <a:pt x="2343150" y="1238250"/>
                </a:cubicBezTo>
                <a:cubicBezTo>
                  <a:pt x="2347913" y="1236662"/>
                  <a:pt x="2352468" y="1234198"/>
                  <a:pt x="2357438" y="1233488"/>
                </a:cubicBezTo>
                <a:cubicBezTo>
                  <a:pt x="2368550" y="1231900"/>
                  <a:pt x="2379703" y="1230570"/>
                  <a:pt x="2390775" y="1228725"/>
                </a:cubicBezTo>
                <a:cubicBezTo>
                  <a:pt x="2398760" y="1227394"/>
                  <a:pt x="2406603" y="1225294"/>
                  <a:pt x="2414588" y="1223963"/>
                </a:cubicBezTo>
                <a:cubicBezTo>
                  <a:pt x="2425660" y="1222118"/>
                  <a:pt x="2436918" y="1221402"/>
                  <a:pt x="2447925" y="1219200"/>
                </a:cubicBezTo>
                <a:cubicBezTo>
                  <a:pt x="2460762" y="1216633"/>
                  <a:pt x="2486025" y="1209675"/>
                  <a:pt x="2486025" y="1209675"/>
                </a:cubicBezTo>
                <a:cubicBezTo>
                  <a:pt x="2495550" y="1203325"/>
                  <a:pt x="2506505" y="1198719"/>
                  <a:pt x="2514600" y="1190625"/>
                </a:cubicBezTo>
                <a:cubicBezTo>
                  <a:pt x="2519363" y="1185863"/>
                  <a:pt x="2523284" y="1180074"/>
                  <a:pt x="2528888" y="1176338"/>
                </a:cubicBezTo>
                <a:cubicBezTo>
                  <a:pt x="2533065" y="1173553"/>
                  <a:pt x="2538787" y="1174013"/>
                  <a:pt x="2543175" y="1171575"/>
                </a:cubicBezTo>
                <a:cubicBezTo>
                  <a:pt x="2553182" y="1166015"/>
                  <a:pt x="2562225" y="1158875"/>
                  <a:pt x="2571750" y="1152525"/>
                </a:cubicBezTo>
                <a:lnTo>
                  <a:pt x="2586038" y="1143000"/>
                </a:lnTo>
                <a:cubicBezTo>
                  <a:pt x="2589213" y="1138238"/>
                  <a:pt x="2593003" y="1133832"/>
                  <a:pt x="2595563" y="1128713"/>
                </a:cubicBezTo>
                <a:cubicBezTo>
                  <a:pt x="2603151" y="1113537"/>
                  <a:pt x="2599350" y="1095862"/>
                  <a:pt x="2619375" y="1085850"/>
                </a:cubicBezTo>
                <a:cubicBezTo>
                  <a:pt x="2625725" y="1082675"/>
                  <a:pt x="2632648" y="1080451"/>
                  <a:pt x="2638425" y="1076325"/>
                </a:cubicBezTo>
                <a:cubicBezTo>
                  <a:pt x="2643906" y="1072410"/>
                  <a:pt x="2646825" y="1065309"/>
                  <a:pt x="2652713" y="1062038"/>
                </a:cubicBezTo>
                <a:cubicBezTo>
                  <a:pt x="2661490" y="1057162"/>
                  <a:pt x="2671763" y="1055688"/>
                  <a:pt x="2681288" y="1052513"/>
                </a:cubicBezTo>
                <a:lnTo>
                  <a:pt x="2695575" y="1047750"/>
                </a:lnTo>
                <a:cubicBezTo>
                  <a:pt x="2708833" y="1027863"/>
                  <a:pt x="2707293" y="1037470"/>
                  <a:pt x="2700338" y="1009650"/>
                </a:cubicBezTo>
                <a:cubicBezTo>
                  <a:pt x="2699120" y="1004780"/>
                  <a:pt x="2699125" y="998913"/>
                  <a:pt x="2695575" y="995363"/>
                </a:cubicBezTo>
                <a:cubicBezTo>
                  <a:pt x="2692025" y="991813"/>
                  <a:pt x="2686050" y="992188"/>
                  <a:pt x="2681288" y="990600"/>
                </a:cubicBezTo>
                <a:lnTo>
                  <a:pt x="2662238" y="962025"/>
                </a:lnTo>
                <a:cubicBezTo>
                  <a:pt x="2659063" y="957263"/>
                  <a:pt x="2654523" y="953168"/>
                  <a:pt x="2652713" y="947738"/>
                </a:cubicBezTo>
                <a:lnTo>
                  <a:pt x="2647950" y="933450"/>
                </a:lnTo>
                <a:cubicBezTo>
                  <a:pt x="2656334" y="908303"/>
                  <a:pt x="2649928" y="923341"/>
                  <a:pt x="2671763" y="890588"/>
                </a:cubicBezTo>
                <a:cubicBezTo>
                  <a:pt x="2674938" y="885825"/>
                  <a:pt x="2675858" y="878110"/>
                  <a:pt x="2681288" y="876300"/>
                </a:cubicBezTo>
                <a:cubicBezTo>
                  <a:pt x="2690813" y="873125"/>
                  <a:pt x="2701509" y="872344"/>
                  <a:pt x="2709863" y="866775"/>
                </a:cubicBezTo>
                <a:cubicBezTo>
                  <a:pt x="2714625" y="863600"/>
                  <a:pt x="2719031" y="859810"/>
                  <a:pt x="2724150" y="857250"/>
                </a:cubicBezTo>
                <a:cubicBezTo>
                  <a:pt x="2732147" y="853252"/>
                  <a:pt x="2749867" y="850011"/>
                  <a:pt x="2757488" y="847725"/>
                </a:cubicBezTo>
                <a:cubicBezTo>
                  <a:pt x="2767105" y="844840"/>
                  <a:pt x="2786063" y="838200"/>
                  <a:pt x="2786063" y="838200"/>
                </a:cubicBezTo>
                <a:cubicBezTo>
                  <a:pt x="2800350" y="839788"/>
                  <a:pt x="2814829" y="840144"/>
                  <a:pt x="2828925" y="842963"/>
                </a:cubicBezTo>
                <a:cubicBezTo>
                  <a:pt x="2838770" y="844932"/>
                  <a:pt x="2847759" y="850053"/>
                  <a:pt x="2857500" y="852488"/>
                </a:cubicBezTo>
                <a:cubicBezTo>
                  <a:pt x="2884403" y="859213"/>
                  <a:pt x="2870132" y="855966"/>
                  <a:pt x="2900363" y="862013"/>
                </a:cubicBezTo>
                <a:cubicBezTo>
                  <a:pt x="2919413" y="860425"/>
                  <a:pt x="2938565" y="859776"/>
                  <a:pt x="2957513" y="857250"/>
                </a:cubicBezTo>
                <a:cubicBezTo>
                  <a:pt x="2962489" y="856587"/>
                  <a:pt x="2967543" y="855149"/>
                  <a:pt x="2971800" y="852488"/>
                </a:cubicBezTo>
                <a:cubicBezTo>
                  <a:pt x="2980420" y="847101"/>
                  <a:pt x="2987392" y="839417"/>
                  <a:pt x="2995613" y="833438"/>
                </a:cubicBezTo>
                <a:cubicBezTo>
                  <a:pt x="3004871" y="826705"/>
                  <a:pt x="3016094" y="822483"/>
                  <a:pt x="3024188" y="814388"/>
                </a:cubicBezTo>
                <a:cubicBezTo>
                  <a:pt x="3042522" y="796052"/>
                  <a:pt x="3032871" y="803836"/>
                  <a:pt x="3052763" y="790575"/>
                </a:cubicBezTo>
                <a:cubicBezTo>
                  <a:pt x="3055938" y="785813"/>
                  <a:pt x="3058241" y="780335"/>
                  <a:pt x="3062288" y="776288"/>
                </a:cubicBezTo>
                <a:cubicBezTo>
                  <a:pt x="3066335" y="772241"/>
                  <a:pt x="3072806" y="771071"/>
                  <a:pt x="3076575" y="766763"/>
                </a:cubicBezTo>
                <a:cubicBezTo>
                  <a:pt x="3084113" y="758148"/>
                  <a:pt x="3086100" y="744538"/>
                  <a:pt x="3095625" y="738188"/>
                </a:cubicBezTo>
                <a:lnTo>
                  <a:pt x="3152775" y="700088"/>
                </a:lnTo>
                <a:lnTo>
                  <a:pt x="3181350" y="681038"/>
                </a:lnTo>
                <a:cubicBezTo>
                  <a:pt x="3199685" y="662703"/>
                  <a:pt x="3190034" y="670486"/>
                  <a:pt x="3209925" y="657225"/>
                </a:cubicBezTo>
                <a:cubicBezTo>
                  <a:pt x="3216275" y="647700"/>
                  <a:pt x="3219450" y="635000"/>
                  <a:pt x="3228975" y="628650"/>
                </a:cubicBezTo>
                <a:cubicBezTo>
                  <a:pt x="3265902" y="604032"/>
                  <a:pt x="3246692" y="613219"/>
                  <a:pt x="3286125" y="600075"/>
                </a:cubicBezTo>
                <a:cubicBezTo>
                  <a:pt x="3290888" y="598488"/>
                  <a:pt x="3295543" y="596531"/>
                  <a:pt x="3300413" y="595313"/>
                </a:cubicBezTo>
                <a:lnTo>
                  <a:pt x="3338513" y="585788"/>
                </a:lnTo>
                <a:cubicBezTo>
                  <a:pt x="3343275" y="582613"/>
                  <a:pt x="3347570" y="578588"/>
                  <a:pt x="3352800" y="576263"/>
                </a:cubicBezTo>
                <a:cubicBezTo>
                  <a:pt x="3362964" y="571745"/>
                  <a:pt x="3392565" y="562606"/>
                  <a:pt x="3405188" y="561975"/>
                </a:cubicBezTo>
                <a:cubicBezTo>
                  <a:pt x="3460704" y="559199"/>
                  <a:pt x="3516313" y="558800"/>
                  <a:pt x="3571875" y="557213"/>
                </a:cubicBezTo>
                <a:cubicBezTo>
                  <a:pt x="3579651" y="545548"/>
                  <a:pt x="3586163" y="539251"/>
                  <a:pt x="3586163" y="523875"/>
                </a:cubicBezTo>
                <a:cubicBezTo>
                  <a:pt x="3586163" y="503177"/>
                  <a:pt x="3586420" y="482043"/>
                  <a:pt x="3581400" y="461963"/>
                </a:cubicBezTo>
                <a:cubicBezTo>
                  <a:pt x="3579766" y="455429"/>
                  <a:pt x="3572429" y="451810"/>
                  <a:pt x="3567113" y="447675"/>
                </a:cubicBezTo>
                <a:cubicBezTo>
                  <a:pt x="3547302" y="432266"/>
                  <a:pt x="3543723" y="429427"/>
                  <a:pt x="3524250" y="423863"/>
                </a:cubicBezTo>
                <a:cubicBezTo>
                  <a:pt x="3517956" y="422065"/>
                  <a:pt x="3511550" y="420688"/>
                  <a:pt x="3505200" y="419100"/>
                </a:cubicBezTo>
                <a:cubicBezTo>
                  <a:pt x="3500438" y="415925"/>
                  <a:pt x="3496174" y="411830"/>
                  <a:pt x="3490913" y="409575"/>
                </a:cubicBezTo>
                <a:cubicBezTo>
                  <a:pt x="3443053" y="389064"/>
                  <a:pt x="3507323" y="427306"/>
                  <a:pt x="3443288" y="395288"/>
                </a:cubicBezTo>
                <a:cubicBezTo>
                  <a:pt x="3436938" y="392113"/>
                  <a:pt x="3430830" y="388400"/>
                  <a:pt x="3424238" y="385763"/>
                </a:cubicBezTo>
                <a:cubicBezTo>
                  <a:pt x="3414916" y="382034"/>
                  <a:pt x="3405188" y="379413"/>
                  <a:pt x="3395663" y="376238"/>
                </a:cubicBezTo>
                <a:lnTo>
                  <a:pt x="3381375" y="371475"/>
                </a:lnTo>
                <a:cubicBezTo>
                  <a:pt x="3365500" y="373063"/>
                  <a:pt x="3349544" y="373982"/>
                  <a:pt x="3333750" y="376238"/>
                </a:cubicBezTo>
                <a:cubicBezTo>
                  <a:pt x="3327270" y="377164"/>
                  <a:pt x="3321229" y="380534"/>
                  <a:pt x="3314700" y="381000"/>
                </a:cubicBezTo>
                <a:cubicBezTo>
                  <a:pt x="3276664" y="383717"/>
                  <a:pt x="3238500" y="384175"/>
                  <a:pt x="3200400" y="385763"/>
                </a:cubicBezTo>
                <a:cubicBezTo>
                  <a:pt x="3194050" y="387350"/>
                  <a:pt x="3187895" y="390525"/>
                  <a:pt x="3181350" y="390525"/>
                </a:cubicBezTo>
                <a:cubicBezTo>
                  <a:pt x="3129872" y="390525"/>
                  <a:pt x="3135329" y="391060"/>
                  <a:pt x="3105150" y="381000"/>
                </a:cubicBezTo>
                <a:cubicBezTo>
                  <a:pt x="3106738" y="366713"/>
                  <a:pt x="3105367" y="351776"/>
                  <a:pt x="3109913" y="338138"/>
                </a:cubicBezTo>
                <a:cubicBezTo>
                  <a:pt x="3113533" y="327278"/>
                  <a:pt x="3128963" y="309563"/>
                  <a:pt x="3128963" y="309563"/>
                </a:cubicBezTo>
                <a:cubicBezTo>
                  <a:pt x="3132138" y="300038"/>
                  <a:pt x="3137068" y="290927"/>
                  <a:pt x="3138488" y="280988"/>
                </a:cubicBezTo>
                <a:cubicBezTo>
                  <a:pt x="3139672" y="272699"/>
                  <a:pt x="3141617" y="244875"/>
                  <a:pt x="3148013" y="233363"/>
                </a:cubicBezTo>
                <a:cubicBezTo>
                  <a:pt x="3153573" y="223356"/>
                  <a:pt x="3157538" y="211138"/>
                  <a:pt x="3167063" y="204788"/>
                </a:cubicBezTo>
                <a:cubicBezTo>
                  <a:pt x="3208006" y="177492"/>
                  <a:pt x="3156204" y="210218"/>
                  <a:pt x="3195638" y="190500"/>
                </a:cubicBezTo>
                <a:cubicBezTo>
                  <a:pt x="3200757" y="187940"/>
                  <a:pt x="3205163" y="184150"/>
                  <a:pt x="3209925" y="180975"/>
                </a:cubicBezTo>
                <a:lnTo>
                  <a:pt x="3228975" y="152400"/>
                </a:lnTo>
                <a:cubicBezTo>
                  <a:pt x="3232150" y="147638"/>
                  <a:pt x="3234453" y="142160"/>
                  <a:pt x="3238500" y="138113"/>
                </a:cubicBezTo>
                <a:lnTo>
                  <a:pt x="3248025" y="128588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任意多边形 9"/>
          <p:cNvSpPr/>
          <p:nvPr/>
        </p:nvSpPr>
        <p:spPr>
          <a:xfrm>
            <a:off x="7053120" y="1100160"/>
            <a:ext cx="2028960" cy="1871640"/>
          </a:xfrm>
          <a:custGeom>
            <a:avLst/>
            <a:gdLst/>
            <a:ahLst/>
            <a:rect l="l" t="t" r="r" b="b"/>
            <a:pathLst>
              <a:path w="2029078" h="1871662">
                <a:moveTo>
                  <a:pt x="0" y="585787"/>
                </a:moveTo>
                <a:cubicBezTo>
                  <a:pt x="60325" y="584200"/>
                  <a:pt x="120790" y="585429"/>
                  <a:pt x="180975" y="581025"/>
                </a:cubicBezTo>
                <a:cubicBezTo>
                  <a:pt x="186683" y="580607"/>
                  <a:pt x="192229" y="576354"/>
                  <a:pt x="195262" y="571500"/>
                </a:cubicBezTo>
                <a:cubicBezTo>
                  <a:pt x="201217" y="561973"/>
                  <a:pt x="206029" y="536200"/>
                  <a:pt x="209550" y="523875"/>
                </a:cubicBezTo>
                <a:cubicBezTo>
                  <a:pt x="214342" y="507104"/>
                  <a:pt x="219714" y="494660"/>
                  <a:pt x="233362" y="481012"/>
                </a:cubicBezTo>
                <a:cubicBezTo>
                  <a:pt x="242887" y="471487"/>
                  <a:pt x="254465" y="463645"/>
                  <a:pt x="261937" y="452437"/>
                </a:cubicBezTo>
                <a:cubicBezTo>
                  <a:pt x="265112" y="447675"/>
                  <a:pt x="268902" y="443269"/>
                  <a:pt x="271462" y="438150"/>
                </a:cubicBezTo>
                <a:cubicBezTo>
                  <a:pt x="273707" y="433660"/>
                  <a:pt x="273440" y="428039"/>
                  <a:pt x="276225" y="423862"/>
                </a:cubicBezTo>
                <a:cubicBezTo>
                  <a:pt x="279961" y="418258"/>
                  <a:pt x="285750" y="414337"/>
                  <a:pt x="290512" y="409575"/>
                </a:cubicBezTo>
                <a:cubicBezTo>
                  <a:pt x="298895" y="384427"/>
                  <a:pt x="292490" y="399463"/>
                  <a:pt x="314325" y="366712"/>
                </a:cubicBezTo>
                <a:lnTo>
                  <a:pt x="323850" y="352425"/>
                </a:lnTo>
                <a:lnTo>
                  <a:pt x="333375" y="338137"/>
                </a:lnTo>
                <a:cubicBezTo>
                  <a:pt x="344710" y="304132"/>
                  <a:pt x="337331" y="317916"/>
                  <a:pt x="352425" y="295275"/>
                </a:cubicBezTo>
                <a:cubicBezTo>
                  <a:pt x="364392" y="259368"/>
                  <a:pt x="348251" y="303622"/>
                  <a:pt x="366712" y="266700"/>
                </a:cubicBezTo>
                <a:cubicBezTo>
                  <a:pt x="368957" y="262210"/>
                  <a:pt x="369037" y="256801"/>
                  <a:pt x="371475" y="252412"/>
                </a:cubicBezTo>
                <a:cubicBezTo>
                  <a:pt x="377034" y="242405"/>
                  <a:pt x="390525" y="223837"/>
                  <a:pt x="390525" y="223837"/>
                </a:cubicBezTo>
                <a:cubicBezTo>
                  <a:pt x="392112" y="219075"/>
                  <a:pt x="395287" y="214570"/>
                  <a:pt x="395287" y="209550"/>
                </a:cubicBezTo>
                <a:cubicBezTo>
                  <a:pt x="395287" y="193596"/>
                  <a:pt x="395570" y="177060"/>
                  <a:pt x="390525" y="161925"/>
                </a:cubicBezTo>
                <a:cubicBezTo>
                  <a:pt x="388715" y="156495"/>
                  <a:pt x="381759" y="153906"/>
                  <a:pt x="376237" y="152400"/>
                </a:cubicBezTo>
                <a:cubicBezTo>
                  <a:pt x="368425" y="150269"/>
                  <a:pt x="293384" y="143162"/>
                  <a:pt x="290512" y="142875"/>
                </a:cubicBezTo>
                <a:cubicBezTo>
                  <a:pt x="295275" y="139700"/>
                  <a:pt x="299539" y="135605"/>
                  <a:pt x="304800" y="133350"/>
                </a:cubicBezTo>
                <a:cubicBezTo>
                  <a:pt x="310816" y="130772"/>
                  <a:pt x="318167" y="131834"/>
                  <a:pt x="323850" y="128587"/>
                </a:cubicBezTo>
                <a:cubicBezTo>
                  <a:pt x="329698" y="125245"/>
                  <a:pt x="332250" y="117571"/>
                  <a:pt x="338137" y="114300"/>
                </a:cubicBezTo>
                <a:cubicBezTo>
                  <a:pt x="346914" y="109424"/>
                  <a:pt x="366712" y="104775"/>
                  <a:pt x="366712" y="104775"/>
                </a:cubicBezTo>
                <a:cubicBezTo>
                  <a:pt x="371475" y="101600"/>
                  <a:pt x="375769" y="97575"/>
                  <a:pt x="381000" y="95250"/>
                </a:cubicBezTo>
                <a:cubicBezTo>
                  <a:pt x="390175" y="91172"/>
                  <a:pt x="400050" y="88900"/>
                  <a:pt x="409575" y="85725"/>
                </a:cubicBezTo>
                <a:lnTo>
                  <a:pt x="423862" y="80962"/>
                </a:lnTo>
                <a:lnTo>
                  <a:pt x="438150" y="76200"/>
                </a:lnTo>
                <a:cubicBezTo>
                  <a:pt x="442912" y="74613"/>
                  <a:pt x="447567" y="72654"/>
                  <a:pt x="452437" y="71437"/>
                </a:cubicBezTo>
                <a:cubicBezTo>
                  <a:pt x="458787" y="69850"/>
                  <a:pt x="465218" y="68556"/>
                  <a:pt x="471487" y="66675"/>
                </a:cubicBezTo>
                <a:cubicBezTo>
                  <a:pt x="471520" y="66665"/>
                  <a:pt x="507190" y="54774"/>
                  <a:pt x="514350" y="52387"/>
                </a:cubicBezTo>
                <a:lnTo>
                  <a:pt x="557212" y="38100"/>
                </a:lnTo>
                <a:lnTo>
                  <a:pt x="571500" y="33337"/>
                </a:lnTo>
                <a:lnTo>
                  <a:pt x="585787" y="28575"/>
                </a:lnTo>
                <a:cubicBezTo>
                  <a:pt x="590550" y="23812"/>
                  <a:pt x="594471" y="18023"/>
                  <a:pt x="600075" y="14287"/>
                </a:cubicBezTo>
                <a:cubicBezTo>
                  <a:pt x="604252" y="11502"/>
                  <a:pt x="609535" y="10904"/>
                  <a:pt x="614362" y="9525"/>
                </a:cubicBezTo>
                <a:cubicBezTo>
                  <a:pt x="656231" y="-2438"/>
                  <a:pt x="613436" y="11420"/>
                  <a:pt x="647700" y="0"/>
                </a:cubicBezTo>
                <a:cubicBezTo>
                  <a:pt x="686045" y="3195"/>
                  <a:pt x="694977" y="848"/>
                  <a:pt x="723900" y="9525"/>
                </a:cubicBezTo>
                <a:cubicBezTo>
                  <a:pt x="733517" y="12410"/>
                  <a:pt x="742950" y="15875"/>
                  <a:pt x="752475" y="19050"/>
                </a:cubicBezTo>
                <a:cubicBezTo>
                  <a:pt x="757237" y="20637"/>
                  <a:pt x="761892" y="22594"/>
                  <a:pt x="766762" y="23812"/>
                </a:cubicBezTo>
                <a:cubicBezTo>
                  <a:pt x="773112" y="25400"/>
                  <a:pt x="779422" y="27155"/>
                  <a:pt x="785812" y="28575"/>
                </a:cubicBezTo>
                <a:cubicBezTo>
                  <a:pt x="793714" y="30331"/>
                  <a:pt x="801551" y="32760"/>
                  <a:pt x="809625" y="33337"/>
                </a:cubicBezTo>
                <a:cubicBezTo>
                  <a:pt x="846079" y="35941"/>
                  <a:pt x="882650" y="36512"/>
                  <a:pt x="919162" y="38100"/>
                </a:cubicBezTo>
                <a:cubicBezTo>
                  <a:pt x="933735" y="41743"/>
                  <a:pt x="941537" y="41424"/>
                  <a:pt x="952500" y="52387"/>
                </a:cubicBezTo>
                <a:cubicBezTo>
                  <a:pt x="956547" y="56434"/>
                  <a:pt x="958850" y="61912"/>
                  <a:pt x="962025" y="66675"/>
                </a:cubicBezTo>
                <a:cubicBezTo>
                  <a:pt x="963612" y="71437"/>
                  <a:pt x="964349" y="76574"/>
                  <a:pt x="966787" y="80962"/>
                </a:cubicBezTo>
                <a:cubicBezTo>
                  <a:pt x="972346" y="90969"/>
                  <a:pt x="979487" y="100012"/>
                  <a:pt x="985837" y="109537"/>
                </a:cubicBezTo>
                <a:lnTo>
                  <a:pt x="995362" y="123825"/>
                </a:lnTo>
                <a:lnTo>
                  <a:pt x="1014412" y="152400"/>
                </a:lnTo>
                <a:cubicBezTo>
                  <a:pt x="1017587" y="161925"/>
                  <a:pt x="1018368" y="172621"/>
                  <a:pt x="1023937" y="180975"/>
                </a:cubicBezTo>
                <a:cubicBezTo>
                  <a:pt x="1027112" y="185737"/>
                  <a:pt x="1030902" y="190143"/>
                  <a:pt x="1033462" y="195262"/>
                </a:cubicBezTo>
                <a:cubicBezTo>
                  <a:pt x="1035707" y="199752"/>
                  <a:pt x="1035787" y="205161"/>
                  <a:pt x="1038225" y="209550"/>
                </a:cubicBezTo>
                <a:cubicBezTo>
                  <a:pt x="1043784" y="219557"/>
                  <a:pt x="1057275" y="238125"/>
                  <a:pt x="1057275" y="238125"/>
                </a:cubicBezTo>
                <a:cubicBezTo>
                  <a:pt x="1069245" y="274037"/>
                  <a:pt x="1051705" y="231162"/>
                  <a:pt x="1076325" y="261937"/>
                </a:cubicBezTo>
                <a:cubicBezTo>
                  <a:pt x="1079461" y="265857"/>
                  <a:pt x="1078842" y="271735"/>
                  <a:pt x="1081087" y="276225"/>
                </a:cubicBezTo>
                <a:cubicBezTo>
                  <a:pt x="1083647" y="281344"/>
                  <a:pt x="1088287" y="285282"/>
                  <a:pt x="1090612" y="290512"/>
                </a:cubicBezTo>
                <a:cubicBezTo>
                  <a:pt x="1094690" y="299687"/>
                  <a:pt x="1094568" y="310733"/>
                  <a:pt x="1100137" y="319087"/>
                </a:cubicBezTo>
                <a:lnTo>
                  <a:pt x="1119187" y="347662"/>
                </a:lnTo>
                <a:cubicBezTo>
                  <a:pt x="1122362" y="352425"/>
                  <a:pt x="1123949" y="358775"/>
                  <a:pt x="1128712" y="361950"/>
                </a:cubicBezTo>
                <a:lnTo>
                  <a:pt x="1143000" y="371475"/>
                </a:lnTo>
                <a:cubicBezTo>
                  <a:pt x="1146175" y="381000"/>
                  <a:pt x="1146956" y="391696"/>
                  <a:pt x="1152525" y="400050"/>
                </a:cubicBezTo>
                <a:cubicBezTo>
                  <a:pt x="1158875" y="409575"/>
                  <a:pt x="1162050" y="422275"/>
                  <a:pt x="1171575" y="428625"/>
                </a:cubicBezTo>
                <a:cubicBezTo>
                  <a:pt x="1176337" y="431800"/>
                  <a:pt x="1180632" y="435825"/>
                  <a:pt x="1185862" y="438150"/>
                </a:cubicBezTo>
                <a:cubicBezTo>
                  <a:pt x="1200772" y="444777"/>
                  <a:pt x="1217653" y="448479"/>
                  <a:pt x="1233487" y="452437"/>
                </a:cubicBezTo>
                <a:cubicBezTo>
                  <a:pt x="1238250" y="455612"/>
                  <a:pt x="1242544" y="459637"/>
                  <a:pt x="1247775" y="461962"/>
                </a:cubicBezTo>
                <a:cubicBezTo>
                  <a:pt x="1268448" y="471150"/>
                  <a:pt x="1282857" y="473097"/>
                  <a:pt x="1304925" y="476250"/>
                </a:cubicBezTo>
                <a:cubicBezTo>
                  <a:pt x="1317595" y="478060"/>
                  <a:pt x="1330325" y="479425"/>
                  <a:pt x="1343025" y="481012"/>
                </a:cubicBezTo>
                <a:lnTo>
                  <a:pt x="1371600" y="490537"/>
                </a:lnTo>
                <a:cubicBezTo>
                  <a:pt x="1376362" y="492125"/>
                  <a:pt x="1381710" y="492515"/>
                  <a:pt x="1385887" y="495300"/>
                </a:cubicBezTo>
                <a:cubicBezTo>
                  <a:pt x="1404352" y="507609"/>
                  <a:pt x="1394745" y="503015"/>
                  <a:pt x="1414462" y="509587"/>
                </a:cubicBezTo>
                <a:cubicBezTo>
                  <a:pt x="1441919" y="527891"/>
                  <a:pt x="1415434" y="512044"/>
                  <a:pt x="1443037" y="523875"/>
                </a:cubicBezTo>
                <a:cubicBezTo>
                  <a:pt x="1484214" y="541523"/>
                  <a:pt x="1442880" y="526999"/>
                  <a:pt x="1476375" y="538162"/>
                </a:cubicBezTo>
                <a:cubicBezTo>
                  <a:pt x="1481137" y="541337"/>
                  <a:pt x="1485401" y="545432"/>
                  <a:pt x="1490662" y="547687"/>
                </a:cubicBezTo>
                <a:cubicBezTo>
                  <a:pt x="1496678" y="550265"/>
                  <a:pt x="1503443" y="550569"/>
                  <a:pt x="1509712" y="552450"/>
                </a:cubicBezTo>
                <a:cubicBezTo>
                  <a:pt x="1519329" y="555335"/>
                  <a:pt x="1528762" y="558800"/>
                  <a:pt x="1538287" y="561975"/>
                </a:cubicBezTo>
                <a:lnTo>
                  <a:pt x="1552575" y="566737"/>
                </a:lnTo>
                <a:cubicBezTo>
                  <a:pt x="1569151" y="591602"/>
                  <a:pt x="1557356" y="569979"/>
                  <a:pt x="1566862" y="604837"/>
                </a:cubicBezTo>
                <a:cubicBezTo>
                  <a:pt x="1569504" y="614523"/>
                  <a:pt x="1566862" y="630237"/>
                  <a:pt x="1576387" y="633412"/>
                </a:cubicBezTo>
                <a:lnTo>
                  <a:pt x="1590675" y="638175"/>
                </a:lnTo>
                <a:cubicBezTo>
                  <a:pt x="1595839" y="653668"/>
                  <a:pt x="1592866" y="654494"/>
                  <a:pt x="1609725" y="661987"/>
                </a:cubicBezTo>
                <a:cubicBezTo>
                  <a:pt x="1618900" y="666065"/>
                  <a:pt x="1638300" y="671512"/>
                  <a:pt x="1638300" y="671512"/>
                </a:cubicBezTo>
                <a:cubicBezTo>
                  <a:pt x="1665287" y="669925"/>
                  <a:pt x="1692455" y="670246"/>
                  <a:pt x="1719262" y="666750"/>
                </a:cubicBezTo>
                <a:cubicBezTo>
                  <a:pt x="1719267" y="666749"/>
                  <a:pt x="1754979" y="654844"/>
                  <a:pt x="1762125" y="652462"/>
                </a:cubicBezTo>
                <a:lnTo>
                  <a:pt x="1776412" y="647700"/>
                </a:lnTo>
                <a:cubicBezTo>
                  <a:pt x="1779587" y="642937"/>
                  <a:pt x="1781467" y="636988"/>
                  <a:pt x="1785937" y="633412"/>
                </a:cubicBezTo>
                <a:cubicBezTo>
                  <a:pt x="1789040" y="630929"/>
                  <a:pt x="1818034" y="624197"/>
                  <a:pt x="1819275" y="623887"/>
                </a:cubicBezTo>
                <a:cubicBezTo>
                  <a:pt x="1824037" y="619125"/>
                  <a:pt x="1828082" y="613515"/>
                  <a:pt x="1833562" y="609600"/>
                </a:cubicBezTo>
                <a:cubicBezTo>
                  <a:pt x="1843860" y="602244"/>
                  <a:pt x="1855241" y="599199"/>
                  <a:pt x="1866900" y="595312"/>
                </a:cubicBezTo>
                <a:cubicBezTo>
                  <a:pt x="1870075" y="590550"/>
                  <a:pt x="1871956" y="584601"/>
                  <a:pt x="1876425" y="581025"/>
                </a:cubicBezTo>
                <a:cubicBezTo>
                  <a:pt x="1880345" y="577889"/>
                  <a:pt x="1887162" y="579812"/>
                  <a:pt x="1890712" y="576262"/>
                </a:cubicBezTo>
                <a:cubicBezTo>
                  <a:pt x="1916112" y="550862"/>
                  <a:pt x="1871663" y="569913"/>
                  <a:pt x="1909762" y="557212"/>
                </a:cubicBezTo>
                <a:cubicBezTo>
                  <a:pt x="1941512" y="558800"/>
                  <a:pt x="1973489" y="557863"/>
                  <a:pt x="2005012" y="561975"/>
                </a:cubicBezTo>
                <a:cubicBezTo>
                  <a:pt x="2010688" y="562715"/>
                  <a:pt x="2015724" y="567030"/>
                  <a:pt x="2019300" y="571500"/>
                </a:cubicBezTo>
                <a:cubicBezTo>
                  <a:pt x="2022436" y="575420"/>
                  <a:pt x="2022475" y="581025"/>
                  <a:pt x="2024062" y="585787"/>
                </a:cubicBezTo>
                <a:cubicBezTo>
                  <a:pt x="2028131" y="626474"/>
                  <a:pt x="2032950" y="644324"/>
                  <a:pt x="2024062" y="685800"/>
                </a:cubicBezTo>
                <a:cubicBezTo>
                  <a:pt x="2022863" y="691397"/>
                  <a:pt x="2017712" y="695325"/>
                  <a:pt x="2014537" y="700087"/>
                </a:cubicBezTo>
                <a:cubicBezTo>
                  <a:pt x="1997174" y="752182"/>
                  <a:pt x="2024863" y="673284"/>
                  <a:pt x="2000250" y="728662"/>
                </a:cubicBezTo>
                <a:cubicBezTo>
                  <a:pt x="1991200" y="749025"/>
                  <a:pt x="1991502" y="756898"/>
                  <a:pt x="1985962" y="776287"/>
                </a:cubicBezTo>
                <a:cubicBezTo>
                  <a:pt x="1984583" y="781114"/>
                  <a:pt x="1982521" y="785732"/>
                  <a:pt x="1981200" y="790575"/>
                </a:cubicBezTo>
                <a:cubicBezTo>
                  <a:pt x="1977756" y="803205"/>
                  <a:pt x="1974850" y="815975"/>
                  <a:pt x="1971675" y="828675"/>
                </a:cubicBezTo>
                <a:lnTo>
                  <a:pt x="1966912" y="847725"/>
                </a:lnTo>
                <a:cubicBezTo>
                  <a:pt x="1965325" y="860425"/>
                  <a:pt x="1964440" y="873233"/>
                  <a:pt x="1962150" y="885825"/>
                </a:cubicBezTo>
                <a:cubicBezTo>
                  <a:pt x="1961252" y="890764"/>
                  <a:pt x="1957887" y="895117"/>
                  <a:pt x="1957387" y="900112"/>
                </a:cubicBezTo>
                <a:cubicBezTo>
                  <a:pt x="1954697" y="927012"/>
                  <a:pt x="1955315" y="954175"/>
                  <a:pt x="1952625" y="981075"/>
                </a:cubicBezTo>
                <a:cubicBezTo>
                  <a:pt x="1952125" y="986070"/>
                  <a:pt x="1950998" y="991442"/>
                  <a:pt x="1947862" y="995362"/>
                </a:cubicBezTo>
                <a:cubicBezTo>
                  <a:pt x="1937714" y="1008047"/>
                  <a:pt x="1931711" y="1002748"/>
                  <a:pt x="1919287" y="1009650"/>
                </a:cubicBezTo>
                <a:cubicBezTo>
                  <a:pt x="1909280" y="1015209"/>
                  <a:pt x="1901572" y="1025080"/>
                  <a:pt x="1890712" y="1028700"/>
                </a:cubicBezTo>
                <a:lnTo>
                  <a:pt x="1862137" y="1038225"/>
                </a:lnTo>
                <a:lnTo>
                  <a:pt x="1847850" y="1042987"/>
                </a:lnTo>
                <a:cubicBezTo>
                  <a:pt x="1825625" y="1041400"/>
                  <a:pt x="1803457" y="1038225"/>
                  <a:pt x="1781175" y="1038225"/>
                </a:cubicBezTo>
                <a:cubicBezTo>
                  <a:pt x="1764234" y="1038225"/>
                  <a:pt x="1766505" y="1046303"/>
                  <a:pt x="1757362" y="1057275"/>
                </a:cubicBezTo>
                <a:cubicBezTo>
                  <a:pt x="1745903" y="1071026"/>
                  <a:pt x="1742835" y="1071722"/>
                  <a:pt x="1728787" y="1081087"/>
                </a:cubicBezTo>
                <a:cubicBezTo>
                  <a:pt x="1725612" y="1085850"/>
                  <a:pt x="1719972" y="1089695"/>
                  <a:pt x="1719262" y="1095375"/>
                </a:cubicBezTo>
                <a:cubicBezTo>
                  <a:pt x="1718258" y="1103407"/>
                  <a:pt x="1722205" y="1111300"/>
                  <a:pt x="1724025" y="1119187"/>
                </a:cubicBezTo>
                <a:cubicBezTo>
                  <a:pt x="1726969" y="1131943"/>
                  <a:pt x="1729410" y="1144868"/>
                  <a:pt x="1733550" y="1157287"/>
                </a:cubicBezTo>
                <a:cubicBezTo>
                  <a:pt x="1736725" y="1166812"/>
                  <a:pt x="1741106" y="1176017"/>
                  <a:pt x="1743075" y="1185862"/>
                </a:cubicBezTo>
                <a:cubicBezTo>
                  <a:pt x="1749121" y="1216093"/>
                  <a:pt x="1745874" y="1201822"/>
                  <a:pt x="1752600" y="1228725"/>
                </a:cubicBezTo>
                <a:cubicBezTo>
                  <a:pt x="1750839" y="1299164"/>
                  <a:pt x="1800405" y="1395324"/>
                  <a:pt x="1733550" y="1428750"/>
                </a:cubicBezTo>
                <a:cubicBezTo>
                  <a:pt x="1729060" y="1430995"/>
                  <a:pt x="1724025" y="1431925"/>
                  <a:pt x="1719262" y="1433512"/>
                </a:cubicBezTo>
                <a:cubicBezTo>
                  <a:pt x="1714500" y="1436687"/>
                  <a:pt x="1710236" y="1440782"/>
                  <a:pt x="1704975" y="1443037"/>
                </a:cubicBezTo>
                <a:cubicBezTo>
                  <a:pt x="1698959" y="1445615"/>
                  <a:pt x="1692219" y="1446002"/>
                  <a:pt x="1685925" y="1447800"/>
                </a:cubicBezTo>
                <a:cubicBezTo>
                  <a:pt x="1681098" y="1449179"/>
                  <a:pt x="1676400" y="1450975"/>
                  <a:pt x="1671637" y="1452562"/>
                </a:cubicBezTo>
                <a:cubicBezTo>
                  <a:pt x="1660525" y="1450975"/>
                  <a:pt x="1648340" y="1452820"/>
                  <a:pt x="1638300" y="1447800"/>
                </a:cubicBezTo>
                <a:cubicBezTo>
                  <a:pt x="1633810" y="1445555"/>
                  <a:pt x="1637087" y="1437062"/>
                  <a:pt x="1633537" y="1433512"/>
                </a:cubicBezTo>
                <a:cubicBezTo>
                  <a:pt x="1629987" y="1429962"/>
                  <a:pt x="1624012" y="1430337"/>
                  <a:pt x="1619250" y="1428750"/>
                </a:cubicBezTo>
                <a:cubicBezTo>
                  <a:pt x="1612900" y="1438275"/>
                  <a:pt x="1603820" y="1446465"/>
                  <a:pt x="1600200" y="1457325"/>
                </a:cubicBezTo>
                <a:cubicBezTo>
                  <a:pt x="1597025" y="1466850"/>
                  <a:pt x="1599029" y="1480331"/>
                  <a:pt x="1590675" y="1485900"/>
                </a:cubicBezTo>
                <a:cubicBezTo>
                  <a:pt x="1585912" y="1489075"/>
                  <a:pt x="1581618" y="1493100"/>
                  <a:pt x="1576387" y="1495425"/>
                </a:cubicBezTo>
                <a:cubicBezTo>
                  <a:pt x="1567212" y="1499503"/>
                  <a:pt x="1547812" y="1504950"/>
                  <a:pt x="1547812" y="1504950"/>
                </a:cubicBezTo>
                <a:cubicBezTo>
                  <a:pt x="1537374" y="1520607"/>
                  <a:pt x="1538455" y="1516269"/>
                  <a:pt x="1533525" y="1533525"/>
                </a:cubicBezTo>
                <a:cubicBezTo>
                  <a:pt x="1531727" y="1539819"/>
                  <a:pt x="1532393" y="1547129"/>
                  <a:pt x="1528762" y="1552575"/>
                </a:cubicBezTo>
                <a:cubicBezTo>
                  <a:pt x="1525587" y="1557337"/>
                  <a:pt x="1519705" y="1559775"/>
                  <a:pt x="1514475" y="1562100"/>
                </a:cubicBezTo>
                <a:cubicBezTo>
                  <a:pt x="1505300" y="1566178"/>
                  <a:pt x="1494254" y="1566056"/>
                  <a:pt x="1485900" y="1571625"/>
                </a:cubicBezTo>
                <a:cubicBezTo>
                  <a:pt x="1467435" y="1583934"/>
                  <a:pt x="1477042" y="1579340"/>
                  <a:pt x="1457325" y="1585912"/>
                </a:cubicBezTo>
                <a:cubicBezTo>
                  <a:pt x="1452562" y="1590675"/>
                  <a:pt x="1448641" y="1596464"/>
                  <a:pt x="1443037" y="1600200"/>
                </a:cubicBezTo>
                <a:cubicBezTo>
                  <a:pt x="1438860" y="1602985"/>
                  <a:pt x="1432300" y="1601412"/>
                  <a:pt x="1428750" y="1604962"/>
                </a:cubicBezTo>
                <a:cubicBezTo>
                  <a:pt x="1426471" y="1607241"/>
                  <a:pt x="1419267" y="1638133"/>
                  <a:pt x="1419225" y="1638300"/>
                </a:cubicBezTo>
                <a:cubicBezTo>
                  <a:pt x="1417637" y="1652587"/>
                  <a:pt x="1417949" y="1667216"/>
                  <a:pt x="1414462" y="1681162"/>
                </a:cubicBezTo>
                <a:cubicBezTo>
                  <a:pt x="1413074" y="1686715"/>
                  <a:pt x="1410611" y="1694693"/>
                  <a:pt x="1404937" y="1695450"/>
                </a:cubicBezTo>
                <a:cubicBezTo>
                  <a:pt x="1384420" y="1698186"/>
                  <a:pt x="1363662" y="1692275"/>
                  <a:pt x="1343025" y="1690687"/>
                </a:cubicBezTo>
                <a:cubicBezTo>
                  <a:pt x="1326643" y="1687411"/>
                  <a:pt x="1315866" y="1685649"/>
                  <a:pt x="1300162" y="1681162"/>
                </a:cubicBezTo>
                <a:cubicBezTo>
                  <a:pt x="1295335" y="1679783"/>
                  <a:pt x="1290637" y="1677987"/>
                  <a:pt x="1285875" y="1676400"/>
                </a:cubicBezTo>
                <a:cubicBezTo>
                  <a:pt x="1267749" y="1678414"/>
                  <a:pt x="1242859" y="1674534"/>
                  <a:pt x="1228725" y="1690687"/>
                </a:cubicBezTo>
                <a:cubicBezTo>
                  <a:pt x="1221187" y="1699302"/>
                  <a:pt x="1216025" y="1709737"/>
                  <a:pt x="1209675" y="1719262"/>
                </a:cubicBezTo>
                <a:lnTo>
                  <a:pt x="1162050" y="1790700"/>
                </a:lnTo>
                <a:lnTo>
                  <a:pt x="1152525" y="1804987"/>
                </a:lnTo>
                <a:cubicBezTo>
                  <a:pt x="1149350" y="1809750"/>
                  <a:pt x="1148430" y="1817465"/>
                  <a:pt x="1143000" y="1819275"/>
                </a:cubicBezTo>
                <a:lnTo>
                  <a:pt x="1128712" y="1824037"/>
                </a:lnTo>
                <a:cubicBezTo>
                  <a:pt x="1119187" y="1830387"/>
                  <a:pt x="1106487" y="1833562"/>
                  <a:pt x="1100137" y="1843087"/>
                </a:cubicBezTo>
                <a:cubicBezTo>
                  <a:pt x="1087828" y="1861552"/>
                  <a:pt x="1096042" y="1855565"/>
                  <a:pt x="1076325" y="1862137"/>
                </a:cubicBezTo>
                <a:lnTo>
                  <a:pt x="1062037" y="1871662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任意多边形 10"/>
          <p:cNvSpPr/>
          <p:nvPr/>
        </p:nvSpPr>
        <p:spPr>
          <a:xfrm>
            <a:off x="7238880" y="2971800"/>
            <a:ext cx="876600" cy="1281240"/>
          </a:xfrm>
          <a:custGeom>
            <a:avLst/>
            <a:gdLst/>
            <a:ahLst/>
            <a:rect l="l" t="t" r="r" b="b"/>
            <a:pathLst>
              <a:path w="876724" h="1281113">
                <a:moveTo>
                  <a:pt x="876724" y="0"/>
                </a:moveTo>
                <a:cubicBezTo>
                  <a:pt x="871962" y="7938"/>
                  <a:pt x="866577" y="15534"/>
                  <a:pt x="862437" y="23813"/>
                </a:cubicBezTo>
                <a:cubicBezTo>
                  <a:pt x="860192" y="28303"/>
                  <a:pt x="861224" y="34550"/>
                  <a:pt x="857674" y="38100"/>
                </a:cubicBezTo>
                <a:cubicBezTo>
                  <a:pt x="849579" y="46195"/>
                  <a:pt x="838624" y="50800"/>
                  <a:pt x="829099" y="57150"/>
                </a:cubicBezTo>
                <a:lnTo>
                  <a:pt x="786237" y="85725"/>
                </a:lnTo>
                <a:lnTo>
                  <a:pt x="743374" y="114300"/>
                </a:lnTo>
                <a:lnTo>
                  <a:pt x="729087" y="123825"/>
                </a:lnTo>
                <a:cubicBezTo>
                  <a:pt x="725912" y="128588"/>
                  <a:pt x="724032" y="134537"/>
                  <a:pt x="719562" y="138113"/>
                </a:cubicBezTo>
                <a:cubicBezTo>
                  <a:pt x="715642" y="141249"/>
                  <a:pt x="709662" y="140437"/>
                  <a:pt x="705274" y="142875"/>
                </a:cubicBezTo>
                <a:cubicBezTo>
                  <a:pt x="695267" y="148434"/>
                  <a:pt x="687559" y="158304"/>
                  <a:pt x="676699" y="161925"/>
                </a:cubicBezTo>
                <a:cubicBezTo>
                  <a:pt x="671937" y="163513"/>
                  <a:pt x="666800" y="164250"/>
                  <a:pt x="662412" y="166688"/>
                </a:cubicBezTo>
                <a:cubicBezTo>
                  <a:pt x="652405" y="172248"/>
                  <a:pt x="643362" y="179388"/>
                  <a:pt x="633837" y="185738"/>
                </a:cubicBezTo>
                <a:lnTo>
                  <a:pt x="619549" y="195263"/>
                </a:lnTo>
                <a:cubicBezTo>
                  <a:pt x="614787" y="198438"/>
                  <a:pt x="610692" y="202978"/>
                  <a:pt x="605262" y="204788"/>
                </a:cubicBezTo>
                <a:lnTo>
                  <a:pt x="562399" y="219075"/>
                </a:lnTo>
                <a:cubicBezTo>
                  <a:pt x="557637" y="220662"/>
                  <a:pt x="552289" y="221053"/>
                  <a:pt x="548112" y="223838"/>
                </a:cubicBezTo>
                <a:cubicBezTo>
                  <a:pt x="543349" y="227013"/>
                  <a:pt x="539184" y="231353"/>
                  <a:pt x="533824" y="233363"/>
                </a:cubicBezTo>
                <a:cubicBezTo>
                  <a:pt x="526245" y="236205"/>
                  <a:pt x="517865" y="236162"/>
                  <a:pt x="510012" y="238125"/>
                </a:cubicBezTo>
                <a:cubicBezTo>
                  <a:pt x="505142" y="239343"/>
                  <a:pt x="500551" y="241509"/>
                  <a:pt x="495724" y="242888"/>
                </a:cubicBezTo>
                <a:cubicBezTo>
                  <a:pt x="489430" y="244686"/>
                  <a:pt x="483024" y="246063"/>
                  <a:pt x="476674" y="247650"/>
                </a:cubicBezTo>
                <a:cubicBezTo>
                  <a:pt x="447625" y="267017"/>
                  <a:pt x="467103" y="260106"/>
                  <a:pt x="457624" y="209550"/>
                </a:cubicBezTo>
                <a:cubicBezTo>
                  <a:pt x="455774" y="199682"/>
                  <a:pt x="448099" y="180975"/>
                  <a:pt x="448099" y="180975"/>
                </a:cubicBezTo>
                <a:cubicBezTo>
                  <a:pt x="442711" y="94762"/>
                  <a:pt x="451385" y="128916"/>
                  <a:pt x="433812" y="76200"/>
                </a:cubicBezTo>
                <a:lnTo>
                  <a:pt x="429049" y="61913"/>
                </a:lnTo>
                <a:cubicBezTo>
                  <a:pt x="427461" y="57150"/>
                  <a:pt x="428464" y="50410"/>
                  <a:pt x="424287" y="47625"/>
                </a:cubicBezTo>
                <a:cubicBezTo>
                  <a:pt x="405822" y="35316"/>
                  <a:pt x="415429" y="39910"/>
                  <a:pt x="395712" y="33338"/>
                </a:cubicBezTo>
                <a:cubicBezTo>
                  <a:pt x="376662" y="34925"/>
                  <a:pt x="357510" y="35574"/>
                  <a:pt x="338562" y="38100"/>
                </a:cubicBezTo>
                <a:cubicBezTo>
                  <a:pt x="322238" y="40277"/>
                  <a:pt x="324582" y="45091"/>
                  <a:pt x="309987" y="52388"/>
                </a:cubicBezTo>
                <a:cubicBezTo>
                  <a:pt x="305497" y="54633"/>
                  <a:pt x="300462" y="55563"/>
                  <a:pt x="295699" y="57150"/>
                </a:cubicBezTo>
                <a:cubicBezTo>
                  <a:pt x="285168" y="67682"/>
                  <a:pt x="278517" y="72466"/>
                  <a:pt x="271887" y="85725"/>
                </a:cubicBezTo>
                <a:cubicBezTo>
                  <a:pt x="269642" y="90215"/>
                  <a:pt x="268445" y="95170"/>
                  <a:pt x="267124" y="100013"/>
                </a:cubicBezTo>
                <a:cubicBezTo>
                  <a:pt x="263679" y="112643"/>
                  <a:pt x="261738" y="125694"/>
                  <a:pt x="257599" y="138113"/>
                </a:cubicBezTo>
                <a:cubicBezTo>
                  <a:pt x="253726" y="149733"/>
                  <a:pt x="252544" y="157456"/>
                  <a:pt x="243312" y="166688"/>
                </a:cubicBezTo>
                <a:cubicBezTo>
                  <a:pt x="234080" y="175920"/>
                  <a:pt x="226357" y="177102"/>
                  <a:pt x="214737" y="180975"/>
                </a:cubicBezTo>
                <a:cubicBezTo>
                  <a:pt x="205766" y="189946"/>
                  <a:pt x="196228" y="197616"/>
                  <a:pt x="190924" y="209550"/>
                </a:cubicBezTo>
                <a:cubicBezTo>
                  <a:pt x="186846" y="218725"/>
                  <a:pt x="184574" y="228600"/>
                  <a:pt x="181399" y="238125"/>
                </a:cubicBezTo>
                <a:cubicBezTo>
                  <a:pt x="179812" y="242888"/>
                  <a:pt x="180814" y="249628"/>
                  <a:pt x="176637" y="252413"/>
                </a:cubicBezTo>
                <a:lnTo>
                  <a:pt x="162349" y="261938"/>
                </a:lnTo>
                <a:cubicBezTo>
                  <a:pt x="160762" y="266700"/>
                  <a:pt x="161672" y="273307"/>
                  <a:pt x="157587" y="276225"/>
                </a:cubicBezTo>
                <a:cubicBezTo>
                  <a:pt x="149417" y="282061"/>
                  <a:pt x="138537" y="282575"/>
                  <a:pt x="129012" y="285750"/>
                </a:cubicBezTo>
                <a:cubicBezTo>
                  <a:pt x="84563" y="300567"/>
                  <a:pt x="119754" y="290262"/>
                  <a:pt x="19474" y="295275"/>
                </a:cubicBezTo>
                <a:cubicBezTo>
                  <a:pt x="14712" y="298450"/>
                  <a:pt x="8362" y="300038"/>
                  <a:pt x="5187" y="304800"/>
                </a:cubicBezTo>
                <a:cubicBezTo>
                  <a:pt x="1556" y="310246"/>
                  <a:pt x="424" y="317305"/>
                  <a:pt x="424" y="323850"/>
                </a:cubicBezTo>
                <a:cubicBezTo>
                  <a:pt x="424" y="335456"/>
                  <a:pt x="-3848" y="380440"/>
                  <a:pt x="14712" y="395288"/>
                </a:cubicBezTo>
                <a:cubicBezTo>
                  <a:pt x="18632" y="398424"/>
                  <a:pt x="24237" y="398463"/>
                  <a:pt x="28999" y="400050"/>
                </a:cubicBezTo>
                <a:cubicBezTo>
                  <a:pt x="33762" y="403225"/>
                  <a:pt x="37928" y="407565"/>
                  <a:pt x="43287" y="409575"/>
                </a:cubicBezTo>
                <a:cubicBezTo>
                  <a:pt x="63707" y="417233"/>
                  <a:pt x="138019" y="419065"/>
                  <a:pt x="138537" y="419100"/>
                </a:cubicBezTo>
                <a:cubicBezTo>
                  <a:pt x="172542" y="430435"/>
                  <a:pt x="158758" y="423056"/>
                  <a:pt x="181399" y="438150"/>
                </a:cubicBezTo>
                <a:cubicBezTo>
                  <a:pt x="182987" y="442913"/>
                  <a:pt x="185727" y="447437"/>
                  <a:pt x="186162" y="452438"/>
                </a:cubicBezTo>
                <a:cubicBezTo>
                  <a:pt x="188916" y="484108"/>
                  <a:pt x="182023" y="517170"/>
                  <a:pt x="190924" y="547688"/>
                </a:cubicBezTo>
                <a:cubicBezTo>
                  <a:pt x="194452" y="559783"/>
                  <a:pt x="221455" y="567390"/>
                  <a:pt x="233787" y="571500"/>
                </a:cubicBezTo>
                <a:cubicBezTo>
                  <a:pt x="260774" y="569913"/>
                  <a:pt x="288295" y="572307"/>
                  <a:pt x="314749" y="566738"/>
                </a:cubicBezTo>
                <a:cubicBezTo>
                  <a:pt x="320350" y="565559"/>
                  <a:pt x="321949" y="557681"/>
                  <a:pt x="324274" y="552450"/>
                </a:cubicBezTo>
                <a:cubicBezTo>
                  <a:pt x="328352" y="543275"/>
                  <a:pt x="330624" y="533400"/>
                  <a:pt x="333799" y="523875"/>
                </a:cubicBezTo>
                <a:cubicBezTo>
                  <a:pt x="337672" y="512256"/>
                  <a:pt x="338856" y="504531"/>
                  <a:pt x="348087" y="495300"/>
                </a:cubicBezTo>
                <a:cubicBezTo>
                  <a:pt x="352134" y="491253"/>
                  <a:pt x="357612" y="488950"/>
                  <a:pt x="362374" y="485775"/>
                </a:cubicBezTo>
                <a:cubicBezTo>
                  <a:pt x="403649" y="487363"/>
                  <a:pt x="444991" y="487696"/>
                  <a:pt x="486199" y="490538"/>
                </a:cubicBezTo>
                <a:cubicBezTo>
                  <a:pt x="491207" y="490883"/>
                  <a:pt x="495660" y="493921"/>
                  <a:pt x="500487" y="495300"/>
                </a:cubicBezTo>
                <a:cubicBezTo>
                  <a:pt x="506781" y="497098"/>
                  <a:pt x="513268" y="498182"/>
                  <a:pt x="519537" y="500063"/>
                </a:cubicBezTo>
                <a:cubicBezTo>
                  <a:pt x="529154" y="502948"/>
                  <a:pt x="538587" y="506413"/>
                  <a:pt x="548112" y="509588"/>
                </a:cubicBezTo>
                <a:cubicBezTo>
                  <a:pt x="552874" y="511175"/>
                  <a:pt x="557477" y="513365"/>
                  <a:pt x="562399" y="514350"/>
                </a:cubicBezTo>
                <a:cubicBezTo>
                  <a:pt x="570337" y="515938"/>
                  <a:pt x="578402" y="516983"/>
                  <a:pt x="586212" y="519113"/>
                </a:cubicBezTo>
                <a:cubicBezTo>
                  <a:pt x="595898" y="521755"/>
                  <a:pt x="614787" y="528638"/>
                  <a:pt x="614787" y="528638"/>
                </a:cubicBezTo>
                <a:cubicBezTo>
                  <a:pt x="618494" y="532345"/>
                  <a:pt x="637770" y="549753"/>
                  <a:pt x="638599" y="557213"/>
                </a:cubicBezTo>
                <a:cubicBezTo>
                  <a:pt x="639502" y="565338"/>
                  <a:pt x="635278" y="593221"/>
                  <a:pt x="624312" y="600075"/>
                </a:cubicBezTo>
                <a:cubicBezTo>
                  <a:pt x="615798" y="605396"/>
                  <a:pt x="605262" y="606425"/>
                  <a:pt x="595737" y="609600"/>
                </a:cubicBezTo>
                <a:cubicBezTo>
                  <a:pt x="585063" y="613158"/>
                  <a:pt x="573511" y="617415"/>
                  <a:pt x="562399" y="619125"/>
                </a:cubicBezTo>
                <a:cubicBezTo>
                  <a:pt x="548191" y="621311"/>
                  <a:pt x="533824" y="622300"/>
                  <a:pt x="519537" y="623888"/>
                </a:cubicBezTo>
                <a:cubicBezTo>
                  <a:pt x="471481" y="639904"/>
                  <a:pt x="546050" y="615457"/>
                  <a:pt x="486199" y="633413"/>
                </a:cubicBezTo>
                <a:cubicBezTo>
                  <a:pt x="476582" y="636298"/>
                  <a:pt x="465978" y="637369"/>
                  <a:pt x="457624" y="642938"/>
                </a:cubicBezTo>
                <a:lnTo>
                  <a:pt x="429049" y="661988"/>
                </a:lnTo>
                <a:lnTo>
                  <a:pt x="414762" y="671513"/>
                </a:lnTo>
                <a:lnTo>
                  <a:pt x="395712" y="700088"/>
                </a:lnTo>
                <a:cubicBezTo>
                  <a:pt x="392537" y="704850"/>
                  <a:pt x="390234" y="710328"/>
                  <a:pt x="386187" y="714375"/>
                </a:cubicBezTo>
                <a:cubicBezTo>
                  <a:pt x="381424" y="719138"/>
                  <a:pt x="376034" y="723346"/>
                  <a:pt x="371899" y="728663"/>
                </a:cubicBezTo>
                <a:cubicBezTo>
                  <a:pt x="364871" y="737699"/>
                  <a:pt x="359199" y="747713"/>
                  <a:pt x="352849" y="757238"/>
                </a:cubicBezTo>
                <a:lnTo>
                  <a:pt x="343324" y="771525"/>
                </a:lnTo>
                <a:cubicBezTo>
                  <a:pt x="339927" y="781718"/>
                  <a:pt x="337727" y="792496"/>
                  <a:pt x="329037" y="800100"/>
                </a:cubicBezTo>
                <a:cubicBezTo>
                  <a:pt x="320422" y="807638"/>
                  <a:pt x="300462" y="819150"/>
                  <a:pt x="300462" y="819150"/>
                </a:cubicBezTo>
                <a:cubicBezTo>
                  <a:pt x="297287" y="823913"/>
                  <a:pt x="295407" y="829862"/>
                  <a:pt x="290937" y="833438"/>
                </a:cubicBezTo>
                <a:cubicBezTo>
                  <a:pt x="287017" y="836574"/>
                  <a:pt x="277175" y="833207"/>
                  <a:pt x="276649" y="838200"/>
                </a:cubicBezTo>
                <a:cubicBezTo>
                  <a:pt x="273653" y="866662"/>
                  <a:pt x="278699" y="895435"/>
                  <a:pt x="281412" y="923925"/>
                </a:cubicBezTo>
                <a:cubicBezTo>
                  <a:pt x="281888" y="928923"/>
                  <a:pt x="283038" y="934293"/>
                  <a:pt x="286174" y="938213"/>
                </a:cubicBezTo>
                <a:cubicBezTo>
                  <a:pt x="294407" y="948504"/>
                  <a:pt x="320307" y="954353"/>
                  <a:pt x="329037" y="957263"/>
                </a:cubicBezTo>
                <a:lnTo>
                  <a:pt x="343324" y="962025"/>
                </a:lnTo>
                <a:cubicBezTo>
                  <a:pt x="348087" y="963613"/>
                  <a:pt x="352660" y="965963"/>
                  <a:pt x="357612" y="966788"/>
                </a:cubicBezTo>
                <a:lnTo>
                  <a:pt x="386187" y="971550"/>
                </a:lnTo>
                <a:cubicBezTo>
                  <a:pt x="389983" y="1009518"/>
                  <a:pt x="387743" y="1010331"/>
                  <a:pt x="395712" y="1038225"/>
                </a:cubicBezTo>
                <a:cubicBezTo>
                  <a:pt x="397091" y="1043052"/>
                  <a:pt x="398036" y="1048125"/>
                  <a:pt x="400474" y="1052513"/>
                </a:cubicBezTo>
                <a:cubicBezTo>
                  <a:pt x="406033" y="1062520"/>
                  <a:pt x="415903" y="1070228"/>
                  <a:pt x="419524" y="1081088"/>
                </a:cubicBezTo>
                <a:cubicBezTo>
                  <a:pt x="426097" y="1100805"/>
                  <a:pt x="421502" y="1091198"/>
                  <a:pt x="433812" y="1109663"/>
                </a:cubicBezTo>
                <a:cubicBezTo>
                  <a:pt x="435399" y="1114425"/>
                  <a:pt x="436136" y="1119562"/>
                  <a:pt x="438574" y="1123950"/>
                </a:cubicBezTo>
                <a:cubicBezTo>
                  <a:pt x="444133" y="1133957"/>
                  <a:pt x="454004" y="1141665"/>
                  <a:pt x="457624" y="1152525"/>
                </a:cubicBezTo>
                <a:cubicBezTo>
                  <a:pt x="459212" y="1157288"/>
                  <a:pt x="459949" y="1162424"/>
                  <a:pt x="462387" y="1166813"/>
                </a:cubicBezTo>
                <a:cubicBezTo>
                  <a:pt x="467946" y="1176820"/>
                  <a:pt x="475087" y="1185863"/>
                  <a:pt x="481437" y="1195388"/>
                </a:cubicBezTo>
                <a:lnTo>
                  <a:pt x="490962" y="1209675"/>
                </a:lnTo>
                <a:cubicBezTo>
                  <a:pt x="500232" y="1237490"/>
                  <a:pt x="488470" y="1211947"/>
                  <a:pt x="510012" y="1233488"/>
                </a:cubicBezTo>
                <a:cubicBezTo>
                  <a:pt x="514059" y="1237535"/>
                  <a:pt x="515490" y="1243728"/>
                  <a:pt x="519537" y="1247775"/>
                </a:cubicBezTo>
                <a:cubicBezTo>
                  <a:pt x="533186" y="1261424"/>
                  <a:pt x="532618" y="1254316"/>
                  <a:pt x="548112" y="1262063"/>
                </a:cubicBezTo>
                <a:cubicBezTo>
                  <a:pt x="553231" y="1264623"/>
                  <a:pt x="557280" y="1269028"/>
                  <a:pt x="562399" y="1271588"/>
                </a:cubicBezTo>
                <a:cubicBezTo>
                  <a:pt x="566889" y="1273833"/>
                  <a:pt x="572026" y="1274486"/>
                  <a:pt x="576687" y="1276350"/>
                </a:cubicBezTo>
                <a:cubicBezTo>
                  <a:pt x="579983" y="1277668"/>
                  <a:pt x="583037" y="1279525"/>
                  <a:pt x="586212" y="1281113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任意多边形 11"/>
          <p:cNvSpPr/>
          <p:nvPr/>
        </p:nvSpPr>
        <p:spPr>
          <a:xfrm>
            <a:off x="7567560" y="4253040"/>
            <a:ext cx="352440" cy="1218960"/>
          </a:xfrm>
          <a:custGeom>
            <a:avLst/>
            <a:gdLst/>
            <a:ahLst/>
            <a:rect l="l" t="t" r="r" b="b"/>
            <a:pathLst>
              <a:path w="352425" h="1219200">
                <a:moveTo>
                  <a:pt x="252412" y="0"/>
                </a:moveTo>
                <a:cubicBezTo>
                  <a:pt x="254000" y="23812"/>
                  <a:pt x="253251" y="47897"/>
                  <a:pt x="257175" y="71437"/>
                </a:cubicBezTo>
                <a:cubicBezTo>
                  <a:pt x="258116" y="77083"/>
                  <a:pt x="264375" y="80494"/>
                  <a:pt x="266700" y="85725"/>
                </a:cubicBezTo>
                <a:cubicBezTo>
                  <a:pt x="270778" y="94900"/>
                  <a:pt x="273050" y="104775"/>
                  <a:pt x="276225" y="114300"/>
                </a:cubicBezTo>
                <a:lnTo>
                  <a:pt x="285750" y="142875"/>
                </a:lnTo>
                <a:lnTo>
                  <a:pt x="290512" y="157162"/>
                </a:lnTo>
                <a:cubicBezTo>
                  <a:pt x="288925" y="184150"/>
                  <a:pt x="288440" y="211225"/>
                  <a:pt x="285750" y="238125"/>
                </a:cubicBezTo>
                <a:cubicBezTo>
                  <a:pt x="283658" y="259041"/>
                  <a:pt x="281490" y="248958"/>
                  <a:pt x="266700" y="257175"/>
                </a:cubicBezTo>
                <a:cubicBezTo>
                  <a:pt x="241066" y="271417"/>
                  <a:pt x="241193" y="273158"/>
                  <a:pt x="223837" y="290512"/>
                </a:cubicBezTo>
                <a:cubicBezTo>
                  <a:pt x="218954" y="305162"/>
                  <a:pt x="214159" y="311675"/>
                  <a:pt x="223837" y="328612"/>
                </a:cubicBezTo>
                <a:cubicBezTo>
                  <a:pt x="226677" y="333582"/>
                  <a:pt x="233155" y="335297"/>
                  <a:pt x="238125" y="338137"/>
                </a:cubicBezTo>
                <a:cubicBezTo>
                  <a:pt x="244289" y="341659"/>
                  <a:pt x="250650" y="344865"/>
                  <a:pt x="257175" y="347662"/>
                </a:cubicBezTo>
                <a:cubicBezTo>
                  <a:pt x="261789" y="349640"/>
                  <a:pt x="266972" y="350180"/>
                  <a:pt x="271462" y="352425"/>
                </a:cubicBezTo>
                <a:cubicBezTo>
                  <a:pt x="308383" y="370886"/>
                  <a:pt x="264134" y="354745"/>
                  <a:pt x="300037" y="366712"/>
                </a:cubicBezTo>
                <a:cubicBezTo>
                  <a:pt x="309562" y="373062"/>
                  <a:pt x="322262" y="376237"/>
                  <a:pt x="328612" y="385762"/>
                </a:cubicBezTo>
                <a:cubicBezTo>
                  <a:pt x="350447" y="418514"/>
                  <a:pt x="344042" y="403477"/>
                  <a:pt x="352425" y="428625"/>
                </a:cubicBezTo>
                <a:cubicBezTo>
                  <a:pt x="350837" y="482600"/>
                  <a:pt x="351701" y="536703"/>
                  <a:pt x="347662" y="590550"/>
                </a:cubicBezTo>
                <a:cubicBezTo>
                  <a:pt x="346911" y="600562"/>
                  <a:pt x="343706" y="610771"/>
                  <a:pt x="338137" y="619125"/>
                </a:cubicBezTo>
                <a:cubicBezTo>
                  <a:pt x="327024" y="635794"/>
                  <a:pt x="323850" y="644523"/>
                  <a:pt x="300037" y="652462"/>
                </a:cubicBezTo>
                <a:cubicBezTo>
                  <a:pt x="295275" y="654050"/>
                  <a:pt x="290138" y="654787"/>
                  <a:pt x="285750" y="657225"/>
                </a:cubicBezTo>
                <a:cubicBezTo>
                  <a:pt x="275743" y="662785"/>
                  <a:pt x="257175" y="676275"/>
                  <a:pt x="257175" y="676275"/>
                </a:cubicBezTo>
                <a:lnTo>
                  <a:pt x="238125" y="704850"/>
                </a:lnTo>
                <a:cubicBezTo>
                  <a:pt x="234950" y="709612"/>
                  <a:pt x="230410" y="713707"/>
                  <a:pt x="228600" y="719137"/>
                </a:cubicBezTo>
                <a:cubicBezTo>
                  <a:pt x="223294" y="735053"/>
                  <a:pt x="223063" y="734527"/>
                  <a:pt x="219075" y="752475"/>
                </a:cubicBezTo>
                <a:cubicBezTo>
                  <a:pt x="217319" y="760377"/>
                  <a:pt x="216275" y="768434"/>
                  <a:pt x="214312" y="776287"/>
                </a:cubicBezTo>
                <a:cubicBezTo>
                  <a:pt x="213094" y="781157"/>
                  <a:pt x="210929" y="785748"/>
                  <a:pt x="209550" y="790575"/>
                </a:cubicBezTo>
                <a:cubicBezTo>
                  <a:pt x="195159" y="840945"/>
                  <a:pt x="217890" y="770314"/>
                  <a:pt x="195262" y="838200"/>
                </a:cubicBezTo>
                <a:cubicBezTo>
                  <a:pt x="195261" y="838204"/>
                  <a:pt x="185739" y="866772"/>
                  <a:pt x="185737" y="866775"/>
                </a:cubicBezTo>
                <a:lnTo>
                  <a:pt x="166687" y="895350"/>
                </a:lnTo>
                <a:cubicBezTo>
                  <a:pt x="163512" y="900112"/>
                  <a:pt x="162592" y="907827"/>
                  <a:pt x="157162" y="909637"/>
                </a:cubicBezTo>
                <a:lnTo>
                  <a:pt x="142875" y="914400"/>
                </a:lnTo>
                <a:cubicBezTo>
                  <a:pt x="139700" y="919162"/>
                  <a:pt x="138204" y="925654"/>
                  <a:pt x="133350" y="928687"/>
                </a:cubicBezTo>
                <a:cubicBezTo>
                  <a:pt x="124836" y="934008"/>
                  <a:pt x="104775" y="938212"/>
                  <a:pt x="104775" y="938212"/>
                </a:cubicBezTo>
                <a:cubicBezTo>
                  <a:pt x="101031" y="943828"/>
                  <a:pt x="89548" y="958338"/>
                  <a:pt x="90487" y="966787"/>
                </a:cubicBezTo>
                <a:cubicBezTo>
                  <a:pt x="94688" y="1004596"/>
                  <a:pt x="98510" y="984839"/>
                  <a:pt x="109537" y="1009650"/>
                </a:cubicBezTo>
                <a:cubicBezTo>
                  <a:pt x="113615" y="1018825"/>
                  <a:pt x="119062" y="1038225"/>
                  <a:pt x="119062" y="1038225"/>
                </a:cubicBezTo>
                <a:cubicBezTo>
                  <a:pt x="117475" y="1062037"/>
                  <a:pt x="123387" y="1087594"/>
                  <a:pt x="114300" y="1109662"/>
                </a:cubicBezTo>
                <a:cubicBezTo>
                  <a:pt x="110477" y="1118946"/>
                  <a:pt x="95250" y="1116012"/>
                  <a:pt x="85725" y="1119187"/>
                </a:cubicBezTo>
                <a:lnTo>
                  <a:pt x="57150" y="1128712"/>
                </a:lnTo>
                <a:cubicBezTo>
                  <a:pt x="52387" y="1130300"/>
                  <a:pt x="47039" y="1130690"/>
                  <a:pt x="42862" y="1133475"/>
                </a:cubicBezTo>
                <a:lnTo>
                  <a:pt x="28575" y="1143000"/>
                </a:lnTo>
                <a:cubicBezTo>
                  <a:pt x="18943" y="1157447"/>
                  <a:pt x="0" y="1180432"/>
                  <a:pt x="0" y="1200150"/>
                </a:cubicBezTo>
                <a:lnTo>
                  <a:pt x="0" y="12192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任意多边形 12"/>
          <p:cNvSpPr/>
          <p:nvPr/>
        </p:nvSpPr>
        <p:spPr>
          <a:xfrm>
            <a:off x="4809960" y="5481720"/>
            <a:ext cx="2762280" cy="771480"/>
          </a:xfrm>
          <a:custGeom>
            <a:avLst/>
            <a:gdLst/>
            <a:ahLst/>
            <a:rect l="l" t="t" r="r" b="b"/>
            <a:pathLst>
              <a:path w="2762250" h="771525">
                <a:moveTo>
                  <a:pt x="2762250" y="0"/>
                </a:moveTo>
                <a:cubicBezTo>
                  <a:pt x="2757702" y="11369"/>
                  <a:pt x="2752711" y="28589"/>
                  <a:pt x="2743200" y="38100"/>
                </a:cubicBezTo>
                <a:cubicBezTo>
                  <a:pt x="2739153" y="42147"/>
                  <a:pt x="2734143" y="45300"/>
                  <a:pt x="2728913" y="47625"/>
                </a:cubicBezTo>
                <a:cubicBezTo>
                  <a:pt x="2719738" y="51703"/>
                  <a:pt x="2709863" y="53975"/>
                  <a:pt x="2700338" y="57150"/>
                </a:cubicBezTo>
                <a:lnTo>
                  <a:pt x="2686050" y="61912"/>
                </a:lnTo>
                <a:cubicBezTo>
                  <a:pt x="2681288" y="65087"/>
                  <a:pt x="2676993" y="69112"/>
                  <a:pt x="2671763" y="71437"/>
                </a:cubicBezTo>
                <a:cubicBezTo>
                  <a:pt x="2662588" y="75515"/>
                  <a:pt x="2643188" y="80962"/>
                  <a:pt x="2643188" y="80962"/>
                </a:cubicBezTo>
                <a:cubicBezTo>
                  <a:pt x="2638425" y="84137"/>
                  <a:pt x="2634131" y="88162"/>
                  <a:pt x="2628900" y="90487"/>
                </a:cubicBezTo>
                <a:cubicBezTo>
                  <a:pt x="2619725" y="94565"/>
                  <a:pt x="2600325" y="100012"/>
                  <a:pt x="2600325" y="100012"/>
                </a:cubicBezTo>
                <a:cubicBezTo>
                  <a:pt x="2590800" y="106362"/>
                  <a:pt x="2578100" y="109537"/>
                  <a:pt x="2571750" y="119062"/>
                </a:cubicBezTo>
                <a:lnTo>
                  <a:pt x="2552700" y="147637"/>
                </a:lnTo>
                <a:cubicBezTo>
                  <a:pt x="2543175" y="161924"/>
                  <a:pt x="2544762" y="163513"/>
                  <a:pt x="2528888" y="171450"/>
                </a:cubicBezTo>
                <a:cubicBezTo>
                  <a:pt x="2524398" y="173695"/>
                  <a:pt x="2519363" y="174625"/>
                  <a:pt x="2514600" y="176212"/>
                </a:cubicBezTo>
                <a:cubicBezTo>
                  <a:pt x="2497000" y="202612"/>
                  <a:pt x="2515145" y="181731"/>
                  <a:pt x="2490788" y="195262"/>
                </a:cubicBezTo>
                <a:cubicBezTo>
                  <a:pt x="2480781" y="200821"/>
                  <a:pt x="2462213" y="214312"/>
                  <a:pt x="2462213" y="214312"/>
                </a:cubicBezTo>
                <a:cubicBezTo>
                  <a:pt x="2449511" y="252415"/>
                  <a:pt x="2468564" y="207961"/>
                  <a:pt x="2443163" y="233362"/>
                </a:cubicBezTo>
                <a:cubicBezTo>
                  <a:pt x="2417764" y="258761"/>
                  <a:pt x="2462210" y="239714"/>
                  <a:pt x="2424113" y="252412"/>
                </a:cubicBezTo>
                <a:cubicBezTo>
                  <a:pt x="2422525" y="257175"/>
                  <a:pt x="2422900" y="263150"/>
                  <a:pt x="2419350" y="266700"/>
                </a:cubicBezTo>
                <a:cubicBezTo>
                  <a:pt x="2415800" y="270250"/>
                  <a:pt x="2409553" y="269217"/>
                  <a:pt x="2405063" y="271462"/>
                </a:cubicBezTo>
                <a:cubicBezTo>
                  <a:pt x="2399943" y="274022"/>
                  <a:pt x="2395538" y="277812"/>
                  <a:pt x="2390775" y="280987"/>
                </a:cubicBezTo>
                <a:cubicBezTo>
                  <a:pt x="2380385" y="312161"/>
                  <a:pt x="2394816" y="281564"/>
                  <a:pt x="2371725" y="300037"/>
                </a:cubicBezTo>
                <a:cubicBezTo>
                  <a:pt x="2340950" y="324657"/>
                  <a:pt x="2383825" y="307117"/>
                  <a:pt x="2347913" y="319087"/>
                </a:cubicBezTo>
                <a:cubicBezTo>
                  <a:pt x="2343150" y="322262"/>
                  <a:pt x="2338856" y="326287"/>
                  <a:pt x="2333625" y="328612"/>
                </a:cubicBezTo>
                <a:cubicBezTo>
                  <a:pt x="2295026" y="345767"/>
                  <a:pt x="2273007" y="340022"/>
                  <a:pt x="2224088" y="342900"/>
                </a:cubicBezTo>
                <a:cubicBezTo>
                  <a:pt x="2188181" y="354867"/>
                  <a:pt x="2232435" y="338726"/>
                  <a:pt x="2195513" y="357187"/>
                </a:cubicBezTo>
                <a:cubicBezTo>
                  <a:pt x="2191023" y="359432"/>
                  <a:pt x="2185715" y="359705"/>
                  <a:pt x="2181225" y="361950"/>
                </a:cubicBezTo>
                <a:cubicBezTo>
                  <a:pt x="2169771" y="367677"/>
                  <a:pt x="2166220" y="375439"/>
                  <a:pt x="2152650" y="376237"/>
                </a:cubicBezTo>
                <a:cubicBezTo>
                  <a:pt x="2103497" y="379128"/>
                  <a:pt x="2054225" y="379412"/>
                  <a:pt x="2005013" y="381000"/>
                </a:cubicBezTo>
                <a:cubicBezTo>
                  <a:pt x="1971008" y="392335"/>
                  <a:pt x="1984792" y="384956"/>
                  <a:pt x="1962150" y="400050"/>
                </a:cubicBezTo>
                <a:cubicBezTo>
                  <a:pt x="1960563" y="404812"/>
                  <a:pt x="1958767" y="409510"/>
                  <a:pt x="1957388" y="414337"/>
                </a:cubicBezTo>
                <a:cubicBezTo>
                  <a:pt x="1955590" y="420631"/>
                  <a:pt x="1956256" y="427941"/>
                  <a:pt x="1952625" y="433387"/>
                </a:cubicBezTo>
                <a:cubicBezTo>
                  <a:pt x="1949450" y="438149"/>
                  <a:pt x="1943100" y="439737"/>
                  <a:pt x="1938338" y="442912"/>
                </a:cubicBezTo>
                <a:cubicBezTo>
                  <a:pt x="1934941" y="453103"/>
                  <a:pt x="1932739" y="463884"/>
                  <a:pt x="1924050" y="471487"/>
                </a:cubicBezTo>
                <a:cubicBezTo>
                  <a:pt x="1915435" y="479025"/>
                  <a:pt x="1906335" y="486917"/>
                  <a:pt x="1895475" y="490537"/>
                </a:cubicBezTo>
                <a:cubicBezTo>
                  <a:pt x="1841253" y="508611"/>
                  <a:pt x="1876923" y="499472"/>
                  <a:pt x="1785938" y="504825"/>
                </a:cubicBezTo>
                <a:cubicBezTo>
                  <a:pt x="1776413" y="508000"/>
                  <a:pt x="1767104" y="511915"/>
                  <a:pt x="1757363" y="514350"/>
                </a:cubicBezTo>
                <a:cubicBezTo>
                  <a:pt x="1751013" y="515937"/>
                  <a:pt x="1744582" y="517231"/>
                  <a:pt x="1738313" y="519112"/>
                </a:cubicBezTo>
                <a:cubicBezTo>
                  <a:pt x="1728696" y="521997"/>
                  <a:pt x="1719263" y="525462"/>
                  <a:pt x="1709738" y="528637"/>
                </a:cubicBezTo>
                <a:cubicBezTo>
                  <a:pt x="1704975" y="530225"/>
                  <a:pt x="1700320" y="532182"/>
                  <a:pt x="1695450" y="533400"/>
                </a:cubicBezTo>
                <a:cubicBezTo>
                  <a:pt x="1682750" y="536575"/>
                  <a:pt x="1669059" y="537071"/>
                  <a:pt x="1657350" y="542925"/>
                </a:cubicBezTo>
                <a:cubicBezTo>
                  <a:pt x="1651000" y="546100"/>
                  <a:pt x="1644464" y="548928"/>
                  <a:pt x="1638300" y="552450"/>
                </a:cubicBezTo>
                <a:cubicBezTo>
                  <a:pt x="1633330" y="555290"/>
                  <a:pt x="1629243" y="559650"/>
                  <a:pt x="1624013" y="561975"/>
                </a:cubicBezTo>
                <a:cubicBezTo>
                  <a:pt x="1614838" y="566053"/>
                  <a:pt x="1603792" y="565931"/>
                  <a:pt x="1595438" y="571500"/>
                </a:cubicBezTo>
                <a:cubicBezTo>
                  <a:pt x="1562686" y="593335"/>
                  <a:pt x="1577723" y="586930"/>
                  <a:pt x="1552575" y="595312"/>
                </a:cubicBezTo>
                <a:cubicBezTo>
                  <a:pt x="1549400" y="600075"/>
                  <a:pt x="1547520" y="606024"/>
                  <a:pt x="1543050" y="609600"/>
                </a:cubicBezTo>
                <a:cubicBezTo>
                  <a:pt x="1539130" y="612736"/>
                  <a:pt x="1531681" y="610277"/>
                  <a:pt x="1528763" y="614362"/>
                </a:cubicBezTo>
                <a:cubicBezTo>
                  <a:pt x="1522927" y="622532"/>
                  <a:pt x="1522413" y="633412"/>
                  <a:pt x="1519238" y="642937"/>
                </a:cubicBezTo>
                <a:lnTo>
                  <a:pt x="1514475" y="657225"/>
                </a:lnTo>
                <a:lnTo>
                  <a:pt x="1509713" y="671512"/>
                </a:lnTo>
                <a:cubicBezTo>
                  <a:pt x="1511300" y="693737"/>
                  <a:pt x="1511872" y="716058"/>
                  <a:pt x="1514475" y="738187"/>
                </a:cubicBezTo>
                <a:cubicBezTo>
                  <a:pt x="1515812" y="749551"/>
                  <a:pt x="1525839" y="755398"/>
                  <a:pt x="1514475" y="766762"/>
                </a:cubicBezTo>
                <a:cubicBezTo>
                  <a:pt x="1510925" y="770312"/>
                  <a:pt x="1504950" y="769937"/>
                  <a:pt x="1500188" y="771525"/>
                </a:cubicBezTo>
                <a:cubicBezTo>
                  <a:pt x="1487488" y="769937"/>
                  <a:pt x="1473784" y="771960"/>
                  <a:pt x="1462088" y="766762"/>
                </a:cubicBezTo>
                <a:cubicBezTo>
                  <a:pt x="1457501" y="764723"/>
                  <a:pt x="1460461" y="756395"/>
                  <a:pt x="1457325" y="752475"/>
                </a:cubicBezTo>
                <a:cubicBezTo>
                  <a:pt x="1453749" y="748006"/>
                  <a:pt x="1447800" y="746125"/>
                  <a:pt x="1443038" y="742950"/>
                </a:cubicBezTo>
                <a:cubicBezTo>
                  <a:pt x="1434655" y="717802"/>
                  <a:pt x="1441060" y="732838"/>
                  <a:pt x="1419225" y="700087"/>
                </a:cubicBezTo>
                <a:lnTo>
                  <a:pt x="1409700" y="685800"/>
                </a:lnTo>
                <a:cubicBezTo>
                  <a:pt x="1393630" y="637589"/>
                  <a:pt x="1399405" y="667236"/>
                  <a:pt x="1404938" y="595312"/>
                </a:cubicBezTo>
                <a:cubicBezTo>
                  <a:pt x="1393964" y="551420"/>
                  <a:pt x="1408246" y="582858"/>
                  <a:pt x="1328738" y="571500"/>
                </a:cubicBezTo>
                <a:cubicBezTo>
                  <a:pt x="1318799" y="570080"/>
                  <a:pt x="1300163" y="561975"/>
                  <a:pt x="1300163" y="561975"/>
                </a:cubicBezTo>
                <a:cubicBezTo>
                  <a:pt x="1298575" y="557212"/>
                  <a:pt x="1298950" y="551237"/>
                  <a:pt x="1295400" y="547687"/>
                </a:cubicBezTo>
                <a:cubicBezTo>
                  <a:pt x="1291850" y="544137"/>
                  <a:pt x="1286112" y="543379"/>
                  <a:pt x="1281113" y="542925"/>
                </a:cubicBezTo>
                <a:cubicBezTo>
                  <a:pt x="1251033" y="540190"/>
                  <a:pt x="1220788" y="539750"/>
                  <a:pt x="1190625" y="538162"/>
                </a:cubicBezTo>
                <a:cubicBezTo>
                  <a:pt x="1182688" y="536575"/>
                  <a:pt x="1174622" y="535530"/>
                  <a:pt x="1166813" y="533400"/>
                </a:cubicBezTo>
                <a:cubicBezTo>
                  <a:pt x="1159446" y="531391"/>
                  <a:pt x="1130104" y="520061"/>
                  <a:pt x="1119188" y="519112"/>
                </a:cubicBezTo>
                <a:cubicBezTo>
                  <a:pt x="1089097" y="516495"/>
                  <a:pt x="1058863" y="515937"/>
                  <a:pt x="1028700" y="514350"/>
                </a:cubicBezTo>
                <a:cubicBezTo>
                  <a:pt x="1023938" y="511175"/>
                  <a:pt x="1018460" y="508872"/>
                  <a:pt x="1014413" y="504825"/>
                </a:cubicBezTo>
                <a:cubicBezTo>
                  <a:pt x="1005182" y="495593"/>
                  <a:pt x="1003999" y="487869"/>
                  <a:pt x="1000125" y="476250"/>
                </a:cubicBezTo>
                <a:cubicBezTo>
                  <a:pt x="998538" y="460375"/>
                  <a:pt x="997033" y="444492"/>
                  <a:pt x="995363" y="428625"/>
                </a:cubicBezTo>
                <a:cubicBezTo>
                  <a:pt x="993858" y="414328"/>
                  <a:pt x="995513" y="399272"/>
                  <a:pt x="990600" y="385762"/>
                </a:cubicBezTo>
                <a:cubicBezTo>
                  <a:pt x="988053" y="378757"/>
                  <a:pt x="967782" y="373394"/>
                  <a:pt x="962025" y="371475"/>
                </a:cubicBezTo>
                <a:cubicBezTo>
                  <a:pt x="957263" y="368300"/>
                  <a:pt x="952968" y="364275"/>
                  <a:pt x="947738" y="361950"/>
                </a:cubicBezTo>
                <a:cubicBezTo>
                  <a:pt x="938563" y="357872"/>
                  <a:pt x="928688" y="355600"/>
                  <a:pt x="919163" y="352425"/>
                </a:cubicBezTo>
                <a:cubicBezTo>
                  <a:pt x="914400" y="350837"/>
                  <a:pt x="909798" y="348646"/>
                  <a:pt x="904875" y="347662"/>
                </a:cubicBezTo>
                <a:cubicBezTo>
                  <a:pt x="896938" y="346075"/>
                  <a:pt x="888916" y="344863"/>
                  <a:pt x="881063" y="342900"/>
                </a:cubicBezTo>
                <a:cubicBezTo>
                  <a:pt x="876193" y="341682"/>
                  <a:pt x="871618" y="339458"/>
                  <a:pt x="866775" y="338137"/>
                </a:cubicBezTo>
                <a:cubicBezTo>
                  <a:pt x="854145" y="334692"/>
                  <a:pt x="828675" y="328612"/>
                  <a:pt x="828675" y="328612"/>
                </a:cubicBezTo>
                <a:cubicBezTo>
                  <a:pt x="823913" y="325437"/>
                  <a:pt x="818435" y="323134"/>
                  <a:pt x="814388" y="319087"/>
                </a:cubicBezTo>
                <a:cubicBezTo>
                  <a:pt x="810341" y="315040"/>
                  <a:pt x="809717" y="307833"/>
                  <a:pt x="804863" y="304800"/>
                </a:cubicBezTo>
                <a:cubicBezTo>
                  <a:pt x="796349" y="299479"/>
                  <a:pt x="776288" y="295275"/>
                  <a:pt x="776288" y="295275"/>
                </a:cubicBezTo>
                <a:cubicBezTo>
                  <a:pt x="754063" y="296862"/>
                  <a:pt x="731229" y="294633"/>
                  <a:pt x="709613" y="300037"/>
                </a:cubicBezTo>
                <a:cubicBezTo>
                  <a:pt x="698507" y="302813"/>
                  <a:pt x="681038" y="319087"/>
                  <a:pt x="681038" y="319087"/>
                </a:cubicBezTo>
                <a:cubicBezTo>
                  <a:pt x="677863" y="323850"/>
                  <a:pt x="676367" y="330341"/>
                  <a:pt x="671513" y="333375"/>
                </a:cubicBezTo>
                <a:cubicBezTo>
                  <a:pt x="662999" y="338696"/>
                  <a:pt x="652463" y="339725"/>
                  <a:pt x="642938" y="342900"/>
                </a:cubicBezTo>
                <a:lnTo>
                  <a:pt x="614363" y="352425"/>
                </a:lnTo>
                <a:cubicBezTo>
                  <a:pt x="609600" y="354013"/>
                  <a:pt x="605045" y="356477"/>
                  <a:pt x="600075" y="357187"/>
                </a:cubicBezTo>
                <a:lnTo>
                  <a:pt x="566738" y="361950"/>
                </a:lnTo>
                <a:cubicBezTo>
                  <a:pt x="547647" y="368313"/>
                  <a:pt x="549019" y="370331"/>
                  <a:pt x="523875" y="361950"/>
                </a:cubicBezTo>
                <a:cubicBezTo>
                  <a:pt x="518445" y="360140"/>
                  <a:pt x="514818" y="354750"/>
                  <a:pt x="509588" y="352425"/>
                </a:cubicBezTo>
                <a:cubicBezTo>
                  <a:pt x="500413" y="348347"/>
                  <a:pt x="481013" y="342900"/>
                  <a:pt x="481013" y="342900"/>
                </a:cubicBezTo>
                <a:cubicBezTo>
                  <a:pt x="473075" y="344487"/>
                  <a:pt x="463590" y="342692"/>
                  <a:pt x="457200" y="347662"/>
                </a:cubicBezTo>
                <a:cubicBezTo>
                  <a:pt x="448164" y="354690"/>
                  <a:pt x="447675" y="369887"/>
                  <a:pt x="438150" y="376237"/>
                </a:cubicBezTo>
                <a:lnTo>
                  <a:pt x="423863" y="385762"/>
                </a:lnTo>
                <a:cubicBezTo>
                  <a:pt x="401638" y="384175"/>
                  <a:pt x="378992" y="385590"/>
                  <a:pt x="357188" y="381000"/>
                </a:cubicBezTo>
                <a:cubicBezTo>
                  <a:pt x="348130" y="379093"/>
                  <a:pt x="341467" y="371208"/>
                  <a:pt x="333375" y="366712"/>
                </a:cubicBezTo>
                <a:cubicBezTo>
                  <a:pt x="327169" y="363264"/>
                  <a:pt x="320675" y="360362"/>
                  <a:pt x="314325" y="357187"/>
                </a:cubicBezTo>
                <a:cubicBezTo>
                  <a:pt x="307975" y="358775"/>
                  <a:pt x="299535" y="356980"/>
                  <a:pt x="295275" y="361950"/>
                </a:cubicBezTo>
                <a:cubicBezTo>
                  <a:pt x="288741" y="369573"/>
                  <a:pt x="285750" y="390525"/>
                  <a:pt x="285750" y="390525"/>
                </a:cubicBezTo>
                <a:cubicBezTo>
                  <a:pt x="284163" y="409575"/>
                  <a:pt x="286610" y="429404"/>
                  <a:pt x="280988" y="447675"/>
                </a:cubicBezTo>
                <a:cubicBezTo>
                  <a:pt x="279512" y="452473"/>
                  <a:pt x="267363" y="447461"/>
                  <a:pt x="266700" y="452437"/>
                </a:cubicBezTo>
                <a:cubicBezTo>
                  <a:pt x="260612" y="498098"/>
                  <a:pt x="263525" y="544512"/>
                  <a:pt x="261938" y="590550"/>
                </a:cubicBezTo>
                <a:cubicBezTo>
                  <a:pt x="242888" y="588962"/>
                  <a:pt x="223533" y="589536"/>
                  <a:pt x="204788" y="585787"/>
                </a:cubicBezTo>
                <a:cubicBezTo>
                  <a:pt x="199175" y="584664"/>
                  <a:pt x="195620" y="578822"/>
                  <a:pt x="190500" y="576262"/>
                </a:cubicBezTo>
                <a:cubicBezTo>
                  <a:pt x="186010" y="574017"/>
                  <a:pt x="180975" y="573087"/>
                  <a:pt x="176213" y="571500"/>
                </a:cubicBezTo>
                <a:cubicBezTo>
                  <a:pt x="144257" y="550197"/>
                  <a:pt x="175567" y="575293"/>
                  <a:pt x="157163" y="547687"/>
                </a:cubicBezTo>
                <a:cubicBezTo>
                  <a:pt x="153427" y="542083"/>
                  <a:pt x="147187" y="538574"/>
                  <a:pt x="142875" y="533400"/>
                </a:cubicBezTo>
                <a:cubicBezTo>
                  <a:pt x="139211" y="529003"/>
                  <a:pt x="138204" y="522146"/>
                  <a:pt x="133350" y="519112"/>
                </a:cubicBezTo>
                <a:cubicBezTo>
                  <a:pt x="109830" y="504412"/>
                  <a:pt x="56661" y="506151"/>
                  <a:pt x="38100" y="504825"/>
                </a:cubicBezTo>
                <a:cubicBezTo>
                  <a:pt x="33338" y="503237"/>
                  <a:pt x="28303" y="502307"/>
                  <a:pt x="23813" y="500062"/>
                </a:cubicBezTo>
                <a:cubicBezTo>
                  <a:pt x="18693" y="497502"/>
                  <a:pt x="14433" y="493482"/>
                  <a:pt x="9525" y="490537"/>
                </a:cubicBezTo>
                <a:cubicBezTo>
                  <a:pt x="6481" y="488711"/>
                  <a:pt x="3175" y="487362"/>
                  <a:pt x="0" y="485775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任意多边形 13"/>
          <p:cNvSpPr/>
          <p:nvPr/>
        </p:nvSpPr>
        <p:spPr>
          <a:xfrm>
            <a:off x="2567160" y="4405320"/>
            <a:ext cx="2242800" cy="1581120"/>
          </a:xfrm>
          <a:custGeom>
            <a:avLst/>
            <a:gdLst/>
            <a:ahLst/>
            <a:rect l="l" t="t" r="r" b="b"/>
            <a:pathLst>
              <a:path w="2243137" h="1581150">
                <a:moveTo>
                  <a:pt x="2243137" y="1581150"/>
                </a:moveTo>
                <a:cubicBezTo>
                  <a:pt x="2239962" y="1573212"/>
                  <a:pt x="2235403" y="1565696"/>
                  <a:pt x="2233612" y="1557337"/>
                </a:cubicBezTo>
                <a:cubicBezTo>
                  <a:pt x="2230600" y="1543281"/>
                  <a:pt x="2235279" y="1527333"/>
                  <a:pt x="2228850" y="1514475"/>
                </a:cubicBezTo>
                <a:cubicBezTo>
                  <a:pt x="2225923" y="1508621"/>
                  <a:pt x="2216288" y="1510577"/>
                  <a:pt x="2209800" y="1509712"/>
                </a:cubicBezTo>
                <a:cubicBezTo>
                  <a:pt x="2192419" y="1507395"/>
                  <a:pt x="2174875" y="1506537"/>
                  <a:pt x="2157412" y="1504950"/>
                </a:cubicBezTo>
                <a:cubicBezTo>
                  <a:pt x="2146765" y="1502288"/>
                  <a:pt x="2116742" y="1495299"/>
                  <a:pt x="2109787" y="1490662"/>
                </a:cubicBezTo>
                <a:lnTo>
                  <a:pt x="2095500" y="1481137"/>
                </a:lnTo>
                <a:cubicBezTo>
                  <a:pt x="2104189" y="1468104"/>
                  <a:pt x="2104274" y="1464009"/>
                  <a:pt x="2119312" y="1457325"/>
                </a:cubicBezTo>
                <a:cubicBezTo>
                  <a:pt x="2128487" y="1453247"/>
                  <a:pt x="2147887" y="1447800"/>
                  <a:pt x="2147887" y="1447800"/>
                </a:cubicBezTo>
                <a:cubicBezTo>
                  <a:pt x="2169325" y="1383487"/>
                  <a:pt x="2145577" y="1462431"/>
                  <a:pt x="2162175" y="1357312"/>
                </a:cubicBezTo>
                <a:cubicBezTo>
                  <a:pt x="2163741" y="1347395"/>
                  <a:pt x="2171700" y="1328737"/>
                  <a:pt x="2171700" y="1328737"/>
                </a:cubicBezTo>
                <a:cubicBezTo>
                  <a:pt x="2161786" y="1289084"/>
                  <a:pt x="2173858" y="1328294"/>
                  <a:pt x="2157412" y="1295400"/>
                </a:cubicBezTo>
                <a:cubicBezTo>
                  <a:pt x="2155167" y="1290910"/>
                  <a:pt x="2155088" y="1285500"/>
                  <a:pt x="2152650" y="1281112"/>
                </a:cubicBezTo>
                <a:cubicBezTo>
                  <a:pt x="2147091" y="1271105"/>
                  <a:pt x="2137221" y="1263397"/>
                  <a:pt x="2133600" y="1252537"/>
                </a:cubicBezTo>
                <a:cubicBezTo>
                  <a:pt x="2127027" y="1232820"/>
                  <a:pt x="2133014" y="1241035"/>
                  <a:pt x="2114550" y="1228725"/>
                </a:cubicBezTo>
                <a:cubicBezTo>
                  <a:pt x="2112962" y="1222375"/>
                  <a:pt x="2115233" y="1213306"/>
                  <a:pt x="2109787" y="1209675"/>
                </a:cubicBezTo>
                <a:cubicBezTo>
                  <a:pt x="2098895" y="1202414"/>
                  <a:pt x="2084106" y="1204290"/>
                  <a:pt x="2071687" y="1200150"/>
                </a:cubicBezTo>
                <a:cubicBezTo>
                  <a:pt x="2009945" y="1179569"/>
                  <a:pt x="2053142" y="1191081"/>
                  <a:pt x="1938337" y="1185862"/>
                </a:cubicBezTo>
                <a:cubicBezTo>
                  <a:pt x="1933575" y="1182687"/>
                  <a:pt x="1925622" y="1181840"/>
                  <a:pt x="1924050" y="1176337"/>
                </a:cubicBezTo>
                <a:cubicBezTo>
                  <a:pt x="1921826" y="1168554"/>
                  <a:pt x="1926682" y="1160334"/>
                  <a:pt x="1928812" y="1152525"/>
                </a:cubicBezTo>
                <a:cubicBezTo>
                  <a:pt x="1933862" y="1134006"/>
                  <a:pt x="1936351" y="1123475"/>
                  <a:pt x="1947862" y="1109662"/>
                </a:cubicBezTo>
                <a:cubicBezTo>
                  <a:pt x="1952174" y="1104488"/>
                  <a:pt x="1958015" y="1100691"/>
                  <a:pt x="1962150" y="1095375"/>
                </a:cubicBezTo>
                <a:cubicBezTo>
                  <a:pt x="1969178" y="1086339"/>
                  <a:pt x="1981200" y="1066800"/>
                  <a:pt x="1981200" y="1066800"/>
                </a:cubicBezTo>
                <a:lnTo>
                  <a:pt x="1990725" y="1038225"/>
                </a:lnTo>
                <a:cubicBezTo>
                  <a:pt x="1992312" y="1033462"/>
                  <a:pt x="1994269" y="1028807"/>
                  <a:pt x="1995487" y="1023937"/>
                </a:cubicBezTo>
                <a:cubicBezTo>
                  <a:pt x="2010377" y="964382"/>
                  <a:pt x="1991347" y="1038426"/>
                  <a:pt x="2005012" y="990600"/>
                </a:cubicBezTo>
                <a:cubicBezTo>
                  <a:pt x="2006810" y="984306"/>
                  <a:pt x="2007197" y="977566"/>
                  <a:pt x="2009775" y="971550"/>
                </a:cubicBezTo>
                <a:cubicBezTo>
                  <a:pt x="2012030" y="966289"/>
                  <a:pt x="2016125" y="962025"/>
                  <a:pt x="2019300" y="957262"/>
                </a:cubicBezTo>
                <a:cubicBezTo>
                  <a:pt x="2020887" y="950912"/>
                  <a:pt x="2021135" y="944066"/>
                  <a:pt x="2024062" y="938212"/>
                </a:cubicBezTo>
                <a:cubicBezTo>
                  <a:pt x="2037952" y="910431"/>
                  <a:pt x="2037754" y="913209"/>
                  <a:pt x="2057400" y="900112"/>
                </a:cubicBezTo>
                <a:cubicBezTo>
                  <a:pt x="2058927" y="894002"/>
                  <a:pt x="2063506" y="873612"/>
                  <a:pt x="2066925" y="866775"/>
                </a:cubicBezTo>
                <a:cubicBezTo>
                  <a:pt x="2069485" y="861655"/>
                  <a:pt x="2073275" y="857250"/>
                  <a:pt x="2076450" y="852487"/>
                </a:cubicBezTo>
                <a:cubicBezTo>
                  <a:pt x="2078037" y="847725"/>
                  <a:pt x="2078967" y="842690"/>
                  <a:pt x="2081212" y="838200"/>
                </a:cubicBezTo>
                <a:cubicBezTo>
                  <a:pt x="2095125" y="810373"/>
                  <a:pt x="2087521" y="837552"/>
                  <a:pt x="2095500" y="809625"/>
                </a:cubicBezTo>
                <a:cubicBezTo>
                  <a:pt x="2097298" y="803331"/>
                  <a:pt x="2098464" y="796869"/>
                  <a:pt x="2100262" y="790575"/>
                </a:cubicBezTo>
                <a:cubicBezTo>
                  <a:pt x="2101641" y="785748"/>
                  <a:pt x="2103646" y="781114"/>
                  <a:pt x="2105025" y="776287"/>
                </a:cubicBezTo>
                <a:cubicBezTo>
                  <a:pt x="2119419" y="725907"/>
                  <a:pt x="2096677" y="796564"/>
                  <a:pt x="2119312" y="728662"/>
                </a:cubicBezTo>
                <a:cubicBezTo>
                  <a:pt x="2120900" y="723900"/>
                  <a:pt x="2121290" y="718552"/>
                  <a:pt x="2124075" y="714375"/>
                </a:cubicBezTo>
                <a:lnTo>
                  <a:pt x="2133600" y="700087"/>
                </a:lnTo>
                <a:cubicBezTo>
                  <a:pt x="2132012" y="687387"/>
                  <a:pt x="2134035" y="673683"/>
                  <a:pt x="2128837" y="661987"/>
                </a:cubicBezTo>
                <a:cubicBezTo>
                  <a:pt x="2126798" y="657400"/>
                  <a:pt x="2119164" y="659202"/>
                  <a:pt x="2114550" y="657225"/>
                </a:cubicBezTo>
                <a:cubicBezTo>
                  <a:pt x="2108024" y="654428"/>
                  <a:pt x="2102092" y="650337"/>
                  <a:pt x="2095500" y="647700"/>
                </a:cubicBezTo>
                <a:cubicBezTo>
                  <a:pt x="2086178" y="643971"/>
                  <a:pt x="2076450" y="641350"/>
                  <a:pt x="2066925" y="638175"/>
                </a:cubicBezTo>
                <a:lnTo>
                  <a:pt x="2052637" y="633412"/>
                </a:lnTo>
                <a:lnTo>
                  <a:pt x="2038350" y="628650"/>
                </a:lnTo>
                <a:cubicBezTo>
                  <a:pt x="2037755" y="619733"/>
                  <a:pt x="2040186" y="565649"/>
                  <a:pt x="2028825" y="542925"/>
                </a:cubicBezTo>
                <a:cubicBezTo>
                  <a:pt x="2026265" y="537805"/>
                  <a:pt x="2022475" y="533400"/>
                  <a:pt x="2019300" y="528637"/>
                </a:cubicBezTo>
                <a:cubicBezTo>
                  <a:pt x="2000250" y="530225"/>
                  <a:pt x="1981098" y="530874"/>
                  <a:pt x="1962150" y="533400"/>
                </a:cubicBezTo>
                <a:cubicBezTo>
                  <a:pt x="1957174" y="534063"/>
                  <a:pt x="1951412" y="534612"/>
                  <a:pt x="1947862" y="538162"/>
                </a:cubicBezTo>
                <a:cubicBezTo>
                  <a:pt x="1922462" y="563562"/>
                  <a:pt x="1966913" y="544513"/>
                  <a:pt x="1928812" y="557212"/>
                </a:cubicBezTo>
                <a:cubicBezTo>
                  <a:pt x="1912937" y="555625"/>
                  <a:pt x="1896733" y="556037"/>
                  <a:pt x="1881187" y="552450"/>
                </a:cubicBezTo>
                <a:cubicBezTo>
                  <a:pt x="1875610" y="551163"/>
                  <a:pt x="1872019" y="545485"/>
                  <a:pt x="1866900" y="542925"/>
                </a:cubicBezTo>
                <a:cubicBezTo>
                  <a:pt x="1862410" y="540680"/>
                  <a:pt x="1857226" y="540140"/>
                  <a:pt x="1852612" y="538162"/>
                </a:cubicBezTo>
                <a:cubicBezTo>
                  <a:pt x="1811425" y="520510"/>
                  <a:pt x="1852775" y="535041"/>
                  <a:pt x="1819275" y="523875"/>
                </a:cubicBezTo>
                <a:cubicBezTo>
                  <a:pt x="1814512" y="520700"/>
                  <a:pt x="1810218" y="516675"/>
                  <a:pt x="1804987" y="514350"/>
                </a:cubicBezTo>
                <a:cubicBezTo>
                  <a:pt x="1795812" y="510272"/>
                  <a:pt x="1776412" y="504825"/>
                  <a:pt x="1776412" y="504825"/>
                </a:cubicBezTo>
                <a:cubicBezTo>
                  <a:pt x="1771650" y="501650"/>
                  <a:pt x="1767814" y="495932"/>
                  <a:pt x="1762125" y="495300"/>
                </a:cubicBezTo>
                <a:cubicBezTo>
                  <a:pt x="1757600" y="494797"/>
                  <a:pt x="1727633" y="500174"/>
                  <a:pt x="1719262" y="504825"/>
                </a:cubicBezTo>
                <a:cubicBezTo>
                  <a:pt x="1709255" y="510384"/>
                  <a:pt x="1701912" y="521630"/>
                  <a:pt x="1690687" y="523875"/>
                </a:cubicBezTo>
                <a:cubicBezTo>
                  <a:pt x="1674812" y="527050"/>
                  <a:pt x="1658768" y="529474"/>
                  <a:pt x="1643062" y="533400"/>
                </a:cubicBezTo>
                <a:cubicBezTo>
                  <a:pt x="1636712" y="534987"/>
                  <a:pt x="1630306" y="536364"/>
                  <a:pt x="1624012" y="538162"/>
                </a:cubicBezTo>
                <a:cubicBezTo>
                  <a:pt x="1619185" y="539541"/>
                  <a:pt x="1614595" y="541707"/>
                  <a:pt x="1609725" y="542925"/>
                </a:cubicBezTo>
                <a:cubicBezTo>
                  <a:pt x="1555871" y="556389"/>
                  <a:pt x="1618641" y="536776"/>
                  <a:pt x="1557337" y="557212"/>
                </a:cubicBezTo>
                <a:lnTo>
                  <a:pt x="1528762" y="566737"/>
                </a:lnTo>
                <a:cubicBezTo>
                  <a:pt x="1524000" y="568324"/>
                  <a:pt x="1518652" y="568715"/>
                  <a:pt x="1514475" y="571500"/>
                </a:cubicBezTo>
                <a:lnTo>
                  <a:pt x="1485900" y="590550"/>
                </a:lnTo>
                <a:cubicBezTo>
                  <a:pt x="1484312" y="595312"/>
                  <a:pt x="1484687" y="601287"/>
                  <a:pt x="1481137" y="604837"/>
                </a:cubicBezTo>
                <a:cubicBezTo>
                  <a:pt x="1477587" y="608387"/>
                  <a:pt x="1471340" y="607355"/>
                  <a:pt x="1466850" y="609600"/>
                </a:cubicBezTo>
                <a:cubicBezTo>
                  <a:pt x="1461730" y="612160"/>
                  <a:pt x="1457532" y="616285"/>
                  <a:pt x="1452562" y="619125"/>
                </a:cubicBezTo>
                <a:cubicBezTo>
                  <a:pt x="1432941" y="630337"/>
                  <a:pt x="1428355" y="630369"/>
                  <a:pt x="1404937" y="638175"/>
                </a:cubicBezTo>
                <a:cubicBezTo>
                  <a:pt x="1390101" y="643120"/>
                  <a:pt x="1384073" y="645785"/>
                  <a:pt x="1366837" y="647700"/>
                </a:cubicBezTo>
                <a:cubicBezTo>
                  <a:pt x="1346265" y="649986"/>
                  <a:pt x="1325562" y="650875"/>
                  <a:pt x="1304925" y="652462"/>
                </a:cubicBezTo>
                <a:cubicBezTo>
                  <a:pt x="1273175" y="650875"/>
                  <a:pt x="1240952" y="653387"/>
                  <a:pt x="1209675" y="647700"/>
                </a:cubicBezTo>
                <a:cubicBezTo>
                  <a:pt x="1204043" y="646676"/>
                  <a:pt x="1202475" y="638643"/>
                  <a:pt x="1200150" y="633412"/>
                </a:cubicBezTo>
                <a:cubicBezTo>
                  <a:pt x="1196072" y="624237"/>
                  <a:pt x="1190625" y="604837"/>
                  <a:pt x="1190625" y="604837"/>
                </a:cubicBezTo>
                <a:cubicBezTo>
                  <a:pt x="1189037" y="587375"/>
                  <a:pt x="1188342" y="569808"/>
                  <a:pt x="1185862" y="552450"/>
                </a:cubicBezTo>
                <a:cubicBezTo>
                  <a:pt x="1185152" y="547480"/>
                  <a:pt x="1184650" y="541712"/>
                  <a:pt x="1181100" y="538162"/>
                </a:cubicBezTo>
                <a:cubicBezTo>
                  <a:pt x="1177550" y="534612"/>
                  <a:pt x="1171575" y="534987"/>
                  <a:pt x="1166812" y="533400"/>
                </a:cubicBezTo>
                <a:cubicBezTo>
                  <a:pt x="1162050" y="530225"/>
                  <a:pt x="1157644" y="526435"/>
                  <a:pt x="1152525" y="523875"/>
                </a:cubicBezTo>
                <a:cubicBezTo>
                  <a:pt x="1148035" y="521630"/>
                  <a:pt x="1141155" y="523197"/>
                  <a:pt x="1138237" y="519112"/>
                </a:cubicBezTo>
                <a:cubicBezTo>
                  <a:pt x="1132429" y="510981"/>
                  <a:pt x="1127374" y="482902"/>
                  <a:pt x="1123950" y="471487"/>
                </a:cubicBezTo>
                <a:cubicBezTo>
                  <a:pt x="1121065" y="461870"/>
                  <a:pt x="1124166" y="445347"/>
                  <a:pt x="1114425" y="442912"/>
                </a:cubicBezTo>
                <a:lnTo>
                  <a:pt x="1095375" y="438150"/>
                </a:lnTo>
                <a:cubicBezTo>
                  <a:pt x="1090612" y="434975"/>
                  <a:pt x="1086207" y="431185"/>
                  <a:pt x="1081087" y="428625"/>
                </a:cubicBezTo>
                <a:cubicBezTo>
                  <a:pt x="1056236" y="416199"/>
                  <a:pt x="990587" y="419379"/>
                  <a:pt x="985837" y="419100"/>
                </a:cubicBezTo>
                <a:cubicBezTo>
                  <a:pt x="979487" y="417512"/>
                  <a:pt x="973081" y="416135"/>
                  <a:pt x="966787" y="414337"/>
                </a:cubicBezTo>
                <a:cubicBezTo>
                  <a:pt x="961960" y="412958"/>
                  <a:pt x="957520" y="409575"/>
                  <a:pt x="952500" y="409575"/>
                </a:cubicBezTo>
                <a:cubicBezTo>
                  <a:pt x="931801" y="409575"/>
                  <a:pt x="911225" y="412750"/>
                  <a:pt x="890587" y="414337"/>
                </a:cubicBezTo>
                <a:cubicBezTo>
                  <a:pt x="885825" y="415925"/>
                  <a:pt x="880790" y="416855"/>
                  <a:pt x="876300" y="419100"/>
                </a:cubicBezTo>
                <a:cubicBezTo>
                  <a:pt x="871180" y="421660"/>
                  <a:pt x="866670" y="425298"/>
                  <a:pt x="862012" y="428625"/>
                </a:cubicBezTo>
                <a:cubicBezTo>
                  <a:pt x="855553" y="433238"/>
                  <a:pt x="850061" y="439362"/>
                  <a:pt x="842962" y="442912"/>
                </a:cubicBezTo>
                <a:cubicBezTo>
                  <a:pt x="833982" y="447402"/>
                  <a:pt x="823367" y="447947"/>
                  <a:pt x="814387" y="452437"/>
                </a:cubicBezTo>
                <a:cubicBezTo>
                  <a:pt x="808037" y="455612"/>
                  <a:pt x="801984" y="459469"/>
                  <a:pt x="795337" y="461962"/>
                </a:cubicBezTo>
                <a:cubicBezTo>
                  <a:pt x="789208" y="464260"/>
                  <a:pt x="782556" y="464844"/>
                  <a:pt x="776287" y="466725"/>
                </a:cubicBezTo>
                <a:cubicBezTo>
                  <a:pt x="766670" y="469610"/>
                  <a:pt x="747712" y="476250"/>
                  <a:pt x="747712" y="476250"/>
                </a:cubicBezTo>
                <a:cubicBezTo>
                  <a:pt x="747663" y="475954"/>
                  <a:pt x="743125" y="439559"/>
                  <a:pt x="738187" y="433387"/>
                </a:cubicBezTo>
                <a:cubicBezTo>
                  <a:pt x="735053" y="429470"/>
                  <a:pt x="707858" y="414581"/>
                  <a:pt x="704850" y="414337"/>
                </a:cubicBezTo>
                <a:cubicBezTo>
                  <a:pt x="652610" y="410101"/>
                  <a:pt x="600075" y="411162"/>
                  <a:pt x="547687" y="409575"/>
                </a:cubicBezTo>
                <a:cubicBezTo>
                  <a:pt x="542925" y="407987"/>
                  <a:pt x="537320" y="407948"/>
                  <a:pt x="533400" y="404812"/>
                </a:cubicBezTo>
                <a:cubicBezTo>
                  <a:pt x="528931" y="401236"/>
                  <a:pt x="527922" y="394572"/>
                  <a:pt x="523875" y="390525"/>
                </a:cubicBezTo>
                <a:cubicBezTo>
                  <a:pt x="519827" y="386478"/>
                  <a:pt x="514350" y="384175"/>
                  <a:pt x="509587" y="381000"/>
                </a:cubicBezTo>
                <a:cubicBezTo>
                  <a:pt x="492126" y="354808"/>
                  <a:pt x="509585" y="377028"/>
                  <a:pt x="485775" y="357187"/>
                </a:cubicBezTo>
                <a:cubicBezTo>
                  <a:pt x="480601" y="352875"/>
                  <a:pt x="477091" y="346636"/>
                  <a:pt x="471487" y="342900"/>
                </a:cubicBezTo>
                <a:cubicBezTo>
                  <a:pt x="467310" y="340115"/>
                  <a:pt x="461690" y="340382"/>
                  <a:pt x="457200" y="338137"/>
                </a:cubicBezTo>
                <a:cubicBezTo>
                  <a:pt x="452080" y="335577"/>
                  <a:pt x="448291" y="330568"/>
                  <a:pt x="442912" y="328612"/>
                </a:cubicBezTo>
                <a:cubicBezTo>
                  <a:pt x="430609" y="324138"/>
                  <a:pt x="404812" y="319087"/>
                  <a:pt x="404812" y="319087"/>
                </a:cubicBezTo>
                <a:cubicBezTo>
                  <a:pt x="403225" y="314325"/>
                  <a:pt x="402295" y="309290"/>
                  <a:pt x="400050" y="304800"/>
                </a:cubicBezTo>
                <a:cubicBezTo>
                  <a:pt x="395656" y="296013"/>
                  <a:pt x="384139" y="281493"/>
                  <a:pt x="376237" y="276225"/>
                </a:cubicBezTo>
                <a:cubicBezTo>
                  <a:pt x="372060" y="273440"/>
                  <a:pt x="366712" y="273050"/>
                  <a:pt x="361950" y="271462"/>
                </a:cubicBezTo>
                <a:cubicBezTo>
                  <a:pt x="357187" y="266700"/>
                  <a:pt x="353550" y="260446"/>
                  <a:pt x="347662" y="257175"/>
                </a:cubicBezTo>
                <a:cubicBezTo>
                  <a:pt x="338885" y="252299"/>
                  <a:pt x="319087" y="247650"/>
                  <a:pt x="319087" y="247650"/>
                </a:cubicBezTo>
                <a:cubicBezTo>
                  <a:pt x="314325" y="244475"/>
                  <a:pt x="309197" y="241789"/>
                  <a:pt x="304800" y="238125"/>
                </a:cubicBezTo>
                <a:cubicBezTo>
                  <a:pt x="299626" y="233813"/>
                  <a:pt x="296116" y="227573"/>
                  <a:pt x="290512" y="223837"/>
                </a:cubicBezTo>
                <a:cubicBezTo>
                  <a:pt x="286335" y="221052"/>
                  <a:pt x="280987" y="220662"/>
                  <a:pt x="276225" y="219075"/>
                </a:cubicBezTo>
                <a:cubicBezTo>
                  <a:pt x="266700" y="212725"/>
                  <a:pt x="256808" y="206894"/>
                  <a:pt x="247650" y="200025"/>
                </a:cubicBezTo>
                <a:cubicBezTo>
                  <a:pt x="241300" y="195262"/>
                  <a:pt x="235492" y="189675"/>
                  <a:pt x="228600" y="185737"/>
                </a:cubicBezTo>
                <a:cubicBezTo>
                  <a:pt x="224241" y="183246"/>
                  <a:pt x="219075" y="182562"/>
                  <a:pt x="214312" y="180975"/>
                </a:cubicBezTo>
                <a:cubicBezTo>
                  <a:pt x="209550" y="177800"/>
                  <a:pt x="203601" y="175919"/>
                  <a:pt x="200025" y="171450"/>
                </a:cubicBezTo>
                <a:cubicBezTo>
                  <a:pt x="181553" y="148360"/>
                  <a:pt x="212145" y="162789"/>
                  <a:pt x="180975" y="152400"/>
                </a:cubicBezTo>
                <a:cubicBezTo>
                  <a:pt x="171450" y="146050"/>
                  <a:pt x="158750" y="142875"/>
                  <a:pt x="152400" y="133350"/>
                </a:cubicBezTo>
                <a:cubicBezTo>
                  <a:pt x="136525" y="109537"/>
                  <a:pt x="147637" y="122237"/>
                  <a:pt x="114300" y="100012"/>
                </a:cubicBezTo>
                <a:lnTo>
                  <a:pt x="100012" y="90487"/>
                </a:lnTo>
                <a:lnTo>
                  <a:pt x="85725" y="80962"/>
                </a:lnTo>
                <a:cubicBezTo>
                  <a:pt x="82550" y="76200"/>
                  <a:pt x="80508" y="70444"/>
                  <a:pt x="76200" y="66675"/>
                </a:cubicBezTo>
                <a:cubicBezTo>
                  <a:pt x="76195" y="66670"/>
                  <a:pt x="40484" y="42864"/>
                  <a:pt x="33337" y="38100"/>
                </a:cubicBezTo>
                <a:cubicBezTo>
                  <a:pt x="28575" y="34925"/>
                  <a:pt x="23097" y="32622"/>
                  <a:pt x="19050" y="28575"/>
                </a:cubicBezTo>
                <a:lnTo>
                  <a:pt x="4762" y="14287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任意多边形 14"/>
          <p:cNvSpPr/>
          <p:nvPr/>
        </p:nvSpPr>
        <p:spPr>
          <a:xfrm>
            <a:off x="1768320" y="2252520"/>
            <a:ext cx="1008360" cy="2152800"/>
          </a:xfrm>
          <a:custGeom>
            <a:avLst/>
            <a:gdLst/>
            <a:ahLst/>
            <a:rect l="l" t="t" r="r" b="b"/>
            <a:pathLst>
              <a:path w="1007819" h="2152650">
                <a:moveTo>
                  <a:pt x="798269" y="2152650"/>
                </a:moveTo>
                <a:cubicBezTo>
                  <a:pt x="796681" y="2132012"/>
                  <a:pt x="796073" y="2111276"/>
                  <a:pt x="793506" y="2090737"/>
                </a:cubicBezTo>
                <a:cubicBezTo>
                  <a:pt x="792883" y="2085756"/>
                  <a:pt x="791880" y="2080370"/>
                  <a:pt x="788744" y="2076450"/>
                </a:cubicBezTo>
                <a:cubicBezTo>
                  <a:pt x="779646" y="2065078"/>
                  <a:pt x="771671" y="2067913"/>
                  <a:pt x="760169" y="2062162"/>
                </a:cubicBezTo>
                <a:cubicBezTo>
                  <a:pt x="723248" y="2043701"/>
                  <a:pt x="767497" y="2059842"/>
                  <a:pt x="731594" y="2047875"/>
                </a:cubicBezTo>
                <a:cubicBezTo>
                  <a:pt x="726831" y="2044700"/>
                  <a:pt x="722537" y="2040675"/>
                  <a:pt x="717306" y="2038350"/>
                </a:cubicBezTo>
                <a:cubicBezTo>
                  <a:pt x="708131" y="2034272"/>
                  <a:pt x="688731" y="2028825"/>
                  <a:pt x="688731" y="2028825"/>
                </a:cubicBezTo>
                <a:cubicBezTo>
                  <a:pt x="683969" y="2025650"/>
                  <a:pt x="679563" y="2021860"/>
                  <a:pt x="674444" y="2019300"/>
                </a:cubicBezTo>
                <a:cubicBezTo>
                  <a:pt x="659759" y="2011957"/>
                  <a:pt x="635194" y="2011417"/>
                  <a:pt x="622056" y="2009775"/>
                </a:cubicBezTo>
                <a:cubicBezTo>
                  <a:pt x="617294" y="2008187"/>
                  <a:pt x="612259" y="2007257"/>
                  <a:pt x="607769" y="2005012"/>
                </a:cubicBezTo>
                <a:cubicBezTo>
                  <a:pt x="590770" y="1996512"/>
                  <a:pt x="577532" y="1979538"/>
                  <a:pt x="564906" y="1966912"/>
                </a:cubicBezTo>
                <a:cubicBezTo>
                  <a:pt x="560144" y="1962150"/>
                  <a:pt x="554355" y="1958229"/>
                  <a:pt x="550619" y="1952625"/>
                </a:cubicBezTo>
                <a:cubicBezTo>
                  <a:pt x="547444" y="1947862"/>
                  <a:pt x="545402" y="1942106"/>
                  <a:pt x="541094" y="1938337"/>
                </a:cubicBezTo>
                <a:cubicBezTo>
                  <a:pt x="532479" y="1930799"/>
                  <a:pt x="522044" y="1925637"/>
                  <a:pt x="512519" y="1919287"/>
                </a:cubicBezTo>
                <a:cubicBezTo>
                  <a:pt x="507756" y="1916112"/>
                  <a:pt x="502810" y="1913196"/>
                  <a:pt x="498231" y="1909762"/>
                </a:cubicBezTo>
                <a:cubicBezTo>
                  <a:pt x="491881" y="1905000"/>
                  <a:pt x="486280" y="1899025"/>
                  <a:pt x="479181" y="1895475"/>
                </a:cubicBezTo>
                <a:cubicBezTo>
                  <a:pt x="473327" y="1892548"/>
                  <a:pt x="466481" y="1892300"/>
                  <a:pt x="460131" y="1890712"/>
                </a:cubicBezTo>
                <a:cubicBezTo>
                  <a:pt x="440219" y="1877438"/>
                  <a:pt x="431257" y="1874161"/>
                  <a:pt x="417269" y="1857375"/>
                </a:cubicBezTo>
                <a:cubicBezTo>
                  <a:pt x="404690" y="1842280"/>
                  <a:pt x="405141" y="1835278"/>
                  <a:pt x="398219" y="1814512"/>
                </a:cubicBezTo>
                <a:cubicBezTo>
                  <a:pt x="394136" y="1802263"/>
                  <a:pt x="391088" y="1794342"/>
                  <a:pt x="388694" y="1781175"/>
                </a:cubicBezTo>
                <a:cubicBezTo>
                  <a:pt x="386686" y="1770131"/>
                  <a:pt x="386455" y="1758775"/>
                  <a:pt x="383931" y="1747837"/>
                </a:cubicBezTo>
                <a:cubicBezTo>
                  <a:pt x="381673" y="1738054"/>
                  <a:pt x="377581" y="1728787"/>
                  <a:pt x="374406" y="1719262"/>
                </a:cubicBezTo>
                <a:lnTo>
                  <a:pt x="369644" y="1704975"/>
                </a:lnTo>
                <a:lnTo>
                  <a:pt x="364881" y="1690687"/>
                </a:lnTo>
                <a:cubicBezTo>
                  <a:pt x="366469" y="1644650"/>
                  <a:pt x="363556" y="1598236"/>
                  <a:pt x="369644" y="1552575"/>
                </a:cubicBezTo>
                <a:cubicBezTo>
                  <a:pt x="370307" y="1547599"/>
                  <a:pt x="378911" y="1547812"/>
                  <a:pt x="383931" y="1547812"/>
                </a:cubicBezTo>
                <a:cubicBezTo>
                  <a:pt x="390476" y="1547812"/>
                  <a:pt x="396631" y="1550987"/>
                  <a:pt x="402981" y="1552575"/>
                </a:cubicBezTo>
                <a:cubicBezTo>
                  <a:pt x="414316" y="1586580"/>
                  <a:pt x="404152" y="1575581"/>
                  <a:pt x="426794" y="1590675"/>
                </a:cubicBezTo>
                <a:cubicBezTo>
                  <a:pt x="429969" y="1595437"/>
                  <a:pt x="431005" y="1602836"/>
                  <a:pt x="436319" y="1604962"/>
                </a:cubicBezTo>
                <a:cubicBezTo>
                  <a:pt x="451260" y="1610938"/>
                  <a:pt x="453128" y="1592635"/>
                  <a:pt x="455369" y="1585912"/>
                </a:cubicBezTo>
                <a:cubicBezTo>
                  <a:pt x="453781" y="1558925"/>
                  <a:pt x="453296" y="1531850"/>
                  <a:pt x="450606" y="1504950"/>
                </a:cubicBezTo>
                <a:cubicBezTo>
                  <a:pt x="450106" y="1499955"/>
                  <a:pt x="447223" y="1495489"/>
                  <a:pt x="445844" y="1490662"/>
                </a:cubicBezTo>
                <a:cubicBezTo>
                  <a:pt x="433887" y="1448810"/>
                  <a:pt x="447735" y="1491574"/>
                  <a:pt x="436319" y="1457325"/>
                </a:cubicBezTo>
                <a:cubicBezTo>
                  <a:pt x="436915" y="1448384"/>
                  <a:pt x="434480" y="1394328"/>
                  <a:pt x="445844" y="1371600"/>
                </a:cubicBezTo>
                <a:cubicBezTo>
                  <a:pt x="448404" y="1366480"/>
                  <a:pt x="452194" y="1362075"/>
                  <a:pt x="455369" y="1357312"/>
                </a:cubicBezTo>
                <a:cubicBezTo>
                  <a:pt x="456956" y="1352550"/>
                  <a:pt x="460131" y="1348045"/>
                  <a:pt x="460131" y="1343025"/>
                </a:cubicBezTo>
                <a:cubicBezTo>
                  <a:pt x="460131" y="1307797"/>
                  <a:pt x="455815" y="1301498"/>
                  <a:pt x="445844" y="1271587"/>
                </a:cubicBezTo>
                <a:lnTo>
                  <a:pt x="441081" y="1257300"/>
                </a:lnTo>
                <a:lnTo>
                  <a:pt x="436319" y="1243012"/>
                </a:lnTo>
                <a:cubicBezTo>
                  <a:pt x="435352" y="1231404"/>
                  <a:pt x="433413" y="1181907"/>
                  <a:pt x="426794" y="1162050"/>
                </a:cubicBezTo>
                <a:cubicBezTo>
                  <a:pt x="424549" y="1155315"/>
                  <a:pt x="422289" y="1148020"/>
                  <a:pt x="417269" y="1143000"/>
                </a:cubicBezTo>
                <a:cubicBezTo>
                  <a:pt x="409174" y="1134905"/>
                  <a:pt x="396789" y="1132045"/>
                  <a:pt x="388694" y="1123950"/>
                </a:cubicBezTo>
                <a:cubicBezTo>
                  <a:pt x="370856" y="1106112"/>
                  <a:pt x="380796" y="1111792"/>
                  <a:pt x="360119" y="1104900"/>
                </a:cubicBezTo>
                <a:lnTo>
                  <a:pt x="317256" y="1076325"/>
                </a:lnTo>
                <a:lnTo>
                  <a:pt x="302969" y="1066800"/>
                </a:lnTo>
                <a:cubicBezTo>
                  <a:pt x="280744" y="1033462"/>
                  <a:pt x="293444" y="1044575"/>
                  <a:pt x="269631" y="1028700"/>
                </a:cubicBezTo>
                <a:cubicBezTo>
                  <a:pt x="266456" y="1023937"/>
                  <a:pt x="263909" y="1018690"/>
                  <a:pt x="260106" y="1014412"/>
                </a:cubicBezTo>
                <a:cubicBezTo>
                  <a:pt x="251157" y="1004344"/>
                  <a:pt x="239003" y="997045"/>
                  <a:pt x="231531" y="985837"/>
                </a:cubicBezTo>
                <a:cubicBezTo>
                  <a:pt x="218831" y="966788"/>
                  <a:pt x="226768" y="974725"/>
                  <a:pt x="207719" y="962025"/>
                </a:cubicBezTo>
                <a:cubicBezTo>
                  <a:pt x="206131" y="938212"/>
                  <a:pt x="208133" y="913884"/>
                  <a:pt x="202956" y="890587"/>
                </a:cubicBezTo>
                <a:cubicBezTo>
                  <a:pt x="199571" y="875353"/>
                  <a:pt x="184286" y="876490"/>
                  <a:pt x="174381" y="871537"/>
                </a:cubicBezTo>
                <a:cubicBezTo>
                  <a:pt x="169262" y="868977"/>
                  <a:pt x="164856" y="865187"/>
                  <a:pt x="160094" y="862012"/>
                </a:cubicBezTo>
                <a:cubicBezTo>
                  <a:pt x="134692" y="823910"/>
                  <a:pt x="168034" y="869953"/>
                  <a:pt x="136281" y="838200"/>
                </a:cubicBezTo>
                <a:cubicBezTo>
                  <a:pt x="114739" y="816658"/>
                  <a:pt x="140283" y="828421"/>
                  <a:pt x="112469" y="819150"/>
                </a:cubicBezTo>
                <a:lnTo>
                  <a:pt x="69606" y="790575"/>
                </a:lnTo>
                <a:lnTo>
                  <a:pt x="55319" y="781050"/>
                </a:lnTo>
                <a:cubicBezTo>
                  <a:pt x="53731" y="776287"/>
                  <a:pt x="50556" y="771782"/>
                  <a:pt x="50556" y="766762"/>
                </a:cubicBezTo>
                <a:cubicBezTo>
                  <a:pt x="50556" y="748280"/>
                  <a:pt x="60740" y="751127"/>
                  <a:pt x="74369" y="742950"/>
                </a:cubicBezTo>
                <a:cubicBezTo>
                  <a:pt x="84185" y="737060"/>
                  <a:pt x="93419" y="730250"/>
                  <a:pt x="102944" y="723900"/>
                </a:cubicBezTo>
                <a:lnTo>
                  <a:pt x="117231" y="714375"/>
                </a:lnTo>
                <a:cubicBezTo>
                  <a:pt x="132326" y="691732"/>
                  <a:pt x="124945" y="705519"/>
                  <a:pt x="136281" y="671512"/>
                </a:cubicBezTo>
                <a:lnTo>
                  <a:pt x="141044" y="657225"/>
                </a:lnTo>
                <a:cubicBezTo>
                  <a:pt x="139456" y="609600"/>
                  <a:pt x="142379" y="561610"/>
                  <a:pt x="136281" y="514350"/>
                </a:cubicBezTo>
                <a:cubicBezTo>
                  <a:pt x="135639" y="509371"/>
                  <a:pt x="126484" y="511832"/>
                  <a:pt x="121994" y="509587"/>
                </a:cubicBezTo>
                <a:cubicBezTo>
                  <a:pt x="116874" y="507027"/>
                  <a:pt x="112967" y="502317"/>
                  <a:pt x="107706" y="500062"/>
                </a:cubicBezTo>
                <a:cubicBezTo>
                  <a:pt x="91946" y="493308"/>
                  <a:pt x="49424" y="491376"/>
                  <a:pt x="41031" y="490537"/>
                </a:cubicBezTo>
                <a:cubicBezTo>
                  <a:pt x="-11908" y="472891"/>
                  <a:pt x="-6392" y="484924"/>
                  <a:pt x="17219" y="385762"/>
                </a:cubicBezTo>
                <a:cubicBezTo>
                  <a:pt x="18735" y="379395"/>
                  <a:pt x="29975" y="382798"/>
                  <a:pt x="36269" y="381000"/>
                </a:cubicBezTo>
                <a:cubicBezTo>
                  <a:pt x="41096" y="379621"/>
                  <a:pt x="45942" y="378215"/>
                  <a:pt x="50556" y="376237"/>
                </a:cubicBezTo>
                <a:cubicBezTo>
                  <a:pt x="57081" y="373440"/>
                  <a:pt x="63014" y="369349"/>
                  <a:pt x="69606" y="366712"/>
                </a:cubicBezTo>
                <a:cubicBezTo>
                  <a:pt x="69639" y="366699"/>
                  <a:pt x="105308" y="354812"/>
                  <a:pt x="112469" y="352425"/>
                </a:cubicBezTo>
                <a:lnTo>
                  <a:pt x="126756" y="347662"/>
                </a:lnTo>
                <a:lnTo>
                  <a:pt x="141044" y="342900"/>
                </a:lnTo>
                <a:lnTo>
                  <a:pt x="169619" y="323850"/>
                </a:lnTo>
                <a:cubicBezTo>
                  <a:pt x="174381" y="320675"/>
                  <a:pt x="178476" y="316135"/>
                  <a:pt x="183906" y="314325"/>
                </a:cubicBezTo>
                <a:cubicBezTo>
                  <a:pt x="188669" y="312737"/>
                  <a:pt x="193255" y="310460"/>
                  <a:pt x="198194" y="309562"/>
                </a:cubicBezTo>
                <a:cubicBezTo>
                  <a:pt x="225060" y="304677"/>
                  <a:pt x="274915" y="301829"/>
                  <a:pt x="298206" y="300037"/>
                </a:cubicBezTo>
                <a:cubicBezTo>
                  <a:pt x="302969" y="298450"/>
                  <a:pt x="308106" y="297713"/>
                  <a:pt x="312494" y="295275"/>
                </a:cubicBezTo>
                <a:cubicBezTo>
                  <a:pt x="322501" y="289716"/>
                  <a:pt x="341069" y="276225"/>
                  <a:pt x="341069" y="276225"/>
                </a:cubicBezTo>
                <a:cubicBezTo>
                  <a:pt x="345831" y="279400"/>
                  <a:pt x="351780" y="281281"/>
                  <a:pt x="355356" y="285750"/>
                </a:cubicBezTo>
                <a:cubicBezTo>
                  <a:pt x="358492" y="289670"/>
                  <a:pt x="355942" y="297252"/>
                  <a:pt x="360119" y="300037"/>
                </a:cubicBezTo>
                <a:cubicBezTo>
                  <a:pt x="366854" y="304527"/>
                  <a:pt x="375994" y="303212"/>
                  <a:pt x="383931" y="304800"/>
                </a:cubicBezTo>
                <a:cubicBezTo>
                  <a:pt x="412506" y="303212"/>
                  <a:pt x="441651" y="305933"/>
                  <a:pt x="469656" y="300037"/>
                </a:cubicBezTo>
                <a:cubicBezTo>
                  <a:pt x="474568" y="299003"/>
                  <a:pt x="472174" y="290240"/>
                  <a:pt x="474419" y="285750"/>
                </a:cubicBezTo>
                <a:cubicBezTo>
                  <a:pt x="483036" y="268516"/>
                  <a:pt x="481752" y="272193"/>
                  <a:pt x="498231" y="266700"/>
                </a:cubicBezTo>
                <a:cubicBezTo>
                  <a:pt x="530983" y="244865"/>
                  <a:pt x="515946" y="251270"/>
                  <a:pt x="541094" y="242887"/>
                </a:cubicBezTo>
                <a:cubicBezTo>
                  <a:pt x="555381" y="244475"/>
                  <a:pt x="569725" y="245617"/>
                  <a:pt x="583956" y="247650"/>
                </a:cubicBezTo>
                <a:cubicBezTo>
                  <a:pt x="599844" y="249920"/>
                  <a:pt x="627480" y="256982"/>
                  <a:pt x="641106" y="261937"/>
                </a:cubicBezTo>
                <a:cubicBezTo>
                  <a:pt x="680131" y="276128"/>
                  <a:pt x="642471" y="267505"/>
                  <a:pt x="674444" y="276225"/>
                </a:cubicBezTo>
                <a:cubicBezTo>
                  <a:pt x="733541" y="292343"/>
                  <a:pt x="693941" y="279549"/>
                  <a:pt x="726831" y="290512"/>
                </a:cubicBezTo>
                <a:cubicBezTo>
                  <a:pt x="734769" y="288925"/>
                  <a:pt x="743616" y="289766"/>
                  <a:pt x="750644" y="285750"/>
                </a:cubicBezTo>
                <a:cubicBezTo>
                  <a:pt x="755614" y="282910"/>
                  <a:pt x="756505" y="275859"/>
                  <a:pt x="760169" y="271462"/>
                </a:cubicBezTo>
                <a:cubicBezTo>
                  <a:pt x="764481" y="266288"/>
                  <a:pt x="768569" y="260446"/>
                  <a:pt x="774456" y="257175"/>
                </a:cubicBezTo>
                <a:cubicBezTo>
                  <a:pt x="783233" y="252299"/>
                  <a:pt x="793506" y="250825"/>
                  <a:pt x="803031" y="247650"/>
                </a:cubicBezTo>
                <a:cubicBezTo>
                  <a:pt x="807794" y="246062"/>
                  <a:pt x="812449" y="244105"/>
                  <a:pt x="817319" y="242887"/>
                </a:cubicBezTo>
                <a:cubicBezTo>
                  <a:pt x="865164" y="230926"/>
                  <a:pt x="842996" y="237503"/>
                  <a:pt x="883994" y="223837"/>
                </a:cubicBezTo>
                <a:lnTo>
                  <a:pt x="898281" y="219075"/>
                </a:lnTo>
                <a:cubicBezTo>
                  <a:pt x="939229" y="191778"/>
                  <a:pt x="891041" y="228125"/>
                  <a:pt x="917331" y="195262"/>
                </a:cubicBezTo>
                <a:cubicBezTo>
                  <a:pt x="920907" y="190792"/>
                  <a:pt x="926856" y="188912"/>
                  <a:pt x="931619" y="185737"/>
                </a:cubicBezTo>
                <a:cubicBezTo>
                  <a:pt x="934794" y="180975"/>
                  <a:pt x="938584" y="176569"/>
                  <a:pt x="941144" y="171450"/>
                </a:cubicBezTo>
                <a:cubicBezTo>
                  <a:pt x="943389" y="166960"/>
                  <a:pt x="943468" y="161550"/>
                  <a:pt x="945906" y="157162"/>
                </a:cubicBezTo>
                <a:cubicBezTo>
                  <a:pt x="951465" y="147155"/>
                  <a:pt x="961336" y="139447"/>
                  <a:pt x="964956" y="128587"/>
                </a:cubicBezTo>
                <a:cubicBezTo>
                  <a:pt x="968131" y="119062"/>
                  <a:pt x="972512" y="109857"/>
                  <a:pt x="974481" y="100012"/>
                </a:cubicBezTo>
                <a:cubicBezTo>
                  <a:pt x="984163" y="51610"/>
                  <a:pt x="974245" y="96077"/>
                  <a:pt x="984006" y="61912"/>
                </a:cubicBezTo>
                <a:cubicBezTo>
                  <a:pt x="986039" y="54797"/>
                  <a:pt x="989727" y="36183"/>
                  <a:pt x="993531" y="28575"/>
                </a:cubicBezTo>
                <a:cubicBezTo>
                  <a:pt x="996091" y="23455"/>
                  <a:pt x="1000496" y="19407"/>
                  <a:pt x="1003056" y="14287"/>
                </a:cubicBezTo>
                <a:cubicBezTo>
                  <a:pt x="1005301" y="9797"/>
                  <a:pt x="1007819" y="0"/>
                  <a:pt x="1007819" y="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任意多边形 15"/>
          <p:cNvSpPr/>
          <p:nvPr/>
        </p:nvSpPr>
        <p:spPr>
          <a:xfrm>
            <a:off x="2717640" y="1562040"/>
            <a:ext cx="1078200" cy="690480"/>
          </a:xfrm>
          <a:custGeom>
            <a:avLst/>
            <a:gdLst/>
            <a:ahLst/>
            <a:rect l="l" t="t" r="r" b="b"/>
            <a:pathLst>
              <a:path w="1077345" h="690563">
                <a:moveTo>
                  <a:pt x="67683" y="690563"/>
                </a:moveTo>
                <a:cubicBezTo>
                  <a:pt x="78972" y="634110"/>
                  <a:pt x="64133" y="692596"/>
                  <a:pt x="81970" y="652463"/>
                </a:cubicBezTo>
                <a:cubicBezTo>
                  <a:pt x="86048" y="643288"/>
                  <a:pt x="85926" y="632242"/>
                  <a:pt x="91495" y="623888"/>
                </a:cubicBezTo>
                <a:cubicBezTo>
                  <a:pt x="103805" y="605423"/>
                  <a:pt x="99210" y="615030"/>
                  <a:pt x="105783" y="595313"/>
                </a:cubicBezTo>
                <a:cubicBezTo>
                  <a:pt x="104195" y="579438"/>
                  <a:pt x="103960" y="563369"/>
                  <a:pt x="101020" y="547688"/>
                </a:cubicBezTo>
                <a:cubicBezTo>
                  <a:pt x="99170" y="537820"/>
                  <a:pt x="94670" y="528638"/>
                  <a:pt x="91495" y="519113"/>
                </a:cubicBezTo>
                <a:cubicBezTo>
                  <a:pt x="91493" y="519108"/>
                  <a:pt x="81974" y="490543"/>
                  <a:pt x="81970" y="490538"/>
                </a:cubicBezTo>
                <a:lnTo>
                  <a:pt x="72445" y="476250"/>
                </a:lnTo>
                <a:cubicBezTo>
                  <a:pt x="69308" y="466838"/>
                  <a:pt x="66551" y="454389"/>
                  <a:pt x="58158" y="447675"/>
                </a:cubicBezTo>
                <a:cubicBezTo>
                  <a:pt x="54238" y="444539"/>
                  <a:pt x="48633" y="444500"/>
                  <a:pt x="43870" y="442913"/>
                </a:cubicBezTo>
                <a:cubicBezTo>
                  <a:pt x="39108" y="439738"/>
                  <a:pt x="33980" y="437052"/>
                  <a:pt x="29583" y="433388"/>
                </a:cubicBezTo>
                <a:cubicBezTo>
                  <a:pt x="24409" y="429076"/>
                  <a:pt x="20899" y="422836"/>
                  <a:pt x="15295" y="419100"/>
                </a:cubicBezTo>
                <a:cubicBezTo>
                  <a:pt x="11118" y="416315"/>
                  <a:pt x="-4012" y="414338"/>
                  <a:pt x="1008" y="414338"/>
                </a:cubicBezTo>
                <a:cubicBezTo>
                  <a:pt x="20124" y="414338"/>
                  <a:pt x="39108" y="417513"/>
                  <a:pt x="58158" y="419100"/>
                </a:cubicBezTo>
                <a:cubicBezTo>
                  <a:pt x="142362" y="433135"/>
                  <a:pt x="37326" y="415312"/>
                  <a:pt x="110545" y="428625"/>
                </a:cubicBezTo>
                <a:cubicBezTo>
                  <a:pt x="120046" y="430352"/>
                  <a:pt x="129475" y="432918"/>
                  <a:pt x="139120" y="433388"/>
                </a:cubicBezTo>
                <a:cubicBezTo>
                  <a:pt x="194639" y="436096"/>
                  <a:pt x="250245" y="436563"/>
                  <a:pt x="305808" y="438150"/>
                </a:cubicBezTo>
                <a:cubicBezTo>
                  <a:pt x="318245" y="437114"/>
                  <a:pt x="362148" y="442734"/>
                  <a:pt x="377245" y="423863"/>
                </a:cubicBezTo>
                <a:cubicBezTo>
                  <a:pt x="380381" y="419943"/>
                  <a:pt x="380420" y="414338"/>
                  <a:pt x="382008" y="409575"/>
                </a:cubicBezTo>
                <a:cubicBezTo>
                  <a:pt x="383595" y="382588"/>
                  <a:pt x="383274" y="355420"/>
                  <a:pt x="386770" y="328613"/>
                </a:cubicBezTo>
                <a:cubicBezTo>
                  <a:pt x="388069" y="318657"/>
                  <a:pt x="393120" y="309563"/>
                  <a:pt x="396295" y="300038"/>
                </a:cubicBezTo>
                <a:lnTo>
                  <a:pt x="401058" y="285750"/>
                </a:lnTo>
                <a:cubicBezTo>
                  <a:pt x="402645" y="280988"/>
                  <a:pt x="403036" y="275640"/>
                  <a:pt x="405820" y="271463"/>
                </a:cubicBezTo>
                <a:lnTo>
                  <a:pt x="415345" y="257175"/>
                </a:lnTo>
                <a:cubicBezTo>
                  <a:pt x="415655" y="255934"/>
                  <a:pt x="422387" y="226942"/>
                  <a:pt x="424870" y="223838"/>
                </a:cubicBezTo>
                <a:cubicBezTo>
                  <a:pt x="433968" y="212466"/>
                  <a:pt x="441943" y="215301"/>
                  <a:pt x="453445" y="209550"/>
                </a:cubicBezTo>
                <a:cubicBezTo>
                  <a:pt x="486330" y="193107"/>
                  <a:pt x="447142" y="205172"/>
                  <a:pt x="486783" y="195263"/>
                </a:cubicBezTo>
                <a:cubicBezTo>
                  <a:pt x="507420" y="196850"/>
                  <a:pt x="528250" y="196797"/>
                  <a:pt x="548695" y="200025"/>
                </a:cubicBezTo>
                <a:cubicBezTo>
                  <a:pt x="558612" y="201591"/>
                  <a:pt x="567745" y="206375"/>
                  <a:pt x="577270" y="209550"/>
                </a:cubicBezTo>
                <a:cubicBezTo>
                  <a:pt x="582033" y="211138"/>
                  <a:pt x="587381" y="211528"/>
                  <a:pt x="591558" y="214313"/>
                </a:cubicBezTo>
                <a:cubicBezTo>
                  <a:pt x="596320" y="217488"/>
                  <a:pt x="600584" y="221583"/>
                  <a:pt x="605845" y="223838"/>
                </a:cubicBezTo>
                <a:cubicBezTo>
                  <a:pt x="611861" y="226416"/>
                  <a:pt x="618601" y="226802"/>
                  <a:pt x="624895" y="228600"/>
                </a:cubicBezTo>
                <a:cubicBezTo>
                  <a:pt x="629722" y="229979"/>
                  <a:pt x="634420" y="231775"/>
                  <a:pt x="639183" y="233363"/>
                </a:cubicBezTo>
                <a:cubicBezTo>
                  <a:pt x="674108" y="231775"/>
                  <a:pt x="709108" y="231388"/>
                  <a:pt x="743958" y="228600"/>
                </a:cubicBezTo>
                <a:cubicBezTo>
                  <a:pt x="748962" y="228200"/>
                  <a:pt x="753755" y="226083"/>
                  <a:pt x="758245" y="223838"/>
                </a:cubicBezTo>
                <a:cubicBezTo>
                  <a:pt x="763365" y="221278"/>
                  <a:pt x="767770" y="217488"/>
                  <a:pt x="772533" y="214313"/>
                </a:cubicBezTo>
                <a:cubicBezTo>
                  <a:pt x="774120" y="209550"/>
                  <a:pt x="774857" y="204413"/>
                  <a:pt x="777295" y="200025"/>
                </a:cubicBezTo>
                <a:cubicBezTo>
                  <a:pt x="782854" y="190018"/>
                  <a:pt x="792724" y="182310"/>
                  <a:pt x="796345" y="171450"/>
                </a:cubicBezTo>
                <a:cubicBezTo>
                  <a:pt x="797933" y="166688"/>
                  <a:pt x="798670" y="161551"/>
                  <a:pt x="801108" y="157163"/>
                </a:cubicBezTo>
                <a:cubicBezTo>
                  <a:pt x="806668" y="147156"/>
                  <a:pt x="820158" y="128588"/>
                  <a:pt x="820158" y="128588"/>
                </a:cubicBezTo>
                <a:cubicBezTo>
                  <a:pt x="829428" y="100773"/>
                  <a:pt x="817666" y="126316"/>
                  <a:pt x="839208" y="104775"/>
                </a:cubicBezTo>
                <a:cubicBezTo>
                  <a:pt x="843255" y="100728"/>
                  <a:pt x="843879" y="93521"/>
                  <a:pt x="848733" y="90488"/>
                </a:cubicBezTo>
                <a:cubicBezTo>
                  <a:pt x="857247" y="85167"/>
                  <a:pt x="867783" y="84138"/>
                  <a:pt x="877308" y="80963"/>
                </a:cubicBezTo>
                <a:lnTo>
                  <a:pt x="905883" y="71438"/>
                </a:lnTo>
                <a:cubicBezTo>
                  <a:pt x="910645" y="69851"/>
                  <a:pt x="915993" y="69460"/>
                  <a:pt x="920170" y="66675"/>
                </a:cubicBezTo>
                <a:cubicBezTo>
                  <a:pt x="942812" y="51581"/>
                  <a:pt x="929029" y="58960"/>
                  <a:pt x="963033" y="47625"/>
                </a:cubicBezTo>
                <a:lnTo>
                  <a:pt x="977320" y="42863"/>
                </a:lnTo>
                <a:cubicBezTo>
                  <a:pt x="982083" y="39688"/>
                  <a:pt x="986347" y="35593"/>
                  <a:pt x="991608" y="33338"/>
                </a:cubicBezTo>
                <a:cubicBezTo>
                  <a:pt x="997624" y="30760"/>
                  <a:pt x="1004364" y="30373"/>
                  <a:pt x="1010658" y="28575"/>
                </a:cubicBezTo>
                <a:cubicBezTo>
                  <a:pt x="1047621" y="18014"/>
                  <a:pt x="995986" y="26709"/>
                  <a:pt x="1072570" y="19050"/>
                </a:cubicBezTo>
                <a:cubicBezTo>
                  <a:pt x="1077835" y="3257"/>
                  <a:pt x="1077333" y="9783"/>
                  <a:pt x="1077333" y="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任意多边形 17"/>
          <p:cNvSpPr/>
          <p:nvPr/>
        </p:nvSpPr>
        <p:spPr>
          <a:xfrm>
            <a:off x="7742160" y="5384880"/>
            <a:ext cx="255600" cy="514440"/>
          </a:xfrm>
          <a:custGeom>
            <a:avLst/>
            <a:gdLst/>
            <a:ahLst/>
            <a:rect l="l" t="t" r="r" b="b"/>
            <a:pathLst>
              <a:path w="255057" h="514350">
                <a:moveTo>
                  <a:pt x="172507" y="0"/>
                </a:moveTo>
                <a:cubicBezTo>
                  <a:pt x="156632" y="0"/>
                  <a:pt x="155162" y="11245"/>
                  <a:pt x="150282" y="22225"/>
                </a:cubicBezTo>
                <a:cubicBezTo>
                  <a:pt x="147564" y="28342"/>
                  <a:pt x="146049" y="34925"/>
                  <a:pt x="143932" y="41275"/>
                </a:cubicBezTo>
                <a:lnTo>
                  <a:pt x="137582" y="60325"/>
                </a:lnTo>
                <a:cubicBezTo>
                  <a:pt x="136524" y="63500"/>
                  <a:pt x="136263" y="67065"/>
                  <a:pt x="134407" y="69850"/>
                </a:cubicBezTo>
                <a:cubicBezTo>
                  <a:pt x="132290" y="73025"/>
                  <a:pt x="130929" y="76862"/>
                  <a:pt x="128057" y="79375"/>
                </a:cubicBezTo>
                <a:cubicBezTo>
                  <a:pt x="122314" y="84401"/>
                  <a:pt x="109007" y="92075"/>
                  <a:pt x="109007" y="92075"/>
                </a:cubicBezTo>
                <a:cubicBezTo>
                  <a:pt x="106915" y="98350"/>
                  <a:pt x="105077" y="106649"/>
                  <a:pt x="99482" y="111125"/>
                </a:cubicBezTo>
                <a:cubicBezTo>
                  <a:pt x="96869" y="113216"/>
                  <a:pt x="92950" y="112803"/>
                  <a:pt x="89957" y="114300"/>
                </a:cubicBezTo>
                <a:cubicBezTo>
                  <a:pt x="86544" y="116007"/>
                  <a:pt x="83607" y="118533"/>
                  <a:pt x="80432" y="120650"/>
                </a:cubicBezTo>
                <a:cubicBezTo>
                  <a:pt x="66230" y="141952"/>
                  <a:pt x="82960" y="121081"/>
                  <a:pt x="64557" y="133350"/>
                </a:cubicBezTo>
                <a:cubicBezTo>
                  <a:pt x="60821" y="135841"/>
                  <a:pt x="58481" y="140000"/>
                  <a:pt x="55032" y="142875"/>
                </a:cubicBezTo>
                <a:cubicBezTo>
                  <a:pt x="52101" y="145318"/>
                  <a:pt x="48682" y="147108"/>
                  <a:pt x="45507" y="149225"/>
                </a:cubicBezTo>
                <a:lnTo>
                  <a:pt x="35982" y="177800"/>
                </a:lnTo>
                <a:cubicBezTo>
                  <a:pt x="34924" y="180975"/>
                  <a:pt x="33619" y="184078"/>
                  <a:pt x="32807" y="187325"/>
                </a:cubicBezTo>
                <a:cubicBezTo>
                  <a:pt x="28009" y="206519"/>
                  <a:pt x="31012" y="195885"/>
                  <a:pt x="23282" y="219075"/>
                </a:cubicBezTo>
                <a:cubicBezTo>
                  <a:pt x="22224" y="222250"/>
                  <a:pt x="21963" y="225815"/>
                  <a:pt x="20107" y="228600"/>
                </a:cubicBezTo>
                <a:lnTo>
                  <a:pt x="7407" y="247650"/>
                </a:lnTo>
                <a:cubicBezTo>
                  <a:pt x="-3829" y="292596"/>
                  <a:pt x="1057" y="269217"/>
                  <a:pt x="1057" y="365125"/>
                </a:cubicBezTo>
                <a:cubicBezTo>
                  <a:pt x="1057" y="381035"/>
                  <a:pt x="588" y="397263"/>
                  <a:pt x="4232" y="412750"/>
                </a:cubicBezTo>
                <a:cubicBezTo>
                  <a:pt x="5106" y="416464"/>
                  <a:pt x="10826" y="416657"/>
                  <a:pt x="13757" y="419100"/>
                </a:cubicBezTo>
                <a:cubicBezTo>
                  <a:pt x="38203" y="439472"/>
                  <a:pt x="9158" y="419209"/>
                  <a:pt x="32807" y="434975"/>
                </a:cubicBezTo>
                <a:cubicBezTo>
                  <a:pt x="33865" y="438150"/>
                  <a:pt x="34126" y="441715"/>
                  <a:pt x="35982" y="444500"/>
                </a:cubicBezTo>
                <a:cubicBezTo>
                  <a:pt x="41951" y="453453"/>
                  <a:pt x="56988" y="461679"/>
                  <a:pt x="64557" y="466725"/>
                </a:cubicBezTo>
                <a:lnTo>
                  <a:pt x="74082" y="473075"/>
                </a:lnTo>
                <a:cubicBezTo>
                  <a:pt x="78315" y="479425"/>
                  <a:pt x="80432" y="487892"/>
                  <a:pt x="86782" y="492125"/>
                </a:cubicBezTo>
                <a:lnTo>
                  <a:pt x="105832" y="504825"/>
                </a:lnTo>
                <a:cubicBezTo>
                  <a:pt x="109007" y="506942"/>
                  <a:pt x="111737" y="509968"/>
                  <a:pt x="115357" y="511175"/>
                </a:cubicBezTo>
                <a:lnTo>
                  <a:pt x="124882" y="514350"/>
                </a:lnTo>
                <a:cubicBezTo>
                  <a:pt x="129115" y="513292"/>
                  <a:pt x="134742" y="514488"/>
                  <a:pt x="137582" y="511175"/>
                </a:cubicBezTo>
                <a:cubicBezTo>
                  <a:pt x="141938" y="506093"/>
                  <a:pt x="140219" y="497694"/>
                  <a:pt x="143932" y="492125"/>
                </a:cubicBezTo>
                <a:cubicBezTo>
                  <a:pt x="146049" y="488950"/>
                  <a:pt x="148575" y="486013"/>
                  <a:pt x="150282" y="482600"/>
                </a:cubicBezTo>
                <a:cubicBezTo>
                  <a:pt x="151779" y="479607"/>
                  <a:pt x="152538" y="476293"/>
                  <a:pt x="153457" y="473075"/>
                </a:cubicBezTo>
                <a:cubicBezTo>
                  <a:pt x="155343" y="466473"/>
                  <a:pt x="158989" y="450638"/>
                  <a:pt x="159807" y="444500"/>
                </a:cubicBezTo>
                <a:cubicBezTo>
                  <a:pt x="161213" y="433957"/>
                  <a:pt x="161022" y="423204"/>
                  <a:pt x="162982" y="412750"/>
                </a:cubicBezTo>
                <a:cubicBezTo>
                  <a:pt x="164216" y="406171"/>
                  <a:pt x="162982" y="395817"/>
                  <a:pt x="169332" y="393700"/>
                </a:cubicBezTo>
                <a:cubicBezTo>
                  <a:pt x="182477" y="389318"/>
                  <a:pt x="176072" y="392381"/>
                  <a:pt x="188382" y="384175"/>
                </a:cubicBezTo>
                <a:lnTo>
                  <a:pt x="197907" y="355600"/>
                </a:lnTo>
                <a:lnTo>
                  <a:pt x="201082" y="346075"/>
                </a:lnTo>
                <a:cubicBezTo>
                  <a:pt x="202140" y="328083"/>
                  <a:pt x="201926" y="309971"/>
                  <a:pt x="204257" y="292100"/>
                </a:cubicBezTo>
                <a:cubicBezTo>
                  <a:pt x="205123" y="285463"/>
                  <a:pt x="208490" y="279400"/>
                  <a:pt x="210607" y="273050"/>
                </a:cubicBezTo>
                <a:lnTo>
                  <a:pt x="220132" y="244475"/>
                </a:lnTo>
                <a:cubicBezTo>
                  <a:pt x="221190" y="241300"/>
                  <a:pt x="221810" y="237943"/>
                  <a:pt x="223307" y="234950"/>
                </a:cubicBezTo>
                <a:cubicBezTo>
                  <a:pt x="225424" y="230717"/>
                  <a:pt x="228160" y="226740"/>
                  <a:pt x="229657" y="222250"/>
                </a:cubicBezTo>
                <a:cubicBezTo>
                  <a:pt x="232417" y="213971"/>
                  <a:pt x="233247" y="205129"/>
                  <a:pt x="236007" y="196850"/>
                </a:cubicBezTo>
                <a:lnTo>
                  <a:pt x="239182" y="187325"/>
                </a:lnTo>
                <a:cubicBezTo>
                  <a:pt x="239853" y="182625"/>
                  <a:pt x="244064" y="151924"/>
                  <a:pt x="245532" y="146050"/>
                </a:cubicBezTo>
                <a:cubicBezTo>
                  <a:pt x="247155" y="139556"/>
                  <a:pt x="251882" y="127000"/>
                  <a:pt x="251882" y="127000"/>
                </a:cubicBezTo>
                <a:cubicBezTo>
                  <a:pt x="252940" y="115358"/>
                  <a:pt x="255057" y="103765"/>
                  <a:pt x="255057" y="92075"/>
                </a:cubicBezTo>
                <a:cubicBezTo>
                  <a:pt x="255057" y="71939"/>
                  <a:pt x="254603" y="51702"/>
                  <a:pt x="251882" y="31750"/>
                </a:cubicBezTo>
                <a:cubicBezTo>
                  <a:pt x="251366" y="27969"/>
                  <a:pt x="248404" y="24738"/>
                  <a:pt x="245532" y="22225"/>
                </a:cubicBezTo>
                <a:cubicBezTo>
                  <a:pt x="222296" y="1893"/>
                  <a:pt x="188382" y="0"/>
                  <a:pt x="172507" y="0"/>
                </a:cubicBez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任意多边形 18"/>
          <p:cNvSpPr/>
          <p:nvPr/>
        </p:nvSpPr>
        <p:spPr>
          <a:xfrm>
            <a:off x="6070680" y="6286680"/>
            <a:ext cx="345960" cy="247320"/>
          </a:xfrm>
          <a:custGeom>
            <a:avLst/>
            <a:gdLst/>
            <a:ahLst/>
            <a:rect l="l" t="t" r="r" b="b"/>
            <a:pathLst>
              <a:path w="346154" h="248645">
                <a:moveTo>
                  <a:pt x="250904" y="475"/>
                </a:moveTo>
                <a:lnTo>
                  <a:pt x="108029" y="3650"/>
                </a:lnTo>
                <a:cubicBezTo>
                  <a:pt x="103669" y="3828"/>
                  <a:pt x="99340" y="5106"/>
                  <a:pt x="95329" y="6825"/>
                </a:cubicBezTo>
                <a:cubicBezTo>
                  <a:pt x="91822" y="8328"/>
                  <a:pt x="88979" y="11058"/>
                  <a:pt x="85804" y="13175"/>
                </a:cubicBezTo>
                <a:cubicBezTo>
                  <a:pt x="83222" y="20922"/>
                  <a:pt x="82434" y="26070"/>
                  <a:pt x="76279" y="32225"/>
                </a:cubicBezTo>
                <a:cubicBezTo>
                  <a:pt x="73581" y="34923"/>
                  <a:pt x="69929" y="36458"/>
                  <a:pt x="66754" y="38575"/>
                </a:cubicBezTo>
                <a:cubicBezTo>
                  <a:pt x="64637" y="41750"/>
                  <a:pt x="63102" y="45402"/>
                  <a:pt x="60404" y="48100"/>
                </a:cubicBezTo>
                <a:cubicBezTo>
                  <a:pt x="54249" y="54255"/>
                  <a:pt x="49101" y="55043"/>
                  <a:pt x="41354" y="57625"/>
                </a:cubicBezTo>
                <a:cubicBezTo>
                  <a:pt x="38179" y="60800"/>
                  <a:pt x="35565" y="64659"/>
                  <a:pt x="31829" y="67150"/>
                </a:cubicBezTo>
                <a:cubicBezTo>
                  <a:pt x="29044" y="69006"/>
                  <a:pt x="24671" y="67958"/>
                  <a:pt x="22304" y="70325"/>
                </a:cubicBezTo>
                <a:cubicBezTo>
                  <a:pt x="19937" y="72692"/>
                  <a:pt x="20626" y="76857"/>
                  <a:pt x="19129" y="79850"/>
                </a:cubicBezTo>
                <a:cubicBezTo>
                  <a:pt x="17422" y="83263"/>
                  <a:pt x="14896" y="86200"/>
                  <a:pt x="12779" y="89375"/>
                </a:cubicBezTo>
                <a:cubicBezTo>
                  <a:pt x="11721" y="107367"/>
                  <a:pt x="11935" y="125479"/>
                  <a:pt x="9604" y="143350"/>
                </a:cubicBezTo>
                <a:cubicBezTo>
                  <a:pt x="8738" y="149987"/>
                  <a:pt x="5371" y="156050"/>
                  <a:pt x="3254" y="162400"/>
                </a:cubicBezTo>
                <a:lnTo>
                  <a:pt x="79" y="171925"/>
                </a:lnTo>
                <a:cubicBezTo>
                  <a:pt x="1137" y="187800"/>
                  <a:pt x="-2246" y="204621"/>
                  <a:pt x="3254" y="219550"/>
                </a:cubicBezTo>
                <a:cubicBezTo>
                  <a:pt x="5892" y="226711"/>
                  <a:pt x="15954" y="228017"/>
                  <a:pt x="22304" y="232250"/>
                </a:cubicBezTo>
                <a:cubicBezTo>
                  <a:pt x="27984" y="236037"/>
                  <a:pt x="34023" y="241269"/>
                  <a:pt x="41354" y="241775"/>
                </a:cubicBezTo>
                <a:cubicBezTo>
                  <a:pt x="68826" y="243670"/>
                  <a:pt x="96387" y="243892"/>
                  <a:pt x="123904" y="244950"/>
                </a:cubicBezTo>
                <a:cubicBezTo>
                  <a:pt x="154863" y="250110"/>
                  <a:pt x="142862" y="249639"/>
                  <a:pt x="187404" y="244950"/>
                </a:cubicBezTo>
                <a:cubicBezTo>
                  <a:pt x="192771" y="244385"/>
                  <a:pt x="198073" y="243195"/>
                  <a:pt x="203279" y="241775"/>
                </a:cubicBezTo>
                <a:cubicBezTo>
                  <a:pt x="209737" y="240014"/>
                  <a:pt x="222329" y="235425"/>
                  <a:pt x="222329" y="235425"/>
                </a:cubicBezTo>
                <a:cubicBezTo>
                  <a:pt x="224446" y="232250"/>
                  <a:pt x="226236" y="228831"/>
                  <a:pt x="228679" y="225900"/>
                </a:cubicBezTo>
                <a:cubicBezTo>
                  <a:pt x="231554" y="222451"/>
                  <a:pt x="235713" y="220111"/>
                  <a:pt x="238204" y="216375"/>
                </a:cubicBezTo>
                <a:cubicBezTo>
                  <a:pt x="250473" y="197972"/>
                  <a:pt x="229602" y="214702"/>
                  <a:pt x="250904" y="200500"/>
                </a:cubicBezTo>
                <a:cubicBezTo>
                  <a:pt x="256196" y="184625"/>
                  <a:pt x="250904" y="192033"/>
                  <a:pt x="273129" y="184625"/>
                </a:cubicBezTo>
                <a:lnTo>
                  <a:pt x="282654" y="181450"/>
                </a:lnTo>
                <a:cubicBezTo>
                  <a:pt x="284771" y="178275"/>
                  <a:pt x="286024" y="174309"/>
                  <a:pt x="289004" y="171925"/>
                </a:cubicBezTo>
                <a:cubicBezTo>
                  <a:pt x="291617" y="169834"/>
                  <a:pt x="296162" y="171117"/>
                  <a:pt x="298529" y="168750"/>
                </a:cubicBezTo>
                <a:cubicBezTo>
                  <a:pt x="303925" y="163354"/>
                  <a:pt x="306996" y="156050"/>
                  <a:pt x="311229" y="149700"/>
                </a:cubicBezTo>
                <a:cubicBezTo>
                  <a:pt x="313346" y="146525"/>
                  <a:pt x="316372" y="143795"/>
                  <a:pt x="317579" y="140175"/>
                </a:cubicBezTo>
                <a:lnTo>
                  <a:pt x="330279" y="102075"/>
                </a:lnTo>
                <a:lnTo>
                  <a:pt x="339804" y="73500"/>
                </a:lnTo>
                <a:lnTo>
                  <a:pt x="342979" y="63975"/>
                </a:lnTo>
                <a:lnTo>
                  <a:pt x="346154" y="54450"/>
                </a:lnTo>
                <a:cubicBezTo>
                  <a:pt x="345096" y="41750"/>
                  <a:pt x="346480" y="28604"/>
                  <a:pt x="342979" y="16350"/>
                </a:cubicBezTo>
                <a:cubicBezTo>
                  <a:pt x="341931" y="12681"/>
                  <a:pt x="336941" y="11550"/>
                  <a:pt x="333454" y="10000"/>
                </a:cubicBezTo>
                <a:cubicBezTo>
                  <a:pt x="331140" y="8972"/>
                  <a:pt x="307288" y="905"/>
                  <a:pt x="301704" y="475"/>
                </a:cubicBezTo>
                <a:cubicBezTo>
                  <a:pt x="292207" y="-256"/>
                  <a:pt x="283183" y="-54"/>
                  <a:pt x="250904" y="475"/>
                </a:cubicBez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接连接符 6"/>
          <p:cNvSpPr/>
          <p:nvPr/>
        </p:nvSpPr>
        <p:spPr>
          <a:xfrm flipV="1">
            <a:off x="7169040" y="2885760"/>
            <a:ext cx="750960" cy="24588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直接连接符 16"/>
          <p:cNvSpPr/>
          <p:nvPr/>
        </p:nvSpPr>
        <p:spPr>
          <a:xfrm flipV="1">
            <a:off x="7920000" y="2197080"/>
            <a:ext cx="341280" cy="68904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接连接符 22"/>
          <p:cNvSpPr/>
          <p:nvPr/>
        </p:nvSpPr>
        <p:spPr>
          <a:xfrm flipH="1">
            <a:off x="6904080" y="3241800"/>
            <a:ext cx="155520" cy="27144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接连接符 24"/>
          <p:cNvSpPr/>
          <p:nvPr/>
        </p:nvSpPr>
        <p:spPr>
          <a:xfrm flipH="1">
            <a:off x="6795720" y="3522600"/>
            <a:ext cx="82440" cy="47952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接连接符 26"/>
          <p:cNvSpPr/>
          <p:nvPr/>
        </p:nvSpPr>
        <p:spPr>
          <a:xfrm>
            <a:off x="6796080" y="4002120"/>
            <a:ext cx="41400" cy="63648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28"/>
          <p:cNvSpPr/>
          <p:nvPr/>
        </p:nvSpPr>
        <p:spPr>
          <a:xfrm flipH="1">
            <a:off x="6692760" y="4648320"/>
            <a:ext cx="123840" cy="43020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32"/>
          <p:cNvSpPr/>
          <p:nvPr/>
        </p:nvSpPr>
        <p:spPr>
          <a:xfrm>
            <a:off x="6692760" y="5078520"/>
            <a:ext cx="92160" cy="63648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接连接符 36"/>
          <p:cNvSpPr/>
          <p:nvPr/>
        </p:nvSpPr>
        <p:spPr>
          <a:xfrm>
            <a:off x="7169040" y="3241800"/>
            <a:ext cx="14400" cy="7308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38"/>
          <p:cNvSpPr/>
          <p:nvPr/>
        </p:nvSpPr>
        <p:spPr>
          <a:xfrm flipH="1">
            <a:off x="7230960" y="3446640"/>
            <a:ext cx="7920" cy="18072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接连接符 40"/>
          <p:cNvSpPr/>
          <p:nvPr/>
        </p:nvSpPr>
        <p:spPr>
          <a:xfrm>
            <a:off x="7238880" y="3686040"/>
            <a:ext cx="41400" cy="34632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接连接符 44"/>
          <p:cNvSpPr/>
          <p:nvPr/>
        </p:nvSpPr>
        <p:spPr>
          <a:xfrm>
            <a:off x="7300800" y="4087800"/>
            <a:ext cx="179640" cy="29052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接连接符 46"/>
          <p:cNvSpPr/>
          <p:nvPr/>
        </p:nvSpPr>
        <p:spPr>
          <a:xfrm>
            <a:off x="7570800" y="4389480"/>
            <a:ext cx="146160" cy="1440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直接连接符 50"/>
          <p:cNvSpPr/>
          <p:nvPr/>
        </p:nvSpPr>
        <p:spPr>
          <a:xfrm>
            <a:off x="7750080" y="4680000"/>
            <a:ext cx="38160" cy="6012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接连接符 52"/>
          <p:cNvSpPr/>
          <p:nvPr/>
        </p:nvSpPr>
        <p:spPr>
          <a:xfrm flipH="1">
            <a:off x="7597440" y="4794120"/>
            <a:ext cx="214200" cy="52236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接连接符 54"/>
          <p:cNvSpPr/>
          <p:nvPr/>
        </p:nvSpPr>
        <p:spPr>
          <a:xfrm flipH="1">
            <a:off x="7418520" y="5316480"/>
            <a:ext cx="179280" cy="23832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接连接符 56"/>
          <p:cNvSpPr/>
          <p:nvPr/>
        </p:nvSpPr>
        <p:spPr>
          <a:xfrm flipH="1">
            <a:off x="6862680" y="5554800"/>
            <a:ext cx="540000" cy="23796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接连接符 58"/>
          <p:cNvSpPr/>
          <p:nvPr/>
        </p:nvSpPr>
        <p:spPr>
          <a:xfrm flipH="1">
            <a:off x="7246440" y="3686040"/>
            <a:ext cx="320760" cy="792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60"/>
          <p:cNvSpPr/>
          <p:nvPr/>
        </p:nvSpPr>
        <p:spPr>
          <a:xfrm flipH="1" flipV="1">
            <a:off x="6862320" y="3519000"/>
            <a:ext cx="358920" cy="16668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接连接符 62"/>
          <p:cNvSpPr/>
          <p:nvPr/>
        </p:nvSpPr>
        <p:spPr>
          <a:xfrm flipH="1">
            <a:off x="6599160" y="3519360"/>
            <a:ext cx="254160" cy="2412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接连接符 64"/>
          <p:cNvSpPr/>
          <p:nvPr/>
        </p:nvSpPr>
        <p:spPr>
          <a:xfrm flipH="1" flipV="1">
            <a:off x="5829480" y="3425400"/>
            <a:ext cx="761760" cy="1047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接连接符 66"/>
          <p:cNvSpPr/>
          <p:nvPr/>
        </p:nvSpPr>
        <p:spPr>
          <a:xfrm flipH="1" flipV="1">
            <a:off x="6770520" y="4001760"/>
            <a:ext cx="503280" cy="507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接连接符 68"/>
          <p:cNvSpPr/>
          <p:nvPr/>
        </p:nvSpPr>
        <p:spPr>
          <a:xfrm flipH="1">
            <a:off x="6121080" y="4008600"/>
            <a:ext cx="649080" cy="5364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接连接符 70"/>
          <p:cNvSpPr/>
          <p:nvPr/>
        </p:nvSpPr>
        <p:spPr>
          <a:xfrm flipH="1" flipV="1">
            <a:off x="5452560" y="3823920"/>
            <a:ext cx="662040" cy="24444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接连接符 72"/>
          <p:cNvSpPr/>
          <p:nvPr/>
        </p:nvSpPr>
        <p:spPr>
          <a:xfrm flipH="1" flipV="1">
            <a:off x="5180040" y="3728520"/>
            <a:ext cx="247680" cy="9540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接连接符 74"/>
          <p:cNvSpPr/>
          <p:nvPr/>
        </p:nvSpPr>
        <p:spPr>
          <a:xfrm flipH="1" flipV="1">
            <a:off x="3619080" y="2425680"/>
            <a:ext cx="1560600" cy="130320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接连接符 76"/>
          <p:cNvSpPr/>
          <p:nvPr/>
        </p:nvSpPr>
        <p:spPr>
          <a:xfrm flipH="1" flipV="1">
            <a:off x="7548480" y="4444920"/>
            <a:ext cx="146160" cy="1440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接连接符 78"/>
          <p:cNvSpPr/>
          <p:nvPr/>
        </p:nvSpPr>
        <p:spPr>
          <a:xfrm flipH="1">
            <a:off x="7289640" y="4410000"/>
            <a:ext cx="174960" cy="6372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接连接符 80"/>
          <p:cNvSpPr/>
          <p:nvPr/>
        </p:nvSpPr>
        <p:spPr>
          <a:xfrm flipH="1">
            <a:off x="6878520" y="4471920"/>
            <a:ext cx="424080" cy="14148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直接连接符 82"/>
          <p:cNvSpPr/>
          <p:nvPr/>
        </p:nvSpPr>
        <p:spPr>
          <a:xfrm flipH="1">
            <a:off x="5783400" y="4605480"/>
            <a:ext cx="1103040" cy="1569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接连接符 84"/>
          <p:cNvSpPr/>
          <p:nvPr/>
        </p:nvSpPr>
        <p:spPr>
          <a:xfrm flipH="1" flipV="1">
            <a:off x="5369040" y="4671720"/>
            <a:ext cx="380880" cy="9828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86"/>
          <p:cNvSpPr/>
          <p:nvPr/>
        </p:nvSpPr>
        <p:spPr>
          <a:xfrm flipH="1">
            <a:off x="7218000" y="4513320"/>
            <a:ext cx="498600" cy="36972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88"/>
          <p:cNvSpPr/>
          <p:nvPr/>
        </p:nvSpPr>
        <p:spPr>
          <a:xfrm flipH="1">
            <a:off x="6691320" y="4935600"/>
            <a:ext cx="495360" cy="12060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接连接符 90"/>
          <p:cNvSpPr/>
          <p:nvPr/>
        </p:nvSpPr>
        <p:spPr>
          <a:xfrm flipH="1">
            <a:off x="5829480" y="5051520"/>
            <a:ext cx="861840" cy="2127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接连接符 92"/>
          <p:cNvSpPr/>
          <p:nvPr/>
        </p:nvSpPr>
        <p:spPr>
          <a:xfrm flipH="1">
            <a:off x="5165280" y="5292720"/>
            <a:ext cx="639720" cy="26028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 94"/>
          <p:cNvSpPr/>
          <p:nvPr/>
        </p:nvSpPr>
        <p:spPr>
          <a:xfrm>
            <a:off x="7037280" y="310824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 95"/>
          <p:cNvSpPr/>
          <p:nvPr/>
        </p:nvSpPr>
        <p:spPr>
          <a:xfrm>
            <a:off x="6808680" y="345132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椭圆 96"/>
          <p:cNvSpPr/>
          <p:nvPr/>
        </p:nvSpPr>
        <p:spPr>
          <a:xfrm>
            <a:off x="6703920" y="390852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椭圆 97"/>
          <p:cNvSpPr/>
          <p:nvPr/>
        </p:nvSpPr>
        <p:spPr>
          <a:xfrm>
            <a:off x="6772320" y="4546440"/>
            <a:ext cx="155520" cy="1558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 98"/>
          <p:cNvSpPr/>
          <p:nvPr/>
        </p:nvSpPr>
        <p:spPr>
          <a:xfrm>
            <a:off x="6591240" y="5011560"/>
            <a:ext cx="155520" cy="1558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 99"/>
          <p:cNvSpPr/>
          <p:nvPr/>
        </p:nvSpPr>
        <p:spPr>
          <a:xfrm>
            <a:off x="5734080" y="334800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椭圆 100"/>
          <p:cNvSpPr/>
          <p:nvPr/>
        </p:nvSpPr>
        <p:spPr>
          <a:xfrm>
            <a:off x="3546360" y="234792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椭圆 101"/>
          <p:cNvSpPr/>
          <p:nvPr/>
        </p:nvSpPr>
        <p:spPr>
          <a:xfrm>
            <a:off x="5291280" y="457056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椭圆 102"/>
          <p:cNvSpPr/>
          <p:nvPr/>
        </p:nvSpPr>
        <p:spPr>
          <a:xfrm>
            <a:off x="5097600" y="5452920"/>
            <a:ext cx="155520" cy="1558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椭圆 103"/>
          <p:cNvSpPr/>
          <p:nvPr/>
        </p:nvSpPr>
        <p:spPr>
          <a:xfrm>
            <a:off x="5745240" y="517356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椭圆 104"/>
          <p:cNvSpPr/>
          <p:nvPr/>
        </p:nvSpPr>
        <p:spPr>
          <a:xfrm>
            <a:off x="5688000" y="469908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椭圆 105"/>
          <p:cNvSpPr/>
          <p:nvPr/>
        </p:nvSpPr>
        <p:spPr>
          <a:xfrm>
            <a:off x="6029280" y="400068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椭圆 106"/>
          <p:cNvSpPr/>
          <p:nvPr/>
        </p:nvSpPr>
        <p:spPr>
          <a:xfrm>
            <a:off x="5392800" y="373860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椭圆 107"/>
          <p:cNvSpPr/>
          <p:nvPr/>
        </p:nvSpPr>
        <p:spPr>
          <a:xfrm>
            <a:off x="5113440" y="364644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椭圆 108"/>
          <p:cNvSpPr/>
          <p:nvPr/>
        </p:nvSpPr>
        <p:spPr>
          <a:xfrm>
            <a:off x="6539040" y="346248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椭圆 109"/>
          <p:cNvSpPr/>
          <p:nvPr/>
        </p:nvSpPr>
        <p:spPr>
          <a:xfrm>
            <a:off x="7842240" y="281952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椭圆 110"/>
          <p:cNvSpPr/>
          <p:nvPr/>
        </p:nvSpPr>
        <p:spPr>
          <a:xfrm>
            <a:off x="8183520" y="211608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117"/>
          <p:cNvSpPr/>
          <p:nvPr/>
        </p:nvSpPr>
        <p:spPr>
          <a:xfrm>
            <a:off x="7161120" y="3290760"/>
            <a:ext cx="155520" cy="1558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椭圆 118"/>
          <p:cNvSpPr/>
          <p:nvPr/>
        </p:nvSpPr>
        <p:spPr>
          <a:xfrm>
            <a:off x="7153200" y="362736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椭圆 119"/>
          <p:cNvSpPr/>
          <p:nvPr/>
        </p:nvSpPr>
        <p:spPr>
          <a:xfrm>
            <a:off x="7169040" y="395604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椭圆 120"/>
          <p:cNvSpPr/>
          <p:nvPr/>
        </p:nvSpPr>
        <p:spPr>
          <a:xfrm>
            <a:off x="7216920" y="438948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椭圆 121"/>
          <p:cNvSpPr/>
          <p:nvPr/>
        </p:nvSpPr>
        <p:spPr>
          <a:xfrm>
            <a:off x="7415280" y="431172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122"/>
          <p:cNvSpPr/>
          <p:nvPr/>
        </p:nvSpPr>
        <p:spPr>
          <a:xfrm>
            <a:off x="7694640" y="438156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椭圆 124"/>
          <p:cNvSpPr/>
          <p:nvPr/>
        </p:nvSpPr>
        <p:spPr>
          <a:xfrm>
            <a:off x="7085160" y="485928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椭圆 125"/>
          <p:cNvSpPr/>
          <p:nvPr/>
        </p:nvSpPr>
        <p:spPr>
          <a:xfrm>
            <a:off x="7788240" y="4662360"/>
            <a:ext cx="155520" cy="1558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椭圆 126"/>
          <p:cNvSpPr/>
          <p:nvPr/>
        </p:nvSpPr>
        <p:spPr>
          <a:xfrm>
            <a:off x="7505640" y="523404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椭圆 127"/>
          <p:cNvSpPr/>
          <p:nvPr/>
        </p:nvSpPr>
        <p:spPr>
          <a:xfrm>
            <a:off x="7346880" y="548640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128"/>
          <p:cNvSpPr/>
          <p:nvPr/>
        </p:nvSpPr>
        <p:spPr>
          <a:xfrm>
            <a:off x="6707160" y="571500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椭圆 123"/>
          <p:cNvSpPr/>
          <p:nvPr/>
        </p:nvSpPr>
        <p:spPr>
          <a:xfrm>
            <a:off x="7594560" y="460224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65"/>
          <p:cNvSpPr/>
          <p:nvPr/>
        </p:nvSpPr>
        <p:spPr>
          <a:xfrm>
            <a:off x="6583320" y="291924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北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112"/>
          <p:cNvSpPr/>
          <p:nvPr/>
        </p:nvSpPr>
        <p:spPr>
          <a:xfrm>
            <a:off x="7531200" y="209088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哈尔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13"/>
          <p:cNvSpPr/>
          <p:nvPr/>
        </p:nvSpPr>
        <p:spPr>
          <a:xfrm>
            <a:off x="7337520" y="3181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天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框 114"/>
          <p:cNvSpPr/>
          <p:nvPr/>
        </p:nvSpPr>
        <p:spPr>
          <a:xfrm>
            <a:off x="3171960" y="207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乌鲁木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115"/>
          <p:cNvSpPr/>
          <p:nvPr/>
        </p:nvSpPr>
        <p:spPr>
          <a:xfrm>
            <a:off x="5707080" y="30607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银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116"/>
          <p:cNvSpPr/>
          <p:nvPr/>
        </p:nvSpPr>
        <p:spPr>
          <a:xfrm>
            <a:off x="5106960" y="43164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成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文本框 129"/>
          <p:cNvSpPr/>
          <p:nvPr/>
        </p:nvSpPr>
        <p:spPr>
          <a:xfrm>
            <a:off x="4829040" y="518652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昆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本框 130"/>
          <p:cNvSpPr/>
          <p:nvPr/>
        </p:nvSpPr>
        <p:spPr>
          <a:xfrm>
            <a:off x="6234120" y="5622840"/>
            <a:ext cx="5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广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131"/>
          <p:cNvSpPr/>
          <p:nvPr/>
        </p:nvSpPr>
        <p:spPr>
          <a:xfrm>
            <a:off x="6237360" y="52275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长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32"/>
          <p:cNvSpPr/>
          <p:nvPr/>
        </p:nvSpPr>
        <p:spPr>
          <a:xfrm>
            <a:off x="6310440" y="35812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石家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椭圆 133"/>
          <p:cNvSpPr/>
          <p:nvPr/>
        </p:nvSpPr>
        <p:spPr>
          <a:xfrm>
            <a:off x="7516800" y="361332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34"/>
          <p:cNvSpPr/>
          <p:nvPr/>
        </p:nvSpPr>
        <p:spPr>
          <a:xfrm>
            <a:off x="7621560" y="3649680"/>
            <a:ext cx="6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青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文本框 135"/>
          <p:cNvSpPr/>
          <p:nvPr/>
        </p:nvSpPr>
        <p:spPr>
          <a:xfrm>
            <a:off x="6346800" y="4067280"/>
            <a:ext cx="50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郑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36"/>
          <p:cNvSpPr/>
          <p:nvPr/>
        </p:nvSpPr>
        <p:spPr>
          <a:xfrm>
            <a:off x="6329520" y="4632480"/>
            <a:ext cx="5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武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137"/>
          <p:cNvSpPr/>
          <p:nvPr/>
        </p:nvSpPr>
        <p:spPr>
          <a:xfrm>
            <a:off x="7007400" y="453708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合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本框 138"/>
          <p:cNvSpPr/>
          <p:nvPr/>
        </p:nvSpPr>
        <p:spPr>
          <a:xfrm>
            <a:off x="7462800" y="410832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南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139"/>
          <p:cNvSpPr/>
          <p:nvPr/>
        </p:nvSpPr>
        <p:spPr>
          <a:xfrm>
            <a:off x="7800840" y="430848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上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140"/>
          <p:cNvSpPr/>
          <p:nvPr/>
        </p:nvSpPr>
        <p:spPr>
          <a:xfrm>
            <a:off x="7335720" y="4753080"/>
            <a:ext cx="50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杭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141"/>
          <p:cNvSpPr/>
          <p:nvPr/>
        </p:nvSpPr>
        <p:spPr>
          <a:xfrm>
            <a:off x="7900920" y="4660920"/>
            <a:ext cx="50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宁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142"/>
          <p:cNvSpPr/>
          <p:nvPr/>
        </p:nvSpPr>
        <p:spPr>
          <a:xfrm>
            <a:off x="7678800" y="513540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福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143"/>
          <p:cNvSpPr/>
          <p:nvPr/>
        </p:nvSpPr>
        <p:spPr>
          <a:xfrm>
            <a:off x="7188120" y="5662440"/>
            <a:ext cx="50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厦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144"/>
          <p:cNvSpPr/>
          <p:nvPr/>
        </p:nvSpPr>
        <p:spPr>
          <a:xfrm>
            <a:off x="7548480" y="25383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沈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145"/>
          <p:cNvSpPr/>
          <p:nvPr/>
        </p:nvSpPr>
        <p:spPr>
          <a:xfrm>
            <a:off x="7283520" y="389736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徐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46"/>
          <p:cNvSpPr/>
          <p:nvPr/>
        </p:nvSpPr>
        <p:spPr>
          <a:xfrm>
            <a:off x="6821640" y="37116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济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组合 148" descr=""/>
          <p:cNvPicPr/>
          <p:nvPr/>
        </p:nvPicPr>
        <p:blipFill>
          <a:blip r:embed="rId2"/>
          <a:stretch/>
        </p:blipFill>
        <p:spPr>
          <a:xfrm>
            <a:off x="7677000" y="1562040"/>
            <a:ext cx="1582920" cy="57780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147"/>
          <p:cNvSpPr/>
          <p:nvPr/>
        </p:nvSpPr>
        <p:spPr>
          <a:xfrm>
            <a:off x="5407200" y="3514680"/>
            <a:ext cx="5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兰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154"/>
          <p:cNvSpPr/>
          <p:nvPr/>
        </p:nvSpPr>
        <p:spPr>
          <a:xfrm>
            <a:off x="6827760" y="58323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香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椭圆 156"/>
          <p:cNvSpPr/>
          <p:nvPr/>
        </p:nvSpPr>
        <p:spPr>
          <a:xfrm>
            <a:off x="6800760" y="5764320"/>
            <a:ext cx="155520" cy="15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组合 7"/>
          <p:cNvGrpSpPr/>
          <p:nvPr/>
        </p:nvGrpSpPr>
        <p:grpSpPr>
          <a:xfrm>
            <a:off x="6683400" y="5846760"/>
            <a:ext cx="1582560" cy="577800"/>
            <a:chOff x="6683400" y="5846760"/>
            <a:chExt cx="1582560" cy="577800"/>
          </a:xfrm>
        </p:grpSpPr>
        <p:sp>
          <p:nvSpPr>
            <p:cNvPr id="222" name="矩形 152"/>
            <p:cNvSpPr/>
            <p:nvPr/>
          </p:nvSpPr>
          <p:spPr>
            <a:xfrm>
              <a:off x="6683400" y="6095160"/>
              <a:ext cx="1582560" cy="329400"/>
            </a:xfrm>
            <a:prstGeom prst="rect">
              <a:avLst/>
            </a:prstGeom>
            <a:solidFill>
              <a:srgbClr val="cc33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京港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等腰三角形 153"/>
            <p:cNvSpPr/>
            <p:nvPr/>
          </p:nvSpPr>
          <p:spPr>
            <a:xfrm>
              <a:off x="6738840" y="5846760"/>
              <a:ext cx="154800" cy="249120"/>
            </a:xfrm>
            <a:prstGeom prst="triangle">
              <a:avLst>
                <a:gd name="adj" fmla="val 50000"/>
              </a:avLst>
            </a:prstGeom>
            <a:solidFill>
              <a:srgbClr val="cc33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3"/>
          <p:cNvGrpSpPr/>
          <p:nvPr/>
        </p:nvGrpSpPr>
        <p:grpSpPr>
          <a:xfrm>
            <a:off x="7905600" y="4172040"/>
            <a:ext cx="1830600" cy="328680"/>
            <a:chOff x="7905600" y="4172040"/>
            <a:chExt cx="1830600" cy="328680"/>
          </a:xfrm>
        </p:grpSpPr>
        <p:sp>
          <p:nvSpPr>
            <p:cNvPr id="225" name="矩形 162"/>
            <p:cNvSpPr/>
            <p:nvPr/>
          </p:nvSpPr>
          <p:spPr>
            <a:xfrm>
              <a:off x="8154000" y="4172040"/>
              <a:ext cx="1582200" cy="328680"/>
            </a:xfrm>
            <a:prstGeom prst="rect">
              <a:avLst/>
            </a:prstGeom>
            <a:solidFill>
              <a:srgbClr val="cc33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京沪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等腰三角形 163"/>
            <p:cNvSpPr/>
            <p:nvPr/>
          </p:nvSpPr>
          <p:spPr>
            <a:xfrm rot="16200000">
              <a:off x="7952400" y="4222800"/>
              <a:ext cx="154800" cy="248400"/>
            </a:xfrm>
            <a:prstGeom prst="triangle">
              <a:avLst>
                <a:gd name="adj" fmla="val 50000"/>
              </a:avLst>
            </a:prstGeom>
            <a:solidFill>
              <a:srgbClr val="cc33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组合 19"/>
          <p:cNvGrpSpPr/>
          <p:nvPr/>
        </p:nvGrpSpPr>
        <p:grpSpPr>
          <a:xfrm>
            <a:off x="7628040" y="5192640"/>
            <a:ext cx="1911240" cy="328680"/>
            <a:chOff x="7628040" y="5192640"/>
            <a:chExt cx="1911240" cy="328680"/>
          </a:xfrm>
        </p:grpSpPr>
        <p:sp>
          <p:nvSpPr>
            <p:cNvPr id="228" name="矩形 151"/>
            <p:cNvSpPr/>
            <p:nvPr/>
          </p:nvSpPr>
          <p:spPr>
            <a:xfrm>
              <a:off x="7876440" y="5192640"/>
              <a:ext cx="1662840" cy="328680"/>
            </a:xfrm>
            <a:prstGeom prst="rect">
              <a:avLst/>
            </a:prstGeom>
            <a:solidFill>
              <a:srgbClr val="cc33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杭福深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等腰三角形 155"/>
            <p:cNvSpPr/>
            <p:nvPr/>
          </p:nvSpPr>
          <p:spPr>
            <a:xfrm rot="16200000">
              <a:off x="7674840" y="5243400"/>
              <a:ext cx="154800" cy="248400"/>
            </a:xfrm>
            <a:prstGeom prst="triangle">
              <a:avLst>
                <a:gd name="adj" fmla="val 50000"/>
              </a:avLst>
            </a:prstGeom>
            <a:solidFill>
              <a:srgbClr val="cc33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7"/>
          <p:cNvGrpSpPr/>
          <p:nvPr/>
        </p:nvGrpSpPr>
        <p:grpSpPr>
          <a:xfrm>
            <a:off x="3943440" y="3179880"/>
            <a:ext cx="1829880" cy="328320"/>
            <a:chOff x="3943440" y="3179880"/>
            <a:chExt cx="1829880" cy="328320"/>
          </a:xfrm>
        </p:grpSpPr>
        <p:sp>
          <p:nvSpPr>
            <p:cNvPr id="231" name="矩形 157"/>
            <p:cNvSpPr/>
            <p:nvPr/>
          </p:nvSpPr>
          <p:spPr>
            <a:xfrm>
              <a:off x="3943440" y="3179880"/>
              <a:ext cx="1582920" cy="328320"/>
            </a:xfrm>
            <a:prstGeom prst="rect">
              <a:avLst/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青太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等腰三角形 158"/>
            <p:cNvSpPr/>
            <p:nvPr/>
          </p:nvSpPr>
          <p:spPr>
            <a:xfrm rot="5400000">
              <a:off x="5571360" y="3227040"/>
              <a:ext cx="154800" cy="248760"/>
            </a:xfrm>
            <a:prstGeom prst="triangle">
              <a:avLst>
                <a:gd name="adj" fmla="val 50000"/>
              </a:avLst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组合 21"/>
          <p:cNvGrpSpPr/>
          <p:nvPr/>
        </p:nvGrpSpPr>
        <p:grpSpPr>
          <a:xfrm>
            <a:off x="3519360" y="3726000"/>
            <a:ext cx="1828800" cy="328320"/>
            <a:chOff x="3519360" y="3726000"/>
            <a:chExt cx="1828800" cy="328320"/>
          </a:xfrm>
        </p:grpSpPr>
        <p:sp>
          <p:nvSpPr>
            <p:cNvPr id="234" name="矩形 159"/>
            <p:cNvSpPr/>
            <p:nvPr/>
          </p:nvSpPr>
          <p:spPr>
            <a:xfrm>
              <a:off x="3519360" y="3726000"/>
              <a:ext cx="1582560" cy="328320"/>
            </a:xfrm>
            <a:prstGeom prst="rect">
              <a:avLst/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徐兰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等腰三角形 160"/>
            <p:cNvSpPr/>
            <p:nvPr/>
          </p:nvSpPr>
          <p:spPr>
            <a:xfrm rot="5400000">
              <a:off x="5146560" y="3776760"/>
              <a:ext cx="154800" cy="248400"/>
            </a:xfrm>
            <a:prstGeom prst="triangle">
              <a:avLst>
                <a:gd name="adj" fmla="val 50000"/>
              </a:avLst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组合 23"/>
          <p:cNvGrpSpPr/>
          <p:nvPr/>
        </p:nvGrpSpPr>
        <p:grpSpPr>
          <a:xfrm>
            <a:off x="3371760" y="4479840"/>
            <a:ext cx="1914480" cy="328680"/>
            <a:chOff x="3371760" y="4479840"/>
            <a:chExt cx="1914480" cy="328680"/>
          </a:xfrm>
        </p:grpSpPr>
        <p:sp>
          <p:nvSpPr>
            <p:cNvPr id="237" name="矩形 161"/>
            <p:cNvSpPr/>
            <p:nvPr/>
          </p:nvSpPr>
          <p:spPr>
            <a:xfrm>
              <a:off x="3371760" y="4479840"/>
              <a:ext cx="1668240" cy="328680"/>
            </a:xfrm>
            <a:prstGeom prst="rect">
              <a:avLst/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沪汉蓉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等腰三角形 164"/>
            <p:cNvSpPr/>
            <p:nvPr/>
          </p:nvSpPr>
          <p:spPr>
            <a:xfrm rot="5400000">
              <a:off x="5084640" y="4530600"/>
              <a:ext cx="154800" cy="248400"/>
            </a:xfrm>
            <a:prstGeom prst="triangle">
              <a:avLst>
                <a:gd name="adj" fmla="val 50000"/>
              </a:avLst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组合 25"/>
          <p:cNvGrpSpPr/>
          <p:nvPr/>
        </p:nvGrpSpPr>
        <p:grpSpPr>
          <a:xfrm>
            <a:off x="3267000" y="5378400"/>
            <a:ext cx="1828800" cy="328680"/>
            <a:chOff x="3267000" y="5378400"/>
            <a:chExt cx="1828800" cy="328680"/>
          </a:xfrm>
        </p:grpSpPr>
        <p:sp>
          <p:nvSpPr>
            <p:cNvPr id="240" name="矩形 165"/>
            <p:cNvSpPr/>
            <p:nvPr/>
          </p:nvSpPr>
          <p:spPr>
            <a:xfrm>
              <a:off x="3267000" y="5378400"/>
              <a:ext cx="1582560" cy="328680"/>
            </a:xfrm>
            <a:prstGeom prst="rect">
              <a:avLst/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沪昆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等腰三角形 166"/>
            <p:cNvSpPr/>
            <p:nvPr/>
          </p:nvSpPr>
          <p:spPr>
            <a:xfrm rot="5400000">
              <a:off x="4894200" y="5429160"/>
              <a:ext cx="154800" cy="248400"/>
            </a:xfrm>
            <a:prstGeom prst="triangle">
              <a:avLst>
                <a:gd name="adj" fmla="val 50000"/>
              </a:avLst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文本框 167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提出研究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"/>
                            </p:stCondLst>
                            <p:childTnLst>
                              <p:par>
                                <p:cTn id="1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250"/>
                            </p:stCondLst>
                            <p:childTnLst>
                              <p:par>
                                <p:cTn id="1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750"/>
                            </p:stCondLst>
                            <p:childTnLst>
                              <p:par>
                                <p:cTn id="143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750"/>
                            </p:stCondLst>
                            <p:childTnLst>
                              <p:par>
                                <p:cTn id="1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250"/>
                            </p:stCondLst>
                            <p:childTnLst>
                              <p:par>
                                <p:cTn id="1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750"/>
                            </p:stCondLst>
                            <p:childTnLst>
                              <p:par>
                                <p:cTn id="1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2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500"/>
                            </p:stCondLst>
                            <p:childTnLst>
                              <p:par>
                                <p:cTn id="1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750"/>
                            </p:stCondLst>
                            <p:childTnLst>
                              <p:par>
                                <p:cTn id="1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9250"/>
                            </p:stCondLst>
                            <p:childTnLst>
                              <p:par>
                                <p:cTn id="1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250"/>
                            </p:stCondLst>
                            <p:childTnLst>
                              <p:par>
                                <p:cTn id="2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2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750"/>
                            </p:stCondLst>
                            <p:childTnLst>
                              <p:par>
                                <p:cTn id="22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2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1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2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750"/>
                            </p:stCondLst>
                            <p:childTnLst>
                              <p:par>
                                <p:cTn id="24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250"/>
                            </p:stCondLst>
                            <p:childTnLst>
                              <p:par>
                                <p:cTn id="25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2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4750"/>
                            </p:stCondLst>
                            <p:childTnLst>
                              <p:par>
                                <p:cTn id="25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250"/>
                            </p:stCondLst>
                            <p:childTnLst>
                              <p:par>
                                <p:cTn id="263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6250"/>
                            </p:stCondLst>
                            <p:childTnLst>
                              <p:par>
                                <p:cTn id="27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2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2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6750"/>
                            </p:stCondLst>
                            <p:childTnLst>
                              <p:par>
                                <p:cTn id="27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2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25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7250"/>
                            </p:stCondLst>
                            <p:childTnLst>
                              <p:par>
                                <p:cTn id="28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9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5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9250"/>
                            </p:stCondLst>
                            <p:childTnLst>
                              <p:par>
                                <p:cTn id="30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9500"/>
                            </p:stCondLst>
                            <p:childTnLst>
                              <p:par>
                                <p:cTn id="3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9750"/>
                            </p:stCondLst>
                            <p:childTnLst>
                              <p:par>
                                <p:cTn id="3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500"/>
                            </p:stCondLst>
                            <p:childTnLst>
                              <p:par>
                                <p:cTn id="323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83"/>
          <p:cNvSpPr/>
          <p:nvPr/>
        </p:nvSpPr>
        <p:spPr>
          <a:xfrm>
            <a:off x="1116000" y="1038240"/>
            <a:ext cx="8928000" cy="5711760"/>
          </a:xfrm>
          <a:prstGeom prst="rect">
            <a:avLst/>
          </a:prstGeom>
          <a:solidFill>
            <a:srgbClr val="2391d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" descr="\\MAGNUM\Projects\Microsoft\Cloud Power FY12\Design\ICONS_PNG\Open_Web_Platform.png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10976040" y="279360"/>
            <a:ext cx="1073160" cy="1073160"/>
          </a:xfrm>
          <a:prstGeom prst="rect">
            <a:avLst/>
          </a:prstGeom>
          <a:ln w="0">
            <a:noFill/>
          </a:ln>
        </p:spPr>
      </p:pic>
      <p:sp>
        <p:nvSpPr>
          <p:cNvPr id="247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组合 30"/>
          <p:cNvGrpSpPr/>
          <p:nvPr/>
        </p:nvGrpSpPr>
        <p:grpSpPr>
          <a:xfrm>
            <a:off x="1768320" y="1100160"/>
            <a:ext cx="7313760" cy="5433840"/>
            <a:chOff x="1768320" y="1100160"/>
            <a:chExt cx="7313760" cy="5433840"/>
          </a:xfrm>
        </p:grpSpPr>
        <p:sp>
          <p:nvSpPr>
            <p:cNvPr id="249" name="任意多边形 8"/>
            <p:cNvSpPr/>
            <p:nvPr/>
          </p:nvSpPr>
          <p:spPr>
            <a:xfrm>
              <a:off x="3800160" y="1552320"/>
              <a:ext cx="3586320" cy="1333080"/>
            </a:xfrm>
            <a:custGeom>
              <a:avLst/>
              <a:gdLst/>
              <a:ahLst/>
              <a:rect l="l" t="t" r="r" b="b"/>
              <a:pathLst>
                <a:path w="3586165" h="1333500">
                  <a:moveTo>
                    <a:pt x="0" y="0"/>
                  </a:moveTo>
                  <a:cubicBezTo>
                    <a:pt x="3175" y="7938"/>
                    <a:pt x="8119" y="15380"/>
                    <a:pt x="9525" y="23813"/>
                  </a:cubicBezTo>
                  <a:cubicBezTo>
                    <a:pt x="12928" y="44230"/>
                    <a:pt x="7132" y="66303"/>
                    <a:pt x="14288" y="85725"/>
                  </a:cubicBezTo>
                  <a:cubicBezTo>
                    <a:pt x="18945" y="98365"/>
                    <a:pt x="35391" y="103092"/>
                    <a:pt x="42863" y="114300"/>
                  </a:cubicBezTo>
                  <a:cubicBezTo>
                    <a:pt x="46038" y="119063"/>
                    <a:pt x="47918" y="125012"/>
                    <a:pt x="52388" y="128588"/>
                  </a:cubicBezTo>
                  <a:cubicBezTo>
                    <a:pt x="56308" y="131724"/>
                    <a:pt x="61913" y="131763"/>
                    <a:pt x="66675" y="133350"/>
                  </a:cubicBezTo>
                  <a:cubicBezTo>
                    <a:pt x="76200" y="139700"/>
                    <a:pt x="91630" y="141540"/>
                    <a:pt x="95250" y="152400"/>
                  </a:cubicBezTo>
                  <a:cubicBezTo>
                    <a:pt x="106585" y="186405"/>
                    <a:pt x="96421" y="175406"/>
                    <a:pt x="119063" y="190500"/>
                  </a:cubicBezTo>
                  <a:cubicBezTo>
                    <a:pt x="120650" y="195263"/>
                    <a:pt x="120689" y="200868"/>
                    <a:pt x="123825" y="204788"/>
                  </a:cubicBezTo>
                  <a:cubicBezTo>
                    <a:pt x="134902" y="218634"/>
                    <a:pt x="152970" y="214692"/>
                    <a:pt x="166688" y="223838"/>
                  </a:cubicBezTo>
                  <a:lnTo>
                    <a:pt x="195263" y="242888"/>
                  </a:lnTo>
                  <a:cubicBezTo>
                    <a:pt x="198438" y="247650"/>
                    <a:pt x="201124" y="252778"/>
                    <a:pt x="204788" y="257175"/>
                  </a:cubicBezTo>
                  <a:cubicBezTo>
                    <a:pt x="218484" y="273610"/>
                    <a:pt x="230102" y="275968"/>
                    <a:pt x="238125" y="300038"/>
                  </a:cubicBezTo>
                  <a:lnTo>
                    <a:pt x="257175" y="357188"/>
                  </a:lnTo>
                  <a:lnTo>
                    <a:pt x="266700" y="385763"/>
                  </a:lnTo>
                  <a:cubicBezTo>
                    <a:pt x="268287" y="390525"/>
                    <a:pt x="268678" y="395873"/>
                    <a:pt x="271463" y="400050"/>
                  </a:cubicBezTo>
                  <a:lnTo>
                    <a:pt x="280988" y="414338"/>
                  </a:lnTo>
                  <a:lnTo>
                    <a:pt x="295275" y="457200"/>
                  </a:lnTo>
                  <a:lnTo>
                    <a:pt x="300038" y="471488"/>
                  </a:lnTo>
                  <a:cubicBezTo>
                    <a:pt x="298450" y="488950"/>
                    <a:pt x="298949" y="506730"/>
                    <a:pt x="295275" y="523875"/>
                  </a:cubicBezTo>
                  <a:cubicBezTo>
                    <a:pt x="294076" y="529472"/>
                    <a:pt x="288310" y="533043"/>
                    <a:pt x="285750" y="538163"/>
                  </a:cubicBezTo>
                  <a:cubicBezTo>
                    <a:pt x="283505" y="542653"/>
                    <a:pt x="283233" y="547960"/>
                    <a:pt x="280988" y="552450"/>
                  </a:cubicBezTo>
                  <a:cubicBezTo>
                    <a:pt x="262520" y="589386"/>
                    <a:pt x="278674" y="545108"/>
                    <a:pt x="266700" y="581025"/>
                  </a:cubicBezTo>
                  <a:cubicBezTo>
                    <a:pt x="268288" y="592138"/>
                    <a:pt x="269261" y="603355"/>
                    <a:pt x="271463" y="614363"/>
                  </a:cubicBezTo>
                  <a:cubicBezTo>
                    <a:pt x="272447" y="619285"/>
                    <a:pt x="273089" y="624730"/>
                    <a:pt x="276225" y="628650"/>
                  </a:cubicBezTo>
                  <a:cubicBezTo>
                    <a:pt x="284458" y="638941"/>
                    <a:pt x="310357" y="644790"/>
                    <a:pt x="319088" y="647700"/>
                  </a:cubicBezTo>
                  <a:cubicBezTo>
                    <a:pt x="323850" y="649288"/>
                    <a:pt x="329198" y="649678"/>
                    <a:pt x="333375" y="652463"/>
                  </a:cubicBezTo>
                  <a:cubicBezTo>
                    <a:pt x="342900" y="658813"/>
                    <a:pt x="351090" y="667893"/>
                    <a:pt x="361950" y="671513"/>
                  </a:cubicBezTo>
                  <a:cubicBezTo>
                    <a:pt x="410006" y="687529"/>
                    <a:pt x="335437" y="663082"/>
                    <a:pt x="395288" y="681038"/>
                  </a:cubicBezTo>
                  <a:cubicBezTo>
                    <a:pt x="409713" y="685366"/>
                    <a:pt x="423863" y="690563"/>
                    <a:pt x="438150" y="695325"/>
                  </a:cubicBezTo>
                  <a:cubicBezTo>
                    <a:pt x="442913" y="696913"/>
                    <a:pt x="447568" y="698871"/>
                    <a:pt x="452438" y="700088"/>
                  </a:cubicBezTo>
                  <a:cubicBezTo>
                    <a:pt x="458548" y="701615"/>
                    <a:pt x="478938" y="706194"/>
                    <a:pt x="485775" y="709613"/>
                  </a:cubicBezTo>
                  <a:cubicBezTo>
                    <a:pt x="490895" y="712173"/>
                    <a:pt x="494832" y="716813"/>
                    <a:pt x="500063" y="719138"/>
                  </a:cubicBezTo>
                  <a:cubicBezTo>
                    <a:pt x="509238" y="723216"/>
                    <a:pt x="519113" y="725488"/>
                    <a:pt x="528638" y="728663"/>
                  </a:cubicBezTo>
                  <a:lnTo>
                    <a:pt x="542925" y="733425"/>
                  </a:lnTo>
                  <a:cubicBezTo>
                    <a:pt x="547688" y="736600"/>
                    <a:pt x="553166" y="738903"/>
                    <a:pt x="557213" y="742950"/>
                  </a:cubicBezTo>
                  <a:cubicBezTo>
                    <a:pt x="561260" y="746997"/>
                    <a:pt x="562430" y="753469"/>
                    <a:pt x="566738" y="757238"/>
                  </a:cubicBezTo>
                  <a:cubicBezTo>
                    <a:pt x="586893" y="774874"/>
                    <a:pt x="589977" y="774509"/>
                    <a:pt x="609600" y="781050"/>
                  </a:cubicBezTo>
                  <a:cubicBezTo>
                    <a:pt x="612775" y="785813"/>
                    <a:pt x="614655" y="791762"/>
                    <a:pt x="619125" y="795338"/>
                  </a:cubicBezTo>
                  <a:cubicBezTo>
                    <a:pt x="623045" y="798474"/>
                    <a:pt x="628923" y="797855"/>
                    <a:pt x="633413" y="800100"/>
                  </a:cubicBezTo>
                  <a:cubicBezTo>
                    <a:pt x="638532" y="802660"/>
                    <a:pt x="643303" y="805961"/>
                    <a:pt x="647700" y="809625"/>
                  </a:cubicBezTo>
                  <a:cubicBezTo>
                    <a:pt x="652874" y="813937"/>
                    <a:pt x="656814" y="819601"/>
                    <a:pt x="661988" y="823913"/>
                  </a:cubicBezTo>
                  <a:cubicBezTo>
                    <a:pt x="666385" y="827577"/>
                    <a:pt x="671878" y="829774"/>
                    <a:pt x="676275" y="833438"/>
                  </a:cubicBezTo>
                  <a:cubicBezTo>
                    <a:pt x="681449" y="837750"/>
                    <a:pt x="684959" y="843989"/>
                    <a:pt x="690563" y="847725"/>
                  </a:cubicBezTo>
                  <a:cubicBezTo>
                    <a:pt x="694740" y="850510"/>
                    <a:pt x="700088" y="850900"/>
                    <a:pt x="704850" y="852488"/>
                  </a:cubicBezTo>
                  <a:lnTo>
                    <a:pt x="733425" y="895350"/>
                  </a:lnTo>
                  <a:cubicBezTo>
                    <a:pt x="736600" y="900113"/>
                    <a:pt x="741140" y="904208"/>
                    <a:pt x="742950" y="909638"/>
                  </a:cubicBezTo>
                  <a:cubicBezTo>
                    <a:pt x="746125" y="919163"/>
                    <a:pt x="746906" y="929859"/>
                    <a:pt x="752475" y="938213"/>
                  </a:cubicBezTo>
                  <a:cubicBezTo>
                    <a:pt x="755650" y="942975"/>
                    <a:pt x="759675" y="947270"/>
                    <a:pt x="762000" y="952500"/>
                  </a:cubicBezTo>
                  <a:cubicBezTo>
                    <a:pt x="766078" y="961675"/>
                    <a:pt x="765956" y="972721"/>
                    <a:pt x="771525" y="981075"/>
                  </a:cubicBezTo>
                  <a:cubicBezTo>
                    <a:pt x="793750" y="1014413"/>
                    <a:pt x="781050" y="1003300"/>
                    <a:pt x="804863" y="1019175"/>
                  </a:cubicBezTo>
                  <a:cubicBezTo>
                    <a:pt x="818008" y="1058611"/>
                    <a:pt x="808818" y="1039395"/>
                    <a:pt x="833438" y="1076325"/>
                  </a:cubicBezTo>
                  <a:cubicBezTo>
                    <a:pt x="836613" y="1081088"/>
                    <a:pt x="838200" y="1087438"/>
                    <a:pt x="842963" y="1090613"/>
                  </a:cubicBezTo>
                  <a:cubicBezTo>
                    <a:pt x="847725" y="1093788"/>
                    <a:pt x="852131" y="1097578"/>
                    <a:pt x="857250" y="1100138"/>
                  </a:cubicBezTo>
                  <a:cubicBezTo>
                    <a:pt x="862259" y="1102642"/>
                    <a:pt x="886862" y="1109324"/>
                    <a:pt x="890588" y="1109663"/>
                  </a:cubicBezTo>
                  <a:cubicBezTo>
                    <a:pt x="919090" y="1112254"/>
                    <a:pt x="947714" y="1113366"/>
                    <a:pt x="976313" y="1114425"/>
                  </a:cubicBezTo>
                  <a:lnTo>
                    <a:pt x="1147763" y="1119188"/>
                  </a:lnTo>
                  <a:lnTo>
                    <a:pt x="1190625" y="1133475"/>
                  </a:lnTo>
                  <a:lnTo>
                    <a:pt x="1204913" y="1138238"/>
                  </a:lnTo>
                  <a:lnTo>
                    <a:pt x="1219200" y="1143000"/>
                  </a:lnTo>
                  <a:cubicBezTo>
                    <a:pt x="1223963" y="1146175"/>
                    <a:pt x="1228257" y="1150200"/>
                    <a:pt x="1233488" y="1152525"/>
                  </a:cubicBezTo>
                  <a:cubicBezTo>
                    <a:pt x="1242663" y="1156603"/>
                    <a:pt x="1252538" y="1158875"/>
                    <a:pt x="1262063" y="1162050"/>
                  </a:cubicBezTo>
                  <a:lnTo>
                    <a:pt x="1290638" y="1171575"/>
                  </a:lnTo>
                  <a:lnTo>
                    <a:pt x="1333500" y="1185863"/>
                  </a:lnTo>
                  <a:lnTo>
                    <a:pt x="1347788" y="1190625"/>
                  </a:lnTo>
                  <a:cubicBezTo>
                    <a:pt x="1352550" y="1192212"/>
                    <a:pt x="1357060" y="1195160"/>
                    <a:pt x="1362075" y="1195388"/>
                  </a:cubicBezTo>
                  <a:lnTo>
                    <a:pt x="1466850" y="1200150"/>
                  </a:lnTo>
                  <a:cubicBezTo>
                    <a:pt x="1487614" y="1207071"/>
                    <a:pt x="1494620" y="1206622"/>
                    <a:pt x="1509713" y="1219200"/>
                  </a:cubicBezTo>
                  <a:cubicBezTo>
                    <a:pt x="1514887" y="1223512"/>
                    <a:pt x="1518112" y="1230217"/>
                    <a:pt x="1524000" y="1233488"/>
                  </a:cubicBezTo>
                  <a:cubicBezTo>
                    <a:pt x="1532777" y="1238364"/>
                    <a:pt x="1544221" y="1237444"/>
                    <a:pt x="1552575" y="1243013"/>
                  </a:cubicBezTo>
                  <a:cubicBezTo>
                    <a:pt x="1557338" y="1246188"/>
                    <a:pt x="1561632" y="1250213"/>
                    <a:pt x="1566863" y="1252538"/>
                  </a:cubicBezTo>
                  <a:cubicBezTo>
                    <a:pt x="1566873" y="1252542"/>
                    <a:pt x="1602576" y="1264442"/>
                    <a:pt x="1609725" y="1266825"/>
                  </a:cubicBezTo>
                  <a:lnTo>
                    <a:pt x="1695450" y="1295400"/>
                  </a:lnTo>
                  <a:cubicBezTo>
                    <a:pt x="1743482" y="1311411"/>
                    <a:pt x="1668968" y="1286980"/>
                    <a:pt x="1728788" y="1304925"/>
                  </a:cubicBezTo>
                  <a:cubicBezTo>
                    <a:pt x="1738405" y="1307810"/>
                    <a:pt x="1747623" y="1312015"/>
                    <a:pt x="1757363" y="1314450"/>
                  </a:cubicBezTo>
                  <a:cubicBezTo>
                    <a:pt x="1770063" y="1317625"/>
                    <a:pt x="1783044" y="1319835"/>
                    <a:pt x="1795463" y="1323975"/>
                  </a:cubicBezTo>
                  <a:lnTo>
                    <a:pt x="1824038" y="1333500"/>
                  </a:lnTo>
                  <a:cubicBezTo>
                    <a:pt x="1881188" y="1331913"/>
                    <a:pt x="1938391" y="1331666"/>
                    <a:pt x="1995488" y="1328738"/>
                  </a:cubicBezTo>
                  <a:cubicBezTo>
                    <a:pt x="2009107" y="1328040"/>
                    <a:pt x="2031886" y="1309235"/>
                    <a:pt x="2038350" y="1304925"/>
                  </a:cubicBezTo>
                  <a:cubicBezTo>
                    <a:pt x="2043113" y="1301750"/>
                    <a:pt x="2047208" y="1297210"/>
                    <a:pt x="2052638" y="1295400"/>
                  </a:cubicBezTo>
                  <a:lnTo>
                    <a:pt x="2109788" y="1276350"/>
                  </a:lnTo>
                  <a:lnTo>
                    <a:pt x="2124075" y="1271588"/>
                  </a:lnTo>
                  <a:cubicBezTo>
                    <a:pt x="2128838" y="1270000"/>
                    <a:pt x="2133349" y="1267076"/>
                    <a:pt x="2138363" y="1266825"/>
                  </a:cubicBezTo>
                  <a:lnTo>
                    <a:pt x="2233613" y="1262063"/>
                  </a:lnTo>
                  <a:cubicBezTo>
                    <a:pt x="2249488" y="1260475"/>
                    <a:pt x="2265444" y="1259556"/>
                    <a:pt x="2281238" y="1257300"/>
                  </a:cubicBezTo>
                  <a:cubicBezTo>
                    <a:pt x="2287718" y="1256374"/>
                    <a:pt x="2294019" y="1254419"/>
                    <a:pt x="2300288" y="1252538"/>
                  </a:cubicBezTo>
                  <a:cubicBezTo>
                    <a:pt x="2300355" y="1252518"/>
                    <a:pt x="2335973" y="1240642"/>
                    <a:pt x="2343150" y="1238250"/>
                  </a:cubicBezTo>
                  <a:cubicBezTo>
                    <a:pt x="2347913" y="1236662"/>
                    <a:pt x="2352468" y="1234198"/>
                    <a:pt x="2357438" y="1233488"/>
                  </a:cubicBezTo>
                  <a:cubicBezTo>
                    <a:pt x="2368550" y="1231900"/>
                    <a:pt x="2379703" y="1230570"/>
                    <a:pt x="2390775" y="1228725"/>
                  </a:cubicBezTo>
                  <a:cubicBezTo>
                    <a:pt x="2398760" y="1227394"/>
                    <a:pt x="2406603" y="1225294"/>
                    <a:pt x="2414588" y="1223963"/>
                  </a:cubicBezTo>
                  <a:cubicBezTo>
                    <a:pt x="2425660" y="1222118"/>
                    <a:pt x="2436918" y="1221402"/>
                    <a:pt x="2447925" y="1219200"/>
                  </a:cubicBezTo>
                  <a:cubicBezTo>
                    <a:pt x="2460762" y="1216633"/>
                    <a:pt x="2486025" y="1209675"/>
                    <a:pt x="2486025" y="1209675"/>
                  </a:cubicBezTo>
                  <a:cubicBezTo>
                    <a:pt x="2495550" y="1203325"/>
                    <a:pt x="2506505" y="1198719"/>
                    <a:pt x="2514600" y="1190625"/>
                  </a:cubicBezTo>
                  <a:cubicBezTo>
                    <a:pt x="2519363" y="1185863"/>
                    <a:pt x="2523284" y="1180074"/>
                    <a:pt x="2528888" y="1176338"/>
                  </a:cubicBezTo>
                  <a:cubicBezTo>
                    <a:pt x="2533065" y="1173553"/>
                    <a:pt x="2538787" y="1174013"/>
                    <a:pt x="2543175" y="1171575"/>
                  </a:cubicBezTo>
                  <a:cubicBezTo>
                    <a:pt x="2553182" y="1166015"/>
                    <a:pt x="2562225" y="1158875"/>
                    <a:pt x="2571750" y="1152525"/>
                  </a:cubicBezTo>
                  <a:lnTo>
                    <a:pt x="2586038" y="1143000"/>
                  </a:lnTo>
                  <a:cubicBezTo>
                    <a:pt x="2589213" y="1138238"/>
                    <a:pt x="2593003" y="1133832"/>
                    <a:pt x="2595563" y="1128713"/>
                  </a:cubicBezTo>
                  <a:cubicBezTo>
                    <a:pt x="2603151" y="1113537"/>
                    <a:pt x="2599350" y="1095862"/>
                    <a:pt x="2619375" y="1085850"/>
                  </a:cubicBezTo>
                  <a:cubicBezTo>
                    <a:pt x="2625725" y="1082675"/>
                    <a:pt x="2632648" y="1080451"/>
                    <a:pt x="2638425" y="1076325"/>
                  </a:cubicBezTo>
                  <a:cubicBezTo>
                    <a:pt x="2643906" y="1072410"/>
                    <a:pt x="2646825" y="1065309"/>
                    <a:pt x="2652713" y="1062038"/>
                  </a:cubicBezTo>
                  <a:cubicBezTo>
                    <a:pt x="2661490" y="1057162"/>
                    <a:pt x="2671763" y="1055688"/>
                    <a:pt x="2681288" y="1052513"/>
                  </a:cubicBezTo>
                  <a:lnTo>
                    <a:pt x="2695575" y="1047750"/>
                  </a:lnTo>
                  <a:cubicBezTo>
                    <a:pt x="2708833" y="1027863"/>
                    <a:pt x="2707293" y="1037470"/>
                    <a:pt x="2700338" y="1009650"/>
                  </a:cubicBezTo>
                  <a:cubicBezTo>
                    <a:pt x="2699120" y="1004780"/>
                    <a:pt x="2699125" y="998913"/>
                    <a:pt x="2695575" y="995363"/>
                  </a:cubicBezTo>
                  <a:cubicBezTo>
                    <a:pt x="2692025" y="991813"/>
                    <a:pt x="2686050" y="992188"/>
                    <a:pt x="2681288" y="990600"/>
                  </a:cubicBezTo>
                  <a:lnTo>
                    <a:pt x="2662238" y="962025"/>
                  </a:lnTo>
                  <a:cubicBezTo>
                    <a:pt x="2659063" y="957263"/>
                    <a:pt x="2654523" y="953168"/>
                    <a:pt x="2652713" y="947738"/>
                  </a:cubicBezTo>
                  <a:lnTo>
                    <a:pt x="2647950" y="933450"/>
                  </a:lnTo>
                  <a:cubicBezTo>
                    <a:pt x="2656334" y="908303"/>
                    <a:pt x="2649928" y="923341"/>
                    <a:pt x="2671763" y="890588"/>
                  </a:cubicBezTo>
                  <a:cubicBezTo>
                    <a:pt x="2674938" y="885825"/>
                    <a:pt x="2675858" y="878110"/>
                    <a:pt x="2681288" y="876300"/>
                  </a:cubicBezTo>
                  <a:cubicBezTo>
                    <a:pt x="2690813" y="873125"/>
                    <a:pt x="2701509" y="872344"/>
                    <a:pt x="2709863" y="866775"/>
                  </a:cubicBezTo>
                  <a:cubicBezTo>
                    <a:pt x="2714625" y="863600"/>
                    <a:pt x="2719031" y="859810"/>
                    <a:pt x="2724150" y="857250"/>
                  </a:cubicBezTo>
                  <a:cubicBezTo>
                    <a:pt x="2732147" y="853252"/>
                    <a:pt x="2749867" y="850011"/>
                    <a:pt x="2757488" y="847725"/>
                  </a:cubicBezTo>
                  <a:cubicBezTo>
                    <a:pt x="2767105" y="844840"/>
                    <a:pt x="2786063" y="838200"/>
                    <a:pt x="2786063" y="838200"/>
                  </a:cubicBezTo>
                  <a:cubicBezTo>
                    <a:pt x="2800350" y="839788"/>
                    <a:pt x="2814829" y="840144"/>
                    <a:pt x="2828925" y="842963"/>
                  </a:cubicBezTo>
                  <a:cubicBezTo>
                    <a:pt x="2838770" y="844932"/>
                    <a:pt x="2847759" y="850053"/>
                    <a:pt x="2857500" y="852488"/>
                  </a:cubicBezTo>
                  <a:cubicBezTo>
                    <a:pt x="2884403" y="859213"/>
                    <a:pt x="2870132" y="855966"/>
                    <a:pt x="2900363" y="862013"/>
                  </a:cubicBezTo>
                  <a:cubicBezTo>
                    <a:pt x="2919413" y="860425"/>
                    <a:pt x="2938565" y="859776"/>
                    <a:pt x="2957513" y="857250"/>
                  </a:cubicBezTo>
                  <a:cubicBezTo>
                    <a:pt x="2962489" y="856587"/>
                    <a:pt x="2967543" y="855149"/>
                    <a:pt x="2971800" y="852488"/>
                  </a:cubicBezTo>
                  <a:cubicBezTo>
                    <a:pt x="2980420" y="847101"/>
                    <a:pt x="2987392" y="839417"/>
                    <a:pt x="2995613" y="833438"/>
                  </a:cubicBezTo>
                  <a:cubicBezTo>
                    <a:pt x="3004871" y="826705"/>
                    <a:pt x="3016094" y="822483"/>
                    <a:pt x="3024188" y="814388"/>
                  </a:cubicBezTo>
                  <a:cubicBezTo>
                    <a:pt x="3042522" y="796052"/>
                    <a:pt x="3032871" y="803836"/>
                    <a:pt x="3052763" y="790575"/>
                  </a:cubicBezTo>
                  <a:cubicBezTo>
                    <a:pt x="3055938" y="785813"/>
                    <a:pt x="3058241" y="780335"/>
                    <a:pt x="3062288" y="776288"/>
                  </a:cubicBezTo>
                  <a:cubicBezTo>
                    <a:pt x="3066335" y="772241"/>
                    <a:pt x="3072806" y="771071"/>
                    <a:pt x="3076575" y="766763"/>
                  </a:cubicBezTo>
                  <a:cubicBezTo>
                    <a:pt x="3084113" y="758148"/>
                    <a:pt x="3086100" y="744538"/>
                    <a:pt x="3095625" y="738188"/>
                  </a:cubicBezTo>
                  <a:lnTo>
                    <a:pt x="3152775" y="700088"/>
                  </a:lnTo>
                  <a:lnTo>
                    <a:pt x="3181350" y="681038"/>
                  </a:lnTo>
                  <a:cubicBezTo>
                    <a:pt x="3199685" y="662703"/>
                    <a:pt x="3190034" y="670486"/>
                    <a:pt x="3209925" y="657225"/>
                  </a:cubicBezTo>
                  <a:cubicBezTo>
                    <a:pt x="3216275" y="647700"/>
                    <a:pt x="3219450" y="635000"/>
                    <a:pt x="3228975" y="628650"/>
                  </a:cubicBezTo>
                  <a:cubicBezTo>
                    <a:pt x="3265902" y="604032"/>
                    <a:pt x="3246692" y="613219"/>
                    <a:pt x="3286125" y="600075"/>
                  </a:cubicBezTo>
                  <a:cubicBezTo>
                    <a:pt x="3290888" y="598488"/>
                    <a:pt x="3295543" y="596531"/>
                    <a:pt x="3300413" y="595313"/>
                  </a:cubicBezTo>
                  <a:lnTo>
                    <a:pt x="3338513" y="585788"/>
                  </a:lnTo>
                  <a:cubicBezTo>
                    <a:pt x="3343275" y="582613"/>
                    <a:pt x="3347570" y="578588"/>
                    <a:pt x="3352800" y="576263"/>
                  </a:cubicBezTo>
                  <a:cubicBezTo>
                    <a:pt x="3362964" y="571745"/>
                    <a:pt x="3392565" y="562606"/>
                    <a:pt x="3405188" y="561975"/>
                  </a:cubicBezTo>
                  <a:cubicBezTo>
                    <a:pt x="3460704" y="559199"/>
                    <a:pt x="3516313" y="558800"/>
                    <a:pt x="3571875" y="557213"/>
                  </a:cubicBezTo>
                  <a:cubicBezTo>
                    <a:pt x="3579651" y="545548"/>
                    <a:pt x="3586163" y="539251"/>
                    <a:pt x="3586163" y="523875"/>
                  </a:cubicBezTo>
                  <a:cubicBezTo>
                    <a:pt x="3586163" y="503177"/>
                    <a:pt x="3586420" y="482043"/>
                    <a:pt x="3581400" y="461963"/>
                  </a:cubicBezTo>
                  <a:cubicBezTo>
                    <a:pt x="3579766" y="455429"/>
                    <a:pt x="3572429" y="451810"/>
                    <a:pt x="3567113" y="447675"/>
                  </a:cubicBezTo>
                  <a:cubicBezTo>
                    <a:pt x="3547302" y="432266"/>
                    <a:pt x="3543723" y="429427"/>
                    <a:pt x="3524250" y="423863"/>
                  </a:cubicBezTo>
                  <a:cubicBezTo>
                    <a:pt x="3517956" y="422065"/>
                    <a:pt x="3511550" y="420688"/>
                    <a:pt x="3505200" y="419100"/>
                  </a:cubicBezTo>
                  <a:cubicBezTo>
                    <a:pt x="3500438" y="415925"/>
                    <a:pt x="3496174" y="411830"/>
                    <a:pt x="3490913" y="409575"/>
                  </a:cubicBezTo>
                  <a:cubicBezTo>
                    <a:pt x="3443053" y="389064"/>
                    <a:pt x="3507323" y="427306"/>
                    <a:pt x="3443288" y="395288"/>
                  </a:cubicBezTo>
                  <a:cubicBezTo>
                    <a:pt x="3436938" y="392113"/>
                    <a:pt x="3430830" y="388400"/>
                    <a:pt x="3424238" y="385763"/>
                  </a:cubicBezTo>
                  <a:cubicBezTo>
                    <a:pt x="3414916" y="382034"/>
                    <a:pt x="3405188" y="379413"/>
                    <a:pt x="3395663" y="376238"/>
                  </a:cubicBezTo>
                  <a:lnTo>
                    <a:pt x="3381375" y="371475"/>
                  </a:lnTo>
                  <a:cubicBezTo>
                    <a:pt x="3365500" y="373063"/>
                    <a:pt x="3349544" y="373982"/>
                    <a:pt x="3333750" y="376238"/>
                  </a:cubicBezTo>
                  <a:cubicBezTo>
                    <a:pt x="3327270" y="377164"/>
                    <a:pt x="3321229" y="380534"/>
                    <a:pt x="3314700" y="381000"/>
                  </a:cubicBezTo>
                  <a:cubicBezTo>
                    <a:pt x="3276664" y="383717"/>
                    <a:pt x="3238500" y="384175"/>
                    <a:pt x="3200400" y="385763"/>
                  </a:cubicBezTo>
                  <a:cubicBezTo>
                    <a:pt x="3194050" y="387350"/>
                    <a:pt x="3187895" y="390525"/>
                    <a:pt x="3181350" y="390525"/>
                  </a:cubicBezTo>
                  <a:cubicBezTo>
                    <a:pt x="3129872" y="390525"/>
                    <a:pt x="3135329" y="391060"/>
                    <a:pt x="3105150" y="381000"/>
                  </a:cubicBezTo>
                  <a:cubicBezTo>
                    <a:pt x="3106738" y="366713"/>
                    <a:pt x="3105367" y="351776"/>
                    <a:pt x="3109913" y="338138"/>
                  </a:cubicBezTo>
                  <a:cubicBezTo>
                    <a:pt x="3113533" y="327278"/>
                    <a:pt x="3128963" y="309563"/>
                    <a:pt x="3128963" y="309563"/>
                  </a:cubicBezTo>
                  <a:cubicBezTo>
                    <a:pt x="3132138" y="300038"/>
                    <a:pt x="3137068" y="290927"/>
                    <a:pt x="3138488" y="280988"/>
                  </a:cubicBezTo>
                  <a:cubicBezTo>
                    <a:pt x="3139672" y="272699"/>
                    <a:pt x="3141617" y="244875"/>
                    <a:pt x="3148013" y="233363"/>
                  </a:cubicBezTo>
                  <a:cubicBezTo>
                    <a:pt x="3153573" y="223356"/>
                    <a:pt x="3157538" y="211138"/>
                    <a:pt x="3167063" y="204788"/>
                  </a:cubicBezTo>
                  <a:cubicBezTo>
                    <a:pt x="3208006" y="177492"/>
                    <a:pt x="3156204" y="210218"/>
                    <a:pt x="3195638" y="190500"/>
                  </a:cubicBezTo>
                  <a:cubicBezTo>
                    <a:pt x="3200757" y="187940"/>
                    <a:pt x="3205163" y="184150"/>
                    <a:pt x="3209925" y="180975"/>
                  </a:cubicBezTo>
                  <a:lnTo>
                    <a:pt x="3228975" y="152400"/>
                  </a:lnTo>
                  <a:cubicBezTo>
                    <a:pt x="3232150" y="147638"/>
                    <a:pt x="3234453" y="142160"/>
                    <a:pt x="3238500" y="138113"/>
                  </a:cubicBezTo>
                  <a:lnTo>
                    <a:pt x="3248025" y="128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任意多边形 9"/>
            <p:cNvSpPr/>
            <p:nvPr/>
          </p:nvSpPr>
          <p:spPr>
            <a:xfrm>
              <a:off x="7053120" y="1100160"/>
              <a:ext cx="2028960" cy="1871280"/>
            </a:xfrm>
            <a:custGeom>
              <a:avLst/>
              <a:gdLst/>
              <a:ahLst/>
              <a:rect l="l" t="t" r="r" b="b"/>
              <a:pathLst>
                <a:path w="2029078" h="1871662">
                  <a:moveTo>
                    <a:pt x="0" y="585787"/>
                  </a:moveTo>
                  <a:cubicBezTo>
                    <a:pt x="60325" y="584200"/>
                    <a:pt x="120790" y="585429"/>
                    <a:pt x="180975" y="581025"/>
                  </a:cubicBezTo>
                  <a:cubicBezTo>
                    <a:pt x="186683" y="580607"/>
                    <a:pt x="192229" y="576354"/>
                    <a:pt x="195262" y="571500"/>
                  </a:cubicBezTo>
                  <a:cubicBezTo>
                    <a:pt x="201217" y="561973"/>
                    <a:pt x="206029" y="536200"/>
                    <a:pt x="209550" y="523875"/>
                  </a:cubicBezTo>
                  <a:cubicBezTo>
                    <a:pt x="214342" y="507104"/>
                    <a:pt x="219714" y="494660"/>
                    <a:pt x="233362" y="481012"/>
                  </a:cubicBezTo>
                  <a:cubicBezTo>
                    <a:pt x="242887" y="471487"/>
                    <a:pt x="254465" y="463645"/>
                    <a:pt x="261937" y="452437"/>
                  </a:cubicBezTo>
                  <a:cubicBezTo>
                    <a:pt x="265112" y="447675"/>
                    <a:pt x="268902" y="443269"/>
                    <a:pt x="271462" y="438150"/>
                  </a:cubicBezTo>
                  <a:cubicBezTo>
                    <a:pt x="273707" y="433660"/>
                    <a:pt x="273440" y="428039"/>
                    <a:pt x="276225" y="423862"/>
                  </a:cubicBezTo>
                  <a:cubicBezTo>
                    <a:pt x="279961" y="418258"/>
                    <a:pt x="285750" y="414337"/>
                    <a:pt x="290512" y="409575"/>
                  </a:cubicBezTo>
                  <a:cubicBezTo>
                    <a:pt x="298895" y="384427"/>
                    <a:pt x="292490" y="399463"/>
                    <a:pt x="314325" y="366712"/>
                  </a:cubicBezTo>
                  <a:lnTo>
                    <a:pt x="323850" y="352425"/>
                  </a:lnTo>
                  <a:lnTo>
                    <a:pt x="333375" y="338137"/>
                  </a:lnTo>
                  <a:cubicBezTo>
                    <a:pt x="344710" y="304132"/>
                    <a:pt x="337331" y="317916"/>
                    <a:pt x="352425" y="295275"/>
                  </a:cubicBezTo>
                  <a:cubicBezTo>
                    <a:pt x="364392" y="259368"/>
                    <a:pt x="348251" y="303622"/>
                    <a:pt x="366712" y="266700"/>
                  </a:cubicBezTo>
                  <a:cubicBezTo>
                    <a:pt x="368957" y="262210"/>
                    <a:pt x="369037" y="256801"/>
                    <a:pt x="371475" y="252412"/>
                  </a:cubicBezTo>
                  <a:cubicBezTo>
                    <a:pt x="377034" y="242405"/>
                    <a:pt x="390525" y="223837"/>
                    <a:pt x="390525" y="223837"/>
                  </a:cubicBezTo>
                  <a:cubicBezTo>
                    <a:pt x="392112" y="219075"/>
                    <a:pt x="395287" y="214570"/>
                    <a:pt x="395287" y="209550"/>
                  </a:cubicBezTo>
                  <a:cubicBezTo>
                    <a:pt x="395287" y="193596"/>
                    <a:pt x="395570" y="177060"/>
                    <a:pt x="390525" y="161925"/>
                  </a:cubicBezTo>
                  <a:cubicBezTo>
                    <a:pt x="388715" y="156495"/>
                    <a:pt x="381759" y="153906"/>
                    <a:pt x="376237" y="152400"/>
                  </a:cubicBezTo>
                  <a:cubicBezTo>
                    <a:pt x="368425" y="150269"/>
                    <a:pt x="293384" y="143162"/>
                    <a:pt x="290512" y="142875"/>
                  </a:cubicBezTo>
                  <a:cubicBezTo>
                    <a:pt x="295275" y="139700"/>
                    <a:pt x="299539" y="135605"/>
                    <a:pt x="304800" y="133350"/>
                  </a:cubicBezTo>
                  <a:cubicBezTo>
                    <a:pt x="310816" y="130772"/>
                    <a:pt x="318167" y="131834"/>
                    <a:pt x="323850" y="128587"/>
                  </a:cubicBezTo>
                  <a:cubicBezTo>
                    <a:pt x="329698" y="125245"/>
                    <a:pt x="332250" y="117571"/>
                    <a:pt x="338137" y="114300"/>
                  </a:cubicBezTo>
                  <a:cubicBezTo>
                    <a:pt x="346914" y="109424"/>
                    <a:pt x="366712" y="104775"/>
                    <a:pt x="366712" y="104775"/>
                  </a:cubicBezTo>
                  <a:cubicBezTo>
                    <a:pt x="371475" y="101600"/>
                    <a:pt x="375769" y="97575"/>
                    <a:pt x="381000" y="95250"/>
                  </a:cubicBezTo>
                  <a:cubicBezTo>
                    <a:pt x="390175" y="91172"/>
                    <a:pt x="400050" y="88900"/>
                    <a:pt x="409575" y="85725"/>
                  </a:cubicBezTo>
                  <a:lnTo>
                    <a:pt x="423862" y="80962"/>
                  </a:lnTo>
                  <a:lnTo>
                    <a:pt x="438150" y="76200"/>
                  </a:lnTo>
                  <a:cubicBezTo>
                    <a:pt x="442912" y="74613"/>
                    <a:pt x="447567" y="72654"/>
                    <a:pt x="452437" y="71437"/>
                  </a:cubicBezTo>
                  <a:cubicBezTo>
                    <a:pt x="458787" y="69850"/>
                    <a:pt x="465218" y="68556"/>
                    <a:pt x="471487" y="66675"/>
                  </a:cubicBezTo>
                  <a:cubicBezTo>
                    <a:pt x="471520" y="66665"/>
                    <a:pt x="507190" y="54774"/>
                    <a:pt x="514350" y="52387"/>
                  </a:cubicBezTo>
                  <a:lnTo>
                    <a:pt x="557212" y="38100"/>
                  </a:lnTo>
                  <a:lnTo>
                    <a:pt x="571500" y="33337"/>
                  </a:lnTo>
                  <a:lnTo>
                    <a:pt x="585787" y="28575"/>
                  </a:lnTo>
                  <a:cubicBezTo>
                    <a:pt x="590550" y="23812"/>
                    <a:pt x="594471" y="18023"/>
                    <a:pt x="600075" y="14287"/>
                  </a:cubicBezTo>
                  <a:cubicBezTo>
                    <a:pt x="604252" y="11502"/>
                    <a:pt x="609535" y="10904"/>
                    <a:pt x="614362" y="9525"/>
                  </a:cubicBezTo>
                  <a:cubicBezTo>
                    <a:pt x="656231" y="-2438"/>
                    <a:pt x="613436" y="11420"/>
                    <a:pt x="647700" y="0"/>
                  </a:cubicBezTo>
                  <a:cubicBezTo>
                    <a:pt x="686045" y="3195"/>
                    <a:pt x="694977" y="848"/>
                    <a:pt x="723900" y="9525"/>
                  </a:cubicBezTo>
                  <a:cubicBezTo>
                    <a:pt x="733517" y="12410"/>
                    <a:pt x="742950" y="15875"/>
                    <a:pt x="752475" y="19050"/>
                  </a:cubicBezTo>
                  <a:cubicBezTo>
                    <a:pt x="757237" y="20637"/>
                    <a:pt x="761892" y="22594"/>
                    <a:pt x="766762" y="23812"/>
                  </a:cubicBezTo>
                  <a:cubicBezTo>
                    <a:pt x="773112" y="25400"/>
                    <a:pt x="779422" y="27155"/>
                    <a:pt x="785812" y="28575"/>
                  </a:cubicBezTo>
                  <a:cubicBezTo>
                    <a:pt x="793714" y="30331"/>
                    <a:pt x="801551" y="32760"/>
                    <a:pt x="809625" y="33337"/>
                  </a:cubicBezTo>
                  <a:cubicBezTo>
                    <a:pt x="846079" y="35941"/>
                    <a:pt x="882650" y="36512"/>
                    <a:pt x="919162" y="38100"/>
                  </a:cubicBezTo>
                  <a:cubicBezTo>
                    <a:pt x="933735" y="41743"/>
                    <a:pt x="941537" y="41424"/>
                    <a:pt x="952500" y="52387"/>
                  </a:cubicBezTo>
                  <a:cubicBezTo>
                    <a:pt x="956547" y="56434"/>
                    <a:pt x="958850" y="61912"/>
                    <a:pt x="962025" y="66675"/>
                  </a:cubicBezTo>
                  <a:cubicBezTo>
                    <a:pt x="963612" y="71437"/>
                    <a:pt x="964349" y="76574"/>
                    <a:pt x="966787" y="80962"/>
                  </a:cubicBezTo>
                  <a:cubicBezTo>
                    <a:pt x="972346" y="90969"/>
                    <a:pt x="979487" y="100012"/>
                    <a:pt x="985837" y="109537"/>
                  </a:cubicBezTo>
                  <a:lnTo>
                    <a:pt x="995362" y="123825"/>
                  </a:lnTo>
                  <a:lnTo>
                    <a:pt x="1014412" y="152400"/>
                  </a:lnTo>
                  <a:cubicBezTo>
                    <a:pt x="1017587" y="161925"/>
                    <a:pt x="1018368" y="172621"/>
                    <a:pt x="1023937" y="180975"/>
                  </a:cubicBezTo>
                  <a:cubicBezTo>
                    <a:pt x="1027112" y="185737"/>
                    <a:pt x="1030902" y="190143"/>
                    <a:pt x="1033462" y="195262"/>
                  </a:cubicBezTo>
                  <a:cubicBezTo>
                    <a:pt x="1035707" y="199752"/>
                    <a:pt x="1035787" y="205161"/>
                    <a:pt x="1038225" y="209550"/>
                  </a:cubicBezTo>
                  <a:cubicBezTo>
                    <a:pt x="1043784" y="219557"/>
                    <a:pt x="1057275" y="238125"/>
                    <a:pt x="1057275" y="238125"/>
                  </a:cubicBezTo>
                  <a:cubicBezTo>
                    <a:pt x="1069245" y="274037"/>
                    <a:pt x="1051705" y="231162"/>
                    <a:pt x="1076325" y="261937"/>
                  </a:cubicBezTo>
                  <a:cubicBezTo>
                    <a:pt x="1079461" y="265857"/>
                    <a:pt x="1078842" y="271735"/>
                    <a:pt x="1081087" y="276225"/>
                  </a:cubicBezTo>
                  <a:cubicBezTo>
                    <a:pt x="1083647" y="281344"/>
                    <a:pt x="1088287" y="285282"/>
                    <a:pt x="1090612" y="290512"/>
                  </a:cubicBezTo>
                  <a:cubicBezTo>
                    <a:pt x="1094690" y="299687"/>
                    <a:pt x="1094568" y="310733"/>
                    <a:pt x="1100137" y="319087"/>
                  </a:cubicBezTo>
                  <a:lnTo>
                    <a:pt x="1119187" y="347662"/>
                  </a:lnTo>
                  <a:cubicBezTo>
                    <a:pt x="1122362" y="352425"/>
                    <a:pt x="1123949" y="358775"/>
                    <a:pt x="1128712" y="361950"/>
                  </a:cubicBezTo>
                  <a:lnTo>
                    <a:pt x="1143000" y="371475"/>
                  </a:lnTo>
                  <a:cubicBezTo>
                    <a:pt x="1146175" y="381000"/>
                    <a:pt x="1146956" y="391696"/>
                    <a:pt x="1152525" y="400050"/>
                  </a:cubicBezTo>
                  <a:cubicBezTo>
                    <a:pt x="1158875" y="409575"/>
                    <a:pt x="1162050" y="422275"/>
                    <a:pt x="1171575" y="428625"/>
                  </a:cubicBezTo>
                  <a:cubicBezTo>
                    <a:pt x="1176337" y="431800"/>
                    <a:pt x="1180632" y="435825"/>
                    <a:pt x="1185862" y="438150"/>
                  </a:cubicBezTo>
                  <a:cubicBezTo>
                    <a:pt x="1200772" y="444777"/>
                    <a:pt x="1217653" y="448479"/>
                    <a:pt x="1233487" y="452437"/>
                  </a:cubicBezTo>
                  <a:cubicBezTo>
                    <a:pt x="1238250" y="455612"/>
                    <a:pt x="1242544" y="459637"/>
                    <a:pt x="1247775" y="461962"/>
                  </a:cubicBezTo>
                  <a:cubicBezTo>
                    <a:pt x="1268448" y="471150"/>
                    <a:pt x="1282857" y="473097"/>
                    <a:pt x="1304925" y="476250"/>
                  </a:cubicBezTo>
                  <a:cubicBezTo>
                    <a:pt x="1317595" y="478060"/>
                    <a:pt x="1330325" y="479425"/>
                    <a:pt x="1343025" y="481012"/>
                  </a:cubicBezTo>
                  <a:lnTo>
                    <a:pt x="1371600" y="490537"/>
                  </a:lnTo>
                  <a:cubicBezTo>
                    <a:pt x="1376362" y="492125"/>
                    <a:pt x="1381710" y="492515"/>
                    <a:pt x="1385887" y="495300"/>
                  </a:cubicBezTo>
                  <a:cubicBezTo>
                    <a:pt x="1404352" y="507609"/>
                    <a:pt x="1394745" y="503015"/>
                    <a:pt x="1414462" y="509587"/>
                  </a:cubicBezTo>
                  <a:cubicBezTo>
                    <a:pt x="1441919" y="527891"/>
                    <a:pt x="1415434" y="512044"/>
                    <a:pt x="1443037" y="523875"/>
                  </a:cubicBezTo>
                  <a:cubicBezTo>
                    <a:pt x="1484214" y="541523"/>
                    <a:pt x="1442880" y="526999"/>
                    <a:pt x="1476375" y="538162"/>
                  </a:cubicBezTo>
                  <a:cubicBezTo>
                    <a:pt x="1481137" y="541337"/>
                    <a:pt x="1485401" y="545432"/>
                    <a:pt x="1490662" y="547687"/>
                  </a:cubicBezTo>
                  <a:cubicBezTo>
                    <a:pt x="1496678" y="550265"/>
                    <a:pt x="1503443" y="550569"/>
                    <a:pt x="1509712" y="552450"/>
                  </a:cubicBezTo>
                  <a:cubicBezTo>
                    <a:pt x="1519329" y="555335"/>
                    <a:pt x="1528762" y="558800"/>
                    <a:pt x="1538287" y="561975"/>
                  </a:cubicBezTo>
                  <a:lnTo>
                    <a:pt x="1552575" y="566737"/>
                  </a:lnTo>
                  <a:cubicBezTo>
                    <a:pt x="1569151" y="591602"/>
                    <a:pt x="1557356" y="569979"/>
                    <a:pt x="1566862" y="604837"/>
                  </a:cubicBezTo>
                  <a:cubicBezTo>
                    <a:pt x="1569504" y="614523"/>
                    <a:pt x="1566862" y="630237"/>
                    <a:pt x="1576387" y="633412"/>
                  </a:cubicBezTo>
                  <a:lnTo>
                    <a:pt x="1590675" y="638175"/>
                  </a:lnTo>
                  <a:cubicBezTo>
                    <a:pt x="1595839" y="653668"/>
                    <a:pt x="1592866" y="654494"/>
                    <a:pt x="1609725" y="661987"/>
                  </a:cubicBezTo>
                  <a:cubicBezTo>
                    <a:pt x="1618900" y="666065"/>
                    <a:pt x="1638300" y="671512"/>
                    <a:pt x="1638300" y="671512"/>
                  </a:cubicBezTo>
                  <a:cubicBezTo>
                    <a:pt x="1665287" y="669925"/>
                    <a:pt x="1692455" y="670246"/>
                    <a:pt x="1719262" y="666750"/>
                  </a:cubicBezTo>
                  <a:cubicBezTo>
                    <a:pt x="1719267" y="666749"/>
                    <a:pt x="1754979" y="654844"/>
                    <a:pt x="1762125" y="652462"/>
                  </a:cubicBezTo>
                  <a:lnTo>
                    <a:pt x="1776412" y="647700"/>
                  </a:lnTo>
                  <a:cubicBezTo>
                    <a:pt x="1779587" y="642937"/>
                    <a:pt x="1781467" y="636988"/>
                    <a:pt x="1785937" y="633412"/>
                  </a:cubicBezTo>
                  <a:cubicBezTo>
                    <a:pt x="1789040" y="630929"/>
                    <a:pt x="1818034" y="624197"/>
                    <a:pt x="1819275" y="623887"/>
                  </a:cubicBezTo>
                  <a:cubicBezTo>
                    <a:pt x="1824037" y="619125"/>
                    <a:pt x="1828082" y="613515"/>
                    <a:pt x="1833562" y="609600"/>
                  </a:cubicBezTo>
                  <a:cubicBezTo>
                    <a:pt x="1843860" y="602244"/>
                    <a:pt x="1855241" y="599199"/>
                    <a:pt x="1866900" y="595312"/>
                  </a:cubicBezTo>
                  <a:cubicBezTo>
                    <a:pt x="1870075" y="590550"/>
                    <a:pt x="1871956" y="584601"/>
                    <a:pt x="1876425" y="581025"/>
                  </a:cubicBezTo>
                  <a:cubicBezTo>
                    <a:pt x="1880345" y="577889"/>
                    <a:pt x="1887162" y="579812"/>
                    <a:pt x="1890712" y="576262"/>
                  </a:cubicBezTo>
                  <a:cubicBezTo>
                    <a:pt x="1916112" y="550862"/>
                    <a:pt x="1871663" y="569913"/>
                    <a:pt x="1909762" y="557212"/>
                  </a:cubicBezTo>
                  <a:cubicBezTo>
                    <a:pt x="1941512" y="558800"/>
                    <a:pt x="1973489" y="557863"/>
                    <a:pt x="2005012" y="561975"/>
                  </a:cubicBezTo>
                  <a:cubicBezTo>
                    <a:pt x="2010688" y="562715"/>
                    <a:pt x="2015724" y="567030"/>
                    <a:pt x="2019300" y="571500"/>
                  </a:cubicBezTo>
                  <a:cubicBezTo>
                    <a:pt x="2022436" y="575420"/>
                    <a:pt x="2022475" y="581025"/>
                    <a:pt x="2024062" y="585787"/>
                  </a:cubicBezTo>
                  <a:cubicBezTo>
                    <a:pt x="2028131" y="626474"/>
                    <a:pt x="2032950" y="644324"/>
                    <a:pt x="2024062" y="685800"/>
                  </a:cubicBezTo>
                  <a:cubicBezTo>
                    <a:pt x="2022863" y="691397"/>
                    <a:pt x="2017712" y="695325"/>
                    <a:pt x="2014537" y="700087"/>
                  </a:cubicBezTo>
                  <a:cubicBezTo>
                    <a:pt x="1997174" y="752182"/>
                    <a:pt x="2024863" y="673284"/>
                    <a:pt x="2000250" y="728662"/>
                  </a:cubicBezTo>
                  <a:cubicBezTo>
                    <a:pt x="1991200" y="749025"/>
                    <a:pt x="1991502" y="756898"/>
                    <a:pt x="1985962" y="776287"/>
                  </a:cubicBezTo>
                  <a:cubicBezTo>
                    <a:pt x="1984583" y="781114"/>
                    <a:pt x="1982521" y="785732"/>
                    <a:pt x="1981200" y="790575"/>
                  </a:cubicBezTo>
                  <a:cubicBezTo>
                    <a:pt x="1977756" y="803205"/>
                    <a:pt x="1974850" y="815975"/>
                    <a:pt x="1971675" y="828675"/>
                  </a:cubicBezTo>
                  <a:lnTo>
                    <a:pt x="1966912" y="847725"/>
                  </a:lnTo>
                  <a:cubicBezTo>
                    <a:pt x="1965325" y="860425"/>
                    <a:pt x="1964440" y="873233"/>
                    <a:pt x="1962150" y="885825"/>
                  </a:cubicBezTo>
                  <a:cubicBezTo>
                    <a:pt x="1961252" y="890764"/>
                    <a:pt x="1957887" y="895117"/>
                    <a:pt x="1957387" y="900112"/>
                  </a:cubicBezTo>
                  <a:cubicBezTo>
                    <a:pt x="1954697" y="927012"/>
                    <a:pt x="1955315" y="954175"/>
                    <a:pt x="1952625" y="981075"/>
                  </a:cubicBezTo>
                  <a:cubicBezTo>
                    <a:pt x="1952125" y="986070"/>
                    <a:pt x="1950998" y="991442"/>
                    <a:pt x="1947862" y="995362"/>
                  </a:cubicBezTo>
                  <a:cubicBezTo>
                    <a:pt x="1937714" y="1008047"/>
                    <a:pt x="1931711" y="1002748"/>
                    <a:pt x="1919287" y="1009650"/>
                  </a:cubicBezTo>
                  <a:cubicBezTo>
                    <a:pt x="1909280" y="1015209"/>
                    <a:pt x="1901572" y="1025080"/>
                    <a:pt x="1890712" y="1028700"/>
                  </a:cubicBezTo>
                  <a:lnTo>
                    <a:pt x="1862137" y="1038225"/>
                  </a:lnTo>
                  <a:lnTo>
                    <a:pt x="1847850" y="1042987"/>
                  </a:lnTo>
                  <a:cubicBezTo>
                    <a:pt x="1825625" y="1041400"/>
                    <a:pt x="1803457" y="1038225"/>
                    <a:pt x="1781175" y="1038225"/>
                  </a:cubicBezTo>
                  <a:cubicBezTo>
                    <a:pt x="1764234" y="1038225"/>
                    <a:pt x="1766505" y="1046303"/>
                    <a:pt x="1757362" y="1057275"/>
                  </a:cubicBezTo>
                  <a:cubicBezTo>
                    <a:pt x="1745903" y="1071026"/>
                    <a:pt x="1742835" y="1071722"/>
                    <a:pt x="1728787" y="1081087"/>
                  </a:cubicBezTo>
                  <a:cubicBezTo>
                    <a:pt x="1725612" y="1085850"/>
                    <a:pt x="1719972" y="1089695"/>
                    <a:pt x="1719262" y="1095375"/>
                  </a:cubicBezTo>
                  <a:cubicBezTo>
                    <a:pt x="1718258" y="1103407"/>
                    <a:pt x="1722205" y="1111300"/>
                    <a:pt x="1724025" y="1119187"/>
                  </a:cubicBezTo>
                  <a:cubicBezTo>
                    <a:pt x="1726969" y="1131943"/>
                    <a:pt x="1729410" y="1144868"/>
                    <a:pt x="1733550" y="1157287"/>
                  </a:cubicBezTo>
                  <a:cubicBezTo>
                    <a:pt x="1736725" y="1166812"/>
                    <a:pt x="1741106" y="1176017"/>
                    <a:pt x="1743075" y="1185862"/>
                  </a:cubicBezTo>
                  <a:cubicBezTo>
                    <a:pt x="1749121" y="1216093"/>
                    <a:pt x="1745874" y="1201822"/>
                    <a:pt x="1752600" y="1228725"/>
                  </a:cubicBezTo>
                  <a:cubicBezTo>
                    <a:pt x="1750839" y="1299164"/>
                    <a:pt x="1800405" y="1395324"/>
                    <a:pt x="1733550" y="1428750"/>
                  </a:cubicBezTo>
                  <a:cubicBezTo>
                    <a:pt x="1729060" y="1430995"/>
                    <a:pt x="1724025" y="1431925"/>
                    <a:pt x="1719262" y="1433512"/>
                  </a:cubicBezTo>
                  <a:cubicBezTo>
                    <a:pt x="1714500" y="1436687"/>
                    <a:pt x="1710236" y="1440782"/>
                    <a:pt x="1704975" y="1443037"/>
                  </a:cubicBezTo>
                  <a:cubicBezTo>
                    <a:pt x="1698959" y="1445615"/>
                    <a:pt x="1692219" y="1446002"/>
                    <a:pt x="1685925" y="1447800"/>
                  </a:cubicBezTo>
                  <a:cubicBezTo>
                    <a:pt x="1681098" y="1449179"/>
                    <a:pt x="1676400" y="1450975"/>
                    <a:pt x="1671637" y="1452562"/>
                  </a:cubicBezTo>
                  <a:cubicBezTo>
                    <a:pt x="1660525" y="1450975"/>
                    <a:pt x="1648340" y="1452820"/>
                    <a:pt x="1638300" y="1447800"/>
                  </a:cubicBezTo>
                  <a:cubicBezTo>
                    <a:pt x="1633810" y="1445555"/>
                    <a:pt x="1637087" y="1437062"/>
                    <a:pt x="1633537" y="1433512"/>
                  </a:cubicBezTo>
                  <a:cubicBezTo>
                    <a:pt x="1629987" y="1429962"/>
                    <a:pt x="1624012" y="1430337"/>
                    <a:pt x="1619250" y="1428750"/>
                  </a:cubicBezTo>
                  <a:cubicBezTo>
                    <a:pt x="1612900" y="1438275"/>
                    <a:pt x="1603820" y="1446465"/>
                    <a:pt x="1600200" y="1457325"/>
                  </a:cubicBezTo>
                  <a:cubicBezTo>
                    <a:pt x="1597025" y="1466850"/>
                    <a:pt x="1599029" y="1480331"/>
                    <a:pt x="1590675" y="1485900"/>
                  </a:cubicBezTo>
                  <a:cubicBezTo>
                    <a:pt x="1585912" y="1489075"/>
                    <a:pt x="1581618" y="1493100"/>
                    <a:pt x="1576387" y="1495425"/>
                  </a:cubicBezTo>
                  <a:cubicBezTo>
                    <a:pt x="1567212" y="1499503"/>
                    <a:pt x="1547812" y="1504950"/>
                    <a:pt x="1547812" y="1504950"/>
                  </a:cubicBezTo>
                  <a:cubicBezTo>
                    <a:pt x="1537374" y="1520607"/>
                    <a:pt x="1538455" y="1516269"/>
                    <a:pt x="1533525" y="1533525"/>
                  </a:cubicBezTo>
                  <a:cubicBezTo>
                    <a:pt x="1531727" y="1539819"/>
                    <a:pt x="1532393" y="1547129"/>
                    <a:pt x="1528762" y="1552575"/>
                  </a:cubicBezTo>
                  <a:cubicBezTo>
                    <a:pt x="1525587" y="1557337"/>
                    <a:pt x="1519705" y="1559775"/>
                    <a:pt x="1514475" y="1562100"/>
                  </a:cubicBezTo>
                  <a:cubicBezTo>
                    <a:pt x="1505300" y="1566178"/>
                    <a:pt x="1494254" y="1566056"/>
                    <a:pt x="1485900" y="1571625"/>
                  </a:cubicBezTo>
                  <a:cubicBezTo>
                    <a:pt x="1467435" y="1583934"/>
                    <a:pt x="1477042" y="1579340"/>
                    <a:pt x="1457325" y="1585912"/>
                  </a:cubicBezTo>
                  <a:cubicBezTo>
                    <a:pt x="1452562" y="1590675"/>
                    <a:pt x="1448641" y="1596464"/>
                    <a:pt x="1443037" y="1600200"/>
                  </a:cubicBezTo>
                  <a:cubicBezTo>
                    <a:pt x="1438860" y="1602985"/>
                    <a:pt x="1432300" y="1601412"/>
                    <a:pt x="1428750" y="1604962"/>
                  </a:cubicBezTo>
                  <a:cubicBezTo>
                    <a:pt x="1426471" y="1607241"/>
                    <a:pt x="1419267" y="1638133"/>
                    <a:pt x="1419225" y="1638300"/>
                  </a:cubicBezTo>
                  <a:cubicBezTo>
                    <a:pt x="1417637" y="1652587"/>
                    <a:pt x="1417949" y="1667216"/>
                    <a:pt x="1414462" y="1681162"/>
                  </a:cubicBezTo>
                  <a:cubicBezTo>
                    <a:pt x="1413074" y="1686715"/>
                    <a:pt x="1410611" y="1694693"/>
                    <a:pt x="1404937" y="1695450"/>
                  </a:cubicBezTo>
                  <a:cubicBezTo>
                    <a:pt x="1384420" y="1698186"/>
                    <a:pt x="1363662" y="1692275"/>
                    <a:pt x="1343025" y="1690687"/>
                  </a:cubicBezTo>
                  <a:cubicBezTo>
                    <a:pt x="1326643" y="1687411"/>
                    <a:pt x="1315866" y="1685649"/>
                    <a:pt x="1300162" y="1681162"/>
                  </a:cubicBezTo>
                  <a:cubicBezTo>
                    <a:pt x="1295335" y="1679783"/>
                    <a:pt x="1290637" y="1677987"/>
                    <a:pt x="1285875" y="1676400"/>
                  </a:cubicBezTo>
                  <a:cubicBezTo>
                    <a:pt x="1267749" y="1678414"/>
                    <a:pt x="1242859" y="1674534"/>
                    <a:pt x="1228725" y="1690687"/>
                  </a:cubicBezTo>
                  <a:cubicBezTo>
                    <a:pt x="1221187" y="1699302"/>
                    <a:pt x="1216025" y="1709737"/>
                    <a:pt x="1209675" y="1719262"/>
                  </a:cubicBezTo>
                  <a:lnTo>
                    <a:pt x="1162050" y="1790700"/>
                  </a:lnTo>
                  <a:lnTo>
                    <a:pt x="1152525" y="1804987"/>
                  </a:lnTo>
                  <a:cubicBezTo>
                    <a:pt x="1149350" y="1809750"/>
                    <a:pt x="1148430" y="1817465"/>
                    <a:pt x="1143000" y="1819275"/>
                  </a:cubicBezTo>
                  <a:lnTo>
                    <a:pt x="1128712" y="1824037"/>
                  </a:lnTo>
                  <a:cubicBezTo>
                    <a:pt x="1119187" y="1830387"/>
                    <a:pt x="1106487" y="1833562"/>
                    <a:pt x="1100137" y="1843087"/>
                  </a:cubicBezTo>
                  <a:cubicBezTo>
                    <a:pt x="1087828" y="1861552"/>
                    <a:pt x="1096042" y="1855565"/>
                    <a:pt x="1076325" y="1862137"/>
                  </a:cubicBezTo>
                  <a:lnTo>
                    <a:pt x="1062037" y="1871662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任意多边形 10"/>
            <p:cNvSpPr/>
            <p:nvPr/>
          </p:nvSpPr>
          <p:spPr>
            <a:xfrm>
              <a:off x="7238520" y="2971440"/>
              <a:ext cx="876600" cy="1280880"/>
            </a:xfrm>
            <a:custGeom>
              <a:avLst/>
              <a:gdLst/>
              <a:ahLst/>
              <a:rect l="l" t="t" r="r" b="b"/>
              <a:pathLst>
                <a:path w="876724" h="1281113">
                  <a:moveTo>
                    <a:pt x="876724" y="0"/>
                  </a:moveTo>
                  <a:cubicBezTo>
                    <a:pt x="871962" y="7938"/>
                    <a:pt x="866577" y="15534"/>
                    <a:pt x="862437" y="23813"/>
                  </a:cubicBezTo>
                  <a:cubicBezTo>
                    <a:pt x="860192" y="28303"/>
                    <a:pt x="861224" y="34550"/>
                    <a:pt x="857674" y="38100"/>
                  </a:cubicBezTo>
                  <a:cubicBezTo>
                    <a:pt x="849579" y="46195"/>
                    <a:pt x="838624" y="50800"/>
                    <a:pt x="829099" y="57150"/>
                  </a:cubicBezTo>
                  <a:lnTo>
                    <a:pt x="786237" y="85725"/>
                  </a:lnTo>
                  <a:lnTo>
                    <a:pt x="743374" y="114300"/>
                  </a:lnTo>
                  <a:lnTo>
                    <a:pt x="729087" y="123825"/>
                  </a:lnTo>
                  <a:cubicBezTo>
                    <a:pt x="725912" y="128588"/>
                    <a:pt x="724032" y="134537"/>
                    <a:pt x="719562" y="138113"/>
                  </a:cubicBezTo>
                  <a:cubicBezTo>
                    <a:pt x="715642" y="141249"/>
                    <a:pt x="709662" y="140437"/>
                    <a:pt x="705274" y="142875"/>
                  </a:cubicBezTo>
                  <a:cubicBezTo>
                    <a:pt x="695267" y="148434"/>
                    <a:pt x="687559" y="158304"/>
                    <a:pt x="676699" y="161925"/>
                  </a:cubicBezTo>
                  <a:cubicBezTo>
                    <a:pt x="671937" y="163513"/>
                    <a:pt x="666800" y="164250"/>
                    <a:pt x="662412" y="166688"/>
                  </a:cubicBezTo>
                  <a:cubicBezTo>
                    <a:pt x="652405" y="172248"/>
                    <a:pt x="643362" y="179388"/>
                    <a:pt x="633837" y="185738"/>
                  </a:cubicBezTo>
                  <a:lnTo>
                    <a:pt x="619549" y="195263"/>
                  </a:lnTo>
                  <a:cubicBezTo>
                    <a:pt x="614787" y="198438"/>
                    <a:pt x="610692" y="202978"/>
                    <a:pt x="605262" y="204788"/>
                  </a:cubicBezTo>
                  <a:lnTo>
                    <a:pt x="562399" y="219075"/>
                  </a:lnTo>
                  <a:cubicBezTo>
                    <a:pt x="557637" y="220662"/>
                    <a:pt x="552289" y="221053"/>
                    <a:pt x="548112" y="223838"/>
                  </a:cubicBezTo>
                  <a:cubicBezTo>
                    <a:pt x="543349" y="227013"/>
                    <a:pt x="539184" y="231353"/>
                    <a:pt x="533824" y="233363"/>
                  </a:cubicBezTo>
                  <a:cubicBezTo>
                    <a:pt x="526245" y="236205"/>
                    <a:pt x="517865" y="236162"/>
                    <a:pt x="510012" y="238125"/>
                  </a:cubicBezTo>
                  <a:cubicBezTo>
                    <a:pt x="505142" y="239343"/>
                    <a:pt x="500551" y="241509"/>
                    <a:pt x="495724" y="242888"/>
                  </a:cubicBezTo>
                  <a:cubicBezTo>
                    <a:pt x="489430" y="244686"/>
                    <a:pt x="483024" y="246063"/>
                    <a:pt x="476674" y="247650"/>
                  </a:cubicBezTo>
                  <a:cubicBezTo>
                    <a:pt x="447625" y="267017"/>
                    <a:pt x="467103" y="260106"/>
                    <a:pt x="457624" y="209550"/>
                  </a:cubicBezTo>
                  <a:cubicBezTo>
                    <a:pt x="455774" y="199682"/>
                    <a:pt x="448099" y="180975"/>
                    <a:pt x="448099" y="180975"/>
                  </a:cubicBezTo>
                  <a:cubicBezTo>
                    <a:pt x="442711" y="94762"/>
                    <a:pt x="451385" y="128916"/>
                    <a:pt x="433812" y="76200"/>
                  </a:cubicBezTo>
                  <a:lnTo>
                    <a:pt x="429049" y="61913"/>
                  </a:lnTo>
                  <a:cubicBezTo>
                    <a:pt x="427461" y="57150"/>
                    <a:pt x="428464" y="50410"/>
                    <a:pt x="424287" y="47625"/>
                  </a:cubicBezTo>
                  <a:cubicBezTo>
                    <a:pt x="405822" y="35316"/>
                    <a:pt x="415429" y="39910"/>
                    <a:pt x="395712" y="33338"/>
                  </a:cubicBezTo>
                  <a:cubicBezTo>
                    <a:pt x="376662" y="34925"/>
                    <a:pt x="357510" y="35574"/>
                    <a:pt x="338562" y="38100"/>
                  </a:cubicBezTo>
                  <a:cubicBezTo>
                    <a:pt x="322238" y="40277"/>
                    <a:pt x="324582" y="45091"/>
                    <a:pt x="309987" y="52388"/>
                  </a:cubicBezTo>
                  <a:cubicBezTo>
                    <a:pt x="305497" y="54633"/>
                    <a:pt x="300462" y="55563"/>
                    <a:pt x="295699" y="57150"/>
                  </a:cubicBezTo>
                  <a:cubicBezTo>
                    <a:pt x="285168" y="67682"/>
                    <a:pt x="278517" y="72466"/>
                    <a:pt x="271887" y="85725"/>
                  </a:cubicBezTo>
                  <a:cubicBezTo>
                    <a:pt x="269642" y="90215"/>
                    <a:pt x="268445" y="95170"/>
                    <a:pt x="267124" y="100013"/>
                  </a:cubicBezTo>
                  <a:cubicBezTo>
                    <a:pt x="263679" y="112643"/>
                    <a:pt x="261738" y="125694"/>
                    <a:pt x="257599" y="138113"/>
                  </a:cubicBezTo>
                  <a:cubicBezTo>
                    <a:pt x="253726" y="149733"/>
                    <a:pt x="252544" y="157456"/>
                    <a:pt x="243312" y="166688"/>
                  </a:cubicBezTo>
                  <a:cubicBezTo>
                    <a:pt x="234080" y="175920"/>
                    <a:pt x="226357" y="177102"/>
                    <a:pt x="214737" y="180975"/>
                  </a:cubicBezTo>
                  <a:cubicBezTo>
                    <a:pt x="205766" y="189946"/>
                    <a:pt x="196228" y="197616"/>
                    <a:pt x="190924" y="209550"/>
                  </a:cubicBezTo>
                  <a:cubicBezTo>
                    <a:pt x="186846" y="218725"/>
                    <a:pt x="184574" y="228600"/>
                    <a:pt x="181399" y="238125"/>
                  </a:cubicBezTo>
                  <a:cubicBezTo>
                    <a:pt x="179812" y="242888"/>
                    <a:pt x="180814" y="249628"/>
                    <a:pt x="176637" y="252413"/>
                  </a:cubicBezTo>
                  <a:lnTo>
                    <a:pt x="162349" y="261938"/>
                  </a:lnTo>
                  <a:cubicBezTo>
                    <a:pt x="160762" y="266700"/>
                    <a:pt x="161672" y="273307"/>
                    <a:pt x="157587" y="276225"/>
                  </a:cubicBezTo>
                  <a:cubicBezTo>
                    <a:pt x="149417" y="282061"/>
                    <a:pt x="138537" y="282575"/>
                    <a:pt x="129012" y="285750"/>
                  </a:cubicBezTo>
                  <a:cubicBezTo>
                    <a:pt x="84563" y="300567"/>
                    <a:pt x="119754" y="290262"/>
                    <a:pt x="19474" y="295275"/>
                  </a:cubicBezTo>
                  <a:cubicBezTo>
                    <a:pt x="14712" y="298450"/>
                    <a:pt x="8362" y="300038"/>
                    <a:pt x="5187" y="304800"/>
                  </a:cubicBezTo>
                  <a:cubicBezTo>
                    <a:pt x="1556" y="310246"/>
                    <a:pt x="424" y="317305"/>
                    <a:pt x="424" y="323850"/>
                  </a:cubicBezTo>
                  <a:cubicBezTo>
                    <a:pt x="424" y="335456"/>
                    <a:pt x="-3848" y="380440"/>
                    <a:pt x="14712" y="395288"/>
                  </a:cubicBezTo>
                  <a:cubicBezTo>
                    <a:pt x="18632" y="398424"/>
                    <a:pt x="24237" y="398463"/>
                    <a:pt x="28999" y="400050"/>
                  </a:cubicBezTo>
                  <a:cubicBezTo>
                    <a:pt x="33762" y="403225"/>
                    <a:pt x="37928" y="407565"/>
                    <a:pt x="43287" y="409575"/>
                  </a:cubicBezTo>
                  <a:cubicBezTo>
                    <a:pt x="63707" y="417233"/>
                    <a:pt x="138019" y="419065"/>
                    <a:pt x="138537" y="419100"/>
                  </a:cubicBezTo>
                  <a:cubicBezTo>
                    <a:pt x="172542" y="430435"/>
                    <a:pt x="158758" y="423056"/>
                    <a:pt x="181399" y="438150"/>
                  </a:cubicBezTo>
                  <a:cubicBezTo>
                    <a:pt x="182987" y="442913"/>
                    <a:pt x="185727" y="447437"/>
                    <a:pt x="186162" y="452438"/>
                  </a:cubicBezTo>
                  <a:cubicBezTo>
                    <a:pt x="188916" y="484108"/>
                    <a:pt x="182023" y="517170"/>
                    <a:pt x="190924" y="547688"/>
                  </a:cubicBezTo>
                  <a:cubicBezTo>
                    <a:pt x="194452" y="559783"/>
                    <a:pt x="221455" y="567390"/>
                    <a:pt x="233787" y="571500"/>
                  </a:cubicBezTo>
                  <a:cubicBezTo>
                    <a:pt x="260774" y="569913"/>
                    <a:pt x="288295" y="572307"/>
                    <a:pt x="314749" y="566738"/>
                  </a:cubicBezTo>
                  <a:cubicBezTo>
                    <a:pt x="320350" y="565559"/>
                    <a:pt x="321949" y="557681"/>
                    <a:pt x="324274" y="552450"/>
                  </a:cubicBezTo>
                  <a:cubicBezTo>
                    <a:pt x="328352" y="543275"/>
                    <a:pt x="330624" y="533400"/>
                    <a:pt x="333799" y="523875"/>
                  </a:cubicBezTo>
                  <a:cubicBezTo>
                    <a:pt x="337672" y="512256"/>
                    <a:pt x="338856" y="504531"/>
                    <a:pt x="348087" y="495300"/>
                  </a:cubicBezTo>
                  <a:cubicBezTo>
                    <a:pt x="352134" y="491253"/>
                    <a:pt x="357612" y="488950"/>
                    <a:pt x="362374" y="485775"/>
                  </a:cubicBezTo>
                  <a:cubicBezTo>
                    <a:pt x="403649" y="487363"/>
                    <a:pt x="444991" y="487696"/>
                    <a:pt x="486199" y="490538"/>
                  </a:cubicBezTo>
                  <a:cubicBezTo>
                    <a:pt x="491207" y="490883"/>
                    <a:pt x="495660" y="493921"/>
                    <a:pt x="500487" y="495300"/>
                  </a:cubicBezTo>
                  <a:cubicBezTo>
                    <a:pt x="506781" y="497098"/>
                    <a:pt x="513268" y="498182"/>
                    <a:pt x="519537" y="500063"/>
                  </a:cubicBezTo>
                  <a:cubicBezTo>
                    <a:pt x="529154" y="502948"/>
                    <a:pt x="538587" y="506413"/>
                    <a:pt x="548112" y="509588"/>
                  </a:cubicBezTo>
                  <a:cubicBezTo>
                    <a:pt x="552874" y="511175"/>
                    <a:pt x="557477" y="513365"/>
                    <a:pt x="562399" y="514350"/>
                  </a:cubicBezTo>
                  <a:cubicBezTo>
                    <a:pt x="570337" y="515938"/>
                    <a:pt x="578402" y="516983"/>
                    <a:pt x="586212" y="519113"/>
                  </a:cubicBezTo>
                  <a:cubicBezTo>
                    <a:pt x="595898" y="521755"/>
                    <a:pt x="614787" y="528638"/>
                    <a:pt x="614787" y="528638"/>
                  </a:cubicBezTo>
                  <a:cubicBezTo>
                    <a:pt x="618494" y="532345"/>
                    <a:pt x="637770" y="549753"/>
                    <a:pt x="638599" y="557213"/>
                  </a:cubicBezTo>
                  <a:cubicBezTo>
                    <a:pt x="639502" y="565338"/>
                    <a:pt x="635278" y="593221"/>
                    <a:pt x="624312" y="600075"/>
                  </a:cubicBezTo>
                  <a:cubicBezTo>
                    <a:pt x="615798" y="605396"/>
                    <a:pt x="605262" y="606425"/>
                    <a:pt x="595737" y="609600"/>
                  </a:cubicBezTo>
                  <a:cubicBezTo>
                    <a:pt x="585063" y="613158"/>
                    <a:pt x="573511" y="617415"/>
                    <a:pt x="562399" y="619125"/>
                  </a:cubicBezTo>
                  <a:cubicBezTo>
                    <a:pt x="548191" y="621311"/>
                    <a:pt x="533824" y="622300"/>
                    <a:pt x="519537" y="623888"/>
                  </a:cubicBezTo>
                  <a:cubicBezTo>
                    <a:pt x="471481" y="639904"/>
                    <a:pt x="546050" y="615457"/>
                    <a:pt x="486199" y="633413"/>
                  </a:cubicBezTo>
                  <a:cubicBezTo>
                    <a:pt x="476582" y="636298"/>
                    <a:pt x="465978" y="637369"/>
                    <a:pt x="457624" y="642938"/>
                  </a:cubicBezTo>
                  <a:lnTo>
                    <a:pt x="429049" y="661988"/>
                  </a:lnTo>
                  <a:lnTo>
                    <a:pt x="414762" y="671513"/>
                  </a:lnTo>
                  <a:lnTo>
                    <a:pt x="395712" y="700088"/>
                  </a:lnTo>
                  <a:cubicBezTo>
                    <a:pt x="392537" y="704850"/>
                    <a:pt x="390234" y="710328"/>
                    <a:pt x="386187" y="714375"/>
                  </a:cubicBezTo>
                  <a:cubicBezTo>
                    <a:pt x="381424" y="719138"/>
                    <a:pt x="376034" y="723346"/>
                    <a:pt x="371899" y="728663"/>
                  </a:cubicBezTo>
                  <a:cubicBezTo>
                    <a:pt x="364871" y="737699"/>
                    <a:pt x="359199" y="747713"/>
                    <a:pt x="352849" y="757238"/>
                  </a:cubicBezTo>
                  <a:lnTo>
                    <a:pt x="343324" y="771525"/>
                  </a:lnTo>
                  <a:cubicBezTo>
                    <a:pt x="339927" y="781718"/>
                    <a:pt x="337727" y="792496"/>
                    <a:pt x="329037" y="800100"/>
                  </a:cubicBezTo>
                  <a:cubicBezTo>
                    <a:pt x="320422" y="807638"/>
                    <a:pt x="300462" y="819150"/>
                    <a:pt x="300462" y="819150"/>
                  </a:cubicBezTo>
                  <a:cubicBezTo>
                    <a:pt x="297287" y="823913"/>
                    <a:pt x="295407" y="829862"/>
                    <a:pt x="290937" y="833438"/>
                  </a:cubicBezTo>
                  <a:cubicBezTo>
                    <a:pt x="287017" y="836574"/>
                    <a:pt x="277175" y="833207"/>
                    <a:pt x="276649" y="838200"/>
                  </a:cubicBezTo>
                  <a:cubicBezTo>
                    <a:pt x="273653" y="866662"/>
                    <a:pt x="278699" y="895435"/>
                    <a:pt x="281412" y="923925"/>
                  </a:cubicBezTo>
                  <a:cubicBezTo>
                    <a:pt x="281888" y="928923"/>
                    <a:pt x="283038" y="934293"/>
                    <a:pt x="286174" y="938213"/>
                  </a:cubicBezTo>
                  <a:cubicBezTo>
                    <a:pt x="294407" y="948504"/>
                    <a:pt x="320307" y="954353"/>
                    <a:pt x="329037" y="957263"/>
                  </a:cubicBezTo>
                  <a:lnTo>
                    <a:pt x="343324" y="962025"/>
                  </a:lnTo>
                  <a:cubicBezTo>
                    <a:pt x="348087" y="963613"/>
                    <a:pt x="352660" y="965963"/>
                    <a:pt x="357612" y="966788"/>
                  </a:cubicBezTo>
                  <a:lnTo>
                    <a:pt x="386187" y="971550"/>
                  </a:lnTo>
                  <a:cubicBezTo>
                    <a:pt x="389983" y="1009518"/>
                    <a:pt x="387743" y="1010331"/>
                    <a:pt x="395712" y="1038225"/>
                  </a:cubicBezTo>
                  <a:cubicBezTo>
                    <a:pt x="397091" y="1043052"/>
                    <a:pt x="398036" y="1048125"/>
                    <a:pt x="400474" y="1052513"/>
                  </a:cubicBezTo>
                  <a:cubicBezTo>
                    <a:pt x="406033" y="1062520"/>
                    <a:pt x="415903" y="1070228"/>
                    <a:pt x="419524" y="1081088"/>
                  </a:cubicBezTo>
                  <a:cubicBezTo>
                    <a:pt x="426097" y="1100805"/>
                    <a:pt x="421502" y="1091198"/>
                    <a:pt x="433812" y="1109663"/>
                  </a:cubicBezTo>
                  <a:cubicBezTo>
                    <a:pt x="435399" y="1114425"/>
                    <a:pt x="436136" y="1119562"/>
                    <a:pt x="438574" y="1123950"/>
                  </a:cubicBezTo>
                  <a:cubicBezTo>
                    <a:pt x="444133" y="1133957"/>
                    <a:pt x="454004" y="1141665"/>
                    <a:pt x="457624" y="1152525"/>
                  </a:cubicBezTo>
                  <a:cubicBezTo>
                    <a:pt x="459212" y="1157288"/>
                    <a:pt x="459949" y="1162424"/>
                    <a:pt x="462387" y="1166813"/>
                  </a:cubicBezTo>
                  <a:cubicBezTo>
                    <a:pt x="467946" y="1176820"/>
                    <a:pt x="475087" y="1185863"/>
                    <a:pt x="481437" y="1195388"/>
                  </a:cubicBezTo>
                  <a:lnTo>
                    <a:pt x="490962" y="1209675"/>
                  </a:lnTo>
                  <a:cubicBezTo>
                    <a:pt x="500232" y="1237490"/>
                    <a:pt x="488470" y="1211947"/>
                    <a:pt x="510012" y="1233488"/>
                  </a:cubicBezTo>
                  <a:cubicBezTo>
                    <a:pt x="514059" y="1237535"/>
                    <a:pt x="515490" y="1243728"/>
                    <a:pt x="519537" y="1247775"/>
                  </a:cubicBezTo>
                  <a:cubicBezTo>
                    <a:pt x="533186" y="1261424"/>
                    <a:pt x="532618" y="1254316"/>
                    <a:pt x="548112" y="1262063"/>
                  </a:cubicBezTo>
                  <a:cubicBezTo>
                    <a:pt x="553231" y="1264623"/>
                    <a:pt x="557280" y="1269028"/>
                    <a:pt x="562399" y="1271588"/>
                  </a:cubicBezTo>
                  <a:cubicBezTo>
                    <a:pt x="566889" y="1273833"/>
                    <a:pt x="572026" y="1274486"/>
                    <a:pt x="576687" y="1276350"/>
                  </a:cubicBezTo>
                  <a:cubicBezTo>
                    <a:pt x="579983" y="1277668"/>
                    <a:pt x="583037" y="1279525"/>
                    <a:pt x="586212" y="128111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任意多边形 11"/>
            <p:cNvSpPr/>
            <p:nvPr/>
          </p:nvSpPr>
          <p:spPr>
            <a:xfrm>
              <a:off x="7567560" y="4252680"/>
              <a:ext cx="352440" cy="1218960"/>
            </a:xfrm>
            <a:custGeom>
              <a:avLst/>
              <a:gdLst/>
              <a:ahLst/>
              <a:rect l="l" t="t" r="r" b="b"/>
              <a:pathLst>
                <a:path w="352425" h="1219200">
                  <a:moveTo>
                    <a:pt x="252412" y="0"/>
                  </a:moveTo>
                  <a:cubicBezTo>
                    <a:pt x="254000" y="23812"/>
                    <a:pt x="253251" y="47897"/>
                    <a:pt x="257175" y="71437"/>
                  </a:cubicBezTo>
                  <a:cubicBezTo>
                    <a:pt x="258116" y="77083"/>
                    <a:pt x="264375" y="80494"/>
                    <a:pt x="266700" y="85725"/>
                  </a:cubicBezTo>
                  <a:cubicBezTo>
                    <a:pt x="270778" y="94900"/>
                    <a:pt x="273050" y="104775"/>
                    <a:pt x="276225" y="114300"/>
                  </a:cubicBezTo>
                  <a:lnTo>
                    <a:pt x="285750" y="142875"/>
                  </a:lnTo>
                  <a:lnTo>
                    <a:pt x="290512" y="157162"/>
                  </a:lnTo>
                  <a:cubicBezTo>
                    <a:pt x="288925" y="184150"/>
                    <a:pt x="288440" y="211225"/>
                    <a:pt x="285750" y="238125"/>
                  </a:cubicBezTo>
                  <a:cubicBezTo>
                    <a:pt x="283658" y="259041"/>
                    <a:pt x="281490" y="248958"/>
                    <a:pt x="266700" y="257175"/>
                  </a:cubicBezTo>
                  <a:cubicBezTo>
                    <a:pt x="241066" y="271417"/>
                    <a:pt x="241193" y="273158"/>
                    <a:pt x="223837" y="290512"/>
                  </a:cubicBezTo>
                  <a:cubicBezTo>
                    <a:pt x="218954" y="305162"/>
                    <a:pt x="214159" y="311675"/>
                    <a:pt x="223837" y="328612"/>
                  </a:cubicBezTo>
                  <a:cubicBezTo>
                    <a:pt x="226677" y="333582"/>
                    <a:pt x="233155" y="335297"/>
                    <a:pt x="238125" y="338137"/>
                  </a:cubicBezTo>
                  <a:cubicBezTo>
                    <a:pt x="244289" y="341659"/>
                    <a:pt x="250650" y="344865"/>
                    <a:pt x="257175" y="347662"/>
                  </a:cubicBezTo>
                  <a:cubicBezTo>
                    <a:pt x="261789" y="349640"/>
                    <a:pt x="266972" y="350180"/>
                    <a:pt x="271462" y="352425"/>
                  </a:cubicBezTo>
                  <a:cubicBezTo>
                    <a:pt x="308383" y="370886"/>
                    <a:pt x="264134" y="354745"/>
                    <a:pt x="300037" y="366712"/>
                  </a:cubicBezTo>
                  <a:cubicBezTo>
                    <a:pt x="309562" y="373062"/>
                    <a:pt x="322262" y="376237"/>
                    <a:pt x="328612" y="385762"/>
                  </a:cubicBezTo>
                  <a:cubicBezTo>
                    <a:pt x="350447" y="418514"/>
                    <a:pt x="344042" y="403477"/>
                    <a:pt x="352425" y="428625"/>
                  </a:cubicBezTo>
                  <a:cubicBezTo>
                    <a:pt x="350837" y="482600"/>
                    <a:pt x="351701" y="536703"/>
                    <a:pt x="347662" y="590550"/>
                  </a:cubicBezTo>
                  <a:cubicBezTo>
                    <a:pt x="346911" y="600562"/>
                    <a:pt x="343706" y="610771"/>
                    <a:pt x="338137" y="619125"/>
                  </a:cubicBezTo>
                  <a:cubicBezTo>
                    <a:pt x="327024" y="635794"/>
                    <a:pt x="323850" y="644523"/>
                    <a:pt x="300037" y="652462"/>
                  </a:cubicBezTo>
                  <a:cubicBezTo>
                    <a:pt x="295275" y="654050"/>
                    <a:pt x="290138" y="654787"/>
                    <a:pt x="285750" y="657225"/>
                  </a:cubicBezTo>
                  <a:cubicBezTo>
                    <a:pt x="275743" y="662785"/>
                    <a:pt x="257175" y="676275"/>
                    <a:pt x="257175" y="676275"/>
                  </a:cubicBezTo>
                  <a:lnTo>
                    <a:pt x="238125" y="704850"/>
                  </a:lnTo>
                  <a:cubicBezTo>
                    <a:pt x="234950" y="709612"/>
                    <a:pt x="230410" y="713707"/>
                    <a:pt x="228600" y="719137"/>
                  </a:cubicBezTo>
                  <a:cubicBezTo>
                    <a:pt x="223294" y="735053"/>
                    <a:pt x="223063" y="734527"/>
                    <a:pt x="219075" y="752475"/>
                  </a:cubicBezTo>
                  <a:cubicBezTo>
                    <a:pt x="217319" y="760377"/>
                    <a:pt x="216275" y="768434"/>
                    <a:pt x="214312" y="776287"/>
                  </a:cubicBezTo>
                  <a:cubicBezTo>
                    <a:pt x="213094" y="781157"/>
                    <a:pt x="210929" y="785748"/>
                    <a:pt x="209550" y="790575"/>
                  </a:cubicBezTo>
                  <a:cubicBezTo>
                    <a:pt x="195159" y="840945"/>
                    <a:pt x="217890" y="770314"/>
                    <a:pt x="195262" y="838200"/>
                  </a:cubicBezTo>
                  <a:cubicBezTo>
                    <a:pt x="195261" y="838204"/>
                    <a:pt x="185739" y="866772"/>
                    <a:pt x="185737" y="866775"/>
                  </a:cubicBezTo>
                  <a:lnTo>
                    <a:pt x="166687" y="895350"/>
                  </a:lnTo>
                  <a:cubicBezTo>
                    <a:pt x="163512" y="900112"/>
                    <a:pt x="162592" y="907827"/>
                    <a:pt x="157162" y="909637"/>
                  </a:cubicBezTo>
                  <a:lnTo>
                    <a:pt x="142875" y="914400"/>
                  </a:lnTo>
                  <a:cubicBezTo>
                    <a:pt x="139700" y="919162"/>
                    <a:pt x="138204" y="925654"/>
                    <a:pt x="133350" y="928687"/>
                  </a:cubicBezTo>
                  <a:cubicBezTo>
                    <a:pt x="124836" y="934008"/>
                    <a:pt x="104775" y="938212"/>
                    <a:pt x="104775" y="938212"/>
                  </a:cubicBezTo>
                  <a:cubicBezTo>
                    <a:pt x="101031" y="943828"/>
                    <a:pt x="89548" y="958338"/>
                    <a:pt x="90487" y="966787"/>
                  </a:cubicBezTo>
                  <a:cubicBezTo>
                    <a:pt x="94688" y="1004596"/>
                    <a:pt x="98510" y="984839"/>
                    <a:pt x="109537" y="1009650"/>
                  </a:cubicBezTo>
                  <a:cubicBezTo>
                    <a:pt x="113615" y="1018825"/>
                    <a:pt x="119062" y="1038225"/>
                    <a:pt x="119062" y="1038225"/>
                  </a:cubicBezTo>
                  <a:cubicBezTo>
                    <a:pt x="117475" y="1062037"/>
                    <a:pt x="123387" y="1087594"/>
                    <a:pt x="114300" y="1109662"/>
                  </a:cubicBezTo>
                  <a:cubicBezTo>
                    <a:pt x="110477" y="1118946"/>
                    <a:pt x="95250" y="1116012"/>
                    <a:pt x="85725" y="1119187"/>
                  </a:cubicBezTo>
                  <a:lnTo>
                    <a:pt x="57150" y="1128712"/>
                  </a:lnTo>
                  <a:cubicBezTo>
                    <a:pt x="52387" y="1130300"/>
                    <a:pt x="47039" y="1130690"/>
                    <a:pt x="42862" y="1133475"/>
                  </a:cubicBezTo>
                  <a:lnTo>
                    <a:pt x="28575" y="1143000"/>
                  </a:lnTo>
                  <a:cubicBezTo>
                    <a:pt x="18943" y="1157447"/>
                    <a:pt x="0" y="1180432"/>
                    <a:pt x="0" y="1200150"/>
                  </a:cubicBezTo>
                  <a:lnTo>
                    <a:pt x="0" y="12192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任意多边形 12"/>
            <p:cNvSpPr/>
            <p:nvPr/>
          </p:nvSpPr>
          <p:spPr>
            <a:xfrm>
              <a:off x="4809600" y="5481360"/>
              <a:ext cx="2762280" cy="771120"/>
            </a:xfrm>
            <a:custGeom>
              <a:avLst/>
              <a:gdLst/>
              <a:ahLst/>
              <a:rect l="l" t="t" r="r" b="b"/>
              <a:pathLst>
                <a:path w="2762250" h="771525">
                  <a:moveTo>
                    <a:pt x="2762250" y="0"/>
                  </a:moveTo>
                  <a:cubicBezTo>
                    <a:pt x="2757702" y="11369"/>
                    <a:pt x="2752711" y="28589"/>
                    <a:pt x="2743200" y="38100"/>
                  </a:cubicBezTo>
                  <a:cubicBezTo>
                    <a:pt x="2739153" y="42147"/>
                    <a:pt x="2734143" y="45300"/>
                    <a:pt x="2728913" y="47625"/>
                  </a:cubicBezTo>
                  <a:cubicBezTo>
                    <a:pt x="2719738" y="51703"/>
                    <a:pt x="2709863" y="53975"/>
                    <a:pt x="2700338" y="57150"/>
                  </a:cubicBezTo>
                  <a:lnTo>
                    <a:pt x="2686050" y="61912"/>
                  </a:lnTo>
                  <a:cubicBezTo>
                    <a:pt x="2681288" y="65087"/>
                    <a:pt x="2676993" y="69112"/>
                    <a:pt x="2671763" y="71437"/>
                  </a:cubicBezTo>
                  <a:cubicBezTo>
                    <a:pt x="2662588" y="75515"/>
                    <a:pt x="2643188" y="80962"/>
                    <a:pt x="2643188" y="80962"/>
                  </a:cubicBezTo>
                  <a:cubicBezTo>
                    <a:pt x="2638425" y="84137"/>
                    <a:pt x="2634131" y="88162"/>
                    <a:pt x="2628900" y="90487"/>
                  </a:cubicBezTo>
                  <a:cubicBezTo>
                    <a:pt x="2619725" y="94565"/>
                    <a:pt x="2600325" y="100012"/>
                    <a:pt x="2600325" y="100012"/>
                  </a:cubicBezTo>
                  <a:cubicBezTo>
                    <a:pt x="2590800" y="106362"/>
                    <a:pt x="2578100" y="109537"/>
                    <a:pt x="2571750" y="119062"/>
                  </a:cubicBezTo>
                  <a:lnTo>
                    <a:pt x="2552700" y="147637"/>
                  </a:lnTo>
                  <a:cubicBezTo>
                    <a:pt x="2543175" y="161924"/>
                    <a:pt x="2544762" y="163513"/>
                    <a:pt x="2528888" y="171450"/>
                  </a:cubicBezTo>
                  <a:cubicBezTo>
                    <a:pt x="2524398" y="173695"/>
                    <a:pt x="2519363" y="174625"/>
                    <a:pt x="2514600" y="176212"/>
                  </a:cubicBezTo>
                  <a:cubicBezTo>
                    <a:pt x="2497000" y="202612"/>
                    <a:pt x="2515145" y="181731"/>
                    <a:pt x="2490788" y="195262"/>
                  </a:cubicBezTo>
                  <a:cubicBezTo>
                    <a:pt x="2480781" y="200821"/>
                    <a:pt x="2462213" y="214312"/>
                    <a:pt x="2462213" y="214312"/>
                  </a:cubicBezTo>
                  <a:cubicBezTo>
                    <a:pt x="2449511" y="252415"/>
                    <a:pt x="2468564" y="207961"/>
                    <a:pt x="2443163" y="233362"/>
                  </a:cubicBezTo>
                  <a:cubicBezTo>
                    <a:pt x="2417764" y="258761"/>
                    <a:pt x="2462210" y="239714"/>
                    <a:pt x="2424113" y="252412"/>
                  </a:cubicBezTo>
                  <a:cubicBezTo>
                    <a:pt x="2422525" y="257175"/>
                    <a:pt x="2422900" y="263150"/>
                    <a:pt x="2419350" y="266700"/>
                  </a:cubicBezTo>
                  <a:cubicBezTo>
                    <a:pt x="2415800" y="270250"/>
                    <a:pt x="2409553" y="269217"/>
                    <a:pt x="2405063" y="271462"/>
                  </a:cubicBezTo>
                  <a:cubicBezTo>
                    <a:pt x="2399943" y="274022"/>
                    <a:pt x="2395538" y="277812"/>
                    <a:pt x="2390775" y="280987"/>
                  </a:cubicBezTo>
                  <a:cubicBezTo>
                    <a:pt x="2380385" y="312161"/>
                    <a:pt x="2394816" y="281564"/>
                    <a:pt x="2371725" y="300037"/>
                  </a:cubicBezTo>
                  <a:cubicBezTo>
                    <a:pt x="2340950" y="324657"/>
                    <a:pt x="2383825" y="307117"/>
                    <a:pt x="2347913" y="319087"/>
                  </a:cubicBezTo>
                  <a:cubicBezTo>
                    <a:pt x="2343150" y="322262"/>
                    <a:pt x="2338856" y="326287"/>
                    <a:pt x="2333625" y="328612"/>
                  </a:cubicBezTo>
                  <a:cubicBezTo>
                    <a:pt x="2295026" y="345767"/>
                    <a:pt x="2273007" y="340022"/>
                    <a:pt x="2224088" y="342900"/>
                  </a:cubicBezTo>
                  <a:cubicBezTo>
                    <a:pt x="2188181" y="354867"/>
                    <a:pt x="2232435" y="338726"/>
                    <a:pt x="2195513" y="357187"/>
                  </a:cubicBezTo>
                  <a:cubicBezTo>
                    <a:pt x="2191023" y="359432"/>
                    <a:pt x="2185715" y="359705"/>
                    <a:pt x="2181225" y="361950"/>
                  </a:cubicBezTo>
                  <a:cubicBezTo>
                    <a:pt x="2169771" y="367677"/>
                    <a:pt x="2166220" y="375439"/>
                    <a:pt x="2152650" y="376237"/>
                  </a:cubicBezTo>
                  <a:cubicBezTo>
                    <a:pt x="2103497" y="379128"/>
                    <a:pt x="2054225" y="379412"/>
                    <a:pt x="2005013" y="381000"/>
                  </a:cubicBezTo>
                  <a:cubicBezTo>
                    <a:pt x="1971008" y="392335"/>
                    <a:pt x="1984792" y="384956"/>
                    <a:pt x="1962150" y="400050"/>
                  </a:cubicBezTo>
                  <a:cubicBezTo>
                    <a:pt x="1960563" y="404812"/>
                    <a:pt x="1958767" y="409510"/>
                    <a:pt x="1957388" y="414337"/>
                  </a:cubicBezTo>
                  <a:cubicBezTo>
                    <a:pt x="1955590" y="420631"/>
                    <a:pt x="1956256" y="427941"/>
                    <a:pt x="1952625" y="433387"/>
                  </a:cubicBezTo>
                  <a:cubicBezTo>
                    <a:pt x="1949450" y="438149"/>
                    <a:pt x="1943100" y="439737"/>
                    <a:pt x="1938338" y="442912"/>
                  </a:cubicBezTo>
                  <a:cubicBezTo>
                    <a:pt x="1934941" y="453103"/>
                    <a:pt x="1932739" y="463884"/>
                    <a:pt x="1924050" y="471487"/>
                  </a:cubicBezTo>
                  <a:cubicBezTo>
                    <a:pt x="1915435" y="479025"/>
                    <a:pt x="1906335" y="486917"/>
                    <a:pt x="1895475" y="490537"/>
                  </a:cubicBezTo>
                  <a:cubicBezTo>
                    <a:pt x="1841253" y="508611"/>
                    <a:pt x="1876923" y="499472"/>
                    <a:pt x="1785938" y="504825"/>
                  </a:cubicBezTo>
                  <a:cubicBezTo>
                    <a:pt x="1776413" y="508000"/>
                    <a:pt x="1767104" y="511915"/>
                    <a:pt x="1757363" y="514350"/>
                  </a:cubicBezTo>
                  <a:cubicBezTo>
                    <a:pt x="1751013" y="515937"/>
                    <a:pt x="1744582" y="517231"/>
                    <a:pt x="1738313" y="519112"/>
                  </a:cubicBezTo>
                  <a:cubicBezTo>
                    <a:pt x="1728696" y="521997"/>
                    <a:pt x="1719263" y="525462"/>
                    <a:pt x="1709738" y="528637"/>
                  </a:cubicBezTo>
                  <a:cubicBezTo>
                    <a:pt x="1704975" y="530225"/>
                    <a:pt x="1700320" y="532182"/>
                    <a:pt x="1695450" y="533400"/>
                  </a:cubicBezTo>
                  <a:cubicBezTo>
                    <a:pt x="1682750" y="536575"/>
                    <a:pt x="1669059" y="537071"/>
                    <a:pt x="1657350" y="542925"/>
                  </a:cubicBezTo>
                  <a:cubicBezTo>
                    <a:pt x="1651000" y="546100"/>
                    <a:pt x="1644464" y="548928"/>
                    <a:pt x="1638300" y="552450"/>
                  </a:cubicBezTo>
                  <a:cubicBezTo>
                    <a:pt x="1633330" y="555290"/>
                    <a:pt x="1629243" y="559650"/>
                    <a:pt x="1624013" y="561975"/>
                  </a:cubicBezTo>
                  <a:cubicBezTo>
                    <a:pt x="1614838" y="566053"/>
                    <a:pt x="1603792" y="565931"/>
                    <a:pt x="1595438" y="571500"/>
                  </a:cubicBezTo>
                  <a:cubicBezTo>
                    <a:pt x="1562686" y="593335"/>
                    <a:pt x="1577723" y="586930"/>
                    <a:pt x="1552575" y="595312"/>
                  </a:cubicBezTo>
                  <a:cubicBezTo>
                    <a:pt x="1549400" y="600075"/>
                    <a:pt x="1547520" y="606024"/>
                    <a:pt x="1543050" y="609600"/>
                  </a:cubicBezTo>
                  <a:cubicBezTo>
                    <a:pt x="1539130" y="612736"/>
                    <a:pt x="1531681" y="610277"/>
                    <a:pt x="1528763" y="614362"/>
                  </a:cubicBezTo>
                  <a:cubicBezTo>
                    <a:pt x="1522927" y="622532"/>
                    <a:pt x="1522413" y="633412"/>
                    <a:pt x="1519238" y="642937"/>
                  </a:cubicBezTo>
                  <a:lnTo>
                    <a:pt x="1514475" y="657225"/>
                  </a:lnTo>
                  <a:lnTo>
                    <a:pt x="1509713" y="671512"/>
                  </a:lnTo>
                  <a:cubicBezTo>
                    <a:pt x="1511300" y="693737"/>
                    <a:pt x="1511872" y="716058"/>
                    <a:pt x="1514475" y="738187"/>
                  </a:cubicBezTo>
                  <a:cubicBezTo>
                    <a:pt x="1515812" y="749551"/>
                    <a:pt x="1525839" y="755398"/>
                    <a:pt x="1514475" y="766762"/>
                  </a:cubicBezTo>
                  <a:cubicBezTo>
                    <a:pt x="1510925" y="770312"/>
                    <a:pt x="1504950" y="769937"/>
                    <a:pt x="1500188" y="771525"/>
                  </a:cubicBezTo>
                  <a:cubicBezTo>
                    <a:pt x="1487488" y="769937"/>
                    <a:pt x="1473784" y="771960"/>
                    <a:pt x="1462088" y="766762"/>
                  </a:cubicBezTo>
                  <a:cubicBezTo>
                    <a:pt x="1457501" y="764723"/>
                    <a:pt x="1460461" y="756395"/>
                    <a:pt x="1457325" y="752475"/>
                  </a:cubicBezTo>
                  <a:cubicBezTo>
                    <a:pt x="1453749" y="748006"/>
                    <a:pt x="1447800" y="746125"/>
                    <a:pt x="1443038" y="742950"/>
                  </a:cubicBezTo>
                  <a:cubicBezTo>
                    <a:pt x="1434655" y="717802"/>
                    <a:pt x="1441060" y="732838"/>
                    <a:pt x="1419225" y="700087"/>
                  </a:cubicBezTo>
                  <a:lnTo>
                    <a:pt x="1409700" y="685800"/>
                  </a:lnTo>
                  <a:cubicBezTo>
                    <a:pt x="1393630" y="637589"/>
                    <a:pt x="1399405" y="667236"/>
                    <a:pt x="1404938" y="595312"/>
                  </a:cubicBezTo>
                  <a:cubicBezTo>
                    <a:pt x="1393964" y="551420"/>
                    <a:pt x="1408246" y="582858"/>
                    <a:pt x="1328738" y="571500"/>
                  </a:cubicBezTo>
                  <a:cubicBezTo>
                    <a:pt x="1318799" y="570080"/>
                    <a:pt x="1300163" y="561975"/>
                    <a:pt x="1300163" y="561975"/>
                  </a:cubicBezTo>
                  <a:cubicBezTo>
                    <a:pt x="1298575" y="557212"/>
                    <a:pt x="1298950" y="551237"/>
                    <a:pt x="1295400" y="547687"/>
                  </a:cubicBezTo>
                  <a:cubicBezTo>
                    <a:pt x="1291850" y="544137"/>
                    <a:pt x="1286112" y="543379"/>
                    <a:pt x="1281113" y="542925"/>
                  </a:cubicBezTo>
                  <a:cubicBezTo>
                    <a:pt x="1251033" y="540190"/>
                    <a:pt x="1220788" y="539750"/>
                    <a:pt x="1190625" y="538162"/>
                  </a:cubicBezTo>
                  <a:cubicBezTo>
                    <a:pt x="1182688" y="536575"/>
                    <a:pt x="1174622" y="535530"/>
                    <a:pt x="1166813" y="533400"/>
                  </a:cubicBezTo>
                  <a:cubicBezTo>
                    <a:pt x="1159446" y="531391"/>
                    <a:pt x="1130104" y="520061"/>
                    <a:pt x="1119188" y="519112"/>
                  </a:cubicBezTo>
                  <a:cubicBezTo>
                    <a:pt x="1089097" y="516495"/>
                    <a:pt x="1058863" y="515937"/>
                    <a:pt x="1028700" y="514350"/>
                  </a:cubicBezTo>
                  <a:cubicBezTo>
                    <a:pt x="1023938" y="511175"/>
                    <a:pt x="1018460" y="508872"/>
                    <a:pt x="1014413" y="504825"/>
                  </a:cubicBezTo>
                  <a:cubicBezTo>
                    <a:pt x="1005182" y="495593"/>
                    <a:pt x="1003999" y="487869"/>
                    <a:pt x="1000125" y="476250"/>
                  </a:cubicBezTo>
                  <a:cubicBezTo>
                    <a:pt x="998538" y="460375"/>
                    <a:pt x="997033" y="444492"/>
                    <a:pt x="995363" y="428625"/>
                  </a:cubicBezTo>
                  <a:cubicBezTo>
                    <a:pt x="993858" y="414328"/>
                    <a:pt x="995513" y="399272"/>
                    <a:pt x="990600" y="385762"/>
                  </a:cubicBezTo>
                  <a:cubicBezTo>
                    <a:pt x="988053" y="378757"/>
                    <a:pt x="967782" y="373394"/>
                    <a:pt x="962025" y="371475"/>
                  </a:cubicBezTo>
                  <a:cubicBezTo>
                    <a:pt x="957263" y="368300"/>
                    <a:pt x="952968" y="364275"/>
                    <a:pt x="947738" y="361950"/>
                  </a:cubicBezTo>
                  <a:cubicBezTo>
                    <a:pt x="938563" y="357872"/>
                    <a:pt x="928688" y="355600"/>
                    <a:pt x="919163" y="352425"/>
                  </a:cubicBezTo>
                  <a:cubicBezTo>
                    <a:pt x="914400" y="350837"/>
                    <a:pt x="909798" y="348646"/>
                    <a:pt x="904875" y="347662"/>
                  </a:cubicBezTo>
                  <a:cubicBezTo>
                    <a:pt x="896938" y="346075"/>
                    <a:pt x="888916" y="344863"/>
                    <a:pt x="881063" y="342900"/>
                  </a:cubicBezTo>
                  <a:cubicBezTo>
                    <a:pt x="876193" y="341682"/>
                    <a:pt x="871618" y="339458"/>
                    <a:pt x="866775" y="338137"/>
                  </a:cubicBezTo>
                  <a:cubicBezTo>
                    <a:pt x="854145" y="334692"/>
                    <a:pt x="828675" y="328612"/>
                    <a:pt x="828675" y="328612"/>
                  </a:cubicBezTo>
                  <a:cubicBezTo>
                    <a:pt x="823913" y="325437"/>
                    <a:pt x="818435" y="323134"/>
                    <a:pt x="814388" y="319087"/>
                  </a:cubicBezTo>
                  <a:cubicBezTo>
                    <a:pt x="810341" y="315040"/>
                    <a:pt x="809717" y="307833"/>
                    <a:pt x="804863" y="304800"/>
                  </a:cubicBezTo>
                  <a:cubicBezTo>
                    <a:pt x="796349" y="299479"/>
                    <a:pt x="776288" y="295275"/>
                    <a:pt x="776288" y="295275"/>
                  </a:cubicBezTo>
                  <a:cubicBezTo>
                    <a:pt x="754063" y="296862"/>
                    <a:pt x="731229" y="294633"/>
                    <a:pt x="709613" y="300037"/>
                  </a:cubicBezTo>
                  <a:cubicBezTo>
                    <a:pt x="698507" y="302813"/>
                    <a:pt x="681038" y="319087"/>
                    <a:pt x="681038" y="319087"/>
                  </a:cubicBezTo>
                  <a:cubicBezTo>
                    <a:pt x="677863" y="323850"/>
                    <a:pt x="676367" y="330341"/>
                    <a:pt x="671513" y="333375"/>
                  </a:cubicBezTo>
                  <a:cubicBezTo>
                    <a:pt x="662999" y="338696"/>
                    <a:pt x="652463" y="339725"/>
                    <a:pt x="642938" y="342900"/>
                  </a:cubicBezTo>
                  <a:lnTo>
                    <a:pt x="614363" y="352425"/>
                  </a:lnTo>
                  <a:cubicBezTo>
                    <a:pt x="609600" y="354013"/>
                    <a:pt x="605045" y="356477"/>
                    <a:pt x="600075" y="357187"/>
                  </a:cubicBezTo>
                  <a:lnTo>
                    <a:pt x="566738" y="361950"/>
                  </a:lnTo>
                  <a:cubicBezTo>
                    <a:pt x="547647" y="368313"/>
                    <a:pt x="549019" y="370331"/>
                    <a:pt x="523875" y="361950"/>
                  </a:cubicBezTo>
                  <a:cubicBezTo>
                    <a:pt x="518445" y="360140"/>
                    <a:pt x="514818" y="354750"/>
                    <a:pt x="509588" y="352425"/>
                  </a:cubicBezTo>
                  <a:cubicBezTo>
                    <a:pt x="500413" y="348347"/>
                    <a:pt x="481013" y="342900"/>
                    <a:pt x="481013" y="342900"/>
                  </a:cubicBezTo>
                  <a:cubicBezTo>
                    <a:pt x="473075" y="344487"/>
                    <a:pt x="463590" y="342692"/>
                    <a:pt x="457200" y="347662"/>
                  </a:cubicBezTo>
                  <a:cubicBezTo>
                    <a:pt x="448164" y="354690"/>
                    <a:pt x="447675" y="369887"/>
                    <a:pt x="438150" y="376237"/>
                  </a:cubicBezTo>
                  <a:lnTo>
                    <a:pt x="423863" y="385762"/>
                  </a:lnTo>
                  <a:cubicBezTo>
                    <a:pt x="401638" y="384175"/>
                    <a:pt x="378992" y="385590"/>
                    <a:pt x="357188" y="381000"/>
                  </a:cubicBezTo>
                  <a:cubicBezTo>
                    <a:pt x="348130" y="379093"/>
                    <a:pt x="341467" y="371208"/>
                    <a:pt x="333375" y="366712"/>
                  </a:cubicBezTo>
                  <a:cubicBezTo>
                    <a:pt x="327169" y="363264"/>
                    <a:pt x="320675" y="360362"/>
                    <a:pt x="314325" y="357187"/>
                  </a:cubicBezTo>
                  <a:cubicBezTo>
                    <a:pt x="307975" y="358775"/>
                    <a:pt x="299535" y="356980"/>
                    <a:pt x="295275" y="361950"/>
                  </a:cubicBezTo>
                  <a:cubicBezTo>
                    <a:pt x="288741" y="369573"/>
                    <a:pt x="285750" y="390525"/>
                    <a:pt x="285750" y="390525"/>
                  </a:cubicBezTo>
                  <a:cubicBezTo>
                    <a:pt x="284163" y="409575"/>
                    <a:pt x="286610" y="429404"/>
                    <a:pt x="280988" y="447675"/>
                  </a:cubicBezTo>
                  <a:cubicBezTo>
                    <a:pt x="279512" y="452473"/>
                    <a:pt x="267363" y="447461"/>
                    <a:pt x="266700" y="452437"/>
                  </a:cubicBezTo>
                  <a:cubicBezTo>
                    <a:pt x="260612" y="498098"/>
                    <a:pt x="263525" y="544512"/>
                    <a:pt x="261938" y="590550"/>
                  </a:cubicBezTo>
                  <a:cubicBezTo>
                    <a:pt x="242888" y="588962"/>
                    <a:pt x="223533" y="589536"/>
                    <a:pt x="204788" y="585787"/>
                  </a:cubicBezTo>
                  <a:cubicBezTo>
                    <a:pt x="199175" y="584664"/>
                    <a:pt x="195620" y="578822"/>
                    <a:pt x="190500" y="576262"/>
                  </a:cubicBezTo>
                  <a:cubicBezTo>
                    <a:pt x="186010" y="574017"/>
                    <a:pt x="180975" y="573087"/>
                    <a:pt x="176213" y="571500"/>
                  </a:cubicBezTo>
                  <a:cubicBezTo>
                    <a:pt x="144257" y="550197"/>
                    <a:pt x="175567" y="575293"/>
                    <a:pt x="157163" y="547687"/>
                  </a:cubicBezTo>
                  <a:cubicBezTo>
                    <a:pt x="153427" y="542083"/>
                    <a:pt x="147187" y="538574"/>
                    <a:pt x="142875" y="533400"/>
                  </a:cubicBezTo>
                  <a:cubicBezTo>
                    <a:pt x="139211" y="529003"/>
                    <a:pt x="138204" y="522146"/>
                    <a:pt x="133350" y="519112"/>
                  </a:cubicBezTo>
                  <a:cubicBezTo>
                    <a:pt x="109830" y="504412"/>
                    <a:pt x="56661" y="506151"/>
                    <a:pt x="38100" y="504825"/>
                  </a:cubicBezTo>
                  <a:cubicBezTo>
                    <a:pt x="33338" y="503237"/>
                    <a:pt x="28303" y="502307"/>
                    <a:pt x="23813" y="500062"/>
                  </a:cubicBezTo>
                  <a:cubicBezTo>
                    <a:pt x="18693" y="497502"/>
                    <a:pt x="14433" y="493482"/>
                    <a:pt x="9525" y="490537"/>
                  </a:cubicBezTo>
                  <a:cubicBezTo>
                    <a:pt x="6481" y="488711"/>
                    <a:pt x="3175" y="487362"/>
                    <a:pt x="0" y="485775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任意多边形 13"/>
            <p:cNvSpPr/>
            <p:nvPr/>
          </p:nvSpPr>
          <p:spPr>
            <a:xfrm>
              <a:off x="2566440" y="4404960"/>
              <a:ext cx="2243160" cy="1580760"/>
            </a:xfrm>
            <a:custGeom>
              <a:avLst/>
              <a:gdLst/>
              <a:ahLst/>
              <a:rect l="l" t="t" r="r" b="b"/>
              <a:pathLst>
                <a:path w="2243137" h="1581150">
                  <a:moveTo>
                    <a:pt x="2243137" y="1581150"/>
                  </a:moveTo>
                  <a:cubicBezTo>
                    <a:pt x="2239962" y="1573212"/>
                    <a:pt x="2235403" y="1565696"/>
                    <a:pt x="2233612" y="1557337"/>
                  </a:cubicBezTo>
                  <a:cubicBezTo>
                    <a:pt x="2230600" y="1543281"/>
                    <a:pt x="2235279" y="1527333"/>
                    <a:pt x="2228850" y="1514475"/>
                  </a:cubicBezTo>
                  <a:cubicBezTo>
                    <a:pt x="2225923" y="1508621"/>
                    <a:pt x="2216288" y="1510577"/>
                    <a:pt x="2209800" y="1509712"/>
                  </a:cubicBezTo>
                  <a:cubicBezTo>
                    <a:pt x="2192419" y="1507395"/>
                    <a:pt x="2174875" y="1506537"/>
                    <a:pt x="2157412" y="1504950"/>
                  </a:cubicBezTo>
                  <a:cubicBezTo>
                    <a:pt x="2146765" y="1502288"/>
                    <a:pt x="2116742" y="1495299"/>
                    <a:pt x="2109787" y="1490662"/>
                  </a:cubicBezTo>
                  <a:lnTo>
                    <a:pt x="2095500" y="1481137"/>
                  </a:lnTo>
                  <a:cubicBezTo>
                    <a:pt x="2104189" y="1468104"/>
                    <a:pt x="2104274" y="1464009"/>
                    <a:pt x="2119312" y="1457325"/>
                  </a:cubicBezTo>
                  <a:cubicBezTo>
                    <a:pt x="2128487" y="1453247"/>
                    <a:pt x="2147887" y="1447800"/>
                    <a:pt x="2147887" y="1447800"/>
                  </a:cubicBezTo>
                  <a:cubicBezTo>
                    <a:pt x="2169325" y="1383487"/>
                    <a:pt x="2145577" y="1462431"/>
                    <a:pt x="2162175" y="1357312"/>
                  </a:cubicBezTo>
                  <a:cubicBezTo>
                    <a:pt x="2163741" y="1347395"/>
                    <a:pt x="2171700" y="1328737"/>
                    <a:pt x="2171700" y="1328737"/>
                  </a:cubicBezTo>
                  <a:cubicBezTo>
                    <a:pt x="2161786" y="1289084"/>
                    <a:pt x="2173858" y="1328294"/>
                    <a:pt x="2157412" y="1295400"/>
                  </a:cubicBezTo>
                  <a:cubicBezTo>
                    <a:pt x="2155167" y="1290910"/>
                    <a:pt x="2155088" y="1285500"/>
                    <a:pt x="2152650" y="1281112"/>
                  </a:cubicBezTo>
                  <a:cubicBezTo>
                    <a:pt x="2147091" y="1271105"/>
                    <a:pt x="2137221" y="1263397"/>
                    <a:pt x="2133600" y="1252537"/>
                  </a:cubicBezTo>
                  <a:cubicBezTo>
                    <a:pt x="2127027" y="1232820"/>
                    <a:pt x="2133014" y="1241035"/>
                    <a:pt x="2114550" y="1228725"/>
                  </a:cubicBezTo>
                  <a:cubicBezTo>
                    <a:pt x="2112962" y="1222375"/>
                    <a:pt x="2115233" y="1213306"/>
                    <a:pt x="2109787" y="1209675"/>
                  </a:cubicBezTo>
                  <a:cubicBezTo>
                    <a:pt x="2098895" y="1202414"/>
                    <a:pt x="2084106" y="1204290"/>
                    <a:pt x="2071687" y="1200150"/>
                  </a:cubicBezTo>
                  <a:cubicBezTo>
                    <a:pt x="2009945" y="1179569"/>
                    <a:pt x="2053142" y="1191081"/>
                    <a:pt x="1938337" y="1185862"/>
                  </a:cubicBezTo>
                  <a:cubicBezTo>
                    <a:pt x="1933575" y="1182687"/>
                    <a:pt x="1925622" y="1181840"/>
                    <a:pt x="1924050" y="1176337"/>
                  </a:cubicBezTo>
                  <a:cubicBezTo>
                    <a:pt x="1921826" y="1168554"/>
                    <a:pt x="1926682" y="1160334"/>
                    <a:pt x="1928812" y="1152525"/>
                  </a:cubicBezTo>
                  <a:cubicBezTo>
                    <a:pt x="1933862" y="1134006"/>
                    <a:pt x="1936351" y="1123475"/>
                    <a:pt x="1947862" y="1109662"/>
                  </a:cubicBezTo>
                  <a:cubicBezTo>
                    <a:pt x="1952174" y="1104488"/>
                    <a:pt x="1958015" y="1100691"/>
                    <a:pt x="1962150" y="1095375"/>
                  </a:cubicBezTo>
                  <a:cubicBezTo>
                    <a:pt x="1969178" y="1086339"/>
                    <a:pt x="1981200" y="1066800"/>
                    <a:pt x="1981200" y="1066800"/>
                  </a:cubicBezTo>
                  <a:lnTo>
                    <a:pt x="1990725" y="1038225"/>
                  </a:lnTo>
                  <a:cubicBezTo>
                    <a:pt x="1992312" y="1033462"/>
                    <a:pt x="1994269" y="1028807"/>
                    <a:pt x="1995487" y="1023937"/>
                  </a:cubicBezTo>
                  <a:cubicBezTo>
                    <a:pt x="2010377" y="964382"/>
                    <a:pt x="1991347" y="1038426"/>
                    <a:pt x="2005012" y="990600"/>
                  </a:cubicBezTo>
                  <a:cubicBezTo>
                    <a:pt x="2006810" y="984306"/>
                    <a:pt x="2007197" y="977566"/>
                    <a:pt x="2009775" y="971550"/>
                  </a:cubicBezTo>
                  <a:cubicBezTo>
                    <a:pt x="2012030" y="966289"/>
                    <a:pt x="2016125" y="962025"/>
                    <a:pt x="2019300" y="957262"/>
                  </a:cubicBezTo>
                  <a:cubicBezTo>
                    <a:pt x="2020887" y="950912"/>
                    <a:pt x="2021135" y="944066"/>
                    <a:pt x="2024062" y="938212"/>
                  </a:cubicBezTo>
                  <a:cubicBezTo>
                    <a:pt x="2037952" y="910431"/>
                    <a:pt x="2037754" y="913209"/>
                    <a:pt x="2057400" y="900112"/>
                  </a:cubicBezTo>
                  <a:cubicBezTo>
                    <a:pt x="2058927" y="894002"/>
                    <a:pt x="2063506" y="873612"/>
                    <a:pt x="2066925" y="866775"/>
                  </a:cubicBezTo>
                  <a:cubicBezTo>
                    <a:pt x="2069485" y="861655"/>
                    <a:pt x="2073275" y="857250"/>
                    <a:pt x="2076450" y="852487"/>
                  </a:cubicBezTo>
                  <a:cubicBezTo>
                    <a:pt x="2078037" y="847725"/>
                    <a:pt x="2078967" y="842690"/>
                    <a:pt x="2081212" y="838200"/>
                  </a:cubicBezTo>
                  <a:cubicBezTo>
                    <a:pt x="2095125" y="810373"/>
                    <a:pt x="2087521" y="837552"/>
                    <a:pt x="2095500" y="809625"/>
                  </a:cubicBezTo>
                  <a:cubicBezTo>
                    <a:pt x="2097298" y="803331"/>
                    <a:pt x="2098464" y="796869"/>
                    <a:pt x="2100262" y="790575"/>
                  </a:cubicBezTo>
                  <a:cubicBezTo>
                    <a:pt x="2101641" y="785748"/>
                    <a:pt x="2103646" y="781114"/>
                    <a:pt x="2105025" y="776287"/>
                  </a:cubicBezTo>
                  <a:cubicBezTo>
                    <a:pt x="2119419" y="725907"/>
                    <a:pt x="2096677" y="796564"/>
                    <a:pt x="2119312" y="728662"/>
                  </a:cubicBezTo>
                  <a:cubicBezTo>
                    <a:pt x="2120900" y="723900"/>
                    <a:pt x="2121290" y="718552"/>
                    <a:pt x="2124075" y="714375"/>
                  </a:cubicBezTo>
                  <a:lnTo>
                    <a:pt x="2133600" y="700087"/>
                  </a:lnTo>
                  <a:cubicBezTo>
                    <a:pt x="2132012" y="687387"/>
                    <a:pt x="2134035" y="673683"/>
                    <a:pt x="2128837" y="661987"/>
                  </a:cubicBezTo>
                  <a:cubicBezTo>
                    <a:pt x="2126798" y="657400"/>
                    <a:pt x="2119164" y="659202"/>
                    <a:pt x="2114550" y="657225"/>
                  </a:cubicBezTo>
                  <a:cubicBezTo>
                    <a:pt x="2108024" y="654428"/>
                    <a:pt x="2102092" y="650337"/>
                    <a:pt x="2095500" y="647700"/>
                  </a:cubicBezTo>
                  <a:cubicBezTo>
                    <a:pt x="2086178" y="643971"/>
                    <a:pt x="2076450" y="641350"/>
                    <a:pt x="2066925" y="638175"/>
                  </a:cubicBezTo>
                  <a:lnTo>
                    <a:pt x="2052637" y="633412"/>
                  </a:lnTo>
                  <a:lnTo>
                    <a:pt x="2038350" y="628650"/>
                  </a:lnTo>
                  <a:cubicBezTo>
                    <a:pt x="2037755" y="619733"/>
                    <a:pt x="2040186" y="565649"/>
                    <a:pt x="2028825" y="542925"/>
                  </a:cubicBezTo>
                  <a:cubicBezTo>
                    <a:pt x="2026265" y="537805"/>
                    <a:pt x="2022475" y="533400"/>
                    <a:pt x="2019300" y="528637"/>
                  </a:cubicBezTo>
                  <a:cubicBezTo>
                    <a:pt x="2000250" y="530225"/>
                    <a:pt x="1981098" y="530874"/>
                    <a:pt x="1962150" y="533400"/>
                  </a:cubicBezTo>
                  <a:cubicBezTo>
                    <a:pt x="1957174" y="534063"/>
                    <a:pt x="1951412" y="534612"/>
                    <a:pt x="1947862" y="538162"/>
                  </a:cubicBezTo>
                  <a:cubicBezTo>
                    <a:pt x="1922462" y="563562"/>
                    <a:pt x="1966913" y="544513"/>
                    <a:pt x="1928812" y="557212"/>
                  </a:cubicBezTo>
                  <a:cubicBezTo>
                    <a:pt x="1912937" y="555625"/>
                    <a:pt x="1896733" y="556037"/>
                    <a:pt x="1881187" y="552450"/>
                  </a:cubicBezTo>
                  <a:cubicBezTo>
                    <a:pt x="1875610" y="551163"/>
                    <a:pt x="1872019" y="545485"/>
                    <a:pt x="1866900" y="542925"/>
                  </a:cubicBezTo>
                  <a:cubicBezTo>
                    <a:pt x="1862410" y="540680"/>
                    <a:pt x="1857226" y="540140"/>
                    <a:pt x="1852612" y="538162"/>
                  </a:cubicBezTo>
                  <a:cubicBezTo>
                    <a:pt x="1811425" y="520510"/>
                    <a:pt x="1852775" y="535041"/>
                    <a:pt x="1819275" y="523875"/>
                  </a:cubicBezTo>
                  <a:cubicBezTo>
                    <a:pt x="1814512" y="520700"/>
                    <a:pt x="1810218" y="516675"/>
                    <a:pt x="1804987" y="514350"/>
                  </a:cubicBezTo>
                  <a:cubicBezTo>
                    <a:pt x="1795812" y="510272"/>
                    <a:pt x="1776412" y="504825"/>
                    <a:pt x="1776412" y="504825"/>
                  </a:cubicBezTo>
                  <a:cubicBezTo>
                    <a:pt x="1771650" y="501650"/>
                    <a:pt x="1767814" y="495932"/>
                    <a:pt x="1762125" y="495300"/>
                  </a:cubicBezTo>
                  <a:cubicBezTo>
                    <a:pt x="1757600" y="494797"/>
                    <a:pt x="1727633" y="500174"/>
                    <a:pt x="1719262" y="504825"/>
                  </a:cubicBezTo>
                  <a:cubicBezTo>
                    <a:pt x="1709255" y="510384"/>
                    <a:pt x="1701912" y="521630"/>
                    <a:pt x="1690687" y="523875"/>
                  </a:cubicBezTo>
                  <a:cubicBezTo>
                    <a:pt x="1674812" y="527050"/>
                    <a:pt x="1658768" y="529474"/>
                    <a:pt x="1643062" y="533400"/>
                  </a:cubicBezTo>
                  <a:cubicBezTo>
                    <a:pt x="1636712" y="534987"/>
                    <a:pt x="1630306" y="536364"/>
                    <a:pt x="1624012" y="538162"/>
                  </a:cubicBezTo>
                  <a:cubicBezTo>
                    <a:pt x="1619185" y="539541"/>
                    <a:pt x="1614595" y="541707"/>
                    <a:pt x="1609725" y="542925"/>
                  </a:cubicBezTo>
                  <a:cubicBezTo>
                    <a:pt x="1555871" y="556389"/>
                    <a:pt x="1618641" y="536776"/>
                    <a:pt x="1557337" y="557212"/>
                  </a:cubicBezTo>
                  <a:lnTo>
                    <a:pt x="1528762" y="566737"/>
                  </a:lnTo>
                  <a:cubicBezTo>
                    <a:pt x="1524000" y="568324"/>
                    <a:pt x="1518652" y="568715"/>
                    <a:pt x="1514475" y="571500"/>
                  </a:cubicBezTo>
                  <a:lnTo>
                    <a:pt x="1485900" y="590550"/>
                  </a:lnTo>
                  <a:cubicBezTo>
                    <a:pt x="1484312" y="595312"/>
                    <a:pt x="1484687" y="601287"/>
                    <a:pt x="1481137" y="604837"/>
                  </a:cubicBezTo>
                  <a:cubicBezTo>
                    <a:pt x="1477587" y="608387"/>
                    <a:pt x="1471340" y="607355"/>
                    <a:pt x="1466850" y="609600"/>
                  </a:cubicBezTo>
                  <a:cubicBezTo>
                    <a:pt x="1461730" y="612160"/>
                    <a:pt x="1457532" y="616285"/>
                    <a:pt x="1452562" y="619125"/>
                  </a:cubicBezTo>
                  <a:cubicBezTo>
                    <a:pt x="1432941" y="630337"/>
                    <a:pt x="1428355" y="630369"/>
                    <a:pt x="1404937" y="638175"/>
                  </a:cubicBezTo>
                  <a:cubicBezTo>
                    <a:pt x="1390101" y="643120"/>
                    <a:pt x="1384073" y="645785"/>
                    <a:pt x="1366837" y="647700"/>
                  </a:cubicBezTo>
                  <a:cubicBezTo>
                    <a:pt x="1346265" y="649986"/>
                    <a:pt x="1325562" y="650875"/>
                    <a:pt x="1304925" y="652462"/>
                  </a:cubicBezTo>
                  <a:cubicBezTo>
                    <a:pt x="1273175" y="650875"/>
                    <a:pt x="1240952" y="653387"/>
                    <a:pt x="1209675" y="647700"/>
                  </a:cubicBezTo>
                  <a:cubicBezTo>
                    <a:pt x="1204043" y="646676"/>
                    <a:pt x="1202475" y="638643"/>
                    <a:pt x="1200150" y="633412"/>
                  </a:cubicBezTo>
                  <a:cubicBezTo>
                    <a:pt x="1196072" y="624237"/>
                    <a:pt x="1190625" y="604837"/>
                    <a:pt x="1190625" y="604837"/>
                  </a:cubicBezTo>
                  <a:cubicBezTo>
                    <a:pt x="1189037" y="587375"/>
                    <a:pt x="1188342" y="569808"/>
                    <a:pt x="1185862" y="552450"/>
                  </a:cubicBezTo>
                  <a:cubicBezTo>
                    <a:pt x="1185152" y="547480"/>
                    <a:pt x="1184650" y="541712"/>
                    <a:pt x="1181100" y="538162"/>
                  </a:cubicBezTo>
                  <a:cubicBezTo>
                    <a:pt x="1177550" y="534612"/>
                    <a:pt x="1171575" y="534987"/>
                    <a:pt x="1166812" y="533400"/>
                  </a:cubicBezTo>
                  <a:cubicBezTo>
                    <a:pt x="1162050" y="530225"/>
                    <a:pt x="1157644" y="526435"/>
                    <a:pt x="1152525" y="523875"/>
                  </a:cubicBezTo>
                  <a:cubicBezTo>
                    <a:pt x="1148035" y="521630"/>
                    <a:pt x="1141155" y="523197"/>
                    <a:pt x="1138237" y="519112"/>
                  </a:cubicBezTo>
                  <a:cubicBezTo>
                    <a:pt x="1132429" y="510981"/>
                    <a:pt x="1127374" y="482902"/>
                    <a:pt x="1123950" y="471487"/>
                  </a:cubicBezTo>
                  <a:cubicBezTo>
                    <a:pt x="1121065" y="461870"/>
                    <a:pt x="1124166" y="445347"/>
                    <a:pt x="1114425" y="442912"/>
                  </a:cubicBezTo>
                  <a:lnTo>
                    <a:pt x="1095375" y="438150"/>
                  </a:lnTo>
                  <a:cubicBezTo>
                    <a:pt x="1090612" y="434975"/>
                    <a:pt x="1086207" y="431185"/>
                    <a:pt x="1081087" y="428625"/>
                  </a:cubicBezTo>
                  <a:cubicBezTo>
                    <a:pt x="1056236" y="416199"/>
                    <a:pt x="990587" y="419379"/>
                    <a:pt x="985837" y="419100"/>
                  </a:cubicBezTo>
                  <a:cubicBezTo>
                    <a:pt x="979487" y="417512"/>
                    <a:pt x="973081" y="416135"/>
                    <a:pt x="966787" y="414337"/>
                  </a:cubicBezTo>
                  <a:cubicBezTo>
                    <a:pt x="961960" y="412958"/>
                    <a:pt x="957520" y="409575"/>
                    <a:pt x="952500" y="409575"/>
                  </a:cubicBezTo>
                  <a:cubicBezTo>
                    <a:pt x="931801" y="409575"/>
                    <a:pt x="911225" y="412750"/>
                    <a:pt x="890587" y="414337"/>
                  </a:cubicBezTo>
                  <a:cubicBezTo>
                    <a:pt x="885825" y="415925"/>
                    <a:pt x="880790" y="416855"/>
                    <a:pt x="876300" y="419100"/>
                  </a:cubicBezTo>
                  <a:cubicBezTo>
                    <a:pt x="871180" y="421660"/>
                    <a:pt x="866670" y="425298"/>
                    <a:pt x="862012" y="428625"/>
                  </a:cubicBezTo>
                  <a:cubicBezTo>
                    <a:pt x="855553" y="433238"/>
                    <a:pt x="850061" y="439362"/>
                    <a:pt x="842962" y="442912"/>
                  </a:cubicBezTo>
                  <a:cubicBezTo>
                    <a:pt x="833982" y="447402"/>
                    <a:pt x="823367" y="447947"/>
                    <a:pt x="814387" y="452437"/>
                  </a:cubicBezTo>
                  <a:cubicBezTo>
                    <a:pt x="808037" y="455612"/>
                    <a:pt x="801984" y="459469"/>
                    <a:pt x="795337" y="461962"/>
                  </a:cubicBezTo>
                  <a:cubicBezTo>
                    <a:pt x="789208" y="464260"/>
                    <a:pt x="782556" y="464844"/>
                    <a:pt x="776287" y="466725"/>
                  </a:cubicBezTo>
                  <a:cubicBezTo>
                    <a:pt x="766670" y="469610"/>
                    <a:pt x="747712" y="476250"/>
                    <a:pt x="747712" y="476250"/>
                  </a:cubicBezTo>
                  <a:cubicBezTo>
                    <a:pt x="747663" y="475954"/>
                    <a:pt x="743125" y="439559"/>
                    <a:pt x="738187" y="433387"/>
                  </a:cubicBezTo>
                  <a:cubicBezTo>
                    <a:pt x="735053" y="429470"/>
                    <a:pt x="707858" y="414581"/>
                    <a:pt x="704850" y="414337"/>
                  </a:cubicBezTo>
                  <a:cubicBezTo>
                    <a:pt x="652610" y="410101"/>
                    <a:pt x="600075" y="411162"/>
                    <a:pt x="547687" y="409575"/>
                  </a:cubicBezTo>
                  <a:cubicBezTo>
                    <a:pt x="542925" y="407987"/>
                    <a:pt x="537320" y="407948"/>
                    <a:pt x="533400" y="404812"/>
                  </a:cubicBezTo>
                  <a:cubicBezTo>
                    <a:pt x="528931" y="401236"/>
                    <a:pt x="527922" y="394572"/>
                    <a:pt x="523875" y="390525"/>
                  </a:cubicBezTo>
                  <a:cubicBezTo>
                    <a:pt x="519827" y="386478"/>
                    <a:pt x="514350" y="384175"/>
                    <a:pt x="509587" y="381000"/>
                  </a:cubicBezTo>
                  <a:cubicBezTo>
                    <a:pt x="492126" y="354808"/>
                    <a:pt x="509585" y="377028"/>
                    <a:pt x="485775" y="357187"/>
                  </a:cubicBezTo>
                  <a:cubicBezTo>
                    <a:pt x="480601" y="352875"/>
                    <a:pt x="477091" y="346636"/>
                    <a:pt x="471487" y="342900"/>
                  </a:cubicBezTo>
                  <a:cubicBezTo>
                    <a:pt x="467310" y="340115"/>
                    <a:pt x="461690" y="340382"/>
                    <a:pt x="457200" y="338137"/>
                  </a:cubicBezTo>
                  <a:cubicBezTo>
                    <a:pt x="452080" y="335577"/>
                    <a:pt x="448291" y="330568"/>
                    <a:pt x="442912" y="328612"/>
                  </a:cubicBezTo>
                  <a:cubicBezTo>
                    <a:pt x="430609" y="324138"/>
                    <a:pt x="404812" y="319087"/>
                    <a:pt x="404812" y="319087"/>
                  </a:cubicBezTo>
                  <a:cubicBezTo>
                    <a:pt x="403225" y="314325"/>
                    <a:pt x="402295" y="309290"/>
                    <a:pt x="400050" y="304800"/>
                  </a:cubicBezTo>
                  <a:cubicBezTo>
                    <a:pt x="395656" y="296013"/>
                    <a:pt x="384139" y="281493"/>
                    <a:pt x="376237" y="276225"/>
                  </a:cubicBezTo>
                  <a:cubicBezTo>
                    <a:pt x="372060" y="273440"/>
                    <a:pt x="366712" y="273050"/>
                    <a:pt x="361950" y="271462"/>
                  </a:cubicBezTo>
                  <a:cubicBezTo>
                    <a:pt x="357187" y="266700"/>
                    <a:pt x="353550" y="260446"/>
                    <a:pt x="347662" y="257175"/>
                  </a:cubicBezTo>
                  <a:cubicBezTo>
                    <a:pt x="338885" y="252299"/>
                    <a:pt x="319087" y="247650"/>
                    <a:pt x="319087" y="247650"/>
                  </a:cubicBezTo>
                  <a:cubicBezTo>
                    <a:pt x="314325" y="244475"/>
                    <a:pt x="309197" y="241789"/>
                    <a:pt x="304800" y="238125"/>
                  </a:cubicBezTo>
                  <a:cubicBezTo>
                    <a:pt x="299626" y="233813"/>
                    <a:pt x="296116" y="227573"/>
                    <a:pt x="290512" y="223837"/>
                  </a:cubicBezTo>
                  <a:cubicBezTo>
                    <a:pt x="286335" y="221052"/>
                    <a:pt x="280987" y="220662"/>
                    <a:pt x="276225" y="219075"/>
                  </a:cubicBezTo>
                  <a:cubicBezTo>
                    <a:pt x="266700" y="212725"/>
                    <a:pt x="256808" y="206894"/>
                    <a:pt x="247650" y="200025"/>
                  </a:cubicBezTo>
                  <a:cubicBezTo>
                    <a:pt x="241300" y="195262"/>
                    <a:pt x="235492" y="189675"/>
                    <a:pt x="228600" y="185737"/>
                  </a:cubicBezTo>
                  <a:cubicBezTo>
                    <a:pt x="224241" y="183246"/>
                    <a:pt x="219075" y="182562"/>
                    <a:pt x="214312" y="180975"/>
                  </a:cubicBezTo>
                  <a:cubicBezTo>
                    <a:pt x="209550" y="177800"/>
                    <a:pt x="203601" y="175919"/>
                    <a:pt x="200025" y="171450"/>
                  </a:cubicBezTo>
                  <a:cubicBezTo>
                    <a:pt x="181553" y="148360"/>
                    <a:pt x="212145" y="162789"/>
                    <a:pt x="180975" y="152400"/>
                  </a:cubicBezTo>
                  <a:cubicBezTo>
                    <a:pt x="171450" y="146050"/>
                    <a:pt x="158750" y="142875"/>
                    <a:pt x="152400" y="133350"/>
                  </a:cubicBezTo>
                  <a:cubicBezTo>
                    <a:pt x="136525" y="109537"/>
                    <a:pt x="147637" y="122237"/>
                    <a:pt x="114300" y="100012"/>
                  </a:cubicBezTo>
                  <a:lnTo>
                    <a:pt x="100012" y="90487"/>
                  </a:lnTo>
                  <a:lnTo>
                    <a:pt x="85725" y="80962"/>
                  </a:lnTo>
                  <a:cubicBezTo>
                    <a:pt x="82550" y="76200"/>
                    <a:pt x="80508" y="70444"/>
                    <a:pt x="76200" y="66675"/>
                  </a:cubicBezTo>
                  <a:cubicBezTo>
                    <a:pt x="76195" y="66670"/>
                    <a:pt x="40484" y="42864"/>
                    <a:pt x="33337" y="38100"/>
                  </a:cubicBezTo>
                  <a:cubicBezTo>
                    <a:pt x="28575" y="34925"/>
                    <a:pt x="23097" y="32622"/>
                    <a:pt x="19050" y="28575"/>
                  </a:cubicBezTo>
                  <a:lnTo>
                    <a:pt x="4762" y="1428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任意多边形 14"/>
            <p:cNvSpPr/>
            <p:nvPr/>
          </p:nvSpPr>
          <p:spPr>
            <a:xfrm>
              <a:off x="1768320" y="2252520"/>
              <a:ext cx="1007640" cy="2152440"/>
            </a:xfrm>
            <a:custGeom>
              <a:avLst/>
              <a:gdLst/>
              <a:ahLst/>
              <a:rect l="l" t="t" r="r" b="b"/>
              <a:pathLst>
                <a:path w="1007819" h="2152650">
                  <a:moveTo>
                    <a:pt x="798269" y="2152650"/>
                  </a:moveTo>
                  <a:cubicBezTo>
                    <a:pt x="796681" y="2132012"/>
                    <a:pt x="796073" y="2111276"/>
                    <a:pt x="793506" y="2090737"/>
                  </a:cubicBezTo>
                  <a:cubicBezTo>
                    <a:pt x="792883" y="2085756"/>
                    <a:pt x="791880" y="2080370"/>
                    <a:pt x="788744" y="2076450"/>
                  </a:cubicBezTo>
                  <a:cubicBezTo>
                    <a:pt x="779646" y="2065078"/>
                    <a:pt x="771671" y="2067913"/>
                    <a:pt x="760169" y="2062162"/>
                  </a:cubicBezTo>
                  <a:cubicBezTo>
                    <a:pt x="723248" y="2043701"/>
                    <a:pt x="767497" y="2059842"/>
                    <a:pt x="731594" y="2047875"/>
                  </a:cubicBezTo>
                  <a:cubicBezTo>
                    <a:pt x="726831" y="2044700"/>
                    <a:pt x="722537" y="2040675"/>
                    <a:pt x="717306" y="2038350"/>
                  </a:cubicBezTo>
                  <a:cubicBezTo>
                    <a:pt x="708131" y="2034272"/>
                    <a:pt x="688731" y="2028825"/>
                    <a:pt x="688731" y="2028825"/>
                  </a:cubicBezTo>
                  <a:cubicBezTo>
                    <a:pt x="683969" y="2025650"/>
                    <a:pt x="679563" y="2021860"/>
                    <a:pt x="674444" y="2019300"/>
                  </a:cubicBezTo>
                  <a:cubicBezTo>
                    <a:pt x="659759" y="2011957"/>
                    <a:pt x="635194" y="2011417"/>
                    <a:pt x="622056" y="2009775"/>
                  </a:cubicBezTo>
                  <a:cubicBezTo>
                    <a:pt x="617294" y="2008187"/>
                    <a:pt x="612259" y="2007257"/>
                    <a:pt x="607769" y="2005012"/>
                  </a:cubicBezTo>
                  <a:cubicBezTo>
                    <a:pt x="590770" y="1996512"/>
                    <a:pt x="577532" y="1979538"/>
                    <a:pt x="564906" y="1966912"/>
                  </a:cubicBezTo>
                  <a:cubicBezTo>
                    <a:pt x="560144" y="1962150"/>
                    <a:pt x="554355" y="1958229"/>
                    <a:pt x="550619" y="1952625"/>
                  </a:cubicBezTo>
                  <a:cubicBezTo>
                    <a:pt x="547444" y="1947862"/>
                    <a:pt x="545402" y="1942106"/>
                    <a:pt x="541094" y="1938337"/>
                  </a:cubicBezTo>
                  <a:cubicBezTo>
                    <a:pt x="532479" y="1930799"/>
                    <a:pt x="522044" y="1925637"/>
                    <a:pt x="512519" y="1919287"/>
                  </a:cubicBezTo>
                  <a:cubicBezTo>
                    <a:pt x="507756" y="1916112"/>
                    <a:pt x="502810" y="1913196"/>
                    <a:pt x="498231" y="1909762"/>
                  </a:cubicBezTo>
                  <a:cubicBezTo>
                    <a:pt x="491881" y="1905000"/>
                    <a:pt x="486280" y="1899025"/>
                    <a:pt x="479181" y="1895475"/>
                  </a:cubicBezTo>
                  <a:cubicBezTo>
                    <a:pt x="473327" y="1892548"/>
                    <a:pt x="466481" y="1892300"/>
                    <a:pt x="460131" y="1890712"/>
                  </a:cubicBezTo>
                  <a:cubicBezTo>
                    <a:pt x="440219" y="1877438"/>
                    <a:pt x="431257" y="1874161"/>
                    <a:pt x="417269" y="1857375"/>
                  </a:cubicBezTo>
                  <a:cubicBezTo>
                    <a:pt x="404690" y="1842280"/>
                    <a:pt x="405141" y="1835278"/>
                    <a:pt x="398219" y="1814512"/>
                  </a:cubicBezTo>
                  <a:cubicBezTo>
                    <a:pt x="394136" y="1802263"/>
                    <a:pt x="391088" y="1794342"/>
                    <a:pt x="388694" y="1781175"/>
                  </a:cubicBezTo>
                  <a:cubicBezTo>
                    <a:pt x="386686" y="1770131"/>
                    <a:pt x="386455" y="1758775"/>
                    <a:pt x="383931" y="1747837"/>
                  </a:cubicBezTo>
                  <a:cubicBezTo>
                    <a:pt x="381673" y="1738054"/>
                    <a:pt x="377581" y="1728787"/>
                    <a:pt x="374406" y="1719262"/>
                  </a:cubicBezTo>
                  <a:lnTo>
                    <a:pt x="369644" y="1704975"/>
                  </a:lnTo>
                  <a:lnTo>
                    <a:pt x="364881" y="1690687"/>
                  </a:lnTo>
                  <a:cubicBezTo>
                    <a:pt x="366469" y="1644650"/>
                    <a:pt x="363556" y="1598236"/>
                    <a:pt x="369644" y="1552575"/>
                  </a:cubicBezTo>
                  <a:cubicBezTo>
                    <a:pt x="370307" y="1547599"/>
                    <a:pt x="378911" y="1547812"/>
                    <a:pt x="383931" y="1547812"/>
                  </a:cubicBezTo>
                  <a:cubicBezTo>
                    <a:pt x="390476" y="1547812"/>
                    <a:pt x="396631" y="1550987"/>
                    <a:pt x="402981" y="1552575"/>
                  </a:cubicBezTo>
                  <a:cubicBezTo>
                    <a:pt x="414316" y="1586580"/>
                    <a:pt x="404152" y="1575581"/>
                    <a:pt x="426794" y="1590675"/>
                  </a:cubicBezTo>
                  <a:cubicBezTo>
                    <a:pt x="429969" y="1595437"/>
                    <a:pt x="431005" y="1602836"/>
                    <a:pt x="436319" y="1604962"/>
                  </a:cubicBezTo>
                  <a:cubicBezTo>
                    <a:pt x="451260" y="1610938"/>
                    <a:pt x="453128" y="1592635"/>
                    <a:pt x="455369" y="1585912"/>
                  </a:cubicBezTo>
                  <a:cubicBezTo>
                    <a:pt x="453781" y="1558925"/>
                    <a:pt x="453296" y="1531850"/>
                    <a:pt x="450606" y="1504950"/>
                  </a:cubicBezTo>
                  <a:cubicBezTo>
                    <a:pt x="450106" y="1499955"/>
                    <a:pt x="447223" y="1495489"/>
                    <a:pt x="445844" y="1490662"/>
                  </a:cubicBezTo>
                  <a:cubicBezTo>
                    <a:pt x="433887" y="1448810"/>
                    <a:pt x="447735" y="1491574"/>
                    <a:pt x="436319" y="1457325"/>
                  </a:cubicBezTo>
                  <a:cubicBezTo>
                    <a:pt x="436915" y="1448384"/>
                    <a:pt x="434480" y="1394328"/>
                    <a:pt x="445844" y="1371600"/>
                  </a:cubicBezTo>
                  <a:cubicBezTo>
                    <a:pt x="448404" y="1366480"/>
                    <a:pt x="452194" y="1362075"/>
                    <a:pt x="455369" y="1357312"/>
                  </a:cubicBezTo>
                  <a:cubicBezTo>
                    <a:pt x="456956" y="1352550"/>
                    <a:pt x="460131" y="1348045"/>
                    <a:pt x="460131" y="1343025"/>
                  </a:cubicBezTo>
                  <a:cubicBezTo>
                    <a:pt x="460131" y="1307797"/>
                    <a:pt x="455815" y="1301498"/>
                    <a:pt x="445844" y="1271587"/>
                  </a:cubicBezTo>
                  <a:lnTo>
                    <a:pt x="441081" y="1257300"/>
                  </a:lnTo>
                  <a:lnTo>
                    <a:pt x="436319" y="1243012"/>
                  </a:lnTo>
                  <a:cubicBezTo>
                    <a:pt x="435352" y="1231404"/>
                    <a:pt x="433413" y="1181907"/>
                    <a:pt x="426794" y="1162050"/>
                  </a:cubicBezTo>
                  <a:cubicBezTo>
                    <a:pt x="424549" y="1155315"/>
                    <a:pt x="422289" y="1148020"/>
                    <a:pt x="417269" y="1143000"/>
                  </a:cubicBezTo>
                  <a:cubicBezTo>
                    <a:pt x="409174" y="1134905"/>
                    <a:pt x="396789" y="1132045"/>
                    <a:pt x="388694" y="1123950"/>
                  </a:cubicBezTo>
                  <a:cubicBezTo>
                    <a:pt x="370856" y="1106112"/>
                    <a:pt x="380796" y="1111792"/>
                    <a:pt x="360119" y="1104900"/>
                  </a:cubicBezTo>
                  <a:lnTo>
                    <a:pt x="317256" y="1076325"/>
                  </a:lnTo>
                  <a:lnTo>
                    <a:pt x="302969" y="1066800"/>
                  </a:lnTo>
                  <a:cubicBezTo>
                    <a:pt x="280744" y="1033462"/>
                    <a:pt x="293444" y="1044575"/>
                    <a:pt x="269631" y="1028700"/>
                  </a:cubicBezTo>
                  <a:cubicBezTo>
                    <a:pt x="266456" y="1023937"/>
                    <a:pt x="263909" y="1018690"/>
                    <a:pt x="260106" y="1014412"/>
                  </a:cubicBezTo>
                  <a:cubicBezTo>
                    <a:pt x="251157" y="1004344"/>
                    <a:pt x="239003" y="997045"/>
                    <a:pt x="231531" y="985837"/>
                  </a:cubicBezTo>
                  <a:cubicBezTo>
                    <a:pt x="218831" y="966788"/>
                    <a:pt x="226768" y="974725"/>
                    <a:pt x="207719" y="962025"/>
                  </a:cubicBezTo>
                  <a:cubicBezTo>
                    <a:pt x="206131" y="938212"/>
                    <a:pt x="208133" y="913884"/>
                    <a:pt x="202956" y="890587"/>
                  </a:cubicBezTo>
                  <a:cubicBezTo>
                    <a:pt x="199571" y="875353"/>
                    <a:pt x="184286" y="876490"/>
                    <a:pt x="174381" y="871537"/>
                  </a:cubicBezTo>
                  <a:cubicBezTo>
                    <a:pt x="169262" y="868977"/>
                    <a:pt x="164856" y="865187"/>
                    <a:pt x="160094" y="862012"/>
                  </a:cubicBezTo>
                  <a:cubicBezTo>
                    <a:pt x="134692" y="823910"/>
                    <a:pt x="168034" y="869953"/>
                    <a:pt x="136281" y="838200"/>
                  </a:cubicBezTo>
                  <a:cubicBezTo>
                    <a:pt x="114739" y="816658"/>
                    <a:pt x="140283" y="828421"/>
                    <a:pt x="112469" y="819150"/>
                  </a:cubicBezTo>
                  <a:lnTo>
                    <a:pt x="69606" y="790575"/>
                  </a:lnTo>
                  <a:lnTo>
                    <a:pt x="55319" y="781050"/>
                  </a:lnTo>
                  <a:cubicBezTo>
                    <a:pt x="53731" y="776287"/>
                    <a:pt x="50556" y="771782"/>
                    <a:pt x="50556" y="766762"/>
                  </a:cubicBezTo>
                  <a:cubicBezTo>
                    <a:pt x="50556" y="748280"/>
                    <a:pt x="60740" y="751127"/>
                    <a:pt x="74369" y="742950"/>
                  </a:cubicBezTo>
                  <a:cubicBezTo>
                    <a:pt x="84185" y="737060"/>
                    <a:pt x="93419" y="730250"/>
                    <a:pt x="102944" y="723900"/>
                  </a:cubicBezTo>
                  <a:lnTo>
                    <a:pt x="117231" y="714375"/>
                  </a:lnTo>
                  <a:cubicBezTo>
                    <a:pt x="132326" y="691732"/>
                    <a:pt x="124945" y="705519"/>
                    <a:pt x="136281" y="671512"/>
                  </a:cubicBezTo>
                  <a:lnTo>
                    <a:pt x="141044" y="657225"/>
                  </a:lnTo>
                  <a:cubicBezTo>
                    <a:pt x="139456" y="609600"/>
                    <a:pt x="142379" y="561610"/>
                    <a:pt x="136281" y="514350"/>
                  </a:cubicBezTo>
                  <a:cubicBezTo>
                    <a:pt x="135639" y="509371"/>
                    <a:pt x="126484" y="511832"/>
                    <a:pt x="121994" y="509587"/>
                  </a:cubicBezTo>
                  <a:cubicBezTo>
                    <a:pt x="116874" y="507027"/>
                    <a:pt x="112967" y="502317"/>
                    <a:pt x="107706" y="500062"/>
                  </a:cubicBezTo>
                  <a:cubicBezTo>
                    <a:pt x="91946" y="493308"/>
                    <a:pt x="49424" y="491376"/>
                    <a:pt x="41031" y="490537"/>
                  </a:cubicBezTo>
                  <a:cubicBezTo>
                    <a:pt x="-11908" y="472891"/>
                    <a:pt x="-6392" y="484924"/>
                    <a:pt x="17219" y="385762"/>
                  </a:cubicBezTo>
                  <a:cubicBezTo>
                    <a:pt x="18735" y="379395"/>
                    <a:pt x="29975" y="382798"/>
                    <a:pt x="36269" y="381000"/>
                  </a:cubicBezTo>
                  <a:cubicBezTo>
                    <a:pt x="41096" y="379621"/>
                    <a:pt x="45942" y="378215"/>
                    <a:pt x="50556" y="376237"/>
                  </a:cubicBezTo>
                  <a:cubicBezTo>
                    <a:pt x="57081" y="373440"/>
                    <a:pt x="63014" y="369349"/>
                    <a:pt x="69606" y="366712"/>
                  </a:cubicBezTo>
                  <a:cubicBezTo>
                    <a:pt x="69639" y="366699"/>
                    <a:pt x="105308" y="354812"/>
                    <a:pt x="112469" y="352425"/>
                  </a:cubicBezTo>
                  <a:lnTo>
                    <a:pt x="126756" y="347662"/>
                  </a:lnTo>
                  <a:lnTo>
                    <a:pt x="141044" y="342900"/>
                  </a:lnTo>
                  <a:lnTo>
                    <a:pt x="169619" y="323850"/>
                  </a:lnTo>
                  <a:cubicBezTo>
                    <a:pt x="174381" y="320675"/>
                    <a:pt x="178476" y="316135"/>
                    <a:pt x="183906" y="314325"/>
                  </a:cubicBezTo>
                  <a:cubicBezTo>
                    <a:pt x="188669" y="312737"/>
                    <a:pt x="193255" y="310460"/>
                    <a:pt x="198194" y="309562"/>
                  </a:cubicBezTo>
                  <a:cubicBezTo>
                    <a:pt x="225060" y="304677"/>
                    <a:pt x="274915" y="301829"/>
                    <a:pt x="298206" y="300037"/>
                  </a:cubicBezTo>
                  <a:cubicBezTo>
                    <a:pt x="302969" y="298450"/>
                    <a:pt x="308106" y="297713"/>
                    <a:pt x="312494" y="295275"/>
                  </a:cubicBezTo>
                  <a:cubicBezTo>
                    <a:pt x="322501" y="289716"/>
                    <a:pt x="341069" y="276225"/>
                    <a:pt x="341069" y="276225"/>
                  </a:cubicBezTo>
                  <a:cubicBezTo>
                    <a:pt x="345831" y="279400"/>
                    <a:pt x="351780" y="281281"/>
                    <a:pt x="355356" y="285750"/>
                  </a:cubicBezTo>
                  <a:cubicBezTo>
                    <a:pt x="358492" y="289670"/>
                    <a:pt x="355942" y="297252"/>
                    <a:pt x="360119" y="300037"/>
                  </a:cubicBezTo>
                  <a:cubicBezTo>
                    <a:pt x="366854" y="304527"/>
                    <a:pt x="375994" y="303212"/>
                    <a:pt x="383931" y="304800"/>
                  </a:cubicBezTo>
                  <a:cubicBezTo>
                    <a:pt x="412506" y="303212"/>
                    <a:pt x="441651" y="305933"/>
                    <a:pt x="469656" y="300037"/>
                  </a:cubicBezTo>
                  <a:cubicBezTo>
                    <a:pt x="474568" y="299003"/>
                    <a:pt x="472174" y="290240"/>
                    <a:pt x="474419" y="285750"/>
                  </a:cubicBezTo>
                  <a:cubicBezTo>
                    <a:pt x="483036" y="268516"/>
                    <a:pt x="481752" y="272193"/>
                    <a:pt x="498231" y="266700"/>
                  </a:cubicBezTo>
                  <a:cubicBezTo>
                    <a:pt x="530983" y="244865"/>
                    <a:pt x="515946" y="251270"/>
                    <a:pt x="541094" y="242887"/>
                  </a:cubicBezTo>
                  <a:cubicBezTo>
                    <a:pt x="555381" y="244475"/>
                    <a:pt x="569725" y="245617"/>
                    <a:pt x="583956" y="247650"/>
                  </a:cubicBezTo>
                  <a:cubicBezTo>
                    <a:pt x="599844" y="249920"/>
                    <a:pt x="627480" y="256982"/>
                    <a:pt x="641106" y="261937"/>
                  </a:cubicBezTo>
                  <a:cubicBezTo>
                    <a:pt x="680131" y="276128"/>
                    <a:pt x="642471" y="267505"/>
                    <a:pt x="674444" y="276225"/>
                  </a:cubicBezTo>
                  <a:cubicBezTo>
                    <a:pt x="733541" y="292343"/>
                    <a:pt x="693941" y="279549"/>
                    <a:pt x="726831" y="290512"/>
                  </a:cubicBezTo>
                  <a:cubicBezTo>
                    <a:pt x="734769" y="288925"/>
                    <a:pt x="743616" y="289766"/>
                    <a:pt x="750644" y="285750"/>
                  </a:cubicBezTo>
                  <a:cubicBezTo>
                    <a:pt x="755614" y="282910"/>
                    <a:pt x="756505" y="275859"/>
                    <a:pt x="760169" y="271462"/>
                  </a:cubicBezTo>
                  <a:cubicBezTo>
                    <a:pt x="764481" y="266288"/>
                    <a:pt x="768569" y="260446"/>
                    <a:pt x="774456" y="257175"/>
                  </a:cubicBezTo>
                  <a:cubicBezTo>
                    <a:pt x="783233" y="252299"/>
                    <a:pt x="793506" y="250825"/>
                    <a:pt x="803031" y="247650"/>
                  </a:cubicBezTo>
                  <a:cubicBezTo>
                    <a:pt x="807794" y="246062"/>
                    <a:pt x="812449" y="244105"/>
                    <a:pt x="817319" y="242887"/>
                  </a:cubicBezTo>
                  <a:cubicBezTo>
                    <a:pt x="865164" y="230926"/>
                    <a:pt x="842996" y="237503"/>
                    <a:pt x="883994" y="223837"/>
                  </a:cubicBezTo>
                  <a:lnTo>
                    <a:pt x="898281" y="219075"/>
                  </a:lnTo>
                  <a:cubicBezTo>
                    <a:pt x="939229" y="191778"/>
                    <a:pt x="891041" y="228125"/>
                    <a:pt x="917331" y="195262"/>
                  </a:cubicBezTo>
                  <a:cubicBezTo>
                    <a:pt x="920907" y="190792"/>
                    <a:pt x="926856" y="188912"/>
                    <a:pt x="931619" y="185737"/>
                  </a:cubicBezTo>
                  <a:cubicBezTo>
                    <a:pt x="934794" y="180975"/>
                    <a:pt x="938584" y="176569"/>
                    <a:pt x="941144" y="171450"/>
                  </a:cubicBezTo>
                  <a:cubicBezTo>
                    <a:pt x="943389" y="166960"/>
                    <a:pt x="943468" y="161550"/>
                    <a:pt x="945906" y="157162"/>
                  </a:cubicBezTo>
                  <a:cubicBezTo>
                    <a:pt x="951465" y="147155"/>
                    <a:pt x="961336" y="139447"/>
                    <a:pt x="964956" y="128587"/>
                  </a:cubicBezTo>
                  <a:cubicBezTo>
                    <a:pt x="968131" y="119062"/>
                    <a:pt x="972512" y="109857"/>
                    <a:pt x="974481" y="100012"/>
                  </a:cubicBezTo>
                  <a:cubicBezTo>
                    <a:pt x="984163" y="51610"/>
                    <a:pt x="974245" y="96077"/>
                    <a:pt x="984006" y="61912"/>
                  </a:cubicBezTo>
                  <a:cubicBezTo>
                    <a:pt x="986039" y="54797"/>
                    <a:pt x="989727" y="36183"/>
                    <a:pt x="993531" y="28575"/>
                  </a:cubicBezTo>
                  <a:cubicBezTo>
                    <a:pt x="996091" y="23455"/>
                    <a:pt x="1000496" y="19407"/>
                    <a:pt x="1003056" y="14287"/>
                  </a:cubicBezTo>
                  <a:cubicBezTo>
                    <a:pt x="1005301" y="9797"/>
                    <a:pt x="1007819" y="0"/>
                    <a:pt x="1007819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任意多边形 15"/>
            <p:cNvSpPr/>
            <p:nvPr/>
          </p:nvSpPr>
          <p:spPr>
            <a:xfrm>
              <a:off x="2718000" y="1562040"/>
              <a:ext cx="1077120" cy="690480"/>
            </a:xfrm>
            <a:custGeom>
              <a:avLst/>
              <a:gdLst/>
              <a:ahLst/>
              <a:rect l="l" t="t" r="r" b="b"/>
              <a:pathLst>
                <a:path w="1077345" h="690563">
                  <a:moveTo>
                    <a:pt x="67683" y="690563"/>
                  </a:moveTo>
                  <a:cubicBezTo>
                    <a:pt x="78972" y="634110"/>
                    <a:pt x="64133" y="692596"/>
                    <a:pt x="81970" y="652463"/>
                  </a:cubicBezTo>
                  <a:cubicBezTo>
                    <a:pt x="86048" y="643288"/>
                    <a:pt x="85926" y="632242"/>
                    <a:pt x="91495" y="623888"/>
                  </a:cubicBezTo>
                  <a:cubicBezTo>
                    <a:pt x="103805" y="605423"/>
                    <a:pt x="99210" y="615030"/>
                    <a:pt x="105783" y="595313"/>
                  </a:cubicBezTo>
                  <a:cubicBezTo>
                    <a:pt x="104195" y="579438"/>
                    <a:pt x="103960" y="563369"/>
                    <a:pt x="101020" y="547688"/>
                  </a:cubicBezTo>
                  <a:cubicBezTo>
                    <a:pt x="99170" y="537820"/>
                    <a:pt x="94670" y="528638"/>
                    <a:pt x="91495" y="519113"/>
                  </a:cubicBezTo>
                  <a:cubicBezTo>
                    <a:pt x="91493" y="519108"/>
                    <a:pt x="81974" y="490543"/>
                    <a:pt x="81970" y="490538"/>
                  </a:cubicBezTo>
                  <a:lnTo>
                    <a:pt x="72445" y="476250"/>
                  </a:lnTo>
                  <a:cubicBezTo>
                    <a:pt x="69308" y="466838"/>
                    <a:pt x="66551" y="454389"/>
                    <a:pt x="58158" y="447675"/>
                  </a:cubicBezTo>
                  <a:cubicBezTo>
                    <a:pt x="54238" y="444539"/>
                    <a:pt x="48633" y="444500"/>
                    <a:pt x="43870" y="442913"/>
                  </a:cubicBezTo>
                  <a:cubicBezTo>
                    <a:pt x="39108" y="439738"/>
                    <a:pt x="33980" y="437052"/>
                    <a:pt x="29583" y="433388"/>
                  </a:cubicBezTo>
                  <a:cubicBezTo>
                    <a:pt x="24409" y="429076"/>
                    <a:pt x="20899" y="422836"/>
                    <a:pt x="15295" y="419100"/>
                  </a:cubicBezTo>
                  <a:cubicBezTo>
                    <a:pt x="11118" y="416315"/>
                    <a:pt x="-4012" y="414338"/>
                    <a:pt x="1008" y="414338"/>
                  </a:cubicBezTo>
                  <a:cubicBezTo>
                    <a:pt x="20124" y="414338"/>
                    <a:pt x="39108" y="417513"/>
                    <a:pt x="58158" y="419100"/>
                  </a:cubicBezTo>
                  <a:cubicBezTo>
                    <a:pt x="142362" y="433135"/>
                    <a:pt x="37326" y="415312"/>
                    <a:pt x="110545" y="428625"/>
                  </a:cubicBezTo>
                  <a:cubicBezTo>
                    <a:pt x="120046" y="430352"/>
                    <a:pt x="129475" y="432918"/>
                    <a:pt x="139120" y="433388"/>
                  </a:cubicBezTo>
                  <a:cubicBezTo>
                    <a:pt x="194639" y="436096"/>
                    <a:pt x="250245" y="436563"/>
                    <a:pt x="305808" y="438150"/>
                  </a:cubicBezTo>
                  <a:cubicBezTo>
                    <a:pt x="318245" y="437114"/>
                    <a:pt x="362148" y="442734"/>
                    <a:pt x="377245" y="423863"/>
                  </a:cubicBezTo>
                  <a:cubicBezTo>
                    <a:pt x="380381" y="419943"/>
                    <a:pt x="380420" y="414338"/>
                    <a:pt x="382008" y="409575"/>
                  </a:cubicBezTo>
                  <a:cubicBezTo>
                    <a:pt x="383595" y="382588"/>
                    <a:pt x="383274" y="355420"/>
                    <a:pt x="386770" y="328613"/>
                  </a:cubicBezTo>
                  <a:cubicBezTo>
                    <a:pt x="388069" y="318657"/>
                    <a:pt x="393120" y="309563"/>
                    <a:pt x="396295" y="300038"/>
                  </a:cubicBezTo>
                  <a:lnTo>
                    <a:pt x="401058" y="285750"/>
                  </a:lnTo>
                  <a:cubicBezTo>
                    <a:pt x="402645" y="280988"/>
                    <a:pt x="403036" y="275640"/>
                    <a:pt x="405820" y="271463"/>
                  </a:cubicBezTo>
                  <a:lnTo>
                    <a:pt x="415345" y="257175"/>
                  </a:lnTo>
                  <a:cubicBezTo>
                    <a:pt x="415655" y="255934"/>
                    <a:pt x="422387" y="226942"/>
                    <a:pt x="424870" y="223838"/>
                  </a:cubicBezTo>
                  <a:cubicBezTo>
                    <a:pt x="433968" y="212466"/>
                    <a:pt x="441943" y="215301"/>
                    <a:pt x="453445" y="209550"/>
                  </a:cubicBezTo>
                  <a:cubicBezTo>
                    <a:pt x="486330" y="193107"/>
                    <a:pt x="447142" y="205172"/>
                    <a:pt x="486783" y="195263"/>
                  </a:cubicBezTo>
                  <a:cubicBezTo>
                    <a:pt x="507420" y="196850"/>
                    <a:pt x="528250" y="196797"/>
                    <a:pt x="548695" y="200025"/>
                  </a:cubicBezTo>
                  <a:cubicBezTo>
                    <a:pt x="558612" y="201591"/>
                    <a:pt x="567745" y="206375"/>
                    <a:pt x="577270" y="209550"/>
                  </a:cubicBezTo>
                  <a:cubicBezTo>
                    <a:pt x="582033" y="211138"/>
                    <a:pt x="587381" y="211528"/>
                    <a:pt x="591558" y="214313"/>
                  </a:cubicBezTo>
                  <a:cubicBezTo>
                    <a:pt x="596320" y="217488"/>
                    <a:pt x="600584" y="221583"/>
                    <a:pt x="605845" y="223838"/>
                  </a:cubicBezTo>
                  <a:cubicBezTo>
                    <a:pt x="611861" y="226416"/>
                    <a:pt x="618601" y="226802"/>
                    <a:pt x="624895" y="228600"/>
                  </a:cubicBezTo>
                  <a:cubicBezTo>
                    <a:pt x="629722" y="229979"/>
                    <a:pt x="634420" y="231775"/>
                    <a:pt x="639183" y="233363"/>
                  </a:cubicBezTo>
                  <a:cubicBezTo>
                    <a:pt x="674108" y="231775"/>
                    <a:pt x="709108" y="231388"/>
                    <a:pt x="743958" y="228600"/>
                  </a:cubicBezTo>
                  <a:cubicBezTo>
                    <a:pt x="748962" y="228200"/>
                    <a:pt x="753755" y="226083"/>
                    <a:pt x="758245" y="223838"/>
                  </a:cubicBezTo>
                  <a:cubicBezTo>
                    <a:pt x="763365" y="221278"/>
                    <a:pt x="767770" y="217488"/>
                    <a:pt x="772533" y="214313"/>
                  </a:cubicBezTo>
                  <a:cubicBezTo>
                    <a:pt x="774120" y="209550"/>
                    <a:pt x="774857" y="204413"/>
                    <a:pt x="777295" y="200025"/>
                  </a:cubicBezTo>
                  <a:cubicBezTo>
                    <a:pt x="782854" y="190018"/>
                    <a:pt x="792724" y="182310"/>
                    <a:pt x="796345" y="171450"/>
                  </a:cubicBezTo>
                  <a:cubicBezTo>
                    <a:pt x="797933" y="166688"/>
                    <a:pt x="798670" y="161551"/>
                    <a:pt x="801108" y="157163"/>
                  </a:cubicBezTo>
                  <a:cubicBezTo>
                    <a:pt x="806668" y="147156"/>
                    <a:pt x="820158" y="128588"/>
                    <a:pt x="820158" y="128588"/>
                  </a:cubicBezTo>
                  <a:cubicBezTo>
                    <a:pt x="829428" y="100773"/>
                    <a:pt x="817666" y="126316"/>
                    <a:pt x="839208" y="104775"/>
                  </a:cubicBezTo>
                  <a:cubicBezTo>
                    <a:pt x="843255" y="100728"/>
                    <a:pt x="843879" y="93521"/>
                    <a:pt x="848733" y="90488"/>
                  </a:cubicBezTo>
                  <a:cubicBezTo>
                    <a:pt x="857247" y="85167"/>
                    <a:pt x="867783" y="84138"/>
                    <a:pt x="877308" y="80963"/>
                  </a:cubicBezTo>
                  <a:lnTo>
                    <a:pt x="905883" y="71438"/>
                  </a:lnTo>
                  <a:cubicBezTo>
                    <a:pt x="910645" y="69851"/>
                    <a:pt x="915993" y="69460"/>
                    <a:pt x="920170" y="66675"/>
                  </a:cubicBezTo>
                  <a:cubicBezTo>
                    <a:pt x="942812" y="51581"/>
                    <a:pt x="929029" y="58960"/>
                    <a:pt x="963033" y="47625"/>
                  </a:cubicBezTo>
                  <a:lnTo>
                    <a:pt x="977320" y="42863"/>
                  </a:lnTo>
                  <a:cubicBezTo>
                    <a:pt x="982083" y="39688"/>
                    <a:pt x="986347" y="35593"/>
                    <a:pt x="991608" y="33338"/>
                  </a:cubicBezTo>
                  <a:cubicBezTo>
                    <a:pt x="997624" y="30760"/>
                    <a:pt x="1004364" y="30373"/>
                    <a:pt x="1010658" y="28575"/>
                  </a:cubicBezTo>
                  <a:cubicBezTo>
                    <a:pt x="1047621" y="18014"/>
                    <a:pt x="995986" y="26709"/>
                    <a:pt x="1072570" y="19050"/>
                  </a:cubicBezTo>
                  <a:cubicBezTo>
                    <a:pt x="1077835" y="3257"/>
                    <a:pt x="1077333" y="9783"/>
                    <a:pt x="1077333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任意多边形 17"/>
            <p:cNvSpPr/>
            <p:nvPr/>
          </p:nvSpPr>
          <p:spPr>
            <a:xfrm>
              <a:off x="7742520" y="5384520"/>
              <a:ext cx="254880" cy="514080"/>
            </a:xfrm>
            <a:custGeom>
              <a:avLst/>
              <a:gdLst/>
              <a:ahLst/>
              <a:rect l="l" t="t" r="r" b="b"/>
              <a:pathLst>
                <a:path w="255057" h="514350">
                  <a:moveTo>
                    <a:pt x="172507" y="0"/>
                  </a:moveTo>
                  <a:cubicBezTo>
                    <a:pt x="156632" y="0"/>
                    <a:pt x="155162" y="11245"/>
                    <a:pt x="150282" y="22225"/>
                  </a:cubicBezTo>
                  <a:cubicBezTo>
                    <a:pt x="147564" y="28342"/>
                    <a:pt x="146049" y="34925"/>
                    <a:pt x="143932" y="41275"/>
                  </a:cubicBezTo>
                  <a:lnTo>
                    <a:pt x="137582" y="60325"/>
                  </a:lnTo>
                  <a:cubicBezTo>
                    <a:pt x="136524" y="63500"/>
                    <a:pt x="136263" y="67065"/>
                    <a:pt x="134407" y="69850"/>
                  </a:cubicBezTo>
                  <a:cubicBezTo>
                    <a:pt x="132290" y="73025"/>
                    <a:pt x="130929" y="76862"/>
                    <a:pt x="128057" y="79375"/>
                  </a:cubicBezTo>
                  <a:cubicBezTo>
                    <a:pt x="122314" y="84401"/>
                    <a:pt x="109007" y="92075"/>
                    <a:pt x="109007" y="92075"/>
                  </a:cubicBezTo>
                  <a:cubicBezTo>
                    <a:pt x="106915" y="98350"/>
                    <a:pt x="105077" y="106649"/>
                    <a:pt x="99482" y="111125"/>
                  </a:cubicBezTo>
                  <a:cubicBezTo>
                    <a:pt x="96869" y="113216"/>
                    <a:pt x="92950" y="112803"/>
                    <a:pt x="89957" y="114300"/>
                  </a:cubicBezTo>
                  <a:cubicBezTo>
                    <a:pt x="86544" y="116007"/>
                    <a:pt x="83607" y="118533"/>
                    <a:pt x="80432" y="120650"/>
                  </a:cubicBezTo>
                  <a:cubicBezTo>
                    <a:pt x="66230" y="141952"/>
                    <a:pt x="82960" y="121081"/>
                    <a:pt x="64557" y="133350"/>
                  </a:cubicBezTo>
                  <a:cubicBezTo>
                    <a:pt x="60821" y="135841"/>
                    <a:pt x="58481" y="140000"/>
                    <a:pt x="55032" y="142875"/>
                  </a:cubicBezTo>
                  <a:cubicBezTo>
                    <a:pt x="52101" y="145318"/>
                    <a:pt x="48682" y="147108"/>
                    <a:pt x="45507" y="149225"/>
                  </a:cubicBezTo>
                  <a:lnTo>
                    <a:pt x="35982" y="177800"/>
                  </a:lnTo>
                  <a:cubicBezTo>
                    <a:pt x="34924" y="180975"/>
                    <a:pt x="33619" y="184078"/>
                    <a:pt x="32807" y="187325"/>
                  </a:cubicBezTo>
                  <a:cubicBezTo>
                    <a:pt x="28009" y="206519"/>
                    <a:pt x="31012" y="195885"/>
                    <a:pt x="23282" y="219075"/>
                  </a:cubicBezTo>
                  <a:cubicBezTo>
                    <a:pt x="22224" y="222250"/>
                    <a:pt x="21963" y="225815"/>
                    <a:pt x="20107" y="228600"/>
                  </a:cubicBezTo>
                  <a:lnTo>
                    <a:pt x="7407" y="247650"/>
                  </a:lnTo>
                  <a:cubicBezTo>
                    <a:pt x="-3829" y="292596"/>
                    <a:pt x="1057" y="269217"/>
                    <a:pt x="1057" y="365125"/>
                  </a:cubicBezTo>
                  <a:cubicBezTo>
                    <a:pt x="1057" y="381035"/>
                    <a:pt x="588" y="397263"/>
                    <a:pt x="4232" y="412750"/>
                  </a:cubicBezTo>
                  <a:cubicBezTo>
                    <a:pt x="5106" y="416464"/>
                    <a:pt x="10826" y="416657"/>
                    <a:pt x="13757" y="419100"/>
                  </a:cubicBezTo>
                  <a:cubicBezTo>
                    <a:pt x="38203" y="439472"/>
                    <a:pt x="9158" y="419209"/>
                    <a:pt x="32807" y="434975"/>
                  </a:cubicBezTo>
                  <a:cubicBezTo>
                    <a:pt x="33865" y="438150"/>
                    <a:pt x="34126" y="441715"/>
                    <a:pt x="35982" y="444500"/>
                  </a:cubicBezTo>
                  <a:cubicBezTo>
                    <a:pt x="41951" y="453453"/>
                    <a:pt x="56988" y="461679"/>
                    <a:pt x="64557" y="466725"/>
                  </a:cubicBezTo>
                  <a:lnTo>
                    <a:pt x="74082" y="473075"/>
                  </a:lnTo>
                  <a:cubicBezTo>
                    <a:pt x="78315" y="479425"/>
                    <a:pt x="80432" y="487892"/>
                    <a:pt x="86782" y="492125"/>
                  </a:cubicBezTo>
                  <a:lnTo>
                    <a:pt x="105832" y="504825"/>
                  </a:lnTo>
                  <a:cubicBezTo>
                    <a:pt x="109007" y="506942"/>
                    <a:pt x="111737" y="509968"/>
                    <a:pt x="115357" y="511175"/>
                  </a:cubicBezTo>
                  <a:lnTo>
                    <a:pt x="124882" y="514350"/>
                  </a:lnTo>
                  <a:cubicBezTo>
                    <a:pt x="129115" y="513292"/>
                    <a:pt x="134742" y="514488"/>
                    <a:pt x="137582" y="511175"/>
                  </a:cubicBezTo>
                  <a:cubicBezTo>
                    <a:pt x="141938" y="506093"/>
                    <a:pt x="140219" y="497694"/>
                    <a:pt x="143932" y="492125"/>
                  </a:cubicBezTo>
                  <a:cubicBezTo>
                    <a:pt x="146049" y="488950"/>
                    <a:pt x="148575" y="486013"/>
                    <a:pt x="150282" y="482600"/>
                  </a:cubicBezTo>
                  <a:cubicBezTo>
                    <a:pt x="151779" y="479607"/>
                    <a:pt x="152538" y="476293"/>
                    <a:pt x="153457" y="473075"/>
                  </a:cubicBezTo>
                  <a:cubicBezTo>
                    <a:pt x="155343" y="466473"/>
                    <a:pt x="158989" y="450638"/>
                    <a:pt x="159807" y="444500"/>
                  </a:cubicBezTo>
                  <a:cubicBezTo>
                    <a:pt x="161213" y="433957"/>
                    <a:pt x="161022" y="423204"/>
                    <a:pt x="162982" y="412750"/>
                  </a:cubicBezTo>
                  <a:cubicBezTo>
                    <a:pt x="164216" y="406171"/>
                    <a:pt x="162982" y="395817"/>
                    <a:pt x="169332" y="393700"/>
                  </a:cubicBezTo>
                  <a:cubicBezTo>
                    <a:pt x="182477" y="389318"/>
                    <a:pt x="176072" y="392381"/>
                    <a:pt x="188382" y="384175"/>
                  </a:cubicBezTo>
                  <a:lnTo>
                    <a:pt x="197907" y="355600"/>
                  </a:lnTo>
                  <a:lnTo>
                    <a:pt x="201082" y="346075"/>
                  </a:lnTo>
                  <a:cubicBezTo>
                    <a:pt x="202140" y="328083"/>
                    <a:pt x="201926" y="309971"/>
                    <a:pt x="204257" y="292100"/>
                  </a:cubicBezTo>
                  <a:cubicBezTo>
                    <a:pt x="205123" y="285463"/>
                    <a:pt x="208490" y="279400"/>
                    <a:pt x="210607" y="273050"/>
                  </a:cubicBezTo>
                  <a:lnTo>
                    <a:pt x="220132" y="244475"/>
                  </a:lnTo>
                  <a:cubicBezTo>
                    <a:pt x="221190" y="241300"/>
                    <a:pt x="221810" y="237943"/>
                    <a:pt x="223307" y="234950"/>
                  </a:cubicBezTo>
                  <a:cubicBezTo>
                    <a:pt x="225424" y="230717"/>
                    <a:pt x="228160" y="226740"/>
                    <a:pt x="229657" y="222250"/>
                  </a:cubicBezTo>
                  <a:cubicBezTo>
                    <a:pt x="232417" y="213971"/>
                    <a:pt x="233247" y="205129"/>
                    <a:pt x="236007" y="196850"/>
                  </a:cubicBezTo>
                  <a:lnTo>
                    <a:pt x="239182" y="187325"/>
                  </a:lnTo>
                  <a:cubicBezTo>
                    <a:pt x="239853" y="182625"/>
                    <a:pt x="244064" y="151924"/>
                    <a:pt x="245532" y="146050"/>
                  </a:cubicBezTo>
                  <a:cubicBezTo>
                    <a:pt x="247155" y="139556"/>
                    <a:pt x="251882" y="127000"/>
                    <a:pt x="251882" y="127000"/>
                  </a:cubicBezTo>
                  <a:cubicBezTo>
                    <a:pt x="252940" y="115358"/>
                    <a:pt x="255057" y="103765"/>
                    <a:pt x="255057" y="92075"/>
                  </a:cubicBezTo>
                  <a:cubicBezTo>
                    <a:pt x="255057" y="71939"/>
                    <a:pt x="254603" y="51702"/>
                    <a:pt x="251882" y="31750"/>
                  </a:cubicBezTo>
                  <a:cubicBezTo>
                    <a:pt x="251366" y="27969"/>
                    <a:pt x="248404" y="24738"/>
                    <a:pt x="245532" y="22225"/>
                  </a:cubicBezTo>
                  <a:cubicBezTo>
                    <a:pt x="222296" y="1893"/>
                    <a:pt x="188382" y="0"/>
                    <a:pt x="172507" y="0"/>
                  </a:cubicBez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任意多边形 18"/>
            <p:cNvSpPr/>
            <p:nvPr/>
          </p:nvSpPr>
          <p:spPr>
            <a:xfrm>
              <a:off x="6070320" y="6285600"/>
              <a:ext cx="345960" cy="248400"/>
            </a:xfrm>
            <a:custGeom>
              <a:avLst/>
              <a:gdLst/>
              <a:ahLst/>
              <a:rect l="l" t="t" r="r" b="b"/>
              <a:pathLst>
                <a:path w="346154" h="248645">
                  <a:moveTo>
                    <a:pt x="250904" y="475"/>
                  </a:moveTo>
                  <a:lnTo>
                    <a:pt x="108029" y="3650"/>
                  </a:lnTo>
                  <a:cubicBezTo>
                    <a:pt x="103669" y="3828"/>
                    <a:pt x="99340" y="5106"/>
                    <a:pt x="95329" y="6825"/>
                  </a:cubicBezTo>
                  <a:cubicBezTo>
                    <a:pt x="91822" y="8328"/>
                    <a:pt x="88979" y="11058"/>
                    <a:pt x="85804" y="13175"/>
                  </a:cubicBezTo>
                  <a:cubicBezTo>
                    <a:pt x="83222" y="20922"/>
                    <a:pt x="82434" y="26070"/>
                    <a:pt x="76279" y="32225"/>
                  </a:cubicBezTo>
                  <a:cubicBezTo>
                    <a:pt x="73581" y="34923"/>
                    <a:pt x="69929" y="36458"/>
                    <a:pt x="66754" y="38575"/>
                  </a:cubicBezTo>
                  <a:cubicBezTo>
                    <a:pt x="64637" y="41750"/>
                    <a:pt x="63102" y="45402"/>
                    <a:pt x="60404" y="48100"/>
                  </a:cubicBezTo>
                  <a:cubicBezTo>
                    <a:pt x="54249" y="54255"/>
                    <a:pt x="49101" y="55043"/>
                    <a:pt x="41354" y="57625"/>
                  </a:cubicBezTo>
                  <a:cubicBezTo>
                    <a:pt x="38179" y="60800"/>
                    <a:pt x="35565" y="64659"/>
                    <a:pt x="31829" y="67150"/>
                  </a:cubicBezTo>
                  <a:cubicBezTo>
                    <a:pt x="29044" y="69006"/>
                    <a:pt x="24671" y="67958"/>
                    <a:pt x="22304" y="70325"/>
                  </a:cubicBezTo>
                  <a:cubicBezTo>
                    <a:pt x="19937" y="72692"/>
                    <a:pt x="20626" y="76857"/>
                    <a:pt x="19129" y="79850"/>
                  </a:cubicBezTo>
                  <a:cubicBezTo>
                    <a:pt x="17422" y="83263"/>
                    <a:pt x="14896" y="86200"/>
                    <a:pt x="12779" y="89375"/>
                  </a:cubicBezTo>
                  <a:cubicBezTo>
                    <a:pt x="11721" y="107367"/>
                    <a:pt x="11935" y="125479"/>
                    <a:pt x="9604" y="143350"/>
                  </a:cubicBezTo>
                  <a:cubicBezTo>
                    <a:pt x="8738" y="149987"/>
                    <a:pt x="5371" y="156050"/>
                    <a:pt x="3254" y="162400"/>
                  </a:cubicBezTo>
                  <a:lnTo>
                    <a:pt x="79" y="171925"/>
                  </a:lnTo>
                  <a:cubicBezTo>
                    <a:pt x="1137" y="187800"/>
                    <a:pt x="-2246" y="204621"/>
                    <a:pt x="3254" y="219550"/>
                  </a:cubicBezTo>
                  <a:cubicBezTo>
                    <a:pt x="5892" y="226711"/>
                    <a:pt x="15954" y="228017"/>
                    <a:pt x="22304" y="232250"/>
                  </a:cubicBezTo>
                  <a:cubicBezTo>
                    <a:pt x="27984" y="236037"/>
                    <a:pt x="34023" y="241269"/>
                    <a:pt x="41354" y="241775"/>
                  </a:cubicBezTo>
                  <a:cubicBezTo>
                    <a:pt x="68826" y="243670"/>
                    <a:pt x="96387" y="243892"/>
                    <a:pt x="123904" y="244950"/>
                  </a:cubicBezTo>
                  <a:cubicBezTo>
                    <a:pt x="154863" y="250110"/>
                    <a:pt x="142862" y="249639"/>
                    <a:pt x="187404" y="244950"/>
                  </a:cubicBezTo>
                  <a:cubicBezTo>
                    <a:pt x="192771" y="244385"/>
                    <a:pt x="198073" y="243195"/>
                    <a:pt x="203279" y="241775"/>
                  </a:cubicBezTo>
                  <a:cubicBezTo>
                    <a:pt x="209737" y="240014"/>
                    <a:pt x="222329" y="235425"/>
                    <a:pt x="222329" y="235425"/>
                  </a:cubicBezTo>
                  <a:cubicBezTo>
                    <a:pt x="224446" y="232250"/>
                    <a:pt x="226236" y="228831"/>
                    <a:pt x="228679" y="225900"/>
                  </a:cubicBezTo>
                  <a:cubicBezTo>
                    <a:pt x="231554" y="222451"/>
                    <a:pt x="235713" y="220111"/>
                    <a:pt x="238204" y="216375"/>
                  </a:cubicBezTo>
                  <a:cubicBezTo>
                    <a:pt x="250473" y="197972"/>
                    <a:pt x="229602" y="214702"/>
                    <a:pt x="250904" y="200500"/>
                  </a:cubicBezTo>
                  <a:cubicBezTo>
                    <a:pt x="256196" y="184625"/>
                    <a:pt x="250904" y="192033"/>
                    <a:pt x="273129" y="184625"/>
                  </a:cubicBezTo>
                  <a:lnTo>
                    <a:pt x="282654" y="181450"/>
                  </a:lnTo>
                  <a:cubicBezTo>
                    <a:pt x="284771" y="178275"/>
                    <a:pt x="286024" y="174309"/>
                    <a:pt x="289004" y="171925"/>
                  </a:cubicBezTo>
                  <a:cubicBezTo>
                    <a:pt x="291617" y="169834"/>
                    <a:pt x="296162" y="171117"/>
                    <a:pt x="298529" y="168750"/>
                  </a:cubicBezTo>
                  <a:cubicBezTo>
                    <a:pt x="303925" y="163354"/>
                    <a:pt x="306996" y="156050"/>
                    <a:pt x="311229" y="149700"/>
                  </a:cubicBezTo>
                  <a:cubicBezTo>
                    <a:pt x="313346" y="146525"/>
                    <a:pt x="316372" y="143795"/>
                    <a:pt x="317579" y="140175"/>
                  </a:cubicBezTo>
                  <a:lnTo>
                    <a:pt x="330279" y="102075"/>
                  </a:lnTo>
                  <a:lnTo>
                    <a:pt x="339804" y="73500"/>
                  </a:lnTo>
                  <a:lnTo>
                    <a:pt x="342979" y="63975"/>
                  </a:lnTo>
                  <a:lnTo>
                    <a:pt x="346154" y="54450"/>
                  </a:lnTo>
                  <a:cubicBezTo>
                    <a:pt x="345096" y="41750"/>
                    <a:pt x="346480" y="28604"/>
                    <a:pt x="342979" y="16350"/>
                  </a:cubicBezTo>
                  <a:cubicBezTo>
                    <a:pt x="341931" y="12681"/>
                    <a:pt x="336941" y="11550"/>
                    <a:pt x="333454" y="10000"/>
                  </a:cubicBezTo>
                  <a:cubicBezTo>
                    <a:pt x="331140" y="8972"/>
                    <a:pt x="307288" y="905"/>
                    <a:pt x="301704" y="475"/>
                  </a:cubicBezTo>
                  <a:cubicBezTo>
                    <a:pt x="292207" y="-256"/>
                    <a:pt x="283183" y="-54"/>
                    <a:pt x="250904" y="475"/>
                  </a:cubicBez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直接连接符 6"/>
            <p:cNvSpPr/>
            <p:nvPr/>
          </p:nvSpPr>
          <p:spPr>
            <a:xfrm flipV="1">
              <a:off x="7169760" y="2885400"/>
              <a:ext cx="749880" cy="2451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直接连接符 16"/>
            <p:cNvSpPr/>
            <p:nvPr/>
          </p:nvSpPr>
          <p:spPr>
            <a:xfrm flipV="1">
              <a:off x="7920000" y="2196360"/>
              <a:ext cx="341280" cy="68868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直接连接符 22"/>
            <p:cNvSpPr/>
            <p:nvPr/>
          </p:nvSpPr>
          <p:spPr>
            <a:xfrm flipH="1">
              <a:off x="6903720" y="3241440"/>
              <a:ext cx="155520" cy="2721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直接连接符 24"/>
            <p:cNvSpPr/>
            <p:nvPr/>
          </p:nvSpPr>
          <p:spPr>
            <a:xfrm flipH="1">
              <a:off x="6795360" y="3523320"/>
              <a:ext cx="82440" cy="47808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26"/>
            <p:cNvSpPr/>
            <p:nvPr/>
          </p:nvSpPr>
          <p:spPr>
            <a:xfrm>
              <a:off x="6795720" y="4001400"/>
              <a:ext cx="41040" cy="63720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直接连接符 28"/>
            <p:cNvSpPr/>
            <p:nvPr/>
          </p:nvSpPr>
          <p:spPr>
            <a:xfrm flipH="1">
              <a:off x="6692400" y="4648320"/>
              <a:ext cx="123480" cy="42912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直接连接符 32"/>
            <p:cNvSpPr/>
            <p:nvPr/>
          </p:nvSpPr>
          <p:spPr>
            <a:xfrm>
              <a:off x="6692760" y="5077440"/>
              <a:ext cx="91800" cy="63720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直接连接符 36"/>
            <p:cNvSpPr/>
            <p:nvPr/>
          </p:nvSpPr>
          <p:spPr>
            <a:xfrm>
              <a:off x="7169760" y="3241440"/>
              <a:ext cx="13680" cy="723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直接连接符 38"/>
            <p:cNvSpPr/>
            <p:nvPr/>
          </p:nvSpPr>
          <p:spPr>
            <a:xfrm flipH="1">
              <a:off x="7230240" y="3446640"/>
              <a:ext cx="7560" cy="17964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直接连接符 40"/>
            <p:cNvSpPr/>
            <p:nvPr/>
          </p:nvSpPr>
          <p:spPr>
            <a:xfrm>
              <a:off x="7238520" y="3685680"/>
              <a:ext cx="41040" cy="34632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直接连接符 44"/>
            <p:cNvSpPr/>
            <p:nvPr/>
          </p:nvSpPr>
          <p:spPr>
            <a:xfrm>
              <a:off x="7301520" y="4087800"/>
              <a:ext cx="178920" cy="28980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直接连接符 46"/>
            <p:cNvSpPr/>
            <p:nvPr/>
          </p:nvSpPr>
          <p:spPr>
            <a:xfrm>
              <a:off x="7570440" y="4389120"/>
              <a:ext cx="146880" cy="1404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直接连接符 50"/>
            <p:cNvSpPr/>
            <p:nvPr/>
          </p:nvSpPr>
          <p:spPr>
            <a:xfrm>
              <a:off x="7750440" y="4679640"/>
              <a:ext cx="37800" cy="597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直接连接符 52"/>
            <p:cNvSpPr/>
            <p:nvPr/>
          </p:nvSpPr>
          <p:spPr>
            <a:xfrm flipH="1">
              <a:off x="7597800" y="4794480"/>
              <a:ext cx="212760" cy="52200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直接连接符 54"/>
            <p:cNvSpPr/>
            <p:nvPr/>
          </p:nvSpPr>
          <p:spPr>
            <a:xfrm flipH="1">
              <a:off x="7418160" y="5316480"/>
              <a:ext cx="180000" cy="2379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直接连接符 56"/>
            <p:cNvSpPr/>
            <p:nvPr/>
          </p:nvSpPr>
          <p:spPr>
            <a:xfrm flipH="1">
              <a:off x="6862320" y="5554800"/>
              <a:ext cx="539640" cy="2379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直接连接符 58"/>
            <p:cNvSpPr/>
            <p:nvPr/>
          </p:nvSpPr>
          <p:spPr>
            <a:xfrm flipH="1">
              <a:off x="7246800" y="3685680"/>
              <a:ext cx="320400" cy="720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直接连接符 60"/>
            <p:cNvSpPr/>
            <p:nvPr/>
          </p:nvSpPr>
          <p:spPr>
            <a:xfrm flipH="1" flipV="1">
              <a:off x="6861600" y="3519000"/>
              <a:ext cx="359640" cy="16596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接连接符 62"/>
            <p:cNvSpPr/>
            <p:nvPr/>
          </p:nvSpPr>
          <p:spPr>
            <a:xfrm flipH="1">
              <a:off x="6599520" y="3519360"/>
              <a:ext cx="252720" cy="230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接连接符 64"/>
            <p:cNvSpPr/>
            <p:nvPr/>
          </p:nvSpPr>
          <p:spPr>
            <a:xfrm flipH="1" flipV="1">
              <a:off x="5828400" y="3425040"/>
              <a:ext cx="761400" cy="10548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接连接符 66"/>
            <p:cNvSpPr/>
            <p:nvPr/>
          </p:nvSpPr>
          <p:spPr>
            <a:xfrm flipH="1" flipV="1">
              <a:off x="6769800" y="4001040"/>
              <a:ext cx="502920" cy="5148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接连接符 68"/>
            <p:cNvSpPr/>
            <p:nvPr/>
          </p:nvSpPr>
          <p:spPr>
            <a:xfrm flipH="1">
              <a:off x="6121080" y="4007880"/>
              <a:ext cx="648720" cy="5472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直接连接符 70"/>
            <p:cNvSpPr/>
            <p:nvPr/>
          </p:nvSpPr>
          <p:spPr>
            <a:xfrm flipH="1" flipV="1">
              <a:off x="5452560" y="3823920"/>
              <a:ext cx="661680" cy="24372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直接连接符 72"/>
            <p:cNvSpPr/>
            <p:nvPr/>
          </p:nvSpPr>
          <p:spPr>
            <a:xfrm flipH="1" flipV="1">
              <a:off x="5179320" y="3728160"/>
              <a:ext cx="247680" cy="9576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直接连接符 74"/>
            <p:cNvSpPr/>
            <p:nvPr/>
          </p:nvSpPr>
          <p:spPr>
            <a:xfrm flipH="1" flipV="1">
              <a:off x="3618720" y="2424960"/>
              <a:ext cx="1559880" cy="13028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直接连接符 76"/>
            <p:cNvSpPr/>
            <p:nvPr/>
          </p:nvSpPr>
          <p:spPr>
            <a:xfrm flipH="1" flipV="1">
              <a:off x="7547760" y="4443840"/>
              <a:ext cx="146880" cy="140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直接连接符 78"/>
            <p:cNvSpPr/>
            <p:nvPr/>
          </p:nvSpPr>
          <p:spPr>
            <a:xfrm flipH="1">
              <a:off x="7290000" y="4410000"/>
              <a:ext cx="173160" cy="626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直接连接符 80"/>
            <p:cNvSpPr/>
            <p:nvPr/>
          </p:nvSpPr>
          <p:spPr>
            <a:xfrm flipH="1">
              <a:off x="6878160" y="4472280"/>
              <a:ext cx="423720" cy="14040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直接连接符 82"/>
            <p:cNvSpPr/>
            <p:nvPr/>
          </p:nvSpPr>
          <p:spPr>
            <a:xfrm flipH="1">
              <a:off x="5783400" y="4604400"/>
              <a:ext cx="1102680" cy="15732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直接连接符 84"/>
            <p:cNvSpPr/>
            <p:nvPr/>
          </p:nvSpPr>
          <p:spPr>
            <a:xfrm flipH="1" flipV="1">
              <a:off x="5367600" y="4671360"/>
              <a:ext cx="381240" cy="9756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直接连接符 86"/>
            <p:cNvSpPr/>
            <p:nvPr/>
          </p:nvSpPr>
          <p:spPr>
            <a:xfrm flipH="1">
              <a:off x="7217640" y="4513320"/>
              <a:ext cx="499320" cy="36900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直接连接符 88"/>
            <p:cNvSpPr/>
            <p:nvPr/>
          </p:nvSpPr>
          <p:spPr>
            <a:xfrm flipH="1">
              <a:off x="6691680" y="4935240"/>
              <a:ext cx="493920" cy="1202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直接连接符 90"/>
            <p:cNvSpPr/>
            <p:nvPr/>
          </p:nvSpPr>
          <p:spPr>
            <a:xfrm flipH="1">
              <a:off x="5828400" y="5051160"/>
              <a:ext cx="862920" cy="21168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直接连接符 92"/>
            <p:cNvSpPr/>
            <p:nvPr/>
          </p:nvSpPr>
          <p:spPr>
            <a:xfrm flipH="1">
              <a:off x="5165280" y="5293080"/>
              <a:ext cx="640080" cy="25920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椭圆 94"/>
            <p:cNvSpPr/>
            <p:nvPr/>
          </p:nvSpPr>
          <p:spPr>
            <a:xfrm>
              <a:off x="7036920" y="31086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椭圆 95"/>
            <p:cNvSpPr/>
            <p:nvPr/>
          </p:nvSpPr>
          <p:spPr>
            <a:xfrm>
              <a:off x="6808680" y="34506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椭圆 96"/>
            <p:cNvSpPr/>
            <p:nvPr/>
          </p:nvSpPr>
          <p:spPr>
            <a:xfrm>
              <a:off x="6704280" y="39078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椭圆 97"/>
            <p:cNvSpPr/>
            <p:nvPr/>
          </p:nvSpPr>
          <p:spPr>
            <a:xfrm>
              <a:off x="6772320" y="45460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椭圆 98"/>
            <p:cNvSpPr/>
            <p:nvPr/>
          </p:nvSpPr>
          <p:spPr>
            <a:xfrm>
              <a:off x="6590160" y="501084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99"/>
            <p:cNvSpPr/>
            <p:nvPr/>
          </p:nvSpPr>
          <p:spPr>
            <a:xfrm>
              <a:off x="5733720" y="334764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椭圆 100"/>
            <p:cNvSpPr/>
            <p:nvPr/>
          </p:nvSpPr>
          <p:spPr>
            <a:xfrm>
              <a:off x="3546000" y="234756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椭圆 101"/>
            <p:cNvSpPr/>
            <p:nvPr/>
          </p:nvSpPr>
          <p:spPr>
            <a:xfrm>
              <a:off x="5291640" y="45702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椭圆 102"/>
            <p:cNvSpPr/>
            <p:nvPr/>
          </p:nvSpPr>
          <p:spPr>
            <a:xfrm>
              <a:off x="5097960" y="54532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椭圆 103"/>
            <p:cNvSpPr/>
            <p:nvPr/>
          </p:nvSpPr>
          <p:spPr>
            <a:xfrm>
              <a:off x="5745600" y="517284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椭圆 104"/>
            <p:cNvSpPr/>
            <p:nvPr/>
          </p:nvSpPr>
          <p:spPr>
            <a:xfrm>
              <a:off x="5687280" y="46990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椭圆 105"/>
            <p:cNvSpPr/>
            <p:nvPr/>
          </p:nvSpPr>
          <p:spPr>
            <a:xfrm>
              <a:off x="6029280" y="39996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椭圆 106"/>
            <p:cNvSpPr/>
            <p:nvPr/>
          </p:nvSpPr>
          <p:spPr>
            <a:xfrm>
              <a:off x="5392080" y="37378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椭圆 107"/>
            <p:cNvSpPr/>
            <p:nvPr/>
          </p:nvSpPr>
          <p:spPr>
            <a:xfrm>
              <a:off x="5112720" y="364572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椭圆 108"/>
            <p:cNvSpPr/>
            <p:nvPr/>
          </p:nvSpPr>
          <p:spPr>
            <a:xfrm>
              <a:off x="6539040" y="346176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椭圆 109"/>
            <p:cNvSpPr/>
            <p:nvPr/>
          </p:nvSpPr>
          <p:spPr>
            <a:xfrm>
              <a:off x="7842240" y="281916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椭圆 110"/>
            <p:cNvSpPr/>
            <p:nvPr/>
          </p:nvSpPr>
          <p:spPr>
            <a:xfrm>
              <a:off x="8183160" y="21160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椭圆 117"/>
            <p:cNvSpPr/>
            <p:nvPr/>
          </p:nvSpPr>
          <p:spPr>
            <a:xfrm>
              <a:off x="7160400" y="329112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椭圆 118"/>
            <p:cNvSpPr/>
            <p:nvPr/>
          </p:nvSpPr>
          <p:spPr>
            <a:xfrm>
              <a:off x="7152840" y="36262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119"/>
            <p:cNvSpPr/>
            <p:nvPr/>
          </p:nvSpPr>
          <p:spPr>
            <a:xfrm>
              <a:off x="7168680" y="395532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椭圆 120"/>
            <p:cNvSpPr/>
            <p:nvPr/>
          </p:nvSpPr>
          <p:spPr>
            <a:xfrm>
              <a:off x="7216560" y="438912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椭圆 121"/>
            <p:cNvSpPr/>
            <p:nvPr/>
          </p:nvSpPr>
          <p:spPr>
            <a:xfrm>
              <a:off x="7414920" y="431136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椭圆 122"/>
            <p:cNvSpPr/>
            <p:nvPr/>
          </p:nvSpPr>
          <p:spPr>
            <a:xfrm>
              <a:off x="7694640" y="43804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椭圆 124"/>
            <p:cNvSpPr/>
            <p:nvPr/>
          </p:nvSpPr>
          <p:spPr>
            <a:xfrm>
              <a:off x="7085160" y="485964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椭圆 125"/>
            <p:cNvSpPr/>
            <p:nvPr/>
          </p:nvSpPr>
          <p:spPr>
            <a:xfrm>
              <a:off x="7788240" y="466164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椭圆 126"/>
            <p:cNvSpPr/>
            <p:nvPr/>
          </p:nvSpPr>
          <p:spPr>
            <a:xfrm>
              <a:off x="7506000" y="52336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椭圆 127"/>
            <p:cNvSpPr/>
            <p:nvPr/>
          </p:nvSpPr>
          <p:spPr>
            <a:xfrm>
              <a:off x="7346520" y="54864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椭圆 128"/>
            <p:cNvSpPr/>
            <p:nvPr/>
          </p:nvSpPr>
          <p:spPr>
            <a:xfrm>
              <a:off x="6707160" y="57150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椭圆 123"/>
            <p:cNvSpPr/>
            <p:nvPr/>
          </p:nvSpPr>
          <p:spPr>
            <a:xfrm>
              <a:off x="7594920" y="46018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文本框 65"/>
            <p:cNvSpPr/>
            <p:nvPr/>
          </p:nvSpPr>
          <p:spPr>
            <a:xfrm>
              <a:off x="6583680" y="29196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北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文本框 112"/>
            <p:cNvSpPr/>
            <p:nvPr/>
          </p:nvSpPr>
          <p:spPr>
            <a:xfrm>
              <a:off x="7530840" y="2090160"/>
              <a:ext cx="90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尔滨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文本框 113"/>
            <p:cNvSpPr/>
            <p:nvPr/>
          </p:nvSpPr>
          <p:spPr>
            <a:xfrm>
              <a:off x="7337520" y="31806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天津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文本框 114"/>
            <p:cNvSpPr/>
            <p:nvPr/>
          </p:nvSpPr>
          <p:spPr>
            <a:xfrm>
              <a:off x="3171600" y="2079720"/>
              <a:ext cx="122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乌鲁木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文本框 115"/>
            <p:cNvSpPr/>
            <p:nvPr/>
          </p:nvSpPr>
          <p:spPr>
            <a:xfrm>
              <a:off x="5706720" y="3061080"/>
              <a:ext cx="51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银川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文本框 116"/>
            <p:cNvSpPr/>
            <p:nvPr/>
          </p:nvSpPr>
          <p:spPr>
            <a:xfrm>
              <a:off x="5107320" y="431568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成都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文本框 129"/>
            <p:cNvSpPr/>
            <p:nvPr/>
          </p:nvSpPr>
          <p:spPr>
            <a:xfrm>
              <a:off x="4829400" y="518616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昆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文本框 130"/>
            <p:cNvSpPr/>
            <p:nvPr/>
          </p:nvSpPr>
          <p:spPr>
            <a:xfrm>
              <a:off x="6233040" y="5621760"/>
              <a:ext cx="53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广州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文本框 131"/>
            <p:cNvSpPr/>
            <p:nvPr/>
          </p:nvSpPr>
          <p:spPr>
            <a:xfrm>
              <a:off x="6236640" y="522648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长沙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文本框 132"/>
            <p:cNvSpPr/>
            <p:nvPr/>
          </p:nvSpPr>
          <p:spPr>
            <a:xfrm>
              <a:off x="6310440" y="35816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石家庄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椭圆 133"/>
            <p:cNvSpPr/>
            <p:nvPr/>
          </p:nvSpPr>
          <p:spPr>
            <a:xfrm>
              <a:off x="7517160" y="36126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文本框 134"/>
            <p:cNvSpPr/>
            <p:nvPr/>
          </p:nvSpPr>
          <p:spPr>
            <a:xfrm>
              <a:off x="7622280" y="3650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青海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文本框 135"/>
            <p:cNvSpPr/>
            <p:nvPr/>
          </p:nvSpPr>
          <p:spPr>
            <a:xfrm>
              <a:off x="6345720" y="406764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郑州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文本框 136"/>
            <p:cNvSpPr/>
            <p:nvPr/>
          </p:nvSpPr>
          <p:spPr>
            <a:xfrm>
              <a:off x="6328440" y="463176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武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文本框 137"/>
            <p:cNvSpPr/>
            <p:nvPr/>
          </p:nvSpPr>
          <p:spPr>
            <a:xfrm>
              <a:off x="7007760" y="453672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合肥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文本框 138"/>
            <p:cNvSpPr/>
            <p:nvPr/>
          </p:nvSpPr>
          <p:spPr>
            <a:xfrm>
              <a:off x="7462440" y="410868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南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文本框 139"/>
            <p:cNvSpPr/>
            <p:nvPr/>
          </p:nvSpPr>
          <p:spPr>
            <a:xfrm>
              <a:off x="7800480" y="430740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上海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文本框 140"/>
            <p:cNvSpPr/>
            <p:nvPr/>
          </p:nvSpPr>
          <p:spPr>
            <a:xfrm>
              <a:off x="7335000" y="475308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杭州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文本框 141"/>
            <p:cNvSpPr/>
            <p:nvPr/>
          </p:nvSpPr>
          <p:spPr>
            <a:xfrm>
              <a:off x="7900200" y="466020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宁波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文本框 142"/>
            <p:cNvSpPr/>
            <p:nvPr/>
          </p:nvSpPr>
          <p:spPr>
            <a:xfrm>
              <a:off x="7678440" y="513576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福州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文本框 143"/>
            <p:cNvSpPr/>
            <p:nvPr/>
          </p:nvSpPr>
          <p:spPr>
            <a:xfrm>
              <a:off x="7187400" y="566208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厦门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文本框 144"/>
            <p:cNvSpPr/>
            <p:nvPr/>
          </p:nvSpPr>
          <p:spPr>
            <a:xfrm>
              <a:off x="7548840" y="253836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沈阳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文本框 145"/>
            <p:cNvSpPr/>
            <p:nvPr/>
          </p:nvSpPr>
          <p:spPr>
            <a:xfrm>
              <a:off x="7283520" y="389700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徐州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文本框 146"/>
            <p:cNvSpPr/>
            <p:nvPr/>
          </p:nvSpPr>
          <p:spPr>
            <a:xfrm>
              <a:off x="6821280" y="3711600"/>
              <a:ext cx="51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济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文本框 147"/>
            <p:cNvSpPr/>
            <p:nvPr/>
          </p:nvSpPr>
          <p:spPr>
            <a:xfrm>
              <a:off x="5406480" y="3513960"/>
              <a:ext cx="50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兰州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154"/>
            <p:cNvSpPr/>
            <p:nvPr/>
          </p:nvSpPr>
          <p:spPr>
            <a:xfrm>
              <a:off x="6827040" y="58327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香港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椭圆 156"/>
            <p:cNvSpPr/>
            <p:nvPr/>
          </p:nvSpPr>
          <p:spPr>
            <a:xfrm>
              <a:off x="6800400" y="576396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组合 7"/>
          <p:cNvGrpSpPr/>
          <p:nvPr/>
        </p:nvGrpSpPr>
        <p:grpSpPr>
          <a:xfrm>
            <a:off x="6683400" y="5846760"/>
            <a:ext cx="1582560" cy="577800"/>
            <a:chOff x="6683400" y="5846760"/>
            <a:chExt cx="1582560" cy="577800"/>
          </a:xfrm>
        </p:grpSpPr>
        <p:sp>
          <p:nvSpPr>
            <p:cNvPr id="350" name="矩形 152"/>
            <p:cNvSpPr/>
            <p:nvPr/>
          </p:nvSpPr>
          <p:spPr>
            <a:xfrm>
              <a:off x="6683400" y="6095160"/>
              <a:ext cx="1582560" cy="329400"/>
            </a:xfrm>
            <a:prstGeom prst="rect">
              <a:avLst/>
            </a:prstGeom>
            <a:solidFill>
              <a:srgbClr val="cc33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京港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等腰三角形 153"/>
            <p:cNvSpPr/>
            <p:nvPr/>
          </p:nvSpPr>
          <p:spPr>
            <a:xfrm>
              <a:off x="6738840" y="5846760"/>
              <a:ext cx="154800" cy="249120"/>
            </a:xfrm>
            <a:prstGeom prst="triangle">
              <a:avLst>
                <a:gd name="adj" fmla="val 50000"/>
              </a:avLst>
            </a:prstGeom>
            <a:solidFill>
              <a:srgbClr val="cc33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3"/>
          <p:cNvGrpSpPr/>
          <p:nvPr/>
        </p:nvGrpSpPr>
        <p:grpSpPr>
          <a:xfrm>
            <a:off x="7905600" y="4172040"/>
            <a:ext cx="1830600" cy="328680"/>
            <a:chOff x="7905600" y="4172040"/>
            <a:chExt cx="1830600" cy="328680"/>
          </a:xfrm>
        </p:grpSpPr>
        <p:sp>
          <p:nvSpPr>
            <p:cNvPr id="353" name="矩形 162"/>
            <p:cNvSpPr/>
            <p:nvPr/>
          </p:nvSpPr>
          <p:spPr>
            <a:xfrm>
              <a:off x="8154000" y="4172040"/>
              <a:ext cx="1582200" cy="328680"/>
            </a:xfrm>
            <a:prstGeom prst="rect">
              <a:avLst/>
            </a:prstGeom>
            <a:solidFill>
              <a:srgbClr val="cc33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京沪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等腰三角形 163"/>
            <p:cNvSpPr/>
            <p:nvPr/>
          </p:nvSpPr>
          <p:spPr>
            <a:xfrm rot="16200000">
              <a:off x="7952400" y="4222800"/>
              <a:ext cx="154800" cy="248400"/>
            </a:xfrm>
            <a:prstGeom prst="triangle">
              <a:avLst>
                <a:gd name="adj" fmla="val 50000"/>
              </a:avLst>
            </a:prstGeom>
            <a:solidFill>
              <a:srgbClr val="cc33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19"/>
          <p:cNvGrpSpPr/>
          <p:nvPr/>
        </p:nvGrpSpPr>
        <p:grpSpPr>
          <a:xfrm>
            <a:off x="7628040" y="5192640"/>
            <a:ext cx="1898640" cy="328680"/>
            <a:chOff x="7628040" y="5192640"/>
            <a:chExt cx="1898640" cy="328680"/>
          </a:xfrm>
        </p:grpSpPr>
        <p:sp>
          <p:nvSpPr>
            <p:cNvPr id="356" name="矩形 151"/>
            <p:cNvSpPr/>
            <p:nvPr/>
          </p:nvSpPr>
          <p:spPr>
            <a:xfrm>
              <a:off x="7876800" y="5192640"/>
              <a:ext cx="1649880" cy="328680"/>
            </a:xfrm>
            <a:prstGeom prst="rect">
              <a:avLst/>
            </a:prstGeom>
            <a:solidFill>
              <a:srgbClr val="cc33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杭福深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等腰三角形 155"/>
            <p:cNvSpPr/>
            <p:nvPr/>
          </p:nvSpPr>
          <p:spPr>
            <a:xfrm rot="16200000">
              <a:off x="7674840" y="5243040"/>
              <a:ext cx="154800" cy="248760"/>
            </a:xfrm>
            <a:prstGeom prst="triangle">
              <a:avLst>
                <a:gd name="adj" fmla="val 50000"/>
              </a:avLst>
            </a:prstGeom>
            <a:solidFill>
              <a:srgbClr val="cc33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27"/>
          <p:cNvGrpSpPr/>
          <p:nvPr/>
        </p:nvGrpSpPr>
        <p:grpSpPr>
          <a:xfrm>
            <a:off x="3943440" y="3179880"/>
            <a:ext cx="1829880" cy="328320"/>
            <a:chOff x="3943440" y="3179880"/>
            <a:chExt cx="1829880" cy="328320"/>
          </a:xfrm>
        </p:grpSpPr>
        <p:sp>
          <p:nvSpPr>
            <p:cNvPr id="359" name="矩形 157"/>
            <p:cNvSpPr/>
            <p:nvPr/>
          </p:nvSpPr>
          <p:spPr>
            <a:xfrm>
              <a:off x="3943440" y="3179880"/>
              <a:ext cx="1582920" cy="328320"/>
            </a:xfrm>
            <a:prstGeom prst="rect">
              <a:avLst/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青太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等腰三角形 158"/>
            <p:cNvSpPr/>
            <p:nvPr/>
          </p:nvSpPr>
          <p:spPr>
            <a:xfrm rot="5400000">
              <a:off x="5571360" y="3227040"/>
              <a:ext cx="154800" cy="248760"/>
            </a:xfrm>
            <a:prstGeom prst="triangle">
              <a:avLst>
                <a:gd name="adj" fmla="val 50000"/>
              </a:avLst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21"/>
          <p:cNvGrpSpPr/>
          <p:nvPr/>
        </p:nvGrpSpPr>
        <p:grpSpPr>
          <a:xfrm>
            <a:off x="3519360" y="3726000"/>
            <a:ext cx="1828800" cy="328320"/>
            <a:chOff x="3519360" y="3726000"/>
            <a:chExt cx="1828800" cy="328320"/>
          </a:xfrm>
        </p:grpSpPr>
        <p:sp>
          <p:nvSpPr>
            <p:cNvPr id="362" name="矩形 159"/>
            <p:cNvSpPr/>
            <p:nvPr/>
          </p:nvSpPr>
          <p:spPr>
            <a:xfrm>
              <a:off x="3519360" y="3726000"/>
              <a:ext cx="1582560" cy="328320"/>
            </a:xfrm>
            <a:prstGeom prst="rect">
              <a:avLst/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徐兰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等腰三角形 160"/>
            <p:cNvSpPr/>
            <p:nvPr/>
          </p:nvSpPr>
          <p:spPr>
            <a:xfrm rot="5400000">
              <a:off x="5146560" y="3776760"/>
              <a:ext cx="154800" cy="248400"/>
            </a:xfrm>
            <a:prstGeom prst="triangle">
              <a:avLst>
                <a:gd name="adj" fmla="val 50000"/>
              </a:avLst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23"/>
          <p:cNvGrpSpPr/>
          <p:nvPr/>
        </p:nvGrpSpPr>
        <p:grpSpPr>
          <a:xfrm>
            <a:off x="3371760" y="4479840"/>
            <a:ext cx="1914480" cy="328680"/>
            <a:chOff x="3371760" y="4479840"/>
            <a:chExt cx="1914480" cy="328680"/>
          </a:xfrm>
        </p:grpSpPr>
        <p:sp>
          <p:nvSpPr>
            <p:cNvPr id="365" name="矩形 161"/>
            <p:cNvSpPr/>
            <p:nvPr/>
          </p:nvSpPr>
          <p:spPr>
            <a:xfrm>
              <a:off x="3371760" y="4479840"/>
              <a:ext cx="1668240" cy="328680"/>
            </a:xfrm>
            <a:prstGeom prst="rect">
              <a:avLst/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沪汉蓉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等腰三角形 164"/>
            <p:cNvSpPr/>
            <p:nvPr/>
          </p:nvSpPr>
          <p:spPr>
            <a:xfrm rot="5400000">
              <a:off x="5084640" y="4530600"/>
              <a:ext cx="154800" cy="248400"/>
            </a:xfrm>
            <a:prstGeom prst="triangle">
              <a:avLst>
                <a:gd name="adj" fmla="val 50000"/>
              </a:avLst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25"/>
          <p:cNvGrpSpPr/>
          <p:nvPr/>
        </p:nvGrpSpPr>
        <p:grpSpPr>
          <a:xfrm>
            <a:off x="3267000" y="5378400"/>
            <a:ext cx="1828800" cy="328680"/>
            <a:chOff x="3267000" y="5378400"/>
            <a:chExt cx="1828800" cy="328680"/>
          </a:xfrm>
        </p:grpSpPr>
        <p:sp>
          <p:nvSpPr>
            <p:cNvPr id="368" name="矩形 165"/>
            <p:cNvSpPr/>
            <p:nvPr/>
          </p:nvSpPr>
          <p:spPr>
            <a:xfrm>
              <a:off x="3267000" y="5378400"/>
              <a:ext cx="1582560" cy="328680"/>
            </a:xfrm>
            <a:prstGeom prst="rect">
              <a:avLst/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沪昆客运专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等腰三角形 166"/>
            <p:cNvSpPr/>
            <p:nvPr/>
          </p:nvSpPr>
          <p:spPr>
            <a:xfrm rot="5400000">
              <a:off x="4894200" y="5429160"/>
              <a:ext cx="154800" cy="248400"/>
            </a:xfrm>
            <a:prstGeom prst="triangle">
              <a:avLst>
                <a:gd name="adj" fmla="val 50000"/>
              </a:avLst>
            </a:prstGeom>
            <a:solidFill>
              <a:srgbClr val="703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0" name="组合 148" descr=""/>
          <p:cNvPicPr/>
          <p:nvPr/>
        </p:nvPicPr>
        <p:blipFill>
          <a:blip r:embed="rId2"/>
          <a:stretch/>
        </p:blipFill>
        <p:spPr>
          <a:xfrm>
            <a:off x="7677000" y="1562040"/>
            <a:ext cx="1582920" cy="577800"/>
          </a:xfrm>
          <a:prstGeom prst="rect">
            <a:avLst/>
          </a:prstGeom>
          <a:ln w="0">
            <a:noFill/>
          </a:ln>
        </p:spPr>
      </p:pic>
      <p:grpSp>
        <p:nvGrpSpPr>
          <p:cNvPr id="371" name="组合 202"/>
          <p:cNvGrpSpPr/>
          <p:nvPr/>
        </p:nvGrpSpPr>
        <p:grpSpPr>
          <a:xfrm>
            <a:off x="6991200" y="2786040"/>
            <a:ext cx="266760" cy="301680"/>
            <a:chOff x="6991200" y="2786040"/>
            <a:chExt cx="266760" cy="301680"/>
          </a:xfrm>
        </p:grpSpPr>
        <p:sp>
          <p:nvSpPr>
            <p:cNvPr id="372" name="Freeform 60"/>
            <p:cNvSpPr/>
            <p:nvPr/>
          </p:nvSpPr>
          <p:spPr>
            <a:xfrm>
              <a:off x="6991200" y="2786040"/>
              <a:ext cx="26676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61"/>
            <p:cNvSpPr/>
            <p:nvPr/>
          </p:nvSpPr>
          <p:spPr>
            <a:xfrm>
              <a:off x="7013160" y="2807280"/>
              <a:ext cx="22176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62"/>
            <p:cNvSpPr/>
            <p:nvPr/>
          </p:nvSpPr>
          <p:spPr>
            <a:xfrm>
              <a:off x="7038360" y="2835000"/>
              <a:ext cx="17208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63"/>
            <p:cNvSpPr/>
            <p:nvPr/>
          </p:nvSpPr>
          <p:spPr>
            <a:xfrm>
              <a:off x="7029000" y="2959200"/>
              <a:ext cx="19080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207"/>
          <p:cNvGrpSpPr/>
          <p:nvPr/>
        </p:nvGrpSpPr>
        <p:grpSpPr>
          <a:xfrm>
            <a:off x="6661080" y="3610080"/>
            <a:ext cx="266760" cy="301680"/>
            <a:chOff x="6661080" y="3610080"/>
            <a:chExt cx="266760" cy="301680"/>
          </a:xfrm>
        </p:grpSpPr>
        <p:sp>
          <p:nvSpPr>
            <p:cNvPr id="377" name="Freeform 60"/>
            <p:cNvSpPr/>
            <p:nvPr/>
          </p:nvSpPr>
          <p:spPr>
            <a:xfrm>
              <a:off x="6661080" y="3610080"/>
              <a:ext cx="26676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61"/>
            <p:cNvSpPr/>
            <p:nvPr/>
          </p:nvSpPr>
          <p:spPr>
            <a:xfrm>
              <a:off x="6683040" y="3631320"/>
              <a:ext cx="22176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62"/>
            <p:cNvSpPr/>
            <p:nvPr/>
          </p:nvSpPr>
          <p:spPr>
            <a:xfrm>
              <a:off x="6708240" y="3659040"/>
              <a:ext cx="17208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>
              <a:off x="6698880" y="3783240"/>
              <a:ext cx="19080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组合 212"/>
          <p:cNvGrpSpPr/>
          <p:nvPr/>
        </p:nvGrpSpPr>
        <p:grpSpPr>
          <a:xfrm>
            <a:off x="7365960" y="4029120"/>
            <a:ext cx="266760" cy="301680"/>
            <a:chOff x="7365960" y="4029120"/>
            <a:chExt cx="266760" cy="301680"/>
          </a:xfrm>
        </p:grpSpPr>
        <p:sp>
          <p:nvSpPr>
            <p:cNvPr id="382" name="Freeform 60"/>
            <p:cNvSpPr/>
            <p:nvPr/>
          </p:nvSpPr>
          <p:spPr>
            <a:xfrm>
              <a:off x="7365960" y="4029120"/>
              <a:ext cx="26676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61"/>
            <p:cNvSpPr/>
            <p:nvPr/>
          </p:nvSpPr>
          <p:spPr>
            <a:xfrm>
              <a:off x="7387920" y="4050360"/>
              <a:ext cx="22176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62"/>
            <p:cNvSpPr/>
            <p:nvPr/>
          </p:nvSpPr>
          <p:spPr>
            <a:xfrm>
              <a:off x="7413120" y="4078080"/>
              <a:ext cx="17208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63"/>
            <p:cNvSpPr/>
            <p:nvPr/>
          </p:nvSpPr>
          <p:spPr>
            <a:xfrm>
              <a:off x="7403760" y="4202280"/>
              <a:ext cx="19080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217"/>
          <p:cNvGrpSpPr/>
          <p:nvPr/>
        </p:nvGrpSpPr>
        <p:grpSpPr>
          <a:xfrm>
            <a:off x="7658280" y="4079880"/>
            <a:ext cx="266400" cy="301680"/>
            <a:chOff x="7658280" y="4079880"/>
            <a:chExt cx="266400" cy="301680"/>
          </a:xfrm>
        </p:grpSpPr>
        <p:sp>
          <p:nvSpPr>
            <p:cNvPr id="387" name="Freeform 60"/>
            <p:cNvSpPr/>
            <p:nvPr/>
          </p:nvSpPr>
          <p:spPr>
            <a:xfrm>
              <a:off x="7658280" y="4079880"/>
              <a:ext cx="26640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61"/>
            <p:cNvSpPr/>
            <p:nvPr/>
          </p:nvSpPr>
          <p:spPr>
            <a:xfrm>
              <a:off x="7680240" y="4101120"/>
              <a:ext cx="22176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62"/>
            <p:cNvSpPr/>
            <p:nvPr/>
          </p:nvSpPr>
          <p:spPr>
            <a:xfrm>
              <a:off x="7705440" y="4128840"/>
              <a:ext cx="17172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63"/>
            <p:cNvSpPr/>
            <p:nvPr/>
          </p:nvSpPr>
          <p:spPr>
            <a:xfrm>
              <a:off x="7696080" y="4253040"/>
              <a:ext cx="19044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222"/>
          <p:cNvGrpSpPr/>
          <p:nvPr/>
        </p:nvGrpSpPr>
        <p:grpSpPr>
          <a:xfrm>
            <a:off x="7526160" y="4327560"/>
            <a:ext cx="265320" cy="301680"/>
            <a:chOff x="7526160" y="4327560"/>
            <a:chExt cx="265320" cy="301680"/>
          </a:xfrm>
        </p:grpSpPr>
        <p:sp>
          <p:nvSpPr>
            <p:cNvPr id="392" name="Freeform 60"/>
            <p:cNvSpPr/>
            <p:nvPr/>
          </p:nvSpPr>
          <p:spPr>
            <a:xfrm>
              <a:off x="7526160" y="4327560"/>
              <a:ext cx="26532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61"/>
            <p:cNvSpPr/>
            <p:nvPr/>
          </p:nvSpPr>
          <p:spPr>
            <a:xfrm>
              <a:off x="7547760" y="4348800"/>
              <a:ext cx="22068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62"/>
            <p:cNvSpPr/>
            <p:nvPr/>
          </p:nvSpPr>
          <p:spPr>
            <a:xfrm>
              <a:off x="7573320" y="4376520"/>
              <a:ext cx="17100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63"/>
            <p:cNvSpPr/>
            <p:nvPr/>
          </p:nvSpPr>
          <p:spPr>
            <a:xfrm>
              <a:off x="7563960" y="4500720"/>
              <a:ext cx="18972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组合 227"/>
          <p:cNvGrpSpPr/>
          <p:nvPr/>
        </p:nvGrpSpPr>
        <p:grpSpPr>
          <a:xfrm>
            <a:off x="6713640" y="4257720"/>
            <a:ext cx="264960" cy="301680"/>
            <a:chOff x="6713640" y="4257720"/>
            <a:chExt cx="264960" cy="301680"/>
          </a:xfrm>
        </p:grpSpPr>
        <p:sp>
          <p:nvSpPr>
            <p:cNvPr id="397" name="Freeform 60"/>
            <p:cNvSpPr/>
            <p:nvPr/>
          </p:nvSpPr>
          <p:spPr>
            <a:xfrm>
              <a:off x="6713640" y="4257720"/>
              <a:ext cx="26496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61"/>
            <p:cNvSpPr/>
            <p:nvPr/>
          </p:nvSpPr>
          <p:spPr>
            <a:xfrm>
              <a:off x="6735240" y="4278960"/>
              <a:ext cx="22032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62"/>
            <p:cNvSpPr/>
            <p:nvPr/>
          </p:nvSpPr>
          <p:spPr>
            <a:xfrm>
              <a:off x="6760440" y="4306680"/>
              <a:ext cx="17100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63"/>
            <p:cNvSpPr/>
            <p:nvPr/>
          </p:nvSpPr>
          <p:spPr>
            <a:xfrm>
              <a:off x="6751440" y="4430880"/>
              <a:ext cx="18936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232"/>
          <p:cNvGrpSpPr/>
          <p:nvPr/>
        </p:nvGrpSpPr>
        <p:grpSpPr>
          <a:xfrm>
            <a:off x="6657840" y="5411880"/>
            <a:ext cx="266760" cy="301680"/>
            <a:chOff x="6657840" y="5411880"/>
            <a:chExt cx="266760" cy="301680"/>
          </a:xfrm>
        </p:grpSpPr>
        <p:sp>
          <p:nvSpPr>
            <p:cNvPr id="402" name="Freeform 60"/>
            <p:cNvSpPr/>
            <p:nvPr/>
          </p:nvSpPr>
          <p:spPr>
            <a:xfrm>
              <a:off x="6657840" y="5411880"/>
              <a:ext cx="26676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61"/>
            <p:cNvSpPr/>
            <p:nvPr/>
          </p:nvSpPr>
          <p:spPr>
            <a:xfrm>
              <a:off x="6679800" y="5433120"/>
              <a:ext cx="22176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62"/>
            <p:cNvSpPr/>
            <p:nvPr/>
          </p:nvSpPr>
          <p:spPr>
            <a:xfrm>
              <a:off x="6705000" y="5460840"/>
              <a:ext cx="17208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63"/>
            <p:cNvSpPr/>
            <p:nvPr/>
          </p:nvSpPr>
          <p:spPr>
            <a:xfrm>
              <a:off x="6695640" y="5585040"/>
              <a:ext cx="19080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文本框 168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提出研究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8199"/>
          <p:cNvSpPr/>
          <p:nvPr/>
        </p:nvSpPr>
        <p:spPr>
          <a:xfrm>
            <a:off x="647640" y="1328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83"/>
          <p:cNvSpPr/>
          <p:nvPr/>
        </p:nvSpPr>
        <p:spPr>
          <a:xfrm>
            <a:off x="1116000" y="1038240"/>
            <a:ext cx="8928000" cy="5711760"/>
          </a:xfrm>
          <a:prstGeom prst="rect">
            <a:avLst/>
          </a:prstGeom>
          <a:solidFill>
            <a:srgbClr val="2391d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组合 20"/>
          <p:cNvGrpSpPr/>
          <p:nvPr/>
        </p:nvGrpSpPr>
        <p:grpSpPr>
          <a:xfrm>
            <a:off x="1768320" y="1100160"/>
            <a:ext cx="7313760" cy="5433840"/>
            <a:chOff x="1768320" y="1100160"/>
            <a:chExt cx="7313760" cy="5433840"/>
          </a:xfrm>
        </p:grpSpPr>
        <p:sp>
          <p:nvSpPr>
            <p:cNvPr id="411" name="任意多边形 8"/>
            <p:cNvSpPr/>
            <p:nvPr/>
          </p:nvSpPr>
          <p:spPr>
            <a:xfrm>
              <a:off x="3800160" y="1552320"/>
              <a:ext cx="3586320" cy="1333080"/>
            </a:xfrm>
            <a:custGeom>
              <a:avLst/>
              <a:gdLst/>
              <a:ahLst/>
              <a:rect l="l" t="t" r="r" b="b"/>
              <a:pathLst>
                <a:path w="3586165" h="1333500">
                  <a:moveTo>
                    <a:pt x="0" y="0"/>
                  </a:moveTo>
                  <a:cubicBezTo>
                    <a:pt x="3175" y="7938"/>
                    <a:pt x="8119" y="15380"/>
                    <a:pt x="9525" y="23813"/>
                  </a:cubicBezTo>
                  <a:cubicBezTo>
                    <a:pt x="12928" y="44230"/>
                    <a:pt x="7132" y="66303"/>
                    <a:pt x="14288" y="85725"/>
                  </a:cubicBezTo>
                  <a:cubicBezTo>
                    <a:pt x="18945" y="98365"/>
                    <a:pt x="35391" y="103092"/>
                    <a:pt x="42863" y="114300"/>
                  </a:cubicBezTo>
                  <a:cubicBezTo>
                    <a:pt x="46038" y="119063"/>
                    <a:pt x="47918" y="125012"/>
                    <a:pt x="52388" y="128588"/>
                  </a:cubicBezTo>
                  <a:cubicBezTo>
                    <a:pt x="56308" y="131724"/>
                    <a:pt x="61913" y="131763"/>
                    <a:pt x="66675" y="133350"/>
                  </a:cubicBezTo>
                  <a:cubicBezTo>
                    <a:pt x="76200" y="139700"/>
                    <a:pt x="91630" y="141540"/>
                    <a:pt x="95250" y="152400"/>
                  </a:cubicBezTo>
                  <a:cubicBezTo>
                    <a:pt x="106585" y="186405"/>
                    <a:pt x="96421" y="175406"/>
                    <a:pt x="119063" y="190500"/>
                  </a:cubicBezTo>
                  <a:cubicBezTo>
                    <a:pt x="120650" y="195263"/>
                    <a:pt x="120689" y="200868"/>
                    <a:pt x="123825" y="204788"/>
                  </a:cubicBezTo>
                  <a:cubicBezTo>
                    <a:pt x="134902" y="218634"/>
                    <a:pt x="152970" y="214692"/>
                    <a:pt x="166688" y="223838"/>
                  </a:cubicBezTo>
                  <a:lnTo>
                    <a:pt x="195263" y="242888"/>
                  </a:lnTo>
                  <a:cubicBezTo>
                    <a:pt x="198438" y="247650"/>
                    <a:pt x="201124" y="252778"/>
                    <a:pt x="204788" y="257175"/>
                  </a:cubicBezTo>
                  <a:cubicBezTo>
                    <a:pt x="218484" y="273610"/>
                    <a:pt x="230102" y="275968"/>
                    <a:pt x="238125" y="300038"/>
                  </a:cubicBezTo>
                  <a:lnTo>
                    <a:pt x="257175" y="357188"/>
                  </a:lnTo>
                  <a:lnTo>
                    <a:pt x="266700" y="385763"/>
                  </a:lnTo>
                  <a:cubicBezTo>
                    <a:pt x="268287" y="390525"/>
                    <a:pt x="268678" y="395873"/>
                    <a:pt x="271463" y="400050"/>
                  </a:cubicBezTo>
                  <a:lnTo>
                    <a:pt x="280988" y="414338"/>
                  </a:lnTo>
                  <a:lnTo>
                    <a:pt x="295275" y="457200"/>
                  </a:lnTo>
                  <a:lnTo>
                    <a:pt x="300038" y="471488"/>
                  </a:lnTo>
                  <a:cubicBezTo>
                    <a:pt x="298450" y="488950"/>
                    <a:pt x="298949" y="506730"/>
                    <a:pt x="295275" y="523875"/>
                  </a:cubicBezTo>
                  <a:cubicBezTo>
                    <a:pt x="294076" y="529472"/>
                    <a:pt x="288310" y="533043"/>
                    <a:pt x="285750" y="538163"/>
                  </a:cubicBezTo>
                  <a:cubicBezTo>
                    <a:pt x="283505" y="542653"/>
                    <a:pt x="283233" y="547960"/>
                    <a:pt x="280988" y="552450"/>
                  </a:cubicBezTo>
                  <a:cubicBezTo>
                    <a:pt x="262520" y="589386"/>
                    <a:pt x="278674" y="545108"/>
                    <a:pt x="266700" y="581025"/>
                  </a:cubicBezTo>
                  <a:cubicBezTo>
                    <a:pt x="268288" y="592138"/>
                    <a:pt x="269261" y="603355"/>
                    <a:pt x="271463" y="614363"/>
                  </a:cubicBezTo>
                  <a:cubicBezTo>
                    <a:pt x="272447" y="619285"/>
                    <a:pt x="273089" y="624730"/>
                    <a:pt x="276225" y="628650"/>
                  </a:cubicBezTo>
                  <a:cubicBezTo>
                    <a:pt x="284458" y="638941"/>
                    <a:pt x="310357" y="644790"/>
                    <a:pt x="319088" y="647700"/>
                  </a:cubicBezTo>
                  <a:cubicBezTo>
                    <a:pt x="323850" y="649288"/>
                    <a:pt x="329198" y="649678"/>
                    <a:pt x="333375" y="652463"/>
                  </a:cubicBezTo>
                  <a:cubicBezTo>
                    <a:pt x="342900" y="658813"/>
                    <a:pt x="351090" y="667893"/>
                    <a:pt x="361950" y="671513"/>
                  </a:cubicBezTo>
                  <a:cubicBezTo>
                    <a:pt x="410006" y="687529"/>
                    <a:pt x="335437" y="663082"/>
                    <a:pt x="395288" y="681038"/>
                  </a:cubicBezTo>
                  <a:cubicBezTo>
                    <a:pt x="409713" y="685366"/>
                    <a:pt x="423863" y="690563"/>
                    <a:pt x="438150" y="695325"/>
                  </a:cubicBezTo>
                  <a:cubicBezTo>
                    <a:pt x="442913" y="696913"/>
                    <a:pt x="447568" y="698871"/>
                    <a:pt x="452438" y="700088"/>
                  </a:cubicBezTo>
                  <a:cubicBezTo>
                    <a:pt x="458548" y="701615"/>
                    <a:pt x="478938" y="706194"/>
                    <a:pt x="485775" y="709613"/>
                  </a:cubicBezTo>
                  <a:cubicBezTo>
                    <a:pt x="490895" y="712173"/>
                    <a:pt x="494832" y="716813"/>
                    <a:pt x="500063" y="719138"/>
                  </a:cubicBezTo>
                  <a:cubicBezTo>
                    <a:pt x="509238" y="723216"/>
                    <a:pt x="519113" y="725488"/>
                    <a:pt x="528638" y="728663"/>
                  </a:cubicBezTo>
                  <a:lnTo>
                    <a:pt x="542925" y="733425"/>
                  </a:lnTo>
                  <a:cubicBezTo>
                    <a:pt x="547688" y="736600"/>
                    <a:pt x="553166" y="738903"/>
                    <a:pt x="557213" y="742950"/>
                  </a:cubicBezTo>
                  <a:cubicBezTo>
                    <a:pt x="561260" y="746997"/>
                    <a:pt x="562430" y="753469"/>
                    <a:pt x="566738" y="757238"/>
                  </a:cubicBezTo>
                  <a:cubicBezTo>
                    <a:pt x="586893" y="774874"/>
                    <a:pt x="589977" y="774509"/>
                    <a:pt x="609600" y="781050"/>
                  </a:cubicBezTo>
                  <a:cubicBezTo>
                    <a:pt x="612775" y="785813"/>
                    <a:pt x="614655" y="791762"/>
                    <a:pt x="619125" y="795338"/>
                  </a:cubicBezTo>
                  <a:cubicBezTo>
                    <a:pt x="623045" y="798474"/>
                    <a:pt x="628923" y="797855"/>
                    <a:pt x="633413" y="800100"/>
                  </a:cubicBezTo>
                  <a:cubicBezTo>
                    <a:pt x="638532" y="802660"/>
                    <a:pt x="643303" y="805961"/>
                    <a:pt x="647700" y="809625"/>
                  </a:cubicBezTo>
                  <a:cubicBezTo>
                    <a:pt x="652874" y="813937"/>
                    <a:pt x="656814" y="819601"/>
                    <a:pt x="661988" y="823913"/>
                  </a:cubicBezTo>
                  <a:cubicBezTo>
                    <a:pt x="666385" y="827577"/>
                    <a:pt x="671878" y="829774"/>
                    <a:pt x="676275" y="833438"/>
                  </a:cubicBezTo>
                  <a:cubicBezTo>
                    <a:pt x="681449" y="837750"/>
                    <a:pt x="684959" y="843989"/>
                    <a:pt x="690563" y="847725"/>
                  </a:cubicBezTo>
                  <a:cubicBezTo>
                    <a:pt x="694740" y="850510"/>
                    <a:pt x="700088" y="850900"/>
                    <a:pt x="704850" y="852488"/>
                  </a:cubicBezTo>
                  <a:lnTo>
                    <a:pt x="733425" y="895350"/>
                  </a:lnTo>
                  <a:cubicBezTo>
                    <a:pt x="736600" y="900113"/>
                    <a:pt x="741140" y="904208"/>
                    <a:pt x="742950" y="909638"/>
                  </a:cubicBezTo>
                  <a:cubicBezTo>
                    <a:pt x="746125" y="919163"/>
                    <a:pt x="746906" y="929859"/>
                    <a:pt x="752475" y="938213"/>
                  </a:cubicBezTo>
                  <a:cubicBezTo>
                    <a:pt x="755650" y="942975"/>
                    <a:pt x="759675" y="947270"/>
                    <a:pt x="762000" y="952500"/>
                  </a:cubicBezTo>
                  <a:cubicBezTo>
                    <a:pt x="766078" y="961675"/>
                    <a:pt x="765956" y="972721"/>
                    <a:pt x="771525" y="981075"/>
                  </a:cubicBezTo>
                  <a:cubicBezTo>
                    <a:pt x="793750" y="1014413"/>
                    <a:pt x="781050" y="1003300"/>
                    <a:pt x="804863" y="1019175"/>
                  </a:cubicBezTo>
                  <a:cubicBezTo>
                    <a:pt x="818008" y="1058611"/>
                    <a:pt x="808818" y="1039395"/>
                    <a:pt x="833438" y="1076325"/>
                  </a:cubicBezTo>
                  <a:cubicBezTo>
                    <a:pt x="836613" y="1081088"/>
                    <a:pt x="838200" y="1087438"/>
                    <a:pt x="842963" y="1090613"/>
                  </a:cubicBezTo>
                  <a:cubicBezTo>
                    <a:pt x="847725" y="1093788"/>
                    <a:pt x="852131" y="1097578"/>
                    <a:pt x="857250" y="1100138"/>
                  </a:cubicBezTo>
                  <a:cubicBezTo>
                    <a:pt x="862259" y="1102642"/>
                    <a:pt x="886862" y="1109324"/>
                    <a:pt x="890588" y="1109663"/>
                  </a:cubicBezTo>
                  <a:cubicBezTo>
                    <a:pt x="919090" y="1112254"/>
                    <a:pt x="947714" y="1113366"/>
                    <a:pt x="976313" y="1114425"/>
                  </a:cubicBezTo>
                  <a:lnTo>
                    <a:pt x="1147763" y="1119188"/>
                  </a:lnTo>
                  <a:lnTo>
                    <a:pt x="1190625" y="1133475"/>
                  </a:lnTo>
                  <a:lnTo>
                    <a:pt x="1204913" y="1138238"/>
                  </a:lnTo>
                  <a:lnTo>
                    <a:pt x="1219200" y="1143000"/>
                  </a:lnTo>
                  <a:cubicBezTo>
                    <a:pt x="1223963" y="1146175"/>
                    <a:pt x="1228257" y="1150200"/>
                    <a:pt x="1233488" y="1152525"/>
                  </a:cubicBezTo>
                  <a:cubicBezTo>
                    <a:pt x="1242663" y="1156603"/>
                    <a:pt x="1252538" y="1158875"/>
                    <a:pt x="1262063" y="1162050"/>
                  </a:cubicBezTo>
                  <a:lnTo>
                    <a:pt x="1290638" y="1171575"/>
                  </a:lnTo>
                  <a:lnTo>
                    <a:pt x="1333500" y="1185863"/>
                  </a:lnTo>
                  <a:lnTo>
                    <a:pt x="1347788" y="1190625"/>
                  </a:lnTo>
                  <a:cubicBezTo>
                    <a:pt x="1352550" y="1192212"/>
                    <a:pt x="1357060" y="1195160"/>
                    <a:pt x="1362075" y="1195388"/>
                  </a:cubicBezTo>
                  <a:lnTo>
                    <a:pt x="1466850" y="1200150"/>
                  </a:lnTo>
                  <a:cubicBezTo>
                    <a:pt x="1487614" y="1207071"/>
                    <a:pt x="1494620" y="1206622"/>
                    <a:pt x="1509713" y="1219200"/>
                  </a:cubicBezTo>
                  <a:cubicBezTo>
                    <a:pt x="1514887" y="1223512"/>
                    <a:pt x="1518112" y="1230217"/>
                    <a:pt x="1524000" y="1233488"/>
                  </a:cubicBezTo>
                  <a:cubicBezTo>
                    <a:pt x="1532777" y="1238364"/>
                    <a:pt x="1544221" y="1237444"/>
                    <a:pt x="1552575" y="1243013"/>
                  </a:cubicBezTo>
                  <a:cubicBezTo>
                    <a:pt x="1557338" y="1246188"/>
                    <a:pt x="1561632" y="1250213"/>
                    <a:pt x="1566863" y="1252538"/>
                  </a:cubicBezTo>
                  <a:cubicBezTo>
                    <a:pt x="1566873" y="1252542"/>
                    <a:pt x="1602576" y="1264442"/>
                    <a:pt x="1609725" y="1266825"/>
                  </a:cubicBezTo>
                  <a:lnTo>
                    <a:pt x="1695450" y="1295400"/>
                  </a:lnTo>
                  <a:cubicBezTo>
                    <a:pt x="1743482" y="1311411"/>
                    <a:pt x="1668968" y="1286980"/>
                    <a:pt x="1728788" y="1304925"/>
                  </a:cubicBezTo>
                  <a:cubicBezTo>
                    <a:pt x="1738405" y="1307810"/>
                    <a:pt x="1747623" y="1312015"/>
                    <a:pt x="1757363" y="1314450"/>
                  </a:cubicBezTo>
                  <a:cubicBezTo>
                    <a:pt x="1770063" y="1317625"/>
                    <a:pt x="1783044" y="1319835"/>
                    <a:pt x="1795463" y="1323975"/>
                  </a:cubicBezTo>
                  <a:lnTo>
                    <a:pt x="1824038" y="1333500"/>
                  </a:lnTo>
                  <a:cubicBezTo>
                    <a:pt x="1881188" y="1331913"/>
                    <a:pt x="1938391" y="1331666"/>
                    <a:pt x="1995488" y="1328738"/>
                  </a:cubicBezTo>
                  <a:cubicBezTo>
                    <a:pt x="2009107" y="1328040"/>
                    <a:pt x="2031886" y="1309235"/>
                    <a:pt x="2038350" y="1304925"/>
                  </a:cubicBezTo>
                  <a:cubicBezTo>
                    <a:pt x="2043113" y="1301750"/>
                    <a:pt x="2047208" y="1297210"/>
                    <a:pt x="2052638" y="1295400"/>
                  </a:cubicBezTo>
                  <a:lnTo>
                    <a:pt x="2109788" y="1276350"/>
                  </a:lnTo>
                  <a:lnTo>
                    <a:pt x="2124075" y="1271588"/>
                  </a:lnTo>
                  <a:cubicBezTo>
                    <a:pt x="2128838" y="1270000"/>
                    <a:pt x="2133349" y="1267076"/>
                    <a:pt x="2138363" y="1266825"/>
                  </a:cubicBezTo>
                  <a:lnTo>
                    <a:pt x="2233613" y="1262063"/>
                  </a:lnTo>
                  <a:cubicBezTo>
                    <a:pt x="2249488" y="1260475"/>
                    <a:pt x="2265444" y="1259556"/>
                    <a:pt x="2281238" y="1257300"/>
                  </a:cubicBezTo>
                  <a:cubicBezTo>
                    <a:pt x="2287718" y="1256374"/>
                    <a:pt x="2294019" y="1254419"/>
                    <a:pt x="2300288" y="1252538"/>
                  </a:cubicBezTo>
                  <a:cubicBezTo>
                    <a:pt x="2300355" y="1252518"/>
                    <a:pt x="2335973" y="1240642"/>
                    <a:pt x="2343150" y="1238250"/>
                  </a:cubicBezTo>
                  <a:cubicBezTo>
                    <a:pt x="2347913" y="1236662"/>
                    <a:pt x="2352468" y="1234198"/>
                    <a:pt x="2357438" y="1233488"/>
                  </a:cubicBezTo>
                  <a:cubicBezTo>
                    <a:pt x="2368550" y="1231900"/>
                    <a:pt x="2379703" y="1230570"/>
                    <a:pt x="2390775" y="1228725"/>
                  </a:cubicBezTo>
                  <a:cubicBezTo>
                    <a:pt x="2398760" y="1227394"/>
                    <a:pt x="2406603" y="1225294"/>
                    <a:pt x="2414588" y="1223963"/>
                  </a:cubicBezTo>
                  <a:cubicBezTo>
                    <a:pt x="2425660" y="1222118"/>
                    <a:pt x="2436918" y="1221402"/>
                    <a:pt x="2447925" y="1219200"/>
                  </a:cubicBezTo>
                  <a:cubicBezTo>
                    <a:pt x="2460762" y="1216633"/>
                    <a:pt x="2486025" y="1209675"/>
                    <a:pt x="2486025" y="1209675"/>
                  </a:cubicBezTo>
                  <a:cubicBezTo>
                    <a:pt x="2495550" y="1203325"/>
                    <a:pt x="2506505" y="1198719"/>
                    <a:pt x="2514600" y="1190625"/>
                  </a:cubicBezTo>
                  <a:cubicBezTo>
                    <a:pt x="2519363" y="1185863"/>
                    <a:pt x="2523284" y="1180074"/>
                    <a:pt x="2528888" y="1176338"/>
                  </a:cubicBezTo>
                  <a:cubicBezTo>
                    <a:pt x="2533065" y="1173553"/>
                    <a:pt x="2538787" y="1174013"/>
                    <a:pt x="2543175" y="1171575"/>
                  </a:cubicBezTo>
                  <a:cubicBezTo>
                    <a:pt x="2553182" y="1166015"/>
                    <a:pt x="2562225" y="1158875"/>
                    <a:pt x="2571750" y="1152525"/>
                  </a:cubicBezTo>
                  <a:lnTo>
                    <a:pt x="2586038" y="1143000"/>
                  </a:lnTo>
                  <a:cubicBezTo>
                    <a:pt x="2589213" y="1138238"/>
                    <a:pt x="2593003" y="1133832"/>
                    <a:pt x="2595563" y="1128713"/>
                  </a:cubicBezTo>
                  <a:cubicBezTo>
                    <a:pt x="2603151" y="1113537"/>
                    <a:pt x="2599350" y="1095862"/>
                    <a:pt x="2619375" y="1085850"/>
                  </a:cubicBezTo>
                  <a:cubicBezTo>
                    <a:pt x="2625725" y="1082675"/>
                    <a:pt x="2632648" y="1080451"/>
                    <a:pt x="2638425" y="1076325"/>
                  </a:cubicBezTo>
                  <a:cubicBezTo>
                    <a:pt x="2643906" y="1072410"/>
                    <a:pt x="2646825" y="1065309"/>
                    <a:pt x="2652713" y="1062038"/>
                  </a:cubicBezTo>
                  <a:cubicBezTo>
                    <a:pt x="2661490" y="1057162"/>
                    <a:pt x="2671763" y="1055688"/>
                    <a:pt x="2681288" y="1052513"/>
                  </a:cubicBezTo>
                  <a:lnTo>
                    <a:pt x="2695575" y="1047750"/>
                  </a:lnTo>
                  <a:cubicBezTo>
                    <a:pt x="2708833" y="1027863"/>
                    <a:pt x="2707293" y="1037470"/>
                    <a:pt x="2700338" y="1009650"/>
                  </a:cubicBezTo>
                  <a:cubicBezTo>
                    <a:pt x="2699120" y="1004780"/>
                    <a:pt x="2699125" y="998913"/>
                    <a:pt x="2695575" y="995363"/>
                  </a:cubicBezTo>
                  <a:cubicBezTo>
                    <a:pt x="2692025" y="991813"/>
                    <a:pt x="2686050" y="992188"/>
                    <a:pt x="2681288" y="990600"/>
                  </a:cubicBezTo>
                  <a:lnTo>
                    <a:pt x="2662238" y="962025"/>
                  </a:lnTo>
                  <a:cubicBezTo>
                    <a:pt x="2659063" y="957263"/>
                    <a:pt x="2654523" y="953168"/>
                    <a:pt x="2652713" y="947738"/>
                  </a:cubicBezTo>
                  <a:lnTo>
                    <a:pt x="2647950" y="933450"/>
                  </a:lnTo>
                  <a:cubicBezTo>
                    <a:pt x="2656334" y="908303"/>
                    <a:pt x="2649928" y="923341"/>
                    <a:pt x="2671763" y="890588"/>
                  </a:cubicBezTo>
                  <a:cubicBezTo>
                    <a:pt x="2674938" y="885825"/>
                    <a:pt x="2675858" y="878110"/>
                    <a:pt x="2681288" y="876300"/>
                  </a:cubicBezTo>
                  <a:cubicBezTo>
                    <a:pt x="2690813" y="873125"/>
                    <a:pt x="2701509" y="872344"/>
                    <a:pt x="2709863" y="866775"/>
                  </a:cubicBezTo>
                  <a:cubicBezTo>
                    <a:pt x="2714625" y="863600"/>
                    <a:pt x="2719031" y="859810"/>
                    <a:pt x="2724150" y="857250"/>
                  </a:cubicBezTo>
                  <a:cubicBezTo>
                    <a:pt x="2732147" y="853252"/>
                    <a:pt x="2749867" y="850011"/>
                    <a:pt x="2757488" y="847725"/>
                  </a:cubicBezTo>
                  <a:cubicBezTo>
                    <a:pt x="2767105" y="844840"/>
                    <a:pt x="2786063" y="838200"/>
                    <a:pt x="2786063" y="838200"/>
                  </a:cubicBezTo>
                  <a:cubicBezTo>
                    <a:pt x="2800350" y="839788"/>
                    <a:pt x="2814829" y="840144"/>
                    <a:pt x="2828925" y="842963"/>
                  </a:cubicBezTo>
                  <a:cubicBezTo>
                    <a:pt x="2838770" y="844932"/>
                    <a:pt x="2847759" y="850053"/>
                    <a:pt x="2857500" y="852488"/>
                  </a:cubicBezTo>
                  <a:cubicBezTo>
                    <a:pt x="2884403" y="859213"/>
                    <a:pt x="2870132" y="855966"/>
                    <a:pt x="2900363" y="862013"/>
                  </a:cubicBezTo>
                  <a:cubicBezTo>
                    <a:pt x="2919413" y="860425"/>
                    <a:pt x="2938565" y="859776"/>
                    <a:pt x="2957513" y="857250"/>
                  </a:cubicBezTo>
                  <a:cubicBezTo>
                    <a:pt x="2962489" y="856587"/>
                    <a:pt x="2967543" y="855149"/>
                    <a:pt x="2971800" y="852488"/>
                  </a:cubicBezTo>
                  <a:cubicBezTo>
                    <a:pt x="2980420" y="847101"/>
                    <a:pt x="2987392" y="839417"/>
                    <a:pt x="2995613" y="833438"/>
                  </a:cubicBezTo>
                  <a:cubicBezTo>
                    <a:pt x="3004871" y="826705"/>
                    <a:pt x="3016094" y="822483"/>
                    <a:pt x="3024188" y="814388"/>
                  </a:cubicBezTo>
                  <a:cubicBezTo>
                    <a:pt x="3042522" y="796052"/>
                    <a:pt x="3032871" y="803836"/>
                    <a:pt x="3052763" y="790575"/>
                  </a:cubicBezTo>
                  <a:cubicBezTo>
                    <a:pt x="3055938" y="785813"/>
                    <a:pt x="3058241" y="780335"/>
                    <a:pt x="3062288" y="776288"/>
                  </a:cubicBezTo>
                  <a:cubicBezTo>
                    <a:pt x="3066335" y="772241"/>
                    <a:pt x="3072806" y="771071"/>
                    <a:pt x="3076575" y="766763"/>
                  </a:cubicBezTo>
                  <a:cubicBezTo>
                    <a:pt x="3084113" y="758148"/>
                    <a:pt x="3086100" y="744538"/>
                    <a:pt x="3095625" y="738188"/>
                  </a:cubicBezTo>
                  <a:lnTo>
                    <a:pt x="3152775" y="700088"/>
                  </a:lnTo>
                  <a:lnTo>
                    <a:pt x="3181350" y="681038"/>
                  </a:lnTo>
                  <a:cubicBezTo>
                    <a:pt x="3199685" y="662703"/>
                    <a:pt x="3190034" y="670486"/>
                    <a:pt x="3209925" y="657225"/>
                  </a:cubicBezTo>
                  <a:cubicBezTo>
                    <a:pt x="3216275" y="647700"/>
                    <a:pt x="3219450" y="635000"/>
                    <a:pt x="3228975" y="628650"/>
                  </a:cubicBezTo>
                  <a:cubicBezTo>
                    <a:pt x="3265902" y="604032"/>
                    <a:pt x="3246692" y="613219"/>
                    <a:pt x="3286125" y="600075"/>
                  </a:cubicBezTo>
                  <a:cubicBezTo>
                    <a:pt x="3290888" y="598488"/>
                    <a:pt x="3295543" y="596531"/>
                    <a:pt x="3300413" y="595313"/>
                  </a:cubicBezTo>
                  <a:lnTo>
                    <a:pt x="3338513" y="585788"/>
                  </a:lnTo>
                  <a:cubicBezTo>
                    <a:pt x="3343275" y="582613"/>
                    <a:pt x="3347570" y="578588"/>
                    <a:pt x="3352800" y="576263"/>
                  </a:cubicBezTo>
                  <a:cubicBezTo>
                    <a:pt x="3362964" y="571745"/>
                    <a:pt x="3392565" y="562606"/>
                    <a:pt x="3405188" y="561975"/>
                  </a:cubicBezTo>
                  <a:cubicBezTo>
                    <a:pt x="3460704" y="559199"/>
                    <a:pt x="3516313" y="558800"/>
                    <a:pt x="3571875" y="557213"/>
                  </a:cubicBezTo>
                  <a:cubicBezTo>
                    <a:pt x="3579651" y="545548"/>
                    <a:pt x="3586163" y="539251"/>
                    <a:pt x="3586163" y="523875"/>
                  </a:cubicBezTo>
                  <a:cubicBezTo>
                    <a:pt x="3586163" y="503177"/>
                    <a:pt x="3586420" y="482043"/>
                    <a:pt x="3581400" y="461963"/>
                  </a:cubicBezTo>
                  <a:cubicBezTo>
                    <a:pt x="3579766" y="455429"/>
                    <a:pt x="3572429" y="451810"/>
                    <a:pt x="3567113" y="447675"/>
                  </a:cubicBezTo>
                  <a:cubicBezTo>
                    <a:pt x="3547302" y="432266"/>
                    <a:pt x="3543723" y="429427"/>
                    <a:pt x="3524250" y="423863"/>
                  </a:cubicBezTo>
                  <a:cubicBezTo>
                    <a:pt x="3517956" y="422065"/>
                    <a:pt x="3511550" y="420688"/>
                    <a:pt x="3505200" y="419100"/>
                  </a:cubicBezTo>
                  <a:cubicBezTo>
                    <a:pt x="3500438" y="415925"/>
                    <a:pt x="3496174" y="411830"/>
                    <a:pt x="3490913" y="409575"/>
                  </a:cubicBezTo>
                  <a:cubicBezTo>
                    <a:pt x="3443053" y="389064"/>
                    <a:pt x="3507323" y="427306"/>
                    <a:pt x="3443288" y="395288"/>
                  </a:cubicBezTo>
                  <a:cubicBezTo>
                    <a:pt x="3436938" y="392113"/>
                    <a:pt x="3430830" y="388400"/>
                    <a:pt x="3424238" y="385763"/>
                  </a:cubicBezTo>
                  <a:cubicBezTo>
                    <a:pt x="3414916" y="382034"/>
                    <a:pt x="3405188" y="379413"/>
                    <a:pt x="3395663" y="376238"/>
                  </a:cubicBezTo>
                  <a:lnTo>
                    <a:pt x="3381375" y="371475"/>
                  </a:lnTo>
                  <a:cubicBezTo>
                    <a:pt x="3365500" y="373063"/>
                    <a:pt x="3349544" y="373982"/>
                    <a:pt x="3333750" y="376238"/>
                  </a:cubicBezTo>
                  <a:cubicBezTo>
                    <a:pt x="3327270" y="377164"/>
                    <a:pt x="3321229" y="380534"/>
                    <a:pt x="3314700" y="381000"/>
                  </a:cubicBezTo>
                  <a:cubicBezTo>
                    <a:pt x="3276664" y="383717"/>
                    <a:pt x="3238500" y="384175"/>
                    <a:pt x="3200400" y="385763"/>
                  </a:cubicBezTo>
                  <a:cubicBezTo>
                    <a:pt x="3194050" y="387350"/>
                    <a:pt x="3187895" y="390525"/>
                    <a:pt x="3181350" y="390525"/>
                  </a:cubicBezTo>
                  <a:cubicBezTo>
                    <a:pt x="3129872" y="390525"/>
                    <a:pt x="3135329" y="391060"/>
                    <a:pt x="3105150" y="381000"/>
                  </a:cubicBezTo>
                  <a:cubicBezTo>
                    <a:pt x="3106738" y="366713"/>
                    <a:pt x="3105367" y="351776"/>
                    <a:pt x="3109913" y="338138"/>
                  </a:cubicBezTo>
                  <a:cubicBezTo>
                    <a:pt x="3113533" y="327278"/>
                    <a:pt x="3128963" y="309563"/>
                    <a:pt x="3128963" y="309563"/>
                  </a:cubicBezTo>
                  <a:cubicBezTo>
                    <a:pt x="3132138" y="300038"/>
                    <a:pt x="3137068" y="290927"/>
                    <a:pt x="3138488" y="280988"/>
                  </a:cubicBezTo>
                  <a:cubicBezTo>
                    <a:pt x="3139672" y="272699"/>
                    <a:pt x="3141617" y="244875"/>
                    <a:pt x="3148013" y="233363"/>
                  </a:cubicBezTo>
                  <a:cubicBezTo>
                    <a:pt x="3153573" y="223356"/>
                    <a:pt x="3157538" y="211138"/>
                    <a:pt x="3167063" y="204788"/>
                  </a:cubicBezTo>
                  <a:cubicBezTo>
                    <a:pt x="3208006" y="177492"/>
                    <a:pt x="3156204" y="210218"/>
                    <a:pt x="3195638" y="190500"/>
                  </a:cubicBezTo>
                  <a:cubicBezTo>
                    <a:pt x="3200757" y="187940"/>
                    <a:pt x="3205163" y="184150"/>
                    <a:pt x="3209925" y="180975"/>
                  </a:cubicBezTo>
                  <a:lnTo>
                    <a:pt x="3228975" y="152400"/>
                  </a:lnTo>
                  <a:cubicBezTo>
                    <a:pt x="3232150" y="147638"/>
                    <a:pt x="3234453" y="142160"/>
                    <a:pt x="3238500" y="138113"/>
                  </a:cubicBezTo>
                  <a:lnTo>
                    <a:pt x="3248025" y="128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任意多边形 9"/>
            <p:cNvSpPr/>
            <p:nvPr/>
          </p:nvSpPr>
          <p:spPr>
            <a:xfrm>
              <a:off x="7053120" y="1100160"/>
              <a:ext cx="2028960" cy="1871280"/>
            </a:xfrm>
            <a:custGeom>
              <a:avLst/>
              <a:gdLst/>
              <a:ahLst/>
              <a:rect l="l" t="t" r="r" b="b"/>
              <a:pathLst>
                <a:path w="2029078" h="1871662">
                  <a:moveTo>
                    <a:pt x="0" y="585787"/>
                  </a:moveTo>
                  <a:cubicBezTo>
                    <a:pt x="60325" y="584200"/>
                    <a:pt x="120790" y="585429"/>
                    <a:pt x="180975" y="581025"/>
                  </a:cubicBezTo>
                  <a:cubicBezTo>
                    <a:pt x="186683" y="580607"/>
                    <a:pt x="192229" y="576354"/>
                    <a:pt x="195262" y="571500"/>
                  </a:cubicBezTo>
                  <a:cubicBezTo>
                    <a:pt x="201217" y="561973"/>
                    <a:pt x="206029" y="536200"/>
                    <a:pt x="209550" y="523875"/>
                  </a:cubicBezTo>
                  <a:cubicBezTo>
                    <a:pt x="214342" y="507104"/>
                    <a:pt x="219714" y="494660"/>
                    <a:pt x="233362" y="481012"/>
                  </a:cubicBezTo>
                  <a:cubicBezTo>
                    <a:pt x="242887" y="471487"/>
                    <a:pt x="254465" y="463645"/>
                    <a:pt x="261937" y="452437"/>
                  </a:cubicBezTo>
                  <a:cubicBezTo>
                    <a:pt x="265112" y="447675"/>
                    <a:pt x="268902" y="443269"/>
                    <a:pt x="271462" y="438150"/>
                  </a:cubicBezTo>
                  <a:cubicBezTo>
                    <a:pt x="273707" y="433660"/>
                    <a:pt x="273440" y="428039"/>
                    <a:pt x="276225" y="423862"/>
                  </a:cubicBezTo>
                  <a:cubicBezTo>
                    <a:pt x="279961" y="418258"/>
                    <a:pt x="285750" y="414337"/>
                    <a:pt x="290512" y="409575"/>
                  </a:cubicBezTo>
                  <a:cubicBezTo>
                    <a:pt x="298895" y="384427"/>
                    <a:pt x="292490" y="399463"/>
                    <a:pt x="314325" y="366712"/>
                  </a:cubicBezTo>
                  <a:lnTo>
                    <a:pt x="323850" y="352425"/>
                  </a:lnTo>
                  <a:lnTo>
                    <a:pt x="333375" y="338137"/>
                  </a:lnTo>
                  <a:cubicBezTo>
                    <a:pt x="344710" y="304132"/>
                    <a:pt x="337331" y="317916"/>
                    <a:pt x="352425" y="295275"/>
                  </a:cubicBezTo>
                  <a:cubicBezTo>
                    <a:pt x="364392" y="259368"/>
                    <a:pt x="348251" y="303622"/>
                    <a:pt x="366712" y="266700"/>
                  </a:cubicBezTo>
                  <a:cubicBezTo>
                    <a:pt x="368957" y="262210"/>
                    <a:pt x="369037" y="256801"/>
                    <a:pt x="371475" y="252412"/>
                  </a:cubicBezTo>
                  <a:cubicBezTo>
                    <a:pt x="377034" y="242405"/>
                    <a:pt x="390525" y="223837"/>
                    <a:pt x="390525" y="223837"/>
                  </a:cubicBezTo>
                  <a:cubicBezTo>
                    <a:pt x="392112" y="219075"/>
                    <a:pt x="395287" y="214570"/>
                    <a:pt x="395287" y="209550"/>
                  </a:cubicBezTo>
                  <a:cubicBezTo>
                    <a:pt x="395287" y="193596"/>
                    <a:pt x="395570" y="177060"/>
                    <a:pt x="390525" y="161925"/>
                  </a:cubicBezTo>
                  <a:cubicBezTo>
                    <a:pt x="388715" y="156495"/>
                    <a:pt x="381759" y="153906"/>
                    <a:pt x="376237" y="152400"/>
                  </a:cubicBezTo>
                  <a:cubicBezTo>
                    <a:pt x="368425" y="150269"/>
                    <a:pt x="293384" y="143162"/>
                    <a:pt x="290512" y="142875"/>
                  </a:cubicBezTo>
                  <a:cubicBezTo>
                    <a:pt x="295275" y="139700"/>
                    <a:pt x="299539" y="135605"/>
                    <a:pt x="304800" y="133350"/>
                  </a:cubicBezTo>
                  <a:cubicBezTo>
                    <a:pt x="310816" y="130772"/>
                    <a:pt x="318167" y="131834"/>
                    <a:pt x="323850" y="128587"/>
                  </a:cubicBezTo>
                  <a:cubicBezTo>
                    <a:pt x="329698" y="125245"/>
                    <a:pt x="332250" y="117571"/>
                    <a:pt x="338137" y="114300"/>
                  </a:cubicBezTo>
                  <a:cubicBezTo>
                    <a:pt x="346914" y="109424"/>
                    <a:pt x="366712" y="104775"/>
                    <a:pt x="366712" y="104775"/>
                  </a:cubicBezTo>
                  <a:cubicBezTo>
                    <a:pt x="371475" y="101600"/>
                    <a:pt x="375769" y="97575"/>
                    <a:pt x="381000" y="95250"/>
                  </a:cubicBezTo>
                  <a:cubicBezTo>
                    <a:pt x="390175" y="91172"/>
                    <a:pt x="400050" y="88900"/>
                    <a:pt x="409575" y="85725"/>
                  </a:cubicBezTo>
                  <a:lnTo>
                    <a:pt x="423862" y="80962"/>
                  </a:lnTo>
                  <a:lnTo>
                    <a:pt x="438150" y="76200"/>
                  </a:lnTo>
                  <a:cubicBezTo>
                    <a:pt x="442912" y="74613"/>
                    <a:pt x="447567" y="72654"/>
                    <a:pt x="452437" y="71437"/>
                  </a:cubicBezTo>
                  <a:cubicBezTo>
                    <a:pt x="458787" y="69850"/>
                    <a:pt x="465218" y="68556"/>
                    <a:pt x="471487" y="66675"/>
                  </a:cubicBezTo>
                  <a:cubicBezTo>
                    <a:pt x="471520" y="66665"/>
                    <a:pt x="507190" y="54774"/>
                    <a:pt x="514350" y="52387"/>
                  </a:cubicBezTo>
                  <a:lnTo>
                    <a:pt x="557212" y="38100"/>
                  </a:lnTo>
                  <a:lnTo>
                    <a:pt x="571500" y="33337"/>
                  </a:lnTo>
                  <a:lnTo>
                    <a:pt x="585787" y="28575"/>
                  </a:lnTo>
                  <a:cubicBezTo>
                    <a:pt x="590550" y="23812"/>
                    <a:pt x="594471" y="18023"/>
                    <a:pt x="600075" y="14287"/>
                  </a:cubicBezTo>
                  <a:cubicBezTo>
                    <a:pt x="604252" y="11502"/>
                    <a:pt x="609535" y="10904"/>
                    <a:pt x="614362" y="9525"/>
                  </a:cubicBezTo>
                  <a:cubicBezTo>
                    <a:pt x="656231" y="-2438"/>
                    <a:pt x="613436" y="11420"/>
                    <a:pt x="647700" y="0"/>
                  </a:cubicBezTo>
                  <a:cubicBezTo>
                    <a:pt x="686045" y="3195"/>
                    <a:pt x="694977" y="848"/>
                    <a:pt x="723900" y="9525"/>
                  </a:cubicBezTo>
                  <a:cubicBezTo>
                    <a:pt x="733517" y="12410"/>
                    <a:pt x="742950" y="15875"/>
                    <a:pt x="752475" y="19050"/>
                  </a:cubicBezTo>
                  <a:cubicBezTo>
                    <a:pt x="757237" y="20637"/>
                    <a:pt x="761892" y="22594"/>
                    <a:pt x="766762" y="23812"/>
                  </a:cubicBezTo>
                  <a:cubicBezTo>
                    <a:pt x="773112" y="25400"/>
                    <a:pt x="779422" y="27155"/>
                    <a:pt x="785812" y="28575"/>
                  </a:cubicBezTo>
                  <a:cubicBezTo>
                    <a:pt x="793714" y="30331"/>
                    <a:pt x="801551" y="32760"/>
                    <a:pt x="809625" y="33337"/>
                  </a:cubicBezTo>
                  <a:cubicBezTo>
                    <a:pt x="846079" y="35941"/>
                    <a:pt x="882650" y="36512"/>
                    <a:pt x="919162" y="38100"/>
                  </a:cubicBezTo>
                  <a:cubicBezTo>
                    <a:pt x="933735" y="41743"/>
                    <a:pt x="941537" y="41424"/>
                    <a:pt x="952500" y="52387"/>
                  </a:cubicBezTo>
                  <a:cubicBezTo>
                    <a:pt x="956547" y="56434"/>
                    <a:pt x="958850" y="61912"/>
                    <a:pt x="962025" y="66675"/>
                  </a:cubicBezTo>
                  <a:cubicBezTo>
                    <a:pt x="963612" y="71437"/>
                    <a:pt x="964349" y="76574"/>
                    <a:pt x="966787" y="80962"/>
                  </a:cubicBezTo>
                  <a:cubicBezTo>
                    <a:pt x="972346" y="90969"/>
                    <a:pt x="979487" y="100012"/>
                    <a:pt x="985837" y="109537"/>
                  </a:cubicBezTo>
                  <a:lnTo>
                    <a:pt x="995362" y="123825"/>
                  </a:lnTo>
                  <a:lnTo>
                    <a:pt x="1014412" y="152400"/>
                  </a:lnTo>
                  <a:cubicBezTo>
                    <a:pt x="1017587" y="161925"/>
                    <a:pt x="1018368" y="172621"/>
                    <a:pt x="1023937" y="180975"/>
                  </a:cubicBezTo>
                  <a:cubicBezTo>
                    <a:pt x="1027112" y="185737"/>
                    <a:pt x="1030902" y="190143"/>
                    <a:pt x="1033462" y="195262"/>
                  </a:cubicBezTo>
                  <a:cubicBezTo>
                    <a:pt x="1035707" y="199752"/>
                    <a:pt x="1035787" y="205161"/>
                    <a:pt x="1038225" y="209550"/>
                  </a:cubicBezTo>
                  <a:cubicBezTo>
                    <a:pt x="1043784" y="219557"/>
                    <a:pt x="1057275" y="238125"/>
                    <a:pt x="1057275" y="238125"/>
                  </a:cubicBezTo>
                  <a:cubicBezTo>
                    <a:pt x="1069245" y="274037"/>
                    <a:pt x="1051705" y="231162"/>
                    <a:pt x="1076325" y="261937"/>
                  </a:cubicBezTo>
                  <a:cubicBezTo>
                    <a:pt x="1079461" y="265857"/>
                    <a:pt x="1078842" y="271735"/>
                    <a:pt x="1081087" y="276225"/>
                  </a:cubicBezTo>
                  <a:cubicBezTo>
                    <a:pt x="1083647" y="281344"/>
                    <a:pt x="1088287" y="285282"/>
                    <a:pt x="1090612" y="290512"/>
                  </a:cubicBezTo>
                  <a:cubicBezTo>
                    <a:pt x="1094690" y="299687"/>
                    <a:pt x="1094568" y="310733"/>
                    <a:pt x="1100137" y="319087"/>
                  </a:cubicBezTo>
                  <a:lnTo>
                    <a:pt x="1119187" y="347662"/>
                  </a:lnTo>
                  <a:cubicBezTo>
                    <a:pt x="1122362" y="352425"/>
                    <a:pt x="1123949" y="358775"/>
                    <a:pt x="1128712" y="361950"/>
                  </a:cubicBezTo>
                  <a:lnTo>
                    <a:pt x="1143000" y="371475"/>
                  </a:lnTo>
                  <a:cubicBezTo>
                    <a:pt x="1146175" y="381000"/>
                    <a:pt x="1146956" y="391696"/>
                    <a:pt x="1152525" y="400050"/>
                  </a:cubicBezTo>
                  <a:cubicBezTo>
                    <a:pt x="1158875" y="409575"/>
                    <a:pt x="1162050" y="422275"/>
                    <a:pt x="1171575" y="428625"/>
                  </a:cubicBezTo>
                  <a:cubicBezTo>
                    <a:pt x="1176337" y="431800"/>
                    <a:pt x="1180632" y="435825"/>
                    <a:pt x="1185862" y="438150"/>
                  </a:cubicBezTo>
                  <a:cubicBezTo>
                    <a:pt x="1200772" y="444777"/>
                    <a:pt x="1217653" y="448479"/>
                    <a:pt x="1233487" y="452437"/>
                  </a:cubicBezTo>
                  <a:cubicBezTo>
                    <a:pt x="1238250" y="455612"/>
                    <a:pt x="1242544" y="459637"/>
                    <a:pt x="1247775" y="461962"/>
                  </a:cubicBezTo>
                  <a:cubicBezTo>
                    <a:pt x="1268448" y="471150"/>
                    <a:pt x="1282857" y="473097"/>
                    <a:pt x="1304925" y="476250"/>
                  </a:cubicBezTo>
                  <a:cubicBezTo>
                    <a:pt x="1317595" y="478060"/>
                    <a:pt x="1330325" y="479425"/>
                    <a:pt x="1343025" y="481012"/>
                  </a:cubicBezTo>
                  <a:lnTo>
                    <a:pt x="1371600" y="490537"/>
                  </a:lnTo>
                  <a:cubicBezTo>
                    <a:pt x="1376362" y="492125"/>
                    <a:pt x="1381710" y="492515"/>
                    <a:pt x="1385887" y="495300"/>
                  </a:cubicBezTo>
                  <a:cubicBezTo>
                    <a:pt x="1404352" y="507609"/>
                    <a:pt x="1394745" y="503015"/>
                    <a:pt x="1414462" y="509587"/>
                  </a:cubicBezTo>
                  <a:cubicBezTo>
                    <a:pt x="1441919" y="527891"/>
                    <a:pt x="1415434" y="512044"/>
                    <a:pt x="1443037" y="523875"/>
                  </a:cubicBezTo>
                  <a:cubicBezTo>
                    <a:pt x="1484214" y="541523"/>
                    <a:pt x="1442880" y="526999"/>
                    <a:pt x="1476375" y="538162"/>
                  </a:cubicBezTo>
                  <a:cubicBezTo>
                    <a:pt x="1481137" y="541337"/>
                    <a:pt x="1485401" y="545432"/>
                    <a:pt x="1490662" y="547687"/>
                  </a:cubicBezTo>
                  <a:cubicBezTo>
                    <a:pt x="1496678" y="550265"/>
                    <a:pt x="1503443" y="550569"/>
                    <a:pt x="1509712" y="552450"/>
                  </a:cubicBezTo>
                  <a:cubicBezTo>
                    <a:pt x="1519329" y="555335"/>
                    <a:pt x="1528762" y="558800"/>
                    <a:pt x="1538287" y="561975"/>
                  </a:cubicBezTo>
                  <a:lnTo>
                    <a:pt x="1552575" y="566737"/>
                  </a:lnTo>
                  <a:cubicBezTo>
                    <a:pt x="1569151" y="591602"/>
                    <a:pt x="1557356" y="569979"/>
                    <a:pt x="1566862" y="604837"/>
                  </a:cubicBezTo>
                  <a:cubicBezTo>
                    <a:pt x="1569504" y="614523"/>
                    <a:pt x="1566862" y="630237"/>
                    <a:pt x="1576387" y="633412"/>
                  </a:cubicBezTo>
                  <a:lnTo>
                    <a:pt x="1590675" y="638175"/>
                  </a:lnTo>
                  <a:cubicBezTo>
                    <a:pt x="1595839" y="653668"/>
                    <a:pt x="1592866" y="654494"/>
                    <a:pt x="1609725" y="661987"/>
                  </a:cubicBezTo>
                  <a:cubicBezTo>
                    <a:pt x="1618900" y="666065"/>
                    <a:pt x="1638300" y="671512"/>
                    <a:pt x="1638300" y="671512"/>
                  </a:cubicBezTo>
                  <a:cubicBezTo>
                    <a:pt x="1665287" y="669925"/>
                    <a:pt x="1692455" y="670246"/>
                    <a:pt x="1719262" y="666750"/>
                  </a:cubicBezTo>
                  <a:cubicBezTo>
                    <a:pt x="1719267" y="666749"/>
                    <a:pt x="1754979" y="654844"/>
                    <a:pt x="1762125" y="652462"/>
                  </a:cubicBezTo>
                  <a:lnTo>
                    <a:pt x="1776412" y="647700"/>
                  </a:lnTo>
                  <a:cubicBezTo>
                    <a:pt x="1779587" y="642937"/>
                    <a:pt x="1781467" y="636988"/>
                    <a:pt x="1785937" y="633412"/>
                  </a:cubicBezTo>
                  <a:cubicBezTo>
                    <a:pt x="1789040" y="630929"/>
                    <a:pt x="1818034" y="624197"/>
                    <a:pt x="1819275" y="623887"/>
                  </a:cubicBezTo>
                  <a:cubicBezTo>
                    <a:pt x="1824037" y="619125"/>
                    <a:pt x="1828082" y="613515"/>
                    <a:pt x="1833562" y="609600"/>
                  </a:cubicBezTo>
                  <a:cubicBezTo>
                    <a:pt x="1843860" y="602244"/>
                    <a:pt x="1855241" y="599199"/>
                    <a:pt x="1866900" y="595312"/>
                  </a:cubicBezTo>
                  <a:cubicBezTo>
                    <a:pt x="1870075" y="590550"/>
                    <a:pt x="1871956" y="584601"/>
                    <a:pt x="1876425" y="581025"/>
                  </a:cubicBezTo>
                  <a:cubicBezTo>
                    <a:pt x="1880345" y="577889"/>
                    <a:pt x="1887162" y="579812"/>
                    <a:pt x="1890712" y="576262"/>
                  </a:cubicBezTo>
                  <a:cubicBezTo>
                    <a:pt x="1916112" y="550862"/>
                    <a:pt x="1871663" y="569913"/>
                    <a:pt x="1909762" y="557212"/>
                  </a:cubicBezTo>
                  <a:cubicBezTo>
                    <a:pt x="1941512" y="558800"/>
                    <a:pt x="1973489" y="557863"/>
                    <a:pt x="2005012" y="561975"/>
                  </a:cubicBezTo>
                  <a:cubicBezTo>
                    <a:pt x="2010688" y="562715"/>
                    <a:pt x="2015724" y="567030"/>
                    <a:pt x="2019300" y="571500"/>
                  </a:cubicBezTo>
                  <a:cubicBezTo>
                    <a:pt x="2022436" y="575420"/>
                    <a:pt x="2022475" y="581025"/>
                    <a:pt x="2024062" y="585787"/>
                  </a:cubicBezTo>
                  <a:cubicBezTo>
                    <a:pt x="2028131" y="626474"/>
                    <a:pt x="2032950" y="644324"/>
                    <a:pt x="2024062" y="685800"/>
                  </a:cubicBezTo>
                  <a:cubicBezTo>
                    <a:pt x="2022863" y="691397"/>
                    <a:pt x="2017712" y="695325"/>
                    <a:pt x="2014537" y="700087"/>
                  </a:cubicBezTo>
                  <a:cubicBezTo>
                    <a:pt x="1997174" y="752182"/>
                    <a:pt x="2024863" y="673284"/>
                    <a:pt x="2000250" y="728662"/>
                  </a:cubicBezTo>
                  <a:cubicBezTo>
                    <a:pt x="1991200" y="749025"/>
                    <a:pt x="1991502" y="756898"/>
                    <a:pt x="1985962" y="776287"/>
                  </a:cubicBezTo>
                  <a:cubicBezTo>
                    <a:pt x="1984583" y="781114"/>
                    <a:pt x="1982521" y="785732"/>
                    <a:pt x="1981200" y="790575"/>
                  </a:cubicBezTo>
                  <a:cubicBezTo>
                    <a:pt x="1977756" y="803205"/>
                    <a:pt x="1974850" y="815975"/>
                    <a:pt x="1971675" y="828675"/>
                  </a:cubicBezTo>
                  <a:lnTo>
                    <a:pt x="1966912" y="847725"/>
                  </a:lnTo>
                  <a:cubicBezTo>
                    <a:pt x="1965325" y="860425"/>
                    <a:pt x="1964440" y="873233"/>
                    <a:pt x="1962150" y="885825"/>
                  </a:cubicBezTo>
                  <a:cubicBezTo>
                    <a:pt x="1961252" y="890764"/>
                    <a:pt x="1957887" y="895117"/>
                    <a:pt x="1957387" y="900112"/>
                  </a:cubicBezTo>
                  <a:cubicBezTo>
                    <a:pt x="1954697" y="927012"/>
                    <a:pt x="1955315" y="954175"/>
                    <a:pt x="1952625" y="981075"/>
                  </a:cubicBezTo>
                  <a:cubicBezTo>
                    <a:pt x="1952125" y="986070"/>
                    <a:pt x="1950998" y="991442"/>
                    <a:pt x="1947862" y="995362"/>
                  </a:cubicBezTo>
                  <a:cubicBezTo>
                    <a:pt x="1937714" y="1008047"/>
                    <a:pt x="1931711" y="1002748"/>
                    <a:pt x="1919287" y="1009650"/>
                  </a:cubicBezTo>
                  <a:cubicBezTo>
                    <a:pt x="1909280" y="1015209"/>
                    <a:pt x="1901572" y="1025080"/>
                    <a:pt x="1890712" y="1028700"/>
                  </a:cubicBezTo>
                  <a:lnTo>
                    <a:pt x="1862137" y="1038225"/>
                  </a:lnTo>
                  <a:lnTo>
                    <a:pt x="1847850" y="1042987"/>
                  </a:lnTo>
                  <a:cubicBezTo>
                    <a:pt x="1825625" y="1041400"/>
                    <a:pt x="1803457" y="1038225"/>
                    <a:pt x="1781175" y="1038225"/>
                  </a:cubicBezTo>
                  <a:cubicBezTo>
                    <a:pt x="1764234" y="1038225"/>
                    <a:pt x="1766505" y="1046303"/>
                    <a:pt x="1757362" y="1057275"/>
                  </a:cubicBezTo>
                  <a:cubicBezTo>
                    <a:pt x="1745903" y="1071026"/>
                    <a:pt x="1742835" y="1071722"/>
                    <a:pt x="1728787" y="1081087"/>
                  </a:cubicBezTo>
                  <a:cubicBezTo>
                    <a:pt x="1725612" y="1085850"/>
                    <a:pt x="1719972" y="1089695"/>
                    <a:pt x="1719262" y="1095375"/>
                  </a:cubicBezTo>
                  <a:cubicBezTo>
                    <a:pt x="1718258" y="1103407"/>
                    <a:pt x="1722205" y="1111300"/>
                    <a:pt x="1724025" y="1119187"/>
                  </a:cubicBezTo>
                  <a:cubicBezTo>
                    <a:pt x="1726969" y="1131943"/>
                    <a:pt x="1729410" y="1144868"/>
                    <a:pt x="1733550" y="1157287"/>
                  </a:cubicBezTo>
                  <a:cubicBezTo>
                    <a:pt x="1736725" y="1166812"/>
                    <a:pt x="1741106" y="1176017"/>
                    <a:pt x="1743075" y="1185862"/>
                  </a:cubicBezTo>
                  <a:cubicBezTo>
                    <a:pt x="1749121" y="1216093"/>
                    <a:pt x="1745874" y="1201822"/>
                    <a:pt x="1752600" y="1228725"/>
                  </a:cubicBezTo>
                  <a:cubicBezTo>
                    <a:pt x="1750839" y="1299164"/>
                    <a:pt x="1800405" y="1395324"/>
                    <a:pt x="1733550" y="1428750"/>
                  </a:cubicBezTo>
                  <a:cubicBezTo>
                    <a:pt x="1729060" y="1430995"/>
                    <a:pt x="1724025" y="1431925"/>
                    <a:pt x="1719262" y="1433512"/>
                  </a:cubicBezTo>
                  <a:cubicBezTo>
                    <a:pt x="1714500" y="1436687"/>
                    <a:pt x="1710236" y="1440782"/>
                    <a:pt x="1704975" y="1443037"/>
                  </a:cubicBezTo>
                  <a:cubicBezTo>
                    <a:pt x="1698959" y="1445615"/>
                    <a:pt x="1692219" y="1446002"/>
                    <a:pt x="1685925" y="1447800"/>
                  </a:cubicBezTo>
                  <a:cubicBezTo>
                    <a:pt x="1681098" y="1449179"/>
                    <a:pt x="1676400" y="1450975"/>
                    <a:pt x="1671637" y="1452562"/>
                  </a:cubicBezTo>
                  <a:cubicBezTo>
                    <a:pt x="1660525" y="1450975"/>
                    <a:pt x="1648340" y="1452820"/>
                    <a:pt x="1638300" y="1447800"/>
                  </a:cubicBezTo>
                  <a:cubicBezTo>
                    <a:pt x="1633810" y="1445555"/>
                    <a:pt x="1637087" y="1437062"/>
                    <a:pt x="1633537" y="1433512"/>
                  </a:cubicBezTo>
                  <a:cubicBezTo>
                    <a:pt x="1629987" y="1429962"/>
                    <a:pt x="1624012" y="1430337"/>
                    <a:pt x="1619250" y="1428750"/>
                  </a:cubicBezTo>
                  <a:cubicBezTo>
                    <a:pt x="1612900" y="1438275"/>
                    <a:pt x="1603820" y="1446465"/>
                    <a:pt x="1600200" y="1457325"/>
                  </a:cubicBezTo>
                  <a:cubicBezTo>
                    <a:pt x="1597025" y="1466850"/>
                    <a:pt x="1599029" y="1480331"/>
                    <a:pt x="1590675" y="1485900"/>
                  </a:cubicBezTo>
                  <a:cubicBezTo>
                    <a:pt x="1585912" y="1489075"/>
                    <a:pt x="1581618" y="1493100"/>
                    <a:pt x="1576387" y="1495425"/>
                  </a:cubicBezTo>
                  <a:cubicBezTo>
                    <a:pt x="1567212" y="1499503"/>
                    <a:pt x="1547812" y="1504950"/>
                    <a:pt x="1547812" y="1504950"/>
                  </a:cubicBezTo>
                  <a:cubicBezTo>
                    <a:pt x="1537374" y="1520607"/>
                    <a:pt x="1538455" y="1516269"/>
                    <a:pt x="1533525" y="1533525"/>
                  </a:cubicBezTo>
                  <a:cubicBezTo>
                    <a:pt x="1531727" y="1539819"/>
                    <a:pt x="1532393" y="1547129"/>
                    <a:pt x="1528762" y="1552575"/>
                  </a:cubicBezTo>
                  <a:cubicBezTo>
                    <a:pt x="1525587" y="1557337"/>
                    <a:pt x="1519705" y="1559775"/>
                    <a:pt x="1514475" y="1562100"/>
                  </a:cubicBezTo>
                  <a:cubicBezTo>
                    <a:pt x="1505300" y="1566178"/>
                    <a:pt x="1494254" y="1566056"/>
                    <a:pt x="1485900" y="1571625"/>
                  </a:cubicBezTo>
                  <a:cubicBezTo>
                    <a:pt x="1467435" y="1583934"/>
                    <a:pt x="1477042" y="1579340"/>
                    <a:pt x="1457325" y="1585912"/>
                  </a:cubicBezTo>
                  <a:cubicBezTo>
                    <a:pt x="1452562" y="1590675"/>
                    <a:pt x="1448641" y="1596464"/>
                    <a:pt x="1443037" y="1600200"/>
                  </a:cubicBezTo>
                  <a:cubicBezTo>
                    <a:pt x="1438860" y="1602985"/>
                    <a:pt x="1432300" y="1601412"/>
                    <a:pt x="1428750" y="1604962"/>
                  </a:cubicBezTo>
                  <a:cubicBezTo>
                    <a:pt x="1426471" y="1607241"/>
                    <a:pt x="1419267" y="1638133"/>
                    <a:pt x="1419225" y="1638300"/>
                  </a:cubicBezTo>
                  <a:cubicBezTo>
                    <a:pt x="1417637" y="1652587"/>
                    <a:pt x="1417949" y="1667216"/>
                    <a:pt x="1414462" y="1681162"/>
                  </a:cubicBezTo>
                  <a:cubicBezTo>
                    <a:pt x="1413074" y="1686715"/>
                    <a:pt x="1410611" y="1694693"/>
                    <a:pt x="1404937" y="1695450"/>
                  </a:cubicBezTo>
                  <a:cubicBezTo>
                    <a:pt x="1384420" y="1698186"/>
                    <a:pt x="1363662" y="1692275"/>
                    <a:pt x="1343025" y="1690687"/>
                  </a:cubicBezTo>
                  <a:cubicBezTo>
                    <a:pt x="1326643" y="1687411"/>
                    <a:pt x="1315866" y="1685649"/>
                    <a:pt x="1300162" y="1681162"/>
                  </a:cubicBezTo>
                  <a:cubicBezTo>
                    <a:pt x="1295335" y="1679783"/>
                    <a:pt x="1290637" y="1677987"/>
                    <a:pt x="1285875" y="1676400"/>
                  </a:cubicBezTo>
                  <a:cubicBezTo>
                    <a:pt x="1267749" y="1678414"/>
                    <a:pt x="1242859" y="1674534"/>
                    <a:pt x="1228725" y="1690687"/>
                  </a:cubicBezTo>
                  <a:cubicBezTo>
                    <a:pt x="1221187" y="1699302"/>
                    <a:pt x="1216025" y="1709737"/>
                    <a:pt x="1209675" y="1719262"/>
                  </a:cubicBezTo>
                  <a:lnTo>
                    <a:pt x="1162050" y="1790700"/>
                  </a:lnTo>
                  <a:lnTo>
                    <a:pt x="1152525" y="1804987"/>
                  </a:lnTo>
                  <a:cubicBezTo>
                    <a:pt x="1149350" y="1809750"/>
                    <a:pt x="1148430" y="1817465"/>
                    <a:pt x="1143000" y="1819275"/>
                  </a:cubicBezTo>
                  <a:lnTo>
                    <a:pt x="1128712" y="1824037"/>
                  </a:lnTo>
                  <a:cubicBezTo>
                    <a:pt x="1119187" y="1830387"/>
                    <a:pt x="1106487" y="1833562"/>
                    <a:pt x="1100137" y="1843087"/>
                  </a:cubicBezTo>
                  <a:cubicBezTo>
                    <a:pt x="1087828" y="1861552"/>
                    <a:pt x="1096042" y="1855565"/>
                    <a:pt x="1076325" y="1862137"/>
                  </a:cubicBezTo>
                  <a:lnTo>
                    <a:pt x="1062037" y="1871662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任意多边形 10"/>
            <p:cNvSpPr/>
            <p:nvPr/>
          </p:nvSpPr>
          <p:spPr>
            <a:xfrm>
              <a:off x="7238520" y="2971440"/>
              <a:ext cx="876600" cy="1280880"/>
            </a:xfrm>
            <a:custGeom>
              <a:avLst/>
              <a:gdLst/>
              <a:ahLst/>
              <a:rect l="l" t="t" r="r" b="b"/>
              <a:pathLst>
                <a:path w="876724" h="1281113">
                  <a:moveTo>
                    <a:pt x="876724" y="0"/>
                  </a:moveTo>
                  <a:cubicBezTo>
                    <a:pt x="871962" y="7938"/>
                    <a:pt x="866577" y="15534"/>
                    <a:pt x="862437" y="23813"/>
                  </a:cubicBezTo>
                  <a:cubicBezTo>
                    <a:pt x="860192" y="28303"/>
                    <a:pt x="861224" y="34550"/>
                    <a:pt x="857674" y="38100"/>
                  </a:cubicBezTo>
                  <a:cubicBezTo>
                    <a:pt x="849579" y="46195"/>
                    <a:pt x="838624" y="50800"/>
                    <a:pt x="829099" y="57150"/>
                  </a:cubicBezTo>
                  <a:lnTo>
                    <a:pt x="786237" y="85725"/>
                  </a:lnTo>
                  <a:lnTo>
                    <a:pt x="743374" y="114300"/>
                  </a:lnTo>
                  <a:lnTo>
                    <a:pt x="729087" y="123825"/>
                  </a:lnTo>
                  <a:cubicBezTo>
                    <a:pt x="725912" y="128588"/>
                    <a:pt x="724032" y="134537"/>
                    <a:pt x="719562" y="138113"/>
                  </a:cubicBezTo>
                  <a:cubicBezTo>
                    <a:pt x="715642" y="141249"/>
                    <a:pt x="709662" y="140437"/>
                    <a:pt x="705274" y="142875"/>
                  </a:cubicBezTo>
                  <a:cubicBezTo>
                    <a:pt x="695267" y="148434"/>
                    <a:pt x="687559" y="158304"/>
                    <a:pt x="676699" y="161925"/>
                  </a:cubicBezTo>
                  <a:cubicBezTo>
                    <a:pt x="671937" y="163513"/>
                    <a:pt x="666800" y="164250"/>
                    <a:pt x="662412" y="166688"/>
                  </a:cubicBezTo>
                  <a:cubicBezTo>
                    <a:pt x="652405" y="172248"/>
                    <a:pt x="643362" y="179388"/>
                    <a:pt x="633837" y="185738"/>
                  </a:cubicBezTo>
                  <a:lnTo>
                    <a:pt x="619549" y="195263"/>
                  </a:lnTo>
                  <a:cubicBezTo>
                    <a:pt x="614787" y="198438"/>
                    <a:pt x="610692" y="202978"/>
                    <a:pt x="605262" y="204788"/>
                  </a:cubicBezTo>
                  <a:lnTo>
                    <a:pt x="562399" y="219075"/>
                  </a:lnTo>
                  <a:cubicBezTo>
                    <a:pt x="557637" y="220662"/>
                    <a:pt x="552289" y="221053"/>
                    <a:pt x="548112" y="223838"/>
                  </a:cubicBezTo>
                  <a:cubicBezTo>
                    <a:pt x="543349" y="227013"/>
                    <a:pt x="539184" y="231353"/>
                    <a:pt x="533824" y="233363"/>
                  </a:cubicBezTo>
                  <a:cubicBezTo>
                    <a:pt x="526245" y="236205"/>
                    <a:pt x="517865" y="236162"/>
                    <a:pt x="510012" y="238125"/>
                  </a:cubicBezTo>
                  <a:cubicBezTo>
                    <a:pt x="505142" y="239343"/>
                    <a:pt x="500551" y="241509"/>
                    <a:pt x="495724" y="242888"/>
                  </a:cubicBezTo>
                  <a:cubicBezTo>
                    <a:pt x="489430" y="244686"/>
                    <a:pt x="483024" y="246063"/>
                    <a:pt x="476674" y="247650"/>
                  </a:cubicBezTo>
                  <a:cubicBezTo>
                    <a:pt x="447625" y="267017"/>
                    <a:pt x="467103" y="260106"/>
                    <a:pt x="457624" y="209550"/>
                  </a:cubicBezTo>
                  <a:cubicBezTo>
                    <a:pt x="455774" y="199682"/>
                    <a:pt x="448099" y="180975"/>
                    <a:pt x="448099" y="180975"/>
                  </a:cubicBezTo>
                  <a:cubicBezTo>
                    <a:pt x="442711" y="94762"/>
                    <a:pt x="451385" y="128916"/>
                    <a:pt x="433812" y="76200"/>
                  </a:cubicBezTo>
                  <a:lnTo>
                    <a:pt x="429049" y="61913"/>
                  </a:lnTo>
                  <a:cubicBezTo>
                    <a:pt x="427461" y="57150"/>
                    <a:pt x="428464" y="50410"/>
                    <a:pt x="424287" y="47625"/>
                  </a:cubicBezTo>
                  <a:cubicBezTo>
                    <a:pt x="405822" y="35316"/>
                    <a:pt x="415429" y="39910"/>
                    <a:pt x="395712" y="33338"/>
                  </a:cubicBezTo>
                  <a:cubicBezTo>
                    <a:pt x="376662" y="34925"/>
                    <a:pt x="357510" y="35574"/>
                    <a:pt x="338562" y="38100"/>
                  </a:cubicBezTo>
                  <a:cubicBezTo>
                    <a:pt x="322238" y="40277"/>
                    <a:pt x="324582" y="45091"/>
                    <a:pt x="309987" y="52388"/>
                  </a:cubicBezTo>
                  <a:cubicBezTo>
                    <a:pt x="305497" y="54633"/>
                    <a:pt x="300462" y="55563"/>
                    <a:pt x="295699" y="57150"/>
                  </a:cubicBezTo>
                  <a:cubicBezTo>
                    <a:pt x="285168" y="67682"/>
                    <a:pt x="278517" y="72466"/>
                    <a:pt x="271887" y="85725"/>
                  </a:cubicBezTo>
                  <a:cubicBezTo>
                    <a:pt x="269642" y="90215"/>
                    <a:pt x="268445" y="95170"/>
                    <a:pt x="267124" y="100013"/>
                  </a:cubicBezTo>
                  <a:cubicBezTo>
                    <a:pt x="263679" y="112643"/>
                    <a:pt x="261738" y="125694"/>
                    <a:pt x="257599" y="138113"/>
                  </a:cubicBezTo>
                  <a:cubicBezTo>
                    <a:pt x="253726" y="149733"/>
                    <a:pt x="252544" y="157456"/>
                    <a:pt x="243312" y="166688"/>
                  </a:cubicBezTo>
                  <a:cubicBezTo>
                    <a:pt x="234080" y="175920"/>
                    <a:pt x="226357" y="177102"/>
                    <a:pt x="214737" y="180975"/>
                  </a:cubicBezTo>
                  <a:cubicBezTo>
                    <a:pt x="205766" y="189946"/>
                    <a:pt x="196228" y="197616"/>
                    <a:pt x="190924" y="209550"/>
                  </a:cubicBezTo>
                  <a:cubicBezTo>
                    <a:pt x="186846" y="218725"/>
                    <a:pt x="184574" y="228600"/>
                    <a:pt x="181399" y="238125"/>
                  </a:cubicBezTo>
                  <a:cubicBezTo>
                    <a:pt x="179812" y="242888"/>
                    <a:pt x="180814" y="249628"/>
                    <a:pt x="176637" y="252413"/>
                  </a:cubicBezTo>
                  <a:lnTo>
                    <a:pt x="162349" y="261938"/>
                  </a:lnTo>
                  <a:cubicBezTo>
                    <a:pt x="160762" y="266700"/>
                    <a:pt x="161672" y="273307"/>
                    <a:pt x="157587" y="276225"/>
                  </a:cubicBezTo>
                  <a:cubicBezTo>
                    <a:pt x="149417" y="282061"/>
                    <a:pt x="138537" y="282575"/>
                    <a:pt x="129012" y="285750"/>
                  </a:cubicBezTo>
                  <a:cubicBezTo>
                    <a:pt x="84563" y="300567"/>
                    <a:pt x="119754" y="290262"/>
                    <a:pt x="19474" y="295275"/>
                  </a:cubicBezTo>
                  <a:cubicBezTo>
                    <a:pt x="14712" y="298450"/>
                    <a:pt x="8362" y="300038"/>
                    <a:pt x="5187" y="304800"/>
                  </a:cubicBezTo>
                  <a:cubicBezTo>
                    <a:pt x="1556" y="310246"/>
                    <a:pt x="424" y="317305"/>
                    <a:pt x="424" y="323850"/>
                  </a:cubicBezTo>
                  <a:cubicBezTo>
                    <a:pt x="424" y="335456"/>
                    <a:pt x="-3848" y="380440"/>
                    <a:pt x="14712" y="395288"/>
                  </a:cubicBezTo>
                  <a:cubicBezTo>
                    <a:pt x="18632" y="398424"/>
                    <a:pt x="24237" y="398463"/>
                    <a:pt x="28999" y="400050"/>
                  </a:cubicBezTo>
                  <a:cubicBezTo>
                    <a:pt x="33762" y="403225"/>
                    <a:pt x="37928" y="407565"/>
                    <a:pt x="43287" y="409575"/>
                  </a:cubicBezTo>
                  <a:cubicBezTo>
                    <a:pt x="63707" y="417233"/>
                    <a:pt x="138019" y="419065"/>
                    <a:pt x="138537" y="419100"/>
                  </a:cubicBezTo>
                  <a:cubicBezTo>
                    <a:pt x="172542" y="430435"/>
                    <a:pt x="158758" y="423056"/>
                    <a:pt x="181399" y="438150"/>
                  </a:cubicBezTo>
                  <a:cubicBezTo>
                    <a:pt x="182987" y="442913"/>
                    <a:pt x="185727" y="447437"/>
                    <a:pt x="186162" y="452438"/>
                  </a:cubicBezTo>
                  <a:cubicBezTo>
                    <a:pt x="188916" y="484108"/>
                    <a:pt x="182023" y="517170"/>
                    <a:pt x="190924" y="547688"/>
                  </a:cubicBezTo>
                  <a:cubicBezTo>
                    <a:pt x="194452" y="559783"/>
                    <a:pt x="221455" y="567390"/>
                    <a:pt x="233787" y="571500"/>
                  </a:cubicBezTo>
                  <a:cubicBezTo>
                    <a:pt x="260774" y="569913"/>
                    <a:pt x="288295" y="572307"/>
                    <a:pt x="314749" y="566738"/>
                  </a:cubicBezTo>
                  <a:cubicBezTo>
                    <a:pt x="320350" y="565559"/>
                    <a:pt x="321949" y="557681"/>
                    <a:pt x="324274" y="552450"/>
                  </a:cubicBezTo>
                  <a:cubicBezTo>
                    <a:pt x="328352" y="543275"/>
                    <a:pt x="330624" y="533400"/>
                    <a:pt x="333799" y="523875"/>
                  </a:cubicBezTo>
                  <a:cubicBezTo>
                    <a:pt x="337672" y="512256"/>
                    <a:pt x="338856" y="504531"/>
                    <a:pt x="348087" y="495300"/>
                  </a:cubicBezTo>
                  <a:cubicBezTo>
                    <a:pt x="352134" y="491253"/>
                    <a:pt x="357612" y="488950"/>
                    <a:pt x="362374" y="485775"/>
                  </a:cubicBezTo>
                  <a:cubicBezTo>
                    <a:pt x="403649" y="487363"/>
                    <a:pt x="444991" y="487696"/>
                    <a:pt x="486199" y="490538"/>
                  </a:cubicBezTo>
                  <a:cubicBezTo>
                    <a:pt x="491207" y="490883"/>
                    <a:pt x="495660" y="493921"/>
                    <a:pt x="500487" y="495300"/>
                  </a:cubicBezTo>
                  <a:cubicBezTo>
                    <a:pt x="506781" y="497098"/>
                    <a:pt x="513268" y="498182"/>
                    <a:pt x="519537" y="500063"/>
                  </a:cubicBezTo>
                  <a:cubicBezTo>
                    <a:pt x="529154" y="502948"/>
                    <a:pt x="538587" y="506413"/>
                    <a:pt x="548112" y="509588"/>
                  </a:cubicBezTo>
                  <a:cubicBezTo>
                    <a:pt x="552874" y="511175"/>
                    <a:pt x="557477" y="513365"/>
                    <a:pt x="562399" y="514350"/>
                  </a:cubicBezTo>
                  <a:cubicBezTo>
                    <a:pt x="570337" y="515938"/>
                    <a:pt x="578402" y="516983"/>
                    <a:pt x="586212" y="519113"/>
                  </a:cubicBezTo>
                  <a:cubicBezTo>
                    <a:pt x="595898" y="521755"/>
                    <a:pt x="614787" y="528638"/>
                    <a:pt x="614787" y="528638"/>
                  </a:cubicBezTo>
                  <a:cubicBezTo>
                    <a:pt x="618494" y="532345"/>
                    <a:pt x="637770" y="549753"/>
                    <a:pt x="638599" y="557213"/>
                  </a:cubicBezTo>
                  <a:cubicBezTo>
                    <a:pt x="639502" y="565338"/>
                    <a:pt x="635278" y="593221"/>
                    <a:pt x="624312" y="600075"/>
                  </a:cubicBezTo>
                  <a:cubicBezTo>
                    <a:pt x="615798" y="605396"/>
                    <a:pt x="605262" y="606425"/>
                    <a:pt x="595737" y="609600"/>
                  </a:cubicBezTo>
                  <a:cubicBezTo>
                    <a:pt x="585063" y="613158"/>
                    <a:pt x="573511" y="617415"/>
                    <a:pt x="562399" y="619125"/>
                  </a:cubicBezTo>
                  <a:cubicBezTo>
                    <a:pt x="548191" y="621311"/>
                    <a:pt x="533824" y="622300"/>
                    <a:pt x="519537" y="623888"/>
                  </a:cubicBezTo>
                  <a:cubicBezTo>
                    <a:pt x="471481" y="639904"/>
                    <a:pt x="546050" y="615457"/>
                    <a:pt x="486199" y="633413"/>
                  </a:cubicBezTo>
                  <a:cubicBezTo>
                    <a:pt x="476582" y="636298"/>
                    <a:pt x="465978" y="637369"/>
                    <a:pt x="457624" y="642938"/>
                  </a:cubicBezTo>
                  <a:lnTo>
                    <a:pt x="429049" y="661988"/>
                  </a:lnTo>
                  <a:lnTo>
                    <a:pt x="414762" y="671513"/>
                  </a:lnTo>
                  <a:lnTo>
                    <a:pt x="395712" y="700088"/>
                  </a:lnTo>
                  <a:cubicBezTo>
                    <a:pt x="392537" y="704850"/>
                    <a:pt x="390234" y="710328"/>
                    <a:pt x="386187" y="714375"/>
                  </a:cubicBezTo>
                  <a:cubicBezTo>
                    <a:pt x="381424" y="719138"/>
                    <a:pt x="376034" y="723346"/>
                    <a:pt x="371899" y="728663"/>
                  </a:cubicBezTo>
                  <a:cubicBezTo>
                    <a:pt x="364871" y="737699"/>
                    <a:pt x="359199" y="747713"/>
                    <a:pt x="352849" y="757238"/>
                  </a:cubicBezTo>
                  <a:lnTo>
                    <a:pt x="343324" y="771525"/>
                  </a:lnTo>
                  <a:cubicBezTo>
                    <a:pt x="339927" y="781718"/>
                    <a:pt x="337727" y="792496"/>
                    <a:pt x="329037" y="800100"/>
                  </a:cubicBezTo>
                  <a:cubicBezTo>
                    <a:pt x="320422" y="807638"/>
                    <a:pt x="300462" y="819150"/>
                    <a:pt x="300462" y="819150"/>
                  </a:cubicBezTo>
                  <a:cubicBezTo>
                    <a:pt x="297287" y="823913"/>
                    <a:pt x="295407" y="829862"/>
                    <a:pt x="290937" y="833438"/>
                  </a:cubicBezTo>
                  <a:cubicBezTo>
                    <a:pt x="287017" y="836574"/>
                    <a:pt x="277175" y="833207"/>
                    <a:pt x="276649" y="838200"/>
                  </a:cubicBezTo>
                  <a:cubicBezTo>
                    <a:pt x="273653" y="866662"/>
                    <a:pt x="278699" y="895435"/>
                    <a:pt x="281412" y="923925"/>
                  </a:cubicBezTo>
                  <a:cubicBezTo>
                    <a:pt x="281888" y="928923"/>
                    <a:pt x="283038" y="934293"/>
                    <a:pt x="286174" y="938213"/>
                  </a:cubicBezTo>
                  <a:cubicBezTo>
                    <a:pt x="294407" y="948504"/>
                    <a:pt x="320307" y="954353"/>
                    <a:pt x="329037" y="957263"/>
                  </a:cubicBezTo>
                  <a:lnTo>
                    <a:pt x="343324" y="962025"/>
                  </a:lnTo>
                  <a:cubicBezTo>
                    <a:pt x="348087" y="963613"/>
                    <a:pt x="352660" y="965963"/>
                    <a:pt x="357612" y="966788"/>
                  </a:cubicBezTo>
                  <a:lnTo>
                    <a:pt x="386187" y="971550"/>
                  </a:lnTo>
                  <a:cubicBezTo>
                    <a:pt x="389983" y="1009518"/>
                    <a:pt x="387743" y="1010331"/>
                    <a:pt x="395712" y="1038225"/>
                  </a:cubicBezTo>
                  <a:cubicBezTo>
                    <a:pt x="397091" y="1043052"/>
                    <a:pt x="398036" y="1048125"/>
                    <a:pt x="400474" y="1052513"/>
                  </a:cubicBezTo>
                  <a:cubicBezTo>
                    <a:pt x="406033" y="1062520"/>
                    <a:pt x="415903" y="1070228"/>
                    <a:pt x="419524" y="1081088"/>
                  </a:cubicBezTo>
                  <a:cubicBezTo>
                    <a:pt x="426097" y="1100805"/>
                    <a:pt x="421502" y="1091198"/>
                    <a:pt x="433812" y="1109663"/>
                  </a:cubicBezTo>
                  <a:cubicBezTo>
                    <a:pt x="435399" y="1114425"/>
                    <a:pt x="436136" y="1119562"/>
                    <a:pt x="438574" y="1123950"/>
                  </a:cubicBezTo>
                  <a:cubicBezTo>
                    <a:pt x="444133" y="1133957"/>
                    <a:pt x="454004" y="1141665"/>
                    <a:pt x="457624" y="1152525"/>
                  </a:cubicBezTo>
                  <a:cubicBezTo>
                    <a:pt x="459212" y="1157288"/>
                    <a:pt x="459949" y="1162424"/>
                    <a:pt x="462387" y="1166813"/>
                  </a:cubicBezTo>
                  <a:cubicBezTo>
                    <a:pt x="467946" y="1176820"/>
                    <a:pt x="475087" y="1185863"/>
                    <a:pt x="481437" y="1195388"/>
                  </a:cubicBezTo>
                  <a:lnTo>
                    <a:pt x="490962" y="1209675"/>
                  </a:lnTo>
                  <a:cubicBezTo>
                    <a:pt x="500232" y="1237490"/>
                    <a:pt x="488470" y="1211947"/>
                    <a:pt x="510012" y="1233488"/>
                  </a:cubicBezTo>
                  <a:cubicBezTo>
                    <a:pt x="514059" y="1237535"/>
                    <a:pt x="515490" y="1243728"/>
                    <a:pt x="519537" y="1247775"/>
                  </a:cubicBezTo>
                  <a:cubicBezTo>
                    <a:pt x="533186" y="1261424"/>
                    <a:pt x="532618" y="1254316"/>
                    <a:pt x="548112" y="1262063"/>
                  </a:cubicBezTo>
                  <a:cubicBezTo>
                    <a:pt x="553231" y="1264623"/>
                    <a:pt x="557280" y="1269028"/>
                    <a:pt x="562399" y="1271588"/>
                  </a:cubicBezTo>
                  <a:cubicBezTo>
                    <a:pt x="566889" y="1273833"/>
                    <a:pt x="572026" y="1274486"/>
                    <a:pt x="576687" y="1276350"/>
                  </a:cubicBezTo>
                  <a:cubicBezTo>
                    <a:pt x="579983" y="1277668"/>
                    <a:pt x="583037" y="1279525"/>
                    <a:pt x="586212" y="128111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任意多边形 11"/>
            <p:cNvSpPr/>
            <p:nvPr/>
          </p:nvSpPr>
          <p:spPr>
            <a:xfrm>
              <a:off x="7567560" y="4252680"/>
              <a:ext cx="352440" cy="1218960"/>
            </a:xfrm>
            <a:custGeom>
              <a:avLst/>
              <a:gdLst/>
              <a:ahLst/>
              <a:rect l="l" t="t" r="r" b="b"/>
              <a:pathLst>
                <a:path w="352425" h="1219200">
                  <a:moveTo>
                    <a:pt x="252412" y="0"/>
                  </a:moveTo>
                  <a:cubicBezTo>
                    <a:pt x="254000" y="23812"/>
                    <a:pt x="253251" y="47897"/>
                    <a:pt x="257175" y="71437"/>
                  </a:cubicBezTo>
                  <a:cubicBezTo>
                    <a:pt x="258116" y="77083"/>
                    <a:pt x="264375" y="80494"/>
                    <a:pt x="266700" y="85725"/>
                  </a:cubicBezTo>
                  <a:cubicBezTo>
                    <a:pt x="270778" y="94900"/>
                    <a:pt x="273050" y="104775"/>
                    <a:pt x="276225" y="114300"/>
                  </a:cubicBezTo>
                  <a:lnTo>
                    <a:pt x="285750" y="142875"/>
                  </a:lnTo>
                  <a:lnTo>
                    <a:pt x="290512" y="157162"/>
                  </a:lnTo>
                  <a:cubicBezTo>
                    <a:pt x="288925" y="184150"/>
                    <a:pt x="288440" y="211225"/>
                    <a:pt x="285750" y="238125"/>
                  </a:cubicBezTo>
                  <a:cubicBezTo>
                    <a:pt x="283658" y="259041"/>
                    <a:pt x="281490" y="248958"/>
                    <a:pt x="266700" y="257175"/>
                  </a:cubicBezTo>
                  <a:cubicBezTo>
                    <a:pt x="241066" y="271417"/>
                    <a:pt x="241193" y="273158"/>
                    <a:pt x="223837" y="290512"/>
                  </a:cubicBezTo>
                  <a:cubicBezTo>
                    <a:pt x="218954" y="305162"/>
                    <a:pt x="214159" y="311675"/>
                    <a:pt x="223837" y="328612"/>
                  </a:cubicBezTo>
                  <a:cubicBezTo>
                    <a:pt x="226677" y="333582"/>
                    <a:pt x="233155" y="335297"/>
                    <a:pt x="238125" y="338137"/>
                  </a:cubicBezTo>
                  <a:cubicBezTo>
                    <a:pt x="244289" y="341659"/>
                    <a:pt x="250650" y="344865"/>
                    <a:pt x="257175" y="347662"/>
                  </a:cubicBezTo>
                  <a:cubicBezTo>
                    <a:pt x="261789" y="349640"/>
                    <a:pt x="266972" y="350180"/>
                    <a:pt x="271462" y="352425"/>
                  </a:cubicBezTo>
                  <a:cubicBezTo>
                    <a:pt x="308383" y="370886"/>
                    <a:pt x="264134" y="354745"/>
                    <a:pt x="300037" y="366712"/>
                  </a:cubicBezTo>
                  <a:cubicBezTo>
                    <a:pt x="309562" y="373062"/>
                    <a:pt x="322262" y="376237"/>
                    <a:pt x="328612" y="385762"/>
                  </a:cubicBezTo>
                  <a:cubicBezTo>
                    <a:pt x="350447" y="418514"/>
                    <a:pt x="344042" y="403477"/>
                    <a:pt x="352425" y="428625"/>
                  </a:cubicBezTo>
                  <a:cubicBezTo>
                    <a:pt x="350837" y="482600"/>
                    <a:pt x="351701" y="536703"/>
                    <a:pt x="347662" y="590550"/>
                  </a:cubicBezTo>
                  <a:cubicBezTo>
                    <a:pt x="346911" y="600562"/>
                    <a:pt x="343706" y="610771"/>
                    <a:pt x="338137" y="619125"/>
                  </a:cubicBezTo>
                  <a:cubicBezTo>
                    <a:pt x="327024" y="635794"/>
                    <a:pt x="323850" y="644523"/>
                    <a:pt x="300037" y="652462"/>
                  </a:cubicBezTo>
                  <a:cubicBezTo>
                    <a:pt x="295275" y="654050"/>
                    <a:pt x="290138" y="654787"/>
                    <a:pt x="285750" y="657225"/>
                  </a:cubicBezTo>
                  <a:cubicBezTo>
                    <a:pt x="275743" y="662785"/>
                    <a:pt x="257175" y="676275"/>
                    <a:pt x="257175" y="676275"/>
                  </a:cubicBezTo>
                  <a:lnTo>
                    <a:pt x="238125" y="704850"/>
                  </a:lnTo>
                  <a:cubicBezTo>
                    <a:pt x="234950" y="709612"/>
                    <a:pt x="230410" y="713707"/>
                    <a:pt x="228600" y="719137"/>
                  </a:cubicBezTo>
                  <a:cubicBezTo>
                    <a:pt x="223294" y="735053"/>
                    <a:pt x="223063" y="734527"/>
                    <a:pt x="219075" y="752475"/>
                  </a:cubicBezTo>
                  <a:cubicBezTo>
                    <a:pt x="217319" y="760377"/>
                    <a:pt x="216275" y="768434"/>
                    <a:pt x="214312" y="776287"/>
                  </a:cubicBezTo>
                  <a:cubicBezTo>
                    <a:pt x="213094" y="781157"/>
                    <a:pt x="210929" y="785748"/>
                    <a:pt x="209550" y="790575"/>
                  </a:cubicBezTo>
                  <a:cubicBezTo>
                    <a:pt x="195159" y="840945"/>
                    <a:pt x="217890" y="770314"/>
                    <a:pt x="195262" y="838200"/>
                  </a:cubicBezTo>
                  <a:cubicBezTo>
                    <a:pt x="195261" y="838204"/>
                    <a:pt x="185739" y="866772"/>
                    <a:pt x="185737" y="866775"/>
                  </a:cubicBezTo>
                  <a:lnTo>
                    <a:pt x="166687" y="895350"/>
                  </a:lnTo>
                  <a:cubicBezTo>
                    <a:pt x="163512" y="900112"/>
                    <a:pt x="162592" y="907827"/>
                    <a:pt x="157162" y="909637"/>
                  </a:cubicBezTo>
                  <a:lnTo>
                    <a:pt x="142875" y="914400"/>
                  </a:lnTo>
                  <a:cubicBezTo>
                    <a:pt x="139700" y="919162"/>
                    <a:pt x="138204" y="925654"/>
                    <a:pt x="133350" y="928687"/>
                  </a:cubicBezTo>
                  <a:cubicBezTo>
                    <a:pt x="124836" y="934008"/>
                    <a:pt x="104775" y="938212"/>
                    <a:pt x="104775" y="938212"/>
                  </a:cubicBezTo>
                  <a:cubicBezTo>
                    <a:pt x="101031" y="943828"/>
                    <a:pt x="89548" y="958338"/>
                    <a:pt x="90487" y="966787"/>
                  </a:cubicBezTo>
                  <a:cubicBezTo>
                    <a:pt x="94688" y="1004596"/>
                    <a:pt x="98510" y="984839"/>
                    <a:pt x="109537" y="1009650"/>
                  </a:cubicBezTo>
                  <a:cubicBezTo>
                    <a:pt x="113615" y="1018825"/>
                    <a:pt x="119062" y="1038225"/>
                    <a:pt x="119062" y="1038225"/>
                  </a:cubicBezTo>
                  <a:cubicBezTo>
                    <a:pt x="117475" y="1062037"/>
                    <a:pt x="123387" y="1087594"/>
                    <a:pt x="114300" y="1109662"/>
                  </a:cubicBezTo>
                  <a:cubicBezTo>
                    <a:pt x="110477" y="1118946"/>
                    <a:pt x="95250" y="1116012"/>
                    <a:pt x="85725" y="1119187"/>
                  </a:cubicBezTo>
                  <a:lnTo>
                    <a:pt x="57150" y="1128712"/>
                  </a:lnTo>
                  <a:cubicBezTo>
                    <a:pt x="52387" y="1130300"/>
                    <a:pt x="47039" y="1130690"/>
                    <a:pt x="42862" y="1133475"/>
                  </a:cubicBezTo>
                  <a:lnTo>
                    <a:pt x="28575" y="1143000"/>
                  </a:lnTo>
                  <a:cubicBezTo>
                    <a:pt x="18943" y="1157447"/>
                    <a:pt x="0" y="1180432"/>
                    <a:pt x="0" y="1200150"/>
                  </a:cubicBezTo>
                  <a:lnTo>
                    <a:pt x="0" y="12192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任意多边形 12"/>
            <p:cNvSpPr/>
            <p:nvPr/>
          </p:nvSpPr>
          <p:spPr>
            <a:xfrm>
              <a:off x="4809600" y="5481360"/>
              <a:ext cx="2762280" cy="771120"/>
            </a:xfrm>
            <a:custGeom>
              <a:avLst/>
              <a:gdLst/>
              <a:ahLst/>
              <a:rect l="l" t="t" r="r" b="b"/>
              <a:pathLst>
                <a:path w="2762250" h="771525">
                  <a:moveTo>
                    <a:pt x="2762250" y="0"/>
                  </a:moveTo>
                  <a:cubicBezTo>
                    <a:pt x="2757702" y="11369"/>
                    <a:pt x="2752711" y="28589"/>
                    <a:pt x="2743200" y="38100"/>
                  </a:cubicBezTo>
                  <a:cubicBezTo>
                    <a:pt x="2739153" y="42147"/>
                    <a:pt x="2734143" y="45300"/>
                    <a:pt x="2728913" y="47625"/>
                  </a:cubicBezTo>
                  <a:cubicBezTo>
                    <a:pt x="2719738" y="51703"/>
                    <a:pt x="2709863" y="53975"/>
                    <a:pt x="2700338" y="57150"/>
                  </a:cubicBezTo>
                  <a:lnTo>
                    <a:pt x="2686050" y="61912"/>
                  </a:lnTo>
                  <a:cubicBezTo>
                    <a:pt x="2681288" y="65087"/>
                    <a:pt x="2676993" y="69112"/>
                    <a:pt x="2671763" y="71437"/>
                  </a:cubicBezTo>
                  <a:cubicBezTo>
                    <a:pt x="2662588" y="75515"/>
                    <a:pt x="2643188" y="80962"/>
                    <a:pt x="2643188" y="80962"/>
                  </a:cubicBezTo>
                  <a:cubicBezTo>
                    <a:pt x="2638425" y="84137"/>
                    <a:pt x="2634131" y="88162"/>
                    <a:pt x="2628900" y="90487"/>
                  </a:cubicBezTo>
                  <a:cubicBezTo>
                    <a:pt x="2619725" y="94565"/>
                    <a:pt x="2600325" y="100012"/>
                    <a:pt x="2600325" y="100012"/>
                  </a:cubicBezTo>
                  <a:cubicBezTo>
                    <a:pt x="2590800" y="106362"/>
                    <a:pt x="2578100" y="109537"/>
                    <a:pt x="2571750" y="119062"/>
                  </a:cubicBezTo>
                  <a:lnTo>
                    <a:pt x="2552700" y="147637"/>
                  </a:lnTo>
                  <a:cubicBezTo>
                    <a:pt x="2543175" y="161924"/>
                    <a:pt x="2544762" y="163513"/>
                    <a:pt x="2528888" y="171450"/>
                  </a:cubicBezTo>
                  <a:cubicBezTo>
                    <a:pt x="2524398" y="173695"/>
                    <a:pt x="2519363" y="174625"/>
                    <a:pt x="2514600" y="176212"/>
                  </a:cubicBezTo>
                  <a:cubicBezTo>
                    <a:pt x="2497000" y="202612"/>
                    <a:pt x="2515145" y="181731"/>
                    <a:pt x="2490788" y="195262"/>
                  </a:cubicBezTo>
                  <a:cubicBezTo>
                    <a:pt x="2480781" y="200821"/>
                    <a:pt x="2462213" y="214312"/>
                    <a:pt x="2462213" y="214312"/>
                  </a:cubicBezTo>
                  <a:cubicBezTo>
                    <a:pt x="2449511" y="252415"/>
                    <a:pt x="2468564" y="207961"/>
                    <a:pt x="2443163" y="233362"/>
                  </a:cubicBezTo>
                  <a:cubicBezTo>
                    <a:pt x="2417764" y="258761"/>
                    <a:pt x="2462210" y="239714"/>
                    <a:pt x="2424113" y="252412"/>
                  </a:cubicBezTo>
                  <a:cubicBezTo>
                    <a:pt x="2422525" y="257175"/>
                    <a:pt x="2422900" y="263150"/>
                    <a:pt x="2419350" y="266700"/>
                  </a:cubicBezTo>
                  <a:cubicBezTo>
                    <a:pt x="2415800" y="270250"/>
                    <a:pt x="2409553" y="269217"/>
                    <a:pt x="2405063" y="271462"/>
                  </a:cubicBezTo>
                  <a:cubicBezTo>
                    <a:pt x="2399943" y="274022"/>
                    <a:pt x="2395538" y="277812"/>
                    <a:pt x="2390775" y="280987"/>
                  </a:cubicBezTo>
                  <a:cubicBezTo>
                    <a:pt x="2380385" y="312161"/>
                    <a:pt x="2394816" y="281564"/>
                    <a:pt x="2371725" y="300037"/>
                  </a:cubicBezTo>
                  <a:cubicBezTo>
                    <a:pt x="2340950" y="324657"/>
                    <a:pt x="2383825" y="307117"/>
                    <a:pt x="2347913" y="319087"/>
                  </a:cubicBezTo>
                  <a:cubicBezTo>
                    <a:pt x="2343150" y="322262"/>
                    <a:pt x="2338856" y="326287"/>
                    <a:pt x="2333625" y="328612"/>
                  </a:cubicBezTo>
                  <a:cubicBezTo>
                    <a:pt x="2295026" y="345767"/>
                    <a:pt x="2273007" y="340022"/>
                    <a:pt x="2224088" y="342900"/>
                  </a:cubicBezTo>
                  <a:cubicBezTo>
                    <a:pt x="2188181" y="354867"/>
                    <a:pt x="2232435" y="338726"/>
                    <a:pt x="2195513" y="357187"/>
                  </a:cubicBezTo>
                  <a:cubicBezTo>
                    <a:pt x="2191023" y="359432"/>
                    <a:pt x="2185715" y="359705"/>
                    <a:pt x="2181225" y="361950"/>
                  </a:cubicBezTo>
                  <a:cubicBezTo>
                    <a:pt x="2169771" y="367677"/>
                    <a:pt x="2166220" y="375439"/>
                    <a:pt x="2152650" y="376237"/>
                  </a:cubicBezTo>
                  <a:cubicBezTo>
                    <a:pt x="2103497" y="379128"/>
                    <a:pt x="2054225" y="379412"/>
                    <a:pt x="2005013" y="381000"/>
                  </a:cubicBezTo>
                  <a:cubicBezTo>
                    <a:pt x="1971008" y="392335"/>
                    <a:pt x="1984792" y="384956"/>
                    <a:pt x="1962150" y="400050"/>
                  </a:cubicBezTo>
                  <a:cubicBezTo>
                    <a:pt x="1960563" y="404812"/>
                    <a:pt x="1958767" y="409510"/>
                    <a:pt x="1957388" y="414337"/>
                  </a:cubicBezTo>
                  <a:cubicBezTo>
                    <a:pt x="1955590" y="420631"/>
                    <a:pt x="1956256" y="427941"/>
                    <a:pt x="1952625" y="433387"/>
                  </a:cubicBezTo>
                  <a:cubicBezTo>
                    <a:pt x="1949450" y="438149"/>
                    <a:pt x="1943100" y="439737"/>
                    <a:pt x="1938338" y="442912"/>
                  </a:cubicBezTo>
                  <a:cubicBezTo>
                    <a:pt x="1934941" y="453103"/>
                    <a:pt x="1932739" y="463884"/>
                    <a:pt x="1924050" y="471487"/>
                  </a:cubicBezTo>
                  <a:cubicBezTo>
                    <a:pt x="1915435" y="479025"/>
                    <a:pt x="1906335" y="486917"/>
                    <a:pt x="1895475" y="490537"/>
                  </a:cubicBezTo>
                  <a:cubicBezTo>
                    <a:pt x="1841253" y="508611"/>
                    <a:pt x="1876923" y="499472"/>
                    <a:pt x="1785938" y="504825"/>
                  </a:cubicBezTo>
                  <a:cubicBezTo>
                    <a:pt x="1776413" y="508000"/>
                    <a:pt x="1767104" y="511915"/>
                    <a:pt x="1757363" y="514350"/>
                  </a:cubicBezTo>
                  <a:cubicBezTo>
                    <a:pt x="1751013" y="515937"/>
                    <a:pt x="1744582" y="517231"/>
                    <a:pt x="1738313" y="519112"/>
                  </a:cubicBezTo>
                  <a:cubicBezTo>
                    <a:pt x="1728696" y="521997"/>
                    <a:pt x="1719263" y="525462"/>
                    <a:pt x="1709738" y="528637"/>
                  </a:cubicBezTo>
                  <a:cubicBezTo>
                    <a:pt x="1704975" y="530225"/>
                    <a:pt x="1700320" y="532182"/>
                    <a:pt x="1695450" y="533400"/>
                  </a:cubicBezTo>
                  <a:cubicBezTo>
                    <a:pt x="1682750" y="536575"/>
                    <a:pt x="1669059" y="537071"/>
                    <a:pt x="1657350" y="542925"/>
                  </a:cubicBezTo>
                  <a:cubicBezTo>
                    <a:pt x="1651000" y="546100"/>
                    <a:pt x="1644464" y="548928"/>
                    <a:pt x="1638300" y="552450"/>
                  </a:cubicBezTo>
                  <a:cubicBezTo>
                    <a:pt x="1633330" y="555290"/>
                    <a:pt x="1629243" y="559650"/>
                    <a:pt x="1624013" y="561975"/>
                  </a:cubicBezTo>
                  <a:cubicBezTo>
                    <a:pt x="1614838" y="566053"/>
                    <a:pt x="1603792" y="565931"/>
                    <a:pt x="1595438" y="571500"/>
                  </a:cubicBezTo>
                  <a:cubicBezTo>
                    <a:pt x="1562686" y="593335"/>
                    <a:pt x="1577723" y="586930"/>
                    <a:pt x="1552575" y="595312"/>
                  </a:cubicBezTo>
                  <a:cubicBezTo>
                    <a:pt x="1549400" y="600075"/>
                    <a:pt x="1547520" y="606024"/>
                    <a:pt x="1543050" y="609600"/>
                  </a:cubicBezTo>
                  <a:cubicBezTo>
                    <a:pt x="1539130" y="612736"/>
                    <a:pt x="1531681" y="610277"/>
                    <a:pt x="1528763" y="614362"/>
                  </a:cubicBezTo>
                  <a:cubicBezTo>
                    <a:pt x="1522927" y="622532"/>
                    <a:pt x="1522413" y="633412"/>
                    <a:pt x="1519238" y="642937"/>
                  </a:cubicBezTo>
                  <a:lnTo>
                    <a:pt x="1514475" y="657225"/>
                  </a:lnTo>
                  <a:lnTo>
                    <a:pt x="1509713" y="671512"/>
                  </a:lnTo>
                  <a:cubicBezTo>
                    <a:pt x="1511300" y="693737"/>
                    <a:pt x="1511872" y="716058"/>
                    <a:pt x="1514475" y="738187"/>
                  </a:cubicBezTo>
                  <a:cubicBezTo>
                    <a:pt x="1515812" y="749551"/>
                    <a:pt x="1525839" y="755398"/>
                    <a:pt x="1514475" y="766762"/>
                  </a:cubicBezTo>
                  <a:cubicBezTo>
                    <a:pt x="1510925" y="770312"/>
                    <a:pt x="1504950" y="769937"/>
                    <a:pt x="1500188" y="771525"/>
                  </a:cubicBezTo>
                  <a:cubicBezTo>
                    <a:pt x="1487488" y="769937"/>
                    <a:pt x="1473784" y="771960"/>
                    <a:pt x="1462088" y="766762"/>
                  </a:cubicBezTo>
                  <a:cubicBezTo>
                    <a:pt x="1457501" y="764723"/>
                    <a:pt x="1460461" y="756395"/>
                    <a:pt x="1457325" y="752475"/>
                  </a:cubicBezTo>
                  <a:cubicBezTo>
                    <a:pt x="1453749" y="748006"/>
                    <a:pt x="1447800" y="746125"/>
                    <a:pt x="1443038" y="742950"/>
                  </a:cubicBezTo>
                  <a:cubicBezTo>
                    <a:pt x="1434655" y="717802"/>
                    <a:pt x="1441060" y="732838"/>
                    <a:pt x="1419225" y="700087"/>
                  </a:cubicBezTo>
                  <a:lnTo>
                    <a:pt x="1409700" y="685800"/>
                  </a:lnTo>
                  <a:cubicBezTo>
                    <a:pt x="1393630" y="637589"/>
                    <a:pt x="1399405" y="667236"/>
                    <a:pt x="1404938" y="595312"/>
                  </a:cubicBezTo>
                  <a:cubicBezTo>
                    <a:pt x="1393964" y="551420"/>
                    <a:pt x="1408246" y="582858"/>
                    <a:pt x="1328738" y="571500"/>
                  </a:cubicBezTo>
                  <a:cubicBezTo>
                    <a:pt x="1318799" y="570080"/>
                    <a:pt x="1300163" y="561975"/>
                    <a:pt x="1300163" y="561975"/>
                  </a:cubicBezTo>
                  <a:cubicBezTo>
                    <a:pt x="1298575" y="557212"/>
                    <a:pt x="1298950" y="551237"/>
                    <a:pt x="1295400" y="547687"/>
                  </a:cubicBezTo>
                  <a:cubicBezTo>
                    <a:pt x="1291850" y="544137"/>
                    <a:pt x="1286112" y="543379"/>
                    <a:pt x="1281113" y="542925"/>
                  </a:cubicBezTo>
                  <a:cubicBezTo>
                    <a:pt x="1251033" y="540190"/>
                    <a:pt x="1220788" y="539750"/>
                    <a:pt x="1190625" y="538162"/>
                  </a:cubicBezTo>
                  <a:cubicBezTo>
                    <a:pt x="1182688" y="536575"/>
                    <a:pt x="1174622" y="535530"/>
                    <a:pt x="1166813" y="533400"/>
                  </a:cubicBezTo>
                  <a:cubicBezTo>
                    <a:pt x="1159446" y="531391"/>
                    <a:pt x="1130104" y="520061"/>
                    <a:pt x="1119188" y="519112"/>
                  </a:cubicBezTo>
                  <a:cubicBezTo>
                    <a:pt x="1089097" y="516495"/>
                    <a:pt x="1058863" y="515937"/>
                    <a:pt x="1028700" y="514350"/>
                  </a:cubicBezTo>
                  <a:cubicBezTo>
                    <a:pt x="1023938" y="511175"/>
                    <a:pt x="1018460" y="508872"/>
                    <a:pt x="1014413" y="504825"/>
                  </a:cubicBezTo>
                  <a:cubicBezTo>
                    <a:pt x="1005182" y="495593"/>
                    <a:pt x="1003999" y="487869"/>
                    <a:pt x="1000125" y="476250"/>
                  </a:cubicBezTo>
                  <a:cubicBezTo>
                    <a:pt x="998538" y="460375"/>
                    <a:pt x="997033" y="444492"/>
                    <a:pt x="995363" y="428625"/>
                  </a:cubicBezTo>
                  <a:cubicBezTo>
                    <a:pt x="993858" y="414328"/>
                    <a:pt x="995513" y="399272"/>
                    <a:pt x="990600" y="385762"/>
                  </a:cubicBezTo>
                  <a:cubicBezTo>
                    <a:pt x="988053" y="378757"/>
                    <a:pt x="967782" y="373394"/>
                    <a:pt x="962025" y="371475"/>
                  </a:cubicBezTo>
                  <a:cubicBezTo>
                    <a:pt x="957263" y="368300"/>
                    <a:pt x="952968" y="364275"/>
                    <a:pt x="947738" y="361950"/>
                  </a:cubicBezTo>
                  <a:cubicBezTo>
                    <a:pt x="938563" y="357872"/>
                    <a:pt x="928688" y="355600"/>
                    <a:pt x="919163" y="352425"/>
                  </a:cubicBezTo>
                  <a:cubicBezTo>
                    <a:pt x="914400" y="350837"/>
                    <a:pt x="909798" y="348646"/>
                    <a:pt x="904875" y="347662"/>
                  </a:cubicBezTo>
                  <a:cubicBezTo>
                    <a:pt x="896938" y="346075"/>
                    <a:pt x="888916" y="344863"/>
                    <a:pt x="881063" y="342900"/>
                  </a:cubicBezTo>
                  <a:cubicBezTo>
                    <a:pt x="876193" y="341682"/>
                    <a:pt x="871618" y="339458"/>
                    <a:pt x="866775" y="338137"/>
                  </a:cubicBezTo>
                  <a:cubicBezTo>
                    <a:pt x="854145" y="334692"/>
                    <a:pt x="828675" y="328612"/>
                    <a:pt x="828675" y="328612"/>
                  </a:cubicBezTo>
                  <a:cubicBezTo>
                    <a:pt x="823913" y="325437"/>
                    <a:pt x="818435" y="323134"/>
                    <a:pt x="814388" y="319087"/>
                  </a:cubicBezTo>
                  <a:cubicBezTo>
                    <a:pt x="810341" y="315040"/>
                    <a:pt x="809717" y="307833"/>
                    <a:pt x="804863" y="304800"/>
                  </a:cubicBezTo>
                  <a:cubicBezTo>
                    <a:pt x="796349" y="299479"/>
                    <a:pt x="776288" y="295275"/>
                    <a:pt x="776288" y="295275"/>
                  </a:cubicBezTo>
                  <a:cubicBezTo>
                    <a:pt x="754063" y="296862"/>
                    <a:pt x="731229" y="294633"/>
                    <a:pt x="709613" y="300037"/>
                  </a:cubicBezTo>
                  <a:cubicBezTo>
                    <a:pt x="698507" y="302813"/>
                    <a:pt x="681038" y="319087"/>
                    <a:pt x="681038" y="319087"/>
                  </a:cubicBezTo>
                  <a:cubicBezTo>
                    <a:pt x="677863" y="323850"/>
                    <a:pt x="676367" y="330341"/>
                    <a:pt x="671513" y="333375"/>
                  </a:cubicBezTo>
                  <a:cubicBezTo>
                    <a:pt x="662999" y="338696"/>
                    <a:pt x="652463" y="339725"/>
                    <a:pt x="642938" y="342900"/>
                  </a:cubicBezTo>
                  <a:lnTo>
                    <a:pt x="614363" y="352425"/>
                  </a:lnTo>
                  <a:cubicBezTo>
                    <a:pt x="609600" y="354013"/>
                    <a:pt x="605045" y="356477"/>
                    <a:pt x="600075" y="357187"/>
                  </a:cubicBezTo>
                  <a:lnTo>
                    <a:pt x="566738" y="361950"/>
                  </a:lnTo>
                  <a:cubicBezTo>
                    <a:pt x="547647" y="368313"/>
                    <a:pt x="549019" y="370331"/>
                    <a:pt x="523875" y="361950"/>
                  </a:cubicBezTo>
                  <a:cubicBezTo>
                    <a:pt x="518445" y="360140"/>
                    <a:pt x="514818" y="354750"/>
                    <a:pt x="509588" y="352425"/>
                  </a:cubicBezTo>
                  <a:cubicBezTo>
                    <a:pt x="500413" y="348347"/>
                    <a:pt x="481013" y="342900"/>
                    <a:pt x="481013" y="342900"/>
                  </a:cubicBezTo>
                  <a:cubicBezTo>
                    <a:pt x="473075" y="344487"/>
                    <a:pt x="463590" y="342692"/>
                    <a:pt x="457200" y="347662"/>
                  </a:cubicBezTo>
                  <a:cubicBezTo>
                    <a:pt x="448164" y="354690"/>
                    <a:pt x="447675" y="369887"/>
                    <a:pt x="438150" y="376237"/>
                  </a:cubicBezTo>
                  <a:lnTo>
                    <a:pt x="423863" y="385762"/>
                  </a:lnTo>
                  <a:cubicBezTo>
                    <a:pt x="401638" y="384175"/>
                    <a:pt x="378992" y="385590"/>
                    <a:pt x="357188" y="381000"/>
                  </a:cubicBezTo>
                  <a:cubicBezTo>
                    <a:pt x="348130" y="379093"/>
                    <a:pt x="341467" y="371208"/>
                    <a:pt x="333375" y="366712"/>
                  </a:cubicBezTo>
                  <a:cubicBezTo>
                    <a:pt x="327169" y="363264"/>
                    <a:pt x="320675" y="360362"/>
                    <a:pt x="314325" y="357187"/>
                  </a:cubicBezTo>
                  <a:cubicBezTo>
                    <a:pt x="307975" y="358775"/>
                    <a:pt x="299535" y="356980"/>
                    <a:pt x="295275" y="361950"/>
                  </a:cubicBezTo>
                  <a:cubicBezTo>
                    <a:pt x="288741" y="369573"/>
                    <a:pt x="285750" y="390525"/>
                    <a:pt x="285750" y="390525"/>
                  </a:cubicBezTo>
                  <a:cubicBezTo>
                    <a:pt x="284163" y="409575"/>
                    <a:pt x="286610" y="429404"/>
                    <a:pt x="280988" y="447675"/>
                  </a:cubicBezTo>
                  <a:cubicBezTo>
                    <a:pt x="279512" y="452473"/>
                    <a:pt x="267363" y="447461"/>
                    <a:pt x="266700" y="452437"/>
                  </a:cubicBezTo>
                  <a:cubicBezTo>
                    <a:pt x="260612" y="498098"/>
                    <a:pt x="263525" y="544512"/>
                    <a:pt x="261938" y="590550"/>
                  </a:cubicBezTo>
                  <a:cubicBezTo>
                    <a:pt x="242888" y="588962"/>
                    <a:pt x="223533" y="589536"/>
                    <a:pt x="204788" y="585787"/>
                  </a:cubicBezTo>
                  <a:cubicBezTo>
                    <a:pt x="199175" y="584664"/>
                    <a:pt x="195620" y="578822"/>
                    <a:pt x="190500" y="576262"/>
                  </a:cubicBezTo>
                  <a:cubicBezTo>
                    <a:pt x="186010" y="574017"/>
                    <a:pt x="180975" y="573087"/>
                    <a:pt x="176213" y="571500"/>
                  </a:cubicBezTo>
                  <a:cubicBezTo>
                    <a:pt x="144257" y="550197"/>
                    <a:pt x="175567" y="575293"/>
                    <a:pt x="157163" y="547687"/>
                  </a:cubicBezTo>
                  <a:cubicBezTo>
                    <a:pt x="153427" y="542083"/>
                    <a:pt x="147187" y="538574"/>
                    <a:pt x="142875" y="533400"/>
                  </a:cubicBezTo>
                  <a:cubicBezTo>
                    <a:pt x="139211" y="529003"/>
                    <a:pt x="138204" y="522146"/>
                    <a:pt x="133350" y="519112"/>
                  </a:cubicBezTo>
                  <a:cubicBezTo>
                    <a:pt x="109830" y="504412"/>
                    <a:pt x="56661" y="506151"/>
                    <a:pt x="38100" y="504825"/>
                  </a:cubicBezTo>
                  <a:cubicBezTo>
                    <a:pt x="33338" y="503237"/>
                    <a:pt x="28303" y="502307"/>
                    <a:pt x="23813" y="500062"/>
                  </a:cubicBezTo>
                  <a:cubicBezTo>
                    <a:pt x="18693" y="497502"/>
                    <a:pt x="14433" y="493482"/>
                    <a:pt x="9525" y="490537"/>
                  </a:cubicBezTo>
                  <a:cubicBezTo>
                    <a:pt x="6481" y="488711"/>
                    <a:pt x="3175" y="487362"/>
                    <a:pt x="0" y="485775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任意多边形 13"/>
            <p:cNvSpPr/>
            <p:nvPr/>
          </p:nvSpPr>
          <p:spPr>
            <a:xfrm>
              <a:off x="2566440" y="4404960"/>
              <a:ext cx="2243160" cy="1580760"/>
            </a:xfrm>
            <a:custGeom>
              <a:avLst/>
              <a:gdLst/>
              <a:ahLst/>
              <a:rect l="l" t="t" r="r" b="b"/>
              <a:pathLst>
                <a:path w="2243137" h="1581150">
                  <a:moveTo>
                    <a:pt x="2243137" y="1581150"/>
                  </a:moveTo>
                  <a:cubicBezTo>
                    <a:pt x="2239962" y="1573212"/>
                    <a:pt x="2235403" y="1565696"/>
                    <a:pt x="2233612" y="1557337"/>
                  </a:cubicBezTo>
                  <a:cubicBezTo>
                    <a:pt x="2230600" y="1543281"/>
                    <a:pt x="2235279" y="1527333"/>
                    <a:pt x="2228850" y="1514475"/>
                  </a:cubicBezTo>
                  <a:cubicBezTo>
                    <a:pt x="2225923" y="1508621"/>
                    <a:pt x="2216288" y="1510577"/>
                    <a:pt x="2209800" y="1509712"/>
                  </a:cubicBezTo>
                  <a:cubicBezTo>
                    <a:pt x="2192419" y="1507395"/>
                    <a:pt x="2174875" y="1506537"/>
                    <a:pt x="2157412" y="1504950"/>
                  </a:cubicBezTo>
                  <a:cubicBezTo>
                    <a:pt x="2146765" y="1502288"/>
                    <a:pt x="2116742" y="1495299"/>
                    <a:pt x="2109787" y="1490662"/>
                  </a:cubicBezTo>
                  <a:lnTo>
                    <a:pt x="2095500" y="1481137"/>
                  </a:lnTo>
                  <a:cubicBezTo>
                    <a:pt x="2104189" y="1468104"/>
                    <a:pt x="2104274" y="1464009"/>
                    <a:pt x="2119312" y="1457325"/>
                  </a:cubicBezTo>
                  <a:cubicBezTo>
                    <a:pt x="2128487" y="1453247"/>
                    <a:pt x="2147887" y="1447800"/>
                    <a:pt x="2147887" y="1447800"/>
                  </a:cubicBezTo>
                  <a:cubicBezTo>
                    <a:pt x="2169325" y="1383487"/>
                    <a:pt x="2145577" y="1462431"/>
                    <a:pt x="2162175" y="1357312"/>
                  </a:cubicBezTo>
                  <a:cubicBezTo>
                    <a:pt x="2163741" y="1347395"/>
                    <a:pt x="2171700" y="1328737"/>
                    <a:pt x="2171700" y="1328737"/>
                  </a:cubicBezTo>
                  <a:cubicBezTo>
                    <a:pt x="2161786" y="1289084"/>
                    <a:pt x="2173858" y="1328294"/>
                    <a:pt x="2157412" y="1295400"/>
                  </a:cubicBezTo>
                  <a:cubicBezTo>
                    <a:pt x="2155167" y="1290910"/>
                    <a:pt x="2155088" y="1285500"/>
                    <a:pt x="2152650" y="1281112"/>
                  </a:cubicBezTo>
                  <a:cubicBezTo>
                    <a:pt x="2147091" y="1271105"/>
                    <a:pt x="2137221" y="1263397"/>
                    <a:pt x="2133600" y="1252537"/>
                  </a:cubicBezTo>
                  <a:cubicBezTo>
                    <a:pt x="2127027" y="1232820"/>
                    <a:pt x="2133014" y="1241035"/>
                    <a:pt x="2114550" y="1228725"/>
                  </a:cubicBezTo>
                  <a:cubicBezTo>
                    <a:pt x="2112962" y="1222375"/>
                    <a:pt x="2115233" y="1213306"/>
                    <a:pt x="2109787" y="1209675"/>
                  </a:cubicBezTo>
                  <a:cubicBezTo>
                    <a:pt x="2098895" y="1202414"/>
                    <a:pt x="2084106" y="1204290"/>
                    <a:pt x="2071687" y="1200150"/>
                  </a:cubicBezTo>
                  <a:cubicBezTo>
                    <a:pt x="2009945" y="1179569"/>
                    <a:pt x="2053142" y="1191081"/>
                    <a:pt x="1938337" y="1185862"/>
                  </a:cubicBezTo>
                  <a:cubicBezTo>
                    <a:pt x="1933575" y="1182687"/>
                    <a:pt x="1925622" y="1181840"/>
                    <a:pt x="1924050" y="1176337"/>
                  </a:cubicBezTo>
                  <a:cubicBezTo>
                    <a:pt x="1921826" y="1168554"/>
                    <a:pt x="1926682" y="1160334"/>
                    <a:pt x="1928812" y="1152525"/>
                  </a:cubicBezTo>
                  <a:cubicBezTo>
                    <a:pt x="1933862" y="1134006"/>
                    <a:pt x="1936351" y="1123475"/>
                    <a:pt x="1947862" y="1109662"/>
                  </a:cubicBezTo>
                  <a:cubicBezTo>
                    <a:pt x="1952174" y="1104488"/>
                    <a:pt x="1958015" y="1100691"/>
                    <a:pt x="1962150" y="1095375"/>
                  </a:cubicBezTo>
                  <a:cubicBezTo>
                    <a:pt x="1969178" y="1086339"/>
                    <a:pt x="1981200" y="1066800"/>
                    <a:pt x="1981200" y="1066800"/>
                  </a:cubicBezTo>
                  <a:lnTo>
                    <a:pt x="1990725" y="1038225"/>
                  </a:lnTo>
                  <a:cubicBezTo>
                    <a:pt x="1992312" y="1033462"/>
                    <a:pt x="1994269" y="1028807"/>
                    <a:pt x="1995487" y="1023937"/>
                  </a:cubicBezTo>
                  <a:cubicBezTo>
                    <a:pt x="2010377" y="964382"/>
                    <a:pt x="1991347" y="1038426"/>
                    <a:pt x="2005012" y="990600"/>
                  </a:cubicBezTo>
                  <a:cubicBezTo>
                    <a:pt x="2006810" y="984306"/>
                    <a:pt x="2007197" y="977566"/>
                    <a:pt x="2009775" y="971550"/>
                  </a:cubicBezTo>
                  <a:cubicBezTo>
                    <a:pt x="2012030" y="966289"/>
                    <a:pt x="2016125" y="962025"/>
                    <a:pt x="2019300" y="957262"/>
                  </a:cubicBezTo>
                  <a:cubicBezTo>
                    <a:pt x="2020887" y="950912"/>
                    <a:pt x="2021135" y="944066"/>
                    <a:pt x="2024062" y="938212"/>
                  </a:cubicBezTo>
                  <a:cubicBezTo>
                    <a:pt x="2037952" y="910431"/>
                    <a:pt x="2037754" y="913209"/>
                    <a:pt x="2057400" y="900112"/>
                  </a:cubicBezTo>
                  <a:cubicBezTo>
                    <a:pt x="2058927" y="894002"/>
                    <a:pt x="2063506" y="873612"/>
                    <a:pt x="2066925" y="866775"/>
                  </a:cubicBezTo>
                  <a:cubicBezTo>
                    <a:pt x="2069485" y="861655"/>
                    <a:pt x="2073275" y="857250"/>
                    <a:pt x="2076450" y="852487"/>
                  </a:cubicBezTo>
                  <a:cubicBezTo>
                    <a:pt x="2078037" y="847725"/>
                    <a:pt x="2078967" y="842690"/>
                    <a:pt x="2081212" y="838200"/>
                  </a:cubicBezTo>
                  <a:cubicBezTo>
                    <a:pt x="2095125" y="810373"/>
                    <a:pt x="2087521" y="837552"/>
                    <a:pt x="2095500" y="809625"/>
                  </a:cubicBezTo>
                  <a:cubicBezTo>
                    <a:pt x="2097298" y="803331"/>
                    <a:pt x="2098464" y="796869"/>
                    <a:pt x="2100262" y="790575"/>
                  </a:cubicBezTo>
                  <a:cubicBezTo>
                    <a:pt x="2101641" y="785748"/>
                    <a:pt x="2103646" y="781114"/>
                    <a:pt x="2105025" y="776287"/>
                  </a:cubicBezTo>
                  <a:cubicBezTo>
                    <a:pt x="2119419" y="725907"/>
                    <a:pt x="2096677" y="796564"/>
                    <a:pt x="2119312" y="728662"/>
                  </a:cubicBezTo>
                  <a:cubicBezTo>
                    <a:pt x="2120900" y="723900"/>
                    <a:pt x="2121290" y="718552"/>
                    <a:pt x="2124075" y="714375"/>
                  </a:cubicBezTo>
                  <a:lnTo>
                    <a:pt x="2133600" y="700087"/>
                  </a:lnTo>
                  <a:cubicBezTo>
                    <a:pt x="2132012" y="687387"/>
                    <a:pt x="2134035" y="673683"/>
                    <a:pt x="2128837" y="661987"/>
                  </a:cubicBezTo>
                  <a:cubicBezTo>
                    <a:pt x="2126798" y="657400"/>
                    <a:pt x="2119164" y="659202"/>
                    <a:pt x="2114550" y="657225"/>
                  </a:cubicBezTo>
                  <a:cubicBezTo>
                    <a:pt x="2108024" y="654428"/>
                    <a:pt x="2102092" y="650337"/>
                    <a:pt x="2095500" y="647700"/>
                  </a:cubicBezTo>
                  <a:cubicBezTo>
                    <a:pt x="2086178" y="643971"/>
                    <a:pt x="2076450" y="641350"/>
                    <a:pt x="2066925" y="638175"/>
                  </a:cubicBezTo>
                  <a:lnTo>
                    <a:pt x="2052637" y="633412"/>
                  </a:lnTo>
                  <a:lnTo>
                    <a:pt x="2038350" y="628650"/>
                  </a:lnTo>
                  <a:cubicBezTo>
                    <a:pt x="2037755" y="619733"/>
                    <a:pt x="2040186" y="565649"/>
                    <a:pt x="2028825" y="542925"/>
                  </a:cubicBezTo>
                  <a:cubicBezTo>
                    <a:pt x="2026265" y="537805"/>
                    <a:pt x="2022475" y="533400"/>
                    <a:pt x="2019300" y="528637"/>
                  </a:cubicBezTo>
                  <a:cubicBezTo>
                    <a:pt x="2000250" y="530225"/>
                    <a:pt x="1981098" y="530874"/>
                    <a:pt x="1962150" y="533400"/>
                  </a:cubicBezTo>
                  <a:cubicBezTo>
                    <a:pt x="1957174" y="534063"/>
                    <a:pt x="1951412" y="534612"/>
                    <a:pt x="1947862" y="538162"/>
                  </a:cubicBezTo>
                  <a:cubicBezTo>
                    <a:pt x="1922462" y="563562"/>
                    <a:pt x="1966913" y="544513"/>
                    <a:pt x="1928812" y="557212"/>
                  </a:cubicBezTo>
                  <a:cubicBezTo>
                    <a:pt x="1912937" y="555625"/>
                    <a:pt x="1896733" y="556037"/>
                    <a:pt x="1881187" y="552450"/>
                  </a:cubicBezTo>
                  <a:cubicBezTo>
                    <a:pt x="1875610" y="551163"/>
                    <a:pt x="1872019" y="545485"/>
                    <a:pt x="1866900" y="542925"/>
                  </a:cubicBezTo>
                  <a:cubicBezTo>
                    <a:pt x="1862410" y="540680"/>
                    <a:pt x="1857226" y="540140"/>
                    <a:pt x="1852612" y="538162"/>
                  </a:cubicBezTo>
                  <a:cubicBezTo>
                    <a:pt x="1811425" y="520510"/>
                    <a:pt x="1852775" y="535041"/>
                    <a:pt x="1819275" y="523875"/>
                  </a:cubicBezTo>
                  <a:cubicBezTo>
                    <a:pt x="1814512" y="520700"/>
                    <a:pt x="1810218" y="516675"/>
                    <a:pt x="1804987" y="514350"/>
                  </a:cubicBezTo>
                  <a:cubicBezTo>
                    <a:pt x="1795812" y="510272"/>
                    <a:pt x="1776412" y="504825"/>
                    <a:pt x="1776412" y="504825"/>
                  </a:cubicBezTo>
                  <a:cubicBezTo>
                    <a:pt x="1771650" y="501650"/>
                    <a:pt x="1767814" y="495932"/>
                    <a:pt x="1762125" y="495300"/>
                  </a:cubicBezTo>
                  <a:cubicBezTo>
                    <a:pt x="1757600" y="494797"/>
                    <a:pt x="1727633" y="500174"/>
                    <a:pt x="1719262" y="504825"/>
                  </a:cubicBezTo>
                  <a:cubicBezTo>
                    <a:pt x="1709255" y="510384"/>
                    <a:pt x="1701912" y="521630"/>
                    <a:pt x="1690687" y="523875"/>
                  </a:cubicBezTo>
                  <a:cubicBezTo>
                    <a:pt x="1674812" y="527050"/>
                    <a:pt x="1658768" y="529474"/>
                    <a:pt x="1643062" y="533400"/>
                  </a:cubicBezTo>
                  <a:cubicBezTo>
                    <a:pt x="1636712" y="534987"/>
                    <a:pt x="1630306" y="536364"/>
                    <a:pt x="1624012" y="538162"/>
                  </a:cubicBezTo>
                  <a:cubicBezTo>
                    <a:pt x="1619185" y="539541"/>
                    <a:pt x="1614595" y="541707"/>
                    <a:pt x="1609725" y="542925"/>
                  </a:cubicBezTo>
                  <a:cubicBezTo>
                    <a:pt x="1555871" y="556389"/>
                    <a:pt x="1618641" y="536776"/>
                    <a:pt x="1557337" y="557212"/>
                  </a:cubicBezTo>
                  <a:lnTo>
                    <a:pt x="1528762" y="566737"/>
                  </a:lnTo>
                  <a:cubicBezTo>
                    <a:pt x="1524000" y="568324"/>
                    <a:pt x="1518652" y="568715"/>
                    <a:pt x="1514475" y="571500"/>
                  </a:cubicBezTo>
                  <a:lnTo>
                    <a:pt x="1485900" y="590550"/>
                  </a:lnTo>
                  <a:cubicBezTo>
                    <a:pt x="1484312" y="595312"/>
                    <a:pt x="1484687" y="601287"/>
                    <a:pt x="1481137" y="604837"/>
                  </a:cubicBezTo>
                  <a:cubicBezTo>
                    <a:pt x="1477587" y="608387"/>
                    <a:pt x="1471340" y="607355"/>
                    <a:pt x="1466850" y="609600"/>
                  </a:cubicBezTo>
                  <a:cubicBezTo>
                    <a:pt x="1461730" y="612160"/>
                    <a:pt x="1457532" y="616285"/>
                    <a:pt x="1452562" y="619125"/>
                  </a:cubicBezTo>
                  <a:cubicBezTo>
                    <a:pt x="1432941" y="630337"/>
                    <a:pt x="1428355" y="630369"/>
                    <a:pt x="1404937" y="638175"/>
                  </a:cubicBezTo>
                  <a:cubicBezTo>
                    <a:pt x="1390101" y="643120"/>
                    <a:pt x="1384073" y="645785"/>
                    <a:pt x="1366837" y="647700"/>
                  </a:cubicBezTo>
                  <a:cubicBezTo>
                    <a:pt x="1346265" y="649986"/>
                    <a:pt x="1325562" y="650875"/>
                    <a:pt x="1304925" y="652462"/>
                  </a:cubicBezTo>
                  <a:cubicBezTo>
                    <a:pt x="1273175" y="650875"/>
                    <a:pt x="1240952" y="653387"/>
                    <a:pt x="1209675" y="647700"/>
                  </a:cubicBezTo>
                  <a:cubicBezTo>
                    <a:pt x="1204043" y="646676"/>
                    <a:pt x="1202475" y="638643"/>
                    <a:pt x="1200150" y="633412"/>
                  </a:cubicBezTo>
                  <a:cubicBezTo>
                    <a:pt x="1196072" y="624237"/>
                    <a:pt x="1190625" y="604837"/>
                    <a:pt x="1190625" y="604837"/>
                  </a:cubicBezTo>
                  <a:cubicBezTo>
                    <a:pt x="1189037" y="587375"/>
                    <a:pt x="1188342" y="569808"/>
                    <a:pt x="1185862" y="552450"/>
                  </a:cubicBezTo>
                  <a:cubicBezTo>
                    <a:pt x="1185152" y="547480"/>
                    <a:pt x="1184650" y="541712"/>
                    <a:pt x="1181100" y="538162"/>
                  </a:cubicBezTo>
                  <a:cubicBezTo>
                    <a:pt x="1177550" y="534612"/>
                    <a:pt x="1171575" y="534987"/>
                    <a:pt x="1166812" y="533400"/>
                  </a:cubicBezTo>
                  <a:cubicBezTo>
                    <a:pt x="1162050" y="530225"/>
                    <a:pt x="1157644" y="526435"/>
                    <a:pt x="1152525" y="523875"/>
                  </a:cubicBezTo>
                  <a:cubicBezTo>
                    <a:pt x="1148035" y="521630"/>
                    <a:pt x="1141155" y="523197"/>
                    <a:pt x="1138237" y="519112"/>
                  </a:cubicBezTo>
                  <a:cubicBezTo>
                    <a:pt x="1132429" y="510981"/>
                    <a:pt x="1127374" y="482902"/>
                    <a:pt x="1123950" y="471487"/>
                  </a:cubicBezTo>
                  <a:cubicBezTo>
                    <a:pt x="1121065" y="461870"/>
                    <a:pt x="1124166" y="445347"/>
                    <a:pt x="1114425" y="442912"/>
                  </a:cubicBezTo>
                  <a:lnTo>
                    <a:pt x="1095375" y="438150"/>
                  </a:lnTo>
                  <a:cubicBezTo>
                    <a:pt x="1090612" y="434975"/>
                    <a:pt x="1086207" y="431185"/>
                    <a:pt x="1081087" y="428625"/>
                  </a:cubicBezTo>
                  <a:cubicBezTo>
                    <a:pt x="1056236" y="416199"/>
                    <a:pt x="990587" y="419379"/>
                    <a:pt x="985837" y="419100"/>
                  </a:cubicBezTo>
                  <a:cubicBezTo>
                    <a:pt x="979487" y="417512"/>
                    <a:pt x="973081" y="416135"/>
                    <a:pt x="966787" y="414337"/>
                  </a:cubicBezTo>
                  <a:cubicBezTo>
                    <a:pt x="961960" y="412958"/>
                    <a:pt x="957520" y="409575"/>
                    <a:pt x="952500" y="409575"/>
                  </a:cubicBezTo>
                  <a:cubicBezTo>
                    <a:pt x="931801" y="409575"/>
                    <a:pt x="911225" y="412750"/>
                    <a:pt x="890587" y="414337"/>
                  </a:cubicBezTo>
                  <a:cubicBezTo>
                    <a:pt x="885825" y="415925"/>
                    <a:pt x="880790" y="416855"/>
                    <a:pt x="876300" y="419100"/>
                  </a:cubicBezTo>
                  <a:cubicBezTo>
                    <a:pt x="871180" y="421660"/>
                    <a:pt x="866670" y="425298"/>
                    <a:pt x="862012" y="428625"/>
                  </a:cubicBezTo>
                  <a:cubicBezTo>
                    <a:pt x="855553" y="433238"/>
                    <a:pt x="850061" y="439362"/>
                    <a:pt x="842962" y="442912"/>
                  </a:cubicBezTo>
                  <a:cubicBezTo>
                    <a:pt x="833982" y="447402"/>
                    <a:pt x="823367" y="447947"/>
                    <a:pt x="814387" y="452437"/>
                  </a:cubicBezTo>
                  <a:cubicBezTo>
                    <a:pt x="808037" y="455612"/>
                    <a:pt x="801984" y="459469"/>
                    <a:pt x="795337" y="461962"/>
                  </a:cubicBezTo>
                  <a:cubicBezTo>
                    <a:pt x="789208" y="464260"/>
                    <a:pt x="782556" y="464844"/>
                    <a:pt x="776287" y="466725"/>
                  </a:cubicBezTo>
                  <a:cubicBezTo>
                    <a:pt x="766670" y="469610"/>
                    <a:pt x="747712" y="476250"/>
                    <a:pt x="747712" y="476250"/>
                  </a:cubicBezTo>
                  <a:cubicBezTo>
                    <a:pt x="747663" y="475954"/>
                    <a:pt x="743125" y="439559"/>
                    <a:pt x="738187" y="433387"/>
                  </a:cubicBezTo>
                  <a:cubicBezTo>
                    <a:pt x="735053" y="429470"/>
                    <a:pt x="707858" y="414581"/>
                    <a:pt x="704850" y="414337"/>
                  </a:cubicBezTo>
                  <a:cubicBezTo>
                    <a:pt x="652610" y="410101"/>
                    <a:pt x="600075" y="411162"/>
                    <a:pt x="547687" y="409575"/>
                  </a:cubicBezTo>
                  <a:cubicBezTo>
                    <a:pt x="542925" y="407987"/>
                    <a:pt x="537320" y="407948"/>
                    <a:pt x="533400" y="404812"/>
                  </a:cubicBezTo>
                  <a:cubicBezTo>
                    <a:pt x="528931" y="401236"/>
                    <a:pt x="527922" y="394572"/>
                    <a:pt x="523875" y="390525"/>
                  </a:cubicBezTo>
                  <a:cubicBezTo>
                    <a:pt x="519827" y="386478"/>
                    <a:pt x="514350" y="384175"/>
                    <a:pt x="509587" y="381000"/>
                  </a:cubicBezTo>
                  <a:cubicBezTo>
                    <a:pt x="492126" y="354808"/>
                    <a:pt x="509585" y="377028"/>
                    <a:pt x="485775" y="357187"/>
                  </a:cubicBezTo>
                  <a:cubicBezTo>
                    <a:pt x="480601" y="352875"/>
                    <a:pt x="477091" y="346636"/>
                    <a:pt x="471487" y="342900"/>
                  </a:cubicBezTo>
                  <a:cubicBezTo>
                    <a:pt x="467310" y="340115"/>
                    <a:pt x="461690" y="340382"/>
                    <a:pt x="457200" y="338137"/>
                  </a:cubicBezTo>
                  <a:cubicBezTo>
                    <a:pt x="452080" y="335577"/>
                    <a:pt x="448291" y="330568"/>
                    <a:pt x="442912" y="328612"/>
                  </a:cubicBezTo>
                  <a:cubicBezTo>
                    <a:pt x="430609" y="324138"/>
                    <a:pt x="404812" y="319087"/>
                    <a:pt x="404812" y="319087"/>
                  </a:cubicBezTo>
                  <a:cubicBezTo>
                    <a:pt x="403225" y="314325"/>
                    <a:pt x="402295" y="309290"/>
                    <a:pt x="400050" y="304800"/>
                  </a:cubicBezTo>
                  <a:cubicBezTo>
                    <a:pt x="395656" y="296013"/>
                    <a:pt x="384139" y="281493"/>
                    <a:pt x="376237" y="276225"/>
                  </a:cubicBezTo>
                  <a:cubicBezTo>
                    <a:pt x="372060" y="273440"/>
                    <a:pt x="366712" y="273050"/>
                    <a:pt x="361950" y="271462"/>
                  </a:cubicBezTo>
                  <a:cubicBezTo>
                    <a:pt x="357187" y="266700"/>
                    <a:pt x="353550" y="260446"/>
                    <a:pt x="347662" y="257175"/>
                  </a:cubicBezTo>
                  <a:cubicBezTo>
                    <a:pt x="338885" y="252299"/>
                    <a:pt x="319087" y="247650"/>
                    <a:pt x="319087" y="247650"/>
                  </a:cubicBezTo>
                  <a:cubicBezTo>
                    <a:pt x="314325" y="244475"/>
                    <a:pt x="309197" y="241789"/>
                    <a:pt x="304800" y="238125"/>
                  </a:cubicBezTo>
                  <a:cubicBezTo>
                    <a:pt x="299626" y="233813"/>
                    <a:pt x="296116" y="227573"/>
                    <a:pt x="290512" y="223837"/>
                  </a:cubicBezTo>
                  <a:cubicBezTo>
                    <a:pt x="286335" y="221052"/>
                    <a:pt x="280987" y="220662"/>
                    <a:pt x="276225" y="219075"/>
                  </a:cubicBezTo>
                  <a:cubicBezTo>
                    <a:pt x="266700" y="212725"/>
                    <a:pt x="256808" y="206894"/>
                    <a:pt x="247650" y="200025"/>
                  </a:cubicBezTo>
                  <a:cubicBezTo>
                    <a:pt x="241300" y="195262"/>
                    <a:pt x="235492" y="189675"/>
                    <a:pt x="228600" y="185737"/>
                  </a:cubicBezTo>
                  <a:cubicBezTo>
                    <a:pt x="224241" y="183246"/>
                    <a:pt x="219075" y="182562"/>
                    <a:pt x="214312" y="180975"/>
                  </a:cubicBezTo>
                  <a:cubicBezTo>
                    <a:pt x="209550" y="177800"/>
                    <a:pt x="203601" y="175919"/>
                    <a:pt x="200025" y="171450"/>
                  </a:cubicBezTo>
                  <a:cubicBezTo>
                    <a:pt x="181553" y="148360"/>
                    <a:pt x="212145" y="162789"/>
                    <a:pt x="180975" y="152400"/>
                  </a:cubicBezTo>
                  <a:cubicBezTo>
                    <a:pt x="171450" y="146050"/>
                    <a:pt x="158750" y="142875"/>
                    <a:pt x="152400" y="133350"/>
                  </a:cubicBezTo>
                  <a:cubicBezTo>
                    <a:pt x="136525" y="109537"/>
                    <a:pt x="147637" y="122237"/>
                    <a:pt x="114300" y="100012"/>
                  </a:cubicBezTo>
                  <a:lnTo>
                    <a:pt x="100012" y="90487"/>
                  </a:lnTo>
                  <a:lnTo>
                    <a:pt x="85725" y="80962"/>
                  </a:lnTo>
                  <a:cubicBezTo>
                    <a:pt x="82550" y="76200"/>
                    <a:pt x="80508" y="70444"/>
                    <a:pt x="76200" y="66675"/>
                  </a:cubicBezTo>
                  <a:cubicBezTo>
                    <a:pt x="76195" y="66670"/>
                    <a:pt x="40484" y="42864"/>
                    <a:pt x="33337" y="38100"/>
                  </a:cubicBezTo>
                  <a:cubicBezTo>
                    <a:pt x="28575" y="34925"/>
                    <a:pt x="23097" y="32622"/>
                    <a:pt x="19050" y="28575"/>
                  </a:cubicBezTo>
                  <a:lnTo>
                    <a:pt x="4762" y="1428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任意多边形 14"/>
            <p:cNvSpPr/>
            <p:nvPr/>
          </p:nvSpPr>
          <p:spPr>
            <a:xfrm>
              <a:off x="1768320" y="2252520"/>
              <a:ext cx="1007640" cy="2152440"/>
            </a:xfrm>
            <a:custGeom>
              <a:avLst/>
              <a:gdLst/>
              <a:ahLst/>
              <a:rect l="l" t="t" r="r" b="b"/>
              <a:pathLst>
                <a:path w="1007819" h="2152650">
                  <a:moveTo>
                    <a:pt x="798269" y="2152650"/>
                  </a:moveTo>
                  <a:cubicBezTo>
                    <a:pt x="796681" y="2132012"/>
                    <a:pt x="796073" y="2111276"/>
                    <a:pt x="793506" y="2090737"/>
                  </a:cubicBezTo>
                  <a:cubicBezTo>
                    <a:pt x="792883" y="2085756"/>
                    <a:pt x="791880" y="2080370"/>
                    <a:pt x="788744" y="2076450"/>
                  </a:cubicBezTo>
                  <a:cubicBezTo>
                    <a:pt x="779646" y="2065078"/>
                    <a:pt x="771671" y="2067913"/>
                    <a:pt x="760169" y="2062162"/>
                  </a:cubicBezTo>
                  <a:cubicBezTo>
                    <a:pt x="723248" y="2043701"/>
                    <a:pt x="767497" y="2059842"/>
                    <a:pt x="731594" y="2047875"/>
                  </a:cubicBezTo>
                  <a:cubicBezTo>
                    <a:pt x="726831" y="2044700"/>
                    <a:pt x="722537" y="2040675"/>
                    <a:pt x="717306" y="2038350"/>
                  </a:cubicBezTo>
                  <a:cubicBezTo>
                    <a:pt x="708131" y="2034272"/>
                    <a:pt x="688731" y="2028825"/>
                    <a:pt x="688731" y="2028825"/>
                  </a:cubicBezTo>
                  <a:cubicBezTo>
                    <a:pt x="683969" y="2025650"/>
                    <a:pt x="679563" y="2021860"/>
                    <a:pt x="674444" y="2019300"/>
                  </a:cubicBezTo>
                  <a:cubicBezTo>
                    <a:pt x="659759" y="2011957"/>
                    <a:pt x="635194" y="2011417"/>
                    <a:pt x="622056" y="2009775"/>
                  </a:cubicBezTo>
                  <a:cubicBezTo>
                    <a:pt x="617294" y="2008187"/>
                    <a:pt x="612259" y="2007257"/>
                    <a:pt x="607769" y="2005012"/>
                  </a:cubicBezTo>
                  <a:cubicBezTo>
                    <a:pt x="590770" y="1996512"/>
                    <a:pt x="577532" y="1979538"/>
                    <a:pt x="564906" y="1966912"/>
                  </a:cubicBezTo>
                  <a:cubicBezTo>
                    <a:pt x="560144" y="1962150"/>
                    <a:pt x="554355" y="1958229"/>
                    <a:pt x="550619" y="1952625"/>
                  </a:cubicBezTo>
                  <a:cubicBezTo>
                    <a:pt x="547444" y="1947862"/>
                    <a:pt x="545402" y="1942106"/>
                    <a:pt x="541094" y="1938337"/>
                  </a:cubicBezTo>
                  <a:cubicBezTo>
                    <a:pt x="532479" y="1930799"/>
                    <a:pt x="522044" y="1925637"/>
                    <a:pt x="512519" y="1919287"/>
                  </a:cubicBezTo>
                  <a:cubicBezTo>
                    <a:pt x="507756" y="1916112"/>
                    <a:pt x="502810" y="1913196"/>
                    <a:pt x="498231" y="1909762"/>
                  </a:cubicBezTo>
                  <a:cubicBezTo>
                    <a:pt x="491881" y="1905000"/>
                    <a:pt x="486280" y="1899025"/>
                    <a:pt x="479181" y="1895475"/>
                  </a:cubicBezTo>
                  <a:cubicBezTo>
                    <a:pt x="473327" y="1892548"/>
                    <a:pt x="466481" y="1892300"/>
                    <a:pt x="460131" y="1890712"/>
                  </a:cubicBezTo>
                  <a:cubicBezTo>
                    <a:pt x="440219" y="1877438"/>
                    <a:pt x="431257" y="1874161"/>
                    <a:pt x="417269" y="1857375"/>
                  </a:cubicBezTo>
                  <a:cubicBezTo>
                    <a:pt x="404690" y="1842280"/>
                    <a:pt x="405141" y="1835278"/>
                    <a:pt x="398219" y="1814512"/>
                  </a:cubicBezTo>
                  <a:cubicBezTo>
                    <a:pt x="394136" y="1802263"/>
                    <a:pt x="391088" y="1794342"/>
                    <a:pt x="388694" y="1781175"/>
                  </a:cubicBezTo>
                  <a:cubicBezTo>
                    <a:pt x="386686" y="1770131"/>
                    <a:pt x="386455" y="1758775"/>
                    <a:pt x="383931" y="1747837"/>
                  </a:cubicBezTo>
                  <a:cubicBezTo>
                    <a:pt x="381673" y="1738054"/>
                    <a:pt x="377581" y="1728787"/>
                    <a:pt x="374406" y="1719262"/>
                  </a:cubicBezTo>
                  <a:lnTo>
                    <a:pt x="369644" y="1704975"/>
                  </a:lnTo>
                  <a:lnTo>
                    <a:pt x="364881" y="1690687"/>
                  </a:lnTo>
                  <a:cubicBezTo>
                    <a:pt x="366469" y="1644650"/>
                    <a:pt x="363556" y="1598236"/>
                    <a:pt x="369644" y="1552575"/>
                  </a:cubicBezTo>
                  <a:cubicBezTo>
                    <a:pt x="370307" y="1547599"/>
                    <a:pt x="378911" y="1547812"/>
                    <a:pt x="383931" y="1547812"/>
                  </a:cubicBezTo>
                  <a:cubicBezTo>
                    <a:pt x="390476" y="1547812"/>
                    <a:pt x="396631" y="1550987"/>
                    <a:pt x="402981" y="1552575"/>
                  </a:cubicBezTo>
                  <a:cubicBezTo>
                    <a:pt x="414316" y="1586580"/>
                    <a:pt x="404152" y="1575581"/>
                    <a:pt x="426794" y="1590675"/>
                  </a:cubicBezTo>
                  <a:cubicBezTo>
                    <a:pt x="429969" y="1595437"/>
                    <a:pt x="431005" y="1602836"/>
                    <a:pt x="436319" y="1604962"/>
                  </a:cubicBezTo>
                  <a:cubicBezTo>
                    <a:pt x="451260" y="1610938"/>
                    <a:pt x="453128" y="1592635"/>
                    <a:pt x="455369" y="1585912"/>
                  </a:cubicBezTo>
                  <a:cubicBezTo>
                    <a:pt x="453781" y="1558925"/>
                    <a:pt x="453296" y="1531850"/>
                    <a:pt x="450606" y="1504950"/>
                  </a:cubicBezTo>
                  <a:cubicBezTo>
                    <a:pt x="450106" y="1499955"/>
                    <a:pt x="447223" y="1495489"/>
                    <a:pt x="445844" y="1490662"/>
                  </a:cubicBezTo>
                  <a:cubicBezTo>
                    <a:pt x="433887" y="1448810"/>
                    <a:pt x="447735" y="1491574"/>
                    <a:pt x="436319" y="1457325"/>
                  </a:cubicBezTo>
                  <a:cubicBezTo>
                    <a:pt x="436915" y="1448384"/>
                    <a:pt x="434480" y="1394328"/>
                    <a:pt x="445844" y="1371600"/>
                  </a:cubicBezTo>
                  <a:cubicBezTo>
                    <a:pt x="448404" y="1366480"/>
                    <a:pt x="452194" y="1362075"/>
                    <a:pt x="455369" y="1357312"/>
                  </a:cubicBezTo>
                  <a:cubicBezTo>
                    <a:pt x="456956" y="1352550"/>
                    <a:pt x="460131" y="1348045"/>
                    <a:pt x="460131" y="1343025"/>
                  </a:cubicBezTo>
                  <a:cubicBezTo>
                    <a:pt x="460131" y="1307797"/>
                    <a:pt x="455815" y="1301498"/>
                    <a:pt x="445844" y="1271587"/>
                  </a:cubicBezTo>
                  <a:lnTo>
                    <a:pt x="441081" y="1257300"/>
                  </a:lnTo>
                  <a:lnTo>
                    <a:pt x="436319" y="1243012"/>
                  </a:lnTo>
                  <a:cubicBezTo>
                    <a:pt x="435352" y="1231404"/>
                    <a:pt x="433413" y="1181907"/>
                    <a:pt x="426794" y="1162050"/>
                  </a:cubicBezTo>
                  <a:cubicBezTo>
                    <a:pt x="424549" y="1155315"/>
                    <a:pt x="422289" y="1148020"/>
                    <a:pt x="417269" y="1143000"/>
                  </a:cubicBezTo>
                  <a:cubicBezTo>
                    <a:pt x="409174" y="1134905"/>
                    <a:pt x="396789" y="1132045"/>
                    <a:pt x="388694" y="1123950"/>
                  </a:cubicBezTo>
                  <a:cubicBezTo>
                    <a:pt x="370856" y="1106112"/>
                    <a:pt x="380796" y="1111792"/>
                    <a:pt x="360119" y="1104900"/>
                  </a:cubicBezTo>
                  <a:lnTo>
                    <a:pt x="317256" y="1076325"/>
                  </a:lnTo>
                  <a:lnTo>
                    <a:pt x="302969" y="1066800"/>
                  </a:lnTo>
                  <a:cubicBezTo>
                    <a:pt x="280744" y="1033462"/>
                    <a:pt x="293444" y="1044575"/>
                    <a:pt x="269631" y="1028700"/>
                  </a:cubicBezTo>
                  <a:cubicBezTo>
                    <a:pt x="266456" y="1023937"/>
                    <a:pt x="263909" y="1018690"/>
                    <a:pt x="260106" y="1014412"/>
                  </a:cubicBezTo>
                  <a:cubicBezTo>
                    <a:pt x="251157" y="1004344"/>
                    <a:pt x="239003" y="997045"/>
                    <a:pt x="231531" y="985837"/>
                  </a:cubicBezTo>
                  <a:cubicBezTo>
                    <a:pt x="218831" y="966788"/>
                    <a:pt x="226768" y="974725"/>
                    <a:pt x="207719" y="962025"/>
                  </a:cubicBezTo>
                  <a:cubicBezTo>
                    <a:pt x="206131" y="938212"/>
                    <a:pt x="208133" y="913884"/>
                    <a:pt x="202956" y="890587"/>
                  </a:cubicBezTo>
                  <a:cubicBezTo>
                    <a:pt x="199571" y="875353"/>
                    <a:pt x="184286" y="876490"/>
                    <a:pt x="174381" y="871537"/>
                  </a:cubicBezTo>
                  <a:cubicBezTo>
                    <a:pt x="169262" y="868977"/>
                    <a:pt x="164856" y="865187"/>
                    <a:pt x="160094" y="862012"/>
                  </a:cubicBezTo>
                  <a:cubicBezTo>
                    <a:pt x="134692" y="823910"/>
                    <a:pt x="168034" y="869953"/>
                    <a:pt x="136281" y="838200"/>
                  </a:cubicBezTo>
                  <a:cubicBezTo>
                    <a:pt x="114739" y="816658"/>
                    <a:pt x="140283" y="828421"/>
                    <a:pt x="112469" y="819150"/>
                  </a:cubicBezTo>
                  <a:lnTo>
                    <a:pt x="69606" y="790575"/>
                  </a:lnTo>
                  <a:lnTo>
                    <a:pt x="55319" y="781050"/>
                  </a:lnTo>
                  <a:cubicBezTo>
                    <a:pt x="53731" y="776287"/>
                    <a:pt x="50556" y="771782"/>
                    <a:pt x="50556" y="766762"/>
                  </a:cubicBezTo>
                  <a:cubicBezTo>
                    <a:pt x="50556" y="748280"/>
                    <a:pt x="60740" y="751127"/>
                    <a:pt x="74369" y="742950"/>
                  </a:cubicBezTo>
                  <a:cubicBezTo>
                    <a:pt x="84185" y="737060"/>
                    <a:pt x="93419" y="730250"/>
                    <a:pt x="102944" y="723900"/>
                  </a:cubicBezTo>
                  <a:lnTo>
                    <a:pt x="117231" y="714375"/>
                  </a:lnTo>
                  <a:cubicBezTo>
                    <a:pt x="132326" y="691732"/>
                    <a:pt x="124945" y="705519"/>
                    <a:pt x="136281" y="671512"/>
                  </a:cubicBezTo>
                  <a:lnTo>
                    <a:pt x="141044" y="657225"/>
                  </a:lnTo>
                  <a:cubicBezTo>
                    <a:pt x="139456" y="609600"/>
                    <a:pt x="142379" y="561610"/>
                    <a:pt x="136281" y="514350"/>
                  </a:cubicBezTo>
                  <a:cubicBezTo>
                    <a:pt x="135639" y="509371"/>
                    <a:pt x="126484" y="511832"/>
                    <a:pt x="121994" y="509587"/>
                  </a:cubicBezTo>
                  <a:cubicBezTo>
                    <a:pt x="116874" y="507027"/>
                    <a:pt x="112967" y="502317"/>
                    <a:pt x="107706" y="500062"/>
                  </a:cubicBezTo>
                  <a:cubicBezTo>
                    <a:pt x="91946" y="493308"/>
                    <a:pt x="49424" y="491376"/>
                    <a:pt x="41031" y="490537"/>
                  </a:cubicBezTo>
                  <a:cubicBezTo>
                    <a:pt x="-11908" y="472891"/>
                    <a:pt x="-6392" y="484924"/>
                    <a:pt x="17219" y="385762"/>
                  </a:cubicBezTo>
                  <a:cubicBezTo>
                    <a:pt x="18735" y="379395"/>
                    <a:pt x="29975" y="382798"/>
                    <a:pt x="36269" y="381000"/>
                  </a:cubicBezTo>
                  <a:cubicBezTo>
                    <a:pt x="41096" y="379621"/>
                    <a:pt x="45942" y="378215"/>
                    <a:pt x="50556" y="376237"/>
                  </a:cubicBezTo>
                  <a:cubicBezTo>
                    <a:pt x="57081" y="373440"/>
                    <a:pt x="63014" y="369349"/>
                    <a:pt x="69606" y="366712"/>
                  </a:cubicBezTo>
                  <a:cubicBezTo>
                    <a:pt x="69639" y="366699"/>
                    <a:pt x="105308" y="354812"/>
                    <a:pt x="112469" y="352425"/>
                  </a:cubicBezTo>
                  <a:lnTo>
                    <a:pt x="126756" y="347662"/>
                  </a:lnTo>
                  <a:lnTo>
                    <a:pt x="141044" y="342900"/>
                  </a:lnTo>
                  <a:lnTo>
                    <a:pt x="169619" y="323850"/>
                  </a:lnTo>
                  <a:cubicBezTo>
                    <a:pt x="174381" y="320675"/>
                    <a:pt x="178476" y="316135"/>
                    <a:pt x="183906" y="314325"/>
                  </a:cubicBezTo>
                  <a:cubicBezTo>
                    <a:pt x="188669" y="312737"/>
                    <a:pt x="193255" y="310460"/>
                    <a:pt x="198194" y="309562"/>
                  </a:cubicBezTo>
                  <a:cubicBezTo>
                    <a:pt x="225060" y="304677"/>
                    <a:pt x="274915" y="301829"/>
                    <a:pt x="298206" y="300037"/>
                  </a:cubicBezTo>
                  <a:cubicBezTo>
                    <a:pt x="302969" y="298450"/>
                    <a:pt x="308106" y="297713"/>
                    <a:pt x="312494" y="295275"/>
                  </a:cubicBezTo>
                  <a:cubicBezTo>
                    <a:pt x="322501" y="289716"/>
                    <a:pt x="341069" y="276225"/>
                    <a:pt x="341069" y="276225"/>
                  </a:cubicBezTo>
                  <a:cubicBezTo>
                    <a:pt x="345831" y="279400"/>
                    <a:pt x="351780" y="281281"/>
                    <a:pt x="355356" y="285750"/>
                  </a:cubicBezTo>
                  <a:cubicBezTo>
                    <a:pt x="358492" y="289670"/>
                    <a:pt x="355942" y="297252"/>
                    <a:pt x="360119" y="300037"/>
                  </a:cubicBezTo>
                  <a:cubicBezTo>
                    <a:pt x="366854" y="304527"/>
                    <a:pt x="375994" y="303212"/>
                    <a:pt x="383931" y="304800"/>
                  </a:cubicBezTo>
                  <a:cubicBezTo>
                    <a:pt x="412506" y="303212"/>
                    <a:pt x="441651" y="305933"/>
                    <a:pt x="469656" y="300037"/>
                  </a:cubicBezTo>
                  <a:cubicBezTo>
                    <a:pt x="474568" y="299003"/>
                    <a:pt x="472174" y="290240"/>
                    <a:pt x="474419" y="285750"/>
                  </a:cubicBezTo>
                  <a:cubicBezTo>
                    <a:pt x="483036" y="268516"/>
                    <a:pt x="481752" y="272193"/>
                    <a:pt x="498231" y="266700"/>
                  </a:cubicBezTo>
                  <a:cubicBezTo>
                    <a:pt x="530983" y="244865"/>
                    <a:pt x="515946" y="251270"/>
                    <a:pt x="541094" y="242887"/>
                  </a:cubicBezTo>
                  <a:cubicBezTo>
                    <a:pt x="555381" y="244475"/>
                    <a:pt x="569725" y="245617"/>
                    <a:pt x="583956" y="247650"/>
                  </a:cubicBezTo>
                  <a:cubicBezTo>
                    <a:pt x="599844" y="249920"/>
                    <a:pt x="627480" y="256982"/>
                    <a:pt x="641106" y="261937"/>
                  </a:cubicBezTo>
                  <a:cubicBezTo>
                    <a:pt x="680131" y="276128"/>
                    <a:pt x="642471" y="267505"/>
                    <a:pt x="674444" y="276225"/>
                  </a:cubicBezTo>
                  <a:cubicBezTo>
                    <a:pt x="733541" y="292343"/>
                    <a:pt x="693941" y="279549"/>
                    <a:pt x="726831" y="290512"/>
                  </a:cubicBezTo>
                  <a:cubicBezTo>
                    <a:pt x="734769" y="288925"/>
                    <a:pt x="743616" y="289766"/>
                    <a:pt x="750644" y="285750"/>
                  </a:cubicBezTo>
                  <a:cubicBezTo>
                    <a:pt x="755614" y="282910"/>
                    <a:pt x="756505" y="275859"/>
                    <a:pt x="760169" y="271462"/>
                  </a:cubicBezTo>
                  <a:cubicBezTo>
                    <a:pt x="764481" y="266288"/>
                    <a:pt x="768569" y="260446"/>
                    <a:pt x="774456" y="257175"/>
                  </a:cubicBezTo>
                  <a:cubicBezTo>
                    <a:pt x="783233" y="252299"/>
                    <a:pt x="793506" y="250825"/>
                    <a:pt x="803031" y="247650"/>
                  </a:cubicBezTo>
                  <a:cubicBezTo>
                    <a:pt x="807794" y="246062"/>
                    <a:pt x="812449" y="244105"/>
                    <a:pt x="817319" y="242887"/>
                  </a:cubicBezTo>
                  <a:cubicBezTo>
                    <a:pt x="865164" y="230926"/>
                    <a:pt x="842996" y="237503"/>
                    <a:pt x="883994" y="223837"/>
                  </a:cubicBezTo>
                  <a:lnTo>
                    <a:pt x="898281" y="219075"/>
                  </a:lnTo>
                  <a:cubicBezTo>
                    <a:pt x="939229" y="191778"/>
                    <a:pt x="891041" y="228125"/>
                    <a:pt x="917331" y="195262"/>
                  </a:cubicBezTo>
                  <a:cubicBezTo>
                    <a:pt x="920907" y="190792"/>
                    <a:pt x="926856" y="188912"/>
                    <a:pt x="931619" y="185737"/>
                  </a:cubicBezTo>
                  <a:cubicBezTo>
                    <a:pt x="934794" y="180975"/>
                    <a:pt x="938584" y="176569"/>
                    <a:pt x="941144" y="171450"/>
                  </a:cubicBezTo>
                  <a:cubicBezTo>
                    <a:pt x="943389" y="166960"/>
                    <a:pt x="943468" y="161550"/>
                    <a:pt x="945906" y="157162"/>
                  </a:cubicBezTo>
                  <a:cubicBezTo>
                    <a:pt x="951465" y="147155"/>
                    <a:pt x="961336" y="139447"/>
                    <a:pt x="964956" y="128587"/>
                  </a:cubicBezTo>
                  <a:cubicBezTo>
                    <a:pt x="968131" y="119062"/>
                    <a:pt x="972512" y="109857"/>
                    <a:pt x="974481" y="100012"/>
                  </a:cubicBezTo>
                  <a:cubicBezTo>
                    <a:pt x="984163" y="51610"/>
                    <a:pt x="974245" y="96077"/>
                    <a:pt x="984006" y="61912"/>
                  </a:cubicBezTo>
                  <a:cubicBezTo>
                    <a:pt x="986039" y="54797"/>
                    <a:pt x="989727" y="36183"/>
                    <a:pt x="993531" y="28575"/>
                  </a:cubicBezTo>
                  <a:cubicBezTo>
                    <a:pt x="996091" y="23455"/>
                    <a:pt x="1000496" y="19407"/>
                    <a:pt x="1003056" y="14287"/>
                  </a:cubicBezTo>
                  <a:cubicBezTo>
                    <a:pt x="1005301" y="9797"/>
                    <a:pt x="1007819" y="0"/>
                    <a:pt x="1007819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任意多边形 15"/>
            <p:cNvSpPr/>
            <p:nvPr/>
          </p:nvSpPr>
          <p:spPr>
            <a:xfrm>
              <a:off x="2718000" y="1562040"/>
              <a:ext cx="1077120" cy="690480"/>
            </a:xfrm>
            <a:custGeom>
              <a:avLst/>
              <a:gdLst/>
              <a:ahLst/>
              <a:rect l="l" t="t" r="r" b="b"/>
              <a:pathLst>
                <a:path w="1077345" h="690563">
                  <a:moveTo>
                    <a:pt x="67683" y="690563"/>
                  </a:moveTo>
                  <a:cubicBezTo>
                    <a:pt x="78972" y="634110"/>
                    <a:pt x="64133" y="692596"/>
                    <a:pt x="81970" y="652463"/>
                  </a:cubicBezTo>
                  <a:cubicBezTo>
                    <a:pt x="86048" y="643288"/>
                    <a:pt x="85926" y="632242"/>
                    <a:pt x="91495" y="623888"/>
                  </a:cubicBezTo>
                  <a:cubicBezTo>
                    <a:pt x="103805" y="605423"/>
                    <a:pt x="99210" y="615030"/>
                    <a:pt x="105783" y="595313"/>
                  </a:cubicBezTo>
                  <a:cubicBezTo>
                    <a:pt x="104195" y="579438"/>
                    <a:pt x="103960" y="563369"/>
                    <a:pt x="101020" y="547688"/>
                  </a:cubicBezTo>
                  <a:cubicBezTo>
                    <a:pt x="99170" y="537820"/>
                    <a:pt x="94670" y="528638"/>
                    <a:pt x="91495" y="519113"/>
                  </a:cubicBezTo>
                  <a:cubicBezTo>
                    <a:pt x="91493" y="519108"/>
                    <a:pt x="81974" y="490543"/>
                    <a:pt x="81970" y="490538"/>
                  </a:cubicBezTo>
                  <a:lnTo>
                    <a:pt x="72445" y="476250"/>
                  </a:lnTo>
                  <a:cubicBezTo>
                    <a:pt x="69308" y="466838"/>
                    <a:pt x="66551" y="454389"/>
                    <a:pt x="58158" y="447675"/>
                  </a:cubicBezTo>
                  <a:cubicBezTo>
                    <a:pt x="54238" y="444539"/>
                    <a:pt x="48633" y="444500"/>
                    <a:pt x="43870" y="442913"/>
                  </a:cubicBezTo>
                  <a:cubicBezTo>
                    <a:pt x="39108" y="439738"/>
                    <a:pt x="33980" y="437052"/>
                    <a:pt x="29583" y="433388"/>
                  </a:cubicBezTo>
                  <a:cubicBezTo>
                    <a:pt x="24409" y="429076"/>
                    <a:pt x="20899" y="422836"/>
                    <a:pt x="15295" y="419100"/>
                  </a:cubicBezTo>
                  <a:cubicBezTo>
                    <a:pt x="11118" y="416315"/>
                    <a:pt x="-4012" y="414338"/>
                    <a:pt x="1008" y="414338"/>
                  </a:cubicBezTo>
                  <a:cubicBezTo>
                    <a:pt x="20124" y="414338"/>
                    <a:pt x="39108" y="417513"/>
                    <a:pt x="58158" y="419100"/>
                  </a:cubicBezTo>
                  <a:cubicBezTo>
                    <a:pt x="142362" y="433135"/>
                    <a:pt x="37326" y="415312"/>
                    <a:pt x="110545" y="428625"/>
                  </a:cubicBezTo>
                  <a:cubicBezTo>
                    <a:pt x="120046" y="430352"/>
                    <a:pt x="129475" y="432918"/>
                    <a:pt x="139120" y="433388"/>
                  </a:cubicBezTo>
                  <a:cubicBezTo>
                    <a:pt x="194639" y="436096"/>
                    <a:pt x="250245" y="436563"/>
                    <a:pt x="305808" y="438150"/>
                  </a:cubicBezTo>
                  <a:cubicBezTo>
                    <a:pt x="318245" y="437114"/>
                    <a:pt x="362148" y="442734"/>
                    <a:pt x="377245" y="423863"/>
                  </a:cubicBezTo>
                  <a:cubicBezTo>
                    <a:pt x="380381" y="419943"/>
                    <a:pt x="380420" y="414338"/>
                    <a:pt x="382008" y="409575"/>
                  </a:cubicBezTo>
                  <a:cubicBezTo>
                    <a:pt x="383595" y="382588"/>
                    <a:pt x="383274" y="355420"/>
                    <a:pt x="386770" y="328613"/>
                  </a:cubicBezTo>
                  <a:cubicBezTo>
                    <a:pt x="388069" y="318657"/>
                    <a:pt x="393120" y="309563"/>
                    <a:pt x="396295" y="300038"/>
                  </a:cubicBezTo>
                  <a:lnTo>
                    <a:pt x="401058" y="285750"/>
                  </a:lnTo>
                  <a:cubicBezTo>
                    <a:pt x="402645" y="280988"/>
                    <a:pt x="403036" y="275640"/>
                    <a:pt x="405820" y="271463"/>
                  </a:cubicBezTo>
                  <a:lnTo>
                    <a:pt x="415345" y="257175"/>
                  </a:lnTo>
                  <a:cubicBezTo>
                    <a:pt x="415655" y="255934"/>
                    <a:pt x="422387" y="226942"/>
                    <a:pt x="424870" y="223838"/>
                  </a:cubicBezTo>
                  <a:cubicBezTo>
                    <a:pt x="433968" y="212466"/>
                    <a:pt x="441943" y="215301"/>
                    <a:pt x="453445" y="209550"/>
                  </a:cubicBezTo>
                  <a:cubicBezTo>
                    <a:pt x="486330" y="193107"/>
                    <a:pt x="447142" y="205172"/>
                    <a:pt x="486783" y="195263"/>
                  </a:cubicBezTo>
                  <a:cubicBezTo>
                    <a:pt x="507420" y="196850"/>
                    <a:pt x="528250" y="196797"/>
                    <a:pt x="548695" y="200025"/>
                  </a:cubicBezTo>
                  <a:cubicBezTo>
                    <a:pt x="558612" y="201591"/>
                    <a:pt x="567745" y="206375"/>
                    <a:pt x="577270" y="209550"/>
                  </a:cubicBezTo>
                  <a:cubicBezTo>
                    <a:pt x="582033" y="211138"/>
                    <a:pt x="587381" y="211528"/>
                    <a:pt x="591558" y="214313"/>
                  </a:cubicBezTo>
                  <a:cubicBezTo>
                    <a:pt x="596320" y="217488"/>
                    <a:pt x="600584" y="221583"/>
                    <a:pt x="605845" y="223838"/>
                  </a:cubicBezTo>
                  <a:cubicBezTo>
                    <a:pt x="611861" y="226416"/>
                    <a:pt x="618601" y="226802"/>
                    <a:pt x="624895" y="228600"/>
                  </a:cubicBezTo>
                  <a:cubicBezTo>
                    <a:pt x="629722" y="229979"/>
                    <a:pt x="634420" y="231775"/>
                    <a:pt x="639183" y="233363"/>
                  </a:cubicBezTo>
                  <a:cubicBezTo>
                    <a:pt x="674108" y="231775"/>
                    <a:pt x="709108" y="231388"/>
                    <a:pt x="743958" y="228600"/>
                  </a:cubicBezTo>
                  <a:cubicBezTo>
                    <a:pt x="748962" y="228200"/>
                    <a:pt x="753755" y="226083"/>
                    <a:pt x="758245" y="223838"/>
                  </a:cubicBezTo>
                  <a:cubicBezTo>
                    <a:pt x="763365" y="221278"/>
                    <a:pt x="767770" y="217488"/>
                    <a:pt x="772533" y="214313"/>
                  </a:cubicBezTo>
                  <a:cubicBezTo>
                    <a:pt x="774120" y="209550"/>
                    <a:pt x="774857" y="204413"/>
                    <a:pt x="777295" y="200025"/>
                  </a:cubicBezTo>
                  <a:cubicBezTo>
                    <a:pt x="782854" y="190018"/>
                    <a:pt x="792724" y="182310"/>
                    <a:pt x="796345" y="171450"/>
                  </a:cubicBezTo>
                  <a:cubicBezTo>
                    <a:pt x="797933" y="166688"/>
                    <a:pt x="798670" y="161551"/>
                    <a:pt x="801108" y="157163"/>
                  </a:cubicBezTo>
                  <a:cubicBezTo>
                    <a:pt x="806668" y="147156"/>
                    <a:pt x="820158" y="128588"/>
                    <a:pt x="820158" y="128588"/>
                  </a:cubicBezTo>
                  <a:cubicBezTo>
                    <a:pt x="829428" y="100773"/>
                    <a:pt x="817666" y="126316"/>
                    <a:pt x="839208" y="104775"/>
                  </a:cubicBezTo>
                  <a:cubicBezTo>
                    <a:pt x="843255" y="100728"/>
                    <a:pt x="843879" y="93521"/>
                    <a:pt x="848733" y="90488"/>
                  </a:cubicBezTo>
                  <a:cubicBezTo>
                    <a:pt x="857247" y="85167"/>
                    <a:pt x="867783" y="84138"/>
                    <a:pt x="877308" y="80963"/>
                  </a:cubicBezTo>
                  <a:lnTo>
                    <a:pt x="905883" y="71438"/>
                  </a:lnTo>
                  <a:cubicBezTo>
                    <a:pt x="910645" y="69851"/>
                    <a:pt x="915993" y="69460"/>
                    <a:pt x="920170" y="66675"/>
                  </a:cubicBezTo>
                  <a:cubicBezTo>
                    <a:pt x="942812" y="51581"/>
                    <a:pt x="929029" y="58960"/>
                    <a:pt x="963033" y="47625"/>
                  </a:cubicBezTo>
                  <a:lnTo>
                    <a:pt x="977320" y="42863"/>
                  </a:lnTo>
                  <a:cubicBezTo>
                    <a:pt x="982083" y="39688"/>
                    <a:pt x="986347" y="35593"/>
                    <a:pt x="991608" y="33338"/>
                  </a:cubicBezTo>
                  <a:cubicBezTo>
                    <a:pt x="997624" y="30760"/>
                    <a:pt x="1004364" y="30373"/>
                    <a:pt x="1010658" y="28575"/>
                  </a:cubicBezTo>
                  <a:cubicBezTo>
                    <a:pt x="1047621" y="18014"/>
                    <a:pt x="995986" y="26709"/>
                    <a:pt x="1072570" y="19050"/>
                  </a:cubicBezTo>
                  <a:cubicBezTo>
                    <a:pt x="1077835" y="3257"/>
                    <a:pt x="1077333" y="9783"/>
                    <a:pt x="1077333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任意多边形 17"/>
            <p:cNvSpPr/>
            <p:nvPr/>
          </p:nvSpPr>
          <p:spPr>
            <a:xfrm>
              <a:off x="7742520" y="5384520"/>
              <a:ext cx="254880" cy="514080"/>
            </a:xfrm>
            <a:custGeom>
              <a:avLst/>
              <a:gdLst/>
              <a:ahLst/>
              <a:rect l="l" t="t" r="r" b="b"/>
              <a:pathLst>
                <a:path w="255057" h="514350">
                  <a:moveTo>
                    <a:pt x="172507" y="0"/>
                  </a:moveTo>
                  <a:cubicBezTo>
                    <a:pt x="156632" y="0"/>
                    <a:pt x="155162" y="11245"/>
                    <a:pt x="150282" y="22225"/>
                  </a:cubicBezTo>
                  <a:cubicBezTo>
                    <a:pt x="147564" y="28342"/>
                    <a:pt x="146049" y="34925"/>
                    <a:pt x="143932" y="41275"/>
                  </a:cubicBezTo>
                  <a:lnTo>
                    <a:pt x="137582" y="60325"/>
                  </a:lnTo>
                  <a:cubicBezTo>
                    <a:pt x="136524" y="63500"/>
                    <a:pt x="136263" y="67065"/>
                    <a:pt x="134407" y="69850"/>
                  </a:cubicBezTo>
                  <a:cubicBezTo>
                    <a:pt x="132290" y="73025"/>
                    <a:pt x="130929" y="76862"/>
                    <a:pt x="128057" y="79375"/>
                  </a:cubicBezTo>
                  <a:cubicBezTo>
                    <a:pt x="122314" y="84401"/>
                    <a:pt x="109007" y="92075"/>
                    <a:pt x="109007" y="92075"/>
                  </a:cubicBezTo>
                  <a:cubicBezTo>
                    <a:pt x="106915" y="98350"/>
                    <a:pt x="105077" y="106649"/>
                    <a:pt x="99482" y="111125"/>
                  </a:cubicBezTo>
                  <a:cubicBezTo>
                    <a:pt x="96869" y="113216"/>
                    <a:pt x="92950" y="112803"/>
                    <a:pt x="89957" y="114300"/>
                  </a:cubicBezTo>
                  <a:cubicBezTo>
                    <a:pt x="86544" y="116007"/>
                    <a:pt x="83607" y="118533"/>
                    <a:pt x="80432" y="120650"/>
                  </a:cubicBezTo>
                  <a:cubicBezTo>
                    <a:pt x="66230" y="141952"/>
                    <a:pt x="82960" y="121081"/>
                    <a:pt x="64557" y="133350"/>
                  </a:cubicBezTo>
                  <a:cubicBezTo>
                    <a:pt x="60821" y="135841"/>
                    <a:pt x="58481" y="140000"/>
                    <a:pt x="55032" y="142875"/>
                  </a:cubicBezTo>
                  <a:cubicBezTo>
                    <a:pt x="52101" y="145318"/>
                    <a:pt x="48682" y="147108"/>
                    <a:pt x="45507" y="149225"/>
                  </a:cubicBezTo>
                  <a:lnTo>
                    <a:pt x="35982" y="177800"/>
                  </a:lnTo>
                  <a:cubicBezTo>
                    <a:pt x="34924" y="180975"/>
                    <a:pt x="33619" y="184078"/>
                    <a:pt x="32807" y="187325"/>
                  </a:cubicBezTo>
                  <a:cubicBezTo>
                    <a:pt x="28009" y="206519"/>
                    <a:pt x="31012" y="195885"/>
                    <a:pt x="23282" y="219075"/>
                  </a:cubicBezTo>
                  <a:cubicBezTo>
                    <a:pt x="22224" y="222250"/>
                    <a:pt x="21963" y="225815"/>
                    <a:pt x="20107" y="228600"/>
                  </a:cubicBezTo>
                  <a:lnTo>
                    <a:pt x="7407" y="247650"/>
                  </a:lnTo>
                  <a:cubicBezTo>
                    <a:pt x="-3829" y="292596"/>
                    <a:pt x="1057" y="269217"/>
                    <a:pt x="1057" y="365125"/>
                  </a:cubicBezTo>
                  <a:cubicBezTo>
                    <a:pt x="1057" y="381035"/>
                    <a:pt x="588" y="397263"/>
                    <a:pt x="4232" y="412750"/>
                  </a:cubicBezTo>
                  <a:cubicBezTo>
                    <a:pt x="5106" y="416464"/>
                    <a:pt x="10826" y="416657"/>
                    <a:pt x="13757" y="419100"/>
                  </a:cubicBezTo>
                  <a:cubicBezTo>
                    <a:pt x="38203" y="439472"/>
                    <a:pt x="9158" y="419209"/>
                    <a:pt x="32807" y="434975"/>
                  </a:cubicBezTo>
                  <a:cubicBezTo>
                    <a:pt x="33865" y="438150"/>
                    <a:pt x="34126" y="441715"/>
                    <a:pt x="35982" y="444500"/>
                  </a:cubicBezTo>
                  <a:cubicBezTo>
                    <a:pt x="41951" y="453453"/>
                    <a:pt x="56988" y="461679"/>
                    <a:pt x="64557" y="466725"/>
                  </a:cubicBezTo>
                  <a:lnTo>
                    <a:pt x="74082" y="473075"/>
                  </a:lnTo>
                  <a:cubicBezTo>
                    <a:pt x="78315" y="479425"/>
                    <a:pt x="80432" y="487892"/>
                    <a:pt x="86782" y="492125"/>
                  </a:cubicBezTo>
                  <a:lnTo>
                    <a:pt x="105832" y="504825"/>
                  </a:lnTo>
                  <a:cubicBezTo>
                    <a:pt x="109007" y="506942"/>
                    <a:pt x="111737" y="509968"/>
                    <a:pt x="115357" y="511175"/>
                  </a:cubicBezTo>
                  <a:lnTo>
                    <a:pt x="124882" y="514350"/>
                  </a:lnTo>
                  <a:cubicBezTo>
                    <a:pt x="129115" y="513292"/>
                    <a:pt x="134742" y="514488"/>
                    <a:pt x="137582" y="511175"/>
                  </a:cubicBezTo>
                  <a:cubicBezTo>
                    <a:pt x="141938" y="506093"/>
                    <a:pt x="140219" y="497694"/>
                    <a:pt x="143932" y="492125"/>
                  </a:cubicBezTo>
                  <a:cubicBezTo>
                    <a:pt x="146049" y="488950"/>
                    <a:pt x="148575" y="486013"/>
                    <a:pt x="150282" y="482600"/>
                  </a:cubicBezTo>
                  <a:cubicBezTo>
                    <a:pt x="151779" y="479607"/>
                    <a:pt x="152538" y="476293"/>
                    <a:pt x="153457" y="473075"/>
                  </a:cubicBezTo>
                  <a:cubicBezTo>
                    <a:pt x="155343" y="466473"/>
                    <a:pt x="158989" y="450638"/>
                    <a:pt x="159807" y="444500"/>
                  </a:cubicBezTo>
                  <a:cubicBezTo>
                    <a:pt x="161213" y="433957"/>
                    <a:pt x="161022" y="423204"/>
                    <a:pt x="162982" y="412750"/>
                  </a:cubicBezTo>
                  <a:cubicBezTo>
                    <a:pt x="164216" y="406171"/>
                    <a:pt x="162982" y="395817"/>
                    <a:pt x="169332" y="393700"/>
                  </a:cubicBezTo>
                  <a:cubicBezTo>
                    <a:pt x="182477" y="389318"/>
                    <a:pt x="176072" y="392381"/>
                    <a:pt x="188382" y="384175"/>
                  </a:cubicBezTo>
                  <a:lnTo>
                    <a:pt x="197907" y="355600"/>
                  </a:lnTo>
                  <a:lnTo>
                    <a:pt x="201082" y="346075"/>
                  </a:lnTo>
                  <a:cubicBezTo>
                    <a:pt x="202140" y="328083"/>
                    <a:pt x="201926" y="309971"/>
                    <a:pt x="204257" y="292100"/>
                  </a:cubicBezTo>
                  <a:cubicBezTo>
                    <a:pt x="205123" y="285463"/>
                    <a:pt x="208490" y="279400"/>
                    <a:pt x="210607" y="273050"/>
                  </a:cubicBezTo>
                  <a:lnTo>
                    <a:pt x="220132" y="244475"/>
                  </a:lnTo>
                  <a:cubicBezTo>
                    <a:pt x="221190" y="241300"/>
                    <a:pt x="221810" y="237943"/>
                    <a:pt x="223307" y="234950"/>
                  </a:cubicBezTo>
                  <a:cubicBezTo>
                    <a:pt x="225424" y="230717"/>
                    <a:pt x="228160" y="226740"/>
                    <a:pt x="229657" y="222250"/>
                  </a:cubicBezTo>
                  <a:cubicBezTo>
                    <a:pt x="232417" y="213971"/>
                    <a:pt x="233247" y="205129"/>
                    <a:pt x="236007" y="196850"/>
                  </a:cubicBezTo>
                  <a:lnTo>
                    <a:pt x="239182" y="187325"/>
                  </a:lnTo>
                  <a:cubicBezTo>
                    <a:pt x="239853" y="182625"/>
                    <a:pt x="244064" y="151924"/>
                    <a:pt x="245532" y="146050"/>
                  </a:cubicBezTo>
                  <a:cubicBezTo>
                    <a:pt x="247155" y="139556"/>
                    <a:pt x="251882" y="127000"/>
                    <a:pt x="251882" y="127000"/>
                  </a:cubicBezTo>
                  <a:cubicBezTo>
                    <a:pt x="252940" y="115358"/>
                    <a:pt x="255057" y="103765"/>
                    <a:pt x="255057" y="92075"/>
                  </a:cubicBezTo>
                  <a:cubicBezTo>
                    <a:pt x="255057" y="71939"/>
                    <a:pt x="254603" y="51702"/>
                    <a:pt x="251882" y="31750"/>
                  </a:cubicBezTo>
                  <a:cubicBezTo>
                    <a:pt x="251366" y="27969"/>
                    <a:pt x="248404" y="24738"/>
                    <a:pt x="245532" y="22225"/>
                  </a:cubicBezTo>
                  <a:cubicBezTo>
                    <a:pt x="222296" y="1893"/>
                    <a:pt x="188382" y="0"/>
                    <a:pt x="172507" y="0"/>
                  </a:cubicBez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任意多边形 18"/>
            <p:cNvSpPr/>
            <p:nvPr/>
          </p:nvSpPr>
          <p:spPr>
            <a:xfrm>
              <a:off x="6070320" y="6285600"/>
              <a:ext cx="345960" cy="248400"/>
            </a:xfrm>
            <a:custGeom>
              <a:avLst/>
              <a:gdLst/>
              <a:ahLst/>
              <a:rect l="l" t="t" r="r" b="b"/>
              <a:pathLst>
                <a:path w="346154" h="248645">
                  <a:moveTo>
                    <a:pt x="250904" y="475"/>
                  </a:moveTo>
                  <a:lnTo>
                    <a:pt x="108029" y="3650"/>
                  </a:lnTo>
                  <a:cubicBezTo>
                    <a:pt x="103669" y="3828"/>
                    <a:pt x="99340" y="5106"/>
                    <a:pt x="95329" y="6825"/>
                  </a:cubicBezTo>
                  <a:cubicBezTo>
                    <a:pt x="91822" y="8328"/>
                    <a:pt x="88979" y="11058"/>
                    <a:pt x="85804" y="13175"/>
                  </a:cubicBezTo>
                  <a:cubicBezTo>
                    <a:pt x="83222" y="20922"/>
                    <a:pt x="82434" y="26070"/>
                    <a:pt x="76279" y="32225"/>
                  </a:cubicBezTo>
                  <a:cubicBezTo>
                    <a:pt x="73581" y="34923"/>
                    <a:pt x="69929" y="36458"/>
                    <a:pt x="66754" y="38575"/>
                  </a:cubicBezTo>
                  <a:cubicBezTo>
                    <a:pt x="64637" y="41750"/>
                    <a:pt x="63102" y="45402"/>
                    <a:pt x="60404" y="48100"/>
                  </a:cubicBezTo>
                  <a:cubicBezTo>
                    <a:pt x="54249" y="54255"/>
                    <a:pt x="49101" y="55043"/>
                    <a:pt x="41354" y="57625"/>
                  </a:cubicBezTo>
                  <a:cubicBezTo>
                    <a:pt x="38179" y="60800"/>
                    <a:pt x="35565" y="64659"/>
                    <a:pt x="31829" y="67150"/>
                  </a:cubicBezTo>
                  <a:cubicBezTo>
                    <a:pt x="29044" y="69006"/>
                    <a:pt x="24671" y="67958"/>
                    <a:pt x="22304" y="70325"/>
                  </a:cubicBezTo>
                  <a:cubicBezTo>
                    <a:pt x="19937" y="72692"/>
                    <a:pt x="20626" y="76857"/>
                    <a:pt x="19129" y="79850"/>
                  </a:cubicBezTo>
                  <a:cubicBezTo>
                    <a:pt x="17422" y="83263"/>
                    <a:pt x="14896" y="86200"/>
                    <a:pt x="12779" y="89375"/>
                  </a:cubicBezTo>
                  <a:cubicBezTo>
                    <a:pt x="11721" y="107367"/>
                    <a:pt x="11935" y="125479"/>
                    <a:pt x="9604" y="143350"/>
                  </a:cubicBezTo>
                  <a:cubicBezTo>
                    <a:pt x="8738" y="149987"/>
                    <a:pt x="5371" y="156050"/>
                    <a:pt x="3254" y="162400"/>
                  </a:cubicBezTo>
                  <a:lnTo>
                    <a:pt x="79" y="171925"/>
                  </a:lnTo>
                  <a:cubicBezTo>
                    <a:pt x="1137" y="187800"/>
                    <a:pt x="-2246" y="204621"/>
                    <a:pt x="3254" y="219550"/>
                  </a:cubicBezTo>
                  <a:cubicBezTo>
                    <a:pt x="5892" y="226711"/>
                    <a:pt x="15954" y="228017"/>
                    <a:pt x="22304" y="232250"/>
                  </a:cubicBezTo>
                  <a:cubicBezTo>
                    <a:pt x="27984" y="236037"/>
                    <a:pt x="34023" y="241269"/>
                    <a:pt x="41354" y="241775"/>
                  </a:cubicBezTo>
                  <a:cubicBezTo>
                    <a:pt x="68826" y="243670"/>
                    <a:pt x="96387" y="243892"/>
                    <a:pt x="123904" y="244950"/>
                  </a:cubicBezTo>
                  <a:cubicBezTo>
                    <a:pt x="154863" y="250110"/>
                    <a:pt x="142862" y="249639"/>
                    <a:pt x="187404" y="244950"/>
                  </a:cubicBezTo>
                  <a:cubicBezTo>
                    <a:pt x="192771" y="244385"/>
                    <a:pt x="198073" y="243195"/>
                    <a:pt x="203279" y="241775"/>
                  </a:cubicBezTo>
                  <a:cubicBezTo>
                    <a:pt x="209737" y="240014"/>
                    <a:pt x="222329" y="235425"/>
                    <a:pt x="222329" y="235425"/>
                  </a:cubicBezTo>
                  <a:cubicBezTo>
                    <a:pt x="224446" y="232250"/>
                    <a:pt x="226236" y="228831"/>
                    <a:pt x="228679" y="225900"/>
                  </a:cubicBezTo>
                  <a:cubicBezTo>
                    <a:pt x="231554" y="222451"/>
                    <a:pt x="235713" y="220111"/>
                    <a:pt x="238204" y="216375"/>
                  </a:cubicBezTo>
                  <a:cubicBezTo>
                    <a:pt x="250473" y="197972"/>
                    <a:pt x="229602" y="214702"/>
                    <a:pt x="250904" y="200500"/>
                  </a:cubicBezTo>
                  <a:cubicBezTo>
                    <a:pt x="256196" y="184625"/>
                    <a:pt x="250904" y="192033"/>
                    <a:pt x="273129" y="184625"/>
                  </a:cubicBezTo>
                  <a:lnTo>
                    <a:pt x="282654" y="181450"/>
                  </a:lnTo>
                  <a:cubicBezTo>
                    <a:pt x="284771" y="178275"/>
                    <a:pt x="286024" y="174309"/>
                    <a:pt x="289004" y="171925"/>
                  </a:cubicBezTo>
                  <a:cubicBezTo>
                    <a:pt x="291617" y="169834"/>
                    <a:pt x="296162" y="171117"/>
                    <a:pt x="298529" y="168750"/>
                  </a:cubicBezTo>
                  <a:cubicBezTo>
                    <a:pt x="303925" y="163354"/>
                    <a:pt x="306996" y="156050"/>
                    <a:pt x="311229" y="149700"/>
                  </a:cubicBezTo>
                  <a:cubicBezTo>
                    <a:pt x="313346" y="146525"/>
                    <a:pt x="316372" y="143795"/>
                    <a:pt x="317579" y="140175"/>
                  </a:cubicBezTo>
                  <a:lnTo>
                    <a:pt x="330279" y="102075"/>
                  </a:lnTo>
                  <a:lnTo>
                    <a:pt x="339804" y="73500"/>
                  </a:lnTo>
                  <a:lnTo>
                    <a:pt x="342979" y="63975"/>
                  </a:lnTo>
                  <a:lnTo>
                    <a:pt x="346154" y="54450"/>
                  </a:lnTo>
                  <a:cubicBezTo>
                    <a:pt x="345096" y="41750"/>
                    <a:pt x="346480" y="28604"/>
                    <a:pt x="342979" y="16350"/>
                  </a:cubicBezTo>
                  <a:cubicBezTo>
                    <a:pt x="341931" y="12681"/>
                    <a:pt x="336941" y="11550"/>
                    <a:pt x="333454" y="10000"/>
                  </a:cubicBezTo>
                  <a:cubicBezTo>
                    <a:pt x="331140" y="8972"/>
                    <a:pt x="307288" y="905"/>
                    <a:pt x="301704" y="475"/>
                  </a:cubicBezTo>
                  <a:cubicBezTo>
                    <a:pt x="292207" y="-256"/>
                    <a:pt x="283183" y="-54"/>
                    <a:pt x="250904" y="475"/>
                  </a:cubicBez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直接连接符 6"/>
            <p:cNvSpPr/>
            <p:nvPr/>
          </p:nvSpPr>
          <p:spPr>
            <a:xfrm flipV="1">
              <a:off x="7169760" y="2885400"/>
              <a:ext cx="749880" cy="2451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直接连接符 16"/>
            <p:cNvSpPr/>
            <p:nvPr/>
          </p:nvSpPr>
          <p:spPr>
            <a:xfrm flipV="1">
              <a:off x="7920000" y="2196360"/>
              <a:ext cx="341280" cy="68868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直接连接符 22"/>
            <p:cNvSpPr/>
            <p:nvPr/>
          </p:nvSpPr>
          <p:spPr>
            <a:xfrm flipH="1">
              <a:off x="6903720" y="3241440"/>
              <a:ext cx="155520" cy="2721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直接连接符 24"/>
            <p:cNvSpPr/>
            <p:nvPr/>
          </p:nvSpPr>
          <p:spPr>
            <a:xfrm flipH="1">
              <a:off x="6795360" y="3523320"/>
              <a:ext cx="82440" cy="47808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直接连接符 26"/>
            <p:cNvSpPr/>
            <p:nvPr/>
          </p:nvSpPr>
          <p:spPr>
            <a:xfrm>
              <a:off x="6795720" y="4001400"/>
              <a:ext cx="41040" cy="63720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直接连接符 28"/>
            <p:cNvSpPr/>
            <p:nvPr/>
          </p:nvSpPr>
          <p:spPr>
            <a:xfrm flipH="1">
              <a:off x="6692400" y="4648320"/>
              <a:ext cx="123480" cy="42912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直接连接符 32"/>
            <p:cNvSpPr/>
            <p:nvPr/>
          </p:nvSpPr>
          <p:spPr>
            <a:xfrm>
              <a:off x="6692760" y="5077440"/>
              <a:ext cx="91800" cy="63720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直接连接符 36"/>
            <p:cNvSpPr/>
            <p:nvPr/>
          </p:nvSpPr>
          <p:spPr>
            <a:xfrm>
              <a:off x="7169760" y="3241440"/>
              <a:ext cx="13680" cy="723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直接连接符 38"/>
            <p:cNvSpPr/>
            <p:nvPr/>
          </p:nvSpPr>
          <p:spPr>
            <a:xfrm flipH="1">
              <a:off x="7230240" y="3446640"/>
              <a:ext cx="7560" cy="17964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直接连接符 40"/>
            <p:cNvSpPr/>
            <p:nvPr/>
          </p:nvSpPr>
          <p:spPr>
            <a:xfrm>
              <a:off x="7238520" y="3685680"/>
              <a:ext cx="41040" cy="34632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直接连接符 44"/>
            <p:cNvSpPr/>
            <p:nvPr/>
          </p:nvSpPr>
          <p:spPr>
            <a:xfrm>
              <a:off x="7301520" y="4087800"/>
              <a:ext cx="178920" cy="28980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直接连接符 46"/>
            <p:cNvSpPr/>
            <p:nvPr/>
          </p:nvSpPr>
          <p:spPr>
            <a:xfrm>
              <a:off x="7570440" y="4389120"/>
              <a:ext cx="146880" cy="1404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直接连接符 50"/>
            <p:cNvSpPr/>
            <p:nvPr/>
          </p:nvSpPr>
          <p:spPr>
            <a:xfrm>
              <a:off x="7750440" y="4679640"/>
              <a:ext cx="37800" cy="597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直接连接符 52"/>
            <p:cNvSpPr/>
            <p:nvPr/>
          </p:nvSpPr>
          <p:spPr>
            <a:xfrm flipH="1">
              <a:off x="7597800" y="4794480"/>
              <a:ext cx="212760" cy="52200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直接连接符 54"/>
            <p:cNvSpPr/>
            <p:nvPr/>
          </p:nvSpPr>
          <p:spPr>
            <a:xfrm flipH="1">
              <a:off x="7418160" y="5316480"/>
              <a:ext cx="180000" cy="2379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直接连接符 56"/>
            <p:cNvSpPr/>
            <p:nvPr/>
          </p:nvSpPr>
          <p:spPr>
            <a:xfrm flipH="1">
              <a:off x="6862320" y="5554800"/>
              <a:ext cx="539640" cy="2379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直接连接符 58"/>
            <p:cNvSpPr/>
            <p:nvPr/>
          </p:nvSpPr>
          <p:spPr>
            <a:xfrm flipH="1">
              <a:off x="7246800" y="3685680"/>
              <a:ext cx="320400" cy="720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直接连接符 60"/>
            <p:cNvSpPr/>
            <p:nvPr/>
          </p:nvSpPr>
          <p:spPr>
            <a:xfrm flipH="1" flipV="1">
              <a:off x="6861600" y="3519000"/>
              <a:ext cx="359640" cy="16596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直接连接符 62"/>
            <p:cNvSpPr/>
            <p:nvPr/>
          </p:nvSpPr>
          <p:spPr>
            <a:xfrm flipH="1">
              <a:off x="6599520" y="3519360"/>
              <a:ext cx="252720" cy="230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直接连接符 64"/>
            <p:cNvSpPr/>
            <p:nvPr/>
          </p:nvSpPr>
          <p:spPr>
            <a:xfrm flipH="1" flipV="1">
              <a:off x="5828400" y="3425040"/>
              <a:ext cx="761400" cy="10548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直接连接符 66"/>
            <p:cNvSpPr/>
            <p:nvPr/>
          </p:nvSpPr>
          <p:spPr>
            <a:xfrm flipH="1" flipV="1">
              <a:off x="6769800" y="4001040"/>
              <a:ext cx="502920" cy="5148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直接连接符 68"/>
            <p:cNvSpPr/>
            <p:nvPr/>
          </p:nvSpPr>
          <p:spPr>
            <a:xfrm flipH="1">
              <a:off x="6121080" y="4007880"/>
              <a:ext cx="648720" cy="5472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直接连接符 70"/>
            <p:cNvSpPr/>
            <p:nvPr/>
          </p:nvSpPr>
          <p:spPr>
            <a:xfrm flipH="1" flipV="1">
              <a:off x="5452560" y="3823920"/>
              <a:ext cx="661680" cy="24372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直接连接符 72"/>
            <p:cNvSpPr/>
            <p:nvPr/>
          </p:nvSpPr>
          <p:spPr>
            <a:xfrm flipH="1" flipV="1">
              <a:off x="5179320" y="3728160"/>
              <a:ext cx="247680" cy="9576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直接连接符 74"/>
            <p:cNvSpPr/>
            <p:nvPr/>
          </p:nvSpPr>
          <p:spPr>
            <a:xfrm flipH="1" flipV="1">
              <a:off x="3618720" y="2424960"/>
              <a:ext cx="1559880" cy="13028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直接连接符 76"/>
            <p:cNvSpPr/>
            <p:nvPr/>
          </p:nvSpPr>
          <p:spPr>
            <a:xfrm flipH="1" flipV="1">
              <a:off x="7547760" y="4443840"/>
              <a:ext cx="146880" cy="140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78"/>
            <p:cNvSpPr/>
            <p:nvPr/>
          </p:nvSpPr>
          <p:spPr>
            <a:xfrm flipH="1">
              <a:off x="7290000" y="4410000"/>
              <a:ext cx="173160" cy="626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直接连接符 80"/>
            <p:cNvSpPr/>
            <p:nvPr/>
          </p:nvSpPr>
          <p:spPr>
            <a:xfrm flipH="1">
              <a:off x="6878160" y="4472280"/>
              <a:ext cx="423720" cy="14040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直接连接符 82"/>
            <p:cNvSpPr/>
            <p:nvPr/>
          </p:nvSpPr>
          <p:spPr>
            <a:xfrm flipH="1">
              <a:off x="5783400" y="4604400"/>
              <a:ext cx="1102680" cy="15732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直接连接符 84"/>
            <p:cNvSpPr/>
            <p:nvPr/>
          </p:nvSpPr>
          <p:spPr>
            <a:xfrm flipH="1" flipV="1">
              <a:off x="5367600" y="4671360"/>
              <a:ext cx="381240" cy="9756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直接连接符 86"/>
            <p:cNvSpPr/>
            <p:nvPr/>
          </p:nvSpPr>
          <p:spPr>
            <a:xfrm flipH="1">
              <a:off x="7217640" y="4513320"/>
              <a:ext cx="499320" cy="36900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直接连接符 88"/>
            <p:cNvSpPr/>
            <p:nvPr/>
          </p:nvSpPr>
          <p:spPr>
            <a:xfrm flipH="1">
              <a:off x="6691680" y="4935240"/>
              <a:ext cx="493920" cy="1202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直接连接符 90"/>
            <p:cNvSpPr/>
            <p:nvPr/>
          </p:nvSpPr>
          <p:spPr>
            <a:xfrm flipH="1">
              <a:off x="5828400" y="5051160"/>
              <a:ext cx="862920" cy="21168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直接连接符 92"/>
            <p:cNvSpPr/>
            <p:nvPr/>
          </p:nvSpPr>
          <p:spPr>
            <a:xfrm flipH="1">
              <a:off x="5165280" y="5293080"/>
              <a:ext cx="640080" cy="25920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椭圆 94"/>
            <p:cNvSpPr/>
            <p:nvPr/>
          </p:nvSpPr>
          <p:spPr>
            <a:xfrm>
              <a:off x="7036920" y="31086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椭圆 95"/>
            <p:cNvSpPr/>
            <p:nvPr/>
          </p:nvSpPr>
          <p:spPr>
            <a:xfrm>
              <a:off x="6808680" y="34506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椭圆 96"/>
            <p:cNvSpPr/>
            <p:nvPr/>
          </p:nvSpPr>
          <p:spPr>
            <a:xfrm>
              <a:off x="6704280" y="39078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椭圆 97"/>
            <p:cNvSpPr/>
            <p:nvPr/>
          </p:nvSpPr>
          <p:spPr>
            <a:xfrm>
              <a:off x="6772320" y="45460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椭圆 98"/>
            <p:cNvSpPr/>
            <p:nvPr/>
          </p:nvSpPr>
          <p:spPr>
            <a:xfrm>
              <a:off x="6590160" y="501084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椭圆 99"/>
            <p:cNvSpPr/>
            <p:nvPr/>
          </p:nvSpPr>
          <p:spPr>
            <a:xfrm>
              <a:off x="5733720" y="334764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椭圆 100"/>
            <p:cNvSpPr/>
            <p:nvPr/>
          </p:nvSpPr>
          <p:spPr>
            <a:xfrm>
              <a:off x="3546000" y="234756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椭圆 101"/>
            <p:cNvSpPr/>
            <p:nvPr/>
          </p:nvSpPr>
          <p:spPr>
            <a:xfrm>
              <a:off x="5291640" y="45702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椭圆 102"/>
            <p:cNvSpPr/>
            <p:nvPr/>
          </p:nvSpPr>
          <p:spPr>
            <a:xfrm>
              <a:off x="5097960" y="54532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椭圆 103"/>
            <p:cNvSpPr/>
            <p:nvPr/>
          </p:nvSpPr>
          <p:spPr>
            <a:xfrm>
              <a:off x="5745600" y="517284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椭圆 104"/>
            <p:cNvSpPr/>
            <p:nvPr/>
          </p:nvSpPr>
          <p:spPr>
            <a:xfrm>
              <a:off x="5687280" y="46990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椭圆 105"/>
            <p:cNvSpPr/>
            <p:nvPr/>
          </p:nvSpPr>
          <p:spPr>
            <a:xfrm>
              <a:off x="6029280" y="39996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椭圆 106"/>
            <p:cNvSpPr/>
            <p:nvPr/>
          </p:nvSpPr>
          <p:spPr>
            <a:xfrm>
              <a:off x="5392080" y="37378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椭圆 107"/>
            <p:cNvSpPr/>
            <p:nvPr/>
          </p:nvSpPr>
          <p:spPr>
            <a:xfrm>
              <a:off x="5112720" y="364572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椭圆 108"/>
            <p:cNvSpPr/>
            <p:nvPr/>
          </p:nvSpPr>
          <p:spPr>
            <a:xfrm>
              <a:off x="6539040" y="346176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椭圆 109"/>
            <p:cNvSpPr/>
            <p:nvPr/>
          </p:nvSpPr>
          <p:spPr>
            <a:xfrm>
              <a:off x="7842240" y="281916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椭圆 110"/>
            <p:cNvSpPr/>
            <p:nvPr/>
          </p:nvSpPr>
          <p:spPr>
            <a:xfrm>
              <a:off x="8183160" y="21160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椭圆 117"/>
            <p:cNvSpPr/>
            <p:nvPr/>
          </p:nvSpPr>
          <p:spPr>
            <a:xfrm>
              <a:off x="7160400" y="329112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椭圆 118"/>
            <p:cNvSpPr/>
            <p:nvPr/>
          </p:nvSpPr>
          <p:spPr>
            <a:xfrm>
              <a:off x="7152840" y="36262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椭圆 119"/>
            <p:cNvSpPr/>
            <p:nvPr/>
          </p:nvSpPr>
          <p:spPr>
            <a:xfrm>
              <a:off x="7168680" y="395532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椭圆 120"/>
            <p:cNvSpPr/>
            <p:nvPr/>
          </p:nvSpPr>
          <p:spPr>
            <a:xfrm>
              <a:off x="7216560" y="438912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椭圆 121"/>
            <p:cNvSpPr/>
            <p:nvPr/>
          </p:nvSpPr>
          <p:spPr>
            <a:xfrm>
              <a:off x="7414920" y="431136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椭圆 122"/>
            <p:cNvSpPr/>
            <p:nvPr/>
          </p:nvSpPr>
          <p:spPr>
            <a:xfrm>
              <a:off x="7694640" y="43804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椭圆 124"/>
            <p:cNvSpPr/>
            <p:nvPr/>
          </p:nvSpPr>
          <p:spPr>
            <a:xfrm>
              <a:off x="7085160" y="485964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椭圆 125"/>
            <p:cNvSpPr/>
            <p:nvPr/>
          </p:nvSpPr>
          <p:spPr>
            <a:xfrm>
              <a:off x="7788240" y="466164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椭圆 126"/>
            <p:cNvSpPr/>
            <p:nvPr/>
          </p:nvSpPr>
          <p:spPr>
            <a:xfrm>
              <a:off x="7506000" y="52336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椭圆 127"/>
            <p:cNvSpPr/>
            <p:nvPr/>
          </p:nvSpPr>
          <p:spPr>
            <a:xfrm>
              <a:off x="7346520" y="54864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椭圆 128"/>
            <p:cNvSpPr/>
            <p:nvPr/>
          </p:nvSpPr>
          <p:spPr>
            <a:xfrm>
              <a:off x="6707160" y="57150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椭圆 123"/>
            <p:cNvSpPr/>
            <p:nvPr/>
          </p:nvSpPr>
          <p:spPr>
            <a:xfrm>
              <a:off x="7594920" y="460188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文本框 65"/>
            <p:cNvSpPr/>
            <p:nvPr/>
          </p:nvSpPr>
          <p:spPr>
            <a:xfrm>
              <a:off x="6583680" y="29196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北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文本框 112"/>
            <p:cNvSpPr/>
            <p:nvPr/>
          </p:nvSpPr>
          <p:spPr>
            <a:xfrm>
              <a:off x="7530840" y="2090160"/>
              <a:ext cx="90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尔滨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文本框 113"/>
            <p:cNvSpPr/>
            <p:nvPr/>
          </p:nvSpPr>
          <p:spPr>
            <a:xfrm>
              <a:off x="7337520" y="31806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天津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文本框 114"/>
            <p:cNvSpPr/>
            <p:nvPr/>
          </p:nvSpPr>
          <p:spPr>
            <a:xfrm>
              <a:off x="3171600" y="2079720"/>
              <a:ext cx="122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乌鲁木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文本框 115"/>
            <p:cNvSpPr/>
            <p:nvPr/>
          </p:nvSpPr>
          <p:spPr>
            <a:xfrm>
              <a:off x="5706720" y="3061080"/>
              <a:ext cx="51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银川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文本框 116"/>
            <p:cNvSpPr/>
            <p:nvPr/>
          </p:nvSpPr>
          <p:spPr>
            <a:xfrm>
              <a:off x="5107320" y="431568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成都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文本框 129"/>
            <p:cNvSpPr/>
            <p:nvPr/>
          </p:nvSpPr>
          <p:spPr>
            <a:xfrm>
              <a:off x="4829400" y="518616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昆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文本框 130"/>
            <p:cNvSpPr/>
            <p:nvPr/>
          </p:nvSpPr>
          <p:spPr>
            <a:xfrm>
              <a:off x="6233040" y="5621760"/>
              <a:ext cx="53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广州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文本框 131"/>
            <p:cNvSpPr/>
            <p:nvPr/>
          </p:nvSpPr>
          <p:spPr>
            <a:xfrm>
              <a:off x="6236640" y="522648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长沙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文本框 132"/>
            <p:cNvSpPr/>
            <p:nvPr/>
          </p:nvSpPr>
          <p:spPr>
            <a:xfrm>
              <a:off x="6310440" y="35816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石家庄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椭圆 133"/>
            <p:cNvSpPr/>
            <p:nvPr/>
          </p:nvSpPr>
          <p:spPr>
            <a:xfrm>
              <a:off x="7517160" y="36126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文本框 134"/>
            <p:cNvSpPr/>
            <p:nvPr/>
          </p:nvSpPr>
          <p:spPr>
            <a:xfrm>
              <a:off x="7622280" y="3650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青海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文本框 135"/>
            <p:cNvSpPr/>
            <p:nvPr/>
          </p:nvSpPr>
          <p:spPr>
            <a:xfrm>
              <a:off x="6345720" y="406764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郑州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文本框 136"/>
            <p:cNvSpPr/>
            <p:nvPr/>
          </p:nvSpPr>
          <p:spPr>
            <a:xfrm>
              <a:off x="6328440" y="463176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武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文本框 137"/>
            <p:cNvSpPr/>
            <p:nvPr/>
          </p:nvSpPr>
          <p:spPr>
            <a:xfrm>
              <a:off x="7007760" y="453672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合肥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文本框 138"/>
            <p:cNvSpPr/>
            <p:nvPr/>
          </p:nvSpPr>
          <p:spPr>
            <a:xfrm>
              <a:off x="7462440" y="410868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南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文本框 139"/>
            <p:cNvSpPr/>
            <p:nvPr/>
          </p:nvSpPr>
          <p:spPr>
            <a:xfrm>
              <a:off x="7800480" y="430740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上海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文本框 140"/>
            <p:cNvSpPr/>
            <p:nvPr/>
          </p:nvSpPr>
          <p:spPr>
            <a:xfrm>
              <a:off x="7335000" y="475308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杭州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141"/>
            <p:cNvSpPr/>
            <p:nvPr/>
          </p:nvSpPr>
          <p:spPr>
            <a:xfrm>
              <a:off x="7900200" y="466020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宁波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文本框 142"/>
            <p:cNvSpPr/>
            <p:nvPr/>
          </p:nvSpPr>
          <p:spPr>
            <a:xfrm>
              <a:off x="7678440" y="513576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福州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文本框 143"/>
            <p:cNvSpPr/>
            <p:nvPr/>
          </p:nvSpPr>
          <p:spPr>
            <a:xfrm>
              <a:off x="7187400" y="566208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厦门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144"/>
            <p:cNvSpPr/>
            <p:nvPr/>
          </p:nvSpPr>
          <p:spPr>
            <a:xfrm>
              <a:off x="7548840" y="253836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沈阳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文本框 145"/>
            <p:cNvSpPr/>
            <p:nvPr/>
          </p:nvSpPr>
          <p:spPr>
            <a:xfrm>
              <a:off x="7283520" y="389700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徐州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文本框 146"/>
            <p:cNvSpPr/>
            <p:nvPr/>
          </p:nvSpPr>
          <p:spPr>
            <a:xfrm>
              <a:off x="6821280" y="3711600"/>
              <a:ext cx="51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济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147"/>
            <p:cNvSpPr/>
            <p:nvPr/>
          </p:nvSpPr>
          <p:spPr>
            <a:xfrm>
              <a:off x="5406480" y="3513960"/>
              <a:ext cx="50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兰州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文本框 154"/>
            <p:cNvSpPr/>
            <p:nvPr/>
          </p:nvSpPr>
          <p:spPr>
            <a:xfrm>
              <a:off x="6827040" y="58327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香港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椭圆 156"/>
            <p:cNvSpPr/>
            <p:nvPr/>
          </p:nvSpPr>
          <p:spPr>
            <a:xfrm>
              <a:off x="6800400" y="5763960"/>
              <a:ext cx="155520" cy="1555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组合 202"/>
          <p:cNvGrpSpPr/>
          <p:nvPr/>
        </p:nvGrpSpPr>
        <p:grpSpPr>
          <a:xfrm>
            <a:off x="6991200" y="2786040"/>
            <a:ext cx="266760" cy="301680"/>
            <a:chOff x="6991200" y="2786040"/>
            <a:chExt cx="266760" cy="301680"/>
          </a:xfrm>
        </p:grpSpPr>
        <p:sp>
          <p:nvSpPr>
            <p:cNvPr id="512" name="Freeform 60"/>
            <p:cNvSpPr/>
            <p:nvPr/>
          </p:nvSpPr>
          <p:spPr>
            <a:xfrm>
              <a:off x="6991200" y="2786040"/>
              <a:ext cx="26676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61"/>
            <p:cNvSpPr/>
            <p:nvPr/>
          </p:nvSpPr>
          <p:spPr>
            <a:xfrm>
              <a:off x="7013160" y="2807280"/>
              <a:ext cx="22176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2"/>
            <p:cNvSpPr/>
            <p:nvPr/>
          </p:nvSpPr>
          <p:spPr>
            <a:xfrm>
              <a:off x="7038360" y="2835000"/>
              <a:ext cx="17208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3"/>
            <p:cNvSpPr/>
            <p:nvPr/>
          </p:nvSpPr>
          <p:spPr>
            <a:xfrm>
              <a:off x="7029000" y="2959200"/>
              <a:ext cx="19080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6" name="组合 207"/>
          <p:cNvGrpSpPr/>
          <p:nvPr/>
        </p:nvGrpSpPr>
        <p:grpSpPr>
          <a:xfrm>
            <a:off x="6661080" y="3610080"/>
            <a:ext cx="266760" cy="301680"/>
            <a:chOff x="6661080" y="3610080"/>
            <a:chExt cx="266760" cy="301680"/>
          </a:xfrm>
        </p:grpSpPr>
        <p:sp>
          <p:nvSpPr>
            <p:cNvPr id="517" name="Freeform 60"/>
            <p:cNvSpPr/>
            <p:nvPr/>
          </p:nvSpPr>
          <p:spPr>
            <a:xfrm>
              <a:off x="6661080" y="3610080"/>
              <a:ext cx="26676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61"/>
            <p:cNvSpPr/>
            <p:nvPr/>
          </p:nvSpPr>
          <p:spPr>
            <a:xfrm>
              <a:off x="6683040" y="3631320"/>
              <a:ext cx="22176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2"/>
            <p:cNvSpPr/>
            <p:nvPr/>
          </p:nvSpPr>
          <p:spPr>
            <a:xfrm>
              <a:off x="6708240" y="3659040"/>
              <a:ext cx="17208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3"/>
            <p:cNvSpPr/>
            <p:nvPr/>
          </p:nvSpPr>
          <p:spPr>
            <a:xfrm>
              <a:off x="6698880" y="3783240"/>
              <a:ext cx="19080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组合 212"/>
          <p:cNvGrpSpPr/>
          <p:nvPr/>
        </p:nvGrpSpPr>
        <p:grpSpPr>
          <a:xfrm>
            <a:off x="7365960" y="4029120"/>
            <a:ext cx="266760" cy="301680"/>
            <a:chOff x="7365960" y="4029120"/>
            <a:chExt cx="266760" cy="301680"/>
          </a:xfrm>
        </p:grpSpPr>
        <p:sp>
          <p:nvSpPr>
            <p:cNvPr id="522" name="Freeform 60"/>
            <p:cNvSpPr/>
            <p:nvPr/>
          </p:nvSpPr>
          <p:spPr>
            <a:xfrm>
              <a:off x="7365960" y="4029120"/>
              <a:ext cx="26676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61"/>
            <p:cNvSpPr/>
            <p:nvPr/>
          </p:nvSpPr>
          <p:spPr>
            <a:xfrm>
              <a:off x="7387920" y="4050360"/>
              <a:ext cx="22176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62"/>
            <p:cNvSpPr/>
            <p:nvPr/>
          </p:nvSpPr>
          <p:spPr>
            <a:xfrm>
              <a:off x="7413120" y="4078080"/>
              <a:ext cx="17208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3"/>
            <p:cNvSpPr/>
            <p:nvPr/>
          </p:nvSpPr>
          <p:spPr>
            <a:xfrm>
              <a:off x="7403760" y="4202280"/>
              <a:ext cx="19080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组合 217"/>
          <p:cNvGrpSpPr/>
          <p:nvPr/>
        </p:nvGrpSpPr>
        <p:grpSpPr>
          <a:xfrm>
            <a:off x="7658280" y="4079880"/>
            <a:ext cx="266400" cy="301680"/>
            <a:chOff x="7658280" y="4079880"/>
            <a:chExt cx="266400" cy="301680"/>
          </a:xfrm>
        </p:grpSpPr>
        <p:sp>
          <p:nvSpPr>
            <p:cNvPr id="527" name="Freeform 60"/>
            <p:cNvSpPr/>
            <p:nvPr/>
          </p:nvSpPr>
          <p:spPr>
            <a:xfrm>
              <a:off x="7658280" y="4079880"/>
              <a:ext cx="26640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61"/>
            <p:cNvSpPr/>
            <p:nvPr/>
          </p:nvSpPr>
          <p:spPr>
            <a:xfrm>
              <a:off x="7680240" y="4101120"/>
              <a:ext cx="22176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62"/>
            <p:cNvSpPr/>
            <p:nvPr/>
          </p:nvSpPr>
          <p:spPr>
            <a:xfrm>
              <a:off x="7705440" y="4128840"/>
              <a:ext cx="17172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63"/>
            <p:cNvSpPr/>
            <p:nvPr/>
          </p:nvSpPr>
          <p:spPr>
            <a:xfrm>
              <a:off x="7696080" y="4253040"/>
              <a:ext cx="19044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1" name="组合 222"/>
          <p:cNvGrpSpPr/>
          <p:nvPr/>
        </p:nvGrpSpPr>
        <p:grpSpPr>
          <a:xfrm>
            <a:off x="6713640" y="4257720"/>
            <a:ext cx="264960" cy="301680"/>
            <a:chOff x="6713640" y="4257720"/>
            <a:chExt cx="264960" cy="301680"/>
          </a:xfrm>
        </p:grpSpPr>
        <p:sp>
          <p:nvSpPr>
            <p:cNvPr id="532" name="Freeform 60"/>
            <p:cNvSpPr/>
            <p:nvPr/>
          </p:nvSpPr>
          <p:spPr>
            <a:xfrm>
              <a:off x="6713640" y="4257720"/>
              <a:ext cx="26496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61"/>
            <p:cNvSpPr/>
            <p:nvPr/>
          </p:nvSpPr>
          <p:spPr>
            <a:xfrm>
              <a:off x="6735240" y="4278960"/>
              <a:ext cx="22032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62"/>
            <p:cNvSpPr/>
            <p:nvPr/>
          </p:nvSpPr>
          <p:spPr>
            <a:xfrm>
              <a:off x="6760440" y="4306680"/>
              <a:ext cx="17100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63"/>
            <p:cNvSpPr/>
            <p:nvPr/>
          </p:nvSpPr>
          <p:spPr>
            <a:xfrm>
              <a:off x="6751440" y="4430880"/>
              <a:ext cx="18936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6" name="组合 227"/>
          <p:cNvGrpSpPr/>
          <p:nvPr/>
        </p:nvGrpSpPr>
        <p:grpSpPr>
          <a:xfrm>
            <a:off x="6662880" y="5405400"/>
            <a:ext cx="264960" cy="301680"/>
            <a:chOff x="6662880" y="5405400"/>
            <a:chExt cx="264960" cy="301680"/>
          </a:xfrm>
        </p:grpSpPr>
        <p:sp>
          <p:nvSpPr>
            <p:cNvPr id="537" name="Freeform 60"/>
            <p:cNvSpPr/>
            <p:nvPr/>
          </p:nvSpPr>
          <p:spPr>
            <a:xfrm>
              <a:off x="6662880" y="5405400"/>
              <a:ext cx="26496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61"/>
            <p:cNvSpPr/>
            <p:nvPr/>
          </p:nvSpPr>
          <p:spPr>
            <a:xfrm>
              <a:off x="6684480" y="5426640"/>
              <a:ext cx="22032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62"/>
            <p:cNvSpPr/>
            <p:nvPr/>
          </p:nvSpPr>
          <p:spPr>
            <a:xfrm>
              <a:off x="6709680" y="5454360"/>
              <a:ext cx="17100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63"/>
            <p:cNvSpPr/>
            <p:nvPr/>
          </p:nvSpPr>
          <p:spPr>
            <a:xfrm>
              <a:off x="6700680" y="5578560"/>
              <a:ext cx="18936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232"/>
          <p:cNvGrpSpPr/>
          <p:nvPr/>
        </p:nvGrpSpPr>
        <p:grpSpPr>
          <a:xfrm>
            <a:off x="7526160" y="4327560"/>
            <a:ext cx="265320" cy="301680"/>
            <a:chOff x="7526160" y="4327560"/>
            <a:chExt cx="265320" cy="301680"/>
          </a:xfrm>
        </p:grpSpPr>
        <p:sp>
          <p:nvSpPr>
            <p:cNvPr id="542" name="Freeform 60"/>
            <p:cNvSpPr/>
            <p:nvPr/>
          </p:nvSpPr>
          <p:spPr>
            <a:xfrm>
              <a:off x="7526160" y="4327560"/>
              <a:ext cx="265320" cy="30168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61"/>
            <p:cNvSpPr/>
            <p:nvPr/>
          </p:nvSpPr>
          <p:spPr>
            <a:xfrm>
              <a:off x="7547760" y="4348800"/>
              <a:ext cx="220680" cy="2667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62"/>
            <p:cNvSpPr/>
            <p:nvPr/>
          </p:nvSpPr>
          <p:spPr>
            <a:xfrm>
              <a:off x="7573320" y="4376520"/>
              <a:ext cx="171000" cy="2052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63"/>
            <p:cNvSpPr/>
            <p:nvPr/>
          </p:nvSpPr>
          <p:spPr>
            <a:xfrm>
              <a:off x="7563960" y="4500720"/>
              <a:ext cx="189720" cy="10692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237"/>
          <p:cNvGrpSpPr/>
          <p:nvPr/>
        </p:nvGrpSpPr>
        <p:grpSpPr>
          <a:xfrm>
            <a:off x="1033560" y="1514520"/>
            <a:ext cx="588960" cy="669960"/>
            <a:chOff x="1033560" y="1514520"/>
            <a:chExt cx="588960" cy="669960"/>
          </a:xfrm>
        </p:grpSpPr>
        <p:sp>
          <p:nvSpPr>
            <p:cNvPr id="547" name="Freeform 60"/>
            <p:cNvSpPr/>
            <p:nvPr/>
          </p:nvSpPr>
          <p:spPr>
            <a:xfrm>
              <a:off x="1033560" y="1514520"/>
              <a:ext cx="588960" cy="66996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61"/>
            <p:cNvSpPr/>
            <p:nvPr/>
          </p:nvSpPr>
          <p:spPr>
            <a:xfrm>
              <a:off x="1081800" y="1561680"/>
              <a:ext cx="489600" cy="59184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62"/>
            <p:cNvSpPr/>
            <p:nvPr/>
          </p:nvSpPr>
          <p:spPr>
            <a:xfrm>
              <a:off x="1137960" y="1623240"/>
              <a:ext cx="379800" cy="4554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63"/>
            <p:cNvSpPr/>
            <p:nvPr/>
          </p:nvSpPr>
          <p:spPr>
            <a:xfrm>
              <a:off x="1117440" y="1899360"/>
              <a:ext cx="421200" cy="23796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4" descr="\\MAGNUM\Projects\Microsoft\Cloud Power FY12\Design\ICONS_PNG\Open_Web_Platform.png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10976040" y="279360"/>
            <a:ext cx="1073160" cy="1073160"/>
          </a:xfrm>
          <a:prstGeom prst="rect">
            <a:avLst/>
          </a:prstGeom>
          <a:ln w="0">
            <a:noFill/>
          </a:ln>
        </p:spPr>
      </p:pic>
      <p:sp>
        <p:nvSpPr>
          <p:cNvPr id="553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48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提出研究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-0.47644 -0.15741 E">
                                      <p:cBhvr>
                                        <p:cTn id="400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9 -0.04236 L -0.45286 -0.28773 E">
                                      <p:cBhvr>
                                        <p:cTn id="402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40741E-007 L -0.50807 -0.34305 E">
                                      <p:cBhvr>
                                        <p:cTn id="404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53073 -0.34908 E">
                                      <p:cBhvr>
                                        <p:cTn id="406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7 L -0.44961 -0.2838 E">
                                      <p:cBhvr>
                                        <p:cTn id="408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07407E-006 L -0.45378 -0.37314 E">
                                      <p:cBhvr>
                                        <p:cTn id="410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52032 -0.38333 E">
                                      <p:cBhvr>
                                        <p:cTn id="412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1481E-006 L -0.45026 -0.54051 E">
                                      <p:cBhvr>
                                        <p:cTn id="414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4" descr="\\MAGNUM\Projects\Microsoft\Cloud Power FY12\Design\ICONS_PNG\Open_Web_Platform.png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10976040" y="279360"/>
            <a:ext cx="1073160" cy="107316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17"/>
          <p:cNvSpPr/>
          <p:nvPr/>
        </p:nvSpPr>
        <p:spPr>
          <a:xfrm>
            <a:off x="1760400" y="1501920"/>
            <a:ext cx="3092760" cy="91728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铁枢纽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组合 18"/>
          <p:cNvGrpSpPr/>
          <p:nvPr/>
        </p:nvGrpSpPr>
        <p:grpSpPr>
          <a:xfrm>
            <a:off x="1033560" y="1514520"/>
            <a:ext cx="588960" cy="669960"/>
            <a:chOff x="1033560" y="1514520"/>
            <a:chExt cx="588960" cy="669960"/>
          </a:xfrm>
        </p:grpSpPr>
        <p:sp>
          <p:nvSpPr>
            <p:cNvPr id="561" name="Freeform 60"/>
            <p:cNvSpPr/>
            <p:nvPr/>
          </p:nvSpPr>
          <p:spPr>
            <a:xfrm>
              <a:off x="1033560" y="1514520"/>
              <a:ext cx="588960" cy="66996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61"/>
            <p:cNvSpPr/>
            <p:nvPr/>
          </p:nvSpPr>
          <p:spPr>
            <a:xfrm>
              <a:off x="1081800" y="1561680"/>
              <a:ext cx="489600" cy="59184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62"/>
            <p:cNvSpPr/>
            <p:nvPr/>
          </p:nvSpPr>
          <p:spPr>
            <a:xfrm>
              <a:off x="1137960" y="1623240"/>
              <a:ext cx="379800" cy="45540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fac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63"/>
            <p:cNvSpPr/>
            <p:nvPr/>
          </p:nvSpPr>
          <p:spPr>
            <a:xfrm>
              <a:off x="1117440" y="1899360"/>
              <a:ext cx="421200" cy="23796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5" name="矩形 23"/>
          <p:cNvSpPr/>
          <p:nvPr/>
        </p:nvSpPr>
        <p:spPr>
          <a:xfrm>
            <a:off x="7591320" y="2917800"/>
            <a:ext cx="4600800" cy="5954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枢纽站客运服务水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24"/>
          <p:cNvSpPr/>
          <p:nvPr/>
        </p:nvSpPr>
        <p:spPr>
          <a:xfrm>
            <a:off x="7591320" y="3816360"/>
            <a:ext cx="4600800" cy="5954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枢纽站设备运用效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25"/>
          <p:cNvSpPr/>
          <p:nvPr/>
        </p:nvSpPr>
        <p:spPr>
          <a:xfrm>
            <a:off x="7591320" y="4716360"/>
            <a:ext cx="4600800" cy="5954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车运行计划的准确实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27"/>
          <p:cNvSpPr/>
          <p:nvPr/>
        </p:nvSpPr>
        <p:spPr>
          <a:xfrm>
            <a:off x="7591320" y="1501920"/>
            <a:ext cx="4600800" cy="91728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到发线运用计划编制意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26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提出研究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矩形 28"/>
          <p:cNvSpPr/>
          <p:nvPr/>
        </p:nvSpPr>
        <p:spPr>
          <a:xfrm>
            <a:off x="1760400" y="2917800"/>
            <a:ext cx="3092760" cy="5954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站规模 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矩形 30"/>
          <p:cNvSpPr/>
          <p:nvPr/>
        </p:nvSpPr>
        <p:spPr>
          <a:xfrm>
            <a:off x="1760400" y="3816360"/>
            <a:ext cx="3092760" cy="5954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作业 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31"/>
          <p:cNvSpPr/>
          <p:nvPr/>
        </p:nvSpPr>
        <p:spPr>
          <a:xfrm>
            <a:off x="1760400" y="4716360"/>
            <a:ext cx="3092760" cy="5954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叉干扰 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矩形 32"/>
          <p:cNvSpPr/>
          <p:nvPr/>
        </p:nvSpPr>
        <p:spPr>
          <a:xfrm>
            <a:off x="1760400" y="5616720"/>
            <a:ext cx="3092760" cy="59508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接发车数 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traight Connector 131"/>
          <p:cNvSpPr/>
          <p:nvPr/>
        </p:nvSpPr>
        <p:spPr>
          <a:xfrm>
            <a:off x="0" y="955800"/>
            <a:ext cx="11120400" cy="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4" descr="\\MAGNUM\Projects\Microsoft\Cloud Power FY12\Design\ICONS_PNG\Open_Web_Platform.png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10976040" y="279360"/>
            <a:ext cx="1073160" cy="1073160"/>
          </a:xfrm>
          <a:prstGeom prst="rect">
            <a:avLst/>
          </a:prstGeom>
          <a:ln w="0">
            <a:noFill/>
          </a:ln>
        </p:spPr>
      </p:pic>
      <p:sp>
        <p:nvSpPr>
          <p:cNvPr id="577" name="Freeform 88"/>
          <p:cNvSpPr/>
          <p:nvPr/>
        </p:nvSpPr>
        <p:spPr>
          <a:xfrm rot="8119800">
            <a:off x="-32040" y="123480"/>
            <a:ext cx="708120" cy="708120"/>
          </a:xfrm>
          <a:custGeom>
            <a:avLst/>
            <a:gdLst/>
            <a:ahLst/>
            <a:rect l="l" t="t" r="r" b="b"/>
            <a:pathLst>
              <a:path w="414" h="414">
                <a:moveTo>
                  <a:pt x="207" y="0"/>
                </a:moveTo>
                <a:cubicBezTo>
                  <a:pt x="93" y="0"/>
                  <a:pt x="0" y="93"/>
                  <a:pt x="0" y="207"/>
                </a:cubicBezTo>
                <a:cubicBezTo>
                  <a:pt x="0" y="321"/>
                  <a:pt x="93" y="414"/>
                  <a:pt x="207" y="414"/>
                </a:cubicBezTo>
                <a:cubicBezTo>
                  <a:pt x="321" y="414"/>
                  <a:pt x="414" y="321"/>
                  <a:pt x="414" y="207"/>
                </a:cubicBezTo>
                <a:cubicBezTo>
                  <a:pt x="414" y="93"/>
                  <a:pt x="321" y="0"/>
                  <a:pt x="207" y="0"/>
                </a:cubicBezTo>
                <a:close/>
                <a:moveTo>
                  <a:pt x="207" y="399"/>
                </a:moveTo>
                <a:cubicBezTo>
                  <a:pt x="101" y="399"/>
                  <a:pt x="15" y="313"/>
                  <a:pt x="15" y="207"/>
                </a:cubicBezTo>
                <a:cubicBezTo>
                  <a:pt x="15" y="101"/>
                  <a:pt x="101" y="15"/>
                  <a:pt x="207" y="15"/>
                </a:cubicBezTo>
                <a:cubicBezTo>
                  <a:pt x="313" y="15"/>
                  <a:pt x="399" y="101"/>
                  <a:pt x="399" y="207"/>
                </a:cubicBezTo>
                <a:cubicBezTo>
                  <a:pt x="399" y="313"/>
                  <a:pt x="313" y="399"/>
                  <a:pt x="207" y="399"/>
                </a:cubicBezTo>
                <a:close/>
                <a:moveTo>
                  <a:pt x="299" y="174"/>
                </a:moveTo>
                <a:cubicBezTo>
                  <a:pt x="314" y="174"/>
                  <a:pt x="314" y="174"/>
                  <a:pt x="314" y="174"/>
                </a:cubicBezTo>
                <a:cubicBezTo>
                  <a:pt x="314" y="307"/>
                  <a:pt x="314" y="307"/>
                  <a:pt x="314" y="307"/>
                </a:cubicBezTo>
                <a:cubicBezTo>
                  <a:pt x="314" y="311"/>
                  <a:pt x="310" y="314"/>
                  <a:pt x="306" y="31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173" y="300"/>
                  <a:pt x="173" y="300"/>
                  <a:pt x="173" y="300"/>
                </a:cubicBezTo>
                <a:cubicBezTo>
                  <a:pt x="288" y="300"/>
                  <a:pt x="288" y="300"/>
                  <a:pt x="288" y="300"/>
                </a:cubicBezTo>
                <a:cubicBezTo>
                  <a:pt x="108" y="120"/>
                  <a:pt x="108" y="120"/>
                  <a:pt x="108" y="120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299" y="289"/>
                  <a:pt x="299" y="289"/>
                  <a:pt x="299" y="289"/>
                </a:cubicBezTo>
                <a:lnTo>
                  <a:pt x="299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矩形 8"/>
          <p:cNvSpPr/>
          <p:nvPr/>
        </p:nvSpPr>
        <p:spPr>
          <a:xfrm>
            <a:off x="1441440" y="3508200"/>
            <a:ext cx="4600440" cy="59400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评价方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9"/>
          <p:cNvSpPr/>
          <p:nvPr/>
        </p:nvSpPr>
        <p:spPr>
          <a:xfrm>
            <a:off x="1441440" y="4908600"/>
            <a:ext cx="4600440" cy="5936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编制与评价结合方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矩形 11"/>
          <p:cNvSpPr/>
          <p:nvPr/>
        </p:nvSpPr>
        <p:spPr>
          <a:xfrm>
            <a:off x="1441440" y="1633680"/>
            <a:ext cx="4600440" cy="91728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有研究存在是不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12"/>
          <p:cNvSpPr/>
          <p:nvPr/>
        </p:nvSpPr>
        <p:spPr>
          <a:xfrm>
            <a:off x="5740560" y="3355920"/>
            <a:ext cx="4600440" cy="89856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采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tri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进行仿真评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矩形 14"/>
          <p:cNvSpPr/>
          <p:nvPr/>
        </p:nvSpPr>
        <p:spPr>
          <a:xfrm>
            <a:off x="5740560" y="1487520"/>
            <a:ext cx="4600440" cy="120960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拟解决的方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15"/>
          <p:cNvSpPr/>
          <p:nvPr/>
        </p:nvSpPr>
        <p:spPr>
          <a:xfrm>
            <a:off x="5740560" y="4443480"/>
            <a:ext cx="4600440" cy="140004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到发线运用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制与评价一体化系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13"/>
          <p:cNvSpPr/>
          <p:nvPr/>
        </p:nvSpPr>
        <p:spPr>
          <a:xfrm>
            <a:off x="10985400" y="6458040"/>
            <a:ext cx="862200" cy="399960"/>
          </a:xfrm>
          <a:prstGeom prst="rect">
            <a:avLst/>
          </a:prstGeom>
          <a:solidFill>
            <a:srgbClr val="017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97"/>
          <p:cNvSpPr/>
          <p:nvPr/>
        </p:nvSpPr>
        <p:spPr>
          <a:xfrm>
            <a:off x="4044960" y="212760"/>
            <a:ext cx="410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. 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提出研究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indefinite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indefinite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indefinite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97"/>
          <p:cNvSpPr/>
          <p:nvPr/>
        </p:nvSpPr>
        <p:spPr>
          <a:xfrm>
            <a:off x="3222720" y="82548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提出研究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97"/>
          <p:cNvSpPr/>
          <p:nvPr/>
        </p:nvSpPr>
        <p:spPr>
          <a:xfrm>
            <a:off x="3222720" y="193500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研究对象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97"/>
          <p:cNvSpPr/>
          <p:nvPr/>
        </p:nvSpPr>
        <p:spPr>
          <a:xfrm>
            <a:off x="3222720" y="304632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型与算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97"/>
          <p:cNvSpPr/>
          <p:nvPr/>
        </p:nvSpPr>
        <p:spPr>
          <a:xfrm>
            <a:off x="3222720" y="4156200"/>
            <a:ext cx="7518240" cy="92844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仿真与评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97"/>
          <p:cNvSpPr/>
          <p:nvPr/>
        </p:nvSpPr>
        <p:spPr>
          <a:xfrm>
            <a:off x="3222720" y="5267160"/>
            <a:ext cx="7518240" cy="928800"/>
          </a:xfrm>
          <a:prstGeom prst="rect">
            <a:avLst/>
          </a:prstGeom>
          <a:solidFill>
            <a:srgbClr val="2e75b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5.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案例验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4" descr="\\MAGNUM\Projects\Microsoft\Cloud Power FY12\Design\ICONS_PNG\Open_Web_Platform.png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2141640" y="874800"/>
            <a:ext cx="826920" cy="828720"/>
          </a:xfrm>
          <a:prstGeom prst="rect">
            <a:avLst/>
          </a:prstGeom>
          <a:ln w="0">
            <a:noFill/>
          </a:ln>
        </p:spPr>
      </p:pic>
      <p:grpSp>
        <p:nvGrpSpPr>
          <p:cNvPr id="592" name="组合 9"/>
          <p:cNvGrpSpPr/>
          <p:nvPr/>
        </p:nvGrpSpPr>
        <p:grpSpPr>
          <a:xfrm>
            <a:off x="1922400" y="1754280"/>
            <a:ext cx="1258920" cy="1298520"/>
            <a:chOff x="1922400" y="1754280"/>
            <a:chExt cx="1258920" cy="1298520"/>
          </a:xfrm>
        </p:grpSpPr>
        <p:sp>
          <p:nvSpPr>
            <p:cNvPr id="593" name="矩形 10"/>
            <p:cNvSpPr/>
            <p:nvPr/>
          </p:nvSpPr>
          <p:spPr>
            <a:xfrm>
              <a:off x="1922400" y="1754280"/>
              <a:ext cx="125892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4" name="Group 2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595" name="Freeform 22"/>
          <p:cNvSpPr/>
          <p:nvPr/>
        </p:nvSpPr>
        <p:spPr>
          <a:xfrm>
            <a:off x="2254320" y="3233880"/>
            <a:ext cx="611280" cy="628560"/>
          </a:xfrm>
          <a:custGeom>
            <a:avLst/>
            <a:gdLst/>
            <a:ahLst/>
            <a:rect l="l" t="t" r="r" b="b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28" descr=""/>
          <p:cNvPicPr/>
          <p:nvPr/>
        </p:nvPicPr>
        <p:blipFill>
          <a:blip r:embed="rId2"/>
          <a:stretch/>
        </p:blipFill>
        <p:spPr>
          <a:xfrm>
            <a:off x="2220840" y="4332240"/>
            <a:ext cx="679680" cy="5778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\\MAGNUM\Projects\Microsoft\Cloud Power FY12\Design\Icons\PNGs\Self_Service.png"/>
          <p:cNvPicPr/>
          <p:nvPr/>
        </p:nvPicPr>
        <p:blipFill>
          <a:blip r:embed="rId3"/>
          <a:stretch/>
        </p:blipFill>
        <p:spPr>
          <a:xfrm>
            <a:off x="2125800" y="5305320"/>
            <a:ext cx="852480" cy="852480"/>
          </a:xfrm>
          <a:prstGeom prst="rect">
            <a:avLst/>
          </a:prstGeom>
          <a:ln w="0">
            <a:noFill/>
          </a:ln>
        </p:spPr>
      </p:pic>
      <p:sp>
        <p:nvSpPr>
          <p:cNvPr id="598" name="TextBox 97"/>
          <p:cNvSpPr/>
          <p:nvPr/>
        </p:nvSpPr>
        <p:spPr>
          <a:xfrm>
            <a:off x="3222720" y="1935000"/>
            <a:ext cx="7518240" cy="928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1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500" autoRev="1" fill="hold"/>
                                        <p:tgtEl>
                                          <p:spTgt spid="5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6:2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013-12-06T06:04:00Z</cp:lastPrinted>
  <dcterms:modified xsi:type="dcterms:W3CDTF">2016-05-19T06:40:23Z</dcterms:modified>
  <cp:revision>2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