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CD8A3-2B0C-4702-A955-07775E045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052AC-94B0-40C1-AC5A-294C24331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4095E-04EB-49EA-83A0-89AD457A0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8038C-6D93-4820-8F6A-CE3B300F6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BFD96-8933-41C7-9CB0-EEDB806F7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99CC4-08DA-4695-BD97-20EC76C05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789D1-C01F-4B39-9DE5-24B8317F1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4DB21-D37B-4485-8DBE-9D84F17FE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7EA26-E74D-457B-A4B9-98EE30EB7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8F4FE-CE2D-49BC-A99C-FD7686A5A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89646-E2BE-4C81-85B4-BFB11BD63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7A3A5-9426-42C2-BEA6-699E679C8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AD7ED-0C57-49DC-AC15-0FBA76C61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0D20C-41DB-440E-BE21-D77832CF6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7689E-13B9-4DA1-96C8-EAFEAE2FC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ECFF6-BFB1-49B2-893C-06BCDBF3F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3DD5D-8B22-4FBA-886E-ABA6A02C8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94D457-A61A-4A5D-85C1-56F798218E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5A8E42-EA42-4A7A-AE2B-533883D14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62A120-735F-4DCB-A608-183F58F3B4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A11BE-7D7E-423E-B95A-3AA174854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081E14-A21E-4E62-920D-AD7359CAEB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CE37F-F986-4A6B-8027-50B4120FA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DFC132-82F3-4E49-A823-2402CD7886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20AB1-6743-41F9-A572-DE5F16B394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CAA13-D7B3-45A9-94C9-B9F8A27E2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69BFD-7C71-44E9-982D-D29B565F3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B946A-83B9-47FC-8829-6E3D30327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693BD-3C01-4B04-8A4E-12030C90A3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1091D0-F095-4646-B813-1F2004702B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BB9C3-FE11-403C-AC49-9371068E2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C95D2-445A-4129-8F60-62C014D8F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8A6B8-3DAB-490E-A55D-92A6E2278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D3CEC-032D-45CC-9949-036E225D3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68DBB-1B91-4337-A71B-A93B014D3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953C-85D8-4A2F-9316-3E6B08889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E0CC-DF5B-4824-A041-0555AA265D8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F9C0-C87F-4E0D-BD1D-A904D1DE3AD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5B53-04C9-4C89-81A1-0D3AD91B2849}"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ACAC-78F8-489E-A406-C17FE27B6AA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文本框 3073"/>
          <p:cNvSpPr/>
          <p:nvPr/>
        </p:nvSpPr>
        <p:spPr>
          <a:xfrm>
            <a:off x="1571760" y="5084640"/>
            <a:ext cx="497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简约毕业论文答辩</a:t>
            </a:r>
            <a:r>
              <a:rPr b="0" lang="en-US" sz="4000" spc="-1" strike="noStrike">
                <a:solidFill>
                  <a:srgbClr val="000000"/>
                </a:solidFill>
                <a:latin typeface="宋体"/>
              </a:rPr>
              <a:t>PPT</a:t>
            </a:r>
            <a:r>
              <a:rPr b="0" lang="zh-CN" sz="4000" spc="-1" strike="noStrike">
                <a:solidFill>
                  <a:srgbClr val="000000"/>
                </a:solidFill>
                <a:latin typeface="宋体"/>
              </a:rPr>
              <a:t>模板下载</a:t>
            </a:r>
            <a:endParaRPr b="0" lang="en-US" sz="4000" spc="-1" strike="noStrike">
              <a:solidFill>
                <a:srgbClr val="000000"/>
              </a:solidFill>
              <a:latin typeface="Arial"/>
            </a:endParaRPr>
          </a:p>
        </p:txBody>
      </p:sp>
      <p:sp>
        <p:nvSpPr>
          <p:cNvPr id="12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文本框 4097"/>
          <p:cNvSpPr/>
          <p:nvPr/>
        </p:nvSpPr>
        <p:spPr>
          <a:xfrm>
            <a:off x="2051640" y="351000"/>
            <a:ext cx="6636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Dotum"/>
              </a:rPr>
              <a:t>Name of your presentation</a:t>
            </a:r>
            <a:endParaRPr b="0" lang="en-US" sz="4000" spc="-1" strike="noStrike">
              <a:solidFill>
                <a:srgbClr val="000000"/>
              </a:solidFill>
              <a:latin typeface="Arial"/>
            </a:endParaRPr>
          </a:p>
        </p:txBody>
      </p:sp>
      <p:sp>
        <p:nvSpPr>
          <p:cNvPr id="127" name="文本框 4098"/>
          <p:cNvSpPr/>
          <p:nvPr/>
        </p:nvSpPr>
        <p:spPr>
          <a:xfrm>
            <a:off x="1042920" y="1700280"/>
            <a:ext cx="752472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1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文本框 6145"/>
          <p:cNvSpPr/>
          <p:nvPr/>
        </p:nvSpPr>
        <p:spPr>
          <a:xfrm>
            <a:off x="1042920" y="1700280"/>
            <a:ext cx="752472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130" name="PlaceHolder 1"/>
          <p:cNvSpPr>
            <a:spLocks noGrp="1"/>
          </p:cNvSpPr>
          <p:nvPr>
            <p:ph type="title"/>
          </p:nvPr>
        </p:nvSpPr>
        <p:spPr>
          <a:xfrm>
            <a:off x="4665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Dotum"/>
              </a:rPr>
              <a:t>Name of your presentation</a:t>
            </a:r>
            <a:endParaRPr b="0" lang="en-US" sz="4000" spc="-1" strike="noStrike">
              <a:solidFill>
                <a:srgbClr val="000000"/>
              </a:solidFill>
              <a:latin typeface="Arial"/>
            </a:endParaRPr>
          </a:p>
        </p:txBody>
      </p:sp>
      <p:sp>
        <p:nvSpPr>
          <p:cNvPr id="131" name="文本框 6147"/>
          <p:cNvSpPr/>
          <p:nvPr/>
        </p:nvSpPr>
        <p:spPr>
          <a:xfrm>
            <a:off x="1456560" y="641988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ww.ppt123.net</a:t>
            </a:r>
            <a:endParaRPr b="0" lang="en-US" sz="1800" spc="-1" strike="noStrike">
              <a:solidFill>
                <a:srgbClr val="000000"/>
              </a:solidFill>
              <a:latin typeface="Arial"/>
            </a:endParaRPr>
          </a:p>
        </p:txBody>
      </p:sp>
      <p:sp>
        <p:nvSpPr>
          <p:cNvPr id="13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3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8573-CFBE-4346-B5C3-C8748252F56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文本框 4097"/>
          <p:cNvSpPr/>
          <p:nvPr/>
        </p:nvSpPr>
        <p:spPr>
          <a:xfrm>
            <a:off x="2051640" y="351000"/>
            <a:ext cx="6636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Dotum"/>
              </a:rPr>
              <a:t>Name of your presentation</a:t>
            </a:r>
            <a:endParaRPr b="0" lang="en-US" sz="4000" spc="-1" strike="noStrike">
              <a:solidFill>
                <a:srgbClr val="000000"/>
              </a:solidFill>
              <a:latin typeface="Arial"/>
            </a:endParaRPr>
          </a:p>
        </p:txBody>
      </p:sp>
      <p:sp>
        <p:nvSpPr>
          <p:cNvPr id="138" name="文本框 4098"/>
          <p:cNvSpPr/>
          <p:nvPr/>
        </p:nvSpPr>
        <p:spPr>
          <a:xfrm>
            <a:off x="1042920" y="1700280"/>
            <a:ext cx="752472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13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1T09:32:22Z</dcterms:created>
  <dc:creator>幻灯片之家：www.eeppt.com</dc:creator>
  <dc:description>幻灯片之家：www.eeppt.com</dc:description>
  <cp:keywords>幻灯片之家：www.eeppt.com</cp:keywords>
  <dc:language>en-US</dc:language>
  <cp:lastModifiedBy>pc</cp:lastModifiedBy>
  <dcterms:modified xsi:type="dcterms:W3CDTF">2016-05-19T06:43:35Z</dcterms:modified>
  <cp:revision>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