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CA3-586D-49A2-8CB3-CED51B79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5C9-1CB4-4F04-8613-5E7F3A9E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530-4F72-4E26-887B-80CFA092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ECC-EB1E-4936-9288-703EDA63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4C48-1713-450A-919F-2EC24517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1D51-209F-47CD-9DD8-832329F6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AAD7-F204-4CBD-B06F-DF16B396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A278-D697-44CF-8238-0BDF1AE5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26A3-A678-4B21-9B30-2B466E36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ECF6-040F-4B4F-B73F-691D3F54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3987-FEBA-4069-831A-9BE507B5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A47-7F64-4BEC-B703-345CE7AD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C884-C5C9-4637-A756-8D410248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317A-F116-46F8-ABF5-0BB6B1CB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67EC-A9B7-4188-898B-E15E6E6B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66E8-325C-4C37-B5E8-BCA8D6C3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3061-A314-4DC9-BFE8-C7662C9B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356-99BE-459D-AE93-3DD4D756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8F7-B679-4E77-A8C2-3CCB0CB2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8DE-DA20-4B1B-A17D-1739AF55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19C-EF96-41C8-A74F-3F092E68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DCD-F9FB-4F53-8442-28781C3D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D17-818D-4A0C-B526-75EC64AE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5A9-8B77-4F1E-9F51-21A690DE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0A6C-7960-4BFF-AD76-26D19076D0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25A8-E602-42D4-BE32-6A0A5AF5DDB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43EA-91AE-47BA-995C-10A1C7643B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3"/>
          <p:cNvGrpSpPr/>
          <p:nvPr/>
        </p:nvGrpSpPr>
        <p:grpSpPr>
          <a:xfrm>
            <a:off x="7397640" y="-1301760"/>
            <a:ext cx="6207120" cy="8078760"/>
            <a:chOff x="7397640" y="-1301760"/>
            <a:chExt cx="6207120" cy="8078760"/>
          </a:xfrm>
        </p:grpSpPr>
        <p:sp>
          <p:nvSpPr>
            <p:cNvPr id="83" name="流程图: 数据 13"/>
            <p:cNvSpPr/>
            <p:nvPr/>
          </p:nvSpPr>
          <p:spPr>
            <a:xfrm>
              <a:off x="7397640" y="3902400"/>
              <a:ext cx="3010680" cy="1200240"/>
            </a:xfrm>
            <a:prstGeom prst="flowChartInputOutput">
              <a:avLst/>
            </a:pr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11266200" y="738360"/>
              <a:ext cx="1730160" cy="4591440"/>
            </a:xfrm>
            <a:custGeom>
              <a:avLst/>
              <a:gdLst/>
              <a:ahLst/>
              <a:rect l="l" t="t" r="r" b="b"/>
              <a:pathLst>
                <a:path w="333" h="885">
                  <a:moveTo>
                    <a:pt x="106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97" y="224"/>
                    <a:pt x="141" y="383"/>
                    <a:pt x="141" y="511"/>
                  </a:cubicBezTo>
                  <a:cubicBezTo>
                    <a:pt x="141" y="611"/>
                    <a:pt x="94" y="761"/>
                    <a:pt x="2" y="844"/>
                  </a:cubicBezTo>
                  <a:cubicBezTo>
                    <a:pt x="91" y="854"/>
                    <a:pt x="162" y="869"/>
                    <a:pt x="216" y="885"/>
                  </a:cubicBezTo>
                  <a:cubicBezTo>
                    <a:pt x="296" y="769"/>
                    <a:pt x="333" y="627"/>
                    <a:pt x="333" y="511"/>
                  </a:cubicBezTo>
                  <a:cubicBezTo>
                    <a:pt x="333" y="336"/>
                    <a:pt x="273" y="110"/>
                    <a:pt x="106" y="0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8295840" y="5190120"/>
              <a:ext cx="4799160" cy="622080"/>
            </a:xfrm>
            <a:custGeom>
              <a:avLst/>
              <a:gdLst/>
              <a:ahLst/>
              <a:rect l="l" t="t" r="r" b="b"/>
              <a:pathLst>
                <a:path w="924" h="120">
                  <a:moveTo>
                    <a:pt x="909" y="109"/>
                  </a:moveTo>
                  <a:cubicBezTo>
                    <a:pt x="909" y="109"/>
                    <a:pt x="770" y="22"/>
                    <a:pt x="462" y="11"/>
                  </a:cubicBezTo>
                  <a:cubicBezTo>
                    <a:pt x="159" y="0"/>
                    <a:pt x="16" y="109"/>
                    <a:pt x="16" y="109"/>
                  </a:cubicBezTo>
                  <a:cubicBezTo>
                    <a:pt x="0" y="115"/>
                    <a:pt x="2" y="120"/>
                    <a:pt x="20" y="120"/>
                  </a:cubicBezTo>
                  <a:cubicBezTo>
                    <a:pt x="905" y="120"/>
                    <a:pt x="905" y="120"/>
                    <a:pt x="905" y="120"/>
                  </a:cubicBezTo>
                  <a:cubicBezTo>
                    <a:pt x="923" y="120"/>
                    <a:pt x="924" y="115"/>
                    <a:pt x="909" y="109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7787880" y="6056640"/>
              <a:ext cx="5816880" cy="720360"/>
            </a:xfrm>
            <a:custGeom>
              <a:avLst/>
              <a:gdLst/>
              <a:ahLst/>
              <a:rect l="l" t="t" r="r" b="b"/>
              <a:pathLst>
                <a:path w="1120" h="139">
                  <a:moveTo>
                    <a:pt x="1091" y="29"/>
                  </a:moveTo>
                  <a:cubicBezTo>
                    <a:pt x="1082" y="13"/>
                    <a:pt x="1061" y="0"/>
                    <a:pt x="1044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60" y="0"/>
                    <a:pt x="38" y="13"/>
                    <a:pt x="30" y="29"/>
                  </a:cubicBezTo>
                  <a:cubicBezTo>
                    <a:pt x="3" y="108"/>
                    <a:pt x="3" y="108"/>
                    <a:pt x="3" y="108"/>
                  </a:cubicBezTo>
                  <a:cubicBezTo>
                    <a:pt x="0" y="125"/>
                    <a:pt x="12" y="139"/>
                    <a:pt x="30" y="139"/>
                  </a:cubicBezTo>
                  <a:cubicBezTo>
                    <a:pt x="1091" y="139"/>
                    <a:pt x="1091" y="139"/>
                    <a:pt x="1091" y="139"/>
                  </a:cubicBezTo>
                  <a:cubicBezTo>
                    <a:pt x="1108" y="139"/>
                    <a:pt x="1120" y="125"/>
                    <a:pt x="1117" y="108"/>
                  </a:cubicBezTo>
                  <a:lnTo>
                    <a:pt x="1091" y="29"/>
                  </a:ln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8499240" y="4028400"/>
              <a:ext cx="3110040" cy="274320"/>
            </a:xfrm>
            <a:custGeom>
              <a:avLst/>
              <a:gdLst/>
              <a:ahLst/>
              <a:rect l="l" t="t" r="r" b="b"/>
              <a:pathLst>
                <a:path w="599" h="53">
                  <a:moveTo>
                    <a:pt x="573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2"/>
                    <a:pt x="0" y="26"/>
                  </a:cubicBezTo>
                  <a:cubicBezTo>
                    <a:pt x="0" y="41"/>
                    <a:pt x="12" y="53"/>
                    <a:pt x="27" y="53"/>
                  </a:cubicBezTo>
                  <a:cubicBezTo>
                    <a:pt x="573" y="53"/>
                    <a:pt x="573" y="53"/>
                    <a:pt x="573" y="53"/>
                  </a:cubicBezTo>
                  <a:cubicBezTo>
                    <a:pt x="587" y="53"/>
                    <a:pt x="599" y="41"/>
                    <a:pt x="599" y="26"/>
                  </a:cubicBezTo>
                  <a:cubicBezTo>
                    <a:pt x="599" y="12"/>
                    <a:pt x="587" y="0"/>
                    <a:pt x="573" y="0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8841960" y="4426560"/>
              <a:ext cx="2430360" cy="233280"/>
            </a:xfrm>
            <a:custGeom>
              <a:avLst/>
              <a:gdLst/>
              <a:ahLst/>
              <a:rect l="l" t="t" r="r" b="b"/>
              <a:pathLst>
                <a:path w="468" h="45">
                  <a:moveTo>
                    <a:pt x="446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0" y="0"/>
                    <a:pt x="0" y="10"/>
                    <a:pt x="0" y="22"/>
                  </a:cubicBezTo>
                  <a:cubicBezTo>
                    <a:pt x="0" y="35"/>
                    <a:pt x="10" y="45"/>
                    <a:pt x="22" y="45"/>
                  </a:cubicBezTo>
                  <a:cubicBezTo>
                    <a:pt x="446" y="45"/>
                    <a:pt x="446" y="45"/>
                    <a:pt x="446" y="45"/>
                  </a:cubicBezTo>
                  <a:cubicBezTo>
                    <a:pt x="458" y="45"/>
                    <a:pt x="468" y="35"/>
                    <a:pt x="468" y="22"/>
                  </a:cubicBezTo>
                  <a:cubicBezTo>
                    <a:pt x="468" y="10"/>
                    <a:pt x="458" y="0"/>
                    <a:pt x="446" y="0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9272160" y="-937440"/>
              <a:ext cx="2919600" cy="3575520"/>
            </a:xfrm>
            <a:custGeom>
              <a:avLst/>
              <a:gdLst/>
              <a:ahLst/>
              <a:rect l="l" t="t" r="r" b="b"/>
              <a:pathLst>
                <a:path w="562" h="689">
                  <a:moveTo>
                    <a:pt x="508" y="68"/>
                  </a:moveTo>
                  <a:cubicBezTo>
                    <a:pt x="445" y="27"/>
                    <a:pt x="445" y="27"/>
                    <a:pt x="445" y="27"/>
                  </a:cubicBezTo>
                  <a:cubicBezTo>
                    <a:pt x="405" y="0"/>
                    <a:pt x="353" y="7"/>
                    <a:pt x="330" y="43"/>
                  </a:cubicBezTo>
                  <a:cubicBezTo>
                    <a:pt x="23" y="509"/>
                    <a:pt x="23" y="509"/>
                    <a:pt x="23" y="509"/>
                  </a:cubicBezTo>
                  <a:cubicBezTo>
                    <a:pt x="0" y="545"/>
                    <a:pt x="13" y="595"/>
                    <a:pt x="53" y="621"/>
                  </a:cubicBezTo>
                  <a:cubicBezTo>
                    <a:pt x="116" y="663"/>
                    <a:pt x="116" y="663"/>
                    <a:pt x="116" y="663"/>
                  </a:cubicBezTo>
                  <a:cubicBezTo>
                    <a:pt x="156" y="689"/>
                    <a:pt x="208" y="682"/>
                    <a:pt x="231" y="646"/>
                  </a:cubicBezTo>
                  <a:cubicBezTo>
                    <a:pt x="538" y="180"/>
                    <a:pt x="538" y="180"/>
                    <a:pt x="538" y="180"/>
                  </a:cubicBezTo>
                  <a:cubicBezTo>
                    <a:pt x="562" y="145"/>
                    <a:pt x="548" y="94"/>
                    <a:pt x="508" y="68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8810280" y="2201400"/>
              <a:ext cx="1241280" cy="1031400"/>
            </a:xfrm>
            <a:custGeom>
              <a:avLst/>
              <a:gdLst/>
              <a:ahLst/>
              <a:rect l="l" t="t" r="r" b="b"/>
              <a:pathLst>
                <a:path w="239" h="199">
                  <a:moveTo>
                    <a:pt x="216" y="116"/>
                  </a:moveTo>
                  <a:cubicBezTo>
                    <a:pt x="73" y="13"/>
                    <a:pt x="73" y="13"/>
                    <a:pt x="73" y="13"/>
                  </a:cubicBezTo>
                  <a:cubicBezTo>
                    <a:pt x="54" y="0"/>
                    <a:pt x="28" y="4"/>
                    <a:pt x="14" y="23"/>
                  </a:cubicBezTo>
                  <a:cubicBezTo>
                    <a:pt x="0" y="42"/>
                    <a:pt x="4" y="69"/>
                    <a:pt x="23" y="83"/>
                  </a:cubicBezTo>
                  <a:cubicBezTo>
                    <a:pt x="166" y="185"/>
                    <a:pt x="166" y="185"/>
                    <a:pt x="166" y="185"/>
                  </a:cubicBezTo>
                  <a:cubicBezTo>
                    <a:pt x="185" y="199"/>
                    <a:pt x="212" y="195"/>
                    <a:pt x="225" y="176"/>
                  </a:cubicBezTo>
                  <a:cubicBezTo>
                    <a:pt x="239" y="156"/>
                    <a:pt x="235" y="130"/>
                    <a:pt x="216" y="116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11542680" y="-1301760"/>
              <a:ext cx="857160" cy="752040"/>
            </a:xfrm>
            <a:custGeom>
              <a:avLst/>
              <a:gdLst/>
              <a:ahLst/>
              <a:rect l="l" t="t" r="r" b="b"/>
              <a:pathLst>
                <a:path w="165" h="145">
                  <a:moveTo>
                    <a:pt x="135" y="47"/>
                  </a:moveTo>
                  <a:cubicBezTo>
                    <a:pt x="82" y="14"/>
                    <a:pt x="82" y="14"/>
                    <a:pt x="82" y="14"/>
                  </a:cubicBezTo>
                  <a:cubicBezTo>
                    <a:pt x="59" y="0"/>
                    <a:pt x="29" y="7"/>
                    <a:pt x="14" y="30"/>
                  </a:cubicBezTo>
                  <a:cubicBezTo>
                    <a:pt x="0" y="53"/>
                    <a:pt x="7" y="84"/>
                    <a:pt x="30" y="98"/>
                  </a:cubicBezTo>
                  <a:cubicBezTo>
                    <a:pt x="83" y="131"/>
                    <a:pt x="83" y="131"/>
                    <a:pt x="83" y="131"/>
                  </a:cubicBezTo>
                  <a:cubicBezTo>
                    <a:pt x="106" y="145"/>
                    <a:pt x="137" y="138"/>
                    <a:pt x="151" y="115"/>
                  </a:cubicBezTo>
                  <a:cubicBezTo>
                    <a:pt x="165" y="92"/>
                    <a:pt x="158" y="61"/>
                    <a:pt x="135" y="47"/>
                  </a:cubicBezTo>
                  <a:close/>
                </a:path>
              </a:pathLst>
            </a:custGeom>
            <a:solidFill>
              <a:srgbClr val="dde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11"/>
          <p:cNvSpPr/>
          <p:nvPr/>
        </p:nvSpPr>
        <p:spPr>
          <a:xfrm>
            <a:off x="0" y="1289160"/>
            <a:ext cx="9793440" cy="327636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711360" y="2489040"/>
            <a:ext cx="75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afa"/>
                </a:solidFill>
                <a:latin typeface="宋体"/>
              </a:rPr>
              <a:t>简约论文答辩</a:t>
            </a:r>
            <a:r>
              <a:rPr b="1" lang="en-US" sz="4000" spc="-1" strike="noStrike">
                <a:solidFill>
                  <a:srgbClr val="fafafa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afafa"/>
                </a:solidFill>
                <a:latin typeface="宋体"/>
              </a:rPr>
              <a:t>模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"/>
          <p:cNvSpPr/>
          <p:nvPr/>
        </p:nvSpPr>
        <p:spPr>
          <a:xfrm>
            <a:off x="119160" y="3778200"/>
            <a:ext cx="97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afa"/>
                </a:solidFill>
                <a:latin typeface="Arial Unicode MS"/>
                <a:ea typeface="Arial Unicode MS"/>
              </a:rPr>
              <a:t>The graduation thesis plea of XXX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6896880" y="4641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4e79"/>
                </a:solidFill>
                <a:latin typeface="Adobe 黑体 Std R"/>
                <a:ea typeface="Adobe 黑体 Std R"/>
              </a:rPr>
              <a:t>指导老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"/>
          <p:cNvSpPr/>
          <p:nvPr/>
        </p:nvSpPr>
        <p:spPr>
          <a:xfrm>
            <a:off x="3217320" y="4641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4e79"/>
                </a:solidFill>
                <a:latin typeface="Adobe 黑体 Std R"/>
                <a:ea typeface="Adobe 黑体 Std R"/>
              </a:rPr>
              <a:t>答辩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平行四边形 10"/>
          <p:cNvSpPr/>
          <p:nvPr/>
        </p:nvSpPr>
        <p:spPr>
          <a:xfrm rot="5400000">
            <a:off x="8618400" y="5472000"/>
            <a:ext cx="1216080" cy="914400"/>
          </a:xfrm>
          <a:prstGeom prst="parallelogram">
            <a:avLst>
              <a:gd name="adj" fmla="val 24998"/>
            </a:avLst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主要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"/>
          <p:cNvGrpSpPr/>
          <p:nvPr/>
        </p:nvGrpSpPr>
        <p:grpSpPr>
          <a:xfrm>
            <a:off x="549360" y="1000080"/>
            <a:ext cx="8128080" cy="5419800"/>
            <a:chOff x="549360" y="1000080"/>
            <a:chExt cx="8128080" cy="5419800"/>
          </a:xfrm>
        </p:grpSpPr>
        <p:sp>
          <p:nvSpPr>
            <p:cNvPr id="240" name="AutoShape 6"/>
            <p:cNvSpPr/>
            <p:nvPr/>
          </p:nvSpPr>
          <p:spPr>
            <a:xfrm>
              <a:off x="549360" y="1000080"/>
              <a:ext cx="8128080" cy="1624680"/>
            </a:xfrm>
            <a:prstGeom prst="rightArrow">
              <a:avLst>
                <a:gd name="adj1" fmla="val 50000"/>
                <a:gd name="adj2" fmla="val 36364"/>
              </a:avLst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549360" y="1406160"/>
              <a:ext cx="78321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549360" y="2252880"/>
              <a:ext cx="2503440" cy="31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9"/>
            <p:cNvSpPr/>
            <p:nvPr/>
          </p:nvSpPr>
          <p:spPr>
            <a:xfrm>
              <a:off x="549360" y="2252880"/>
              <a:ext cx="2503440" cy="31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t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This is a sample text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Insert your desired text here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0"/>
            <p:cNvSpPr/>
            <p:nvPr/>
          </p:nvSpPr>
          <p:spPr>
            <a:xfrm>
              <a:off x="3052800" y="1541520"/>
              <a:ext cx="5624640" cy="1624680"/>
            </a:xfrm>
            <a:prstGeom prst="rightArrow">
              <a:avLst>
                <a:gd name="adj1" fmla="val 50000"/>
                <a:gd name="adj2" fmla="val 36383"/>
              </a:avLst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1"/>
            <p:cNvSpPr/>
            <p:nvPr/>
          </p:nvSpPr>
          <p:spPr>
            <a:xfrm>
              <a:off x="3052800" y="1947600"/>
              <a:ext cx="532872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2"/>
            <p:cNvSpPr/>
            <p:nvPr/>
          </p:nvSpPr>
          <p:spPr>
            <a:xfrm>
              <a:off x="3052800" y="2794320"/>
              <a:ext cx="2503440" cy="31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3052800" y="2794320"/>
              <a:ext cx="2503440" cy="31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t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This is a sample text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Insert your desired text here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4"/>
            <p:cNvSpPr/>
            <p:nvPr/>
          </p:nvSpPr>
          <p:spPr>
            <a:xfrm>
              <a:off x="5556240" y="2082960"/>
              <a:ext cx="3121200" cy="1624680"/>
            </a:xfrm>
            <a:prstGeom prst="rightArrow">
              <a:avLst>
                <a:gd name="adj1" fmla="val 50000"/>
                <a:gd name="adj2" fmla="val 36412"/>
              </a:avLst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5556240" y="2489400"/>
              <a:ext cx="282528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6"/>
            <p:cNvSpPr/>
            <p:nvPr/>
          </p:nvSpPr>
          <p:spPr>
            <a:xfrm>
              <a:off x="5556240" y="3336120"/>
              <a:ext cx="2503440" cy="308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7"/>
            <p:cNvSpPr/>
            <p:nvPr/>
          </p:nvSpPr>
          <p:spPr>
            <a:xfrm>
              <a:off x="5556240" y="3336120"/>
              <a:ext cx="2503440" cy="30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t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e4e79"/>
                  </a:solidFill>
                  <a:latin typeface="Arial Unicode MS"/>
                  <a:ea typeface="Arial Unicode MS"/>
                </a:rPr>
                <a:t>This is a sample text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e4e79"/>
                  </a:solidFill>
                  <a:latin typeface="Arial Unicode MS"/>
                  <a:ea typeface="Arial Unicode MS"/>
                </a:rPr>
                <a:t>Insert your desired text here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矩形 7"/>
          <p:cNvSpPr/>
          <p:nvPr/>
        </p:nvSpPr>
        <p:spPr>
          <a:xfrm>
            <a:off x="8769240" y="1228680"/>
            <a:ext cx="3048120" cy="503244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8"/>
          <p:cNvSpPr/>
          <p:nvPr/>
        </p:nvSpPr>
        <p:spPr>
          <a:xfrm>
            <a:off x="9347040" y="2381400"/>
            <a:ext cx="2597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结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1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255" name="流程图: 数据 12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3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3213000" y="1555920"/>
            <a:ext cx="5693040" cy="4120920"/>
            <a:chOff x="3213000" y="1555920"/>
            <a:chExt cx="5693040" cy="4120920"/>
          </a:xfrm>
        </p:grpSpPr>
        <p:sp>
          <p:nvSpPr>
            <p:cNvPr id="260" name="Rectangle 6"/>
            <p:cNvSpPr/>
            <p:nvPr/>
          </p:nvSpPr>
          <p:spPr>
            <a:xfrm>
              <a:off x="6571440" y="1555920"/>
              <a:ext cx="2334600" cy="17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4363200" y="4046040"/>
              <a:ext cx="3105720" cy="16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3213000" y="1773000"/>
              <a:ext cx="2334600" cy="17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338240" y="1640880"/>
            <a:ext cx="1360800" cy="773280"/>
            <a:chOff x="7338240" y="1640880"/>
            <a:chExt cx="1360800" cy="773280"/>
          </a:xfrm>
        </p:grpSpPr>
        <p:cxnSp>
          <p:nvCxnSpPr>
            <p:cNvPr id="264" name="肘形连接符 8"/>
            <p:cNvCxnSpPr/>
            <p:nvPr/>
          </p:nvCxnSpPr>
          <p:spPr>
            <a:xfrm flipV="1">
              <a:off x="7338600" y="1640880"/>
              <a:ext cx="1360800" cy="773640"/>
            </a:xfrm>
            <a:prstGeom prst="straightConnector1">
              <a:avLst/>
            </a:prstGeom>
            <a:ln w="6480">
              <a:solidFill>
                <a:srgbClr val="1e4e79"/>
              </a:solidFill>
              <a:miter/>
            </a:ln>
          </p:spPr>
        </p:cxnSp>
        <p:sp>
          <p:nvSpPr>
            <p:cNvPr id="265" name=""/>
            <p:cNvSpPr txBox="1"/>
            <p:nvPr/>
          </p:nvSpPr>
          <p:spPr>
            <a:xfrm rot="10800000">
              <a:off x="7338240" y="1640880"/>
              <a:ext cx="1360440" cy="77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59160" y="5416200"/>
            <a:ext cx="2157840" cy="468720"/>
            <a:chOff x="6059160" y="5416200"/>
            <a:chExt cx="2157840" cy="468720"/>
          </a:xfrm>
        </p:grpSpPr>
        <p:cxnSp>
          <p:nvCxnSpPr>
            <p:cNvPr id="267" name="肘形连接符 10"/>
            <p:cNvCxnSpPr/>
            <p:nvPr/>
          </p:nvCxnSpPr>
          <p:spPr>
            <a:xfrm>
              <a:off x="6059160" y="5416200"/>
              <a:ext cx="2158200" cy="469080"/>
            </a:xfrm>
            <a:prstGeom prst="straightConnector1">
              <a:avLst/>
            </a:prstGeom>
            <a:ln w="6480">
              <a:solidFill>
                <a:srgbClr val="1e4e79"/>
              </a:solidFill>
              <a:miter/>
            </a:ln>
          </p:spPr>
        </p:cxnSp>
        <p:sp>
          <p:nvSpPr>
            <p:cNvPr id="268" name=""/>
            <p:cNvSpPr txBox="1"/>
            <p:nvPr/>
          </p:nvSpPr>
          <p:spPr>
            <a:xfrm>
              <a:off x="6059160" y="5416200"/>
              <a:ext cx="2157480" cy="4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579040" y="2766600"/>
            <a:ext cx="1878840" cy="698760"/>
            <a:chOff x="2579040" y="2766600"/>
            <a:chExt cx="1878840" cy="698760"/>
          </a:xfrm>
        </p:grpSpPr>
        <p:cxnSp>
          <p:nvCxnSpPr>
            <p:cNvPr id="270" name="肘形连接符 12"/>
            <p:cNvCxnSpPr/>
            <p:nvPr/>
          </p:nvCxnSpPr>
          <p:spPr>
            <a:xfrm flipH="1" flipV="1">
              <a:off x="2579040" y="2766600"/>
              <a:ext cx="1878840" cy="699120"/>
            </a:xfrm>
            <a:prstGeom prst="straightConnector1">
              <a:avLst/>
            </a:prstGeom>
            <a:ln w="6480">
              <a:solidFill>
                <a:srgbClr val="1e4e79"/>
              </a:solidFill>
              <a:miter/>
            </a:ln>
          </p:spPr>
        </p:cxnSp>
        <p:sp>
          <p:nvSpPr>
            <p:cNvPr id="271" name=""/>
            <p:cNvSpPr txBox="1"/>
            <p:nvPr/>
          </p:nvSpPr>
          <p:spPr>
            <a:xfrm rot="10800000">
              <a:off x="2579760" y="2766960"/>
              <a:ext cx="1878120" cy="69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13"/>
          <p:cNvSpPr/>
          <p:nvPr/>
        </p:nvSpPr>
        <p:spPr>
          <a:xfrm>
            <a:off x="8697960" y="137952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  <a:ea typeface="Adobe 黑体 Std R"/>
              </a:rPr>
              <a:t>在这里输入你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4"/>
          <p:cNvSpPr/>
          <p:nvPr/>
        </p:nvSpPr>
        <p:spPr>
          <a:xfrm>
            <a:off x="8217000" y="5649840"/>
            <a:ext cx="65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  <a:ea typeface="Adobe 黑体 Std R"/>
              </a:rPr>
              <a:t>在这里输入你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5"/>
          <p:cNvSpPr/>
          <p:nvPr/>
        </p:nvSpPr>
        <p:spPr>
          <a:xfrm>
            <a:off x="252360" y="195408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  <a:ea typeface="Adobe 黑体 Std R"/>
              </a:rPr>
              <a:t>在这里输入你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7"/>
          <p:cNvSpPr/>
          <p:nvPr/>
        </p:nvSpPr>
        <p:spPr>
          <a:xfrm>
            <a:off x="252360" y="4765680"/>
            <a:ext cx="780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8"/>
          <p:cNvSpPr/>
          <p:nvPr/>
        </p:nvSpPr>
        <p:spPr>
          <a:xfrm>
            <a:off x="279360" y="53434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This is a 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Insert your desired tex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16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278" name="流程图: 数据 19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20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1895040" y="1633680"/>
            <a:ext cx="8401320" cy="5418000"/>
            <a:chOff x="1895040" y="1633680"/>
            <a:chExt cx="8401320" cy="5418000"/>
          </a:xfrm>
        </p:grpSpPr>
        <p:sp>
          <p:nvSpPr>
            <p:cNvPr id="284" name="Freeform 5"/>
            <p:cNvSpPr/>
            <p:nvPr/>
          </p:nvSpPr>
          <p:spPr>
            <a:xfrm rot="5400000">
              <a:off x="1916280" y="420984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2088360" y="454608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"/>
            <p:cNvSpPr/>
            <p:nvPr/>
          </p:nvSpPr>
          <p:spPr>
            <a:xfrm>
              <a:off x="2088360" y="454608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8"/>
            <p:cNvSpPr/>
            <p:nvPr/>
          </p:nvSpPr>
          <p:spPr>
            <a:xfrm>
              <a:off x="3513600" y="336672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9cc2e5"/>
            </a:solidFill>
            <a:ln w="12600">
              <a:solidFill>
                <a:srgbClr val="70ad47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"/>
            <p:cNvSpPr/>
            <p:nvPr/>
          </p:nvSpPr>
          <p:spPr>
            <a:xfrm rot="5400000">
              <a:off x="4066560" y="334404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0"/>
            <p:cNvSpPr/>
            <p:nvPr/>
          </p:nvSpPr>
          <p:spPr>
            <a:xfrm>
              <a:off x="4238640" y="367992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4238640" y="367992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2"/>
            <p:cNvSpPr/>
            <p:nvPr/>
          </p:nvSpPr>
          <p:spPr>
            <a:xfrm>
              <a:off x="5663880" y="250056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9cc2e5"/>
            </a:solidFill>
            <a:ln w="12600">
              <a:solidFill>
                <a:srgbClr val="70ad47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3"/>
            <p:cNvSpPr/>
            <p:nvPr/>
          </p:nvSpPr>
          <p:spPr>
            <a:xfrm rot="5400000">
              <a:off x="6217200" y="247788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6389280" y="28137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389280" y="28137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6"/>
            <p:cNvSpPr/>
            <p:nvPr/>
          </p:nvSpPr>
          <p:spPr>
            <a:xfrm>
              <a:off x="7814520" y="163476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9cc2e5"/>
            </a:solidFill>
            <a:ln w="12600">
              <a:solidFill>
                <a:srgbClr val="70ad47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"/>
            <p:cNvSpPr/>
            <p:nvPr/>
          </p:nvSpPr>
          <p:spPr>
            <a:xfrm rot="5400000">
              <a:off x="8367840" y="161208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8"/>
            <p:cNvSpPr/>
            <p:nvPr/>
          </p:nvSpPr>
          <p:spPr>
            <a:xfrm>
              <a:off x="8539920" y="19479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8539920" y="19479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11"/>
          <p:cNvSpPr/>
          <p:nvPr/>
        </p:nvSpPr>
        <p:spPr>
          <a:xfrm>
            <a:off x="6048360" y="5656320"/>
            <a:ext cx="78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2"/>
          <p:cNvSpPr/>
          <p:nvPr/>
        </p:nvSpPr>
        <p:spPr>
          <a:xfrm>
            <a:off x="1816200" y="562932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e4e79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16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302" name="流程图: 数据 17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8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27"/>
          <p:cNvGrpSpPr/>
          <p:nvPr/>
        </p:nvGrpSpPr>
        <p:grpSpPr>
          <a:xfrm>
            <a:off x="8943840" y="909720"/>
            <a:ext cx="966960" cy="1533600"/>
            <a:chOff x="8943840" y="909720"/>
            <a:chExt cx="966960" cy="1533600"/>
          </a:xfrm>
        </p:grpSpPr>
        <p:sp>
          <p:nvSpPr>
            <p:cNvPr id="305" name="Freeform 5"/>
            <p:cNvSpPr/>
            <p:nvPr/>
          </p:nvSpPr>
          <p:spPr>
            <a:xfrm>
              <a:off x="8943840" y="1003320"/>
              <a:ext cx="96696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>
              <a:off x="9200880" y="909720"/>
              <a:ext cx="45576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9073800" y="1557360"/>
              <a:ext cx="70992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29"/>
          <p:cNvGrpSpPr/>
          <p:nvPr/>
        </p:nvGrpSpPr>
        <p:grpSpPr>
          <a:xfrm>
            <a:off x="6681960" y="1557360"/>
            <a:ext cx="966600" cy="1533600"/>
            <a:chOff x="6681960" y="1557360"/>
            <a:chExt cx="966600" cy="1533600"/>
          </a:xfrm>
        </p:grpSpPr>
        <p:sp>
          <p:nvSpPr>
            <p:cNvPr id="309" name="Freeform 5"/>
            <p:cNvSpPr/>
            <p:nvPr/>
          </p:nvSpPr>
          <p:spPr>
            <a:xfrm>
              <a:off x="6681960" y="1650960"/>
              <a:ext cx="96660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>
              <a:off x="6939000" y="1557360"/>
              <a:ext cx="45540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>
              <a:off x="6811920" y="2205000"/>
              <a:ext cx="70956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33"/>
          <p:cNvGrpSpPr/>
          <p:nvPr/>
        </p:nvGrpSpPr>
        <p:grpSpPr>
          <a:xfrm>
            <a:off x="4413240" y="2038320"/>
            <a:ext cx="966960" cy="1533600"/>
            <a:chOff x="4413240" y="2038320"/>
            <a:chExt cx="966960" cy="1533600"/>
          </a:xfrm>
        </p:grpSpPr>
        <p:sp>
          <p:nvSpPr>
            <p:cNvPr id="313" name="Freeform 5"/>
            <p:cNvSpPr/>
            <p:nvPr/>
          </p:nvSpPr>
          <p:spPr>
            <a:xfrm>
              <a:off x="4413240" y="2131920"/>
              <a:ext cx="96696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"/>
            <p:cNvSpPr/>
            <p:nvPr/>
          </p:nvSpPr>
          <p:spPr>
            <a:xfrm>
              <a:off x="4670280" y="2038320"/>
              <a:ext cx="45576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"/>
            <p:cNvSpPr/>
            <p:nvPr/>
          </p:nvSpPr>
          <p:spPr>
            <a:xfrm>
              <a:off x="4543200" y="2685960"/>
              <a:ext cx="70992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37"/>
          <p:cNvGrpSpPr/>
          <p:nvPr/>
        </p:nvGrpSpPr>
        <p:grpSpPr>
          <a:xfrm>
            <a:off x="2292480" y="2625840"/>
            <a:ext cx="966600" cy="1533240"/>
            <a:chOff x="2292480" y="2625840"/>
            <a:chExt cx="966600" cy="1533240"/>
          </a:xfrm>
        </p:grpSpPr>
        <p:sp>
          <p:nvSpPr>
            <p:cNvPr id="317" name="Freeform 5"/>
            <p:cNvSpPr/>
            <p:nvPr/>
          </p:nvSpPr>
          <p:spPr>
            <a:xfrm>
              <a:off x="2292480" y="2719440"/>
              <a:ext cx="966600" cy="143964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>
              <a:off x="2549520" y="2625840"/>
              <a:ext cx="45540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>
              <a:off x="2422440" y="3273480"/>
              <a:ext cx="70956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2708280" y="1593720"/>
            <a:ext cx="6700680" cy="4467240"/>
            <a:chOff x="2708280" y="1593720"/>
            <a:chExt cx="6700680" cy="4467240"/>
          </a:xfrm>
        </p:grpSpPr>
        <p:sp>
          <p:nvSpPr>
            <p:cNvPr id="323" name="Oval 5"/>
            <p:cNvSpPr/>
            <p:nvPr/>
          </p:nvSpPr>
          <p:spPr>
            <a:xfrm>
              <a:off x="5082480" y="159372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5368320" y="17910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7"/>
            <p:cNvSpPr/>
            <p:nvPr/>
          </p:nvSpPr>
          <p:spPr>
            <a:xfrm rot="2160000">
              <a:off x="6973560" y="262980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 rot="2160000">
              <a:off x="6987960" y="268920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9"/>
            <p:cNvSpPr/>
            <p:nvPr/>
          </p:nvSpPr>
          <p:spPr>
            <a:xfrm>
              <a:off x="7456680" y="27849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7742880" y="29826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1"/>
            <p:cNvSpPr/>
            <p:nvPr/>
          </p:nvSpPr>
          <p:spPr>
            <a:xfrm rot="6480000">
              <a:off x="7803720" y="4083840"/>
              <a:ext cx="359640" cy="658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 rot="17280000">
              <a:off x="7882200" y="4163760"/>
              <a:ext cx="251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3"/>
            <p:cNvSpPr/>
            <p:nvPr/>
          </p:nvSpPr>
          <p:spPr>
            <a:xfrm>
              <a:off x="6549840" y="47127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6835680" y="491004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5"/>
            <p:cNvSpPr/>
            <p:nvPr/>
          </p:nvSpPr>
          <p:spPr>
            <a:xfrm rot="10800000">
              <a:off x="5812920" y="515952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6"/>
            <p:cNvSpPr/>
            <p:nvPr/>
          </p:nvSpPr>
          <p:spPr>
            <a:xfrm>
              <a:off x="5969160" y="525024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"/>
            <p:cNvSpPr/>
            <p:nvPr/>
          </p:nvSpPr>
          <p:spPr>
            <a:xfrm>
              <a:off x="3615120" y="47127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900960" y="491004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9"/>
            <p:cNvSpPr/>
            <p:nvPr/>
          </p:nvSpPr>
          <p:spPr>
            <a:xfrm rot="15120000">
              <a:off x="3962160" y="4102920"/>
              <a:ext cx="359640" cy="658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0"/>
            <p:cNvSpPr/>
            <p:nvPr/>
          </p:nvSpPr>
          <p:spPr>
            <a:xfrm rot="4320000">
              <a:off x="4040280" y="4286160"/>
              <a:ext cx="251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1"/>
            <p:cNvSpPr/>
            <p:nvPr/>
          </p:nvSpPr>
          <p:spPr>
            <a:xfrm>
              <a:off x="2708280" y="27849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2"/>
            <p:cNvSpPr/>
            <p:nvPr/>
          </p:nvSpPr>
          <p:spPr>
            <a:xfrm>
              <a:off x="2994120" y="29826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23"/>
            <p:cNvSpPr/>
            <p:nvPr/>
          </p:nvSpPr>
          <p:spPr>
            <a:xfrm rot="19440000">
              <a:off x="4599000" y="264204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4"/>
            <p:cNvSpPr/>
            <p:nvPr/>
          </p:nvSpPr>
          <p:spPr>
            <a:xfrm rot="19440000">
              <a:off x="4614120" y="276480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7"/>
          <p:cNvGrpSpPr/>
          <p:nvPr/>
        </p:nvGrpSpPr>
        <p:grpSpPr>
          <a:xfrm>
            <a:off x="7448400" y="1611360"/>
            <a:ext cx="2921040" cy="963720"/>
            <a:chOff x="7448400" y="1611360"/>
            <a:chExt cx="2921040" cy="963720"/>
          </a:xfrm>
        </p:grpSpPr>
        <p:sp>
          <p:nvSpPr>
            <p:cNvPr id="344" name="矩形 8"/>
            <p:cNvSpPr/>
            <p:nvPr/>
          </p:nvSpPr>
          <p:spPr>
            <a:xfrm>
              <a:off x="7448400" y="1611360"/>
              <a:ext cx="29210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9"/>
            <p:cNvSpPr/>
            <p:nvPr/>
          </p:nvSpPr>
          <p:spPr>
            <a:xfrm>
              <a:off x="7448400" y="1611360"/>
              <a:ext cx="29210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10"/>
          <p:cNvGrpSpPr/>
          <p:nvPr/>
        </p:nvGrpSpPr>
        <p:grpSpPr>
          <a:xfrm>
            <a:off x="8621640" y="3112920"/>
            <a:ext cx="2919600" cy="963720"/>
            <a:chOff x="8621640" y="3112920"/>
            <a:chExt cx="2919600" cy="963720"/>
          </a:xfrm>
        </p:grpSpPr>
        <p:sp>
          <p:nvSpPr>
            <p:cNvPr id="347" name="矩形 11"/>
            <p:cNvSpPr/>
            <p:nvPr/>
          </p:nvSpPr>
          <p:spPr>
            <a:xfrm>
              <a:off x="8621640" y="3112920"/>
              <a:ext cx="29196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2"/>
            <p:cNvSpPr/>
            <p:nvPr/>
          </p:nvSpPr>
          <p:spPr>
            <a:xfrm>
              <a:off x="8621640" y="3112920"/>
              <a:ext cx="29196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13"/>
          <p:cNvGrpSpPr/>
          <p:nvPr/>
        </p:nvGrpSpPr>
        <p:grpSpPr>
          <a:xfrm>
            <a:off x="7988400" y="5097600"/>
            <a:ext cx="2921040" cy="961920"/>
            <a:chOff x="7988400" y="5097600"/>
            <a:chExt cx="2921040" cy="961920"/>
          </a:xfrm>
        </p:grpSpPr>
        <p:sp>
          <p:nvSpPr>
            <p:cNvPr id="350" name="矩形 14"/>
            <p:cNvSpPr/>
            <p:nvPr/>
          </p:nvSpPr>
          <p:spPr>
            <a:xfrm>
              <a:off x="7988400" y="509760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5"/>
            <p:cNvSpPr/>
            <p:nvPr/>
          </p:nvSpPr>
          <p:spPr>
            <a:xfrm>
              <a:off x="7988400" y="509760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16"/>
          <p:cNvGrpSpPr/>
          <p:nvPr/>
        </p:nvGrpSpPr>
        <p:grpSpPr>
          <a:xfrm>
            <a:off x="1339920" y="4870440"/>
            <a:ext cx="2921040" cy="961920"/>
            <a:chOff x="1339920" y="4870440"/>
            <a:chExt cx="2921040" cy="961920"/>
          </a:xfrm>
        </p:grpSpPr>
        <p:sp>
          <p:nvSpPr>
            <p:cNvPr id="353" name="矩形 17"/>
            <p:cNvSpPr/>
            <p:nvPr/>
          </p:nvSpPr>
          <p:spPr>
            <a:xfrm>
              <a:off x="1339920" y="487044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8"/>
            <p:cNvSpPr/>
            <p:nvPr/>
          </p:nvSpPr>
          <p:spPr>
            <a:xfrm>
              <a:off x="1339920" y="487044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19"/>
          <p:cNvGrpSpPr/>
          <p:nvPr/>
        </p:nvGrpSpPr>
        <p:grpSpPr>
          <a:xfrm>
            <a:off x="1092240" y="2260440"/>
            <a:ext cx="2919240" cy="962280"/>
            <a:chOff x="1092240" y="2260440"/>
            <a:chExt cx="2919240" cy="962280"/>
          </a:xfrm>
        </p:grpSpPr>
        <p:sp>
          <p:nvSpPr>
            <p:cNvPr id="356" name="矩形 20"/>
            <p:cNvSpPr/>
            <p:nvPr/>
          </p:nvSpPr>
          <p:spPr>
            <a:xfrm>
              <a:off x="1092240" y="2260440"/>
              <a:ext cx="29192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21"/>
            <p:cNvSpPr/>
            <p:nvPr/>
          </p:nvSpPr>
          <p:spPr>
            <a:xfrm>
              <a:off x="1092240" y="2260440"/>
              <a:ext cx="29192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22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359" name="流程图: 数据 23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24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1995480" y="1619280"/>
            <a:ext cx="8128080" cy="5418000"/>
            <a:chOff x="1995480" y="1619280"/>
            <a:chExt cx="8128080" cy="5418000"/>
          </a:xfrm>
        </p:grpSpPr>
        <p:sp>
          <p:nvSpPr>
            <p:cNvPr id="364" name="Rectangle 5"/>
            <p:cNvSpPr/>
            <p:nvPr/>
          </p:nvSpPr>
          <p:spPr>
            <a:xfrm>
              <a:off x="2162520" y="2776320"/>
              <a:ext cx="29422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6"/>
            <p:cNvSpPr/>
            <p:nvPr/>
          </p:nvSpPr>
          <p:spPr>
            <a:xfrm>
              <a:off x="2162520" y="2776320"/>
              <a:ext cx="29422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宋体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7"/>
            <p:cNvSpPr/>
            <p:nvPr/>
          </p:nvSpPr>
          <p:spPr>
            <a:xfrm>
              <a:off x="2162520" y="5032800"/>
              <a:ext cx="29422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2162520" y="5032800"/>
              <a:ext cx="29422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在这里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9"/>
            <p:cNvSpPr/>
            <p:nvPr/>
          </p:nvSpPr>
          <p:spPr>
            <a:xfrm>
              <a:off x="2159280" y="2450880"/>
              <a:ext cx="234000" cy="258120"/>
            </a:xfrm>
            <a:prstGeom prst="ellipse">
              <a:avLst/>
            </a:prstGeom>
            <a:solidFill>
              <a:srgbClr val="3a67b1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0"/>
            <p:cNvSpPr/>
            <p:nvPr/>
          </p:nvSpPr>
          <p:spPr>
            <a:xfrm>
              <a:off x="2323080" y="2089080"/>
              <a:ext cx="234000" cy="258120"/>
            </a:xfrm>
            <a:prstGeom prst="ellipse">
              <a:avLst/>
            </a:prstGeom>
            <a:solidFill>
              <a:srgbClr val="3c67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"/>
            <p:cNvSpPr/>
            <p:nvPr/>
          </p:nvSpPr>
          <p:spPr>
            <a:xfrm>
              <a:off x="2716200" y="2161440"/>
              <a:ext cx="367560" cy="405720"/>
            </a:xfrm>
            <a:prstGeom prst="ellipse">
              <a:avLst/>
            </a:prstGeom>
            <a:solidFill>
              <a:srgbClr val="3d69b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2"/>
            <p:cNvSpPr/>
            <p:nvPr/>
          </p:nvSpPr>
          <p:spPr>
            <a:xfrm>
              <a:off x="3043800" y="1763640"/>
              <a:ext cx="234000" cy="258120"/>
            </a:xfrm>
            <a:prstGeom prst="ellipse">
              <a:avLst/>
            </a:prstGeom>
            <a:solidFill>
              <a:srgbClr val="426dbd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3"/>
            <p:cNvSpPr/>
            <p:nvPr/>
          </p:nvSpPr>
          <p:spPr>
            <a:xfrm>
              <a:off x="3469680" y="1619280"/>
              <a:ext cx="234000" cy="258120"/>
            </a:xfrm>
            <a:prstGeom prst="ellipse">
              <a:avLst/>
            </a:prstGeom>
            <a:solidFill>
              <a:srgbClr val="466fbe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4"/>
            <p:cNvSpPr/>
            <p:nvPr/>
          </p:nvSpPr>
          <p:spPr>
            <a:xfrm>
              <a:off x="3994200" y="1872360"/>
              <a:ext cx="234000" cy="258120"/>
            </a:xfrm>
            <a:prstGeom prst="ellipse">
              <a:avLst/>
            </a:prstGeom>
            <a:solidFill>
              <a:srgbClr val="4e74c1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>
              <a:off x="4321800" y="2053080"/>
              <a:ext cx="367560" cy="405720"/>
            </a:xfrm>
            <a:prstGeom prst="ellipse">
              <a:avLst/>
            </a:prstGeom>
            <a:solidFill>
              <a:srgbClr val="5377c1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6"/>
            <p:cNvSpPr/>
            <p:nvPr/>
          </p:nvSpPr>
          <p:spPr>
            <a:xfrm>
              <a:off x="4780440" y="2450880"/>
              <a:ext cx="234000" cy="258120"/>
            </a:xfrm>
            <a:prstGeom prst="ellipse">
              <a:avLst/>
            </a:prstGeom>
            <a:solidFill>
              <a:srgbClr val="5a7cc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7"/>
            <p:cNvSpPr/>
            <p:nvPr/>
          </p:nvSpPr>
          <p:spPr>
            <a:xfrm>
              <a:off x="4977000" y="2848680"/>
              <a:ext cx="234000" cy="258120"/>
            </a:xfrm>
            <a:prstGeom prst="ellipse">
              <a:avLst/>
            </a:prstGeom>
            <a:solidFill>
              <a:srgbClr val="5e7fc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8"/>
            <p:cNvSpPr/>
            <p:nvPr/>
          </p:nvSpPr>
          <p:spPr>
            <a:xfrm>
              <a:off x="3273120" y="2089080"/>
              <a:ext cx="601560" cy="663840"/>
            </a:xfrm>
            <a:prstGeom prst="ellipse">
              <a:avLst/>
            </a:prstGeom>
            <a:solidFill>
              <a:srgbClr val="6685c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9"/>
            <p:cNvSpPr/>
            <p:nvPr/>
          </p:nvSpPr>
          <p:spPr>
            <a:xfrm>
              <a:off x="1995480" y="3463200"/>
              <a:ext cx="234000" cy="258120"/>
            </a:xfrm>
            <a:prstGeom prst="ellipse">
              <a:avLst/>
            </a:prstGeom>
            <a:solidFill>
              <a:srgbClr val="6a87c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0"/>
            <p:cNvSpPr/>
            <p:nvPr/>
          </p:nvSpPr>
          <p:spPr>
            <a:xfrm>
              <a:off x="2192040" y="3788640"/>
              <a:ext cx="367560" cy="405720"/>
            </a:xfrm>
            <a:prstGeom prst="ellipse">
              <a:avLst/>
            </a:prstGeom>
            <a:solidFill>
              <a:srgbClr val="718dcb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1"/>
            <p:cNvSpPr/>
            <p:nvPr/>
          </p:nvSpPr>
          <p:spPr>
            <a:xfrm>
              <a:off x="2683440" y="4078080"/>
              <a:ext cx="534960" cy="590040"/>
            </a:xfrm>
            <a:prstGeom prst="ellipse">
              <a:avLst/>
            </a:prstGeom>
            <a:solidFill>
              <a:srgbClr val="768fc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2"/>
            <p:cNvSpPr/>
            <p:nvPr/>
          </p:nvSpPr>
          <p:spPr>
            <a:xfrm>
              <a:off x="3371400" y="4548240"/>
              <a:ext cx="234000" cy="258120"/>
            </a:xfrm>
            <a:prstGeom prst="ellipse">
              <a:avLst/>
            </a:prstGeom>
            <a:solidFill>
              <a:srgbClr val="7d95ce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3"/>
            <p:cNvSpPr/>
            <p:nvPr/>
          </p:nvSpPr>
          <p:spPr>
            <a:xfrm>
              <a:off x="3502440" y="4078080"/>
              <a:ext cx="367560" cy="405720"/>
            </a:xfrm>
            <a:prstGeom prst="ellipse">
              <a:avLst/>
            </a:prstGeom>
            <a:solidFill>
              <a:srgbClr val="8198d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4"/>
            <p:cNvSpPr/>
            <p:nvPr/>
          </p:nvSpPr>
          <p:spPr>
            <a:xfrm>
              <a:off x="3830400" y="4584240"/>
              <a:ext cx="234000" cy="258120"/>
            </a:xfrm>
            <a:prstGeom prst="ellipse">
              <a:avLst/>
            </a:prstGeom>
            <a:solidFill>
              <a:srgbClr val="899ed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5"/>
            <p:cNvSpPr/>
            <p:nvPr/>
          </p:nvSpPr>
          <p:spPr>
            <a:xfrm>
              <a:off x="4125240" y="4005720"/>
              <a:ext cx="534960" cy="590040"/>
            </a:xfrm>
            <a:prstGeom prst="ellipse">
              <a:avLst/>
            </a:prstGeom>
            <a:solidFill>
              <a:srgbClr val="8da1d3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4845960" y="3861000"/>
              <a:ext cx="367560" cy="405720"/>
            </a:xfrm>
            <a:prstGeom prst="ellipse">
              <a:avLst/>
            </a:prstGeom>
            <a:solidFill>
              <a:srgbClr val="94a6d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27"/>
            <p:cNvSpPr/>
            <p:nvPr/>
          </p:nvSpPr>
          <p:spPr>
            <a:xfrm>
              <a:off x="5213880" y="2161080"/>
              <a:ext cx="1080000" cy="227556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44" y="0"/>
                  </a:lnTo>
                  <a:lnTo>
                    <a:pt x="21600" y="10800"/>
                  </a:lnTo>
                  <a:lnTo>
                    <a:pt x="8144" y="21600"/>
                  </a:lnTo>
                  <a:lnTo>
                    <a:pt x="0" y="21600"/>
                  </a:lnTo>
                  <a:lnTo>
                    <a:pt x="13456" y="10800"/>
                  </a:lnTo>
                  <a:close/>
                </a:path>
              </a:pathLst>
            </a:custGeom>
            <a:solidFill>
              <a:srgbClr val="406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28"/>
            <p:cNvSpPr/>
            <p:nvPr/>
          </p:nvSpPr>
          <p:spPr>
            <a:xfrm>
              <a:off x="6097680" y="2161080"/>
              <a:ext cx="1080000" cy="227556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44" y="0"/>
                  </a:lnTo>
                  <a:lnTo>
                    <a:pt x="21600" y="10800"/>
                  </a:lnTo>
                  <a:lnTo>
                    <a:pt x="8144" y="21600"/>
                  </a:lnTo>
                  <a:lnTo>
                    <a:pt x="0" y="21600"/>
                  </a:lnTo>
                  <a:lnTo>
                    <a:pt x="13456" y="10800"/>
                  </a:lnTo>
                  <a:close/>
                </a:path>
              </a:pathLst>
            </a:custGeom>
            <a:solidFill>
              <a:srgbClr val="97a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9"/>
            <p:cNvSpPr/>
            <p:nvPr/>
          </p:nvSpPr>
          <p:spPr>
            <a:xfrm>
              <a:off x="7398720" y="1999440"/>
              <a:ext cx="2503800" cy="2763360"/>
            </a:xfrm>
            <a:prstGeom prst="ellipse">
              <a:avLst/>
            </a:prstGeom>
            <a:solidFill>
              <a:srgbClr val="99a9d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0"/>
            <p:cNvSpPr/>
            <p:nvPr/>
          </p:nvSpPr>
          <p:spPr>
            <a:xfrm>
              <a:off x="7765560" y="2404080"/>
              <a:ext cx="177048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1"/>
            <p:cNvSpPr/>
            <p:nvPr/>
          </p:nvSpPr>
          <p:spPr>
            <a:xfrm>
              <a:off x="7177680" y="5032800"/>
              <a:ext cx="29458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2"/>
            <p:cNvSpPr/>
            <p:nvPr/>
          </p:nvSpPr>
          <p:spPr>
            <a:xfrm>
              <a:off x="7177680" y="5032800"/>
              <a:ext cx="29458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在这里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7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393" name="流程图: 数据 9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10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2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结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3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398" name="流程图: 数据 4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5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7"/>
          <p:cNvGrpSpPr/>
          <p:nvPr/>
        </p:nvGrpSpPr>
        <p:grpSpPr>
          <a:xfrm>
            <a:off x="863640" y="-30240"/>
            <a:ext cx="10863360" cy="7999560"/>
            <a:chOff x="863640" y="-30240"/>
            <a:chExt cx="10863360" cy="7999560"/>
          </a:xfrm>
        </p:grpSpPr>
        <p:sp>
          <p:nvSpPr>
            <p:cNvPr id="401" name="Rectangle 8"/>
            <p:cNvSpPr/>
            <p:nvPr/>
          </p:nvSpPr>
          <p:spPr>
            <a:xfrm>
              <a:off x="863640" y="873000"/>
              <a:ext cx="10863360" cy="154260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9"/>
            <p:cNvSpPr/>
            <p:nvPr/>
          </p:nvSpPr>
          <p:spPr>
            <a:xfrm>
              <a:off x="1406520" y="-30240"/>
              <a:ext cx="7604280" cy="18068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0"/>
            <p:cNvSpPr/>
            <p:nvPr/>
          </p:nvSpPr>
          <p:spPr>
            <a:xfrm>
              <a:off x="1451160" y="57960"/>
              <a:ext cx="7515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7280" rIns="2872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r>
                <a:rPr b="1" lang="en-US" sz="31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lick to edit title style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1"/>
            <p:cNvSpPr/>
            <p:nvPr/>
          </p:nvSpPr>
          <p:spPr>
            <a:xfrm>
              <a:off x="863640" y="3650040"/>
              <a:ext cx="10863360" cy="154260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12"/>
            <p:cNvSpPr/>
            <p:nvPr/>
          </p:nvSpPr>
          <p:spPr>
            <a:xfrm>
              <a:off x="1406520" y="2746440"/>
              <a:ext cx="7604280" cy="18068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3"/>
            <p:cNvSpPr/>
            <p:nvPr/>
          </p:nvSpPr>
          <p:spPr>
            <a:xfrm>
              <a:off x="1451160" y="2834640"/>
              <a:ext cx="7515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7280" rIns="2872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r>
                <a:rPr b="1" lang="en-US" sz="31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lick to edit title style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4"/>
            <p:cNvSpPr/>
            <p:nvPr/>
          </p:nvSpPr>
          <p:spPr>
            <a:xfrm>
              <a:off x="863640" y="6426720"/>
              <a:ext cx="10863360" cy="154260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15"/>
            <p:cNvSpPr/>
            <p:nvPr/>
          </p:nvSpPr>
          <p:spPr>
            <a:xfrm>
              <a:off x="1406520" y="5523120"/>
              <a:ext cx="7604280" cy="18068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6"/>
            <p:cNvSpPr/>
            <p:nvPr/>
          </p:nvSpPr>
          <p:spPr>
            <a:xfrm>
              <a:off x="1451160" y="5611320"/>
              <a:ext cx="7515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7280" rIns="2872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r>
                <a:rPr b="1" lang="en-US" sz="31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lick to edit title style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结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组合 11"/>
          <p:cNvGrpSpPr/>
          <p:nvPr/>
        </p:nvGrpSpPr>
        <p:grpSpPr>
          <a:xfrm>
            <a:off x="6059520" y="1228680"/>
            <a:ext cx="5294160" cy="5408640"/>
            <a:chOff x="6059520" y="1228680"/>
            <a:chExt cx="5294160" cy="5408640"/>
          </a:xfrm>
        </p:grpSpPr>
        <p:sp>
          <p:nvSpPr>
            <p:cNvPr id="414" name="流程图: 数据 12"/>
            <p:cNvSpPr/>
            <p:nvPr/>
          </p:nvSpPr>
          <p:spPr>
            <a:xfrm rot="16200000">
              <a:off x="5387760" y="3238200"/>
              <a:ext cx="4070880" cy="272736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3"/>
            <p:cNvSpPr/>
            <p:nvPr/>
          </p:nvSpPr>
          <p:spPr>
            <a:xfrm>
              <a:off x="6059520" y="1228680"/>
              <a:ext cx="5294160" cy="462888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文本框 16"/>
          <p:cNvSpPr/>
          <p:nvPr/>
        </p:nvSpPr>
        <p:spPr>
          <a:xfrm>
            <a:off x="6448320" y="146376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6448320" y="20160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9"/>
          <p:cNvSpPr/>
          <p:nvPr/>
        </p:nvSpPr>
        <p:spPr>
          <a:xfrm>
            <a:off x="6448320" y="26478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20"/>
          <p:cNvSpPr/>
          <p:nvPr/>
        </p:nvSpPr>
        <p:spPr>
          <a:xfrm>
            <a:off x="6448320" y="32130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1"/>
          <p:cNvSpPr/>
          <p:nvPr/>
        </p:nvSpPr>
        <p:spPr>
          <a:xfrm>
            <a:off x="6448320" y="379584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22"/>
          <p:cNvSpPr/>
          <p:nvPr/>
        </p:nvSpPr>
        <p:spPr>
          <a:xfrm>
            <a:off x="6448320" y="44118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23"/>
          <p:cNvSpPr/>
          <p:nvPr/>
        </p:nvSpPr>
        <p:spPr>
          <a:xfrm>
            <a:off x="6448320" y="501012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组合 17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424" name="流程图: 数据 24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25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31"/>
          <p:cNvGrpSpPr/>
          <p:nvPr/>
        </p:nvGrpSpPr>
        <p:grpSpPr>
          <a:xfrm>
            <a:off x="2022480" y="1177920"/>
            <a:ext cx="2457360" cy="3587760"/>
            <a:chOff x="2022480" y="1177920"/>
            <a:chExt cx="2457360" cy="3587760"/>
          </a:xfrm>
        </p:grpSpPr>
        <p:sp>
          <p:nvSpPr>
            <p:cNvPr id="427" name="Freeform 5"/>
            <p:cNvSpPr/>
            <p:nvPr/>
          </p:nvSpPr>
          <p:spPr>
            <a:xfrm>
              <a:off x="2022480" y="1494000"/>
              <a:ext cx="2457360" cy="3271680"/>
            </a:xfrm>
            <a:custGeom>
              <a:avLst/>
              <a:gdLst/>
              <a:ahLst/>
              <a:rect l="l" t="t" r="r" b="b"/>
              <a:pathLst>
                <a:path w="1115" h="1486">
                  <a:moveTo>
                    <a:pt x="1065" y="0"/>
                  </a:moveTo>
                  <a:cubicBezTo>
                    <a:pt x="827" y="0"/>
                    <a:pt x="827" y="0"/>
                    <a:pt x="827" y="0"/>
                  </a:cubicBezTo>
                  <a:cubicBezTo>
                    <a:pt x="826" y="42"/>
                    <a:pt x="791" y="77"/>
                    <a:pt x="748" y="77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23" y="77"/>
                    <a:pt x="288" y="42"/>
                    <a:pt x="288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36"/>
                    <a:pt x="0" y="1436"/>
                    <a:pt x="0" y="1436"/>
                  </a:cubicBezTo>
                  <a:cubicBezTo>
                    <a:pt x="0" y="1463"/>
                    <a:pt x="22" y="1486"/>
                    <a:pt x="50" y="1486"/>
                  </a:cubicBezTo>
                  <a:cubicBezTo>
                    <a:pt x="1065" y="1486"/>
                    <a:pt x="1065" y="1486"/>
                    <a:pt x="1065" y="1486"/>
                  </a:cubicBezTo>
                  <a:cubicBezTo>
                    <a:pt x="1092" y="1486"/>
                    <a:pt x="1115" y="1463"/>
                    <a:pt x="1115" y="1436"/>
                  </a:cubicBezTo>
                  <a:cubicBezTo>
                    <a:pt x="1115" y="49"/>
                    <a:pt x="1115" y="49"/>
                    <a:pt x="1115" y="49"/>
                  </a:cubicBezTo>
                  <a:cubicBezTo>
                    <a:pt x="1115" y="22"/>
                    <a:pt x="1092" y="0"/>
                    <a:pt x="1065" y="0"/>
                  </a:cubicBezTo>
                  <a:close/>
                  <a:moveTo>
                    <a:pt x="1011" y="1382"/>
                  </a:moveTo>
                  <a:cubicBezTo>
                    <a:pt x="103" y="1382"/>
                    <a:pt x="103" y="1382"/>
                    <a:pt x="103" y="1382"/>
                  </a:cubicBezTo>
                  <a:cubicBezTo>
                    <a:pt x="103" y="103"/>
                    <a:pt x="103" y="103"/>
                    <a:pt x="103" y="103"/>
                  </a:cubicBezTo>
                  <a:cubicBezTo>
                    <a:pt x="1011" y="103"/>
                    <a:pt x="1011" y="103"/>
                    <a:pt x="1011" y="103"/>
                  </a:cubicBezTo>
                  <a:lnTo>
                    <a:pt x="1011" y="1382"/>
                  </a:ln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"/>
            <p:cNvSpPr/>
            <p:nvPr/>
          </p:nvSpPr>
          <p:spPr>
            <a:xfrm>
              <a:off x="2740320" y="1177920"/>
              <a:ext cx="1018440" cy="391680"/>
            </a:xfrm>
            <a:custGeom>
              <a:avLst/>
              <a:gdLst/>
              <a:ahLst/>
              <a:rect l="l" t="t" r="r" b="b"/>
              <a:pathLst>
                <a:path w="462" h="178">
                  <a:moveTo>
                    <a:pt x="415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1"/>
                    <a:pt x="0" y="47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7"/>
                    <a:pt x="22" y="178"/>
                    <a:pt x="48" y="178"/>
                  </a:cubicBezTo>
                  <a:cubicBezTo>
                    <a:pt x="415" y="178"/>
                    <a:pt x="415" y="178"/>
                    <a:pt x="415" y="178"/>
                  </a:cubicBezTo>
                  <a:cubicBezTo>
                    <a:pt x="441" y="178"/>
                    <a:pt x="462" y="157"/>
                    <a:pt x="462" y="131"/>
                  </a:cubicBezTo>
                  <a:cubicBezTo>
                    <a:pt x="462" y="47"/>
                    <a:pt x="462" y="47"/>
                    <a:pt x="462" y="47"/>
                  </a:cubicBezTo>
                  <a:cubicBezTo>
                    <a:pt x="462" y="21"/>
                    <a:pt x="441" y="0"/>
                    <a:pt x="415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7"/>
            <p:cNvSpPr/>
            <p:nvPr/>
          </p:nvSpPr>
          <p:spPr>
            <a:xfrm>
              <a:off x="2423160" y="206028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19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"/>
            <p:cNvSpPr/>
            <p:nvPr/>
          </p:nvSpPr>
          <p:spPr>
            <a:xfrm>
              <a:off x="2423160" y="237492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20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9"/>
            <p:cNvSpPr/>
            <p:nvPr/>
          </p:nvSpPr>
          <p:spPr>
            <a:xfrm>
              <a:off x="2423160" y="266400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19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"/>
            <p:cNvSpPr/>
            <p:nvPr/>
          </p:nvSpPr>
          <p:spPr>
            <a:xfrm>
              <a:off x="2423160" y="2950200"/>
              <a:ext cx="1653480" cy="83160"/>
            </a:xfrm>
            <a:custGeom>
              <a:avLst/>
              <a:gdLst/>
              <a:ahLst/>
              <a:rect l="l" t="t" r="r" b="b"/>
              <a:pathLst>
                <a:path w="750" h="38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8"/>
                    <a:pt x="20" y="38"/>
                  </a:cubicBezTo>
                  <a:cubicBezTo>
                    <a:pt x="731" y="38"/>
                    <a:pt x="731" y="38"/>
                    <a:pt x="731" y="38"/>
                  </a:cubicBezTo>
                  <a:cubicBezTo>
                    <a:pt x="741" y="38"/>
                    <a:pt x="750" y="30"/>
                    <a:pt x="750" y="19"/>
                  </a:cubicBezTo>
                  <a:cubicBezTo>
                    <a:pt x="750" y="8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1"/>
            <p:cNvSpPr/>
            <p:nvPr/>
          </p:nvSpPr>
          <p:spPr>
            <a:xfrm>
              <a:off x="2423160" y="325080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20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"/>
            <p:cNvSpPr/>
            <p:nvPr/>
          </p:nvSpPr>
          <p:spPr>
            <a:xfrm>
              <a:off x="2423160" y="3568680"/>
              <a:ext cx="1653480" cy="83160"/>
            </a:xfrm>
            <a:custGeom>
              <a:avLst/>
              <a:gdLst/>
              <a:ahLst/>
              <a:rect l="l" t="t" r="r" b="b"/>
              <a:pathLst>
                <a:path w="750" h="38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8"/>
                    <a:pt x="20" y="38"/>
                  </a:cubicBezTo>
                  <a:cubicBezTo>
                    <a:pt x="731" y="38"/>
                    <a:pt x="731" y="38"/>
                    <a:pt x="731" y="38"/>
                  </a:cubicBezTo>
                  <a:cubicBezTo>
                    <a:pt x="741" y="38"/>
                    <a:pt x="750" y="30"/>
                    <a:pt x="750" y="19"/>
                  </a:cubicBezTo>
                  <a:cubicBezTo>
                    <a:pt x="750" y="8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3"/>
            <p:cNvSpPr/>
            <p:nvPr/>
          </p:nvSpPr>
          <p:spPr>
            <a:xfrm>
              <a:off x="2419200" y="3865320"/>
              <a:ext cx="803880" cy="8424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55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4" y="0"/>
                    <a:pt x="0" y="8"/>
                    <a:pt x="0" y="19"/>
                  </a:cubicBezTo>
                  <a:cubicBezTo>
                    <a:pt x="0" y="30"/>
                    <a:pt x="4" y="38"/>
                    <a:pt x="10" y="38"/>
                  </a:cubicBezTo>
                  <a:cubicBezTo>
                    <a:pt x="355" y="38"/>
                    <a:pt x="355" y="38"/>
                    <a:pt x="355" y="38"/>
                  </a:cubicBezTo>
                  <a:cubicBezTo>
                    <a:pt x="360" y="38"/>
                    <a:pt x="365" y="30"/>
                    <a:pt x="365" y="19"/>
                  </a:cubicBezTo>
                  <a:cubicBezTo>
                    <a:pt x="365" y="8"/>
                    <a:pt x="360" y="0"/>
                    <a:pt x="355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文本框 32"/>
          <p:cNvSpPr/>
          <p:nvPr/>
        </p:nvSpPr>
        <p:spPr>
          <a:xfrm>
            <a:off x="1633680" y="5056200"/>
            <a:ext cx="35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e4e79"/>
                </a:solidFill>
                <a:latin typeface="Arial"/>
                <a:ea typeface="Adobe 黑体 Std R"/>
              </a:rPr>
              <a:t>参考文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3497-886D-45DE-96A4-F630CF62C2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平行四边形 3"/>
          <p:cNvSpPr/>
          <p:nvPr/>
        </p:nvSpPr>
        <p:spPr>
          <a:xfrm rot="7726800">
            <a:off x="3573000" y="-873000"/>
            <a:ext cx="9110880" cy="13533120"/>
          </a:xfrm>
          <a:custGeom>
            <a:avLst/>
            <a:gdLst/>
            <a:ahLst/>
            <a:rect l="l" t="t" r="r" b="b"/>
            <a:pathLst>
              <a:path w="9013078" h="13524274">
                <a:moveTo>
                  <a:pt x="0" y="8390325"/>
                </a:moveTo>
                <a:lnTo>
                  <a:pt x="656031" y="0"/>
                </a:lnTo>
                <a:lnTo>
                  <a:pt x="7731081" y="7924883"/>
                </a:lnTo>
                <a:lnTo>
                  <a:pt x="9013078" y="13524274"/>
                </a:lnTo>
                <a:lnTo>
                  <a:pt x="0" y="8390325"/>
                </a:lnTo>
                <a:close/>
              </a:path>
            </a:pathLst>
          </a:custGeom>
          <a:solidFill>
            <a:srgbClr val="dde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1"/>
          <p:cNvSpPr/>
          <p:nvPr/>
        </p:nvSpPr>
        <p:spPr>
          <a:xfrm>
            <a:off x="0" y="1289160"/>
            <a:ext cx="9793440" cy="39160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"/>
          <p:cNvSpPr/>
          <p:nvPr/>
        </p:nvSpPr>
        <p:spPr>
          <a:xfrm>
            <a:off x="60480" y="1359000"/>
            <a:ext cx="11428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afafa"/>
                </a:solidFill>
                <a:latin typeface="Arial"/>
                <a:ea typeface="Adobe 黑体 Std R"/>
              </a:rPr>
              <a:t>THANK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2"/>
          <p:cNvSpPr/>
          <p:nvPr/>
        </p:nvSpPr>
        <p:spPr>
          <a:xfrm>
            <a:off x="95400" y="3778200"/>
            <a:ext cx="973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fafa"/>
                </a:solidFill>
                <a:latin typeface="Arial Unicode MS"/>
                <a:ea typeface="Arial Unicode MS"/>
              </a:rPr>
              <a:t>感谢老师的批评与指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D7C7-4222-4AA3-9EDB-264DB846763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0" y="-231840"/>
            <a:ext cx="12192120" cy="7326360"/>
          </a:xfrm>
          <a:prstGeom prst="rect">
            <a:avLst/>
          </a:prstGeom>
          <a:ln w="0">
            <a:noFill/>
          </a:ln>
        </p:spPr>
      </p:pic>
      <p:sp>
        <p:nvSpPr>
          <p:cNvPr id="100" name="矩形 15"/>
          <p:cNvSpPr/>
          <p:nvPr/>
        </p:nvSpPr>
        <p:spPr>
          <a:xfrm>
            <a:off x="0" y="-231840"/>
            <a:ext cx="12192120" cy="7326360"/>
          </a:xfrm>
          <a:prstGeom prst="rect">
            <a:avLst/>
          </a:prstGeom>
          <a:solidFill>
            <a:srgbClr val="2e75b5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0"/>
          <p:cNvGrpSpPr/>
          <p:nvPr/>
        </p:nvGrpSpPr>
        <p:grpSpPr>
          <a:xfrm>
            <a:off x="1213920" y="1812960"/>
            <a:ext cx="3515400" cy="3220200"/>
            <a:chOff x="1213920" y="1812960"/>
            <a:chExt cx="3515400" cy="3220200"/>
          </a:xfrm>
        </p:grpSpPr>
        <p:sp>
          <p:nvSpPr>
            <p:cNvPr id="102" name="文本框 7"/>
            <p:cNvSpPr/>
            <p:nvPr/>
          </p:nvSpPr>
          <p:spPr>
            <a:xfrm>
              <a:off x="1829880" y="1812960"/>
              <a:ext cx="228384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8"/>
            <p:cNvSpPr/>
            <p:nvPr/>
          </p:nvSpPr>
          <p:spPr>
            <a:xfrm>
              <a:off x="1213920" y="3720240"/>
              <a:ext cx="3515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conten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529320" y="546120"/>
            <a:ext cx="15840" cy="5692680"/>
            <a:chOff x="6529320" y="546120"/>
            <a:chExt cx="15840" cy="5692680"/>
          </a:xfrm>
        </p:grpSpPr>
        <p:sp>
          <p:nvSpPr>
            <p:cNvPr id="105" name="直接连接符 2"/>
            <p:cNvSpPr/>
            <p:nvPr/>
          </p:nvSpPr>
          <p:spPr>
            <a:xfrm>
              <a:off x="6529320" y="546120"/>
              <a:ext cx="15840" cy="5692680"/>
            </a:xfrm>
            <a:prstGeom prst="line">
              <a:avLst/>
            </a:prstGeom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29320" y="546120"/>
              <a:ext cx="15840" cy="569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5"/>
          <p:cNvSpPr/>
          <p:nvPr/>
        </p:nvSpPr>
        <p:spPr>
          <a:xfrm>
            <a:off x="7110360" y="457200"/>
            <a:ext cx="33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研究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0"/>
          <p:cNvSpPr/>
          <p:nvPr/>
        </p:nvSpPr>
        <p:spPr>
          <a:xfrm>
            <a:off x="7110360" y="1492200"/>
            <a:ext cx="33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研究框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1"/>
          <p:cNvSpPr/>
          <p:nvPr/>
        </p:nvSpPr>
        <p:spPr>
          <a:xfrm>
            <a:off x="7110360" y="2489040"/>
            <a:ext cx="33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研究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2"/>
          <p:cNvSpPr/>
          <p:nvPr/>
        </p:nvSpPr>
        <p:spPr>
          <a:xfrm>
            <a:off x="7140600" y="351792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主要结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3"/>
          <p:cNvSpPr/>
          <p:nvPr/>
        </p:nvSpPr>
        <p:spPr>
          <a:xfrm>
            <a:off x="7140600" y="451332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分析与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4"/>
          <p:cNvSpPr/>
          <p:nvPr/>
        </p:nvSpPr>
        <p:spPr>
          <a:xfrm>
            <a:off x="7140600" y="560088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结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5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115" name="流程图: 数据 1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2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4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"/>
          <p:cNvSpPr/>
          <p:nvPr/>
        </p:nvSpPr>
        <p:spPr>
          <a:xfrm>
            <a:off x="1781280" y="1262160"/>
            <a:ext cx="35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内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2"/>
          <p:cNvSpPr/>
          <p:nvPr/>
        </p:nvSpPr>
        <p:spPr>
          <a:xfrm>
            <a:off x="6810480" y="1262160"/>
            <a:ext cx="35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外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1781280" y="1346040"/>
            <a:ext cx="8535960" cy="220356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1746360" y="3978360"/>
            <a:ext cx="8535960" cy="220320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5"/>
          <p:cNvSpPr/>
          <p:nvPr/>
        </p:nvSpPr>
        <p:spPr>
          <a:xfrm>
            <a:off x="725400" y="13273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6"/>
          <p:cNvSpPr/>
          <p:nvPr/>
        </p:nvSpPr>
        <p:spPr>
          <a:xfrm>
            <a:off x="1758960" y="4141800"/>
            <a:ext cx="780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1816200" y="5010120"/>
            <a:ext cx="14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is a sampl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sert your desired text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1866960" y="2219400"/>
            <a:ext cx="84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中文字体为“黑体”，英文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A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流程图: 过程 6"/>
          <p:cNvSpPr/>
          <p:nvPr/>
        </p:nvSpPr>
        <p:spPr>
          <a:xfrm>
            <a:off x="6059520" y="0"/>
            <a:ext cx="6132600" cy="6858000"/>
          </a:xfrm>
          <a:prstGeom prst="flowChartProcess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3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129" name="流程图: 数据 1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2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4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1"/>
          <p:cNvSpPr/>
          <p:nvPr/>
        </p:nvSpPr>
        <p:spPr>
          <a:xfrm>
            <a:off x="1781280" y="1262160"/>
            <a:ext cx="35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内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0"/>
          <p:cNvGrpSpPr/>
          <p:nvPr/>
        </p:nvGrpSpPr>
        <p:grpSpPr>
          <a:xfrm>
            <a:off x="1592640" y="1198080"/>
            <a:ext cx="8946360" cy="5034960"/>
            <a:chOff x="1592640" y="1198080"/>
            <a:chExt cx="8946360" cy="5034960"/>
          </a:xfrm>
        </p:grpSpPr>
        <p:sp>
          <p:nvSpPr>
            <p:cNvPr id="134" name="矩形 14"/>
            <p:cNvSpPr/>
            <p:nvPr/>
          </p:nvSpPr>
          <p:spPr>
            <a:xfrm rot="344400">
              <a:off x="1584000" y="5547240"/>
              <a:ext cx="8569080" cy="25776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流程图: 联系 27"/>
            <p:cNvSpPr/>
            <p:nvPr/>
          </p:nvSpPr>
          <p:spPr>
            <a:xfrm rot="344400">
              <a:off x="1819080" y="1372680"/>
              <a:ext cx="3680640" cy="3682440"/>
            </a:xfrm>
            <a:prstGeom prst="flowChartConnector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流程图: 联系 29"/>
            <p:cNvSpPr/>
            <p:nvPr/>
          </p:nvSpPr>
          <p:spPr>
            <a:xfrm rot="344400">
              <a:off x="6683040" y="1861560"/>
              <a:ext cx="3680640" cy="368244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文本框 31"/>
          <p:cNvSpPr/>
          <p:nvPr/>
        </p:nvSpPr>
        <p:spPr>
          <a:xfrm>
            <a:off x="2703600" y="173520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内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2"/>
          <p:cNvSpPr/>
          <p:nvPr/>
        </p:nvSpPr>
        <p:spPr>
          <a:xfrm>
            <a:off x="7475400" y="2212920"/>
            <a:ext cx="29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e75b5"/>
                </a:solidFill>
                <a:latin typeface="Arial"/>
                <a:ea typeface="Adobe 黑体 Std R"/>
              </a:rPr>
              <a:t>国外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15"/>
          <p:cNvSpPr/>
          <p:nvPr/>
        </p:nvSpPr>
        <p:spPr>
          <a:xfrm>
            <a:off x="5673600" y="5815080"/>
            <a:ext cx="844560" cy="72684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200"/>
          <p:cNvSpPr/>
          <p:nvPr/>
        </p:nvSpPr>
        <p:spPr>
          <a:xfrm>
            <a:off x="1700280" y="85392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7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2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143" name="流程图: 数据 3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4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流程图: 数据 6"/>
          <p:cNvSpPr/>
          <p:nvPr/>
        </p:nvSpPr>
        <p:spPr>
          <a:xfrm rot="16200000">
            <a:off x="48240" y="3382200"/>
            <a:ext cx="3011760" cy="2016000"/>
          </a:xfrm>
          <a:prstGeom prst="flowChartInputOutpu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/>
          <p:cNvSpPr/>
          <p:nvPr/>
        </p:nvSpPr>
        <p:spPr>
          <a:xfrm>
            <a:off x="549360" y="1898640"/>
            <a:ext cx="3914640" cy="342432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1"/>
          <p:cNvGrpSpPr/>
          <p:nvPr/>
        </p:nvGrpSpPr>
        <p:grpSpPr>
          <a:xfrm>
            <a:off x="4924440" y="1898640"/>
            <a:ext cx="6775560" cy="3424320"/>
            <a:chOff x="4924440" y="1898640"/>
            <a:chExt cx="6775560" cy="3424320"/>
          </a:xfrm>
        </p:grpSpPr>
        <p:sp>
          <p:nvSpPr>
            <p:cNvPr id="149" name="矩形 8"/>
            <p:cNvSpPr/>
            <p:nvPr/>
          </p:nvSpPr>
          <p:spPr>
            <a:xfrm>
              <a:off x="4924440" y="1898640"/>
              <a:ext cx="677556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9"/>
            <p:cNvSpPr/>
            <p:nvPr/>
          </p:nvSpPr>
          <p:spPr>
            <a:xfrm>
              <a:off x="4924440" y="3095280"/>
              <a:ext cx="677556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0"/>
            <p:cNvSpPr/>
            <p:nvPr/>
          </p:nvSpPr>
          <p:spPr>
            <a:xfrm>
              <a:off x="4924440" y="4266720"/>
              <a:ext cx="677556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文本框 12"/>
          <p:cNvSpPr/>
          <p:nvPr/>
        </p:nvSpPr>
        <p:spPr>
          <a:xfrm>
            <a:off x="-196920" y="1992240"/>
            <a:ext cx="536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Adobe 黑体 Std R"/>
              </a:rPr>
              <a:t>中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Adobe 黑体 Std R"/>
              </a:rPr>
              <a:t>论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4"/>
          <p:cNvSpPr/>
          <p:nvPr/>
        </p:nvSpPr>
        <p:spPr>
          <a:xfrm>
            <a:off x="5168880" y="1895400"/>
            <a:ext cx="65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小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5"/>
          <p:cNvSpPr/>
          <p:nvPr/>
        </p:nvSpPr>
        <p:spPr>
          <a:xfrm>
            <a:off x="5168880" y="3135240"/>
            <a:ext cx="65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小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6"/>
          <p:cNvSpPr/>
          <p:nvPr/>
        </p:nvSpPr>
        <p:spPr>
          <a:xfrm>
            <a:off x="5168880" y="4262400"/>
            <a:ext cx="65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小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158" name="流程图: 数据 3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4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"/>
          <p:cNvSpPr/>
          <p:nvPr/>
        </p:nvSpPr>
        <p:spPr>
          <a:xfrm>
            <a:off x="1190880" y="1898640"/>
            <a:ext cx="27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e4e79"/>
                </a:solidFill>
                <a:latin typeface="Arial"/>
                <a:ea typeface="Adobe 黑体 Std R"/>
              </a:rPr>
              <a:t>在这里输入小标题</a:t>
            </a:r>
            <a:r>
              <a:rPr b="0" lang="en-US" sz="3600" spc="-1" strike="noStrike">
                <a:solidFill>
                  <a:srgbClr val="1e4e79"/>
                </a:solidFill>
                <a:latin typeface="Arial"/>
                <a:ea typeface="Adobe 黑体 Std R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10"/>
          <p:cNvSpPr/>
          <p:nvPr/>
        </p:nvSpPr>
        <p:spPr>
          <a:xfrm>
            <a:off x="4735440" y="1228680"/>
            <a:ext cx="3353040" cy="4937040"/>
          </a:xfrm>
          <a:custGeom>
            <a:avLst/>
            <a:gdLst/>
            <a:ahLst/>
            <a:rect l="l" t="t" r="r" b="b"/>
            <a:pathLst>
              <a:path w="3352800" h="4937061">
                <a:moveTo>
                  <a:pt x="0" y="0"/>
                </a:moveTo>
                <a:lnTo>
                  <a:pt x="3352800" y="0"/>
                </a:lnTo>
                <a:lnTo>
                  <a:pt x="3352800" y="669861"/>
                </a:lnTo>
                <a:lnTo>
                  <a:pt x="3352800" y="1091891"/>
                </a:lnTo>
                <a:lnTo>
                  <a:pt x="3352800" y="4937061"/>
                </a:lnTo>
                <a:lnTo>
                  <a:pt x="3165231" y="4937061"/>
                </a:lnTo>
                <a:lnTo>
                  <a:pt x="3165231" y="1091891"/>
                </a:lnTo>
                <a:lnTo>
                  <a:pt x="0" y="1091891"/>
                </a:lnTo>
                <a:lnTo>
                  <a:pt x="0" y="0"/>
                </a:lnTo>
                <a:close/>
              </a:path>
            </a:pathLst>
          </a:cu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11"/>
          <p:cNvSpPr/>
          <p:nvPr/>
        </p:nvSpPr>
        <p:spPr>
          <a:xfrm>
            <a:off x="8088480" y="1228680"/>
            <a:ext cx="3352680" cy="4937040"/>
          </a:xfrm>
          <a:custGeom>
            <a:avLst/>
            <a:gdLst/>
            <a:ahLst/>
            <a:rect l="l" t="t" r="r" b="b"/>
            <a:pathLst>
              <a:path w="3352800" h="4937061">
                <a:moveTo>
                  <a:pt x="0" y="0"/>
                </a:moveTo>
                <a:lnTo>
                  <a:pt x="3352800" y="0"/>
                </a:lnTo>
                <a:lnTo>
                  <a:pt x="3352800" y="669861"/>
                </a:lnTo>
                <a:lnTo>
                  <a:pt x="3352800" y="1091891"/>
                </a:lnTo>
                <a:lnTo>
                  <a:pt x="3352800" y="4937061"/>
                </a:lnTo>
                <a:lnTo>
                  <a:pt x="3165231" y="4937061"/>
                </a:lnTo>
                <a:lnTo>
                  <a:pt x="3165231" y="1091891"/>
                </a:lnTo>
                <a:lnTo>
                  <a:pt x="0" y="1091891"/>
                </a:lnTo>
                <a:lnTo>
                  <a:pt x="0" y="0"/>
                </a:lnTo>
                <a:close/>
              </a:path>
            </a:pathLst>
          </a:cu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2"/>
          <p:cNvSpPr/>
          <p:nvPr/>
        </p:nvSpPr>
        <p:spPr>
          <a:xfrm>
            <a:off x="466560" y="2516040"/>
            <a:ext cx="780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493560" y="309420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This is a 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Insert your desired tex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5499360" y="2543040"/>
            <a:ext cx="182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8800560" y="2557440"/>
            <a:ext cx="182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3133800" y="1000080"/>
            <a:ext cx="8128080" cy="5419800"/>
            <a:chOff x="3133800" y="1000080"/>
            <a:chExt cx="8128080" cy="5419800"/>
          </a:xfrm>
        </p:grpSpPr>
        <p:sp>
          <p:nvSpPr>
            <p:cNvPr id="169" name="AutoShape 3"/>
            <p:cNvSpPr/>
            <p:nvPr/>
          </p:nvSpPr>
          <p:spPr>
            <a:xfrm>
              <a:off x="3133800" y="1000080"/>
              <a:ext cx="4181040" cy="5419800"/>
            </a:xfrm>
            <a:custGeom>
              <a:avLst/>
              <a:gdLst/>
              <a:ahLst/>
              <a:rect l="l" t="t" r="r" b="b"/>
              <a:pathLst>
                <a:path w="18436" h="3207">
                  <a:moveTo>
                    <a:pt x="18392" y="3207"/>
                  </a:moveTo>
                  <a:cubicBezTo>
                    <a:pt x="16378" y="1194"/>
                    <a:pt x="13647" y="63"/>
                    <a:pt x="10799" y="63"/>
                  </a:cubicBezTo>
                  <a:cubicBezTo>
                    <a:pt x="7952" y="63"/>
                    <a:pt x="5221" y="1194"/>
                    <a:pt x="3207" y="3207"/>
                  </a:cubicBezTo>
                  <a:lnTo>
                    <a:pt x="3163" y="3163"/>
                  </a:lnTo>
                  <a:cubicBezTo>
                    <a:pt x="5188" y="1137"/>
                    <a:pt x="7935" y="0"/>
                    <a:pt x="10800" y="0"/>
                  </a:cubicBezTo>
                  <a:cubicBezTo>
                    <a:pt x="13664" y="0"/>
                    <a:pt x="16411" y="1137"/>
                    <a:pt x="18436" y="3163"/>
                  </a:cubicBezTo>
                  <a:lnTo>
                    <a:pt x="18392" y="3207"/>
                  </a:lnTo>
                  <a:close/>
                </a:path>
              </a:pathLst>
            </a:custGeom>
            <a:noFill/>
            <a:ln w="12600">
              <a:solidFill>
                <a:srgbClr val="1e4e7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"/>
            <p:cNvSpPr/>
            <p:nvPr/>
          </p:nvSpPr>
          <p:spPr>
            <a:xfrm>
              <a:off x="7076520" y="2146320"/>
              <a:ext cx="4185360" cy="805320"/>
            </a:xfrm>
            <a:prstGeom prst="rect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7076520" y="2146320"/>
              <a:ext cx="418536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"/>
            <p:cNvSpPr/>
            <p:nvPr/>
          </p:nvSpPr>
          <p:spPr>
            <a:xfrm>
              <a:off x="6688080" y="204588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302240" y="3354480"/>
              <a:ext cx="3959640" cy="805320"/>
            </a:xfrm>
            <a:prstGeom prst="rect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7302240" y="3354480"/>
              <a:ext cx="395964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9"/>
            <p:cNvSpPr/>
            <p:nvPr/>
          </p:nvSpPr>
          <p:spPr>
            <a:xfrm>
              <a:off x="6913800" y="325404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/>
            <p:cNvSpPr/>
            <p:nvPr/>
          </p:nvSpPr>
          <p:spPr>
            <a:xfrm>
              <a:off x="7076520" y="4562640"/>
              <a:ext cx="4185360" cy="805320"/>
            </a:xfrm>
            <a:prstGeom prst="rect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7076520" y="4562640"/>
              <a:ext cx="418536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2"/>
            <p:cNvSpPr/>
            <p:nvPr/>
          </p:nvSpPr>
          <p:spPr>
            <a:xfrm>
              <a:off x="6688080" y="446184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15"/>
          <p:cNvSpPr/>
          <p:nvPr/>
        </p:nvSpPr>
        <p:spPr>
          <a:xfrm>
            <a:off x="943920" y="2933640"/>
            <a:ext cx="19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e4e79"/>
                </a:solidFill>
                <a:latin typeface="Arial"/>
                <a:ea typeface="Adobe 黑体 Std R"/>
              </a:rPr>
              <a:t>在这里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e4e79"/>
                </a:solidFill>
                <a:latin typeface="Arial"/>
                <a:ea typeface="Adobe 黑体 Std R"/>
              </a:rPr>
              <a:t>入小标题</a:t>
            </a:r>
            <a:r>
              <a:rPr b="0" lang="en-US" sz="4400" spc="-1" strike="noStrike">
                <a:solidFill>
                  <a:srgbClr val="1e4e79"/>
                </a:solidFill>
                <a:latin typeface="Arial"/>
                <a:ea typeface="Adobe 黑体 Std R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16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182" name="流程图: 数据 17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8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文本框 19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1428840" y="612720"/>
            <a:ext cx="9261360" cy="6402600"/>
            <a:chOff x="1428840" y="612720"/>
            <a:chExt cx="9261360" cy="6402600"/>
          </a:xfrm>
        </p:grpSpPr>
        <p:sp>
          <p:nvSpPr>
            <p:cNvPr id="186" name="AutoShape 3"/>
            <p:cNvSpPr/>
            <p:nvPr/>
          </p:nvSpPr>
          <p:spPr>
            <a:xfrm>
              <a:off x="1428840" y="5094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d4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"/>
            <p:cNvSpPr/>
            <p:nvPr/>
          </p:nvSpPr>
          <p:spPr>
            <a:xfrm>
              <a:off x="1428840" y="5094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8760" rIns="248760" tIns="248760" bIns="24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宋体"/>
                </a:rPr>
                <a:t>三层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>
              <a:off x="1428840" y="2853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d4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>
              <a:off x="1428840" y="2853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8760" rIns="248760" tIns="248760" bIns="24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宋体"/>
                </a:rPr>
                <a:t>二层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1428840" y="612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d4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1428840" y="612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8760" rIns="248760" tIns="248760" bIns="24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宋体"/>
                </a:rPr>
                <a:t>一层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"/>
            <p:cNvSpPr/>
            <p:nvPr/>
          </p:nvSpPr>
          <p:spPr>
            <a:xfrm>
              <a:off x="6714000" y="772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>
              <a:off x="6739200" y="819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里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入小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"/>
            <p:cNvSpPr/>
            <p:nvPr/>
          </p:nvSpPr>
          <p:spPr>
            <a:xfrm>
              <a:off x="5686560" y="2373480"/>
              <a:ext cx="1669320" cy="640080"/>
            </a:xfrm>
            <a:custGeom>
              <a:avLst/>
              <a:gdLst/>
              <a:ahLst/>
              <a:rect l="l" t="t" r="r" b="b"/>
              <a:pathLst>
                <a:path w="1669459" h="342453">
                  <a:moveTo>
                    <a:pt x="1669459" y="0"/>
                  </a:moveTo>
                  <a:lnTo>
                    <a:pt x="166945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58893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5044320" y="3013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5069520" y="3060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485172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834729" y="0"/>
                  </a:moveTo>
                  <a:lnTo>
                    <a:pt x="83472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5"/>
            <p:cNvSpPr/>
            <p:nvPr/>
          </p:nvSpPr>
          <p:spPr>
            <a:xfrm>
              <a:off x="420948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6"/>
            <p:cNvSpPr/>
            <p:nvPr/>
          </p:nvSpPr>
          <p:spPr>
            <a:xfrm>
              <a:off x="423468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7"/>
            <p:cNvSpPr/>
            <p:nvPr/>
          </p:nvSpPr>
          <p:spPr>
            <a:xfrm>
              <a:off x="568656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0" y="0"/>
                  </a:moveTo>
                  <a:lnTo>
                    <a:pt x="0" y="171226"/>
                  </a:lnTo>
                  <a:lnTo>
                    <a:pt x="834729" y="171226"/>
                  </a:lnTo>
                  <a:lnTo>
                    <a:pt x="834729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8"/>
            <p:cNvSpPr/>
            <p:nvPr/>
          </p:nvSpPr>
          <p:spPr>
            <a:xfrm>
              <a:off x="587916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9"/>
            <p:cNvSpPr/>
            <p:nvPr/>
          </p:nvSpPr>
          <p:spPr>
            <a:xfrm>
              <a:off x="590436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0"/>
            <p:cNvSpPr/>
            <p:nvPr/>
          </p:nvSpPr>
          <p:spPr>
            <a:xfrm>
              <a:off x="7356240" y="2373480"/>
              <a:ext cx="1669320" cy="640080"/>
            </a:xfrm>
            <a:custGeom>
              <a:avLst/>
              <a:gdLst/>
              <a:ahLst/>
              <a:rect l="l" t="t" r="r" b="b"/>
              <a:pathLst>
                <a:path w="1669459" h="342453">
                  <a:moveTo>
                    <a:pt x="0" y="0"/>
                  </a:moveTo>
                  <a:lnTo>
                    <a:pt x="0" y="171226"/>
                  </a:lnTo>
                  <a:lnTo>
                    <a:pt x="1669459" y="171226"/>
                  </a:lnTo>
                  <a:lnTo>
                    <a:pt x="1669459" y="342453"/>
                  </a:lnTo>
                </a:path>
              </a:pathLst>
            </a:custGeom>
            <a:noFill/>
            <a:ln w="12600">
              <a:solidFill>
                <a:srgbClr val="58893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1"/>
            <p:cNvSpPr/>
            <p:nvPr/>
          </p:nvSpPr>
          <p:spPr>
            <a:xfrm>
              <a:off x="8383680" y="3013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8408880" y="3060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3"/>
            <p:cNvSpPr/>
            <p:nvPr/>
          </p:nvSpPr>
          <p:spPr>
            <a:xfrm>
              <a:off x="819108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834729" y="0"/>
                  </a:moveTo>
                  <a:lnTo>
                    <a:pt x="83472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4"/>
            <p:cNvSpPr/>
            <p:nvPr/>
          </p:nvSpPr>
          <p:spPr>
            <a:xfrm>
              <a:off x="754884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5"/>
            <p:cNvSpPr/>
            <p:nvPr/>
          </p:nvSpPr>
          <p:spPr>
            <a:xfrm>
              <a:off x="757404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"/>
            <p:cNvSpPr/>
            <p:nvPr/>
          </p:nvSpPr>
          <p:spPr>
            <a:xfrm>
              <a:off x="902592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0" y="0"/>
                  </a:moveTo>
                  <a:lnTo>
                    <a:pt x="0" y="171226"/>
                  </a:lnTo>
                  <a:lnTo>
                    <a:pt x="834729" y="171226"/>
                  </a:lnTo>
                  <a:lnTo>
                    <a:pt x="834729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7"/>
            <p:cNvSpPr/>
            <p:nvPr/>
          </p:nvSpPr>
          <p:spPr>
            <a:xfrm>
              <a:off x="921852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8"/>
            <p:cNvSpPr/>
            <p:nvPr/>
          </p:nvSpPr>
          <p:spPr>
            <a:xfrm>
              <a:off x="924336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矩形 7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9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214" name="流程图: 数据 10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1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文本框 12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-1060560" y="1716120"/>
            <a:ext cx="6564600" cy="3967200"/>
            <a:chOff x="-1060560" y="1716120"/>
            <a:chExt cx="6564600" cy="3967200"/>
          </a:xfrm>
        </p:grpSpPr>
        <p:sp>
          <p:nvSpPr>
            <p:cNvPr id="220" name="Rectangle 6"/>
            <p:cNvSpPr/>
            <p:nvPr/>
          </p:nvSpPr>
          <p:spPr>
            <a:xfrm>
              <a:off x="2068560" y="3927600"/>
              <a:ext cx="2052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理论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9720" y="3366000"/>
              <a:ext cx="123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理论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1316160" y="2327400"/>
              <a:ext cx="13726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理论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1"/>
            <p:cNvSpPr/>
            <p:nvPr/>
          </p:nvSpPr>
          <p:spPr>
            <a:xfrm>
              <a:off x="1110600" y="3173760"/>
              <a:ext cx="4393440" cy="2509560"/>
            </a:xfrm>
            <a:custGeom>
              <a:avLst/>
              <a:gdLst/>
              <a:ahLst/>
              <a:rect l="l" t="t" r="r" b="b"/>
              <a:pathLst>
                <a:path w="21600" h="20055">
                  <a:moveTo>
                    <a:pt x="18091" y="17329"/>
                  </a:moveTo>
                  <a:cubicBezTo>
                    <a:pt x="19699" y="15534"/>
                    <a:pt x="20588" y="13209"/>
                    <a:pt x="20588" y="10800"/>
                  </a:cubicBezTo>
                  <a:cubicBezTo>
                    <a:pt x="20588" y="5394"/>
                    <a:pt x="16205" y="1012"/>
                    <a:pt x="10800" y="1012"/>
                  </a:cubicBezTo>
                  <a:cubicBezTo>
                    <a:pt x="10489" y="1012"/>
                    <a:pt x="10179" y="1026"/>
                    <a:pt x="9871" y="1056"/>
                  </a:cubicBezTo>
                  <a:lnTo>
                    <a:pt x="9775" y="48"/>
                  </a:lnTo>
                  <a:cubicBezTo>
                    <a:pt x="10115" y="16"/>
                    <a:pt x="10457" y="0"/>
                    <a:pt x="10799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3458"/>
                    <a:pt x="20619" y="16024"/>
                    <a:pt x="18845" y="18004"/>
                  </a:cubicBezTo>
                  <a:lnTo>
                    <a:pt x="20857" y="19805"/>
                  </a:lnTo>
                  <a:lnTo>
                    <a:pt x="16329" y="20055"/>
                  </a:lnTo>
                  <a:lnTo>
                    <a:pt x="16080" y="15528"/>
                  </a:lnTo>
                  <a:lnTo>
                    <a:pt x="18091" y="17329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2"/>
            <p:cNvSpPr/>
            <p:nvPr/>
          </p:nvSpPr>
          <p:spPr>
            <a:xfrm>
              <a:off x="-1060560" y="2690280"/>
              <a:ext cx="3192120" cy="1823400"/>
            </a:xfrm>
            <a:custGeom>
              <a:avLst/>
              <a:gdLst/>
              <a:ahLst/>
              <a:rect l="l" t="t" r="r" b="b"/>
              <a:pathLst>
                <a:path w="24245" h="21600">
                  <a:moveTo>
                    <a:pt x="1431" y="11649"/>
                  </a:moveTo>
                  <a:cubicBezTo>
                    <a:pt x="1870" y="16495"/>
                    <a:pt x="5933" y="20207"/>
                    <a:pt x="10800" y="20207"/>
                  </a:cubicBezTo>
                  <a:cubicBezTo>
                    <a:pt x="15995" y="20207"/>
                    <a:pt x="20207" y="15995"/>
                    <a:pt x="20207" y="10800"/>
                  </a:cubicBezTo>
                  <a:cubicBezTo>
                    <a:pt x="20207" y="5604"/>
                    <a:pt x="15995" y="1393"/>
                    <a:pt x="10800" y="1393"/>
                  </a:cubicBezTo>
                  <a:cubicBezTo>
                    <a:pt x="9553" y="1393"/>
                    <a:pt x="8319" y="1640"/>
                    <a:pt x="7169" y="2121"/>
                  </a:cubicBezTo>
                  <a:lnTo>
                    <a:pt x="6631" y="836"/>
                  </a:lnTo>
                  <a:cubicBezTo>
                    <a:pt x="7951" y="284"/>
                    <a:pt x="9368" y="0"/>
                    <a:pt x="10799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764"/>
                    <a:pt x="16764" y="21600"/>
                    <a:pt x="10800" y="21600"/>
                  </a:cubicBezTo>
                  <a:cubicBezTo>
                    <a:pt x="5213" y="21600"/>
                    <a:pt x="548" y="17339"/>
                    <a:pt x="44" y="11775"/>
                  </a:cubicBezTo>
                  <a:lnTo>
                    <a:pt x="-2645" y="12019"/>
                  </a:lnTo>
                  <a:lnTo>
                    <a:pt x="430" y="8329"/>
                  </a:lnTo>
                  <a:lnTo>
                    <a:pt x="4120" y="11405"/>
                  </a:lnTo>
                  <a:lnTo>
                    <a:pt x="1431" y="11649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3"/>
            <p:cNvSpPr/>
            <p:nvPr/>
          </p:nvSpPr>
          <p:spPr>
            <a:xfrm>
              <a:off x="213840" y="1716120"/>
              <a:ext cx="3441600" cy="1965960"/>
            </a:xfrm>
            <a:custGeom>
              <a:avLst/>
              <a:gdLst/>
              <a:ahLst/>
              <a:rect l="l" t="t" r="r" b="b"/>
              <a:pathLst>
                <a:path w="5732" h="11715">
                  <a:moveTo>
                    <a:pt x="3722" y="4450"/>
                  </a:moveTo>
                  <a:cubicBezTo>
                    <a:pt x="2157" y="6195"/>
                    <a:pt x="1292" y="8456"/>
                    <a:pt x="1292" y="10800"/>
                  </a:cubicBezTo>
                  <a:cubicBezTo>
                    <a:pt x="1292" y="11069"/>
                    <a:pt x="1303" y="11337"/>
                    <a:pt x="1326" y="11606"/>
                  </a:cubicBezTo>
                  <a:lnTo>
                    <a:pt x="38" y="11715"/>
                  </a:lnTo>
                  <a:cubicBezTo>
                    <a:pt x="12" y="11411"/>
                    <a:pt x="0" y="11105"/>
                    <a:pt x="0" y="10800"/>
                  </a:cubicBezTo>
                  <a:cubicBezTo>
                    <a:pt x="0" y="8137"/>
                    <a:pt x="983" y="5569"/>
                    <a:pt x="2761" y="3587"/>
                  </a:cubicBezTo>
                  <a:lnTo>
                    <a:pt x="751" y="1784"/>
                  </a:lnTo>
                  <a:lnTo>
                    <a:pt x="5475" y="1528"/>
                  </a:lnTo>
                  <a:lnTo>
                    <a:pt x="5732" y="6253"/>
                  </a:lnTo>
                  <a:lnTo>
                    <a:pt x="3722" y="4450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7"/>
          <p:cNvGrpSpPr/>
          <p:nvPr/>
        </p:nvGrpSpPr>
        <p:grpSpPr>
          <a:xfrm>
            <a:off x="4703760" y="1987560"/>
            <a:ext cx="6777000" cy="3424320"/>
            <a:chOff x="4703760" y="1987560"/>
            <a:chExt cx="6777000" cy="3424320"/>
          </a:xfrm>
        </p:grpSpPr>
        <p:sp>
          <p:nvSpPr>
            <p:cNvPr id="227" name="矩形 9"/>
            <p:cNvSpPr/>
            <p:nvPr/>
          </p:nvSpPr>
          <p:spPr>
            <a:xfrm>
              <a:off x="4703760" y="1987560"/>
              <a:ext cx="677700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10"/>
            <p:cNvSpPr/>
            <p:nvPr/>
          </p:nvSpPr>
          <p:spPr>
            <a:xfrm>
              <a:off x="4703760" y="3184200"/>
              <a:ext cx="677700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11"/>
            <p:cNvSpPr/>
            <p:nvPr/>
          </p:nvSpPr>
          <p:spPr>
            <a:xfrm>
              <a:off x="4703760" y="4355640"/>
              <a:ext cx="677700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12"/>
          <p:cNvSpPr/>
          <p:nvPr/>
        </p:nvSpPr>
        <p:spPr>
          <a:xfrm>
            <a:off x="4948200" y="2116080"/>
            <a:ext cx="65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3"/>
          <p:cNvSpPr/>
          <p:nvPr/>
        </p:nvSpPr>
        <p:spPr>
          <a:xfrm>
            <a:off x="4948200" y="3273480"/>
            <a:ext cx="65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4"/>
          <p:cNvSpPr/>
          <p:nvPr/>
        </p:nvSpPr>
        <p:spPr>
          <a:xfrm>
            <a:off x="4948200" y="4437000"/>
            <a:ext cx="65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15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234" name="流程图: 数据 16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17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6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3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