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330-1825-44EC-83AA-F909251E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4AD-879C-4088-B124-611E502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ADC-6177-42EC-9B0D-B6794321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190-31F0-4A88-A4AA-490A6996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0E18-5805-49EE-9425-D5248A17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8686-15DC-4D15-8984-604A8C9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14CE-ECDA-4631-8884-1C11AE54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5E7-35D7-43D7-ADEE-29D2FB3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F337-B2A2-4C09-AAF9-DFE1570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0D5-727F-4EC7-96F3-6CC6EBB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B82E-10E0-4339-86C1-0D4A5C7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00A-BDE0-45B9-B877-8B98284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8EAE-8ED1-4A20-B5A3-80C7E9A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F35B-08D8-4594-ABD4-78B9A3B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BD8-E35D-42A6-95E4-7B02286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9726-4FE0-4E9A-9F56-F3507258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9E7A-7E08-45C2-9D82-4FC0F29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8FD7-FD55-40EC-AA22-4682F80C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0D9B-C900-480A-9AF3-6931F0F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253F-67D0-4E38-A243-A7FF881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2CDA-5B18-41D7-B49F-4ADDBAB5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5F8D-B0A5-4985-B1C1-7EA0B53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3AB-C4F0-4D7B-AB76-BDD91707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34D4-05C9-400B-B43C-B4F65EA7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DED9-26DA-4E1B-9AD3-DFFE0690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9934-45C9-4BAE-B920-59BBCDB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C272-CC92-4328-BAE8-1FF2666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4D1E-A104-4F92-8464-EA17E63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6E68-7CC9-4FB0-82D0-EADE834E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6220-A328-479F-A6E9-3153CEA2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DD74-67B5-4117-AE18-3A0C0766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A2B8-682D-4573-8921-C885CCD5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9D6E-E3DB-499A-9646-1FE4630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65D-41D5-458E-A6C8-FBF3394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3710-D2FE-442B-9178-56144334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BAB6-4E00-4222-BE8B-00595C96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67BD-916F-4B1E-B26C-514B5D20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CC2E-1F0F-4C4F-88CB-30A20F6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A753-CE29-4DEA-9EC3-5C252803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ADFD-ACCE-4111-BB99-C5D5768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40C9-58BB-44B0-94B2-10D55CF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D0B1-492C-4939-87AC-630C5A6D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7824-AB6B-4DD3-9722-F9FC6AE9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7B1-F50F-4BC5-92CD-7BB6682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BBA-CF53-4C0A-A37C-417D137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F79-BA1C-4D2E-9E15-8BD7B9D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FA1-E560-43BC-96D2-A2DF781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AE1-3F93-494E-862A-3FB247B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WWW.SOPPT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C25C-A1B5-4734-AA99-BF0CE0523CF5}" type="slidenum">
              <a:rPr b="0" lang="zh-CN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文本框 1030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d9520f"/>
                </a:solidFill>
                <a:latin typeface="Arial"/>
                <a:ea typeface="宋体"/>
              </a:rPr>
              <a:t>***</a:t>
            </a:r>
            <a:r>
              <a:rPr b="1" i="1" lang="zh-CN" sz="1800" spc="-1" strike="noStrike">
                <a:solidFill>
                  <a:srgbClr val="d9520f"/>
                </a:solidFill>
                <a:latin typeface="Arial"/>
                <a:ea typeface="宋体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D0B0-E3A4-40DE-8233-B1B107963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7EB-FE60-4140-A505-6CA5B206FF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83F-D521-46E3-B36F-147199C9AA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2052"/>
          <p:cNvSpPr/>
          <p:nvPr/>
        </p:nvSpPr>
        <p:spPr>
          <a:xfrm>
            <a:off x="6248520" y="30492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d9520f"/>
                </a:solidFill>
                <a:latin typeface="Arial"/>
                <a:ea typeface="宋体"/>
              </a:rPr>
              <a:t>大学名称或校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84F7-CD62-4F57-832A-FE0516C8294C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4eb6"/>
                </a:solidFill>
                <a:latin typeface="Arial"/>
                <a:ea typeface="宋体"/>
              </a:rPr>
              <a:t>论文标题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155"/>
          <p:cNvSpPr/>
          <p:nvPr/>
        </p:nvSpPr>
        <p:spPr>
          <a:xfrm>
            <a:off x="228600" y="60958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1920960" y="26668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蓝色天空毕业论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圆角矩形 14337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14338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圆角矩形 14339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燕尾形 14341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燕尾形 14342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14343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4344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4345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14346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4347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14348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cc76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14349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cc76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14350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c39"/>
              </a:gs>
              <a:gs pos="50000">
                <a:srgbClr val="9cc769"/>
              </a:gs>
              <a:gs pos="100000">
                <a:srgbClr val="546c3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4351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37e43"/>
              </a:gs>
              <a:gs pos="100000">
                <a:srgbClr val="9cc76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4352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14353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61" name="椭圆 14354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4355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4356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14357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椭圆 14358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987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14359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987e3">
                  <a:alpha val="32156"/>
                </a:srgbClr>
              </a:gs>
              <a:gs pos="100000">
                <a:srgbClr val="223e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14360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8497b"/>
              </a:gs>
              <a:gs pos="50000">
                <a:srgbClr val="4987e3"/>
              </a:gs>
              <a:gs pos="100000">
                <a:srgbClr val="2849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14361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e5690"/>
              </a:gs>
              <a:gs pos="100000">
                <a:srgbClr val="4987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14362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14363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71" name="椭圆 14364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14365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14366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14367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4368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76" name="椭圆 14369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14370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14371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14372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文本框 14373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14374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4375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组合 15362"/>
          <p:cNvGrpSpPr/>
          <p:nvPr/>
        </p:nvGrpSpPr>
        <p:grpSpPr>
          <a:xfrm>
            <a:off x="1447920" y="1527120"/>
            <a:ext cx="5715000" cy="5330520"/>
            <a:chOff x="1447920" y="1527120"/>
            <a:chExt cx="5715000" cy="5330520"/>
          </a:xfrm>
        </p:grpSpPr>
        <p:sp>
          <p:nvSpPr>
            <p:cNvPr id="387" name="矩形 15363"/>
            <p:cNvSpPr/>
            <p:nvPr/>
          </p:nvSpPr>
          <p:spPr>
            <a:xfrm rot="13770000">
              <a:off x="4779000" y="411084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5364"/>
            <p:cNvSpPr/>
            <p:nvPr/>
          </p:nvSpPr>
          <p:spPr>
            <a:xfrm rot="20856000">
              <a:off x="2755800" y="363240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5365"/>
            <p:cNvSpPr/>
            <p:nvPr/>
          </p:nvSpPr>
          <p:spPr>
            <a:xfrm rot="18394200">
              <a:off x="4914000" y="24717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组合 15366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391" name="组合 15367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392" name="椭圆 15368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文本框 15370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15371"/>
            <p:cNvGrpSpPr/>
            <p:nvPr/>
          </p:nvGrpSpPr>
          <p:grpSpPr>
            <a:xfrm>
              <a:off x="5165640" y="1527120"/>
              <a:ext cx="925200" cy="912240"/>
              <a:chOff x="5165640" y="1527120"/>
              <a:chExt cx="925200" cy="912240"/>
            </a:xfrm>
          </p:grpSpPr>
          <p:grpSp>
            <p:nvGrpSpPr>
              <p:cNvPr id="396" name="组合 15372"/>
              <p:cNvGrpSpPr/>
              <p:nvPr/>
            </p:nvGrpSpPr>
            <p:grpSpPr>
              <a:xfrm>
                <a:off x="5165640" y="1527120"/>
                <a:ext cx="894960" cy="912240"/>
                <a:chOff x="5165640" y="1527120"/>
                <a:chExt cx="894960" cy="912240"/>
              </a:xfrm>
            </p:grpSpPr>
            <p:sp>
              <p:nvSpPr>
                <p:cNvPr id="397" name="椭圆 15373"/>
                <p:cNvSpPr/>
                <p:nvPr/>
              </p:nvSpPr>
              <p:spPr>
                <a:xfrm>
                  <a:off x="5165640" y="15271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221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未知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文本框 15375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组合 15376"/>
            <p:cNvGrpSpPr/>
            <p:nvPr/>
          </p:nvGrpSpPr>
          <p:grpSpPr>
            <a:xfrm>
              <a:off x="1447920" y="2860560"/>
              <a:ext cx="1789920" cy="1894680"/>
              <a:chOff x="1447920" y="2860560"/>
              <a:chExt cx="1789920" cy="1894680"/>
            </a:xfrm>
          </p:grpSpPr>
          <p:grpSp>
            <p:nvGrpSpPr>
              <p:cNvPr id="401" name="组合 15377"/>
              <p:cNvGrpSpPr/>
              <p:nvPr/>
            </p:nvGrpSpPr>
            <p:grpSpPr>
              <a:xfrm>
                <a:off x="1447920" y="2860560"/>
                <a:ext cx="1789920" cy="1894680"/>
                <a:chOff x="1447920" y="2860560"/>
                <a:chExt cx="1789920" cy="1894680"/>
              </a:xfrm>
            </p:grpSpPr>
            <p:sp>
              <p:nvSpPr>
                <p:cNvPr id="402" name="椭圆 15378"/>
                <p:cNvSpPr/>
                <p:nvPr/>
              </p:nvSpPr>
              <p:spPr>
                <a:xfrm>
                  <a:off x="1447920" y="286056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未知"/>
                <p:cNvSpPr/>
                <p:nvPr/>
              </p:nvSpPr>
              <p:spPr>
                <a:xfrm>
                  <a:off x="1652400" y="289188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文本框 15380"/>
              <p:cNvSpPr/>
              <p:nvPr/>
            </p:nvSpPr>
            <p:spPr>
              <a:xfrm>
                <a:off x="1563840" y="37026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组合 15381"/>
            <p:cNvGrpSpPr/>
            <p:nvPr/>
          </p:nvGrpSpPr>
          <p:grpSpPr>
            <a:xfrm>
              <a:off x="5097240" y="4263840"/>
              <a:ext cx="2065680" cy="2105280"/>
              <a:chOff x="5097240" y="4263840"/>
              <a:chExt cx="2065680" cy="2105280"/>
            </a:xfrm>
          </p:grpSpPr>
          <p:grpSp>
            <p:nvGrpSpPr>
              <p:cNvPr id="406" name="组合 15382"/>
              <p:cNvGrpSpPr/>
              <p:nvPr/>
            </p:nvGrpSpPr>
            <p:grpSpPr>
              <a:xfrm>
                <a:off x="5097240" y="4263840"/>
                <a:ext cx="2065680" cy="2105280"/>
                <a:chOff x="5097240" y="4263840"/>
                <a:chExt cx="2065680" cy="2105280"/>
              </a:xfrm>
            </p:grpSpPr>
            <p:sp>
              <p:nvSpPr>
                <p:cNvPr id="407" name="椭圆 15383"/>
                <p:cNvSpPr/>
                <p:nvPr/>
              </p:nvSpPr>
              <p:spPr>
                <a:xfrm>
                  <a:off x="5097240" y="42638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c53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未知"/>
                <p:cNvSpPr/>
                <p:nvPr/>
              </p:nvSpPr>
              <p:spPr>
                <a:xfrm>
                  <a:off x="533340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文本框 15385"/>
              <p:cNvSpPr/>
              <p:nvPr/>
            </p:nvSpPr>
            <p:spPr>
              <a:xfrm>
                <a:off x="541260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椭圆 15386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15387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15388"/>
            <p:cNvSpPr/>
            <p:nvPr/>
          </p:nvSpPr>
          <p:spPr>
            <a:xfrm>
              <a:off x="5441400" y="63694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15389"/>
            <p:cNvSpPr/>
            <p:nvPr/>
          </p:nvSpPr>
          <p:spPr>
            <a:xfrm>
              <a:off x="5303520" y="25092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右箭头 16386"/>
          <p:cNvSpPr/>
          <p:nvPr/>
        </p:nvSpPr>
        <p:spPr>
          <a:xfrm rot="17973000">
            <a:off x="4881600" y="267480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右箭头 16387"/>
          <p:cNvSpPr/>
          <p:nvPr/>
        </p:nvSpPr>
        <p:spPr>
          <a:xfrm rot="3465600">
            <a:off x="4878360" y="483624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右箭头 16388"/>
          <p:cNvSpPr/>
          <p:nvPr/>
        </p:nvSpPr>
        <p:spPr>
          <a:xfrm rot="14368800">
            <a:off x="3662280" y="2750760"/>
            <a:ext cx="790560" cy="289080"/>
          </a:xfrm>
          <a:prstGeom prst="rightArrow">
            <a:avLst>
              <a:gd name="adj1" fmla="val 35167"/>
              <a:gd name="adj2" fmla="val 110719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右箭头 16389"/>
          <p:cNvSpPr/>
          <p:nvPr/>
        </p:nvSpPr>
        <p:spPr>
          <a:xfrm rot="7534800">
            <a:off x="3623400" y="4804920"/>
            <a:ext cx="790920" cy="289080"/>
          </a:xfrm>
          <a:prstGeom prst="rightArrow">
            <a:avLst>
              <a:gd name="adj1" fmla="val 35167"/>
              <a:gd name="adj2" fmla="val 110770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右箭头 16390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09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右箭头 16391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54"/>
            </a:avLst>
          </a:prstGeom>
          <a:gradFill rotWithShape="0">
            <a:gsLst>
              <a:gs pos="0">
                <a:srgbClr val="4178ca">
                  <a:alpha val="0"/>
                </a:srgbClr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6392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16393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425" name="椭圆 16394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16395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16396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428" name="椭圆 16397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16398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16399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431" name="椭圆 16400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16401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16402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434" name="椭圆 16403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16404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16405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437" name="椭圆 16406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16407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16408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440" name="椭圆 16409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6410"/>
            <p:cNvSpPr/>
            <p:nvPr/>
          </p:nvSpPr>
          <p:spPr>
            <a:xfrm>
              <a:off x="545472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2c5ae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椭圆 16411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16412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 16413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16414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16415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16416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16417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6418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6419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6420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6421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6422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6423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16424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6425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6426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组合 17410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462" name="组合 17411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463" name="组合 17412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464" name="圆角矩形 17413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e91d4"/>
                    </a:gs>
                    <a:gs pos="100000">
                      <a:srgbClr val="3477a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17414"/>
                <p:cNvSpPr/>
                <p:nvPr/>
              </p:nvSpPr>
              <p:spPr>
                <a:xfrm>
                  <a:off x="140256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17415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fd9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17416"/>
                <p:cNvSpPr/>
                <p:nvPr/>
              </p:nvSpPr>
              <p:spPr>
                <a:xfrm>
                  <a:off x="141876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f1fb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17417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17418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f1fb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17419"/>
              <p:cNvGrpSpPr/>
              <p:nvPr/>
            </p:nvGrpSpPr>
            <p:grpSpPr>
              <a:xfrm>
                <a:off x="2066040" y="1981080"/>
                <a:ext cx="600480" cy="594360"/>
                <a:chOff x="2066040" y="1981080"/>
                <a:chExt cx="600480" cy="594360"/>
              </a:xfrm>
            </p:grpSpPr>
            <p:sp>
              <p:nvSpPr>
                <p:cNvPr id="471" name="椭圆 17420"/>
                <p:cNvSpPr/>
                <p:nvPr/>
              </p:nvSpPr>
              <p:spPr>
                <a:xfrm>
                  <a:off x="206604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21"/>
                <p:cNvSpPr/>
                <p:nvPr/>
              </p:nvSpPr>
              <p:spPr>
                <a:xfrm>
                  <a:off x="207216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17422"/>
                <p:cNvSpPr/>
                <p:nvPr/>
              </p:nvSpPr>
              <p:spPr>
                <a:xfrm>
                  <a:off x="207936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17423"/>
                <p:cNvSpPr/>
                <p:nvPr/>
              </p:nvSpPr>
              <p:spPr>
                <a:xfrm>
                  <a:off x="208548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17424"/>
                <p:cNvSpPr/>
                <p:nvPr/>
              </p:nvSpPr>
              <p:spPr>
                <a:xfrm>
                  <a:off x="211716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文本框 17425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17426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组合 17427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479" name="组合 17428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480" name="圆角矩形 17429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b034"/>
                    </a:gs>
                    <a:gs pos="100000">
                      <a:srgbClr val="3f8b4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圆角矩形 17430"/>
                <p:cNvSpPr/>
                <p:nvPr/>
              </p:nvSpPr>
              <p:spPr>
                <a:xfrm>
                  <a:off x="360792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圆角矩形 17431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6ed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圆角矩形 17432"/>
                <p:cNvSpPr/>
                <p:nvPr/>
              </p:nvSpPr>
              <p:spPr>
                <a:xfrm>
                  <a:off x="362412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f8da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圆角矩形 17433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圆角矩形 17434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5f0c2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组合 17435"/>
              <p:cNvGrpSpPr/>
              <p:nvPr/>
            </p:nvGrpSpPr>
            <p:grpSpPr>
              <a:xfrm>
                <a:off x="4271400" y="1981080"/>
                <a:ext cx="600480" cy="594360"/>
                <a:chOff x="4271400" y="1981080"/>
                <a:chExt cx="600480" cy="594360"/>
              </a:xfrm>
            </p:grpSpPr>
            <p:sp>
              <p:nvSpPr>
                <p:cNvPr id="487" name="椭圆 17436"/>
                <p:cNvSpPr/>
                <p:nvPr/>
              </p:nvSpPr>
              <p:spPr>
                <a:xfrm>
                  <a:off x="427140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椭圆 17437"/>
                <p:cNvSpPr/>
                <p:nvPr/>
              </p:nvSpPr>
              <p:spPr>
                <a:xfrm>
                  <a:off x="427752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椭圆 17438"/>
                <p:cNvSpPr/>
                <p:nvPr/>
              </p:nvSpPr>
              <p:spPr>
                <a:xfrm>
                  <a:off x="428472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椭圆 17439"/>
                <p:cNvSpPr/>
                <p:nvPr/>
              </p:nvSpPr>
              <p:spPr>
                <a:xfrm>
                  <a:off x="429084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椭圆 17440"/>
                <p:cNvSpPr/>
                <p:nvPr/>
              </p:nvSpPr>
              <p:spPr>
                <a:xfrm>
                  <a:off x="432252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2" name="文本框 17441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文本框 17442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组合 17443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495" name="组合 17444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496" name="圆角矩形 17445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59f43"/>
                    </a:gs>
                    <a:gs pos="100000">
                      <a:srgbClr val="8f884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圆角矩形 17446"/>
                <p:cNvSpPr/>
                <p:nvPr/>
              </p:nvSpPr>
              <p:spPr>
                <a:xfrm>
                  <a:off x="5813280" y="2272320"/>
                  <a:ext cx="1959120" cy="259164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640"/>
                    <a:gd name="textAreaBottom" fmla="*/ 2496240 h 2591640"/>
                  </a:gdLst>
                  <a:ahLst/>
                  <a:rect l="textAreaLeft" t="textAreaTop" r="textAreaRight" b="textAreaBottom"/>
                  <a:pathLst>
                    <a:path w="21600" h="28572">
                      <a:moveTo>
                        <a:pt x="3600" y="0"/>
                      </a:moveTo>
                      <a:arcTo wR="3600" hR="3600" stAng="16200000" swAng="-5400000"/>
                      <a:lnTo>
                        <a:pt x="0" y="24972"/>
                      </a:lnTo>
                      <a:arcTo wR="3600" hR="3600" stAng="10800000" swAng="-5400000"/>
                      <a:lnTo>
                        <a:pt x="18000" y="2857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圆角矩形 17447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dee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圆角矩形 17448"/>
                <p:cNvSpPr/>
                <p:nvPr/>
              </p:nvSpPr>
              <p:spPr>
                <a:xfrm>
                  <a:off x="5829480" y="2292840"/>
                  <a:ext cx="1932120" cy="655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圆角矩形 17449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8374c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圆角矩形 17450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9d7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组合 17451"/>
              <p:cNvGrpSpPr/>
              <p:nvPr/>
            </p:nvGrpSpPr>
            <p:grpSpPr>
              <a:xfrm>
                <a:off x="6476760" y="1981080"/>
                <a:ext cx="600480" cy="594360"/>
                <a:chOff x="6476760" y="1981080"/>
                <a:chExt cx="600480" cy="594360"/>
              </a:xfrm>
            </p:grpSpPr>
            <p:sp>
              <p:nvSpPr>
                <p:cNvPr id="503" name="椭圆 17452"/>
                <p:cNvSpPr/>
                <p:nvPr/>
              </p:nvSpPr>
              <p:spPr>
                <a:xfrm>
                  <a:off x="6476760" y="1981080"/>
                  <a:ext cx="600480" cy="5943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17453"/>
                <p:cNvSpPr/>
                <p:nvPr/>
              </p:nvSpPr>
              <p:spPr>
                <a:xfrm>
                  <a:off x="6482880" y="1985400"/>
                  <a:ext cx="58068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椭圆 17454"/>
                <p:cNvSpPr/>
                <p:nvPr/>
              </p:nvSpPr>
              <p:spPr>
                <a:xfrm>
                  <a:off x="6490080" y="1989000"/>
                  <a:ext cx="567360" cy="56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椭圆 17455"/>
                <p:cNvSpPr/>
                <p:nvPr/>
              </p:nvSpPr>
              <p:spPr>
                <a:xfrm>
                  <a:off x="6496200" y="1994040"/>
                  <a:ext cx="539280" cy="52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椭圆 17456"/>
                <p:cNvSpPr/>
                <p:nvPr/>
              </p:nvSpPr>
              <p:spPr>
                <a:xfrm>
                  <a:off x="6527880" y="2008440"/>
                  <a:ext cx="479160" cy="42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文本框 17457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文本框 17458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组合 18434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513" name="矩形 18435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8436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18437"/>
          <p:cNvGrpSpPr/>
          <p:nvPr/>
        </p:nvGrpSpPr>
        <p:grpSpPr>
          <a:xfrm>
            <a:off x="4721760" y="3528000"/>
            <a:ext cx="1522080" cy="2421000"/>
            <a:chOff x="4721760" y="3528000"/>
            <a:chExt cx="1522080" cy="2421000"/>
          </a:xfrm>
        </p:grpSpPr>
        <p:grpSp>
          <p:nvGrpSpPr>
            <p:cNvPr id="516" name="组合 18438"/>
            <p:cNvGrpSpPr/>
            <p:nvPr/>
          </p:nvGrpSpPr>
          <p:grpSpPr>
            <a:xfrm>
              <a:off x="4721760" y="3685320"/>
              <a:ext cx="1417320" cy="2263680"/>
              <a:chOff x="4721760" y="3685320"/>
              <a:chExt cx="1417320" cy="2263680"/>
            </a:xfrm>
          </p:grpSpPr>
          <p:sp>
            <p:nvSpPr>
              <p:cNvPr id="517" name="未知"/>
              <p:cNvSpPr/>
              <p:nvPr/>
            </p:nvSpPr>
            <p:spPr>
              <a:xfrm rot="3876600">
                <a:off x="4293720" y="4572000"/>
                <a:ext cx="2273040" cy="4903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 rot="3876600">
                <a:off x="5659560" y="5449680"/>
                <a:ext cx="357120" cy="4014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18441"/>
            <p:cNvGrpSpPr/>
            <p:nvPr/>
          </p:nvGrpSpPr>
          <p:grpSpPr>
            <a:xfrm>
              <a:off x="5156280" y="3528000"/>
              <a:ext cx="1087560" cy="1737000"/>
              <a:chOff x="5156280" y="3528000"/>
              <a:chExt cx="1087560" cy="1737000"/>
            </a:xfrm>
          </p:grpSpPr>
          <p:sp>
            <p:nvSpPr>
              <p:cNvPr id="520" name="未知"/>
              <p:cNvSpPr/>
              <p:nvPr/>
            </p:nvSpPr>
            <p:spPr>
              <a:xfrm flipV="1" rot="3876600">
                <a:off x="4827960" y="4208040"/>
                <a:ext cx="1744200" cy="376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 flipV="1" rot="3876600">
                <a:off x="5860080" y="4889520"/>
                <a:ext cx="273960" cy="3078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组合 18444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23" name="椭圆 1844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18446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18447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18448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 18449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18450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29" name="椭圆 18451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18452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18453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18454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组合 18455"/>
          <p:cNvGrpSpPr/>
          <p:nvPr/>
        </p:nvGrpSpPr>
        <p:grpSpPr>
          <a:xfrm>
            <a:off x="6687360" y="3594240"/>
            <a:ext cx="1523880" cy="2422080"/>
            <a:chOff x="6687360" y="3594240"/>
            <a:chExt cx="1523880" cy="2422080"/>
          </a:xfrm>
        </p:grpSpPr>
        <p:grpSp>
          <p:nvGrpSpPr>
            <p:cNvPr id="534" name="组合 18456"/>
            <p:cNvGrpSpPr/>
            <p:nvPr/>
          </p:nvGrpSpPr>
          <p:grpSpPr>
            <a:xfrm>
              <a:off x="6687360" y="3751920"/>
              <a:ext cx="1418760" cy="2264400"/>
              <a:chOff x="6687360" y="3751920"/>
              <a:chExt cx="1418760" cy="2264400"/>
            </a:xfrm>
          </p:grpSpPr>
          <p:sp>
            <p:nvSpPr>
              <p:cNvPr id="535" name="未知"/>
              <p:cNvSpPr/>
              <p:nvPr/>
            </p:nvSpPr>
            <p:spPr>
              <a:xfrm rot="3876600">
                <a:off x="6259680" y="46382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 rot="3876600">
                <a:off x="7625880" y="551664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18459"/>
            <p:cNvGrpSpPr/>
            <p:nvPr/>
          </p:nvGrpSpPr>
          <p:grpSpPr>
            <a:xfrm>
              <a:off x="7122600" y="3594240"/>
              <a:ext cx="1088640" cy="1737720"/>
              <a:chOff x="7122600" y="3594240"/>
              <a:chExt cx="1088640" cy="1737720"/>
            </a:xfrm>
          </p:grpSpPr>
          <p:sp>
            <p:nvSpPr>
              <p:cNvPr id="538" name="未知"/>
              <p:cNvSpPr/>
              <p:nvPr/>
            </p:nvSpPr>
            <p:spPr>
              <a:xfrm flipV="1" rot="3876600">
                <a:off x="6794280" y="427428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 flipV="1" rot="3876600">
                <a:off x="7827120" y="49550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椭圆 1846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 18463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18464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18465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椭圆 18466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18467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46" name="椭圆 18468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18469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18470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18471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8472"/>
          <p:cNvGrpSpPr/>
          <p:nvPr/>
        </p:nvGrpSpPr>
        <p:grpSpPr>
          <a:xfrm>
            <a:off x="2915280" y="3527640"/>
            <a:ext cx="1523880" cy="2421720"/>
            <a:chOff x="2915280" y="3527640"/>
            <a:chExt cx="1523880" cy="2421720"/>
          </a:xfrm>
        </p:grpSpPr>
        <p:grpSp>
          <p:nvGrpSpPr>
            <p:cNvPr id="551" name="组合 18473"/>
            <p:cNvGrpSpPr/>
            <p:nvPr/>
          </p:nvGrpSpPr>
          <p:grpSpPr>
            <a:xfrm>
              <a:off x="2915280" y="3685320"/>
              <a:ext cx="1418400" cy="2264040"/>
              <a:chOff x="2915280" y="3685320"/>
              <a:chExt cx="1418400" cy="2264040"/>
            </a:xfrm>
          </p:grpSpPr>
          <p:sp>
            <p:nvSpPr>
              <p:cNvPr id="552" name="未知"/>
              <p:cNvSpPr/>
              <p:nvPr/>
            </p:nvSpPr>
            <p:spPr>
              <a:xfrm rot="3876600">
                <a:off x="2487960" y="45716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 rot="3876600">
                <a:off x="385380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18476"/>
            <p:cNvGrpSpPr/>
            <p:nvPr/>
          </p:nvGrpSpPr>
          <p:grpSpPr>
            <a:xfrm>
              <a:off x="3350880" y="3527640"/>
              <a:ext cx="1088280" cy="1737360"/>
              <a:chOff x="3350880" y="3527640"/>
              <a:chExt cx="1088280" cy="1737360"/>
            </a:xfrm>
          </p:grpSpPr>
          <p:sp>
            <p:nvSpPr>
              <p:cNvPr id="555" name="未知"/>
              <p:cNvSpPr/>
              <p:nvPr/>
            </p:nvSpPr>
            <p:spPr>
              <a:xfrm flipV="1" rot="3876600">
                <a:off x="3022920" y="42076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 flipV="1" rot="3876600">
                <a:off x="4055040" y="48884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组合 18479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58" name="椭圆 1848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18481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18482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18483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18484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组合 18485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64" name="椭圆 18486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8487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18488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18489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组合 18490"/>
          <p:cNvGrpSpPr/>
          <p:nvPr/>
        </p:nvGrpSpPr>
        <p:grpSpPr>
          <a:xfrm>
            <a:off x="1168920" y="3527640"/>
            <a:ext cx="1523160" cy="2421720"/>
            <a:chOff x="1168920" y="3527640"/>
            <a:chExt cx="1523160" cy="2421720"/>
          </a:xfrm>
        </p:grpSpPr>
        <p:grpSp>
          <p:nvGrpSpPr>
            <p:cNvPr id="569" name="组合 18491"/>
            <p:cNvGrpSpPr/>
            <p:nvPr/>
          </p:nvGrpSpPr>
          <p:grpSpPr>
            <a:xfrm>
              <a:off x="1168920" y="3685320"/>
              <a:ext cx="1418040" cy="2264040"/>
              <a:chOff x="1168920" y="3685320"/>
              <a:chExt cx="1418040" cy="2264040"/>
            </a:xfrm>
          </p:grpSpPr>
          <p:sp>
            <p:nvSpPr>
              <p:cNvPr id="570" name="未知"/>
              <p:cNvSpPr/>
              <p:nvPr/>
            </p:nvSpPr>
            <p:spPr>
              <a:xfrm rot="3876600">
                <a:off x="741240" y="4571640"/>
                <a:ext cx="227304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3876600">
                <a:off x="2107080" y="5449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组合 18494"/>
            <p:cNvGrpSpPr/>
            <p:nvPr/>
          </p:nvGrpSpPr>
          <p:grpSpPr>
            <a:xfrm>
              <a:off x="1604160" y="3527640"/>
              <a:ext cx="1087920" cy="1737360"/>
              <a:chOff x="1604160" y="3527640"/>
              <a:chExt cx="1087920" cy="1737360"/>
            </a:xfrm>
          </p:grpSpPr>
          <p:sp>
            <p:nvSpPr>
              <p:cNvPr id="573" name="未知"/>
              <p:cNvSpPr/>
              <p:nvPr/>
            </p:nvSpPr>
            <p:spPr>
              <a:xfrm flipV="1" rot="3876600">
                <a:off x="1275840" y="4207680"/>
                <a:ext cx="174420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 flipV="1" rot="3876600">
                <a:off x="2308320" y="488844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组合 18497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76" name="椭圆 1849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18499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18500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18501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18502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组合 18503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82" name="椭圆 18504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8505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椭圆 18506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椭圆 18507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文本框 18508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8509"/>
          <p:cNvSpPr/>
          <p:nvPr/>
        </p:nvSpPr>
        <p:spPr>
          <a:xfrm rot="3925800">
            <a:off x="1591200" y="4224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8510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8511"/>
          <p:cNvSpPr/>
          <p:nvPr/>
        </p:nvSpPr>
        <p:spPr>
          <a:xfrm rot="3925800">
            <a:off x="333108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18512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8513"/>
          <p:cNvSpPr/>
          <p:nvPr/>
        </p:nvSpPr>
        <p:spPr>
          <a:xfrm rot="3925800">
            <a:off x="5144040" y="4224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8514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8515"/>
          <p:cNvSpPr/>
          <p:nvPr/>
        </p:nvSpPr>
        <p:spPr>
          <a:xfrm rot="3925800">
            <a:off x="7096680" y="4367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18516"/>
          <p:cNvGrpSpPr/>
          <p:nvPr/>
        </p:nvGrpSpPr>
        <p:grpSpPr>
          <a:xfrm>
            <a:off x="1101600" y="2031840"/>
            <a:ext cx="6056640" cy="407880"/>
            <a:chOff x="1101600" y="2031840"/>
            <a:chExt cx="6056640" cy="407880"/>
          </a:xfrm>
        </p:grpSpPr>
        <p:sp>
          <p:nvSpPr>
            <p:cNvPr id="595" name="文本框 18517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18518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文本框 18519"/>
            <p:cNvSpPr/>
            <p:nvPr/>
          </p:nvSpPr>
          <p:spPr>
            <a:xfrm>
              <a:off x="4601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18520"/>
            <p:cNvSpPr/>
            <p:nvPr/>
          </p:nvSpPr>
          <p:spPr>
            <a:xfrm>
              <a:off x="639216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直接箭头连接符 18521"/>
            <p:cNvCxnSpPr>
              <a:stCxn id="595" idx="3"/>
              <a:endCxn id="596" idx="1"/>
            </p:cNvCxnSpPr>
            <p:nvPr/>
          </p:nvCxnSpPr>
          <p:spPr>
            <a:xfrm>
              <a:off x="1837800" y="2255400"/>
              <a:ext cx="98676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round/>
              <a:tailEnd len="med" type="triangle" w="med"/>
            </a:ln>
          </p:spPr>
        </p:cxnSp>
        <p:cxnSp>
          <p:nvCxnSpPr>
            <p:cNvPr id="600" name="直接箭头连接符 18522"/>
            <p:cNvCxnSpPr>
              <a:stCxn id="596" idx="3"/>
              <a:endCxn id="597" idx="1"/>
            </p:cNvCxnSpPr>
            <p:nvPr/>
          </p:nvCxnSpPr>
          <p:spPr>
            <a:xfrm>
              <a:off x="3592440" y="225540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round/>
              <a:tailEnd len="med" type="triangle" w="med"/>
            </a:ln>
          </p:spPr>
        </p:cxnSp>
        <p:cxnSp>
          <p:nvCxnSpPr>
            <p:cNvPr id="601" name="直接箭头连接符 18523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round/>
              <a:tailEnd len="med" type="triangle" w="med"/>
            </a:ln>
          </p:spPr>
        </p:cxnSp>
      </p:grpSp>
      <p:sp>
        <p:nvSpPr>
          <p:cNvPr id="602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组合 19458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606" name="圆角矩形 19459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19460"/>
            <p:cNvGrpSpPr/>
            <p:nvPr/>
          </p:nvGrpSpPr>
          <p:grpSpPr>
            <a:xfrm>
              <a:off x="1804680" y="1913400"/>
              <a:ext cx="1130760" cy="1064520"/>
              <a:chOff x="1804680" y="1913400"/>
              <a:chExt cx="1130760" cy="1064520"/>
            </a:xfrm>
          </p:grpSpPr>
          <p:sp>
            <p:nvSpPr>
              <p:cNvPr id="608" name="圆角矩形 19461"/>
              <p:cNvSpPr/>
              <p:nvPr/>
            </p:nvSpPr>
            <p:spPr>
              <a:xfrm>
                <a:off x="1804680" y="191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35e9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>
                <a:off x="1875240" y="198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bef0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cbe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文本框 19463"/>
              <p:cNvSpPr/>
              <p:nvPr/>
            </p:nvSpPr>
            <p:spPr>
              <a:xfrm>
                <a:off x="1930680" y="220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文本框 19464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9465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613" name="圆角矩形 19466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组合 19467"/>
            <p:cNvGrpSpPr/>
            <p:nvPr/>
          </p:nvGrpSpPr>
          <p:grpSpPr>
            <a:xfrm>
              <a:off x="1804680" y="3361320"/>
              <a:ext cx="1130760" cy="1064520"/>
              <a:chOff x="1804680" y="3361320"/>
              <a:chExt cx="1130760" cy="1064520"/>
            </a:xfrm>
          </p:grpSpPr>
          <p:sp>
            <p:nvSpPr>
              <p:cNvPr id="615" name="圆角矩形 19468"/>
              <p:cNvSpPr/>
              <p:nvPr/>
            </p:nvSpPr>
            <p:spPr>
              <a:xfrm>
                <a:off x="1804680" y="33613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dbbca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>
                <a:off x="1875240" y="34297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d7e0"/>
                  </a:gs>
                  <a:gs pos="100000">
                    <a:srgbClr val="36a1b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文本框 19470"/>
              <p:cNvSpPr/>
              <p:nvPr/>
            </p:nvSpPr>
            <p:spPr>
              <a:xfrm>
                <a:off x="193068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文本框 19471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9472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620" name="圆角矩形 19473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19474"/>
            <p:cNvGrpSpPr/>
            <p:nvPr/>
          </p:nvGrpSpPr>
          <p:grpSpPr>
            <a:xfrm>
              <a:off x="1804680" y="4837680"/>
              <a:ext cx="1130760" cy="1064520"/>
              <a:chOff x="1804680" y="4837680"/>
              <a:chExt cx="1130760" cy="1064520"/>
            </a:xfrm>
          </p:grpSpPr>
          <p:sp>
            <p:nvSpPr>
              <p:cNvPr id="622" name="圆角矩形 19475"/>
              <p:cNvSpPr/>
              <p:nvPr/>
            </p:nvSpPr>
            <p:spPr>
              <a:xfrm>
                <a:off x="1804680" y="48376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0dba0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>
                <a:off x="1875240" y="49060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e4b6"/>
                  </a:gs>
                  <a:gs pos="100000">
                    <a:srgbClr val="9cc76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文本框 19477"/>
              <p:cNvSpPr/>
              <p:nvPr/>
            </p:nvSpPr>
            <p:spPr>
              <a:xfrm>
                <a:off x="193068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文本框 19478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矩形 20482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85c3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0483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20484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0485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0486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0487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0488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94b5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20489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20490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209680" y="3222720"/>
            <a:ext cx="762120" cy="1066680"/>
            <a:chOff x="2209680" y="3222720"/>
            <a:chExt cx="762120" cy="1066680"/>
          </a:xfrm>
        </p:grpSpPr>
        <p:sp>
          <p:nvSpPr>
            <p:cNvPr id="639" name="直接连接符 20491"/>
            <p:cNvSpPr/>
            <p:nvPr/>
          </p:nvSpPr>
          <p:spPr>
            <a:xfrm>
              <a:off x="2209680" y="322272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2209680" y="322272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809880" y="3755880"/>
            <a:ext cx="1067040" cy="609840"/>
            <a:chOff x="3809880" y="3755880"/>
            <a:chExt cx="1067040" cy="609840"/>
          </a:xfrm>
        </p:grpSpPr>
        <p:sp>
          <p:nvSpPr>
            <p:cNvPr id="642" name="直接连接符 20492"/>
            <p:cNvSpPr/>
            <p:nvPr/>
          </p:nvSpPr>
          <p:spPr>
            <a:xfrm flipV="1">
              <a:off x="3809880" y="3755880"/>
              <a:ext cx="106704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 rot="10800000">
              <a:off x="3809880" y="3755880"/>
              <a:ext cx="106704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943600" y="2371680"/>
            <a:ext cx="1295280" cy="774720"/>
            <a:chOff x="5943600" y="2371680"/>
            <a:chExt cx="1295280" cy="774720"/>
          </a:xfrm>
        </p:grpSpPr>
        <p:sp>
          <p:nvSpPr>
            <p:cNvPr id="645" name="直接连接符 20493"/>
            <p:cNvSpPr/>
            <p:nvPr/>
          </p:nvSpPr>
          <p:spPr>
            <a:xfrm flipV="1">
              <a:off x="5943600" y="2371680"/>
              <a:ext cx="129528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 rot="10800000">
              <a:off x="5943600" y="2371680"/>
              <a:ext cx="1295280" cy="77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20494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20495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0496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0497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680"/>
                <a:gridCol w="1120680"/>
                <a:gridCol w="1098360"/>
                <a:gridCol w="1095480"/>
                <a:gridCol w="1104840"/>
                <a:gridCol w="1095480"/>
              </a:tblGrid>
              <a:tr h="41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组合 22530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60" name="椭圆 22531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22532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22533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22534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9c0ce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22535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c528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22536"/>
            <p:cNvSpPr/>
            <p:nvPr/>
          </p:nvSpPr>
          <p:spPr>
            <a:xfrm rot="20601600">
              <a:off x="2874600" y="22161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  <a:lnTo>
                    <a:pt x="104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64eb6"/>
                </a:gs>
                <a:gs pos="100000">
                  <a:srgbClr val="1c296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22537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  <a:lnTo>
                    <a:pt x="0" y="20162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762d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22538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22539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22540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22541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22542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72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f7940"/>
                  </a:gs>
                  <a:gs pos="100000">
                    <a:srgbClr val="9cc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22544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485c3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485c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2546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文本框 22547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22549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上箭头 23554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89"/>
            </a:avLst>
          </a:prstGeom>
          <a:gradFill rotWithShape="0">
            <a:gsLst>
              <a:gs pos="0">
                <a:srgbClr val="4987e3"/>
              </a:gs>
              <a:gs pos="100000">
                <a:srgbClr val="b8d0f4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23555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e8dd0"/>
              </a:gs>
              <a:gs pos="100000">
                <a:srgbClr val="364eb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23556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23557"/>
          <p:cNvGrpSpPr/>
          <p:nvPr/>
        </p:nvGrpSpPr>
        <p:grpSpPr>
          <a:xfrm>
            <a:off x="914400" y="4387680"/>
            <a:ext cx="1486080" cy="1989000"/>
            <a:chOff x="914400" y="4387680"/>
            <a:chExt cx="1486080" cy="1989000"/>
          </a:xfrm>
        </p:grpSpPr>
        <p:grpSp>
          <p:nvGrpSpPr>
            <p:cNvPr id="686" name="组合 23558"/>
            <p:cNvGrpSpPr/>
            <p:nvPr/>
          </p:nvGrpSpPr>
          <p:grpSpPr>
            <a:xfrm>
              <a:off x="914400" y="4387680"/>
              <a:ext cx="1486080" cy="1514520"/>
              <a:chOff x="914400" y="4387680"/>
              <a:chExt cx="1486080" cy="1514520"/>
            </a:xfrm>
          </p:grpSpPr>
          <p:grpSp>
            <p:nvGrpSpPr>
              <p:cNvPr id="687" name="组合 23559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sp>
              <p:nvSpPr>
                <p:cNvPr id="688" name="椭圆 23560"/>
                <p:cNvSpPr/>
                <p:nvPr/>
              </p:nvSpPr>
              <p:spPr>
                <a:xfrm>
                  <a:off x="914400" y="43876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未知"/>
                <p:cNvSpPr/>
                <p:nvPr/>
              </p:nvSpPr>
              <p:spPr>
                <a:xfrm>
                  <a:off x="108432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文本框 23562"/>
              <p:cNvSpPr/>
              <p:nvPr/>
            </p:nvSpPr>
            <p:spPr>
              <a:xfrm>
                <a:off x="107244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椭圆 23563"/>
            <p:cNvSpPr/>
            <p:nvPr/>
          </p:nvSpPr>
          <p:spPr>
            <a:xfrm>
              <a:off x="1066680" y="5987880"/>
              <a:ext cx="120672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23564"/>
          <p:cNvGrpSpPr/>
          <p:nvPr/>
        </p:nvGrpSpPr>
        <p:grpSpPr>
          <a:xfrm>
            <a:off x="6781680" y="4343400"/>
            <a:ext cx="1523880" cy="2066760"/>
            <a:chOff x="6781680" y="4343400"/>
            <a:chExt cx="1523880" cy="2066760"/>
          </a:xfrm>
        </p:grpSpPr>
        <p:grpSp>
          <p:nvGrpSpPr>
            <p:cNvPr id="693" name="组合 23565"/>
            <p:cNvGrpSpPr/>
            <p:nvPr/>
          </p:nvGrpSpPr>
          <p:grpSpPr>
            <a:xfrm>
              <a:off x="6781680" y="4343400"/>
              <a:ext cx="1523880" cy="1531800"/>
              <a:chOff x="6781680" y="4343400"/>
              <a:chExt cx="1523880" cy="1531800"/>
            </a:xfrm>
          </p:grpSpPr>
          <p:grpSp>
            <p:nvGrpSpPr>
              <p:cNvPr id="694" name="组合 23566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sp>
              <p:nvSpPr>
                <p:cNvPr id="695" name="椭圆 23567"/>
                <p:cNvSpPr/>
                <p:nvPr/>
              </p:nvSpPr>
              <p:spPr>
                <a:xfrm>
                  <a:off x="6781680" y="434340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未知"/>
                <p:cNvSpPr/>
                <p:nvPr/>
              </p:nvSpPr>
              <p:spPr>
                <a:xfrm>
                  <a:off x="6955920" y="436860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文本框 23569"/>
              <p:cNvSpPr/>
              <p:nvPr/>
            </p:nvSpPr>
            <p:spPr>
              <a:xfrm>
                <a:off x="692460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椭圆 23570"/>
            <p:cNvSpPr/>
            <p:nvPr/>
          </p:nvSpPr>
          <p:spPr>
            <a:xfrm>
              <a:off x="6824520" y="5923080"/>
              <a:ext cx="1455840" cy="487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23571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700" name="组合 23572"/>
            <p:cNvGrpSpPr/>
            <p:nvPr/>
          </p:nvGrpSpPr>
          <p:grpSpPr>
            <a:xfrm>
              <a:off x="2819520" y="4387680"/>
              <a:ext cx="1523880" cy="1521000"/>
              <a:chOff x="2819520" y="4387680"/>
              <a:chExt cx="1523880" cy="1521000"/>
            </a:xfrm>
          </p:grpSpPr>
          <p:sp>
            <p:nvSpPr>
              <p:cNvPr id="701" name="椭圆 23573"/>
              <p:cNvSpPr/>
              <p:nvPr/>
            </p:nvSpPr>
            <p:spPr>
              <a:xfrm>
                <a:off x="2819520" y="43876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c53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未知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文本框 23575"/>
            <p:cNvSpPr/>
            <p:nvPr/>
          </p:nvSpPr>
          <p:spPr>
            <a:xfrm>
              <a:off x="2895840" y="51177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23576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23577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706" name="组合 23578"/>
            <p:cNvGrpSpPr/>
            <p:nvPr/>
          </p:nvGrpSpPr>
          <p:grpSpPr>
            <a:xfrm>
              <a:off x="4876920" y="4343400"/>
              <a:ext cx="1523880" cy="1521000"/>
              <a:chOff x="4876920" y="4343400"/>
              <a:chExt cx="1523880" cy="1521000"/>
            </a:xfrm>
          </p:grpSpPr>
          <p:sp>
            <p:nvSpPr>
              <p:cNvPr id="707" name="椭圆 23579"/>
              <p:cNvSpPr/>
              <p:nvPr/>
            </p:nvSpPr>
            <p:spPr>
              <a:xfrm>
                <a:off x="4876920" y="43434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64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未知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文本框 23581"/>
            <p:cNvSpPr/>
            <p:nvPr/>
          </p:nvSpPr>
          <p:spPr>
            <a:xfrm>
              <a:off x="4953240" y="50734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23582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6b6b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6146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147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73" name="圆角矩形 6148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菱形 6149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150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151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152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78" name="圆角矩形 6153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菱形 6154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155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6156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6157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83" name="圆角矩形 6158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菱形 6159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6160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161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6162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88" name="圆角矩形 6163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af3df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菱形 6164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165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6166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2EE-83B0-4593-86C1-D90D203A75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24577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18" name="日期占位符 1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圆角矩形 8194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195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8196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7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e791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8199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820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06" name="组合 8202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207" name="椭圆 8203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8204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a6d5df"/>
                  </a:gs>
                  <a:gs pos="100000">
                    <a:srgbClr val="36a1b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椭圆 8205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8206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8207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8208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8209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6a1b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9218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1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922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922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922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922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922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922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922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922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922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9229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923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32" name="直接连接符 923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4" name="直接箭头连接符 923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35" name="文本框 923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1024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40" name="圆柱形 10243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柱形 1024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柱形 10245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024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024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024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左箭头 1024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角矩形 10250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0251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10252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10253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右箭头 1025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柱形 10255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上箭头 10256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0257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柱形 1025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025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下箭头 10260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组合 1126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62" name="组合 11267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63" name="上箭头 11268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64eb6"/>
                  </a:gs>
                  <a:gs pos="100000">
                    <a:srgbClr val="b0bae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上箭头 11269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64eb6"/>
                  </a:gs>
                  <a:gs pos="100000">
                    <a:srgbClr val="b0ba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上箭头 11270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64eb6"/>
                  </a:gs>
                  <a:gs pos="100000">
                    <a:srgbClr val="b0bae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1271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11272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 11273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1274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11275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11276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圆柱形 11277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柱形 11278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柱形 11279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柱形 11280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柱形 11281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柱形 11282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1283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圆角矩形 11284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1285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1286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1287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1288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1289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1290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73000" y="5621400"/>
            <a:ext cx="1657440" cy="1440"/>
            <a:chOff x="873000" y="5621400"/>
            <a:chExt cx="1657440" cy="1440"/>
          </a:xfrm>
        </p:grpSpPr>
        <p:sp>
          <p:nvSpPr>
            <p:cNvPr id="290" name="直接连接符 12290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873000" y="5621400"/>
              <a:ext cx="165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73000" y="4782960"/>
            <a:ext cx="2438640" cy="360"/>
            <a:chOff x="873000" y="4782960"/>
            <a:chExt cx="2438640" cy="360"/>
          </a:xfrm>
        </p:grpSpPr>
        <p:sp>
          <p:nvSpPr>
            <p:cNvPr id="293" name="直接连接符 12291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873000" y="478296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73000" y="3952800"/>
            <a:ext cx="3353040" cy="360"/>
            <a:chOff x="873000" y="3952800"/>
            <a:chExt cx="3353040" cy="360"/>
          </a:xfrm>
        </p:grpSpPr>
        <p:sp>
          <p:nvSpPr>
            <p:cNvPr id="296" name="直接连接符 1229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73000" y="3952800"/>
              <a:ext cx="335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2640" y="3124080"/>
            <a:ext cx="4165920" cy="360"/>
            <a:chOff x="872640" y="3124080"/>
            <a:chExt cx="4165920" cy="360"/>
          </a:xfrm>
        </p:grpSpPr>
        <p:sp>
          <p:nvSpPr>
            <p:cNvPr id="299" name="直接连接符 1229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873000" y="3124080"/>
              <a:ext cx="4165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73000" y="2282400"/>
            <a:ext cx="5034240" cy="360"/>
            <a:chOff x="873000" y="2282400"/>
            <a:chExt cx="5034240" cy="360"/>
          </a:xfrm>
        </p:grpSpPr>
        <p:sp>
          <p:nvSpPr>
            <p:cNvPr id="302" name="直接连接符 1229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10800000">
              <a:off x="873000" y="2282040"/>
              <a:ext cx="503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025640" y="2276640"/>
            <a:ext cx="360" cy="871200"/>
            <a:chOff x="1025640" y="2276640"/>
            <a:chExt cx="360" cy="871200"/>
          </a:xfrm>
        </p:grpSpPr>
        <p:sp>
          <p:nvSpPr>
            <p:cNvPr id="305" name="直接连接符 1229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1025640" y="2276640"/>
              <a:ext cx="360" cy="87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25640" y="3147840"/>
            <a:ext cx="360" cy="817560"/>
            <a:chOff x="1025640" y="3147840"/>
            <a:chExt cx="360" cy="817560"/>
          </a:xfrm>
        </p:grpSpPr>
        <p:sp>
          <p:nvSpPr>
            <p:cNvPr id="308" name="直接连接符 1229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025640" y="314784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025640" y="3965400"/>
            <a:ext cx="360" cy="816120"/>
            <a:chOff x="1025640" y="3965400"/>
            <a:chExt cx="360" cy="816120"/>
          </a:xfrm>
        </p:grpSpPr>
        <p:sp>
          <p:nvSpPr>
            <p:cNvPr id="311" name="直接连接符 1229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025640" y="396540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025640" y="4782960"/>
            <a:ext cx="360" cy="816120"/>
            <a:chOff x="1025640" y="4782960"/>
            <a:chExt cx="360" cy="816120"/>
          </a:xfrm>
        </p:grpSpPr>
        <p:sp>
          <p:nvSpPr>
            <p:cNvPr id="314" name="直接连接符 12298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25640" y="4782960"/>
              <a:ext cx="36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12299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2300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2301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2302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12303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1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607"/>
                </a:gs>
                <a:gs pos="50000">
                  <a:srgbClr val="d9520f"/>
                </a:gs>
                <a:gs pos="100000">
                  <a:srgbClr val="6426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2312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d3b0b"/>
                </a:gs>
                <a:gs pos="5000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2313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77584"/>
                </a:gs>
                <a:gs pos="5000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2315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1904c"/>
                </a:gs>
                <a:gs pos="5000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2316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562a5"/>
                </a:gs>
                <a:gs pos="5000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右箭头 13314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13315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48657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13316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13317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3bdcc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13318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日期占位符 1"/>
          <p:cNvSpPr/>
          <p:nvPr/>
        </p:nvSpPr>
        <p:spPr>
          <a:xfrm>
            <a:off x="685800" y="64864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页脚占位符 2"/>
          <p:cNvSpPr/>
          <p:nvPr/>
        </p:nvSpPr>
        <p:spPr>
          <a:xfrm>
            <a:off x="67816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29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