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C1503-C557-4330-B0EC-4CDAA916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A78A8-C837-432A-91CB-EDA41AFE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B3F86-7D33-441A-8E2E-0A08D97B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BF800-A5CD-4A78-868F-C0B94CC6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D9E0A-0D73-41CB-A361-1C0D5AA5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7B312-5AB5-4B7A-8442-533EE718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C8721-D150-46F6-987A-0D59ADBE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8C8CB-76FB-4BF4-9940-4580B579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94141-2E18-45D7-9D0E-68176196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B299D-684B-4109-9F21-B85939A9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24FFD-0380-4CCA-8248-9ADC9E7A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C5C14-DEAF-45AC-A8DC-E3BD0368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A4A3-B1D8-42EE-A3A4-2B64E1955F3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E06E-F5DD-47E1-B3EC-BAE78270539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"/>
          <p:cNvSpPr/>
          <p:nvPr/>
        </p:nvSpPr>
        <p:spPr>
          <a:xfrm>
            <a:off x="171360" y="971640"/>
            <a:ext cx="86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小花精美论文答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1A26-83D4-49DD-84EB-60B4C689FF7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望老师批评指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23:48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4:00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