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BA5-C007-43D1-890F-BC55C9C7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ACA-64C0-401F-974E-1603CE26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F34-568A-4562-B5FC-D020ADE6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DEE-856E-44FA-B7DF-EA2C9E65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902E-EE65-4583-B35B-B46BE7BC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BBFC-9427-467C-8ED4-3EBD9A81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03CD-EC85-4E68-A225-6AC48664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268D-02F5-4C5D-8404-3E726C9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3682-3DEE-4B24-ACCE-9D5BA346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1AA8-223B-45B2-BDDF-B5C29261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CA34-19EA-4831-9A44-30883752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789-348B-43B0-A0E9-4EAF8A89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285D-100C-4956-AAD9-52502772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CCA-706F-4227-A4C0-78E4EFB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AA7E-4C98-41F5-B1EA-1FA30556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F162-8E93-4F22-A645-F70EDBC2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805A-BF9C-4F35-9B5C-8B123A93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9678-26D0-4973-A0D4-BAE4C0B0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0A8C-FF25-4823-84B7-5EE2E672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4E961-7C36-4BA5-ABDC-6394E3C3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8664-EF8C-4297-86C1-EC2D3708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ED00-C71D-4D8A-A799-61382ABC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781-18BC-4DC7-91DA-96E2FCF4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6406-A126-481C-9ACF-FCE55726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EA1A-85DC-44E7-BCD5-7DA04FA2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528D-3E71-478F-B469-A0F8882D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F01F-6575-4D6E-B406-92BC299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6283-084E-4045-8D8C-67F5E39B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3683-7D4A-4307-8217-CA362C6E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5388-B117-4249-9678-5D088AAC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0BD-3299-4B17-B852-5F6B61E8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1A2-8E4F-4D26-B01B-CCEB2B48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579-02CB-4BE6-A308-50620DC1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CA5-43F7-4D7F-81BD-01FE42B1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587-E5D1-4D43-96EA-B16E73F3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8B7-FB6A-4DB8-8842-2C2FAF9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6DD3-1E09-40B5-B465-1F88424410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0B92-AC38-452B-9D8E-1ACF2485A5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5214-7F9D-45CE-8412-1DA4AA8D869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55B4-88E8-4E0A-BAC3-D0B092F31A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4"/>
          <p:cNvSpPr/>
          <p:nvPr/>
        </p:nvSpPr>
        <p:spPr>
          <a:xfrm>
            <a:off x="2274840" y="1712880"/>
            <a:ext cx="4665600" cy="24703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rc 5"/>
          <p:cNvSpPr/>
          <p:nvPr/>
        </p:nvSpPr>
        <p:spPr>
          <a:xfrm>
            <a:off x="1201680" y="892080"/>
            <a:ext cx="6405480" cy="4029120"/>
          </a:xfrm>
          <a:custGeom>
            <a:avLst/>
            <a:gdLst/>
            <a:ahLst/>
            <a:rect l="l" t="t" r="r" b="b"/>
            <a:pathLst>
              <a:path fill="none" w="41195" h="43014">
                <a:moveTo>
                  <a:pt x="18773" y="43014"/>
                </a:moveTo>
                <a:cubicBezTo>
                  <a:pt x="8030" y="41596"/>
                  <a:pt x="0" y="3243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010" y="-1"/>
                  <a:pt x="37656" y="4882"/>
                  <a:pt x="41195" y="12511"/>
                </a:cubicBezTo>
              </a:path>
              <a:path stroke="0" w="41195" h="43014">
                <a:moveTo>
                  <a:pt x="18773" y="43014"/>
                </a:moveTo>
                <a:cubicBezTo>
                  <a:pt x="8030" y="41596"/>
                  <a:pt x="0" y="3243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010" y="-1"/>
                  <a:pt x="37656" y="4882"/>
                  <a:pt x="41195" y="12511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ff66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74840" y="2932200"/>
            <a:ext cx="6537240" cy="360"/>
            <a:chOff x="1374840" y="2932200"/>
            <a:chExt cx="6537240" cy="360"/>
          </a:xfrm>
        </p:grpSpPr>
        <p:sp>
          <p:nvSpPr>
            <p:cNvPr id="126" name="Line 6"/>
            <p:cNvSpPr/>
            <p:nvPr/>
          </p:nvSpPr>
          <p:spPr>
            <a:xfrm>
              <a:off x="1374840" y="2932200"/>
              <a:ext cx="6537240" cy="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374840" y="2932200"/>
              <a:ext cx="653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608360" y="1566720"/>
            <a:ext cx="360" cy="2691000"/>
            <a:chOff x="4608360" y="1566720"/>
            <a:chExt cx="360" cy="2691000"/>
          </a:xfrm>
        </p:grpSpPr>
        <p:sp>
          <p:nvSpPr>
            <p:cNvPr id="129" name="Line 7"/>
            <p:cNvSpPr/>
            <p:nvPr/>
          </p:nvSpPr>
          <p:spPr>
            <a:xfrm>
              <a:off x="4608360" y="1566720"/>
              <a:ext cx="0" cy="269100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608360" y="1566720"/>
              <a:ext cx="360" cy="269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35280" y="1774800"/>
            <a:ext cx="3771720" cy="2311560"/>
            <a:chOff x="2735280" y="1774800"/>
            <a:chExt cx="3771720" cy="2311560"/>
          </a:xfrm>
        </p:grpSpPr>
        <p:sp>
          <p:nvSpPr>
            <p:cNvPr id="132" name="Line 8"/>
            <p:cNvSpPr/>
            <p:nvPr/>
          </p:nvSpPr>
          <p:spPr>
            <a:xfrm>
              <a:off x="2735280" y="1774800"/>
              <a:ext cx="3771720" cy="231156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735280" y="1774800"/>
              <a:ext cx="3771720" cy="231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35280" y="2072880"/>
            <a:ext cx="3897360" cy="1771560"/>
            <a:chOff x="2735280" y="2072880"/>
            <a:chExt cx="3897360" cy="1771560"/>
          </a:xfrm>
        </p:grpSpPr>
        <p:sp>
          <p:nvSpPr>
            <p:cNvPr id="135" name="Line 9"/>
            <p:cNvSpPr/>
            <p:nvPr/>
          </p:nvSpPr>
          <p:spPr>
            <a:xfrm flipV="1">
              <a:off x="2735280" y="2072880"/>
              <a:ext cx="3897360" cy="177156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 rot="10800000">
              <a:off x="2735280" y="2072520"/>
              <a:ext cx="3897360" cy="177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41520" y="2073240"/>
            <a:ext cx="5281560" cy="1470240"/>
            <a:chOff x="1541520" y="2073240"/>
            <a:chExt cx="5281560" cy="1470240"/>
          </a:xfrm>
        </p:grpSpPr>
        <p:sp>
          <p:nvSpPr>
            <p:cNvPr id="138" name="Line 10"/>
            <p:cNvSpPr/>
            <p:nvPr/>
          </p:nvSpPr>
          <p:spPr>
            <a:xfrm>
              <a:off x="1541520" y="2073240"/>
              <a:ext cx="5281560" cy="1470240"/>
            </a:xfrm>
            <a:prstGeom prst="line">
              <a:avLst/>
            </a:prstGeom>
            <a:ln w="9360">
              <a:solidFill>
                <a:srgbClr val="808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541520" y="2073240"/>
              <a:ext cx="5281560" cy="147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11560" y="1108080"/>
            <a:ext cx="2712960" cy="3645000"/>
            <a:chOff x="3211560" y="1108080"/>
            <a:chExt cx="2712960" cy="3645000"/>
          </a:xfrm>
        </p:grpSpPr>
        <p:sp>
          <p:nvSpPr>
            <p:cNvPr id="141" name="Line 11"/>
            <p:cNvSpPr/>
            <p:nvPr/>
          </p:nvSpPr>
          <p:spPr>
            <a:xfrm flipH="1">
              <a:off x="3211560" y="1108080"/>
              <a:ext cx="2712960" cy="3645000"/>
            </a:xfrm>
            <a:prstGeom prst="line">
              <a:avLst/>
            </a:prstGeom>
            <a:ln w="9360">
              <a:solidFill>
                <a:srgbClr val="808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211560" y="1108080"/>
              <a:ext cx="2712960" cy="364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81520" y="1774800"/>
            <a:ext cx="1460520" cy="2311560"/>
            <a:chOff x="3881520" y="1774800"/>
            <a:chExt cx="1460520" cy="2311560"/>
          </a:xfrm>
        </p:grpSpPr>
        <p:sp>
          <p:nvSpPr>
            <p:cNvPr id="144" name="Line 12"/>
            <p:cNvSpPr/>
            <p:nvPr/>
          </p:nvSpPr>
          <p:spPr>
            <a:xfrm>
              <a:off x="3881520" y="1774800"/>
              <a:ext cx="1460520" cy="2311560"/>
            </a:xfrm>
            <a:prstGeom prst="line">
              <a:avLst/>
            </a:prstGeom>
            <a:ln w="936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881520" y="1774800"/>
              <a:ext cx="1460520" cy="231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Oval 13"/>
          <p:cNvSpPr/>
          <p:nvPr/>
        </p:nvSpPr>
        <p:spPr>
          <a:xfrm>
            <a:off x="474840" y="2309760"/>
            <a:ext cx="1711080" cy="1246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明确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6980400" y="2309760"/>
            <a:ext cx="1711080" cy="12463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论文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3745080" y="4192560"/>
            <a:ext cx="1709640" cy="1246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查看文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2235240" y="3392640"/>
            <a:ext cx="906480" cy="966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关键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2514600" y="1320840"/>
            <a:ext cx="906480" cy="966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8"/>
          <p:cNvSpPr/>
          <p:nvPr/>
        </p:nvSpPr>
        <p:spPr>
          <a:xfrm>
            <a:off x="6224760" y="1627200"/>
            <a:ext cx="906120" cy="966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正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参考文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9"/>
          <p:cNvSpPr/>
          <p:nvPr/>
        </p:nvSpPr>
        <p:spPr>
          <a:xfrm>
            <a:off x="5867280" y="3581280"/>
            <a:ext cx="908280" cy="966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摘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0"/>
          <p:cNvSpPr/>
          <p:nvPr/>
        </p:nvSpPr>
        <p:spPr>
          <a:xfrm>
            <a:off x="3733920" y="380880"/>
            <a:ext cx="1711080" cy="1246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论文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1"/>
          <p:cNvSpPr/>
          <p:nvPr/>
        </p:nvSpPr>
        <p:spPr>
          <a:xfrm>
            <a:off x="3132000" y="2247840"/>
            <a:ext cx="295272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2"/>
          <p:cNvSpPr/>
          <p:nvPr/>
        </p:nvSpPr>
        <p:spPr>
          <a:xfrm>
            <a:off x="3487680" y="2362320"/>
            <a:ext cx="2239920" cy="1145880"/>
          </a:xfrm>
          <a:prstGeom prst="ellipse">
            <a:avLst/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课程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6" descr="未标题-1.png"/>
          <p:cNvPicPr/>
          <p:nvPr/>
        </p:nvPicPr>
        <p:blipFill>
          <a:blip r:embed="rId6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3" descr="地球2.png"/>
          <p:cNvPicPr/>
          <p:nvPr/>
        </p:nvPicPr>
        <p:blipFill>
          <a:blip r:embed="rId7"/>
          <a:stretch/>
        </p:blipFill>
        <p:spPr>
          <a:xfrm>
            <a:off x="3809880" y="5626080"/>
            <a:ext cx="1447920" cy="13096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914400" y="2286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论文答辩经典动态结构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0.01481 L -0.98333 0.01111 E">
                                      <p:cBhvr>
                                        <p:cTn id="11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9545-5B95-484A-AC92-F94B605D72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47Z</dcterms:modified>
  <cp:revision>10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