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003-8480-4416-8B4C-7EA80614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85A-7BE6-4543-B403-00DA735F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57C-0C1A-4F3E-ADE3-E6AF5C1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080-14DD-403F-9E98-20C7B1BE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F23-81CB-49EA-9030-193A27A4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8D7-E161-4C52-9105-3292B450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0B3-BEFE-4CC6-987B-18ACB1C4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F3A-ED17-4B10-9AE6-AEA4FFE9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C4A-CC6C-4005-B286-1E53538C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78F-DF3C-4BBA-8702-BB359A13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48E-9066-416E-9EAA-C3DC5227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E8A-C653-4157-993B-4F48D8F2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3485-D5D3-473D-9437-C71EB0D79B6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B967-D06C-4E14-AAF1-6683A394D7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4104"/>
          <p:cNvSpPr/>
          <p:nvPr/>
        </p:nvSpPr>
        <p:spPr>
          <a:xfrm>
            <a:off x="38160" y="3286080"/>
            <a:ext cx="9283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四色配置—论文答辩项目</a:t>
            </a:r>
            <a:r>
              <a:rPr b="1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3000" y="14479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7596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TRAN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8D8A-9360-4EE9-9A09-68AEE80BB1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Impact"/>
                <a:ea typeface="宋体"/>
              </a:rPr>
              <a:t>YOUR TITL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19320" y="1523880"/>
            <a:ext cx="6781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2:57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1:3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