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8E6-5B1C-448D-9242-227D4B66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B95-D691-4535-A0C5-CF894FA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FFD-E11B-4545-9F7A-869687AE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A04-F067-4FDF-9977-7F842BB4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2CAE-B283-48B4-B19C-023D9AF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2693-3D91-4504-9DE3-1F05531C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E06-678E-4DAB-811D-138F62B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A947-4D71-4D55-8D4A-EF05C9A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6E73-B316-45E8-A0AD-0DBFAB34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E70-B3AA-496B-B11B-3C9117F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9139-FFE5-408B-96A8-4D4E8B8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1F1-02C3-41F0-A89C-1C71420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5086-EBC9-4EBB-ADAB-D4905C1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9A09-797E-4376-80FA-31F751B9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E91C-2666-4580-B8E6-D385F735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5F0-8D31-4572-BE8D-0487AE4E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1094-DEE5-4152-9392-2B25B73D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36E-C9B6-47F8-A55C-214A727E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964-2E3C-401A-94D9-029412D7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590-DDE0-44A4-80A3-E5DFB9D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F3C-8D90-42A4-9BD7-E857FF7C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0F1-C743-45ED-AE13-A2561B2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A7B-8C80-4407-8988-203B954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735-BD64-4464-BC95-7DD77E6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DB29-AB4F-4966-8E1F-25F8608A59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260-5BA2-477B-BC42-64B85EF1FD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5D5-AE14-411C-A888-7DFB1E9EF9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647640" y="1557360"/>
            <a:ext cx="69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梦幻蓝色情调论文答辩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27280" y="442260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3849120" y="2602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正文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EF2-7190-451B-A6E9-1FF11EE416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833560" y="2870280"/>
            <a:ext cx="358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bbb59"/>
                </a:solidFill>
                <a:latin typeface="黑体"/>
                <a:ea typeface="黑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798640" y="3139560"/>
            <a:ext cx="1456200" cy="2326320"/>
            <a:chOff x="2798640" y="3139560"/>
            <a:chExt cx="1456200" cy="2326320"/>
          </a:xfrm>
        </p:grpSpPr>
        <p:cxnSp>
          <p:nvCxnSpPr>
            <p:cNvPr id="96" name="曲线连接符 2"/>
            <p:cNvCxnSpPr/>
            <p:nvPr/>
          </p:nvCxnSpPr>
          <p:spPr>
            <a:xfrm>
              <a:off x="2798640" y="3139560"/>
              <a:ext cx="1456560" cy="2326680"/>
            </a:xfrm>
            <a:prstGeom prst="straightConnector1">
              <a:avLst/>
            </a:prstGeom>
            <a:ln w="28440">
              <a:solidFill>
                <a:srgbClr val="4f81bd"/>
              </a:solidFill>
              <a:round/>
            </a:ln>
          </p:spPr>
        </p:cxnSp>
        <p:sp>
          <p:nvSpPr>
            <p:cNvPr id="97" name=""/>
            <p:cNvSpPr txBox="1"/>
            <p:nvPr/>
          </p:nvSpPr>
          <p:spPr>
            <a:xfrm rot="16200000">
              <a:off x="2363400" y="3574800"/>
              <a:ext cx="2325960" cy="14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32360" y="3141720"/>
            <a:ext cx="1440000" cy="2325960"/>
            <a:chOff x="4932360" y="3141720"/>
            <a:chExt cx="1440000" cy="2325960"/>
          </a:xfrm>
        </p:grpSpPr>
        <p:cxnSp>
          <p:nvCxnSpPr>
            <p:cNvPr id="99" name="曲线连接符 16"/>
            <p:cNvCxnSpPr/>
            <p:nvPr/>
          </p:nvCxnSpPr>
          <p:spPr>
            <a:xfrm flipH="1">
              <a:off x="4932360" y="3141720"/>
              <a:ext cx="1440360" cy="2326320"/>
            </a:xfrm>
            <a:prstGeom prst="straightConnector1">
              <a:avLst/>
            </a:prstGeom>
            <a:ln w="28440">
              <a:solidFill>
                <a:srgbClr val="4f81bd"/>
              </a:solidFill>
              <a:round/>
            </a:ln>
          </p:spPr>
        </p:cxnSp>
        <p:sp>
          <p:nvSpPr>
            <p:cNvPr id="100" name=""/>
            <p:cNvSpPr txBox="1"/>
            <p:nvPr/>
          </p:nvSpPr>
          <p:spPr>
            <a:xfrm rot="5400000">
              <a:off x="4489560" y="3584520"/>
              <a:ext cx="232560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1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24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