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8AB-4DCA-4B53-B220-BC0EB50A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1C4-E826-472D-99DA-4104D29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6A6-9065-4D4A-AFEF-62BE2617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678-3690-44CA-B6A3-E4083982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CAD-9504-42CB-8E06-F942836B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5F12-2216-468A-BE07-4885739C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A0B2-930C-4887-9DB7-EA2B42B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FCCC-193F-4D56-BFB7-960E6B4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F43C-2A98-46AD-8F2B-693DFD74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F6D2-0281-4A4D-9E26-DFAD1238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7FE-B91D-4255-BC93-21896F6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1A8-957A-41A2-8C17-312C3FD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D66C-7B13-4AF2-8A42-6460A33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CBD6-6B34-4074-80A7-BC941A03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0075-EBD1-4282-9F63-E467BFEC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0168-F99B-42CA-9236-FF41F7CC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388-D6F5-47C9-B785-514BD94B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44F3-3EB5-4DCF-9A63-43505750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607-C938-411C-B9DC-B81DEED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192-8E00-4FD5-BA82-B14825C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988-84B7-4944-87F6-40AF184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C1C-0038-4A81-AEBF-60D4CCC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DB4-DC36-4069-B2D6-E932AB0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8BC-A040-4220-AF6D-56EF635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0248-0479-442A-8DA1-3406913885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54E-7AB9-4CC6-A836-A5237BCBF5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445-6C6A-46D7-BD74-1C38A7BAC4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624960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134440" y="119700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南京邮电大学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11280" y="162864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226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635280" y="1461960"/>
          <a:ext cx="5184720" cy="317808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14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组合 18" descr=""/>
          <p:cNvPicPr/>
          <p:nvPr/>
        </p:nvPicPr>
        <p:blipFill>
          <a:blip r:embed="rId1"/>
          <a:stretch/>
        </p:blipFill>
        <p:spPr>
          <a:xfrm>
            <a:off x="5869080" y="429264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8199"/>
          <p:cNvSpPr/>
          <p:nvPr/>
        </p:nvSpPr>
        <p:spPr>
          <a:xfrm>
            <a:off x="75564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534280" cy="1181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205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17" descr=""/>
          <p:cNvPicPr/>
          <p:nvPr/>
        </p:nvPicPr>
        <p:blipFill>
          <a:blip r:embed="rId3"/>
          <a:stretch/>
        </p:blipFill>
        <p:spPr>
          <a:xfrm>
            <a:off x="1976400" y="3753000"/>
            <a:ext cx="1257480" cy="25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"/>
          <p:cNvPicPr/>
          <p:nvPr/>
        </p:nvPicPr>
        <p:blipFill>
          <a:blip r:embed="rId4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216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9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C22-0A07-441A-8DD4-31921508E8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5:1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2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