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6.jpeg" ContentType="image/jpe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2B1D6-151C-464F-9A3E-D30C9FD27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FF1C-40F9-4E96-91F6-05691BD3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68D8E-B552-4015-946A-AB7738085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9367-0429-43DB-B560-FF2A9F46D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C88FD-3400-4F3C-8D37-739880CC9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CB6D4-514B-4A81-B25D-F0399B991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5739E-E00A-4789-9968-83FB1EF28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AF5A2-584B-4864-B5ED-8175674C8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6025D-74B0-4420-AC89-30F6DE40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2A333-BB69-42AE-8418-31C8A0B19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BD641-3639-4434-8758-0DD12F06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4399-6568-4852-B4B9-7A9C4E84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BE3E-25D3-46DB-B305-E72A748B3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3897-371F-4143-8110-FB98D6CC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D63D9-7C41-4A99-8A46-423271C4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7834D-D10D-4212-B162-F339A08CB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D864D-AE51-48F8-B0E8-89583FE72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15657-4DFD-4646-A058-E9DF769F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ADB2-2F45-4F5E-AEB4-6BCC86FD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8F820-1195-46CD-B7FE-A8D16F53A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410E2-B191-413E-8585-118D07D2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1AAB-88F7-429E-ACAD-B6E9550CF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A482-2CDA-4231-AEED-FD69B4AC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7761-E2C3-44A0-8E5C-B18034B70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8322-70D4-426F-B245-A998B95AD8B8}"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75C7-CB21-4CCD-AC4B-8B714B473E06}"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02F6-E9F0-4663-B8CD-BE072D5B76B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
          <p:cNvSpPr/>
          <p:nvPr/>
        </p:nvSpPr>
        <p:spPr>
          <a:xfrm>
            <a:off x="1361520" y="2595600"/>
            <a:ext cx="5752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XXXXXX</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grpSp>
        <p:nvGrpSpPr>
          <p:cNvPr id="84" name=""/>
          <p:cNvGrpSpPr/>
          <p:nvPr/>
        </p:nvGrpSpPr>
        <p:grpSpPr>
          <a:xfrm>
            <a:off x="577800" y="1932120"/>
            <a:ext cx="8212320" cy="1440"/>
            <a:chOff x="577800" y="1932120"/>
            <a:chExt cx="8212320" cy="1440"/>
          </a:xfrm>
        </p:grpSpPr>
        <p:sp>
          <p:nvSpPr>
            <p:cNvPr id="85"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txBox="1"/>
            <p:nvPr/>
          </p:nvSpPr>
          <p:spPr>
            <a:xfrm>
              <a:off x="577800" y="1932120"/>
              <a:ext cx="82123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文本框 10"/>
          <p:cNvSpPr/>
          <p:nvPr/>
        </p:nvSpPr>
        <p:spPr>
          <a:xfrm>
            <a:off x="5099760" y="434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pic>
        <p:nvPicPr>
          <p:cNvPr id="88" name="图片 13" descr=""/>
          <p:cNvPicPr/>
          <p:nvPr/>
        </p:nvPicPr>
        <p:blipFill>
          <a:blip r:embed="rId2"/>
          <a:srcRect l="13581" t="0" r="13669" b="0"/>
          <a:stretch/>
        </p:blipFill>
        <p:spPr>
          <a:xfrm>
            <a:off x="9023400" y="1639800"/>
            <a:ext cx="2590920" cy="3560760"/>
          </a:xfrm>
          <a:prstGeom prst="rect">
            <a:avLst/>
          </a:prstGeom>
          <a:ln w="0">
            <a:noFill/>
          </a:ln>
        </p:spPr>
      </p:pic>
      <p:sp>
        <p:nvSpPr>
          <p:cNvPr id="89"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3414600" y="4548240"/>
            <a:ext cx="1351080" cy="1440"/>
            <a:chOff x="3414600" y="4548240"/>
            <a:chExt cx="1351080" cy="1440"/>
          </a:xfrm>
        </p:grpSpPr>
        <p:sp>
          <p:nvSpPr>
            <p:cNvPr id="91"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txBox="1"/>
            <p:nvPr/>
          </p:nvSpPr>
          <p:spPr>
            <a:xfrm>
              <a:off x="3414600" y="4548240"/>
              <a:ext cx="1351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1"/>
          <p:cNvSpPr/>
          <p:nvPr/>
        </p:nvSpPr>
        <p:spPr>
          <a:xfrm>
            <a:off x="846000" y="692280"/>
            <a:ext cx="728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浅读笔记</a:t>
            </a:r>
            <a:r>
              <a:rPr b="0" lang="zh-CN" sz="4000" spc="-1" strike="noStrike">
                <a:solidFill>
                  <a:srgbClr val="ffffff"/>
                </a:solidFill>
                <a:latin typeface="宋体"/>
              </a:rPr>
              <a:t>PPT</a:t>
            </a:r>
            <a:r>
              <a:rPr b="0" lang="zh-CN" sz="4000" spc="-1" strike="noStrike">
                <a:solidFill>
                  <a:srgbClr val="ffffff"/>
                </a:solidFill>
                <a:latin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357" name="图片 10" descr=""/>
          <p:cNvPicPr/>
          <p:nvPr/>
        </p:nvPicPr>
        <p:blipFill>
          <a:blip r:embed="rId1"/>
          <a:srcRect l="9549" t="0" r="1789" b="0"/>
          <a:stretch/>
        </p:blipFill>
        <p:spPr>
          <a:xfrm>
            <a:off x="5095800" y="2049480"/>
            <a:ext cx="1162080" cy="1163520"/>
          </a:xfrm>
          <a:prstGeom prst="rect">
            <a:avLst/>
          </a:prstGeom>
          <a:ln w="0">
            <a:noFill/>
          </a:ln>
        </p:spPr>
      </p:pic>
      <p:grpSp>
        <p:nvGrpSpPr>
          <p:cNvPr id="358" name=""/>
          <p:cNvGrpSpPr/>
          <p:nvPr/>
        </p:nvGrpSpPr>
        <p:grpSpPr>
          <a:xfrm>
            <a:off x="5772240" y="5470560"/>
            <a:ext cx="360" cy="633240"/>
            <a:chOff x="5772240" y="5470560"/>
            <a:chExt cx="360" cy="633240"/>
          </a:xfrm>
        </p:grpSpPr>
        <p:sp>
          <p:nvSpPr>
            <p:cNvPr id="359"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txBox="1"/>
            <p:nvPr/>
          </p:nvSpPr>
          <p:spPr>
            <a:xfrm>
              <a:off x="5772240" y="5470560"/>
              <a:ext cx="360" cy="63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
          <p:cNvGrpSpPr/>
          <p:nvPr/>
        </p:nvGrpSpPr>
        <p:grpSpPr>
          <a:xfrm>
            <a:off x="9204480" y="5457960"/>
            <a:ext cx="360" cy="633240"/>
            <a:chOff x="9204480" y="5457960"/>
            <a:chExt cx="360" cy="633240"/>
          </a:xfrm>
        </p:grpSpPr>
        <p:sp>
          <p:nvSpPr>
            <p:cNvPr id="362"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txBox="1"/>
            <p:nvPr/>
          </p:nvSpPr>
          <p:spPr>
            <a:xfrm>
              <a:off x="9204480" y="5457960"/>
              <a:ext cx="360" cy="63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
          <p:cNvGrpSpPr/>
          <p:nvPr/>
        </p:nvGrpSpPr>
        <p:grpSpPr>
          <a:xfrm>
            <a:off x="2239920" y="5475240"/>
            <a:ext cx="1800" cy="633600"/>
            <a:chOff x="2239920" y="5475240"/>
            <a:chExt cx="1800" cy="633600"/>
          </a:xfrm>
        </p:grpSpPr>
        <p:sp>
          <p:nvSpPr>
            <p:cNvPr id="365"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txBox="1"/>
            <p:nvPr/>
          </p:nvSpPr>
          <p:spPr>
            <a:xfrm>
              <a:off x="2239920" y="5475240"/>
              <a:ext cx="1800" cy="633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
          <p:cNvGrpSpPr/>
          <p:nvPr/>
        </p:nvGrpSpPr>
        <p:grpSpPr>
          <a:xfrm>
            <a:off x="11568240" y="-120600"/>
            <a:ext cx="1440" cy="7181640"/>
            <a:chOff x="11568240" y="-120600"/>
            <a:chExt cx="1440" cy="7181640"/>
          </a:xfrm>
        </p:grpSpPr>
        <p:sp>
          <p:nvSpPr>
            <p:cNvPr id="36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377" name="组合 32"/>
          <p:cNvGrpSpPr/>
          <p:nvPr/>
        </p:nvGrpSpPr>
        <p:grpSpPr>
          <a:xfrm>
            <a:off x="4608360" y="3156120"/>
            <a:ext cx="2227320" cy="423720"/>
            <a:chOff x="4608360" y="3156120"/>
            <a:chExt cx="2227320" cy="423720"/>
          </a:xfrm>
        </p:grpSpPr>
        <p:sp>
          <p:nvSpPr>
            <p:cNvPr id="37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380"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381" name="图片 18" descr=""/>
          <p:cNvPicPr/>
          <p:nvPr/>
        </p:nvPicPr>
        <p:blipFill>
          <a:blip r:embed="rId3"/>
          <a:srcRect l="0" t="9787" r="0" b="36039"/>
          <a:stretch/>
        </p:blipFill>
        <p:spPr>
          <a:xfrm>
            <a:off x="4597560" y="3979800"/>
            <a:ext cx="2339640" cy="951120"/>
          </a:xfrm>
          <a:prstGeom prst="rect">
            <a:avLst/>
          </a:prstGeom>
          <a:ln w="0">
            <a:noFill/>
          </a:ln>
        </p:spPr>
      </p:pic>
      <p:pic>
        <p:nvPicPr>
          <p:cNvPr id="382" name="图片 19" descr=""/>
          <p:cNvPicPr/>
          <p:nvPr/>
        </p:nvPicPr>
        <p:blipFill>
          <a:blip r:embed="rId4"/>
          <a:srcRect l="4387" t="8940" r="3403" b="9864"/>
          <a:stretch/>
        </p:blipFill>
        <p:spPr>
          <a:xfrm>
            <a:off x="7969320" y="3979800"/>
            <a:ext cx="2360520" cy="949320"/>
          </a:xfrm>
          <a:prstGeom prst="rect">
            <a:avLst/>
          </a:prstGeom>
          <a:ln w="0">
            <a:noFill/>
          </a:ln>
        </p:spPr>
      </p:pic>
      <p:sp>
        <p:nvSpPr>
          <p:cNvPr id="38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38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38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38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38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38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389" name="右大括号 31"/>
          <p:cNvSpPr/>
          <p:nvPr/>
        </p:nvSpPr>
        <p:spPr>
          <a:xfrm rot="16200000">
            <a:off x="5553000" y="301320"/>
            <a:ext cx="336600" cy="6962760"/>
          </a:xfrm>
          <a:custGeom>
            <a:avLst/>
            <a:gdLst>
              <a:gd name="textAreaLeft" fmla="*/ 0 w 336600"/>
              <a:gd name="textAreaRight" fmla="*/ 121680 w 336600"/>
              <a:gd name="textAreaTop" fmla="*/ 7920 h 6962760"/>
              <a:gd name="textAreaBottom" fmla="*/ 6954840 h 6962760"/>
            </a:gdLst>
            <a:ahLst/>
            <a:rect l="textAreaLeft" t="textAreaTop" r="textAreaRight" b="textAreaBottom"/>
            <a:pathLst>
              <a:path w="21600" h="21600">
                <a:moveTo>
                  <a:pt x="0" y="0"/>
                </a:moveTo>
                <a:cubicBezTo>
                  <a:pt x="5400" y="0"/>
                  <a:pt x="10800" y="41"/>
                  <a:pt x="10800" y="81"/>
                </a:cubicBezTo>
                <a:lnTo>
                  <a:pt x="10800" y="10719"/>
                </a:lnTo>
                <a:cubicBezTo>
                  <a:pt x="10800" y="10760"/>
                  <a:pt x="16200" y="10800"/>
                  <a:pt x="21600" y="10800"/>
                </a:cubicBezTo>
                <a:cubicBezTo>
                  <a:pt x="16200" y="10800"/>
                  <a:pt x="10800" y="10841"/>
                  <a:pt x="10800" y="10881"/>
                </a:cubicBezTo>
                <a:lnTo>
                  <a:pt x="10800" y="21519"/>
                </a:lnTo>
                <a:cubicBezTo>
                  <a:pt x="10800" y="21560"/>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0"/>
          <p:cNvGrpSpPr/>
          <p:nvPr/>
        </p:nvGrpSpPr>
        <p:grpSpPr>
          <a:xfrm>
            <a:off x="546120" y="4705200"/>
            <a:ext cx="10507680" cy="1846440"/>
            <a:chOff x="546120" y="4705200"/>
            <a:chExt cx="10507680" cy="1846440"/>
          </a:xfrm>
        </p:grpSpPr>
        <p:sp>
          <p:nvSpPr>
            <p:cNvPr id="39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grpSp>
        <p:nvGrpSpPr>
          <p:cNvPr id="393" name=""/>
          <p:cNvGrpSpPr/>
          <p:nvPr/>
        </p:nvGrpSpPr>
        <p:grpSpPr>
          <a:xfrm>
            <a:off x="11568240" y="-120600"/>
            <a:ext cx="1440" cy="7181640"/>
            <a:chOff x="11568240" y="-120600"/>
            <a:chExt cx="1440" cy="7181640"/>
          </a:xfrm>
        </p:grpSpPr>
        <p:sp>
          <p:nvSpPr>
            <p:cNvPr id="394"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403" name="组合 52"/>
          <p:cNvGrpSpPr/>
          <p:nvPr/>
        </p:nvGrpSpPr>
        <p:grpSpPr>
          <a:xfrm>
            <a:off x="833400" y="473040"/>
            <a:ext cx="9825120" cy="4267080"/>
            <a:chOff x="833400" y="473040"/>
            <a:chExt cx="9825120" cy="4267080"/>
          </a:xfrm>
        </p:grpSpPr>
        <p:grpSp>
          <p:nvGrpSpPr>
            <p:cNvPr id="404" name="组合 20"/>
            <p:cNvGrpSpPr/>
            <p:nvPr/>
          </p:nvGrpSpPr>
          <p:grpSpPr>
            <a:xfrm>
              <a:off x="833400" y="941760"/>
              <a:ext cx="2579400" cy="2085840"/>
              <a:chOff x="833400" y="941760"/>
              <a:chExt cx="2579400" cy="2085840"/>
            </a:xfrm>
          </p:grpSpPr>
          <p:sp>
            <p:nvSpPr>
              <p:cNvPr id="405"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图片 15" descr=""/>
              <p:cNvPicPr/>
              <p:nvPr/>
            </p:nvPicPr>
            <p:blipFill>
              <a:blip r:embed="rId1"/>
              <a:stretch/>
            </p:blipFill>
            <p:spPr>
              <a:xfrm>
                <a:off x="833400" y="942120"/>
                <a:ext cx="2579400" cy="2018160"/>
              </a:xfrm>
              <a:prstGeom prst="rect">
                <a:avLst/>
              </a:prstGeom>
              <a:ln w="0">
                <a:noFill/>
              </a:ln>
            </p:spPr>
          </p:pic>
        </p:grpSp>
        <p:sp>
          <p:nvSpPr>
            <p:cNvPr id="407"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组合 30"/>
            <p:cNvGrpSpPr/>
            <p:nvPr/>
          </p:nvGrpSpPr>
          <p:grpSpPr>
            <a:xfrm>
              <a:off x="3148920" y="3277800"/>
              <a:ext cx="1495080" cy="1462320"/>
              <a:chOff x="3148920" y="3277800"/>
              <a:chExt cx="1495080" cy="1462320"/>
            </a:xfrm>
          </p:grpSpPr>
          <p:sp>
            <p:nvSpPr>
              <p:cNvPr id="409"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410"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32"/>
            <p:cNvGrpSpPr/>
            <p:nvPr/>
          </p:nvGrpSpPr>
          <p:grpSpPr>
            <a:xfrm>
              <a:off x="6758280" y="2699280"/>
              <a:ext cx="1495080" cy="1462320"/>
              <a:chOff x="6758280" y="2699280"/>
              <a:chExt cx="1495080" cy="1462320"/>
            </a:xfrm>
          </p:grpSpPr>
          <p:sp>
            <p:nvSpPr>
              <p:cNvPr id="412"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413"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33"/>
            <p:cNvGrpSpPr/>
            <p:nvPr/>
          </p:nvGrpSpPr>
          <p:grpSpPr>
            <a:xfrm>
              <a:off x="9163440" y="1352880"/>
              <a:ext cx="1495080" cy="1462320"/>
              <a:chOff x="9163440" y="1352880"/>
              <a:chExt cx="1495080" cy="1462320"/>
            </a:xfrm>
          </p:grpSpPr>
          <p:sp>
            <p:nvSpPr>
              <p:cNvPr id="415"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416"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组合 31"/>
            <p:cNvGrpSpPr/>
            <p:nvPr/>
          </p:nvGrpSpPr>
          <p:grpSpPr>
            <a:xfrm>
              <a:off x="5204880" y="473040"/>
              <a:ext cx="1495080" cy="1462320"/>
              <a:chOff x="5204880" y="473040"/>
              <a:chExt cx="1495080" cy="1462320"/>
            </a:xfrm>
          </p:grpSpPr>
          <p:sp>
            <p:nvSpPr>
              <p:cNvPr id="418"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419"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grpSp>
          <p:nvGrpSpPr>
            <p:cNvPr id="421" name=""/>
            <p:cNvGrpSpPr/>
            <p:nvPr/>
          </p:nvGrpSpPr>
          <p:grpSpPr>
            <a:xfrm>
              <a:off x="2909880" y="2921040"/>
              <a:ext cx="457200" cy="568080"/>
              <a:chOff x="2909880" y="2921040"/>
              <a:chExt cx="457200" cy="568080"/>
            </a:xfrm>
          </p:grpSpPr>
          <p:sp>
            <p:nvSpPr>
              <p:cNvPr id="422"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2909880" y="2921040"/>
                <a:ext cx="457200" cy="56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3318840" y="1182240"/>
              <a:ext cx="1872000" cy="417240"/>
              <a:chOff x="3318840" y="1182240"/>
              <a:chExt cx="1872000" cy="417240"/>
            </a:xfrm>
          </p:grpSpPr>
          <p:sp>
            <p:nvSpPr>
              <p:cNvPr id="425"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0800000">
                <a:off x="3318840" y="1182240"/>
                <a:ext cx="1871640" cy="41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3236760" y="2495520"/>
              <a:ext cx="3521160" cy="934920"/>
              <a:chOff x="3236760" y="2495520"/>
              <a:chExt cx="3521160" cy="934920"/>
            </a:xfrm>
          </p:grpSpPr>
          <p:sp>
            <p:nvSpPr>
              <p:cNvPr id="428"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a:off x="3236760" y="2495520"/>
                <a:ext cx="3521160" cy="93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3343320" y="2071440"/>
              <a:ext cx="5819760" cy="12600"/>
              <a:chOff x="3343320" y="2071440"/>
              <a:chExt cx="5819760" cy="12600"/>
            </a:xfrm>
          </p:grpSpPr>
          <p:sp>
            <p:nvSpPr>
              <p:cNvPr id="431"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2" name=""/>
              <p:cNvSpPr txBox="1"/>
              <p:nvPr/>
            </p:nvSpPr>
            <p:spPr>
              <a:xfrm>
                <a:off x="3343320" y="2071440"/>
                <a:ext cx="5819760" cy="12600"/>
              </a:xfrm>
              <a:prstGeom prst="rect">
                <a:avLst/>
              </a:prstGeom>
              <a:noFill/>
              <a:ln w="0">
                <a:noFill/>
              </a:ln>
            </p:spPr>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434" name="弦形 7"/>
          <p:cNvSpPr/>
          <p:nvPr/>
        </p:nvSpPr>
        <p:spPr>
          <a:xfrm rot="17100000">
            <a:off x="4106520" y="530280"/>
            <a:ext cx="3417840" cy="3417840"/>
          </a:xfrm>
          <a:custGeom>
            <a:avLst/>
            <a:gdLst/>
            <a:ahLst/>
            <a:rect l="l" t="t" r="r" b="b"/>
            <a:pathLst>
              <a:path w="5383" h="5382">
                <a:moveTo>
                  <a:pt x="564" y="4340"/>
                </a:moveTo>
                <a:cubicBezTo>
                  <a:pt x="210" y="3885"/>
                  <a:pt x="-1" y="3313"/>
                  <a:pt x="-1" y="2691"/>
                </a:cubicBezTo>
                <a:cubicBezTo>
                  <a:pt x="-1" y="1205"/>
                  <a:pt x="1204" y="0"/>
                  <a:pt x="2690" y="0"/>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
          <p:cNvGrpSpPr/>
          <p:nvPr/>
        </p:nvGrpSpPr>
        <p:grpSpPr>
          <a:xfrm>
            <a:off x="3517920" y="1239840"/>
            <a:ext cx="3529080" cy="3092400"/>
            <a:chOff x="3517920" y="1239840"/>
            <a:chExt cx="3529080" cy="3092400"/>
          </a:xfrm>
        </p:grpSpPr>
        <p:sp>
          <p:nvSpPr>
            <p:cNvPr id="436"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txBox="1"/>
            <p:nvPr/>
          </p:nvSpPr>
          <p:spPr>
            <a:xfrm>
              <a:off x="3517920" y="1239840"/>
              <a:ext cx="3529080" cy="309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grpSp>
        <p:nvGrpSpPr>
          <p:cNvPr id="439" name=""/>
          <p:cNvGrpSpPr/>
          <p:nvPr/>
        </p:nvGrpSpPr>
        <p:grpSpPr>
          <a:xfrm>
            <a:off x="1243080" y="5180040"/>
            <a:ext cx="2158920" cy="1440"/>
            <a:chOff x="1243080" y="5180040"/>
            <a:chExt cx="2158920" cy="1440"/>
          </a:xfrm>
        </p:grpSpPr>
        <p:sp>
          <p:nvSpPr>
            <p:cNvPr id="440"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txBox="1"/>
            <p:nvPr/>
          </p:nvSpPr>
          <p:spPr>
            <a:xfrm>
              <a:off x="1243080" y="5180040"/>
              <a:ext cx="2158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
          <p:cNvGrpSpPr/>
          <p:nvPr/>
        </p:nvGrpSpPr>
        <p:grpSpPr>
          <a:xfrm>
            <a:off x="8458200" y="5176800"/>
            <a:ext cx="2151000" cy="1800"/>
            <a:chOff x="8458200" y="5176800"/>
            <a:chExt cx="2151000" cy="1800"/>
          </a:xfrm>
        </p:grpSpPr>
        <p:sp>
          <p:nvSpPr>
            <p:cNvPr id="443"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txBox="1"/>
            <p:nvPr/>
          </p:nvSpPr>
          <p:spPr>
            <a:xfrm>
              <a:off x="8458200" y="5176800"/>
              <a:ext cx="215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grpSp>
        <p:nvGrpSpPr>
          <p:cNvPr id="448" name=""/>
          <p:cNvGrpSpPr/>
          <p:nvPr/>
        </p:nvGrpSpPr>
        <p:grpSpPr>
          <a:xfrm>
            <a:off x="0" y="446040"/>
            <a:ext cx="3321000" cy="1800"/>
            <a:chOff x="0" y="446040"/>
            <a:chExt cx="3321000" cy="1800"/>
          </a:xfrm>
        </p:grpSpPr>
        <p:sp>
          <p:nvSpPr>
            <p:cNvPr id="449"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
          <p:cNvGrpSpPr/>
          <p:nvPr/>
        </p:nvGrpSpPr>
        <p:grpSpPr>
          <a:xfrm>
            <a:off x="0" y="1271520"/>
            <a:ext cx="11592000" cy="1800"/>
            <a:chOff x="0" y="1271520"/>
            <a:chExt cx="11592000" cy="1800"/>
          </a:xfrm>
        </p:grpSpPr>
        <p:sp>
          <p:nvSpPr>
            <p:cNvPr id="452"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455" name="任意多边形 47"/>
          <p:cNvSpPr/>
          <p:nvPr/>
        </p:nvSpPr>
        <p:spPr>
          <a:xfrm>
            <a:off x="1068480" y="1581120"/>
            <a:ext cx="377172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任意多边形 49"/>
          <p:cNvSpPr/>
          <p:nvPr/>
        </p:nvSpPr>
        <p:spPr>
          <a:xfrm>
            <a:off x="6391440" y="1581120"/>
            <a:ext cx="442404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45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45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46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
          <p:cNvGrpSpPr/>
          <p:nvPr/>
        </p:nvGrpSpPr>
        <p:grpSpPr>
          <a:xfrm>
            <a:off x="2165400" y="3902040"/>
            <a:ext cx="1957320" cy="360"/>
            <a:chOff x="2165400" y="3902040"/>
            <a:chExt cx="1957320" cy="360"/>
          </a:xfrm>
        </p:grpSpPr>
        <p:sp>
          <p:nvSpPr>
            <p:cNvPr id="462"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txBox="1"/>
            <p:nvPr/>
          </p:nvSpPr>
          <p:spPr>
            <a:xfrm>
              <a:off x="2165400" y="3902040"/>
              <a:ext cx="1957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
          <p:cNvGrpSpPr/>
          <p:nvPr/>
        </p:nvGrpSpPr>
        <p:grpSpPr>
          <a:xfrm>
            <a:off x="7604280" y="3902040"/>
            <a:ext cx="1957320" cy="360"/>
            <a:chOff x="7604280" y="3902040"/>
            <a:chExt cx="1957320" cy="360"/>
          </a:xfrm>
        </p:grpSpPr>
        <p:sp>
          <p:nvSpPr>
            <p:cNvPr id="465"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7604280" y="3902040"/>
              <a:ext cx="1957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grpSp>
        <p:nvGrpSpPr>
          <p:cNvPr id="471" name=""/>
          <p:cNvGrpSpPr/>
          <p:nvPr/>
        </p:nvGrpSpPr>
        <p:grpSpPr>
          <a:xfrm>
            <a:off x="0" y="446040"/>
            <a:ext cx="3321000" cy="1800"/>
            <a:chOff x="0" y="446040"/>
            <a:chExt cx="3321000" cy="1800"/>
          </a:xfrm>
        </p:grpSpPr>
        <p:sp>
          <p:nvSpPr>
            <p:cNvPr id="47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
          <p:cNvGrpSpPr/>
          <p:nvPr/>
        </p:nvGrpSpPr>
        <p:grpSpPr>
          <a:xfrm>
            <a:off x="0" y="1271520"/>
            <a:ext cx="11592000" cy="1800"/>
            <a:chOff x="0" y="1271520"/>
            <a:chExt cx="11592000" cy="1800"/>
          </a:xfrm>
        </p:grpSpPr>
        <p:sp>
          <p:nvSpPr>
            <p:cNvPr id="47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47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
          <p:cNvGrpSpPr/>
          <p:nvPr/>
        </p:nvGrpSpPr>
        <p:grpSpPr>
          <a:xfrm>
            <a:off x="290520" y="1271520"/>
            <a:ext cx="6473880" cy="5316480"/>
            <a:chOff x="290520" y="1271520"/>
            <a:chExt cx="6473880" cy="5316480"/>
          </a:xfrm>
        </p:grpSpPr>
        <p:grpSp>
          <p:nvGrpSpPr>
            <p:cNvPr id="480" name=""/>
            <p:cNvGrpSpPr/>
            <p:nvPr/>
          </p:nvGrpSpPr>
          <p:grpSpPr>
            <a:xfrm>
              <a:off x="865080" y="1271520"/>
              <a:ext cx="360" cy="3398760"/>
              <a:chOff x="865080" y="1271520"/>
              <a:chExt cx="360" cy="3398760"/>
            </a:xfrm>
          </p:grpSpPr>
          <p:sp>
            <p:nvSpPr>
              <p:cNvPr id="481"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txBox="1"/>
              <p:nvPr/>
            </p:nvSpPr>
            <p:spPr>
              <a:xfrm>
                <a:off x="865080" y="1271520"/>
                <a:ext cx="360" cy="3398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
            <p:cNvGrpSpPr/>
            <p:nvPr/>
          </p:nvGrpSpPr>
          <p:grpSpPr>
            <a:xfrm>
              <a:off x="1942920" y="1271520"/>
              <a:ext cx="360" cy="1700280"/>
              <a:chOff x="1942920" y="1271520"/>
              <a:chExt cx="360" cy="1700280"/>
            </a:xfrm>
          </p:grpSpPr>
          <p:sp>
            <p:nvSpPr>
              <p:cNvPr id="484"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txBox="1"/>
              <p:nvPr/>
            </p:nvSpPr>
            <p:spPr>
              <a:xfrm>
                <a:off x="1942920" y="1271520"/>
                <a:ext cx="360" cy="1700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
            <p:cNvGrpSpPr/>
            <p:nvPr/>
          </p:nvGrpSpPr>
          <p:grpSpPr>
            <a:xfrm>
              <a:off x="3021120" y="1271520"/>
              <a:ext cx="360" cy="517320"/>
              <a:chOff x="3021120" y="1271520"/>
              <a:chExt cx="360" cy="517320"/>
            </a:xfrm>
          </p:grpSpPr>
          <p:sp>
            <p:nvSpPr>
              <p:cNvPr id="487"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3021120" y="1271520"/>
                <a:ext cx="360" cy="517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6256440" y="1271520"/>
              <a:ext cx="360" cy="1444680"/>
              <a:chOff x="6256440" y="1271520"/>
              <a:chExt cx="360" cy="1444680"/>
            </a:xfrm>
          </p:grpSpPr>
          <p:sp>
            <p:nvSpPr>
              <p:cNvPr id="490"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txBox="1"/>
              <p:nvPr/>
            </p:nvSpPr>
            <p:spPr>
              <a:xfrm>
                <a:off x="6256440" y="1271520"/>
                <a:ext cx="360" cy="1444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
            <p:cNvGrpSpPr/>
            <p:nvPr/>
          </p:nvGrpSpPr>
          <p:grpSpPr>
            <a:xfrm>
              <a:off x="5178600" y="1271520"/>
              <a:ext cx="360" cy="3973680"/>
              <a:chOff x="5178600" y="1271520"/>
              <a:chExt cx="360" cy="3973680"/>
            </a:xfrm>
          </p:grpSpPr>
          <p:sp>
            <p:nvSpPr>
              <p:cNvPr id="493"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txBox="1"/>
              <p:nvPr/>
            </p:nvSpPr>
            <p:spPr>
              <a:xfrm>
                <a:off x="5178600" y="1271520"/>
                <a:ext cx="360" cy="397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
            <p:cNvGrpSpPr/>
            <p:nvPr/>
          </p:nvGrpSpPr>
          <p:grpSpPr>
            <a:xfrm>
              <a:off x="4098960" y="1271520"/>
              <a:ext cx="360" cy="2897280"/>
              <a:chOff x="4098960" y="1271520"/>
              <a:chExt cx="360" cy="2897280"/>
            </a:xfrm>
          </p:grpSpPr>
          <p:sp>
            <p:nvSpPr>
              <p:cNvPr id="496"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txBox="1"/>
              <p:nvPr/>
            </p:nvSpPr>
            <p:spPr>
              <a:xfrm>
                <a:off x="4098960" y="1271520"/>
                <a:ext cx="360" cy="289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50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505"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506"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50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508"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509" name="弧形 40"/>
            <p:cNvSpPr/>
            <p:nvPr/>
          </p:nvSpPr>
          <p:spPr>
            <a:xfrm rot="18900000">
              <a:off x="466200" y="4680000"/>
              <a:ext cx="807840" cy="807840"/>
            </a:xfrm>
            <a:custGeom>
              <a:avLst/>
              <a:gdLst/>
              <a:ahLst/>
              <a:rect l="l" t="t" r="r" b="b"/>
              <a:pathLst>
                <a:path stroke="0" w="808158" h="808003">
                  <a:moveTo>
                    <a:pt x="404078" y="0"/>
                  </a:moveTo>
                  <a:cubicBezTo>
                    <a:pt x="627245" y="0"/>
                    <a:pt x="808157" y="180877"/>
                    <a:pt x="808157" y="404001"/>
                  </a:cubicBezTo>
                  <a:lnTo>
                    <a:pt x="404079" y="404001"/>
                  </a:lnTo>
                  <a:close/>
                </a:path>
                <a:path fill="none" w="808158" h="808003">
                  <a:moveTo>
                    <a:pt x="404078" y="0"/>
                  </a:moveTo>
                  <a:cubicBezTo>
                    <a:pt x="627245" y="0"/>
                    <a:pt x="808157" y="180877"/>
                    <a:pt x="808157" y="404001"/>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弧形 41"/>
            <p:cNvSpPr/>
            <p:nvPr/>
          </p:nvSpPr>
          <p:spPr>
            <a:xfrm rot="18900000">
              <a:off x="1361880" y="3000240"/>
              <a:ext cx="1163520" cy="1163520"/>
            </a:xfrm>
            <a:custGeom>
              <a:avLst/>
              <a:gdLst/>
              <a:ahLst/>
              <a:rect l="l" t="t" r="r" b="b"/>
              <a:pathLst>
                <a:path stroke="0" w="1163810" h="1163588">
                  <a:moveTo>
                    <a:pt x="581904" y="0"/>
                  </a:moveTo>
                  <a:cubicBezTo>
                    <a:pt x="903281" y="0"/>
                    <a:pt x="1163809" y="260478"/>
                    <a:pt x="1163809" y="581794"/>
                  </a:cubicBezTo>
                  <a:lnTo>
                    <a:pt x="581905" y="581794"/>
                  </a:lnTo>
                  <a:close/>
                </a:path>
                <a:path fill="none" w="1163810" h="1163588">
                  <a:moveTo>
                    <a:pt x="581904" y="0"/>
                  </a:moveTo>
                  <a:cubicBezTo>
                    <a:pt x="903281" y="0"/>
                    <a:pt x="1163809" y="260478"/>
                    <a:pt x="1163809" y="581794"/>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弧形 42"/>
            <p:cNvSpPr/>
            <p:nvPr/>
          </p:nvSpPr>
          <p:spPr>
            <a:xfrm rot="18900000">
              <a:off x="2624040" y="1801440"/>
              <a:ext cx="807840" cy="809640"/>
            </a:xfrm>
            <a:custGeom>
              <a:avLst/>
              <a:gdLst/>
              <a:ahLst/>
              <a:rect l="l" t="t" r="r" b="b"/>
              <a:pathLst>
                <a:path stroke="0" w="808157" h="809590">
                  <a:moveTo>
                    <a:pt x="404078" y="0"/>
                  </a:moveTo>
                  <a:cubicBezTo>
                    <a:pt x="627244" y="0"/>
                    <a:pt x="808156" y="181233"/>
                    <a:pt x="808156" y="404795"/>
                  </a:cubicBezTo>
                  <a:lnTo>
                    <a:pt x="404078" y="404795"/>
                  </a:lnTo>
                  <a:close/>
                </a:path>
                <a:path fill="none" w="808157" h="809590">
                  <a:moveTo>
                    <a:pt x="404078" y="0"/>
                  </a:moveTo>
                  <a:cubicBezTo>
                    <a:pt x="627244" y="0"/>
                    <a:pt x="808156" y="181233"/>
                    <a:pt x="808156" y="404795"/>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弧形 43"/>
            <p:cNvSpPr/>
            <p:nvPr/>
          </p:nvSpPr>
          <p:spPr>
            <a:xfrm rot="18900000">
              <a:off x="3704760" y="4170240"/>
              <a:ext cx="807840" cy="807840"/>
            </a:xfrm>
            <a:custGeom>
              <a:avLst/>
              <a:gdLst/>
              <a:ahLst/>
              <a:rect l="l" t="t" r="r" b="b"/>
              <a:pathLst>
                <a:path stroke="0" w="808158" h="808002">
                  <a:moveTo>
                    <a:pt x="404078" y="0"/>
                  </a:moveTo>
                  <a:cubicBezTo>
                    <a:pt x="627245" y="0"/>
                    <a:pt x="808157" y="180877"/>
                    <a:pt x="808157" y="404001"/>
                  </a:cubicBezTo>
                  <a:lnTo>
                    <a:pt x="404079" y="404001"/>
                  </a:lnTo>
                  <a:close/>
                </a:path>
                <a:path fill="none" w="808158" h="808002">
                  <a:moveTo>
                    <a:pt x="404078" y="0"/>
                  </a:moveTo>
                  <a:cubicBezTo>
                    <a:pt x="627245" y="0"/>
                    <a:pt x="808157" y="180877"/>
                    <a:pt x="808157" y="404001"/>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弧形 44"/>
            <p:cNvSpPr/>
            <p:nvPr/>
          </p:nvSpPr>
          <p:spPr>
            <a:xfrm rot="18900000">
              <a:off x="4782960" y="5268960"/>
              <a:ext cx="807840" cy="807840"/>
            </a:xfrm>
            <a:custGeom>
              <a:avLst/>
              <a:gdLst/>
              <a:ahLst/>
              <a:rect l="l" t="t" r="r" b="b"/>
              <a:pathLst>
                <a:path stroke="0" w="808157" h="808002">
                  <a:moveTo>
                    <a:pt x="404078" y="0"/>
                  </a:moveTo>
                  <a:cubicBezTo>
                    <a:pt x="627244" y="0"/>
                    <a:pt x="808156" y="180877"/>
                    <a:pt x="808156" y="404001"/>
                  </a:cubicBezTo>
                  <a:lnTo>
                    <a:pt x="404078" y="404001"/>
                  </a:lnTo>
                  <a:close/>
                </a:path>
                <a:path fill="none" w="808157" h="808002">
                  <a:moveTo>
                    <a:pt x="404078" y="0"/>
                  </a:moveTo>
                  <a:cubicBezTo>
                    <a:pt x="627244" y="0"/>
                    <a:pt x="808156" y="180877"/>
                    <a:pt x="808156" y="404001"/>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弧形 45"/>
          <p:cNvSpPr/>
          <p:nvPr/>
        </p:nvSpPr>
        <p:spPr>
          <a:xfrm rot="18900000">
            <a:off x="5740200" y="2749320"/>
            <a:ext cx="1060200" cy="1060200"/>
          </a:xfrm>
          <a:custGeom>
            <a:avLst/>
            <a:gdLst/>
            <a:ahLst/>
            <a:rect l="l" t="t" r="r" b="b"/>
            <a:pathLst>
              <a:path stroke="0" w="1670" h="1670">
                <a:moveTo>
                  <a:pt x="834" y="0"/>
                </a:moveTo>
                <a:cubicBezTo>
                  <a:pt x="1295" y="0"/>
                  <a:pt x="1669" y="374"/>
                  <a:pt x="1669" y="835"/>
                </a:cubicBezTo>
                <a:lnTo>
                  <a:pt x="835" y="835"/>
                </a:lnTo>
                <a:close/>
              </a:path>
              <a:path fill="none" w="1670" h="1670">
                <a:moveTo>
                  <a:pt x="834" y="0"/>
                </a:moveTo>
                <a:cubicBezTo>
                  <a:pt x="1295" y="0"/>
                  <a:pt x="1669" y="374"/>
                  <a:pt x="1669" y="835"/>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517"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grpSp>
        <p:nvGrpSpPr>
          <p:cNvPr id="518" name=""/>
          <p:cNvGrpSpPr/>
          <p:nvPr/>
        </p:nvGrpSpPr>
        <p:grpSpPr>
          <a:xfrm>
            <a:off x="0" y="446040"/>
            <a:ext cx="3321000" cy="1800"/>
            <a:chOff x="0" y="446040"/>
            <a:chExt cx="3321000" cy="1800"/>
          </a:xfrm>
        </p:grpSpPr>
        <p:sp>
          <p:nvSpPr>
            <p:cNvPr id="519"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0" y="1271520"/>
            <a:ext cx="11592000" cy="1800"/>
            <a:chOff x="0" y="1271520"/>
            <a:chExt cx="11592000" cy="1800"/>
          </a:xfrm>
        </p:grpSpPr>
        <p:sp>
          <p:nvSpPr>
            <p:cNvPr id="52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525"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526"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527"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528"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529"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
          <p:cNvGrpSpPr/>
          <p:nvPr/>
        </p:nvGrpSpPr>
        <p:grpSpPr>
          <a:xfrm>
            <a:off x="1722600" y="3159000"/>
            <a:ext cx="1133280" cy="533520"/>
            <a:chOff x="1722600" y="3159000"/>
            <a:chExt cx="1133280" cy="533520"/>
          </a:xfrm>
        </p:grpSpPr>
        <p:sp>
          <p:nvSpPr>
            <p:cNvPr id="535"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txBox="1"/>
            <p:nvPr/>
          </p:nvSpPr>
          <p:spPr>
            <a:xfrm>
              <a:off x="1722600" y="3159000"/>
              <a:ext cx="11332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
          <p:cNvGrpSpPr/>
          <p:nvPr/>
        </p:nvGrpSpPr>
        <p:grpSpPr>
          <a:xfrm>
            <a:off x="4319640" y="3138480"/>
            <a:ext cx="1135080" cy="533520"/>
            <a:chOff x="4319640" y="3138480"/>
            <a:chExt cx="1135080" cy="533520"/>
          </a:xfrm>
        </p:grpSpPr>
        <p:sp>
          <p:nvSpPr>
            <p:cNvPr id="538"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txBox="1"/>
            <p:nvPr/>
          </p:nvSpPr>
          <p:spPr>
            <a:xfrm>
              <a:off x="4319640" y="3138480"/>
              <a:ext cx="11350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
          <p:cNvGrpSpPr/>
          <p:nvPr/>
        </p:nvGrpSpPr>
        <p:grpSpPr>
          <a:xfrm>
            <a:off x="2898360" y="3081240"/>
            <a:ext cx="1306800" cy="657360"/>
            <a:chOff x="2898360" y="3081240"/>
            <a:chExt cx="1306800" cy="657360"/>
          </a:xfrm>
        </p:grpSpPr>
        <p:sp>
          <p:nvSpPr>
            <p:cNvPr id="541"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rot="10800000">
              <a:off x="2898360" y="3081240"/>
              <a:ext cx="1306440" cy="65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3" name=""/>
          <p:cNvGrpSpPr/>
          <p:nvPr/>
        </p:nvGrpSpPr>
        <p:grpSpPr>
          <a:xfrm>
            <a:off x="8280360" y="1893960"/>
            <a:ext cx="360" cy="1046160"/>
            <a:chOff x="8280360" y="1893960"/>
            <a:chExt cx="360" cy="1046160"/>
          </a:xfrm>
        </p:grpSpPr>
        <p:sp>
          <p:nvSpPr>
            <p:cNvPr id="544"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txBox="1"/>
            <p:nvPr/>
          </p:nvSpPr>
          <p:spPr>
            <a:xfrm>
              <a:off x="8280360" y="1893960"/>
              <a:ext cx="360" cy="104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grpSp>
        <p:nvGrpSpPr>
          <p:cNvPr id="547" name=""/>
          <p:cNvGrpSpPr/>
          <p:nvPr/>
        </p:nvGrpSpPr>
        <p:grpSpPr>
          <a:xfrm>
            <a:off x="10029960" y="3198960"/>
            <a:ext cx="360" cy="539640"/>
            <a:chOff x="10029960" y="3198960"/>
            <a:chExt cx="360" cy="539640"/>
          </a:xfrm>
        </p:grpSpPr>
        <p:sp>
          <p:nvSpPr>
            <p:cNvPr id="548"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txBox="1"/>
            <p:nvPr/>
          </p:nvSpPr>
          <p:spPr>
            <a:xfrm>
              <a:off x="10029960" y="3198960"/>
              <a:ext cx="360" cy="53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9010800" y="3201840"/>
            <a:ext cx="1930320" cy="1800"/>
            <a:chOff x="9010800" y="3201840"/>
            <a:chExt cx="1930320" cy="1800"/>
          </a:xfrm>
        </p:grpSpPr>
        <p:sp>
          <p:nvSpPr>
            <p:cNvPr id="551"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
            <p:cNvSpPr txBox="1"/>
            <p:nvPr/>
          </p:nvSpPr>
          <p:spPr>
            <a:xfrm>
              <a:off x="9010800" y="3201840"/>
              <a:ext cx="19303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554"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grpSp>
        <p:nvGrpSpPr>
          <p:cNvPr id="555" name=""/>
          <p:cNvGrpSpPr/>
          <p:nvPr/>
        </p:nvGrpSpPr>
        <p:grpSpPr>
          <a:xfrm>
            <a:off x="10029960" y="4919760"/>
            <a:ext cx="360" cy="504720"/>
            <a:chOff x="10029960" y="4919760"/>
            <a:chExt cx="360" cy="504720"/>
          </a:xfrm>
        </p:grpSpPr>
        <p:sp>
          <p:nvSpPr>
            <p:cNvPr id="556"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txBox="1"/>
            <p:nvPr/>
          </p:nvSpPr>
          <p:spPr>
            <a:xfrm>
              <a:off x="10029960" y="491976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
          <p:cNvGrpSpPr/>
          <p:nvPr/>
        </p:nvGrpSpPr>
        <p:grpSpPr>
          <a:xfrm>
            <a:off x="642960" y="5424480"/>
            <a:ext cx="10931400" cy="9360"/>
            <a:chOff x="642960" y="5424480"/>
            <a:chExt cx="10931400" cy="9360"/>
          </a:xfrm>
        </p:grpSpPr>
        <p:sp>
          <p:nvSpPr>
            <p:cNvPr id="559"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0" name=""/>
            <p:cNvSpPr txBox="1"/>
            <p:nvPr/>
          </p:nvSpPr>
          <p:spPr>
            <a:xfrm>
              <a:off x="642960" y="5424480"/>
              <a:ext cx="10931400" cy="9360"/>
            </a:xfrm>
            <a:prstGeom prst="rect">
              <a:avLst/>
            </a:prstGeom>
            <a:noFill/>
            <a:ln w="0">
              <a:noFill/>
            </a:ln>
          </p:spPr>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562"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grpSp>
        <p:nvGrpSpPr>
          <p:cNvPr id="563" name=""/>
          <p:cNvGrpSpPr/>
          <p:nvPr/>
        </p:nvGrpSpPr>
        <p:grpSpPr>
          <a:xfrm>
            <a:off x="0" y="446040"/>
            <a:ext cx="3321000" cy="1800"/>
            <a:chOff x="0" y="446040"/>
            <a:chExt cx="3321000" cy="1800"/>
          </a:xfrm>
        </p:grpSpPr>
        <p:sp>
          <p:nvSpPr>
            <p:cNvPr id="56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5"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
          <p:cNvGrpSpPr/>
          <p:nvPr/>
        </p:nvGrpSpPr>
        <p:grpSpPr>
          <a:xfrm>
            <a:off x="0" y="1271520"/>
            <a:ext cx="11592000" cy="1800"/>
            <a:chOff x="0" y="1271520"/>
            <a:chExt cx="11592000" cy="1800"/>
          </a:xfrm>
        </p:grpSpPr>
        <p:sp>
          <p:nvSpPr>
            <p:cNvPr id="567"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8"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9" name="图片 1" descr=""/>
          <p:cNvPicPr/>
          <p:nvPr/>
        </p:nvPicPr>
        <p:blipFill>
          <a:blip r:embed="rId1"/>
          <a:stretch/>
        </p:blipFill>
        <p:spPr>
          <a:xfrm>
            <a:off x="0" y="2413080"/>
            <a:ext cx="3905280" cy="2838240"/>
          </a:xfrm>
          <a:prstGeom prst="rect">
            <a:avLst/>
          </a:prstGeom>
          <a:ln w="0">
            <a:noFill/>
          </a:ln>
        </p:spPr>
      </p:pic>
      <p:sp>
        <p:nvSpPr>
          <p:cNvPr id="57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
          <p:cNvGrpSpPr/>
          <p:nvPr/>
        </p:nvGrpSpPr>
        <p:grpSpPr>
          <a:xfrm>
            <a:off x="6024600" y="2073240"/>
            <a:ext cx="1440" cy="3971880"/>
            <a:chOff x="6024600" y="2073240"/>
            <a:chExt cx="1440" cy="3971880"/>
          </a:xfrm>
        </p:grpSpPr>
        <p:sp>
          <p:nvSpPr>
            <p:cNvPr id="573"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txBox="1"/>
            <p:nvPr/>
          </p:nvSpPr>
          <p:spPr>
            <a:xfrm>
              <a:off x="6024600" y="2073240"/>
              <a:ext cx="1440" cy="397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766800" y="4152960"/>
            <a:ext cx="10555200" cy="360"/>
            <a:chOff x="766800" y="4152960"/>
            <a:chExt cx="10555200" cy="360"/>
          </a:xfrm>
        </p:grpSpPr>
        <p:sp>
          <p:nvSpPr>
            <p:cNvPr id="576"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txBox="1"/>
            <p:nvPr/>
          </p:nvSpPr>
          <p:spPr>
            <a:xfrm>
              <a:off x="766800" y="4152960"/>
              <a:ext cx="1055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grpSp>
        <p:nvGrpSpPr>
          <p:cNvPr id="579" name=""/>
          <p:cNvGrpSpPr/>
          <p:nvPr/>
        </p:nvGrpSpPr>
        <p:grpSpPr>
          <a:xfrm>
            <a:off x="0" y="446040"/>
            <a:ext cx="3321000" cy="1800"/>
            <a:chOff x="0" y="446040"/>
            <a:chExt cx="3321000" cy="1800"/>
          </a:xfrm>
        </p:grpSpPr>
        <p:sp>
          <p:nvSpPr>
            <p:cNvPr id="580"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0" y="1271520"/>
            <a:ext cx="11592000" cy="1800"/>
            <a:chOff x="0" y="1271520"/>
            <a:chExt cx="11592000" cy="1800"/>
          </a:xfrm>
        </p:grpSpPr>
        <p:sp>
          <p:nvSpPr>
            <p:cNvPr id="58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4"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586"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587"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588"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589"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590"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591"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任意多边形 25"/>
          <p:cNvSpPr/>
          <p:nvPr/>
        </p:nvSpPr>
        <p:spPr>
          <a:xfrm>
            <a:off x="5342040" y="5162400"/>
            <a:ext cx="1044360" cy="1044720"/>
          </a:xfrm>
          <a:custGeom>
            <a:avLst/>
            <a:gdLst/>
            <a:ahLst/>
            <a:rect l="l" t="t" r="r" b="b"/>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24"/>
          <p:cNvSpPr/>
          <p:nvPr/>
        </p:nvSpPr>
        <p:spPr>
          <a:xfrm>
            <a:off x="5342040" y="3638520"/>
            <a:ext cx="1044360" cy="1044720"/>
          </a:xfrm>
          <a:custGeom>
            <a:avLst/>
            <a:gdLst/>
            <a:ahLst/>
            <a:rect l="l" t="t" r="r" b="b"/>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23"/>
          <p:cNvSpPr/>
          <p:nvPr/>
        </p:nvSpPr>
        <p:spPr>
          <a:xfrm>
            <a:off x="5342040" y="2106720"/>
            <a:ext cx="1044360" cy="1044360"/>
          </a:xfrm>
          <a:custGeom>
            <a:avLst/>
            <a:gdLst/>
            <a:ahLst/>
            <a:rect l="l" t="t" r="r" b="b"/>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grpSp>
        <p:nvGrpSpPr>
          <p:cNvPr id="599" name=""/>
          <p:cNvGrpSpPr/>
          <p:nvPr/>
        </p:nvGrpSpPr>
        <p:grpSpPr>
          <a:xfrm>
            <a:off x="0" y="446040"/>
            <a:ext cx="3321000" cy="1800"/>
            <a:chOff x="0" y="446040"/>
            <a:chExt cx="3321000" cy="1800"/>
          </a:xfrm>
        </p:grpSpPr>
        <p:sp>
          <p:nvSpPr>
            <p:cNvPr id="600"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
          <p:cNvGrpSpPr/>
          <p:nvPr/>
        </p:nvGrpSpPr>
        <p:grpSpPr>
          <a:xfrm>
            <a:off x="0" y="1271520"/>
            <a:ext cx="11592000" cy="1800"/>
            <a:chOff x="0" y="1271520"/>
            <a:chExt cx="11592000" cy="1800"/>
          </a:xfrm>
        </p:grpSpPr>
        <p:sp>
          <p:nvSpPr>
            <p:cNvPr id="6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grpSp>
        <p:nvGrpSpPr>
          <p:cNvPr id="606" name=""/>
          <p:cNvGrpSpPr/>
          <p:nvPr/>
        </p:nvGrpSpPr>
        <p:grpSpPr>
          <a:xfrm>
            <a:off x="5864400" y="1628640"/>
            <a:ext cx="360" cy="4934160"/>
            <a:chOff x="5864400" y="1628640"/>
            <a:chExt cx="360" cy="4934160"/>
          </a:xfrm>
        </p:grpSpPr>
        <p:sp>
          <p:nvSpPr>
            <p:cNvPr id="607"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txBox="1"/>
            <p:nvPr/>
          </p:nvSpPr>
          <p:spPr>
            <a:xfrm>
              <a:off x="5864400" y="1628640"/>
              <a:ext cx="360" cy="4934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610"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611"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612" name="任意多边形 13"/>
          <p:cNvSpPr/>
          <p:nvPr/>
        </p:nvSpPr>
        <p:spPr>
          <a:xfrm rot="5400000">
            <a:off x="2370240" y="468000"/>
            <a:ext cx="1155600" cy="4191120"/>
          </a:xfrm>
          <a:custGeom>
            <a:avLst/>
            <a:gdLst/>
            <a:ahLst/>
            <a:rect l="l" t="t" r="r" b="b"/>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4"/>
          <p:cNvSpPr/>
          <p:nvPr/>
        </p:nvSpPr>
        <p:spPr>
          <a:xfrm rot="16200000">
            <a:off x="7684920" y="2423880"/>
            <a:ext cx="2181240" cy="4187520"/>
          </a:xfrm>
          <a:custGeom>
            <a:avLst/>
            <a:gdLst/>
            <a:ahLst/>
            <a:rect l="l" t="t" r="r" b="b"/>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5"/>
          <p:cNvSpPr/>
          <p:nvPr/>
        </p:nvSpPr>
        <p:spPr>
          <a:xfrm rot="5400000">
            <a:off x="1968120" y="3171960"/>
            <a:ext cx="2097000" cy="4189320"/>
          </a:xfrm>
          <a:custGeom>
            <a:avLst/>
            <a:gdLst/>
            <a:ahLst/>
            <a:rect l="l" t="t" r="r" b="b"/>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616"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617"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弦形 38"/>
          <p:cNvSpPr/>
          <p:nvPr/>
        </p:nvSpPr>
        <p:spPr>
          <a:xfrm rot="10800000">
            <a:off x="4938840" y="3227400"/>
            <a:ext cx="1930320" cy="1928880"/>
          </a:xfrm>
          <a:custGeom>
            <a:avLst/>
            <a:gdLst/>
            <a:ahLst/>
            <a:rect l="l" t="t" r="r" b="b"/>
            <a:pathLst>
              <a:path w="3040" h="3037">
                <a:moveTo>
                  <a:pt x="1538" y="3036"/>
                </a:moveTo>
                <a:cubicBezTo>
                  <a:pt x="699" y="3036"/>
                  <a:pt x="18" y="2356"/>
                  <a:pt x="18" y="1518"/>
                </a:cubicBezTo>
                <a:cubicBezTo>
                  <a:pt x="18" y="680"/>
                  <a:pt x="699" y="0"/>
                  <a:pt x="1538" y="0"/>
                </a:cubicBezTo>
                <a:cubicBezTo>
                  <a:pt x="1554" y="0"/>
                  <a:pt x="1570" y="0"/>
                  <a:pt x="1585"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grpSp>
        <p:nvGrpSpPr>
          <p:cNvPr id="621" name=""/>
          <p:cNvGrpSpPr/>
          <p:nvPr/>
        </p:nvGrpSpPr>
        <p:grpSpPr>
          <a:xfrm>
            <a:off x="0" y="446040"/>
            <a:ext cx="3321000" cy="1800"/>
            <a:chOff x="0" y="446040"/>
            <a:chExt cx="3321000" cy="1800"/>
          </a:xfrm>
        </p:grpSpPr>
        <p:sp>
          <p:nvSpPr>
            <p:cNvPr id="62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0" y="1271520"/>
            <a:ext cx="11592000" cy="1800"/>
            <a:chOff x="0" y="1271520"/>
            <a:chExt cx="11592000" cy="1800"/>
          </a:xfrm>
        </p:grpSpPr>
        <p:sp>
          <p:nvSpPr>
            <p:cNvPr id="62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组合 24"/>
          <p:cNvGrpSpPr/>
          <p:nvPr/>
        </p:nvGrpSpPr>
        <p:grpSpPr>
          <a:xfrm>
            <a:off x="819000" y="1859040"/>
            <a:ext cx="4353120" cy="3527280"/>
            <a:chOff x="819000" y="1859040"/>
            <a:chExt cx="4353120" cy="3527280"/>
          </a:xfrm>
        </p:grpSpPr>
        <p:grpSp>
          <p:nvGrpSpPr>
            <p:cNvPr id="628" name="组合 2"/>
            <p:cNvGrpSpPr/>
            <p:nvPr/>
          </p:nvGrpSpPr>
          <p:grpSpPr>
            <a:xfrm>
              <a:off x="819000" y="1859040"/>
              <a:ext cx="4353120" cy="2272320"/>
              <a:chOff x="819000" y="1859040"/>
              <a:chExt cx="4353120" cy="2272320"/>
            </a:xfrm>
          </p:grpSpPr>
          <p:sp>
            <p:nvSpPr>
              <p:cNvPr id="629" name="Freeform 101"/>
              <p:cNvSpPr/>
              <p:nvPr/>
            </p:nvSpPr>
            <p:spPr>
              <a:xfrm>
                <a:off x="1978560" y="1859040"/>
                <a:ext cx="2033640" cy="174420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6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6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6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1"/>
                    <a:pt x="10800" y="121"/>
                  </a:cubicBezTo>
                  <a:lnTo>
                    <a:pt x="10800" y="10679"/>
                  </a:lnTo>
                  <a:cubicBezTo>
                    <a:pt x="10800" y="10740"/>
                    <a:pt x="5400" y="10800"/>
                    <a:pt x="0" y="10800"/>
                  </a:cubicBezTo>
                  <a:cubicBezTo>
                    <a:pt x="5400" y="10800"/>
                    <a:pt x="10800" y="10861"/>
                    <a:pt x="10800" y="10921"/>
                  </a:cubicBezTo>
                  <a:lnTo>
                    <a:pt x="10800" y="21479"/>
                  </a:lnTo>
                  <a:cubicBezTo>
                    <a:pt x="10800" y="21540"/>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6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6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6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6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6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6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
          <p:cNvGrpSpPr/>
          <p:nvPr/>
        </p:nvGrpSpPr>
        <p:grpSpPr>
          <a:xfrm>
            <a:off x="3971880" y="1542960"/>
            <a:ext cx="360" cy="3929040"/>
            <a:chOff x="3971880" y="1542960"/>
            <a:chExt cx="360" cy="3929040"/>
          </a:xfrm>
        </p:grpSpPr>
        <p:sp>
          <p:nvSpPr>
            <p:cNvPr id="96"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txBox="1"/>
            <p:nvPr/>
          </p:nvSpPr>
          <p:spPr>
            <a:xfrm>
              <a:off x="3971880" y="1542960"/>
              <a:ext cx="360" cy="3929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
          <p:cNvGrpSpPr/>
          <p:nvPr/>
        </p:nvGrpSpPr>
        <p:grpSpPr>
          <a:xfrm>
            <a:off x="8238960" y="1657440"/>
            <a:ext cx="360" cy="3814560"/>
            <a:chOff x="8238960" y="1657440"/>
            <a:chExt cx="360" cy="3814560"/>
          </a:xfrm>
        </p:grpSpPr>
        <p:sp>
          <p:nvSpPr>
            <p:cNvPr id="99"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8238960" y="1657440"/>
              <a:ext cx="360" cy="381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10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10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10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10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
          <p:cNvGrpSpPr/>
          <p:nvPr/>
        </p:nvGrpSpPr>
        <p:grpSpPr>
          <a:xfrm>
            <a:off x="10731600" y="3114720"/>
            <a:ext cx="360" cy="3440160"/>
            <a:chOff x="10731600" y="3114720"/>
            <a:chExt cx="360" cy="3440160"/>
          </a:xfrm>
        </p:grpSpPr>
        <p:sp>
          <p:nvSpPr>
            <p:cNvPr id="642"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txBox="1"/>
            <p:nvPr/>
          </p:nvSpPr>
          <p:spPr>
            <a:xfrm>
              <a:off x="10731600" y="3114720"/>
              <a:ext cx="360" cy="3440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grpSp>
        <p:nvGrpSpPr>
          <p:cNvPr id="647" name=""/>
          <p:cNvGrpSpPr/>
          <p:nvPr/>
        </p:nvGrpSpPr>
        <p:grpSpPr>
          <a:xfrm>
            <a:off x="0" y="446040"/>
            <a:ext cx="3321000" cy="1800"/>
            <a:chOff x="0" y="446040"/>
            <a:chExt cx="3321000" cy="1800"/>
          </a:xfrm>
        </p:grpSpPr>
        <p:sp>
          <p:nvSpPr>
            <p:cNvPr id="64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9"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
          <p:cNvGrpSpPr/>
          <p:nvPr/>
        </p:nvGrpSpPr>
        <p:grpSpPr>
          <a:xfrm>
            <a:off x="0" y="1271520"/>
            <a:ext cx="11592000" cy="1800"/>
            <a:chOff x="0" y="1271520"/>
            <a:chExt cx="11592000" cy="1800"/>
          </a:xfrm>
        </p:grpSpPr>
        <p:sp>
          <p:nvSpPr>
            <p:cNvPr id="651"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grpSp>
        <p:nvGrpSpPr>
          <p:cNvPr id="654" name=""/>
          <p:cNvGrpSpPr/>
          <p:nvPr/>
        </p:nvGrpSpPr>
        <p:grpSpPr>
          <a:xfrm>
            <a:off x="615960" y="5775480"/>
            <a:ext cx="3884760" cy="360"/>
            <a:chOff x="615960" y="5775480"/>
            <a:chExt cx="3884760" cy="360"/>
          </a:xfrm>
        </p:grpSpPr>
        <p:sp>
          <p:nvSpPr>
            <p:cNvPr id="655"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txBox="1"/>
            <p:nvPr/>
          </p:nvSpPr>
          <p:spPr>
            <a:xfrm>
              <a:off x="615960" y="5775480"/>
              <a:ext cx="3884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
          <p:cNvGrpSpPr/>
          <p:nvPr/>
        </p:nvGrpSpPr>
        <p:grpSpPr>
          <a:xfrm>
            <a:off x="2774880" y="2270160"/>
            <a:ext cx="6340680" cy="360"/>
            <a:chOff x="2774880" y="2270160"/>
            <a:chExt cx="6340680" cy="360"/>
          </a:xfrm>
        </p:grpSpPr>
        <p:sp>
          <p:nvSpPr>
            <p:cNvPr id="6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txBox="1"/>
            <p:nvPr/>
          </p:nvSpPr>
          <p:spPr>
            <a:xfrm>
              <a:off x="2774880" y="2270160"/>
              <a:ext cx="6340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662" name="组合 31"/>
          <p:cNvGrpSpPr/>
          <p:nvPr/>
        </p:nvGrpSpPr>
        <p:grpSpPr>
          <a:xfrm>
            <a:off x="6162840" y="4871880"/>
            <a:ext cx="4568760" cy="1376640"/>
            <a:chOff x="6162840" y="4871880"/>
            <a:chExt cx="4568760" cy="1376640"/>
          </a:xfrm>
        </p:grpSpPr>
        <p:sp>
          <p:nvSpPr>
            <p:cNvPr id="66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66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66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66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668"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grpSp>
        <p:nvGrpSpPr>
          <p:cNvPr id="672" name=""/>
          <p:cNvGrpSpPr/>
          <p:nvPr/>
        </p:nvGrpSpPr>
        <p:grpSpPr>
          <a:xfrm>
            <a:off x="0" y="446040"/>
            <a:ext cx="3321000" cy="1800"/>
            <a:chOff x="0" y="446040"/>
            <a:chExt cx="3321000" cy="1800"/>
          </a:xfrm>
        </p:grpSpPr>
        <p:sp>
          <p:nvSpPr>
            <p:cNvPr id="67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4"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
          <p:cNvGrpSpPr/>
          <p:nvPr/>
        </p:nvGrpSpPr>
        <p:grpSpPr>
          <a:xfrm>
            <a:off x="0" y="1271520"/>
            <a:ext cx="11592000" cy="1800"/>
            <a:chOff x="0" y="1271520"/>
            <a:chExt cx="11592000" cy="1800"/>
          </a:xfrm>
        </p:grpSpPr>
        <p:sp>
          <p:nvSpPr>
            <p:cNvPr id="676"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7"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679" name="组合 30"/>
          <p:cNvGrpSpPr/>
          <p:nvPr/>
        </p:nvGrpSpPr>
        <p:grpSpPr>
          <a:xfrm>
            <a:off x="2716200" y="2075040"/>
            <a:ext cx="6157800" cy="1438200"/>
            <a:chOff x="2716200" y="2075040"/>
            <a:chExt cx="6157800" cy="1438200"/>
          </a:xfrm>
        </p:grpSpPr>
        <p:grpSp>
          <p:nvGrpSpPr>
            <p:cNvPr id="680" name="组合 13"/>
            <p:cNvGrpSpPr/>
            <p:nvPr/>
          </p:nvGrpSpPr>
          <p:grpSpPr>
            <a:xfrm>
              <a:off x="3024720" y="2234880"/>
              <a:ext cx="5849280" cy="1278360"/>
              <a:chOff x="3024720" y="2234880"/>
              <a:chExt cx="5849280" cy="1278360"/>
            </a:xfrm>
          </p:grpSpPr>
          <p:sp>
            <p:nvSpPr>
              <p:cNvPr id="681"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682"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683"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684" name="加号 1"/>
              <p:cNvSpPr/>
              <p:nvPr/>
            </p:nvSpPr>
            <p:spPr>
              <a:xfrm>
                <a:off x="6750360" y="2557080"/>
                <a:ext cx="631440" cy="633600"/>
              </a:xfrm>
              <a:custGeom>
                <a:avLst/>
                <a:gdLst/>
                <a:ahLst/>
                <a:rect l="l" t="t" r="r" b="b"/>
                <a:pathLst>
                  <a:path w="631794" h="633127">
                    <a:moveTo>
                      <a:pt x="83744" y="242264"/>
                    </a:moveTo>
                    <a:lnTo>
                      <a:pt x="241598" y="242264"/>
                    </a:lnTo>
                    <a:lnTo>
                      <a:pt x="241598" y="83920"/>
                    </a:lnTo>
                    <a:lnTo>
                      <a:pt x="390195" y="83920"/>
                    </a:lnTo>
                    <a:lnTo>
                      <a:pt x="390195" y="242264"/>
                    </a:lnTo>
                    <a:lnTo>
                      <a:pt x="548049" y="242264"/>
                    </a:lnTo>
                    <a:lnTo>
                      <a:pt x="548049" y="390862"/>
                    </a:lnTo>
                    <a:lnTo>
                      <a:pt x="390195" y="390862"/>
                    </a:lnTo>
                    <a:lnTo>
                      <a:pt x="390195" y="549206"/>
                    </a:lnTo>
                    <a:lnTo>
                      <a:pt x="241598" y="549206"/>
                    </a:lnTo>
                    <a:lnTo>
                      <a:pt x="241598" y="390862"/>
                    </a:lnTo>
                    <a:lnTo>
                      <a:pt x="83744" y="39086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加号 11"/>
              <p:cNvSpPr/>
              <p:nvPr/>
            </p:nvSpPr>
            <p:spPr>
              <a:xfrm>
                <a:off x="4491360" y="2557080"/>
                <a:ext cx="631440" cy="633600"/>
              </a:xfrm>
              <a:custGeom>
                <a:avLst/>
                <a:gdLst/>
                <a:ahLst/>
                <a:rect l="l" t="t" r="r" b="b"/>
                <a:pathLst>
                  <a:path w="631794" h="633127">
                    <a:moveTo>
                      <a:pt x="83744" y="242264"/>
                    </a:moveTo>
                    <a:lnTo>
                      <a:pt x="241598" y="242264"/>
                    </a:lnTo>
                    <a:lnTo>
                      <a:pt x="241598" y="83920"/>
                    </a:lnTo>
                    <a:lnTo>
                      <a:pt x="390195" y="83920"/>
                    </a:lnTo>
                    <a:lnTo>
                      <a:pt x="390195" y="242264"/>
                    </a:lnTo>
                    <a:lnTo>
                      <a:pt x="548049" y="242264"/>
                    </a:lnTo>
                    <a:lnTo>
                      <a:pt x="548049" y="390862"/>
                    </a:lnTo>
                    <a:lnTo>
                      <a:pt x="390195" y="390862"/>
                    </a:lnTo>
                    <a:lnTo>
                      <a:pt x="390195" y="549206"/>
                    </a:lnTo>
                    <a:lnTo>
                      <a:pt x="241598" y="549206"/>
                    </a:lnTo>
                    <a:lnTo>
                      <a:pt x="241598" y="390862"/>
                    </a:lnTo>
                    <a:lnTo>
                      <a:pt x="83744" y="39086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组合 20"/>
            <p:cNvGrpSpPr/>
            <p:nvPr/>
          </p:nvGrpSpPr>
          <p:grpSpPr>
            <a:xfrm>
              <a:off x="2716200" y="2081160"/>
              <a:ext cx="636480" cy="636840"/>
              <a:chOff x="2716200" y="2081160"/>
              <a:chExt cx="636480" cy="636840"/>
            </a:xfrm>
          </p:grpSpPr>
          <p:sp>
            <p:nvSpPr>
              <p:cNvPr id="687"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01"/>
              <p:cNvSpPr/>
              <p:nvPr/>
            </p:nvSpPr>
            <p:spPr>
              <a:xfrm>
                <a:off x="2844360" y="2230560"/>
                <a:ext cx="379080" cy="32544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组合 21"/>
            <p:cNvGrpSpPr/>
            <p:nvPr/>
          </p:nvGrpSpPr>
          <p:grpSpPr>
            <a:xfrm>
              <a:off x="4959000" y="2075040"/>
              <a:ext cx="636480" cy="636840"/>
              <a:chOff x="4959000" y="2075040"/>
              <a:chExt cx="636480" cy="636840"/>
            </a:xfrm>
          </p:grpSpPr>
          <p:sp>
            <p:nvSpPr>
              <p:cNvPr id="690"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56"/>
              <p:cNvSpPr/>
              <p:nvPr/>
            </p:nvSpPr>
            <p:spPr>
              <a:xfrm>
                <a:off x="5067000" y="2205360"/>
                <a:ext cx="461160" cy="412560"/>
              </a:xfrm>
              <a:custGeom>
                <a:avLst/>
                <a:gdLst/>
                <a:ahLst/>
                <a:rect l="l" t="t" r="r" b="b"/>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22"/>
            <p:cNvGrpSpPr/>
            <p:nvPr/>
          </p:nvGrpSpPr>
          <p:grpSpPr>
            <a:xfrm>
              <a:off x="7381800" y="2103840"/>
              <a:ext cx="636480" cy="636840"/>
              <a:chOff x="7381800" y="2103840"/>
              <a:chExt cx="636480" cy="636840"/>
            </a:xfrm>
          </p:grpSpPr>
          <p:sp>
            <p:nvSpPr>
              <p:cNvPr id="693"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56"/>
              <p:cNvSpPr/>
              <p:nvPr/>
            </p:nvSpPr>
            <p:spPr>
              <a:xfrm>
                <a:off x="7533000" y="2242440"/>
                <a:ext cx="333720" cy="360000"/>
              </a:xfrm>
              <a:custGeom>
                <a:avLst/>
                <a:gdLst/>
                <a:ahLst/>
                <a:rect l="l" t="t" r="r" b="b"/>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5" name="图片 23" descr=""/>
          <p:cNvPicPr/>
          <p:nvPr/>
        </p:nvPicPr>
        <p:blipFill>
          <a:blip r:embed="rId1"/>
          <a:stretch/>
        </p:blipFill>
        <p:spPr>
          <a:xfrm>
            <a:off x="2239920" y="4309920"/>
            <a:ext cx="2895480" cy="1930680"/>
          </a:xfrm>
          <a:prstGeom prst="rect">
            <a:avLst/>
          </a:prstGeom>
          <a:ln w="0">
            <a:noFill/>
          </a:ln>
        </p:spPr>
      </p:pic>
      <p:sp>
        <p:nvSpPr>
          <p:cNvPr id="696"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grpSp>
        <p:nvGrpSpPr>
          <p:cNvPr id="697" name=""/>
          <p:cNvGrpSpPr/>
          <p:nvPr/>
        </p:nvGrpSpPr>
        <p:grpSpPr>
          <a:xfrm>
            <a:off x="5540400" y="4309920"/>
            <a:ext cx="5392800" cy="1800"/>
            <a:chOff x="5540400" y="4309920"/>
            <a:chExt cx="5392800" cy="1800"/>
          </a:xfrm>
        </p:grpSpPr>
        <p:sp>
          <p:nvSpPr>
            <p:cNvPr id="698"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
            <p:cNvSpPr txBox="1"/>
            <p:nvPr/>
          </p:nvSpPr>
          <p:spPr>
            <a:xfrm>
              <a:off x="5540400" y="4309920"/>
              <a:ext cx="53928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
          <p:cNvGrpSpPr/>
          <p:nvPr/>
        </p:nvGrpSpPr>
        <p:grpSpPr>
          <a:xfrm>
            <a:off x="5540400" y="6172200"/>
            <a:ext cx="5392800" cy="360"/>
            <a:chOff x="5540400" y="6172200"/>
            <a:chExt cx="5392800" cy="360"/>
          </a:xfrm>
        </p:grpSpPr>
        <p:sp>
          <p:nvSpPr>
            <p:cNvPr id="701"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txBox="1"/>
            <p:nvPr/>
          </p:nvSpPr>
          <p:spPr>
            <a:xfrm>
              <a:off x="5540400" y="6172200"/>
              <a:ext cx="5392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70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grpSp>
        <p:nvGrpSpPr>
          <p:cNvPr id="706" name=""/>
          <p:cNvGrpSpPr/>
          <p:nvPr/>
        </p:nvGrpSpPr>
        <p:grpSpPr>
          <a:xfrm>
            <a:off x="0" y="446040"/>
            <a:ext cx="3321000" cy="1800"/>
            <a:chOff x="0" y="446040"/>
            <a:chExt cx="3321000" cy="1800"/>
          </a:xfrm>
        </p:grpSpPr>
        <p:sp>
          <p:nvSpPr>
            <p:cNvPr id="70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8"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
          <p:cNvGrpSpPr/>
          <p:nvPr/>
        </p:nvGrpSpPr>
        <p:grpSpPr>
          <a:xfrm>
            <a:off x="0" y="1271520"/>
            <a:ext cx="11592000" cy="1800"/>
            <a:chOff x="0" y="1271520"/>
            <a:chExt cx="11592000" cy="1800"/>
          </a:xfrm>
        </p:grpSpPr>
        <p:sp>
          <p:nvSpPr>
            <p:cNvPr id="710"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1"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713" name="组合 29"/>
          <p:cNvGrpSpPr/>
          <p:nvPr/>
        </p:nvGrpSpPr>
        <p:grpSpPr>
          <a:xfrm>
            <a:off x="423720" y="1474920"/>
            <a:ext cx="10744200" cy="4735800"/>
            <a:chOff x="423720" y="1474920"/>
            <a:chExt cx="10744200" cy="4735800"/>
          </a:xfrm>
        </p:grpSpPr>
        <p:grpSp>
          <p:nvGrpSpPr>
            <p:cNvPr id="714" name=""/>
            <p:cNvGrpSpPr/>
            <p:nvPr/>
          </p:nvGrpSpPr>
          <p:grpSpPr>
            <a:xfrm>
              <a:off x="3224160" y="4361040"/>
              <a:ext cx="1647720" cy="1342800"/>
              <a:chOff x="3224160" y="4361040"/>
              <a:chExt cx="1647720" cy="1342800"/>
            </a:xfrm>
          </p:grpSpPr>
          <p:sp>
            <p:nvSpPr>
              <p:cNvPr id="715"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txBox="1"/>
              <p:nvPr/>
            </p:nvSpPr>
            <p:spPr>
              <a:xfrm>
                <a:off x="3224160" y="4361040"/>
                <a:ext cx="164772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
            <p:cNvGrpSpPr/>
            <p:nvPr/>
          </p:nvGrpSpPr>
          <p:grpSpPr>
            <a:xfrm>
              <a:off x="1433160" y="4360680"/>
              <a:ext cx="1790640" cy="1460520"/>
              <a:chOff x="1433160" y="4360680"/>
              <a:chExt cx="1790640" cy="1460520"/>
            </a:xfrm>
          </p:grpSpPr>
          <p:sp>
            <p:nvSpPr>
              <p:cNvPr id="718"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txBox="1"/>
              <p:nvPr/>
            </p:nvSpPr>
            <p:spPr>
              <a:xfrm rot="10800000">
                <a:off x="1433160" y="4360680"/>
                <a:ext cx="1790640" cy="14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
            <p:cNvGrpSpPr/>
            <p:nvPr/>
          </p:nvGrpSpPr>
          <p:grpSpPr>
            <a:xfrm>
              <a:off x="4871520" y="1474920"/>
              <a:ext cx="5189760" cy="4229280"/>
              <a:chOff x="4871520" y="1474920"/>
              <a:chExt cx="5189760" cy="4229280"/>
            </a:xfrm>
          </p:grpSpPr>
          <p:sp>
            <p:nvSpPr>
              <p:cNvPr id="721"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txBox="1"/>
              <p:nvPr/>
            </p:nvSpPr>
            <p:spPr>
              <a:xfrm rot="10800000">
                <a:off x="4871520" y="1474920"/>
                <a:ext cx="5189400" cy="422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3"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
            <p:cNvGrpSpPr/>
            <p:nvPr/>
          </p:nvGrpSpPr>
          <p:grpSpPr>
            <a:xfrm>
              <a:off x="423720" y="6210360"/>
              <a:ext cx="10744200" cy="360"/>
              <a:chOff x="423720" y="6210360"/>
              <a:chExt cx="10744200" cy="360"/>
            </a:xfrm>
          </p:grpSpPr>
          <p:sp>
            <p:nvSpPr>
              <p:cNvPr id="73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txBox="1"/>
              <p:nvPr/>
            </p:nvSpPr>
            <p:spPr>
              <a:xfrm>
                <a:off x="423720" y="6210360"/>
                <a:ext cx="10744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5"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736"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737"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738"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739"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740"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741"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742"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743"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744"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745"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746"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747"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748"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749"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750"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751"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752"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753"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grpSp>
        <p:nvGrpSpPr>
          <p:cNvPr id="755" name=""/>
          <p:cNvGrpSpPr/>
          <p:nvPr/>
        </p:nvGrpSpPr>
        <p:grpSpPr>
          <a:xfrm>
            <a:off x="0" y="446040"/>
            <a:ext cx="3321000" cy="1800"/>
            <a:chOff x="0" y="446040"/>
            <a:chExt cx="3321000" cy="1800"/>
          </a:xfrm>
        </p:grpSpPr>
        <p:sp>
          <p:nvSpPr>
            <p:cNvPr id="756"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7" name=""/>
            <p:cNvSpPr txBox="1"/>
            <p:nvPr/>
          </p:nvSpPr>
          <p:spPr>
            <a:xfrm>
              <a:off x="0" y="446040"/>
              <a:ext cx="332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0" y="1271520"/>
            <a:ext cx="11592000" cy="1800"/>
            <a:chOff x="0" y="1271520"/>
            <a:chExt cx="11592000" cy="1800"/>
          </a:xfrm>
        </p:grpSpPr>
        <p:sp>
          <p:nvSpPr>
            <p:cNvPr id="75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0" name=""/>
            <p:cNvSpPr txBox="1"/>
            <p:nvPr/>
          </p:nvSpPr>
          <p:spPr>
            <a:xfrm>
              <a:off x="0" y="1271520"/>
              <a:ext cx="11592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762" name="组合 15"/>
          <p:cNvGrpSpPr/>
          <p:nvPr/>
        </p:nvGrpSpPr>
        <p:grpSpPr>
          <a:xfrm>
            <a:off x="1020240" y="1652400"/>
            <a:ext cx="2099160" cy="4831560"/>
            <a:chOff x="1020240" y="1652400"/>
            <a:chExt cx="2099160" cy="4831560"/>
          </a:xfrm>
        </p:grpSpPr>
        <p:grpSp>
          <p:nvGrpSpPr>
            <p:cNvPr id="763" name="组合 11"/>
            <p:cNvGrpSpPr/>
            <p:nvPr/>
          </p:nvGrpSpPr>
          <p:grpSpPr>
            <a:xfrm>
              <a:off x="2857680" y="1817640"/>
              <a:ext cx="261720" cy="4213800"/>
              <a:chOff x="2857680" y="1817640"/>
              <a:chExt cx="261720" cy="4213800"/>
            </a:xfrm>
          </p:grpSpPr>
          <p:grpSp>
            <p:nvGrpSpPr>
              <p:cNvPr id="764" name=""/>
              <p:cNvGrpSpPr/>
              <p:nvPr/>
            </p:nvGrpSpPr>
            <p:grpSpPr>
              <a:xfrm>
                <a:off x="2992680" y="1817640"/>
                <a:ext cx="360" cy="4213800"/>
                <a:chOff x="2992680" y="1817640"/>
                <a:chExt cx="360" cy="4213800"/>
              </a:xfrm>
            </p:grpSpPr>
            <p:sp>
              <p:nvSpPr>
                <p:cNvPr id="765"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txBox="1"/>
                <p:nvPr/>
              </p:nvSpPr>
              <p:spPr>
                <a:xfrm>
                  <a:off x="2992680" y="1817640"/>
                  <a:ext cx="360" cy="421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7"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771"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772"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773"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774"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775"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777" name="弦形 7"/>
          <p:cNvSpPr/>
          <p:nvPr/>
        </p:nvSpPr>
        <p:spPr>
          <a:xfrm rot="17100000">
            <a:off x="4106520" y="530280"/>
            <a:ext cx="3417840" cy="3417840"/>
          </a:xfrm>
          <a:custGeom>
            <a:avLst/>
            <a:gdLst/>
            <a:ahLst/>
            <a:rect l="l" t="t" r="r" b="b"/>
            <a:pathLst>
              <a:path w="5383" h="5382">
                <a:moveTo>
                  <a:pt x="564" y="4340"/>
                </a:moveTo>
                <a:cubicBezTo>
                  <a:pt x="210" y="3885"/>
                  <a:pt x="-1" y="3313"/>
                  <a:pt x="-1" y="2691"/>
                </a:cubicBezTo>
                <a:cubicBezTo>
                  <a:pt x="-1" y="1205"/>
                  <a:pt x="1204" y="0"/>
                  <a:pt x="2690" y="0"/>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3517920" y="1239840"/>
            <a:ext cx="3529080" cy="3092400"/>
            <a:chOff x="3517920" y="1239840"/>
            <a:chExt cx="3529080" cy="3092400"/>
          </a:xfrm>
        </p:grpSpPr>
        <p:sp>
          <p:nvSpPr>
            <p:cNvPr id="779"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txBox="1"/>
            <p:nvPr/>
          </p:nvSpPr>
          <p:spPr>
            <a:xfrm>
              <a:off x="3517920" y="1239840"/>
              <a:ext cx="3529080" cy="309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grpSp>
        <p:nvGrpSpPr>
          <p:cNvPr id="782" name=""/>
          <p:cNvGrpSpPr/>
          <p:nvPr/>
        </p:nvGrpSpPr>
        <p:grpSpPr>
          <a:xfrm>
            <a:off x="1243080" y="5180040"/>
            <a:ext cx="2158920" cy="1440"/>
            <a:chOff x="1243080" y="5180040"/>
            <a:chExt cx="2158920" cy="1440"/>
          </a:xfrm>
        </p:grpSpPr>
        <p:sp>
          <p:nvSpPr>
            <p:cNvPr id="78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4" name=""/>
            <p:cNvSpPr txBox="1"/>
            <p:nvPr/>
          </p:nvSpPr>
          <p:spPr>
            <a:xfrm>
              <a:off x="1243080" y="5180040"/>
              <a:ext cx="2158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
          <p:cNvGrpSpPr/>
          <p:nvPr/>
        </p:nvGrpSpPr>
        <p:grpSpPr>
          <a:xfrm>
            <a:off x="8458200" y="5176800"/>
            <a:ext cx="2151000" cy="1800"/>
            <a:chOff x="8458200" y="5176800"/>
            <a:chExt cx="2151000" cy="1800"/>
          </a:xfrm>
        </p:grpSpPr>
        <p:sp>
          <p:nvSpPr>
            <p:cNvPr id="78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
            <p:cNvSpPr txBox="1"/>
            <p:nvPr/>
          </p:nvSpPr>
          <p:spPr>
            <a:xfrm>
              <a:off x="8458200" y="5176800"/>
              <a:ext cx="215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635040" y="-120600"/>
            <a:ext cx="360" cy="2031840"/>
            <a:chOff x="635040" y="-120600"/>
            <a:chExt cx="360" cy="2031840"/>
          </a:xfrm>
        </p:grpSpPr>
        <p:sp>
          <p:nvSpPr>
            <p:cNvPr id="791"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txBox="1"/>
            <p:nvPr/>
          </p:nvSpPr>
          <p:spPr>
            <a:xfrm>
              <a:off x="635040" y="-120600"/>
              <a:ext cx="360" cy="203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657360" y="4827600"/>
            <a:ext cx="360" cy="2030400"/>
            <a:chOff x="657360" y="4827600"/>
            <a:chExt cx="360" cy="2030400"/>
          </a:xfrm>
        </p:grpSpPr>
        <p:sp>
          <p:nvSpPr>
            <p:cNvPr id="794"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txBox="1"/>
            <p:nvPr/>
          </p:nvSpPr>
          <p:spPr>
            <a:xfrm>
              <a:off x="657360" y="4827600"/>
              <a:ext cx="360" cy="2030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797"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798"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799"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800"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801"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802"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803" name="禁止符 26"/>
          <p:cNvSpPr/>
          <p:nvPr/>
        </p:nvSpPr>
        <p:spPr>
          <a:xfrm>
            <a:off x="1616040" y="5462640"/>
            <a:ext cx="776160" cy="7761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2" y="15492"/>
                </a:moveTo>
                <a:cubicBezTo>
                  <a:pt x="18346" y="14169"/>
                  <a:pt x="18900" y="12549"/>
                  <a:pt x="18900" y="10800"/>
                </a:cubicBezTo>
                <a:cubicBezTo>
                  <a:pt x="18900" y="6326"/>
                  <a:pt x="15274" y="2700"/>
                  <a:pt x="10800" y="2700"/>
                </a:cubicBezTo>
                <a:cubicBezTo>
                  <a:pt x="9051" y="2700"/>
                  <a:pt x="7431" y="3255"/>
                  <a:pt x="6107" y="4197"/>
                </a:cubicBezTo>
                <a:close/>
                <a:moveTo>
                  <a:pt x="4197" y="6107"/>
                </a:moveTo>
                <a:cubicBezTo>
                  <a:pt x="3253" y="7431"/>
                  <a:pt x="2699" y="9051"/>
                  <a:pt x="2699" y="10800"/>
                </a:cubicBezTo>
                <a:cubicBezTo>
                  <a:pt x="2699" y="15274"/>
                  <a:pt x="6325" y="18900"/>
                  <a:pt x="10799" y="18900"/>
                </a:cubicBezTo>
                <a:cubicBezTo>
                  <a:pt x="12548" y="18900"/>
                  <a:pt x="14168" y="18346"/>
                  <a:pt x="15492" y="17403"/>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805"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806"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807" name="禁止符 30"/>
          <p:cNvSpPr/>
          <p:nvPr/>
        </p:nvSpPr>
        <p:spPr>
          <a:xfrm>
            <a:off x="4854600" y="5462640"/>
            <a:ext cx="776160" cy="7761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2" y="15492"/>
                </a:moveTo>
                <a:cubicBezTo>
                  <a:pt x="18346" y="14169"/>
                  <a:pt x="18900" y="12549"/>
                  <a:pt x="18900" y="10800"/>
                </a:cubicBezTo>
                <a:cubicBezTo>
                  <a:pt x="18900" y="6326"/>
                  <a:pt x="15274" y="2700"/>
                  <a:pt x="10800" y="2700"/>
                </a:cubicBezTo>
                <a:cubicBezTo>
                  <a:pt x="9051" y="2700"/>
                  <a:pt x="7431" y="3255"/>
                  <a:pt x="6107" y="4197"/>
                </a:cubicBezTo>
                <a:close/>
                <a:moveTo>
                  <a:pt x="4197" y="6107"/>
                </a:moveTo>
                <a:cubicBezTo>
                  <a:pt x="3253" y="7431"/>
                  <a:pt x="2699" y="9051"/>
                  <a:pt x="2699" y="10800"/>
                </a:cubicBezTo>
                <a:cubicBezTo>
                  <a:pt x="2699" y="15274"/>
                  <a:pt x="6325" y="18900"/>
                  <a:pt x="10799" y="18900"/>
                </a:cubicBezTo>
                <a:cubicBezTo>
                  <a:pt x="12548" y="18900"/>
                  <a:pt x="14168" y="18346"/>
                  <a:pt x="15492" y="17403"/>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禁止符 31"/>
          <p:cNvSpPr/>
          <p:nvPr/>
        </p:nvSpPr>
        <p:spPr>
          <a:xfrm>
            <a:off x="7777080" y="5462640"/>
            <a:ext cx="776520" cy="7761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2" y="15492"/>
                </a:moveTo>
                <a:cubicBezTo>
                  <a:pt x="18346" y="14169"/>
                  <a:pt x="18900" y="12549"/>
                  <a:pt x="18900" y="10800"/>
                </a:cubicBezTo>
                <a:cubicBezTo>
                  <a:pt x="18900" y="6326"/>
                  <a:pt x="15274" y="2700"/>
                  <a:pt x="10800" y="2700"/>
                </a:cubicBezTo>
                <a:cubicBezTo>
                  <a:pt x="9051" y="2700"/>
                  <a:pt x="7431" y="3255"/>
                  <a:pt x="6107" y="4197"/>
                </a:cubicBezTo>
                <a:close/>
                <a:moveTo>
                  <a:pt x="4197" y="6107"/>
                </a:moveTo>
                <a:cubicBezTo>
                  <a:pt x="3253" y="7431"/>
                  <a:pt x="2699" y="9051"/>
                  <a:pt x="2699" y="10800"/>
                </a:cubicBezTo>
                <a:cubicBezTo>
                  <a:pt x="2699" y="15274"/>
                  <a:pt x="6325" y="18900"/>
                  <a:pt x="10799" y="18900"/>
                </a:cubicBezTo>
                <a:cubicBezTo>
                  <a:pt x="12548" y="18900"/>
                  <a:pt x="14168" y="18346"/>
                  <a:pt x="15492" y="17403"/>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9" name="组合 36"/>
          <p:cNvGrpSpPr/>
          <p:nvPr/>
        </p:nvGrpSpPr>
        <p:grpSpPr>
          <a:xfrm>
            <a:off x="3994200" y="480960"/>
            <a:ext cx="4172040" cy="3943440"/>
            <a:chOff x="3994200" y="480960"/>
            <a:chExt cx="4172040" cy="3943440"/>
          </a:xfrm>
        </p:grpSpPr>
        <p:sp>
          <p:nvSpPr>
            <p:cNvPr id="810"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任意多边形 43"/>
            <p:cNvSpPr/>
            <p:nvPr/>
          </p:nvSpPr>
          <p:spPr>
            <a:xfrm>
              <a:off x="5692680" y="2266920"/>
              <a:ext cx="788760" cy="701640"/>
            </a:xfrm>
            <a:custGeom>
              <a:avLst/>
              <a:gdLst/>
              <a:ahLst/>
              <a:rect l="l" t="t" r="r" b="b"/>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
          <p:cNvGrpSpPr/>
          <p:nvPr/>
        </p:nvGrpSpPr>
        <p:grpSpPr>
          <a:xfrm>
            <a:off x="635040" y="-120600"/>
            <a:ext cx="360" cy="2031840"/>
            <a:chOff x="635040" y="-120600"/>
            <a:chExt cx="360" cy="2031840"/>
          </a:xfrm>
        </p:grpSpPr>
        <p:sp>
          <p:nvSpPr>
            <p:cNvPr id="818"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txBox="1"/>
            <p:nvPr/>
          </p:nvSpPr>
          <p:spPr>
            <a:xfrm>
              <a:off x="635040" y="-120600"/>
              <a:ext cx="360" cy="203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
          <p:cNvGrpSpPr/>
          <p:nvPr/>
        </p:nvGrpSpPr>
        <p:grpSpPr>
          <a:xfrm>
            <a:off x="657360" y="4827600"/>
            <a:ext cx="360" cy="2030400"/>
            <a:chOff x="657360" y="4827600"/>
            <a:chExt cx="360" cy="2030400"/>
          </a:xfrm>
        </p:grpSpPr>
        <p:sp>
          <p:nvSpPr>
            <p:cNvPr id="82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txBox="1"/>
            <p:nvPr/>
          </p:nvSpPr>
          <p:spPr>
            <a:xfrm>
              <a:off x="657360" y="4827600"/>
              <a:ext cx="360" cy="2030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824"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grpSp>
        <p:nvGrpSpPr>
          <p:cNvPr id="825" name=""/>
          <p:cNvGrpSpPr/>
          <p:nvPr/>
        </p:nvGrpSpPr>
        <p:grpSpPr>
          <a:xfrm>
            <a:off x="1639800" y="666720"/>
            <a:ext cx="5392800" cy="360"/>
            <a:chOff x="1639800" y="666720"/>
            <a:chExt cx="5392800" cy="360"/>
          </a:xfrm>
        </p:grpSpPr>
        <p:sp>
          <p:nvSpPr>
            <p:cNvPr id="826"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txBox="1"/>
            <p:nvPr/>
          </p:nvSpPr>
          <p:spPr>
            <a:xfrm>
              <a:off x="1639800" y="666720"/>
              <a:ext cx="5392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
          <p:cNvGrpSpPr/>
          <p:nvPr/>
        </p:nvGrpSpPr>
        <p:grpSpPr>
          <a:xfrm>
            <a:off x="5095800" y="1747800"/>
            <a:ext cx="5392800" cy="1800"/>
            <a:chOff x="5095800" y="1747800"/>
            <a:chExt cx="5392800" cy="1800"/>
          </a:xfrm>
        </p:grpSpPr>
        <p:sp>
          <p:nvSpPr>
            <p:cNvPr id="829"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0" name=""/>
            <p:cNvSpPr txBox="1"/>
            <p:nvPr/>
          </p:nvSpPr>
          <p:spPr>
            <a:xfrm>
              <a:off x="5095800" y="1747800"/>
              <a:ext cx="53928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组合 22"/>
          <p:cNvGrpSpPr/>
          <p:nvPr/>
        </p:nvGrpSpPr>
        <p:grpSpPr>
          <a:xfrm>
            <a:off x="1747080" y="2327400"/>
            <a:ext cx="3920040" cy="4214520"/>
            <a:chOff x="1747080" y="2327400"/>
            <a:chExt cx="3920040" cy="4214520"/>
          </a:xfrm>
        </p:grpSpPr>
        <p:grpSp>
          <p:nvGrpSpPr>
            <p:cNvPr id="832" name=""/>
            <p:cNvGrpSpPr/>
            <p:nvPr/>
          </p:nvGrpSpPr>
          <p:grpSpPr>
            <a:xfrm>
              <a:off x="2587320" y="2327400"/>
              <a:ext cx="360" cy="4214520"/>
              <a:chOff x="2587320" y="2327400"/>
              <a:chExt cx="360" cy="4214520"/>
            </a:xfrm>
          </p:grpSpPr>
          <p:sp>
            <p:nvSpPr>
              <p:cNvPr id="833"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txBox="1"/>
              <p:nvPr/>
            </p:nvSpPr>
            <p:spPr>
              <a:xfrm>
                <a:off x="2587320" y="2327400"/>
                <a:ext cx="360" cy="4214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138560" y="3865680"/>
              <a:ext cx="360" cy="2630520"/>
              <a:chOff x="4138560" y="3865680"/>
              <a:chExt cx="360" cy="2630520"/>
            </a:xfrm>
          </p:grpSpPr>
          <p:sp>
            <p:nvSpPr>
              <p:cNvPr id="836"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txBox="1"/>
              <p:nvPr/>
            </p:nvSpPr>
            <p:spPr>
              <a:xfrm>
                <a:off x="4138560" y="3865680"/>
                <a:ext cx="360" cy="263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5529600" y="5343480"/>
              <a:ext cx="360" cy="1123920"/>
              <a:chOff x="5529600" y="5343480"/>
              <a:chExt cx="360" cy="1123920"/>
            </a:xfrm>
          </p:grpSpPr>
          <p:sp>
            <p:nvSpPr>
              <p:cNvPr id="83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txBox="1"/>
              <p:nvPr/>
            </p:nvSpPr>
            <p:spPr>
              <a:xfrm>
                <a:off x="5529600" y="5343480"/>
                <a:ext cx="360" cy="112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1"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845"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846"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847"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848"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849"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
          <p:cNvGrpSpPr/>
          <p:nvPr/>
        </p:nvGrpSpPr>
        <p:grpSpPr>
          <a:xfrm>
            <a:off x="635040" y="-120600"/>
            <a:ext cx="360" cy="2031840"/>
            <a:chOff x="635040" y="-120600"/>
            <a:chExt cx="360" cy="2031840"/>
          </a:xfrm>
        </p:grpSpPr>
        <p:sp>
          <p:nvSpPr>
            <p:cNvPr id="851"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txBox="1"/>
            <p:nvPr/>
          </p:nvSpPr>
          <p:spPr>
            <a:xfrm>
              <a:off x="635040" y="-120600"/>
              <a:ext cx="360" cy="203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3" name=""/>
          <p:cNvGrpSpPr/>
          <p:nvPr/>
        </p:nvGrpSpPr>
        <p:grpSpPr>
          <a:xfrm>
            <a:off x="657360" y="4827600"/>
            <a:ext cx="360" cy="2030400"/>
            <a:chOff x="657360" y="4827600"/>
            <a:chExt cx="360" cy="2030400"/>
          </a:xfrm>
        </p:grpSpPr>
        <p:sp>
          <p:nvSpPr>
            <p:cNvPr id="854"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txBox="1"/>
            <p:nvPr/>
          </p:nvSpPr>
          <p:spPr>
            <a:xfrm>
              <a:off x="657360" y="4827600"/>
              <a:ext cx="360" cy="2030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857" name="组合 79"/>
          <p:cNvGrpSpPr/>
          <p:nvPr/>
        </p:nvGrpSpPr>
        <p:grpSpPr>
          <a:xfrm>
            <a:off x="1209600" y="843120"/>
            <a:ext cx="10450440" cy="3844800"/>
            <a:chOff x="1209600" y="843120"/>
            <a:chExt cx="10450440" cy="3844800"/>
          </a:xfrm>
        </p:grpSpPr>
        <p:sp>
          <p:nvSpPr>
            <p:cNvPr id="85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859" name="组合 78"/>
            <p:cNvGrpSpPr/>
            <p:nvPr/>
          </p:nvGrpSpPr>
          <p:grpSpPr>
            <a:xfrm>
              <a:off x="1209600" y="843120"/>
              <a:ext cx="9966600" cy="3844800"/>
              <a:chOff x="1209600" y="843120"/>
              <a:chExt cx="9966600" cy="3844800"/>
            </a:xfrm>
          </p:grpSpPr>
          <p:pic>
            <p:nvPicPr>
              <p:cNvPr id="860" name="图表 39" descr=""/>
              <p:cNvPicPr/>
              <p:nvPr/>
            </p:nvPicPr>
            <p:blipFill>
              <a:blip r:embed="rId1"/>
              <a:stretch/>
            </p:blipFill>
            <p:spPr>
              <a:xfrm>
                <a:off x="3695400" y="1485720"/>
                <a:ext cx="4187880" cy="2668320"/>
              </a:xfrm>
              <a:prstGeom prst="rect">
                <a:avLst/>
              </a:prstGeom>
              <a:ln w="0">
                <a:noFill/>
              </a:ln>
            </p:spPr>
          </p:pic>
          <p:grpSp>
            <p:nvGrpSpPr>
              <p:cNvPr id="861" name="组合 53"/>
              <p:cNvGrpSpPr/>
              <p:nvPr/>
            </p:nvGrpSpPr>
            <p:grpSpPr>
              <a:xfrm>
                <a:off x="2786040" y="924840"/>
                <a:ext cx="5990400" cy="3763080"/>
                <a:chOff x="2786040" y="924840"/>
                <a:chExt cx="5990400" cy="3763080"/>
              </a:xfrm>
            </p:grpSpPr>
            <p:pic>
              <p:nvPicPr>
                <p:cNvPr id="862" name="图表 40" descr=""/>
                <p:cNvPicPr/>
                <p:nvPr/>
              </p:nvPicPr>
              <p:blipFill>
                <a:blip r:embed="rId2"/>
                <a:stretch/>
              </p:blipFill>
              <p:spPr>
                <a:xfrm>
                  <a:off x="2786040" y="924840"/>
                  <a:ext cx="5990400" cy="3763080"/>
                </a:xfrm>
                <a:prstGeom prst="rect">
                  <a:avLst/>
                </a:prstGeom>
                <a:ln w="0">
                  <a:noFill/>
                </a:ln>
              </p:spPr>
            </p:pic>
            <p:pic>
              <p:nvPicPr>
                <p:cNvPr id="863" name="图表 38" descr=""/>
                <p:cNvPicPr/>
                <p:nvPr/>
              </p:nvPicPr>
              <p:blipFill>
                <a:blip r:embed="rId3"/>
                <a:stretch/>
              </p:blipFill>
              <p:spPr>
                <a:xfrm>
                  <a:off x="4409640" y="1956960"/>
                  <a:ext cx="2732040" cy="1736280"/>
                </a:xfrm>
                <a:prstGeom prst="rect">
                  <a:avLst/>
                </a:prstGeom>
                <a:ln w="0">
                  <a:noFill/>
                </a:ln>
              </p:spPr>
            </p:pic>
          </p:grpSp>
          <p:sp>
            <p:nvSpPr>
              <p:cNvPr id="86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grpSp>
            <p:nvGrpSpPr>
              <p:cNvPr id="865" name=""/>
              <p:cNvGrpSpPr/>
              <p:nvPr/>
            </p:nvGrpSpPr>
            <p:grpSpPr>
              <a:xfrm>
                <a:off x="6237360" y="2319480"/>
                <a:ext cx="2330280" cy="360"/>
                <a:chOff x="6237360" y="2319480"/>
                <a:chExt cx="2330280" cy="360"/>
              </a:xfrm>
            </p:grpSpPr>
            <p:sp>
              <p:nvSpPr>
                <p:cNvPr id="866"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txBox="1"/>
                <p:nvPr/>
              </p:nvSpPr>
              <p:spPr>
                <a:xfrm>
                  <a:off x="6237360" y="2319480"/>
                  <a:ext cx="2330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
              <p:cNvGrpSpPr/>
              <p:nvPr/>
            </p:nvGrpSpPr>
            <p:grpSpPr>
              <a:xfrm>
                <a:off x="8568000" y="1844640"/>
                <a:ext cx="360" cy="474480"/>
                <a:chOff x="8568000" y="1844640"/>
                <a:chExt cx="360" cy="474480"/>
              </a:xfrm>
            </p:grpSpPr>
            <p:sp>
              <p:nvSpPr>
                <p:cNvPr id="869"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txBox="1"/>
                <p:nvPr/>
              </p:nvSpPr>
              <p:spPr>
                <a:xfrm>
                  <a:off x="8568000" y="1844640"/>
                  <a:ext cx="360" cy="474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872"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4" name="组合 82"/>
          <p:cNvGrpSpPr/>
          <p:nvPr/>
        </p:nvGrpSpPr>
        <p:grpSpPr>
          <a:xfrm>
            <a:off x="657360" y="4894200"/>
            <a:ext cx="11555280" cy="1478160"/>
            <a:chOff x="657360" y="4894200"/>
            <a:chExt cx="11555280" cy="1478160"/>
          </a:xfrm>
        </p:grpSpPr>
        <p:sp>
          <p:nvSpPr>
            <p:cNvPr id="875"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8" name=""/>
          <p:cNvGrpSpPr/>
          <p:nvPr/>
        </p:nvGrpSpPr>
        <p:grpSpPr>
          <a:xfrm>
            <a:off x="635040" y="-120600"/>
            <a:ext cx="360" cy="2031840"/>
            <a:chOff x="635040" y="-120600"/>
            <a:chExt cx="360" cy="2031840"/>
          </a:xfrm>
        </p:grpSpPr>
        <p:sp>
          <p:nvSpPr>
            <p:cNvPr id="87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txBox="1"/>
            <p:nvPr/>
          </p:nvSpPr>
          <p:spPr>
            <a:xfrm>
              <a:off x="635040" y="-120600"/>
              <a:ext cx="360" cy="203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
          <p:cNvGrpSpPr/>
          <p:nvPr/>
        </p:nvGrpSpPr>
        <p:grpSpPr>
          <a:xfrm>
            <a:off x="657360" y="4827600"/>
            <a:ext cx="360" cy="2030400"/>
            <a:chOff x="657360" y="4827600"/>
            <a:chExt cx="360" cy="2030400"/>
          </a:xfrm>
        </p:grpSpPr>
        <p:sp>
          <p:nvSpPr>
            <p:cNvPr id="882"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txBox="1"/>
            <p:nvPr/>
          </p:nvSpPr>
          <p:spPr>
            <a:xfrm>
              <a:off x="657360" y="4827600"/>
              <a:ext cx="360" cy="2030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885" name="组合 2"/>
          <p:cNvGrpSpPr/>
          <p:nvPr/>
        </p:nvGrpSpPr>
        <p:grpSpPr>
          <a:xfrm>
            <a:off x="1981080" y="2548080"/>
            <a:ext cx="9126720" cy="3790800"/>
            <a:chOff x="1981080" y="2548080"/>
            <a:chExt cx="9126720" cy="3790800"/>
          </a:xfrm>
        </p:grpSpPr>
        <p:grpSp>
          <p:nvGrpSpPr>
            <p:cNvPr id="886" name="组合 7"/>
            <p:cNvGrpSpPr/>
            <p:nvPr/>
          </p:nvGrpSpPr>
          <p:grpSpPr>
            <a:xfrm>
              <a:off x="1981080" y="2950200"/>
              <a:ext cx="9126720" cy="3388680"/>
              <a:chOff x="1981080" y="2950200"/>
              <a:chExt cx="9126720" cy="3388680"/>
            </a:xfrm>
          </p:grpSpPr>
          <p:sp>
            <p:nvSpPr>
              <p:cNvPr id="887"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891"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892"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893" name="组合 1"/>
            <p:cNvGrpSpPr/>
            <p:nvPr/>
          </p:nvGrpSpPr>
          <p:grpSpPr>
            <a:xfrm>
              <a:off x="2083680" y="2548080"/>
              <a:ext cx="7102800" cy="1181880"/>
              <a:chOff x="2083680" y="2548080"/>
              <a:chExt cx="7102800" cy="1181880"/>
            </a:xfrm>
          </p:grpSpPr>
          <p:sp>
            <p:nvSpPr>
              <p:cNvPr id="894"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898" name="文本框 13"/>
              <p:cNvSpPr/>
              <p:nvPr/>
            </p:nvSpPr>
            <p:spPr>
              <a:xfrm>
                <a:off x="523188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899"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900" name="弦形 17"/>
              <p:cNvSpPr/>
              <p:nvPr/>
            </p:nvSpPr>
            <p:spPr>
              <a:xfrm>
                <a:off x="2083680" y="2548080"/>
                <a:ext cx="1171440" cy="1172520"/>
              </a:xfrm>
              <a:custGeom>
                <a:avLst/>
                <a:gdLst/>
                <a:ahLst/>
                <a:rect l="l" t="t" r="r" b="b"/>
                <a:pathLst>
                  <a:path w="1171444" h="1173190">
                    <a:moveTo>
                      <a:pt x="588727" y="1173182"/>
                    </a:moveTo>
                    <a:cubicBezTo>
                      <a:pt x="265242" y="1173182"/>
                      <a:pt x="3005" y="910554"/>
                      <a:pt x="3005" y="586587"/>
                    </a:cubicBezTo>
                    <a:cubicBezTo>
                      <a:pt x="3005" y="262620"/>
                      <a:pt x="265242" y="-8"/>
                      <a:pt x="588727" y="-8"/>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弦形 18"/>
              <p:cNvSpPr/>
              <p:nvPr/>
            </p:nvSpPr>
            <p:spPr>
              <a:xfrm rot="5400000">
                <a:off x="5047920" y="2550600"/>
                <a:ext cx="1147320" cy="1147680"/>
              </a:xfrm>
              <a:custGeom>
                <a:avLst/>
                <a:gdLst/>
                <a:ahLst/>
                <a:rect l="l" t="t" r="r" b="b"/>
                <a:pathLst>
                  <a:path w="1147789" h="1147635">
                    <a:moveTo>
                      <a:pt x="576834" y="1147627"/>
                    </a:moveTo>
                    <a:cubicBezTo>
                      <a:pt x="259881" y="1147627"/>
                      <a:pt x="2940" y="890720"/>
                      <a:pt x="2940" y="573810"/>
                    </a:cubicBezTo>
                    <a:cubicBezTo>
                      <a:pt x="2940" y="256900"/>
                      <a:pt x="259881" y="-7"/>
                      <a:pt x="576834" y="-7"/>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弦形 19"/>
              <p:cNvSpPr/>
              <p:nvPr/>
            </p:nvSpPr>
            <p:spPr>
              <a:xfrm rot="10800000">
                <a:off x="8013600" y="2557080"/>
                <a:ext cx="1172880" cy="1172520"/>
              </a:xfrm>
              <a:custGeom>
                <a:avLst/>
                <a:gdLst/>
                <a:ahLst/>
                <a:rect l="l" t="t" r="r" b="b"/>
                <a:pathLst>
                  <a:path w="1173032" h="1173190">
                    <a:moveTo>
                      <a:pt x="589521" y="1173182"/>
                    </a:moveTo>
                    <a:cubicBezTo>
                      <a:pt x="265597" y="1173182"/>
                      <a:pt x="3005" y="910554"/>
                      <a:pt x="3005" y="586587"/>
                    </a:cubicBezTo>
                    <a:cubicBezTo>
                      <a:pt x="3005" y="262620"/>
                      <a:pt x="265597" y="-8"/>
                      <a:pt x="589521" y="-8"/>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3"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905" name="弦形 7"/>
          <p:cNvSpPr/>
          <p:nvPr/>
        </p:nvSpPr>
        <p:spPr>
          <a:xfrm rot="17100000">
            <a:off x="4106520" y="530280"/>
            <a:ext cx="3417840" cy="3417840"/>
          </a:xfrm>
          <a:custGeom>
            <a:avLst/>
            <a:gdLst/>
            <a:ahLst/>
            <a:rect l="l" t="t" r="r" b="b"/>
            <a:pathLst>
              <a:path w="5383" h="5382">
                <a:moveTo>
                  <a:pt x="564" y="4340"/>
                </a:moveTo>
                <a:cubicBezTo>
                  <a:pt x="210" y="3885"/>
                  <a:pt x="-1" y="3313"/>
                  <a:pt x="-1" y="2691"/>
                </a:cubicBezTo>
                <a:cubicBezTo>
                  <a:pt x="-1" y="1205"/>
                  <a:pt x="1204" y="0"/>
                  <a:pt x="2690" y="0"/>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6" name=""/>
          <p:cNvGrpSpPr/>
          <p:nvPr/>
        </p:nvGrpSpPr>
        <p:grpSpPr>
          <a:xfrm>
            <a:off x="3517920" y="1239840"/>
            <a:ext cx="3529080" cy="3092400"/>
            <a:chOff x="3517920" y="1239840"/>
            <a:chExt cx="3529080" cy="3092400"/>
          </a:xfrm>
        </p:grpSpPr>
        <p:sp>
          <p:nvSpPr>
            <p:cNvPr id="907"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txBox="1"/>
            <p:nvPr/>
          </p:nvSpPr>
          <p:spPr>
            <a:xfrm>
              <a:off x="3517920" y="1239840"/>
              <a:ext cx="3529080" cy="309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grpSp>
        <p:nvGrpSpPr>
          <p:cNvPr id="910" name=""/>
          <p:cNvGrpSpPr/>
          <p:nvPr/>
        </p:nvGrpSpPr>
        <p:grpSpPr>
          <a:xfrm>
            <a:off x="1243080" y="5180040"/>
            <a:ext cx="2158920" cy="1440"/>
            <a:chOff x="1243080" y="5180040"/>
            <a:chExt cx="2158920" cy="1440"/>
          </a:xfrm>
        </p:grpSpPr>
        <p:sp>
          <p:nvSpPr>
            <p:cNvPr id="91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txBox="1"/>
            <p:nvPr/>
          </p:nvSpPr>
          <p:spPr>
            <a:xfrm>
              <a:off x="1243080" y="5180040"/>
              <a:ext cx="2158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8458200" y="5176800"/>
            <a:ext cx="2151000" cy="1800"/>
            <a:chOff x="8458200" y="5176800"/>
            <a:chExt cx="2151000" cy="1800"/>
          </a:xfrm>
        </p:grpSpPr>
        <p:sp>
          <p:nvSpPr>
            <p:cNvPr id="91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
            <p:cNvSpPr txBox="1"/>
            <p:nvPr/>
          </p:nvSpPr>
          <p:spPr>
            <a:xfrm>
              <a:off x="8458200" y="5176800"/>
              <a:ext cx="215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6"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组合 2"/>
          <p:cNvGrpSpPr/>
          <p:nvPr/>
        </p:nvGrpSpPr>
        <p:grpSpPr>
          <a:xfrm>
            <a:off x="1241280" y="3214440"/>
            <a:ext cx="2673360" cy="2911320"/>
            <a:chOff x="1241280" y="3214440"/>
            <a:chExt cx="2673360" cy="2911320"/>
          </a:xfrm>
        </p:grpSpPr>
        <p:sp>
          <p:nvSpPr>
            <p:cNvPr id="108" name="任意多边形 36"/>
            <p:cNvSpPr/>
            <p:nvPr/>
          </p:nvSpPr>
          <p:spPr>
            <a:xfrm rot="16200000">
              <a:off x="518040" y="3937320"/>
              <a:ext cx="2911320" cy="1465200"/>
            </a:xfrm>
            <a:custGeom>
              <a:avLst/>
              <a:gdLst/>
              <a:ahLst/>
              <a:rect l="l" t="t" r="r" b="b"/>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空心弧 9"/>
            <p:cNvSpPr/>
            <p:nvPr/>
          </p:nvSpPr>
          <p:spPr>
            <a:xfrm rot="5400000">
              <a:off x="1467360" y="3486600"/>
              <a:ext cx="2446200" cy="2448000"/>
            </a:xfrm>
            <a:custGeom>
              <a:avLst/>
              <a:gdLst/>
              <a:ahLst/>
              <a:rect l="l" t="t" r="r" b="b"/>
              <a:pathLst>
                <a:path w="21600" h="10800">
                  <a:moveTo>
                    <a:pt x="2590" y="10800"/>
                  </a:moveTo>
                  <a:cubicBezTo>
                    <a:pt x="2590" y="6266"/>
                    <a:pt x="6266" y="2590"/>
                    <a:pt x="10800" y="2590"/>
                  </a:cubicBezTo>
                  <a:cubicBezTo>
                    <a:pt x="15334" y="2590"/>
                    <a:pt x="19010" y="6266"/>
                    <a:pt x="19010" y="10800"/>
                  </a:cubicBezTo>
                  <a:lnTo>
                    <a:pt x="21600" y="10800"/>
                  </a:lnTo>
                  <a:cubicBezTo>
                    <a:pt x="21600" y="4835"/>
                    <a:pt x="16765" y="0"/>
                    <a:pt x="10800" y="0"/>
                  </a:cubicBezTo>
                  <a:cubicBezTo>
                    <a:pt x="4835" y="0"/>
                    <a:pt x="0" y="4835"/>
                    <a:pt x="0" y="10800"/>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112" name="组合 13"/>
          <p:cNvGrpSpPr/>
          <p:nvPr/>
        </p:nvGrpSpPr>
        <p:grpSpPr>
          <a:xfrm>
            <a:off x="4260960" y="2709720"/>
            <a:ext cx="6540480" cy="3922200"/>
            <a:chOff x="4260960" y="2709720"/>
            <a:chExt cx="6540480" cy="3922200"/>
          </a:xfrm>
        </p:grpSpPr>
        <p:sp>
          <p:nvSpPr>
            <p:cNvPr id="11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11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126"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127"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128"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129"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130"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131"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13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133"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134"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135" name="任意多边形 38"/>
            <p:cNvSpPr/>
            <p:nvPr/>
          </p:nvSpPr>
          <p:spPr>
            <a:xfrm>
              <a:off x="4260960" y="2709720"/>
              <a:ext cx="618840" cy="677880"/>
            </a:xfrm>
            <a:custGeom>
              <a:avLst/>
              <a:gdLst/>
              <a:ahLst/>
              <a:rect l="l" t="t" r="r" b="b"/>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137" name="组合 40"/>
          <p:cNvGrpSpPr/>
          <p:nvPr/>
        </p:nvGrpSpPr>
        <p:grpSpPr>
          <a:xfrm>
            <a:off x="201600" y="571680"/>
            <a:ext cx="11418840" cy="1322280"/>
            <a:chOff x="201600" y="571680"/>
            <a:chExt cx="11418840" cy="1322280"/>
          </a:xfrm>
        </p:grpSpPr>
        <p:sp>
          <p:nvSpPr>
            <p:cNvPr id="13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grpSp>
          <p:nvGrpSpPr>
            <p:cNvPr id="140" name=""/>
            <p:cNvGrpSpPr/>
            <p:nvPr/>
          </p:nvGrpSpPr>
          <p:grpSpPr>
            <a:xfrm>
              <a:off x="201600" y="1344600"/>
              <a:ext cx="2479680" cy="360"/>
              <a:chOff x="201600" y="1344600"/>
              <a:chExt cx="2479680" cy="360"/>
            </a:xfrm>
          </p:grpSpPr>
          <p:sp>
            <p:nvSpPr>
              <p:cNvPr id="141"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txBox="1"/>
              <p:nvPr/>
            </p:nvSpPr>
            <p:spPr>
              <a:xfrm>
                <a:off x="201600" y="1344600"/>
                <a:ext cx="247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grpSp>
        <p:nvGrpSpPr>
          <p:cNvPr id="918" name=""/>
          <p:cNvGrpSpPr/>
          <p:nvPr/>
        </p:nvGrpSpPr>
        <p:grpSpPr>
          <a:xfrm>
            <a:off x="866880" y="1603440"/>
            <a:ext cx="9729720" cy="360"/>
            <a:chOff x="866880" y="1603440"/>
            <a:chExt cx="9729720" cy="360"/>
          </a:xfrm>
        </p:grpSpPr>
        <p:sp>
          <p:nvSpPr>
            <p:cNvPr id="91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txBox="1"/>
            <p:nvPr/>
          </p:nvSpPr>
          <p:spPr>
            <a:xfrm>
              <a:off x="866880" y="1603440"/>
              <a:ext cx="972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1" name="组合 67"/>
          <p:cNvGrpSpPr/>
          <p:nvPr/>
        </p:nvGrpSpPr>
        <p:grpSpPr>
          <a:xfrm>
            <a:off x="601560" y="2168640"/>
            <a:ext cx="10942920" cy="4230720"/>
            <a:chOff x="601560" y="2168640"/>
            <a:chExt cx="10942920" cy="4230720"/>
          </a:xfrm>
        </p:grpSpPr>
        <p:grpSp>
          <p:nvGrpSpPr>
            <p:cNvPr id="922" name="组合 8"/>
            <p:cNvGrpSpPr/>
            <p:nvPr/>
          </p:nvGrpSpPr>
          <p:grpSpPr>
            <a:xfrm>
              <a:off x="601560" y="2855520"/>
              <a:ext cx="2408760" cy="2395080"/>
              <a:chOff x="601560" y="2855520"/>
              <a:chExt cx="2408760" cy="2395080"/>
            </a:xfrm>
          </p:grpSpPr>
          <p:sp>
            <p:nvSpPr>
              <p:cNvPr id="92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925" name="组合 9"/>
            <p:cNvGrpSpPr/>
            <p:nvPr/>
          </p:nvGrpSpPr>
          <p:grpSpPr>
            <a:xfrm>
              <a:off x="3442680" y="4004280"/>
              <a:ext cx="2412000" cy="2395080"/>
              <a:chOff x="3442680" y="4004280"/>
              <a:chExt cx="2412000" cy="2395080"/>
            </a:xfrm>
          </p:grpSpPr>
          <p:sp>
            <p:nvSpPr>
              <p:cNvPr id="92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928" name="组合 12"/>
            <p:cNvGrpSpPr/>
            <p:nvPr/>
          </p:nvGrpSpPr>
          <p:grpSpPr>
            <a:xfrm>
              <a:off x="6287760" y="2855520"/>
              <a:ext cx="2412000" cy="2395080"/>
              <a:chOff x="6287760" y="2855520"/>
              <a:chExt cx="2412000" cy="2395080"/>
            </a:xfrm>
          </p:grpSpPr>
          <p:sp>
            <p:nvSpPr>
              <p:cNvPr id="92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931" name="组合 15"/>
            <p:cNvGrpSpPr/>
            <p:nvPr/>
          </p:nvGrpSpPr>
          <p:grpSpPr>
            <a:xfrm>
              <a:off x="9132480" y="4004280"/>
              <a:ext cx="2412000" cy="2395080"/>
              <a:chOff x="9132480" y="4004280"/>
              <a:chExt cx="2412000" cy="2395080"/>
            </a:xfrm>
          </p:grpSpPr>
          <p:sp>
            <p:nvSpPr>
              <p:cNvPr id="93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grpSp>
          <p:nvGrpSpPr>
            <p:cNvPr id="934" name=""/>
            <p:cNvGrpSpPr/>
            <p:nvPr/>
          </p:nvGrpSpPr>
          <p:grpSpPr>
            <a:xfrm>
              <a:off x="1845720" y="2168640"/>
              <a:ext cx="2832480" cy="360"/>
              <a:chOff x="1845720" y="2168640"/>
              <a:chExt cx="2832480" cy="360"/>
            </a:xfrm>
          </p:grpSpPr>
          <p:sp>
            <p:nvSpPr>
              <p:cNvPr id="935"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txBox="1"/>
              <p:nvPr/>
            </p:nvSpPr>
            <p:spPr>
              <a:xfrm>
                <a:off x="1846080" y="2168640"/>
                <a:ext cx="283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
            <p:cNvGrpSpPr/>
            <p:nvPr/>
          </p:nvGrpSpPr>
          <p:grpSpPr>
            <a:xfrm>
              <a:off x="1846080" y="2168640"/>
              <a:ext cx="2880" cy="685800"/>
              <a:chOff x="1846080" y="2168640"/>
              <a:chExt cx="2880" cy="685800"/>
            </a:xfrm>
          </p:grpSpPr>
          <p:sp>
            <p:nvSpPr>
              <p:cNvPr id="938"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txBox="1"/>
              <p:nvPr/>
            </p:nvSpPr>
            <p:spPr>
              <a:xfrm>
                <a:off x="1846080" y="2168640"/>
                <a:ext cx="288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
            <p:cNvGrpSpPr/>
            <p:nvPr/>
          </p:nvGrpSpPr>
          <p:grpSpPr>
            <a:xfrm>
              <a:off x="1842840" y="5250240"/>
              <a:ext cx="360" cy="687240"/>
              <a:chOff x="1842840" y="5250240"/>
              <a:chExt cx="360" cy="687240"/>
            </a:xfrm>
          </p:grpSpPr>
          <p:sp>
            <p:nvSpPr>
              <p:cNvPr id="941"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txBox="1"/>
              <p:nvPr/>
            </p:nvSpPr>
            <p:spPr>
              <a:xfrm>
                <a:off x="1842840" y="5250240"/>
                <a:ext cx="360" cy="68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
            <p:cNvGrpSpPr/>
            <p:nvPr/>
          </p:nvGrpSpPr>
          <p:grpSpPr>
            <a:xfrm>
              <a:off x="1846080" y="5937480"/>
              <a:ext cx="1379520" cy="360"/>
              <a:chOff x="1846080" y="5937480"/>
              <a:chExt cx="1379520" cy="360"/>
            </a:xfrm>
          </p:grpSpPr>
          <p:sp>
            <p:nvSpPr>
              <p:cNvPr id="944"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txBox="1"/>
              <p:nvPr/>
            </p:nvSpPr>
            <p:spPr>
              <a:xfrm>
                <a:off x="1846080" y="5937480"/>
                <a:ext cx="1379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6" name=""/>
            <p:cNvGrpSpPr/>
            <p:nvPr/>
          </p:nvGrpSpPr>
          <p:grpSpPr>
            <a:xfrm>
              <a:off x="4677840" y="3146400"/>
              <a:ext cx="1408320" cy="360"/>
              <a:chOff x="4677840" y="3146400"/>
              <a:chExt cx="1408320" cy="360"/>
            </a:xfrm>
          </p:grpSpPr>
          <p:sp>
            <p:nvSpPr>
              <p:cNvPr id="94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txBox="1"/>
              <p:nvPr/>
            </p:nvSpPr>
            <p:spPr>
              <a:xfrm>
                <a:off x="4678200" y="3146400"/>
                <a:ext cx="1407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
            <p:cNvGrpSpPr/>
            <p:nvPr/>
          </p:nvGrpSpPr>
          <p:grpSpPr>
            <a:xfrm>
              <a:off x="4678200" y="3146400"/>
              <a:ext cx="360" cy="857160"/>
              <a:chOff x="4678200" y="3146400"/>
              <a:chExt cx="360" cy="857160"/>
            </a:xfrm>
          </p:grpSpPr>
          <p:sp>
            <p:nvSpPr>
              <p:cNvPr id="950"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txBox="1"/>
              <p:nvPr/>
            </p:nvSpPr>
            <p:spPr>
              <a:xfrm>
                <a:off x="4678200" y="3146400"/>
                <a:ext cx="360" cy="857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
            <p:cNvGrpSpPr/>
            <p:nvPr/>
          </p:nvGrpSpPr>
          <p:grpSpPr>
            <a:xfrm>
              <a:off x="7521840" y="6042240"/>
              <a:ext cx="1396800" cy="360"/>
              <a:chOff x="7521840" y="6042240"/>
              <a:chExt cx="1396800" cy="360"/>
            </a:xfrm>
          </p:grpSpPr>
          <p:sp>
            <p:nvSpPr>
              <p:cNvPr id="953"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txBox="1"/>
              <p:nvPr/>
            </p:nvSpPr>
            <p:spPr>
              <a:xfrm>
                <a:off x="7521840" y="6042240"/>
                <a:ext cx="139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
            <p:cNvGrpSpPr/>
            <p:nvPr/>
          </p:nvGrpSpPr>
          <p:grpSpPr>
            <a:xfrm>
              <a:off x="7532640" y="5264280"/>
              <a:ext cx="360" cy="777600"/>
              <a:chOff x="7532640" y="5264280"/>
              <a:chExt cx="360" cy="777600"/>
            </a:xfrm>
          </p:grpSpPr>
          <p:sp>
            <p:nvSpPr>
              <p:cNvPr id="956"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txBox="1"/>
              <p:nvPr/>
            </p:nvSpPr>
            <p:spPr>
              <a:xfrm>
                <a:off x="7532640" y="5264280"/>
                <a:ext cx="360" cy="77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8" name=""/>
            <p:cNvGrpSpPr/>
            <p:nvPr/>
          </p:nvGrpSpPr>
          <p:grpSpPr>
            <a:xfrm>
              <a:off x="6924240" y="2168640"/>
              <a:ext cx="3422880" cy="360"/>
              <a:chOff x="6924240" y="2168640"/>
              <a:chExt cx="3422880" cy="360"/>
            </a:xfrm>
          </p:grpSpPr>
          <p:sp>
            <p:nvSpPr>
              <p:cNvPr id="959"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txBox="1"/>
              <p:nvPr/>
            </p:nvSpPr>
            <p:spPr>
              <a:xfrm>
                <a:off x="6924600" y="2168640"/>
                <a:ext cx="3422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
            <p:cNvGrpSpPr/>
            <p:nvPr/>
          </p:nvGrpSpPr>
          <p:grpSpPr>
            <a:xfrm>
              <a:off x="10347480" y="2168640"/>
              <a:ext cx="360" cy="1622520"/>
              <a:chOff x="10347480" y="2168640"/>
              <a:chExt cx="360" cy="1622520"/>
            </a:xfrm>
          </p:grpSpPr>
          <p:sp>
            <p:nvSpPr>
              <p:cNvPr id="96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txBox="1"/>
              <p:nvPr/>
            </p:nvSpPr>
            <p:spPr>
              <a:xfrm>
                <a:off x="10347480" y="2168640"/>
                <a:ext cx="360" cy="1622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4" name="弦形 40"/>
            <p:cNvSpPr/>
            <p:nvPr/>
          </p:nvSpPr>
          <p:spPr>
            <a:xfrm rot="5400000">
              <a:off x="1629000" y="2650320"/>
              <a:ext cx="439560" cy="438120"/>
            </a:xfrm>
            <a:custGeom>
              <a:avLst/>
              <a:gdLst/>
              <a:ahLst/>
              <a:rect l="l" t="t" r="r" b="b"/>
              <a:pathLst>
                <a:path w="439796" h="438207">
                  <a:moveTo>
                    <a:pt x="220022" y="438206"/>
                  </a:moveTo>
                  <a:cubicBezTo>
                    <a:pt x="98576" y="438206"/>
                    <a:pt x="124" y="340110"/>
                    <a:pt x="124" y="219103"/>
                  </a:cubicBezTo>
                  <a:cubicBezTo>
                    <a:pt x="124" y="98096"/>
                    <a:pt x="98576" y="0"/>
                    <a:pt x="22002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弦形 43"/>
            <p:cNvSpPr/>
            <p:nvPr/>
          </p:nvSpPr>
          <p:spPr>
            <a:xfrm rot="5400000">
              <a:off x="4457880" y="3785400"/>
              <a:ext cx="438120" cy="439560"/>
            </a:xfrm>
            <a:custGeom>
              <a:avLst/>
              <a:gdLst/>
              <a:ahLst/>
              <a:rect l="l" t="t" r="r" b="b"/>
              <a:pathLst>
                <a:path w="438209" h="439795">
                  <a:moveTo>
                    <a:pt x="219229" y="439794"/>
                  </a:moveTo>
                  <a:cubicBezTo>
                    <a:pt x="98221" y="439794"/>
                    <a:pt x="125" y="341343"/>
                    <a:pt x="125" y="219897"/>
                  </a:cubicBezTo>
                  <a:cubicBezTo>
                    <a:pt x="125" y="98451"/>
                    <a:pt x="98221" y="0"/>
                    <a:pt x="2192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弦形 44"/>
            <p:cNvSpPr/>
            <p:nvPr/>
          </p:nvSpPr>
          <p:spPr>
            <a:xfrm rot="5400000">
              <a:off x="10117080" y="3775320"/>
              <a:ext cx="438120" cy="438120"/>
            </a:xfrm>
            <a:custGeom>
              <a:avLst/>
              <a:gdLst/>
              <a:ahLst/>
              <a:rect l="l" t="t" r="r" b="b"/>
              <a:pathLst>
                <a:path w="438209" h="438207">
                  <a:moveTo>
                    <a:pt x="219228" y="438206"/>
                  </a:moveTo>
                  <a:cubicBezTo>
                    <a:pt x="98220" y="438206"/>
                    <a:pt x="124" y="340110"/>
                    <a:pt x="124" y="219103"/>
                  </a:cubicBezTo>
                  <a:cubicBezTo>
                    <a:pt x="124" y="98096"/>
                    <a:pt x="98220" y="0"/>
                    <a:pt x="2192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弦形 45"/>
            <p:cNvSpPr/>
            <p:nvPr/>
          </p:nvSpPr>
          <p:spPr>
            <a:xfrm>
              <a:off x="6054840" y="2922480"/>
              <a:ext cx="439560" cy="438120"/>
            </a:xfrm>
            <a:custGeom>
              <a:avLst/>
              <a:gdLst/>
              <a:ahLst/>
              <a:rect l="l" t="t" r="r" b="b"/>
              <a:pathLst>
                <a:path w="439795" h="438209">
                  <a:moveTo>
                    <a:pt x="220021" y="438208"/>
                  </a:moveTo>
                  <a:cubicBezTo>
                    <a:pt x="98575" y="438208"/>
                    <a:pt x="124" y="340112"/>
                    <a:pt x="124" y="219104"/>
                  </a:cubicBezTo>
                  <a:cubicBezTo>
                    <a:pt x="124" y="98096"/>
                    <a:pt x="98575" y="0"/>
                    <a:pt x="22002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弦形 46"/>
            <p:cNvSpPr/>
            <p:nvPr/>
          </p:nvSpPr>
          <p:spPr>
            <a:xfrm rot="16200000">
              <a:off x="1639080" y="5043960"/>
              <a:ext cx="439560" cy="438120"/>
            </a:xfrm>
            <a:custGeom>
              <a:avLst/>
              <a:gdLst/>
              <a:ahLst/>
              <a:rect l="l" t="t" r="r" b="b"/>
              <a:pathLst>
                <a:path w="439796" h="438207">
                  <a:moveTo>
                    <a:pt x="220022" y="438206"/>
                  </a:moveTo>
                  <a:cubicBezTo>
                    <a:pt x="98576" y="438206"/>
                    <a:pt x="124" y="340110"/>
                    <a:pt x="124" y="219103"/>
                  </a:cubicBezTo>
                  <a:cubicBezTo>
                    <a:pt x="124" y="98096"/>
                    <a:pt x="98576" y="0"/>
                    <a:pt x="22002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弦形 47"/>
            <p:cNvSpPr/>
            <p:nvPr/>
          </p:nvSpPr>
          <p:spPr>
            <a:xfrm>
              <a:off x="3225600" y="5718600"/>
              <a:ext cx="438120" cy="438120"/>
            </a:xfrm>
            <a:custGeom>
              <a:avLst/>
              <a:gdLst/>
              <a:ahLst/>
              <a:rect l="l" t="t" r="r" b="b"/>
              <a:pathLst>
                <a:path w="438207" h="438209">
                  <a:moveTo>
                    <a:pt x="219227" y="438208"/>
                  </a:moveTo>
                  <a:cubicBezTo>
                    <a:pt x="98220" y="438208"/>
                    <a:pt x="124" y="340112"/>
                    <a:pt x="124" y="219104"/>
                  </a:cubicBezTo>
                  <a:cubicBezTo>
                    <a:pt x="124" y="98096"/>
                    <a:pt x="98220" y="0"/>
                    <a:pt x="2192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弦形 48"/>
            <p:cNvSpPr/>
            <p:nvPr/>
          </p:nvSpPr>
          <p:spPr>
            <a:xfrm>
              <a:off x="8918640" y="5823360"/>
              <a:ext cx="439560" cy="438120"/>
            </a:xfrm>
            <a:custGeom>
              <a:avLst/>
              <a:gdLst/>
              <a:ahLst/>
              <a:rect l="l" t="t" r="r" b="b"/>
              <a:pathLst>
                <a:path w="439795" h="438209">
                  <a:moveTo>
                    <a:pt x="220021" y="438208"/>
                  </a:moveTo>
                  <a:cubicBezTo>
                    <a:pt x="98575" y="438208"/>
                    <a:pt x="124" y="340112"/>
                    <a:pt x="124" y="219104"/>
                  </a:cubicBezTo>
                  <a:cubicBezTo>
                    <a:pt x="124" y="98096"/>
                    <a:pt x="98575" y="0"/>
                    <a:pt x="22002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弦形 49"/>
            <p:cNvSpPr/>
            <p:nvPr/>
          </p:nvSpPr>
          <p:spPr>
            <a:xfrm rot="16200000">
              <a:off x="7315200" y="5043240"/>
              <a:ext cx="439560" cy="439560"/>
            </a:xfrm>
            <a:custGeom>
              <a:avLst/>
              <a:gdLst/>
              <a:ahLst/>
              <a:rect l="l" t="t" r="r" b="b"/>
              <a:pathLst>
                <a:path w="439796" h="439795">
                  <a:moveTo>
                    <a:pt x="220022" y="439794"/>
                  </a:moveTo>
                  <a:cubicBezTo>
                    <a:pt x="98576" y="439794"/>
                    <a:pt x="124" y="341343"/>
                    <a:pt x="124" y="219897"/>
                  </a:cubicBezTo>
                  <a:cubicBezTo>
                    <a:pt x="124" y="98451"/>
                    <a:pt x="98576" y="0"/>
                    <a:pt x="22002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973"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974"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975"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976"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grpSp>
        <p:nvGrpSpPr>
          <p:cNvPr id="978" name=""/>
          <p:cNvGrpSpPr/>
          <p:nvPr/>
        </p:nvGrpSpPr>
        <p:grpSpPr>
          <a:xfrm>
            <a:off x="866880" y="1603440"/>
            <a:ext cx="9729720" cy="360"/>
            <a:chOff x="866880" y="1603440"/>
            <a:chExt cx="9729720" cy="360"/>
          </a:xfrm>
        </p:grpSpPr>
        <p:sp>
          <p:nvSpPr>
            <p:cNvPr id="97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a:off x="866880" y="1603440"/>
              <a:ext cx="972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
          <p:cNvGrpSpPr/>
          <p:nvPr/>
        </p:nvGrpSpPr>
        <p:grpSpPr>
          <a:xfrm>
            <a:off x="1158840" y="4299120"/>
            <a:ext cx="4152960" cy="360"/>
            <a:chOff x="1158840" y="4299120"/>
            <a:chExt cx="4152960" cy="360"/>
          </a:xfrm>
        </p:grpSpPr>
        <p:sp>
          <p:nvSpPr>
            <p:cNvPr id="982"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txBox="1"/>
            <p:nvPr/>
          </p:nvSpPr>
          <p:spPr>
            <a:xfrm>
              <a:off x="1158840" y="4299120"/>
              <a:ext cx="4152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
          <p:cNvGrpSpPr/>
          <p:nvPr/>
        </p:nvGrpSpPr>
        <p:grpSpPr>
          <a:xfrm>
            <a:off x="5819760" y="2443320"/>
            <a:ext cx="360" cy="1347480"/>
            <a:chOff x="5819760" y="2443320"/>
            <a:chExt cx="360" cy="1347480"/>
          </a:xfrm>
        </p:grpSpPr>
        <p:sp>
          <p:nvSpPr>
            <p:cNvPr id="985"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txBox="1"/>
            <p:nvPr/>
          </p:nvSpPr>
          <p:spPr>
            <a:xfrm>
              <a:off x="5819760" y="2443320"/>
              <a:ext cx="360" cy="1347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1</a:t>
            </a:r>
            <a:endParaRPr b="0" lang="en-US" sz="5400" spc="-1" strike="noStrike">
              <a:solidFill>
                <a:srgbClr val="000000"/>
              </a:solidFill>
              <a:latin typeface="Arial"/>
            </a:endParaRPr>
          </a:p>
        </p:txBody>
      </p:sp>
      <p:sp>
        <p:nvSpPr>
          <p:cNvPr id="988"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2</a:t>
            </a:r>
            <a:endParaRPr b="0" lang="en-US" sz="5400" spc="-1" strike="noStrike">
              <a:solidFill>
                <a:srgbClr val="000000"/>
              </a:solidFill>
              <a:latin typeface="Arial"/>
            </a:endParaRPr>
          </a:p>
        </p:txBody>
      </p:sp>
      <p:sp>
        <p:nvSpPr>
          <p:cNvPr id="989"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3</a:t>
            </a:r>
            <a:endParaRPr b="0" lang="en-US" sz="5400" spc="-1" strike="noStrike">
              <a:solidFill>
                <a:srgbClr val="000000"/>
              </a:solidFill>
              <a:latin typeface="Arial"/>
            </a:endParaRPr>
          </a:p>
        </p:txBody>
      </p:sp>
      <p:sp>
        <p:nvSpPr>
          <p:cNvPr id="990"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4</a:t>
            </a:r>
            <a:endParaRPr b="0" lang="en-US" sz="5400" spc="-1" strike="noStrike">
              <a:solidFill>
                <a:srgbClr val="000000"/>
              </a:solidFill>
              <a:latin typeface="Arial"/>
            </a:endParaRPr>
          </a:p>
        </p:txBody>
      </p:sp>
      <p:sp>
        <p:nvSpPr>
          <p:cNvPr id="991"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992"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993"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994"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grpSp>
        <p:nvGrpSpPr>
          <p:cNvPr id="995" name=""/>
          <p:cNvGrpSpPr/>
          <p:nvPr/>
        </p:nvGrpSpPr>
        <p:grpSpPr>
          <a:xfrm>
            <a:off x="6326280" y="4313160"/>
            <a:ext cx="4270320" cy="1800"/>
            <a:chOff x="6326280" y="4313160"/>
            <a:chExt cx="4270320" cy="1800"/>
          </a:xfrm>
        </p:grpSpPr>
        <p:sp>
          <p:nvSpPr>
            <p:cNvPr id="996"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7" name=""/>
            <p:cNvSpPr txBox="1"/>
            <p:nvPr/>
          </p:nvSpPr>
          <p:spPr>
            <a:xfrm>
              <a:off x="6326280" y="4313160"/>
              <a:ext cx="42703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8" name=""/>
          <p:cNvGrpSpPr/>
          <p:nvPr/>
        </p:nvGrpSpPr>
        <p:grpSpPr>
          <a:xfrm>
            <a:off x="5819760" y="4805280"/>
            <a:ext cx="360" cy="1438200"/>
            <a:chOff x="5819760" y="4805280"/>
            <a:chExt cx="360" cy="1438200"/>
          </a:xfrm>
        </p:grpSpPr>
        <p:sp>
          <p:nvSpPr>
            <p:cNvPr id="9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txBox="1"/>
            <p:nvPr/>
          </p:nvSpPr>
          <p:spPr>
            <a:xfrm>
              <a:off x="5819760" y="4805280"/>
              <a:ext cx="360" cy="1438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1"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grpSp>
        <p:nvGrpSpPr>
          <p:cNvPr id="1007" name=""/>
          <p:cNvGrpSpPr/>
          <p:nvPr/>
        </p:nvGrpSpPr>
        <p:grpSpPr>
          <a:xfrm>
            <a:off x="866880" y="1603440"/>
            <a:ext cx="9729720" cy="360"/>
            <a:chOff x="866880" y="1603440"/>
            <a:chExt cx="9729720" cy="360"/>
          </a:xfrm>
        </p:grpSpPr>
        <p:sp>
          <p:nvSpPr>
            <p:cNvPr id="1008"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txBox="1"/>
            <p:nvPr/>
          </p:nvSpPr>
          <p:spPr>
            <a:xfrm>
              <a:off x="866880" y="1603440"/>
              <a:ext cx="972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组合 39"/>
          <p:cNvGrpSpPr/>
          <p:nvPr/>
        </p:nvGrpSpPr>
        <p:grpSpPr>
          <a:xfrm>
            <a:off x="992160" y="2509920"/>
            <a:ext cx="3235320" cy="1982160"/>
            <a:chOff x="992160" y="2509920"/>
            <a:chExt cx="3235320" cy="1982160"/>
          </a:xfrm>
        </p:grpSpPr>
        <p:sp>
          <p:nvSpPr>
            <p:cNvPr id="101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101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1013" name="Freeform 96"/>
          <p:cNvSpPr/>
          <p:nvPr/>
        </p:nvSpPr>
        <p:spPr>
          <a:xfrm>
            <a:off x="5313240" y="3720960"/>
            <a:ext cx="1262160" cy="784440"/>
          </a:xfrm>
          <a:custGeom>
            <a:avLst/>
            <a:gdLst/>
            <a:ahLst/>
            <a:rect l="l" t="t" r="r" b="b"/>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61"/>
          <p:cNvSpPr/>
          <p:nvPr/>
        </p:nvSpPr>
        <p:spPr>
          <a:xfrm>
            <a:off x="9231480" y="2217600"/>
            <a:ext cx="920520" cy="72720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61"/>
          <p:cNvSpPr/>
          <p:nvPr/>
        </p:nvSpPr>
        <p:spPr>
          <a:xfrm>
            <a:off x="9231480" y="4554360"/>
            <a:ext cx="920520" cy="72576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61"/>
          <p:cNvSpPr/>
          <p:nvPr/>
        </p:nvSpPr>
        <p:spPr>
          <a:xfrm>
            <a:off x="9231480" y="3386160"/>
            <a:ext cx="920520" cy="72720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grpSp>
        <p:nvGrpSpPr>
          <p:cNvPr id="1018" name=""/>
          <p:cNvGrpSpPr/>
          <p:nvPr/>
        </p:nvGrpSpPr>
        <p:grpSpPr>
          <a:xfrm>
            <a:off x="992160" y="5721480"/>
            <a:ext cx="2906640" cy="360"/>
            <a:chOff x="992160" y="5721480"/>
            <a:chExt cx="2906640" cy="360"/>
          </a:xfrm>
        </p:grpSpPr>
        <p:sp>
          <p:nvSpPr>
            <p:cNvPr id="1019"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txBox="1"/>
            <p:nvPr/>
          </p:nvSpPr>
          <p:spPr>
            <a:xfrm>
              <a:off x="992160" y="5721480"/>
              <a:ext cx="2906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1" name="组合 69"/>
          <p:cNvGrpSpPr/>
          <p:nvPr/>
        </p:nvGrpSpPr>
        <p:grpSpPr>
          <a:xfrm>
            <a:off x="7086600" y="2295360"/>
            <a:ext cx="1628640" cy="3634200"/>
            <a:chOff x="7086600" y="2295360"/>
            <a:chExt cx="1628640" cy="3634200"/>
          </a:xfrm>
        </p:grpSpPr>
        <p:grpSp>
          <p:nvGrpSpPr>
            <p:cNvPr id="1022" name=""/>
            <p:cNvGrpSpPr/>
            <p:nvPr/>
          </p:nvGrpSpPr>
          <p:grpSpPr>
            <a:xfrm>
              <a:off x="7619760" y="2295360"/>
              <a:ext cx="360" cy="3633840"/>
              <a:chOff x="7619760" y="2295360"/>
              <a:chExt cx="360" cy="3633840"/>
            </a:xfrm>
          </p:grpSpPr>
          <p:sp>
            <p:nvSpPr>
              <p:cNvPr id="1023"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txBox="1"/>
              <p:nvPr/>
            </p:nvSpPr>
            <p:spPr>
              <a:xfrm>
                <a:off x="7619760" y="2295360"/>
                <a:ext cx="360" cy="363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5" name=""/>
            <p:cNvGrpSpPr/>
            <p:nvPr/>
          </p:nvGrpSpPr>
          <p:grpSpPr>
            <a:xfrm>
              <a:off x="7086600" y="4111560"/>
              <a:ext cx="533160" cy="1440"/>
              <a:chOff x="7086600" y="4111560"/>
              <a:chExt cx="533160" cy="1440"/>
            </a:xfrm>
          </p:grpSpPr>
          <p:sp>
            <p:nvSpPr>
              <p:cNvPr id="1026"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7" name=""/>
              <p:cNvSpPr txBox="1"/>
              <p:nvPr/>
            </p:nvSpPr>
            <p:spPr>
              <a:xfrm>
                <a:off x="7086600" y="4111560"/>
                <a:ext cx="5331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
            <p:cNvGrpSpPr/>
            <p:nvPr/>
          </p:nvGrpSpPr>
          <p:grpSpPr>
            <a:xfrm>
              <a:off x="7619760" y="2295360"/>
              <a:ext cx="1095480" cy="360"/>
              <a:chOff x="7619760" y="2295360"/>
              <a:chExt cx="1095480" cy="360"/>
            </a:xfrm>
          </p:grpSpPr>
          <p:sp>
            <p:nvSpPr>
              <p:cNvPr id="102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txBox="1"/>
              <p:nvPr/>
            </p:nvSpPr>
            <p:spPr>
              <a:xfrm>
                <a:off x="7619760" y="2295360"/>
                <a:ext cx="10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
            <p:cNvGrpSpPr/>
            <p:nvPr/>
          </p:nvGrpSpPr>
          <p:grpSpPr>
            <a:xfrm>
              <a:off x="7619760" y="3506400"/>
              <a:ext cx="1095480" cy="360"/>
              <a:chOff x="7619760" y="3506400"/>
              <a:chExt cx="1095480" cy="360"/>
            </a:xfrm>
          </p:grpSpPr>
          <p:sp>
            <p:nvSpPr>
              <p:cNvPr id="1032"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txBox="1"/>
              <p:nvPr/>
            </p:nvSpPr>
            <p:spPr>
              <a:xfrm>
                <a:off x="7619760" y="3506400"/>
                <a:ext cx="10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
            <p:cNvGrpSpPr/>
            <p:nvPr/>
          </p:nvGrpSpPr>
          <p:grpSpPr>
            <a:xfrm>
              <a:off x="7619760" y="4717800"/>
              <a:ext cx="1095480" cy="360"/>
              <a:chOff x="7619760" y="4717800"/>
              <a:chExt cx="1095480" cy="360"/>
            </a:xfrm>
          </p:grpSpPr>
          <p:sp>
            <p:nvSpPr>
              <p:cNvPr id="1035"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txBox="1"/>
              <p:nvPr/>
            </p:nvSpPr>
            <p:spPr>
              <a:xfrm>
                <a:off x="7619760" y="4717800"/>
                <a:ext cx="10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
            <p:cNvGrpSpPr/>
            <p:nvPr/>
          </p:nvGrpSpPr>
          <p:grpSpPr>
            <a:xfrm>
              <a:off x="7619760" y="5929200"/>
              <a:ext cx="1095480" cy="360"/>
              <a:chOff x="7619760" y="5929200"/>
              <a:chExt cx="1095480" cy="360"/>
            </a:xfrm>
          </p:grpSpPr>
          <p:sp>
            <p:nvSpPr>
              <p:cNvPr id="1038"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txBox="1"/>
              <p:nvPr/>
            </p:nvSpPr>
            <p:spPr>
              <a:xfrm>
                <a:off x="7619760" y="5929200"/>
                <a:ext cx="10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0"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0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A841-B9A0-403A-B121-FBF56E018F6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grpSp>
        <p:nvGrpSpPr>
          <p:cNvPr id="1052" name=""/>
          <p:cNvGrpSpPr/>
          <p:nvPr/>
        </p:nvGrpSpPr>
        <p:grpSpPr>
          <a:xfrm>
            <a:off x="8186760" y="3489480"/>
            <a:ext cx="1440" cy="812520"/>
            <a:chOff x="8186760" y="3489480"/>
            <a:chExt cx="1440" cy="812520"/>
          </a:xfrm>
        </p:grpSpPr>
        <p:sp>
          <p:nvSpPr>
            <p:cNvPr id="1053"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txBox="1"/>
            <p:nvPr/>
          </p:nvSpPr>
          <p:spPr>
            <a:xfrm>
              <a:off x="8186760" y="3489480"/>
              <a:ext cx="1440" cy="812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1056" name="文本框 10"/>
          <p:cNvSpPr/>
          <p:nvPr/>
        </p:nvSpPr>
        <p:spPr>
          <a:xfrm>
            <a:off x="8251200" y="35020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57"/>
          <p:cNvSpPr/>
          <p:nvPr/>
        </p:nvSpPr>
        <p:spPr>
          <a:xfrm>
            <a:off x="990720" y="2495520"/>
            <a:ext cx="618840" cy="677880"/>
          </a:xfrm>
          <a:custGeom>
            <a:avLst/>
            <a:gdLst/>
            <a:ahLst/>
            <a:rect l="l" t="t" r="r" b="b"/>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48"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59"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60"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61"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62"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63"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64"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65"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66"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67"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68"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空心弧 53"/>
          <p:cNvSpPr/>
          <p:nvPr/>
        </p:nvSpPr>
        <p:spPr>
          <a:xfrm rot="5400000">
            <a:off x="8487360" y="2877120"/>
            <a:ext cx="2446200" cy="2448000"/>
          </a:xfrm>
          <a:custGeom>
            <a:avLst/>
            <a:gdLst/>
            <a:ahLst/>
            <a:rect l="l" t="t" r="r" b="b"/>
            <a:pathLst>
              <a:path w="21600" h="10800">
                <a:moveTo>
                  <a:pt x="2471" y="10800"/>
                </a:moveTo>
                <a:cubicBezTo>
                  <a:pt x="2471" y="6200"/>
                  <a:pt x="6200" y="2471"/>
                  <a:pt x="10800" y="2471"/>
                </a:cubicBezTo>
                <a:cubicBezTo>
                  <a:pt x="15400" y="2471"/>
                  <a:pt x="19129" y="6200"/>
                  <a:pt x="19129" y="10800"/>
                </a:cubicBezTo>
                <a:lnTo>
                  <a:pt x="21600" y="10800"/>
                </a:lnTo>
                <a:cubicBezTo>
                  <a:pt x="21600" y="4835"/>
                  <a:pt x="16765" y="0"/>
                  <a:pt x="10800" y="0"/>
                </a:cubicBezTo>
                <a:cubicBezTo>
                  <a:pt x="4835" y="0"/>
                  <a:pt x="0" y="4835"/>
                  <a:pt x="0" y="10800"/>
                </a:cubicBezTo>
                <a:close/>
              </a:path>
            </a:pathLst>
          </a:custGeom>
          <a:solidFill>
            <a:srgbClr val="fe5a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71"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72" name="任意多边形 34"/>
          <p:cNvSpPr/>
          <p:nvPr/>
        </p:nvSpPr>
        <p:spPr>
          <a:xfrm rot="16200000">
            <a:off x="7526160" y="3395160"/>
            <a:ext cx="2911320" cy="1463760"/>
          </a:xfrm>
          <a:custGeom>
            <a:avLst/>
            <a:gdLst/>
            <a:ahLst/>
            <a:rect l="l" t="t" r="r" b="b"/>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36"/>
          <p:cNvGrpSpPr/>
          <p:nvPr/>
        </p:nvGrpSpPr>
        <p:grpSpPr>
          <a:xfrm>
            <a:off x="201600" y="571680"/>
            <a:ext cx="11417400" cy="1322280"/>
            <a:chOff x="201600" y="571680"/>
            <a:chExt cx="11417400" cy="1322280"/>
          </a:xfrm>
        </p:grpSpPr>
        <p:sp>
          <p:nvSpPr>
            <p:cNvPr id="174"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grpSp>
          <p:nvGrpSpPr>
            <p:cNvPr id="176" name=""/>
            <p:cNvGrpSpPr/>
            <p:nvPr/>
          </p:nvGrpSpPr>
          <p:grpSpPr>
            <a:xfrm>
              <a:off x="201600" y="1344600"/>
              <a:ext cx="2479680" cy="360"/>
              <a:chOff x="201600" y="1344600"/>
              <a:chExt cx="2479680" cy="360"/>
            </a:xfrm>
          </p:grpSpPr>
          <p:sp>
            <p:nvSpPr>
              <p:cNvPr id="177"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txBox="1"/>
              <p:nvPr/>
            </p:nvSpPr>
            <p:spPr>
              <a:xfrm>
                <a:off x="201600" y="1344600"/>
                <a:ext cx="247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80"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82" name="弦形 7"/>
          <p:cNvSpPr/>
          <p:nvPr/>
        </p:nvSpPr>
        <p:spPr>
          <a:xfrm rot="17100000">
            <a:off x="4106520" y="530280"/>
            <a:ext cx="3417840" cy="3417840"/>
          </a:xfrm>
          <a:custGeom>
            <a:avLst/>
            <a:gdLst/>
            <a:ahLst/>
            <a:rect l="l" t="t" r="r" b="b"/>
            <a:pathLst>
              <a:path w="5383" h="5382">
                <a:moveTo>
                  <a:pt x="517" y="4277"/>
                </a:moveTo>
                <a:cubicBezTo>
                  <a:pt x="192" y="3833"/>
                  <a:pt x="0" y="3285"/>
                  <a:pt x="0" y="2692"/>
                </a:cubicBezTo>
                <a:cubicBezTo>
                  <a:pt x="0" y="1206"/>
                  <a:pt x="1205" y="1"/>
                  <a:pt x="2691" y="1"/>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3517920" y="1239840"/>
            <a:ext cx="3595680" cy="3211560"/>
            <a:chOff x="3517920" y="1239840"/>
            <a:chExt cx="3595680" cy="3211560"/>
          </a:xfrm>
        </p:grpSpPr>
        <p:sp>
          <p:nvSpPr>
            <p:cNvPr id="184"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txBox="1"/>
            <p:nvPr/>
          </p:nvSpPr>
          <p:spPr>
            <a:xfrm>
              <a:off x="3517920" y="1239840"/>
              <a:ext cx="3595680" cy="3211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grpSp>
        <p:nvGrpSpPr>
          <p:cNvPr id="187" name=""/>
          <p:cNvGrpSpPr/>
          <p:nvPr/>
        </p:nvGrpSpPr>
        <p:grpSpPr>
          <a:xfrm>
            <a:off x="1243080" y="5180040"/>
            <a:ext cx="2158920" cy="1440"/>
            <a:chOff x="1243080" y="5180040"/>
            <a:chExt cx="2158920" cy="1440"/>
          </a:xfrm>
        </p:grpSpPr>
        <p:sp>
          <p:nvSpPr>
            <p:cNvPr id="188"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txBox="1"/>
            <p:nvPr/>
          </p:nvSpPr>
          <p:spPr>
            <a:xfrm>
              <a:off x="1243080" y="5180040"/>
              <a:ext cx="2158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8458200" y="5176800"/>
            <a:ext cx="2151000" cy="1800"/>
            <a:chOff x="8458200" y="5176800"/>
            <a:chExt cx="2151000" cy="1800"/>
          </a:xfrm>
        </p:grpSpPr>
        <p:sp>
          <p:nvSpPr>
            <p:cNvPr id="191"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txBox="1"/>
            <p:nvPr/>
          </p:nvSpPr>
          <p:spPr>
            <a:xfrm>
              <a:off x="8458200" y="5176800"/>
              <a:ext cx="2151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组合 47"/>
          <p:cNvGrpSpPr/>
          <p:nvPr/>
        </p:nvGrpSpPr>
        <p:grpSpPr>
          <a:xfrm>
            <a:off x="1255320" y="285840"/>
            <a:ext cx="9183960" cy="3917520"/>
            <a:chOff x="1255320" y="285840"/>
            <a:chExt cx="9183960" cy="3917520"/>
          </a:xfrm>
        </p:grpSpPr>
        <p:sp>
          <p:nvSpPr>
            <p:cNvPr id="195"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96" name="Freeform 60"/>
            <p:cNvSpPr/>
            <p:nvPr/>
          </p:nvSpPr>
          <p:spPr>
            <a:xfrm>
              <a:off x="8170560" y="2134800"/>
              <a:ext cx="481320" cy="42516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1"/>
            <p:cNvSpPr/>
            <p:nvPr/>
          </p:nvSpPr>
          <p:spPr>
            <a:xfrm>
              <a:off x="1464840" y="1338840"/>
              <a:ext cx="457200" cy="4204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
            <p:cNvGrpSpPr/>
            <p:nvPr/>
          </p:nvGrpSpPr>
          <p:grpSpPr>
            <a:xfrm>
              <a:off x="1376280" y="3457800"/>
              <a:ext cx="9063000" cy="360"/>
              <a:chOff x="1376280" y="3457800"/>
              <a:chExt cx="9063000" cy="360"/>
            </a:xfrm>
          </p:grpSpPr>
          <p:sp>
            <p:nvSpPr>
              <p:cNvPr id="199"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1376280" y="3457800"/>
                <a:ext cx="906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202"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0"/>
                    <a:pt x="10800" y="320"/>
                  </a:cubicBezTo>
                  <a:lnTo>
                    <a:pt x="10800" y="10480"/>
                  </a:lnTo>
                  <a:cubicBezTo>
                    <a:pt x="10800" y="10640"/>
                    <a:pt x="16200" y="10800"/>
                    <a:pt x="21600" y="10800"/>
                  </a:cubicBezTo>
                  <a:cubicBezTo>
                    <a:pt x="16200" y="10800"/>
                    <a:pt x="10800" y="10960"/>
                    <a:pt x="10800" y="11120"/>
                  </a:cubicBezTo>
                  <a:lnTo>
                    <a:pt x="10800" y="21280"/>
                  </a:lnTo>
                  <a:cubicBezTo>
                    <a:pt x="10800" y="2144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
            <p:cNvGrpSpPr/>
            <p:nvPr/>
          </p:nvGrpSpPr>
          <p:grpSpPr>
            <a:xfrm>
              <a:off x="3208320" y="2678040"/>
              <a:ext cx="5430600" cy="360"/>
              <a:chOff x="3208320" y="2678040"/>
              <a:chExt cx="5430600" cy="360"/>
            </a:xfrm>
          </p:grpSpPr>
          <p:sp>
            <p:nvSpPr>
              <p:cNvPr id="208"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txBox="1"/>
              <p:nvPr/>
            </p:nvSpPr>
            <p:spPr>
              <a:xfrm>
                <a:off x="3208320" y="2678040"/>
                <a:ext cx="54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0"/>
                    <a:pt x="10800" y="179"/>
                  </a:cubicBezTo>
                  <a:lnTo>
                    <a:pt x="10800" y="10621"/>
                  </a:lnTo>
                  <a:cubicBezTo>
                    <a:pt x="10800" y="10711"/>
                    <a:pt x="16200" y="10800"/>
                    <a:pt x="21600" y="10800"/>
                  </a:cubicBezTo>
                  <a:cubicBezTo>
                    <a:pt x="16200" y="10800"/>
                    <a:pt x="10800" y="10890"/>
                    <a:pt x="10800" y="10979"/>
                  </a:cubicBezTo>
                  <a:lnTo>
                    <a:pt x="10800" y="21421"/>
                  </a:lnTo>
                  <a:cubicBezTo>
                    <a:pt x="10800" y="21511"/>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1523880" y="1881360"/>
              <a:ext cx="7115040" cy="360"/>
              <a:chOff x="1523880" y="1881360"/>
              <a:chExt cx="7115040" cy="360"/>
            </a:xfrm>
          </p:grpSpPr>
          <p:sp>
            <p:nvSpPr>
              <p:cNvPr id="212"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txBox="1"/>
              <p:nvPr/>
            </p:nvSpPr>
            <p:spPr>
              <a:xfrm>
                <a:off x="1523880" y="1881360"/>
                <a:ext cx="711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215"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216" name="组合 50"/>
          <p:cNvGrpSpPr/>
          <p:nvPr/>
        </p:nvGrpSpPr>
        <p:grpSpPr>
          <a:xfrm>
            <a:off x="484200" y="4286160"/>
            <a:ext cx="11707920" cy="2205000"/>
            <a:chOff x="484200" y="4286160"/>
            <a:chExt cx="11707920" cy="2205000"/>
          </a:xfrm>
        </p:grpSpPr>
        <p:sp>
          <p:nvSpPr>
            <p:cNvPr id="217"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219"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grpSp>
        <p:nvGrpSpPr>
          <p:cNvPr id="220" name=""/>
          <p:cNvGrpSpPr/>
          <p:nvPr/>
        </p:nvGrpSpPr>
        <p:grpSpPr>
          <a:xfrm>
            <a:off x="11568240" y="-120600"/>
            <a:ext cx="1440" cy="7181640"/>
            <a:chOff x="11568240" y="-120600"/>
            <a:chExt cx="1440" cy="7181640"/>
          </a:xfrm>
        </p:grpSpPr>
        <p:sp>
          <p:nvSpPr>
            <p:cNvPr id="221"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组合 16"/>
          <p:cNvGrpSpPr/>
          <p:nvPr/>
        </p:nvGrpSpPr>
        <p:grpSpPr>
          <a:xfrm>
            <a:off x="546120" y="401760"/>
            <a:ext cx="11646000" cy="1846080"/>
            <a:chOff x="546120" y="401760"/>
            <a:chExt cx="11646000" cy="1846080"/>
          </a:xfrm>
        </p:grpSpPr>
        <p:sp>
          <p:nvSpPr>
            <p:cNvPr id="230"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grpSp>
        <p:nvGrpSpPr>
          <p:cNvPr id="232" name=""/>
          <p:cNvGrpSpPr/>
          <p:nvPr/>
        </p:nvGrpSpPr>
        <p:grpSpPr>
          <a:xfrm>
            <a:off x="11568240" y="-120600"/>
            <a:ext cx="1440" cy="7181640"/>
            <a:chOff x="11568240" y="-120600"/>
            <a:chExt cx="1440" cy="7181640"/>
          </a:xfrm>
        </p:grpSpPr>
        <p:sp>
          <p:nvSpPr>
            <p:cNvPr id="233"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24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组合 1"/>
          <p:cNvGrpSpPr/>
          <p:nvPr/>
        </p:nvGrpSpPr>
        <p:grpSpPr>
          <a:xfrm>
            <a:off x="614520" y="3020760"/>
            <a:ext cx="10520640" cy="2999520"/>
            <a:chOff x="614520" y="3020760"/>
            <a:chExt cx="10520640" cy="2999520"/>
          </a:xfrm>
        </p:grpSpPr>
        <p:sp>
          <p:nvSpPr>
            <p:cNvPr id="24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61"/>
            <p:cNvSpPr/>
            <p:nvPr/>
          </p:nvSpPr>
          <p:spPr>
            <a:xfrm>
              <a:off x="966240" y="3363840"/>
              <a:ext cx="457200" cy="42084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24"/>
            <p:cNvSpPr/>
            <p:nvPr/>
          </p:nvSpPr>
          <p:spPr>
            <a:xfrm>
              <a:off x="1944360" y="341532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24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24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34"/>
            <p:cNvSpPr/>
            <p:nvPr/>
          </p:nvSpPr>
          <p:spPr>
            <a:xfrm>
              <a:off x="9520920" y="3411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25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37"/>
            <p:cNvSpPr/>
            <p:nvPr/>
          </p:nvSpPr>
          <p:spPr>
            <a:xfrm>
              <a:off x="8784720" y="50324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25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40"/>
            <p:cNvSpPr/>
            <p:nvPr/>
          </p:nvSpPr>
          <p:spPr>
            <a:xfrm>
              <a:off x="4187880" y="50324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254" name="Freeform 51"/>
            <p:cNvSpPr/>
            <p:nvPr/>
          </p:nvSpPr>
          <p:spPr>
            <a:xfrm>
              <a:off x="4758120" y="3340800"/>
              <a:ext cx="420840" cy="4586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组合 47"/>
            <p:cNvGrpSpPr/>
            <p:nvPr/>
          </p:nvGrpSpPr>
          <p:grpSpPr>
            <a:xfrm>
              <a:off x="8545680" y="3366000"/>
              <a:ext cx="500040" cy="465840"/>
              <a:chOff x="8545680" y="3366000"/>
              <a:chExt cx="500040" cy="465840"/>
            </a:xfrm>
          </p:grpSpPr>
          <p:grpSp>
            <p:nvGrpSpPr>
              <p:cNvPr id="256" name="Group 296"/>
              <p:cNvGrpSpPr/>
              <p:nvPr/>
            </p:nvGrpSpPr>
            <p:grpSpPr>
              <a:xfrm>
                <a:off x="8545680" y="3366000"/>
                <a:ext cx="500040" cy="460800"/>
                <a:chOff x="8545680" y="3366000"/>
                <a:chExt cx="500040" cy="460800"/>
              </a:xfrm>
            </p:grpSpPr>
            <p:sp>
              <p:nvSpPr>
                <p:cNvPr id="257" name="Freeform 292"/>
                <p:cNvSpPr/>
                <p:nvPr/>
              </p:nvSpPr>
              <p:spPr>
                <a:xfrm>
                  <a:off x="8545680" y="3366000"/>
                  <a:ext cx="500040" cy="335880"/>
                </a:xfrm>
                <a:custGeom>
                  <a:avLst/>
                  <a:gdLst/>
                  <a:ahLst/>
                  <a:rect l="l" t="t" r="r" b="b"/>
                  <a:pathLst>
                    <a:path w="529" h="752">
                      <a:moveTo>
                        <a:pt x="85" y="35"/>
                      </a:moveTo>
                      <a:lnTo>
                        <a:pt x="8" y="0"/>
                      </a:lnTo>
                      <a:lnTo>
                        <a:pt x="0" y="58"/>
                      </a:lnTo>
                      <a:lnTo>
                        <a:pt x="60" y="85"/>
                      </a:lnTo>
                      <a:lnTo>
                        <a:pt x="156" y="561"/>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95"/>
                <p:cNvSpPr/>
                <p:nvPr/>
              </p:nvSpPr>
              <p:spPr>
                <a:xfrm>
                  <a:off x="8899200" y="3729960"/>
                  <a:ext cx="96840" cy="968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AutoShape 295"/>
              <p:cNvSpPr/>
              <p:nvPr/>
            </p:nvSpPr>
            <p:spPr>
              <a:xfrm>
                <a:off x="8718120" y="3735000"/>
                <a:ext cx="96840" cy="968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Freeform 67"/>
            <p:cNvSpPr/>
            <p:nvPr/>
          </p:nvSpPr>
          <p:spPr>
            <a:xfrm>
              <a:off x="6805800" y="4958640"/>
              <a:ext cx="496800" cy="47520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62"/>
            <p:cNvSpPr/>
            <p:nvPr/>
          </p:nvSpPr>
          <p:spPr>
            <a:xfrm>
              <a:off x="2435760" y="4998600"/>
              <a:ext cx="432720" cy="40320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弧形 50"/>
            <p:cNvSpPr/>
            <p:nvPr/>
          </p:nvSpPr>
          <p:spPr>
            <a:xfrm rot="13500000">
              <a:off x="4406400" y="3188880"/>
              <a:ext cx="809640" cy="809640"/>
            </a:xfrm>
            <a:custGeom>
              <a:avLst/>
              <a:gdLst/>
              <a:ahLst/>
              <a:rect l="l" t="t" r="r" b="b"/>
              <a:pathLst>
                <a:path stroke="0" w="809469" h="809554">
                  <a:moveTo>
                    <a:pt x="404734" y="0"/>
                  </a:moveTo>
                  <a:cubicBezTo>
                    <a:pt x="628262" y="0"/>
                    <a:pt x="809468" y="181225"/>
                    <a:pt x="809468" y="404777"/>
                  </a:cubicBezTo>
                  <a:lnTo>
                    <a:pt x="404734" y="404777"/>
                  </a:lnTo>
                  <a:close/>
                </a:path>
                <a:path fill="none" w="809469" h="809554">
                  <a:moveTo>
                    <a:pt x="404734" y="0"/>
                  </a:moveTo>
                  <a:cubicBezTo>
                    <a:pt x="628262" y="0"/>
                    <a:pt x="809468" y="181225"/>
                    <a:pt x="809468" y="404777"/>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弧形 51"/>
            <p:cNvSpPr/>
            <p:nvPr/>
          </p:nvSpPr>
          <p:spPr>
            <a:xfrm rot="13500000">
              <a:off x="8286840" y="3187800"/>
              <a:ext cx="807840" cy="807840"/>
            </a:xfrm>
            <a:custGeom>
              <a:avLst/>
              <a:gdLst/>
              <a:ahLst/>
              <a:rect l="l" t="t" r="r" b="b"/>
              <a:pathLst>
                <a:path stroke="0" w="807882" h="807967">
                  <a:moveTo>
                    <a:pt x="403940" y="0"/>
                  </a:moveTo>
                  <a:cubicBezTo>
                    <a:pt x="627030" y="0"/>
                    <a:pt x="807881" y="180869"/>
                    <a:pt x="807881" y="403983"/>
                  </a:cubicBezTo>
                  <a:lnTo>
                    <a:pt x="403941" y="403983"/>
                  </a:lnTo>
                  <a:close/>
                </a:path>
                <a:path fill="none" w="807882" h="807967">
                  <a:moveTo>
                    <a:pt x="403940" y="0"/>
                  </a:moveTo>
                  <a:cubicBezTo>
                    <a:pt x="627030" y="0"/>
                    <a:pt x="807881" y="180869"/>
                    <a:pt x="807881" y="403983"/>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弧形 52"/>
            <p:cNvSpPr/>
            <p:nvPr/>
          </p:nvSpPr>
          <p:spPr>
            <a:xfrm rot="8100000">
              <a:off x="6665760" y="4926960"/>
              <a:ext cx="807840" cy="809640"/>
            </a:xfrm>
            <a:custGeom>
              <a:avLst/>
              <a:gdLst/>
              <a:ahLst/>
              <a:rect l="l" t="t" r="r" b="b"/>
              <a:pathLst>
                <a:path stroke="0" w="807966" h="809469">
                  <a:moveTo>
                    <a:pt x="403982" y="0"/>
                  </a:moveTo>
                  <a:cubicBezTo>
                    <a:pt x="627096" y="0"/>
                    <a:pt x="807965" y="181206"/>
                    <a:pt x="807965" y="404734"/>
                  </a:cubicBezTo>
                  <a:lnTo>
                    <a:pt x="403983" y="404734"/>
                  </a:lnTo>
                  <a:close/>
                </a:path>
                <a:path fill="none" w="807966" h="809469">
                  <a:moveTo>
                    <a:pt x="403982" y="0"/>
                  </a:moveTo>
                  <a:cubicBezTo>
                    <a:pt x="627096" y="0"/>
                    <a:pt x="807965" y="181206"/>
                    <a:pt x="807965" y="404734"/>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弧形 53"/>
            <p:cNvSpPr/>
            <p:nvPr/>
          </p:nvSpPr>
          <p:spPr>
            <a:xfrm rot="18900000">
              <a:off x="2291760" y="4671720"/>
              <a:ext cx="809640" cy="809640"/>
            </a:xfrm>
            <a:custGeom>
              <a:avLst/>
              <a:gdLst/>
              <a:ahLst/>
              <a:rect l="l" t="t" r="r" b="b"/>
              <a:pathLst>
                <a:path stroke="0" w="809554" h="809469">
                  <a:moveTo>
                    <a:pt x="404776" y="0"/>
                  </a:moveTo>
                  <a:cubicBezTo>
                    <a:pt x="628328" y="0"/>
                    <a:pt x="809553" y="181206"/>
                    <a:pt x="809553" y="404734"/>
                  </a:cubicBezTo>
                  <a:lnTo>
                    <a:pt x="404777" y="404734"/>
                  </a:lnTo>
                  <a:close/>
                </a:path>
                <a:path fill="none" w="809554" h="809469">
                  <a:moveTo>
                    <a:pt x="404776" y="0"/>
                  </a:moveTo>
                  <a:cubicBezTo>
                    <a:pt x="628328" y="0"/>
                    <a:pt x="809553" y="181206"/>
                    <a:pt x="809553" y="404734"/>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弧形 54"/>
            <p:cNvSpPr/>
            <p:nvPr/>
          </p:nvSpPr>
          <p:spPr>
            <a:xfrm rot="8100000">
              <a:off x="790200" y="3285360"/>
              <a:ext cx="807840" cy="831960"/>
            </a:xfrm>
            <a:custGeom>
              <a:avLst/>
              <a:gdLst/>
              <a:ahLst/>
              <a:rect l="l" t="t" r="r" b="b"/>
              <a:pathLst>
                <a:path stroke="0" w="807967" h="831690">
                  <a:moveTo>
                    <a:pt x="403983" y="0"/>
                  </a:moveTo>
                  <a:cubicBezTo>
                    <a:pt x="627097" y="0"/>
                    <a:pt x="807966" y="186180"/>
                    <a:pt x="807966" y="415845"/>
                  </a:cubicBezTo>
                  <a:lnTo>
                    <a:pt x="403983" y="415845"/>
                  </a:lnTo>
                  <a:close/>
                </a:path>
                <a:path fill="none" w="807967" h="831690">
                  <a:moveTo>
                    <a:pt x="403983" y="0"/>
                  </a:moveTo>
                  <a:cubicBezTo>
                    <a:pt x="627097" y="0"/>
                    <a:pt x="807966" y="186180"/>
                    <a:pt x="807966" y="415845"/>
                  </a:cubicBezTo>
                </a:path>
              </a:pathLst>
            </a:custGeom>
            <a:no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3892320" y="3560760"/>
              <a:ext cx="509400" cy="360"/>
              <a:chOff x="3892320" y="3560760"/>
              <a:chExt cx="509400" cy="360"/>
            </a:xfrm>
          </p:grpSpPr>
          <p:sp>
            <p:nvSpPr>
              <p:cNvPr id="268"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txBox="1"/>
              <p:nvPr/>
            </p:nvSpPr>
            <p:spPr>
              <a:xfrm>
                <a:off x="3892320" y="3560760"/>
                <a:ext cx="509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
            <p:cNvGrpSpPr/>
            <p:nvPr/>
          </p:nvGrpSpPr>
          <p:grpSpPr>
            <a:xfrm>
              <a:off x="7758360" y="3560760"/>
              <a:ext cx="531720" cy="360"/>
              <a:chOff x="7758360" y="3560760"/>
              <a:chExt cx="531720" cy="360"/>
            </a:xfrm>
          </p:grpSpPr>
          <p:sp>
            <p:nvSpPr>
              <p:cNvPr id="271"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txBox="1"/>
              <p:nvPr/>
            </p:nvSpPr>
            <p:spPr>
              <a:xfrm>
                <a:off x="7758360" y="3560760"/>
                <a:ext cx="53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
            <p:cNvGrpSpPr/>
            <p:nvPr/>
          </p:nvGrpSpPr>
          <p:grpSpPr>
            <a:xfrm>
              <a:off x="10807920" y="3576600"/>
              <a:ext cx="326880" cy="360"/>
              <a:chOff x="10807920" y="3576600"/>
              <a:chExt cx="326880" cy="360"/>
            </a:xfrm>
          </p:grpSpPr>
          <p:sp>
            <p:nvSpPr>
              <p:cNvPr id="274"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10807920" y="3576600"/>
                <a:ext cx="326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
            <p:cNvGrpSpPr/>
            <p:nvPr/>
          </p:nvGrpSpPr>
          <p:grpSpPr>
            <a:xfrm>
              <a:off x="11134800" y="3576600"/>
              <a:ext cx="360" cy="2443320"/>
              <a:chOff x="11134800" y="3576600"/>
              <a:chExt cx="360" cy="2443320"/>
            </a:xfrm>
          </p:grpSpPr>
          <p:sp>
            <p:nvSpPr>
              <p:cNvPr id="277"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txBox="1"/>
              <p:nvPr/>
            </p:nvSpPr>
            <p:spPr>
              <a:xfrm>
                <a:off x="11134800" y="3576600"/>
                <a:ext cx="360" cy="2443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
            <p:cNvGrpSpPr/>
            <p:nvPr/>
          </p:nvGrpSpPr>
          <p:grpSpPr>
            <a:xfrm>
              <a:off x="7072560" y="6019920"/>
              <a:ext cx="4062240" cy="360"/>
              <a:chOff x="7072560" y="6019920"/>
              <a:chExt cx="4062240" cy="360"/>
            </a:xfrm>
          </p:grpSpPr>
          <p:sp>
            <p:nvSpPr>
              <p:cNvPr id="280"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txBox="1"/>
              <p:nvPr/>
            </p:nvSpPr>
            <p:spPr>
              <a:xfrm>
                <a:off x="7072560" y="6019920"/>
                <a:ext cx="406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7064280" y="5710320"/>
              <a:ext cx="360" cy="309600"/>
              <a:chOff x="7064280" y="5710320"/>
              <a:chExt cx="360" cy="309600"/>
            </a:xfrm>
          </p:grpSpPr>
          <p:sp>
            <p:nvSpPr>
              <p:cNvPr id="283"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txBox="1"/>
              <p:nvPr/>
            </p:nvSpPr>
            <p:spPr>
              <a:xfrm>
                <a:off x="7064280" y="5710320"/>
                <a:ext cx="360" cy="309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
            <p:cNvGrpSpPr/>
            <p:nvPr/>
          </p:nvGrpSpPr>
          <p:grpSpPr>
            <a:xfrm>
              <a:off x="7064280" y="4410000"/>
              <a:ext cx="360" cy="237960"/>
              <a:chOff x="7064280" y="4410000"/>
              <a:chExt cx="360" cy="237960"/>
            </a:xfrm>
          </p:grpSpPr>
          <p:sp>
            <p:nvSpPr>
              <p:cNvPr id="286"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txBox="1"/>
              <p:nvPr/>
            </p:nvSpPr>
            <p:spPr>
              <a:xfrm>
                <a:off x="7064280" y="4410000"/>
                <a:ext cx="36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
            <p:cNvGrpSpPr/>
            <p:nvPr/>
          </p:nvGrpSpPr>
          <p:grpSpPr>
            <a:xfrm>
              <a:off x="2701800" y="4410000"/>
              <a:ext cx="4370400" cy="360"/>
              <a:chOff x="2701800" y="4410000"/>
              <a:chExt cx="4370400" cy="360"/>
            </a:xfrm>
          </p:grpSpPr>
          <p:sp>
            <p:nvSpPr>
              <p:cNvPr id="289"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txBox="1"/>
              <p:nvPr/>
            </p:nvSpPr>
            <p:spPr>
              <a:xfrm>
                <a:off x="2701800" y="4410000"/>
                <a:ext cx="437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701800" y="4411800"/>
              <a:ext cx="360" cy="237960"/>
              <a:chOff x="2701800" y="4411800"/>
              <a:chExt cx="360" cy="237960"/>
            </a:xfrm>
          </p:grpSpPr>
          <p:sp>
            <p:nvSpPr>
              <p:cNvPr id="292"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txBox="1"/>
              <p:nvPr/>
            </p:nvSpPr>
            <p:spPr>
              <a:xfrm>
                <a:off x="2701800" y="4411800"/>
                <a:ext cx="36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
            <p:cNvGrpSpPr/>
            <p:nvPr/>
          </p:nvGrpSpPr>
          <p:grpSpPr>
            <a:xfrm>
              <a:off x="1199880" y="4111560"/>
              <a:ext cx="360" cy="1031760"/>
              <a:chOff x="1199880" y="4111560"/>
              <a:chExt cx="360" cy="1031760"/>
            </a:xfrm>
          </p:grpSpPr>
          <p:sp>
            <p:nvSpPr>
              <p:cNvPr id="295"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1199880" y="4111560"/>
                <a:ext cx="360" cy="103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
            <p:cNvGrpSpPr/>
            <p:nvPr/>
          </p:nvGrpSpPr>
          <p:grpSpPr>
            <a:xfrm>
              <a:off x="1199880" y="5143680"/>
              <a:ext cx="925200" cy="360"/>
              <a:chOff x="1199880" y="5143680"/>
              <a:chExt cx="925200" cy="360"/>
            </a:xfrm>
          </p:grpSpPr>
          <p:sp>
            <p:nvSpPr>
              <p:cNvPr id="298"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a:off x="1199880" y="5143680"/>
                <a:ext cx="92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
          <p:cNvGrpSpPr/>
          <p:nvPr/>
        </p:nvGrpSpPr>
        <p:grpSpPr>
          <a:xfrm>
            <a:off x="11568240" y="-120600"/>
            <a:ext cx="1440" cy="7181640"/>
            <a:chOff x="11568240" y="-120600"/>
            <a:chExt cx="1440" cy="7181640"/>
          </a:xfrm>
        </p:grpSpPr>
        <p:sp>
          <p:nvSpPr>
            <p:cNvPr id="301"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310" name="组合 1"/>
          <p:cNvGrpSpPr/>
          <p:nvPr/>
        </p:nvGrpSpPr>
        <p:grpSpPr>
          <a:xfrm>
            <a:off x="1125360" y="2589120"/>
            <a:ext cx="9126720" cy="3498840"/>
            <a:chOff x="1125360" y="2589120"/>
            <a:chExt cx="9126720" cy="3498840"/>
          </a:xfrm>
        </p:grpSpPr>
        <p:grpSp>
          <p:nvGrpSpPr>
            <p:cNvPr id="311" name="组合 33"/>
            <p:cNvGrpSpPr/>
            <p:nvPr/>
          </p:nvGrpSpPr>
          <p:grpSpPr>
            <a:xfrm>
              <a:off x="1125360" y="2699640"/>
              <a:ext cx="9126720" cy="3388320"/>
              <a:chOff x="1125360" y="2699640"/>
              <a:chExt cx="9126720" cy="3388320"/>
            </a:xfrm>
          </p:grpSpPr>
          <p:sp>
            <p:nvSpPr>
              <p:cNvPr id="312"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319"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320"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321"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322"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323"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324" name="弦形 36"/>
            <p:cNvSpPr/>
            <p:nvPr/>
          </p:nvSpPr>
          <p:spPr>
            <a:xfrm>
              <a:off x="1302840" y="2603160"/>
              <a:ext cx="1158840" cy="1158840"/>
            </a:xfrm>
            <a:custGeom>
              <a:avLst/>
              <a:gdLst/>
              <a:ahLst/>
              <a:rect l="l" t="t" r="r" b="b"/>
              <a:pathLst>
                <a:path w="1158745" h="1159081">
                  <a:moveTo>
                    <a:pt x="582341" y="1159073"/>
                  </a:moveTo>
                  <a:cubicBezTo>
                    <a:pt x="262363" y="1159073"/>
                    <a:pt x="2969" y="899604"/>
                    <a:pt x="2969" y="579533"/>
                  </a:cubicBezTo>
                  <a:cubicBezTo>
                    <a:pt x="2969" y="259462"/>
                    <a:pt x="262363" y="-7"/>
                    <a:pt x="582341" y="-7"/>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弦形 37"/>
            <p:cNvSpPr/>
            <p:nvPr/>
          </p:nvSpPr>
          <p:spPr>
            <a:xfrm rot="5400000">
              <a:off x="4256280" y="2591280"/>
              <a:ext cx="1157400" cy="1158840"/>
            </a:xfrm>
            <a:custGeom>
              <a:avLst/>
              <a:gdLst/>
              <a:ahLst/>
              <a:rect l="l" t="t" r="r" b="b"/>
              <a:pathLst>
                <a:path w="1157492" h="1158745">
                  <a:moveTo>
                    <a:pt x="581714" y="1158737"/>
                  </a:moveTo>
                  <a:cubicBezTo>
                    <a:pt x="262081" y="1158737"/>
                    <a:pt x="2968" y="899343"/>
                    <a:pt x="2968" y="579365"/>
                  </a:cubicBezTo>
                  <a:cubicBezTo>
                    <a:pt x="2968" y="259387"/>
                    <a:pt x="262081" y="-7"/>
                    <a:pt x="581714" y="-7"/>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弦形 38"/>
            <p:cNvSpPr/>
            <p:nvPr/>
          </p:nvSpPr>
          <p:spPr>
            <a:xfrm rot="10800000">
              <a:off x="7232400" y="2598120"/>
              <a:ext cx="1158840" cy="1158840"/>
            </a:xfrm>
            <a:custGeom>
              <a:avLst/>
              <a:gdLst/>
              <a:ahLst/>
              <a:rect l="l" t="t" r="r" b="b"/>
              <a:pathLst>
                <a:path w="1158745" h="1159081">
                  <a:moveTo>
                    <a:pt x="582341" y="1159073"/>
                  </a:moveTo>
                  <a:cubicBezTo>
                    <a:pt x="262363" y="1159073"/>
                    <a:pt x="2969" y="899604"/>
                    <a:pt x="2969" y="579533"/>
                  </a:cubicBezTo>
                  <a:cubicBezTo>
                    <a:pt x="2969" y="259462"/>
                    <a:pt x="262363" y="-7"/>
                    <a:pt x="582341" y="-7"/>
                  </a:cubicBez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
          <p:cNvGrpSpPr/>
          <p:nvPr/>
        </p:nvGrpSpPr>
        <p:grpSpPr>
          <a:xfrm>
            <a:off x="3772080" y="3112920"/>
            <a:ext cx="1982520" cy="1136880"/>
            <a:chOff x="3772080" y="3112920"/>
            <a:chExt cx="1982520" cy="1136880"/>
          </a:xfrm>
        </p:grpSpPr>
        <p:sp>
          <p:nvSpPr>
            <p:cNvPr id="328"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txBox="1"/>
            <p:nvPr/>
          </p:nvSpPr>
          <p:spPr>
            <a:xfrm>
              <a:off x="3772080" y="3112920"/>
              <a:ext cx="1982520" cy="1136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3511440" y="4225680"/>
            <a:ext cx="2224080" cy="252360"/>
            <a:chOff x="3511440" y="4225680"/>
            <a:chExt cx="2224080" cy="252360"/>
          </a:xfrm>
        </p:grpSpPr>
        <p:sp>
          <p:nvSpPr>
            <p:cNvPr id="331"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txBox="1"/>
            <p:nvPr/>
          </p:nvSpPr>
          <p:spPr>
            <a:xfrm rot="10800000">
              <a:off x="3511440" y="4225680"/>
              <a:ext cx="2224080" cy="25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5273280" y="4265640"/>
            <a:ext cx="514800" cy="2259000"/>
            <a:chOff x="5273280" y="4265640"/>
            <a:chExt cx="514800" cy="2259000"/>
          </a:xfrm>
        </p:grpSpPr>
        <p:sp>
          <p:nvSpPr>
            <p:cNvPr id="334"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5273640" y="4265640"/>
              <a:ext cx="514440" cy="2259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1568240" y="-120600"/>
            <a:ext cx="1440" cy="7181640"/>
            <a:chOff x="11568240" y="-120600"/>
            <a:chExt cx="1440" cy="7181640"/>
          </a:xfrm>
        </p:grpSpPr>
        <p:sp>
          <p:nvSpPr>
            <p:cNvPr id="337"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txBox="1"/>
            <p:nvPr/>
          </p:nvSpPr>
          <p:spPr>
            <a:xfrm>
              <a:off x="11568240" y="-120600"/>
              <a:ext cx="1440" cy="718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346" name="图表 54" descr=""/>
          <p:cNvPicPr/>
          <p:nvPr/>
        </p:nvPicPr>
        <p:blipFill>
          <a:blip r:embed="rId1"/>
          <a:stretch/>
        </p:blipFill>
        <p:spPr>
          <a:xfrm>
            <a:off x="3660840" y="2584440"/>
            <a:ext cx="4187880" cy="3346560"/>
          </a:xfrm>
          <a:prstGeom prst="rect">
            <a:avLst/>
          </a:prstGeom>
          <a:ln w="0">
            <a:noFill/>
          </a:ln>
        </p:spPr>
      </p:pic>
      <p:sp>
        <p:nvSpPr>
          <p:cNvPr id="347"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354"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355"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幻灯片之家：www.eeppt.com</dc:creator>
  <dc:description>幻灯片之家：www.eeppt.com</dc:description>
  <cp:keywords>幻灯片之家：www.eeppt.com</cp:keywords>
  <dc:language>en-US</dc:language>
  <cp:lastModifiedBy>pc</cp:lastModifiedBy>
  <dcterms:modified xsi:type="dcterms:W3CDTF">2016-05-19T06:42:45Z</dcterms:modified>
  <cp:revision>2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