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25E-B97B-479E-8ABC-EA7A916A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258-CD5F-416F-A1D7-060C9C71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621-EA69-49DA-990E-7EE2B30F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821-B806-4D40-997D-936087FC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908-83BF-41F0-8631-448047CD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2A2-5B28-43B1-B188-8D040FB2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6B7-593B-4C94-AE52-45C0EB04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ECE-4491-4700-9C0A-260DEE02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1AB-8897-4124-AB36-4DB7C8E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500-0E61-410D-9C8B-8ECCFF09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DB6-32A3-4012-8A83-EB2A8A20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536-7EBF-4F51-A677-5639F9AA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图形3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D52A-EA16-44A4-A0BA-9D2720B1CB2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DA85-17CF-468D-8911-F7B0B8B5A1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图形3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6"/>
          <p:cNvPicPr/>
          <p:nvPr/>
        </p:nvPicPr>
        <p:blipFill>
          <a:blip r:embed="rId1"/>
          <a:stretch/>
        </p:blipFill>
        <p:spPr>
          <a:xfrm>
            <a:off x="-36360" y="-27000"/>
            <a:ext cx="9324720" cy="70293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351000" y="800280"/>
            <a:ext cx="869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师范大学精美毕业答辩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8199"/>
          <p:cNvSpPr/>
          <p:nvPr/>
        </p:nvSpPr>
        <p:spPr>
          <a:xfrm>
            <a:off x="4032360" y="641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40C7-83F7-43E8-BEEE-638F6FCE2A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6"/>
          <p:cNvPicPr/>
          <p:nvPr/>
        </p:nvPicPr>
        <p:blipFill>
          <a:blip r:embed="rId1"/>
          <a:stretch/>
        </p:blipFill>
        <p:spPr>
          <a:xfrm>
            <a:off x="-36360" y="-27000"/>
            <a:ext cx="9324720" cy="70293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3"/>
          <p:cNvSpPr txBox="1"/>
          <p:nvPr/>
        </p:nvSpPr>
        <p:spPr>
          <a:xfrm>
            <a:off x="685800" y="914400"/>
            <a:ext cx="4419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欢迎批评指正！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1:27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14Z</dcterms:modified>
  <cp:revision>5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