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F54-BBC7-4C94-A44C-47DA6FEE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5DD-85CA-4EBE-A21C-81F3DB5B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0A48-CDA2-4FAD-893C-187CC830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16A-9860-4AF2-BD04-2DF348E9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A4F-6434-48A4-91D8-EE5C37A7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858-0671-4726-9C9A-CEC43D3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C52-205B-4E45-8A8C-BF3B57F2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1E0-62C1-4ECF-9D32-FF1E035B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DA2D-675A-49FF-A9FF-D8AA418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367A-2EDA-4B63-A680-43720A81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7C49-A35F-4914-BF9F-2A1822BE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BEB-55FA-4185-9269-EDD244D2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AB9-9828-4743-B266-5EC08861797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BB53-5128-44CA-85A7-65B2DC9413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7772400" cy="10350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室内设计专业毕业论文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8198"/>
          <p:cNvSpPr/>
          <p:nvPr/>
        </p:nvSpPr>
        <p:spPr>
          <a:xfrm>
            <a:off x="755640" y="227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ee660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8000" y="274680"/>
            <a:ext cx="6778800" cy="11383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60020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E4B-B41A-43D3-9DD5-6199473D0D7F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12:15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12Z</dcterms:modified>
  <cp:revision>8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