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F3666-9F3C-4640-BC00-CFC6F512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F7CC-6B06-4FC0-BB09-A984C9C1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752BE-1BCC-411F-A137-4440A2D5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86751-BD05-418E-A7E1-3671B8B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CB03F-2643-4506-8FA5-944A2FF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E9B21-E451-44F9-9F42-F648E44D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0DD39-2F19-4F98-9AC6-06C80D4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7A59F-D39E-40E5-A192-764FC0E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5907-8571-4D7C-A3BA-11196675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FB31-58FC-4BB7-A1AE-CDBDE8F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168E-9905-4479-8D60-D00D3B8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D54E6-D273-4AF0-923C-98290D4E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318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6040" indent="46836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22160" indent="19224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CF9DA6E-DF37-46D0-A3DA-CEAB8E37F78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318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6040" indent="46836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22160" indent="19224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7CC0-5084-4A5B-9F8B-18F59481B7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781-B411-4F37-9323-B8DE8D0C02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8"/>
          <p:cNvSpPr/>
          <p:nvPr/>
        </p:nvSpPr>
        <p:spPr>
          <a:xfrm>
            <a:off x="1961640" y="48610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同济大学毕业答辩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1" descr="C:\Documents and Settings\Administrator\My Documents\My Pictures\未标题-1 拷贝.png"/>
          <p:cNvPicPr/>
          <p:nvPr/>
        </p:nvPicPr>
        <p:blipFill>
          <a:blip r:embed="rId1"/>
          <a:stretch/>
        </p:blipFill>
        <p:spPr>
          <a:xfrm>
            <a:off x="1954080" y="1833480"/>
            <a:ext cx="1516320" cy="1441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6"/>
          <p:cNvSpPr/>
          <p:nvPr/>
        </p:nvSpPr>
        <p:spPr>
          <a:xfrm>
            <a:off x="4122720" y="17938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同济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3651120" y="28353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TONGJI 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9"/>
          <p:cNvSpPr/>
          <p:nvPr/>
        </p:nvSpPr>
        <p:spPr>
          <a:xfrm>
            <a:off x="1916640" y="28908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创艺简中圆"/>
              </a:rPr>
              <a:t>点击此处添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创艺简中圆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创艺简中圆"/>
              </a:rPr>
              <a:t>模板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1" descr="C:\Documents and Settings\Administrator\My Documents\My Pictures\未标题-1 拷贝.png"/>
          <p:cNvPicPr/>
          <p:nvPr/>
        </p:nvPicPr>
        <p:blipFill>
          <a:blip r:embed="rId1"/>
          <a:stretch/>
        </p:blipFill>
        <p:spPr>
          <a:xfrm>
            <a:off x="331920" y="133200"/>
            <a:ext cx="901440" cy="858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74720" y="1479600"/>
            <a:ext cx="79264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在【格式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幻灯片设计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配色方案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编辑配色方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添加修改在【视图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母版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幻灯片母版】下调整。直接选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括标题和文本格式的设置在【视图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母版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幻灯片母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CC12-8BC1-466E-8C5F-A04DC056B3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1" descr="C:\Documents and Settings\Administrator\My Documents\My Pictures\未标题-1 拷贝.png"/>
          <p:cNvPicPr/>
          <p:nvPr/>
        </p:nvPicPr>
        <p:blipFill>
          <a:blip r:embed="rId1"/>
          <a:stretch/>
        </p:blipFill>
        <p:spPr>
          <a:xfrm>
            <a:off x="1954080" y="1833480"/>
            <a:ext cx="1516320" cy="1441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6"/>
          <p:cNvSpPr/>
          <p:nvPr/>
        </p:nvSpPr>
        <p:spPr>
          <a:xfrm>
            <a:off x="4122720" y="17938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同济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3651120" y="28353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ONGJI 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3618360" y="4576680"/>
            <a:ext cx="28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同济大学对我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的培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各位老师、同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我的导师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**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老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我的父母、家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3147840" y="627552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33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