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8698-E9DF-4256-AF66-88D5AF57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54EC-DC57-4CF1-B22E-17BECFA6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255D-E7E7-4D44-9FC4-08515178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79D3-EBC0-465A-BDE1-129F116A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8CED-0EF1-457A-AF7D-9224EAA8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4D98-ADAC-4E64-821E-1E9943DC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1FC5-BFAB-4D53-91C6-FBFFB063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CF78-12B3-4E79-9A1F-D17FDEF3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F0FF-3B04-4DF6-AFBC-EB281B78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47AE-3511-4FA2-A353-22E18303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C110-BEA4-474C-B0F1-56572711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6EA5-B082-4D14-9B3D-CA36E4C6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f8b1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8089560" y="645336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F20E-79AD-46E5-9E95-C85FACD67CD3}" type="slidenum">
              <a:rPr b="1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D7C1-4111-4C44-A01F-930D6B3119E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F95E-B9D4-4652-AA58-7ACDA93C0EA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706760" y="2492280"/>
            <a:ext cx="5622480" cy="703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f8b15"/>
                </a:solidFill>
                <a:latin typeface="宋体"/>
                <a:ea typeface="宋体"/>
              </a:rPr>
              <a:t>祥云论文答辩精美</a:t>
            </a:r>
            <a:r>
              <a:rPr b="1" lang="zh-CN" sz="4000" spc="-1" strike="noStrike">
                <a:solidFill>
                  <a:srgbClr val="af8b15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af8b15"/>
                </a:solidFill>
                <a:latin typeface="宋体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464720" y="5500800"/>
            <a:ext cx="2716200" cy="5814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f8b15"/>
                </a:solidFill>
                <a:latin typeface="楷体_GB2312"/>
              </a:rPr>
              <a:t>汇报人：</a:t>
            </a:r>
            <a:r>
              <a:rPr b="1" lang="en-US" sz="3200" spc="-1" strike="noStrike">
                <a:solidFill>
                  <a:srgbClr val="af8b15"/>
                </a:solidFill>
                <a:latin typeface="楷体_GB2312"/>
              </a:rPr>
              <a:t>***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973800" y="155520"/>
            <a:ext cx="668520" cy="58140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725b0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28"/>
          <p:cNvGrpSpPr/>
          <p:nvPr/>
        </p:nvGrpSpPr>
        <p:grpSpPr>
          <a:xfrm>
            <a:off x="2124000" y="1989000"/>
            <a:ext cx="4302360" cy="474840"/>
            <a:chOff x="2124000" y="1989000"/>
            <a:chExt cx="4302360" cy="474840"/>
          </a:xfrm>
        </p:grpSpPr>
        <p:sp>
          <p:nvSpPr>
            <p:cNvPr id="119" name="Rectangle 5"/>
            <p:cNvSpPr/>
            <p:nvPr/>
          </p:nvSpPr>
          <p:spPr>
            <a:xfrm>
              <a:off x="2124000" y="2131920"/>
              <a:ext cx="289080" cy="285480"/>
            </a:xfrm>
            <a:prstGeom prst="rect">
              <a:avLst/>
            </a:prstGeom>
            <a:solidFill>
              <a:srgbClr val="246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3359880" y="1989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这是目录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320920" y="2319120"/>
              <a:ext cx="144360" cy="144360"/>
              <a:chOff x="2320920" y="2319120"/>
              <a:chExt cx="144360" cy="144360"/>
            </a:xfrm>
          </p:grpSpPr>
          <p:sp>
            <p:nvSpPr>
              <p:cNvPr id="122" name="Line 7"/>
              <p:cNvSpPr/>
              <p:nvPr/>
            </p:nvSpPr>
            <p:spPr>
              <a:xfrm>
                <a:off x="2320920" y="2319120"/>
                <a:ext cx="144360" cy="144360"/>
              </a:xfrm>
              <a:prstGeom prst="line">
                <a:avLst/>
              </a:prstGeom>
              <a:ln w="9360">
                <a:solidFill>
                  <a:srgbClr val="246d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2320920" y="2319120"/>
                <a:ext cx="14436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465280" y="2463480"/>
              <a:ext cx="3961080" cy="360"/>
              <a:chOff x="2465280" y="2463480"/>
              <a:chExt cx="3961080" cy="360"/>
            </a:xfrm>
          </p:grpSpPr>
          <p:sp>
            <p:nvSpPr>
              <p:cNvPr id="125" name="Line 8"/>
              <p:cNvSpPr/>
              <p:nvPr/>
            </p:nvSpPr>
            <p:spPr>
              <a:xfrm>
                <a:off x="2465280" y="2463480"/>
                <a:ext cx="3961080" cy="0"/>
              </a:xfrm>
              <a:prstGeom prst="line">
                <a:avLst/>
              </a:prstGeom>
              <a:ln w="9360">
                <a:solidFill>
                  <a:srgbClr val="246d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2465280" y="2463480"/>
                <a:ext cx="3961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Group 25"/>
          <p:cNvGrpSpPr/>
          <p:nvPr/>
        </p:nvGrpSpPr>
        <p:grpSpPr>
          <a:xfrm>
            <a:off x="2124000" y="2660760"/>
            <a:ext cx="4302360" cy="474480"/>
            <a:chOff x="2124000" y="2660760"/>
            <a:chExt cx="4302360" cy="474480"/>
          </a:xfrm>
        </p:grpSpPr>
        <p:sp>
          <p:nvSpPr>
            <p:cNvPr id="128" name="Rectangle 10"/>
            <p:cNvSpPr/>
            <p:nvPr/>
          </p:nvSpPr>
          <p:spPr>
            <a:xfrm>
              <a:off x="2124000" y="2803320"/>
              <a:ext cx="289080" cy="285480"/>
            </a:xfrm>
            <a:prstGeom prst="rect">
              <a:avLst/>
            </a:prstGeom>
            <a:solidFill>
              <a:srgbClr val="246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1"/>
            <p:cNvSpPr/>
            <p:nvPr/>
          </p:nvSpPr>
          <p:spPr>
            <a:xfrm>
              <a:off x="3359880" y="26607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这是目录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12"/>
            <p:cNvGrpSpPr/>
            <p:nvPr/>
          </p:nvGrpSpPr>
          <p:grpSpPr>
            <a:xfrm>
              <a:off x="2320920" y="2990520"/>
              <a:ext cx="4105440" cy="144720"/>
              <a:chOff x="2320920" y="2990520"/>
              <a:chExt cx="4105440" cy="14472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2320920" y="2990520"/>
                <a:ext cx="144720" cy="144360"/>
                <a:chOff x="2320920" y="2990520"/>
                <a:chExt cx="144720" cy="144360"/>
              </a:xfrm>
            </p:grpSpPr>
            <p:sp>
              <p:nvSpPr>
                <p:cNvPr id="132" name="Line 13"/>
                <p:cNvSpPr/>
                <p:nvPr/>
              </p:nvSpPr>
              <p:spPr>
                <a:xfrm>
                  <a:off x="2320920" y="2990520"/>
                  <a:ext cx="144720" cy="144360"/>
                </a:xfrm>
                <a:prstGeom prst="line">
                  <a:avLst/>
                </a:prstGeom>
                <a:ln w="9360">
                  <a:solidFill>
                    <a:srgbClr val="246d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 txBox="1"/>
                <p:nvPr/>
              </p:nvSpPr>
              <p:spPr>
                <a:xfrm>
                  <a:off x="2320920" y="2990520"/>
                  <a:ext cx="14472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2465640" y="3134880"/>
                <a:ext cx="3960720" cy="360"/>
                <a:chOff x="2465640" y="3134880"/>
                <a:chExt cx="3960720" cy="360"/>
              </a:xfrm>
            </p:grpSpPr>
            <p:sp>
              <p:nvSpPr>
                <p:cNvPr id="135" name="Line 14"/>
                <p:cNvSpPr/>
                <p:nvPr/>
              </p:nvSpPr>
              <p:spPr>
                <a:xfrm>
                  <a:off x="2465640" y="3134880"/>
                  <a:ext cx="3960720" cy="0"/>
                </a:xfrm>
                <a:prstGeom prst="line">
                  <a:avLst/>
                </a:prstGeom>
                <a:ln w="9360">
                  <a:solidFill>
                    <a:srgbClr val="246d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 txBox="1"/>
                <p:nvPr/>
              </p:nvSpPr>
              <p:spPr>
                <a:xfrm>
                  <a:off x="2465640" y="3134880"/>
                  <a:ext cx="396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7" name="Group 26"/>
          <p:cNvGrpSpPr/>
          <p:nvPr/>
        </p:nvGrpSpPr>
        <p:grpSpPr>
          <a:xfrm>
            <a:off x="2124000" y="3332160"/>
            <a:ext cx="4302360" cy="474840"/>
            <a:chOff x="2124000" y="3332160"/>
            <a:chExt cx="4302360" cy="474840"/>
          </a:xfrm>
        </p:grpSpPr>
        <p:sp>
          <p:nvSpPr>
            <p:cNvPr id="138" name="Rectangle 15"/>
            <p:cNvSpPr/>
            <p:nvPr/>
          </p:nvSpPr>
          <p:spPr>
            <a:xfrm>
              <a:off x="2124000" y="3475080"/>
              <a:ext cx="289080" cy="285480"/>
            </a:xfrm>
            <a:prstGeom prst="rect">
              <a:avLst/>
            </a:prstGeom>
            <a:solidFill>
              <a:srgbClr val="246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6"/>
            <p:cNvSpPr/>
            <p:nvPr/>
          </p:nvSpPr>
          <p:spPr>
            <a:xfrm>
              <a:off x="3359880" y="33321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这是目录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2320920" y="3662280"/>
              <a:ext cx="4105440" cy="144720"/>
              <a:chOff x="2320920" y="3662280"/>
              <a:chExt cx="4105440" cy="14472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2320920" y="3662280"/>
                <a:ext cx="144720" cy="144360"/>
                <a:chOff x="2320920" y="3662280"/>
                <a:chExt cx="144720" cy="144360"/>
              </a:xfrm>
            </p:grpSpPr>
            <p:sp>
              <p:nvSpPr>
                <p:cNvPr id="142" name="Line 18"/>
                <p:cNvSpPr/>
                <p:nvPr/>
              </p:nvSpPr>
              <p:spPr>
                <a:xfrm>
                  <a:off x="2320920" y="3662280"/>
                  <a:ext cx="144720" cy="144360"/>
                </a:xfrm>
                <a:prstGeom prst="line">
                  <a:avLst/>
                </a:prstGeom>
                <a:ln w="9360">
                  <a:solidFill>
                    <a:srgbClr val="246d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 txBox="1"/>
                <p:nvPr/>
              </p:nvSpPr>
              <p:spPr>
                <a:xfrm>
                  <a:off x="2320920" y="3662280"/>
                  <a:ext cx="14472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465640" y="3806640"/>
                <a:ext cx="3960720" cy="360"/>
                <a:chOff x="2465640" y="3806640"/>
                <a:chExt cx="3960720" cy="360"/>
              </a:xfrm>
            </p:grpSpPr>
            <p:sp>
              <p:nvSpPr>
                <p:cNvPr id="145" name="Line 19"/>
                <p:cNvSpPr/>
                <p:nvPr/>
              </p:nvSpPr>
              <p:spPr>
                <a:xfrm>
                  <a:off x="2465640" y="3806640"/>
                  <a:ext cx="3960720" cy="0"/>
                </a:xfrm>
                <a:prstGeom prst="line">
                  <a:avLst/>
                </a:prstGeom>
                <a:ln w="9360">
                  <a:solidFill>
                    <a:srgbClr val="246d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 txBox="1"/>
                <p:nvPr/>
              </p:nvSpPr>
              <p:spPr>
                <a:xfrm>
                  <a:off x="2465640" y="3806640"/>
                  <a:ext cx="396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7" name="Group 27"/>
          <p:cNvGrpSpPr/>
          <p:nvPr/>
        </p:nvGrpSpPr>
        <p:grpSpPr>
          <a:xfrm>
            <a:off x="2124000" y="4005360"/>
            <a:ext cx="4302360" cy="474480"/>
            <a:chOff x="2124000" y="4005360"/>
            <a:chExt cx="4302360" cy="474480"/>
          </a:xfrm>
        </p:grpSpPr>
        <p:sp>
          <p:nvSpPr>
            <p:cNvPr id="148" name="Rectangle 20"/>
            <p:cNvSpPr/>
            <p:nvPr/>
          </p:nvSpPr>
          <p:spPr>
            <a:xfrm>
              <a:off x="2124000" y="4147920"/>
              <a:ext cx="289080" cy="285480"/>
            </a:xfrm>
            <a:prstGeom prst="rect">
              <a:avLst/>
            </a:prstGeom>
            <a:solidFill>
              <a:srgbClr val="246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21"/>
            <p:cNvSpPr/>
            <p:nvPr/>
          </p:nvSpPr>
          <p:spPr>
            <a:xfrm>
              <a:off x="3359880" y="40053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这是目录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22"/>
            <p:cNvGrpSpPr/>
            <p:nvPr/>
          </p:nvGrpSpPr>
          <p:grpSpPr>
            <a:xfrm>
              <a:off x="2320920" y="4335120"/>
              <a:ext cx="4105440" cy="144720"/>
              <a:chOff x="2320920" y="4335120"/>
              <a:chExt cx="4105440" cy="14472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2320920" y="4335120"/>
                <a:ext cx="144720" cy="144360"/>
                <a:chOff x="2320920" y="4335120"/>
                <a:chExt cx="144720" cy="144360"/>
              </a:xfrm>
            </p:grpSpPr>
            <p:sp>
              <p:nvSpPr>
                <p:cNvPr id="152" name="Line 23"/>
                <p:cNvSpPr/>
                <p:nvPr/>
              </p:nvSpPr>
              <p:spPr>
                <a:xfrm>
                  <a:off x="2320920" y="4335120"/>
                  <a:ext cx="144720" cy="144360"/>
                </a:xfrm>
                <a:prstGeom prst="line">
                  <a:avLst/>
                </a:prstGeom>
                <a:ln w="9360">
                  <a:solidFill>
                    <a:srgbClr val="246d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 txBox="1"/>
                <p:nvPr/>
              </p:nvSpPr>
              <p:spPr>
                <a:xfrm>
                  <a:off x="2320920" y="4335120"/>
                  <a:ext cx="14472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2465640" y="4479480"/>
                <a:ext cx="3960720" cy="360"/>
                <a:chOff x="2465640" y="4479480"/>
                <a:chExt cx="3960720" cy="360"/>
              </a:xfrm>
            </p:grpSpPr>
            <p:sp>
              <p:nvSpPr>
                <p:cNvPr id="155" name="Line 24"/>
                <p:cNvSpPr/>
                <p:nvPr/>
              </p:nvSpPr>
              <p:spPr>
                <a:xfrm>
                  <a:off x="2465640" y="4479480"/>
                  <a:ext cx="3960720" cy="0"/>
                </a:xfrm>
                <a:prstGeom prst="line">
                  <a:avLst/>
                </a:prstGeom>
                <a:ln w="9360">
                  <a:solidFill>
                    <a:srgbClr val="246d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 txBox="1"/>
                <p:nvPr/>
              </p:nvSpPr>
              <p:spPr>
                <a:xfrm>
                  <a:off x="2465640" y="4479480"/>
                  <a:ext cx="396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5b0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725b0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1137960" y="15552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725b0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237920" y="148428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您可以复制、发行、展览、表演、放映、广播或通过信息网络传播本作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236600" y="18439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您可以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创作演绎作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934280" y="22042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您必须按照作者或者许可人指定的方式对作品进行署名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1396440" y="256464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您不得将本作品用于商业目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0C35-505A-408A-9C47-F84B7E231FE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c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07:35:2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3:29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