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12.gif" ContentType="image/gi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DE06-09CB-4ABB-9980-DA7B80AC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E4D-14E0-4322-8E65-641168CF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27D9A-35A2-4D57-919C-3D44007C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A2C89-072D-4152-885D-4A0BEA69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BF3EA-F7CD-4395-A35C-9F356D15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CB021-8936-4CF6-8308-22E8ECA1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05CB2-757F-472C-A9D7-4B23CF3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2AFCB-ECCF-4FDA-9FC8-D22DA1E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BCCEE-5F37-42A7-8486-A18B4406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5ED3C-E36D-47B2-9724-F5FD3BB2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3F2A6-D868-41A6-8D76-BC78CF36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25095-A7EC-4415-880D-C35EC8CF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9CD-E0EF-46EF-AC26-6D5AFE3A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1AFDD-8243-4AC2-B9B6-3767AB02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D256D-D9A8-48DF-A5AB-D709DBF0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07B02-2BC5-4B58-A274-FD8BC42C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1527D-F713-4774-A037-1128E2D7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A49D8-2CEC-4D18-9A07-2ACCA5D6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97695-47A7-4F9C-AA0E-BD2F52C3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FA255-C555-474D-9DA7-6DEFDF1A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19EAD-9798-467C-B088-DB75D940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06DF3-61DE-456E-ACFC-089739D9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BF917-F309-4285-8E88-7DF5C4B0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DB8C-F2B8-4EEE-9CB6-9A916D6D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FB44E-C543-495D-AD66-CE306726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CFDC3-C28E-478A-85AF-37A0735A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5659D-491C-4EDF-9C93-24B21207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3F2CB-A31B-438B-BB4C-CEFD0A09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92FAF-8638-4C58-9649-6AC13D23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DA35F-CF72-4FEB-878B-6717460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9C945-27F2-452B-843D-67B6EB39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817B0-25EA-4AB4-9D82-02F39F34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01D65-F17D-478A-AFD2-D0D95150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24B25-C42A-4D85-985F-A6A74FB9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7A92-1C21-4EE9-91A5-E337AEA7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868D0-5016-47F2-ACFD-40D1B0FC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FC2D6-677E-41E7-8B8B-BEC6779D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791B8-E903-48BA-A62B-1792D42E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0B34-825E-45DB-83C0-FFC24BE0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7141-29F5-4CE6-961C-37435CC4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6E6F-A279-4FE7-BA08-DEFEA01E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BF40-C0A3-4C57-948B-C96A63EC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7871-1305-41DA-B758-98C66317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FE28-839F-4A2E-A3D5-0F8A5A5D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076-B27C-4C82-804E-9FA92465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487D-4E0F-4A13-A5A6-E81005E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A7C8-C8CF-4298-98DA-E6D60886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6A9F-A76D-47A5-B7A6-781EA432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FC9E-5731-4006-9573-BCFFE921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D8A0-7780-4FE3-988E-C624AEAD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A283-1AF4-4D13-A652-D4CA697E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B0F0A-45DA-445B-9D6A-A541CCB5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8427-197B-4190-A5A6-070E8359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4B7F-2213-435A-A1AF-7879054E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39D7-2EDE-4D4A-AFCB-C9AC1E8A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477-0491-412E-8ECD-F4B8E28F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D507-094E-491E-BF10-0D31E025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5F99-2B38-4F02-AB4D-63951C81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8B46-7D7F-4274-8DCD-5CA90817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0DE9F-A69F-4AD6-A9BC-23490D86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96F2-9E0E-43C2-A708-51744D19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F9D9-B414-45C7-824F-F7BB95A2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30E4-FCC1-42BF-A2E5-7206CB78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0DF69-4B5F-4F91-A5E4-4467ACFD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DCF3-4E68-40C7-B297-E0F69DDB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8FBE-F504-4D00-AC4F-AF91E9D2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9A2-8580-4707-8A06-4E3137C2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67D01-B8C9-47BA-AECC-94DAB541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EAB9D-CC8F-46D2-A836-25259004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AB484-A1EF-44F7-808F-33A7F732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7F859-657B-47AD-AA25-B6211EE6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BFC40-8389-42A6-9A6A-27C49DDE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DE43F-298E-4FA8-9602-BEBDF74E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D74C7-2202-450C-89A6-FDB4643A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E2895-40C1-4070-A525-B4298386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A6FEC-55EE-438C-BB39-622039E6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529FD-A743-473C-843E-511D8386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455-7149-42AB-954D-FC267C12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66610-A7E3-4159-ABCD-350BBA27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2CE5D-CF3B-4BC9-9D4D-5528F8DA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2FAF4-BE53-4DB3-8377-F82780AE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A73B6-B192-4D6A-A690-D62912DA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BB97F-1683-4E48-996B-7538710C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F7F60-1490-4D0E-81ED-E59F467C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BCA03-125D-4CE9-91B8-31A2FD90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FD31-8A27-484E-94C2-C14EC183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1ADA9-A08C-434B-9625-74FAEE02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F39B1-CE3E-4557-8352-1FF339DB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3BA-EFC0-408E-9991-7E0D86A6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F857C-26AF-4A87-A405-4323D260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BCCF0-A503-47DC-A413-7A2B698F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DA5CE-B447-4B5F-ADFC-3C43FEAE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033F6-70D7-444D-8A73-CF9294E7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08011-3C94-47BF-AD7A-F3838898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FEEDD-E6D8-4F7F-94E2-F629292D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12FA0-7E62-40FF-99CC-A3D1E27C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62B80-55FB-4E6C-BF87-E42C35D7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3C20B-3DCA-4B8B-908E-C4809E14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2724D-ABE0-4517-9420-81A0A923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289-BCEC-4F52-8515-AF0613A4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BB1D-589C-4328-938E-36C5FA84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BE392-2DD0-4903-A03C-AC8A804F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BFEA3-D5C1-43B7-95BD-18E03212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63377-75B7-48A4-B7BA-32EFB30D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7D210-7615-4435-8C75-4C2872EF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E5C96-EB52-486C-AA75-74EB000A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1E34-09B1-4CC8-9077-ACD04242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03884-E283-464A-AC45-A83242F0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AABC2-8A73-43E1-A1FA-18452E95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6866D-BB10-4A35-91D4-54DC8CBA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71A-6AA8-4F36-920E-475EEAF7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15D44-160F-4BAE-BFAC-F5689764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055B8-AD50-4D89-8B9D-41D19466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BBF4F-AA84-44BD-A847-F9C7EA5E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FC0C9-86FC-47D2-8D49-9875606F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8B02B-92DE-4DEB-A156-56E9B20A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C1246-43EB-466F-B411-77F5BAC4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00FA7-A1A8-4A40-8D1B-614263B8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2B223-7D96-4A85-ACAC-F18470E4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C219F-5C8E-4733-AB22-13083B97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55804-F063-4282-B0C8-89420F83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205-A439-4F8F-A765-DC1F3567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8FC8D-6780-411B-A377-1D43587F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FE5BF-9B89-49E9-917A-E74EE44F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0FB43-DB75-4B79-9029-1103D3B1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7E780-366E-45F9-A7DD-CF8B181A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2D28E-AD94-4DA5-81B1-04B1B923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0134D-6FBF-4C19-BDF8-6A79376A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55BB8-9028-46CC-ABEE-D27B42C9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88D3-67C0-46BE-A39C-B15351F6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1764B-CCEB-427C-B189-E90E621F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3C5B7-27C3-43B8-9934-8F59A325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69F6-C2B2-4CE1-A971-5A5F32D2154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24E6-3CA6-4E2F-A3AC-E3EBD790EEA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21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22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E870-AD91-4B51-9B2F-923BCF88312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59D5-E42D-48A7-8305-C42BF2DC73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直接连接符 12" descr=""/>
          <p:cNvPicPr/>
          <p:nvPr/>
        </p:nvPicPr>
        <p:blipFill>
          <a:blip r:embed="rId3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206C-C8DE-4D9D-876A-14DBCA8396B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B386-B0CA-48B3-AF1F-2751BE24399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直接连接符 12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038D-8F41-4E45-BA42-9C87D8942A0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直接连接符 12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974A-C2D9-4A4A-8B6D-41E2F158460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697A-BDA8-4C1A-8F72-22CCDA5E4C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直接连接符 12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FA0-40DF-4166-964F-FADEA9A7D03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4E40-BD5E-4CA5-9910-1296F4FFF85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5" descr="200G04L1-12"/>
          <p:cNvPicPr/>
          <p:nvPr/>
        </p:nvPicPr>
        <p:blipFill>
          <a:blip r:embed="rId1"/>
          <a:srcRect l="0" t="0" r="0" b="13273"/>
          <a:stretch/>
        </p:blipFill>
        <p:spPr>
          <a:xfrm>
            <a:off x="971640" y="3429000"/>
            <a:ext cx="3456000" cy="2238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9" descr="20100412202028672"/>
          <p:cNvPicPr/>
          <p:nvPr/>
        </p:nvPicPr>
        <p:blipFill>
          <a:blip r:embed="rId2"/>
          <a:stretch/>
        </p:blipFill>
        <p:spPr>
          <a:xfrm>
            <a:off x="4572000" y="3429000"/>
            <a:ext cx="4176720" cy="2228760"/>
          </a:xfrm>
          <a:prstGeom prst="rect">
            <a:avLst/>
          </a:prstGeom>
          <a:ln w="0">
            <a:noFill/>
          </a:ln>
        </p:spPr>
      </p:pic>
      <p:sp>
        <p:nvSpPr>
          <p:cNvPr id="466" name="WordArt 12"/>
          <p:cNvSpPr txBox="1"/>
          <p:nvPr/>
        </p:nvSpPr>
        <p:spPr>
          <a:xfrm>
            <a:off x="1365120" y="1484280"/>
            <a:ext cx="64818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运动的描述课件</a:t>
            </a:r>
            <a:r>
              <a:rPr b="1" lang="en-US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ff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467" name="矩形 1"/>
          <p:cNvSpPr/>
          <p:nvPr/>
        </p:nvSpPr>
        <p:spPr>
          <a:xfrm>
            <a:off x="3587040" y="83808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一章　机械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79280" y="1125360"/>
            <a:ext cx="8569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三、运用参照物，判断物体的运动情况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具体方法如下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① 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确定研究对象，即明确要判断哪个物体是否运动；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选定参照物，即假定一个物体不动；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看被研究的对象相对于参照物的位置是否变化，若位置有变化，则被研究的物体是运动的，若位置无变化，则被研究的物体是静止的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24000" y="26028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 下列说法中各是以什么作参照物的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坐在船上的乘客是静止的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参照物是船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 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.“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小小竹排江中游，巍巍青山两岸走”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竹排在江中游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以青山作参照物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青山在走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以竹排为参照物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 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月亮从云中钻了出来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             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参照物是云。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250920" y="980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例题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“红日从东方冉冉升起，我坐在奔驰的车里，静靠在椅背上，欣赏着窗外的景物，只见路旁的树木急速的向后退去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… …”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请写出上文中的描述各选择了什么作为参照物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升起</a:t>
            </a:r>
            <a:r>
              <a:rPr b="1" lang="zh-CN" sz="3200" spc="-1" strike="noStrike" u="sng">
                <a:solidFill>
                  <a:srgbClr val="4e3b30"/>
                </a:solidFill>
                <a:uFillTx/>
                <a:latin typeface="Franklin Gothic Book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；奔驰</a:t>
            </a:r>
            <a:r>
              <a:rPr b="1" lang="zh-CN" sz="3200" spc="-1" strike="noStrike" u="sng">
                <a:solidFill>
                  <a:srgbClr val="4e3b30"/>
                </a:solidFill>
                <a:uFillTx/>
                <a:latin typeface="Franklin Gothic Book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；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静靠</a:t>
            </a:r>
            <a:r>
              <a:rPr b="1" lang="zh-CN" sz="3200" spc="-1" strike="noStrike" u="sng">
                <a:solidFill>
                  <a:srgbClr val="4e3b30"/>
                </a:solidFill>
                <a:uFillTx/>
                <a:latin typeface="Franklin Gothic Book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；后退</a:t>
            </a:r>
            <a:r>
              <a:rPr b="1" lang="zh-CN" sz="3200" spc="-1" strike="noStrike" u="sng">
                <a:solidFill>
                  <a:srgbClr val="4e3b30"/>
                </a:solidFill>
                <a:uFillTx/>
                <a:latin typeface="Franklin Gothic Book"/>
                <a:ea typeface="楷体_GB2312"/>
              </a:rPr>
              <a:t>                        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908000" y="342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地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6084720" y="3357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地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2195640" y="4005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156360" y="4005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24000" y="549000"/>
            <a:ext cx="85406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四、运动和静止的相对性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物体的运动和静止是相对的。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判断一个物体是运动还是静止，取决于所选的参照物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324000" y="2781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在第一次世界大战的空战中，一名飞行员发现自己的机舱有一只“小虫”在飞来，于是一把抓住，一看才发现是一粒正在飞行的子弹！，我们知道徒手抓住正在飞行的子弹一般是不可能的，那么这位飞行员为什么能抓住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826920" y="580536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为子弹相对于飞机的飞行速度很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178920" y="90756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 某车向东行驶，车上的人看到路旁的树怎样运动”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树以跟车相同的速度，向西运动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．物理学里把</a:t>
            </a:r>
            <a:r>
              <a:rPr b="0" lang="zh-CN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                      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的变化叫机械运动。同一个物体是运动还是静止的取决于所选的</a:t>
            </a:r>
            <a:r>
              <a:rPr b="0" lang="zh-CN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               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，这就是运动和静止的 </a:t>
            </a:r>
            <a:r>
              <a:rPr b="0" lang="zh-CN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              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3492360" y="1484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物体位置的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3924360" y="2492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参照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3203640" y="2997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相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8"/>
          <p:cNvSpPr txBox="1"/>
          <p:nvPr/>
        </p:nvSpPr>
        <p:spPr>
          <a:xfrm>
            <a:off x="395280" y="189000"/>
            <a:ext cx="182880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随堂练习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．下列有关运动的说法中，错误的是：（        ）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 宇宙里一切物质的运动是绝对的、永恒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  宇宙里绝对不动的物体是没有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  我们日常说的运动和静止都是相对的，是相对于参照物而言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， 我们把一切机械的各种运动总称为机械运动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7524720" y="1557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50560" y="1341000"/>
            <a:ext cx="79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以下几种说法中正确的是：（     ）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 汽车经过一座桥，汽车是运动的而桥是决对不动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  宇宙是由运动着的物体组成的，绝对不动的物体是不存在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  地球和行星都绕太阳运动，太阳在宇宙中是绝对不动的；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， 一座房屋造好后，它就固定在原来的位置上不会移动，所以固定在地球上的物体是绝对不动的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5796000" y="112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8194"/>
          <p:cNvSpPr/>
          <p:nvPr/>
        </p:nvSpPr>
        <p:spPr>
          <a:xfrm>
            <a:off x="1035000" y="5227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．以地面作为参照物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一个人由西向东运动，一辆汽车从后面赶上，如果以这辆汽车作为参照物，则此人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____________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运动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5219640" y="2492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由东往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．两辆汽车同向行驶，描述汽车的运动是以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________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作为参照物，坐在甲车里的乘客看到乙车在向后退，该乘客是以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________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作为参照物。这两辆汽车相比较，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________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车开得快。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1619280" y="1989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081080" y="293220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2195640" y="343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68360" y="1196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巴黎的报纸一则广告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您只要给我们寄来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角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分钱就可以得到又经济又没有丝毫危险和疲劳的旅行方法。试试吧！”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有人按地址寄了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角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分钱去。这些人每人得到一封回信。内容是怎样的呢？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A856-E55A-48E9-935E-D944B466C2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2a67f6f97657c050a9d311e5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495680"/>
          </a:xfrm>
          <a:prstGeom prst="rect">
            <a:avLst/>
          </a:prstGeom>
          <a:ln w="0">
            <a:noFill/>
          </a:ln>
        </p:spPr>
      </p:pic>
      <p:sp>
        <p:nvSpPr>
          <p:cNvPr id="523" name="WordArt 3"/>
          <p:cNvSpPr txBox="1"/>
          <p:nvPr/>
        </p:nvSpPr>
        <p:spPr>
          <a:xfrm>
            <a:off x="1332000" y="3213000"/>
            <a:ext cx="34560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250560" y="1052640"/>
            <a:ext cx="8893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先生，请您安静地躺在您的床上，并且请您记牢：我们的地球是在旋转着的。在巴黎的纬度－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49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度上，您每昼夜要跑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500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公里以上。假如您喜欢看看沿路美好的景致，就请您打开窗帘，尽情地欣赏星空的美景吧！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广告者被以欺诈罪带上了法庭，判决时他郑重地复述了伽利略的话：“可是，</a:t>
            </a:r>
            <a:r>
              <a:rPr b="1" lang="zh-CN" sz="3200" spc="-1" strike="noStrike">
                <a:solidFill>
                  <a:srgbClr val="cc00cc"/>
                </a:solidFill>
                <a:latin typeface="Franklin Gothic Book"/>
                <a:ea typeface="楷体_GB2312"/>
              </a:rPr>
              <a:t>无论如何地球确实是在转着的呀！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”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运动是绝对的、永恒的，而静止只是相对的、暂时的。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95280" y="1197000"/>
            <a:ext cx="8540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运动的意义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运动就是变化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运动的形式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社会变化；生命变化；有化学变化；有原子核的变化；思维变化；位置变化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、最简单的运动形式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物体位置的变化</a:t>
            </a:r>
            <a:r>
              <a:rPr b="1" lang="en-US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楷体_GB2312"/>
              </a:rPr>
              <a:t>机械运动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2128680" cy="752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24000" y="191628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你们肯定见到过许多静止的和运动的物体，请各举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例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静止的物体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zh-CN" sz="3600" spc="-1" strike="noStrike">
                <a:solidFill>
                  <a:srgbClr val="4e3b30"/>
                </a:solidFill>
                <a:latin typeface="Franklin Gothic Book"/>
              </a:rPr>
              <a:t>运动的物体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-13320" y="1268280"/>
            <a:ext cx="3987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幅图中的观光电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里的人是静止还是运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" descr="cpa9ah1"/>
          <p:cNvPicPr/>
          <p:nvPr/>
        </p:nvPicPr>
        <p:blipFill>
          <a:blip r:embed="rId1"/>
          <a:stretch/>
        </p:blipFill>
        <p:spPr>
          <a:xfrm>
            <a:off x="5076720" y="620640"/>
            <a:ext cx="3430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64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8" name="Picture 4" descr="Tw02"/>
          <p:cNvPicPr/>
          <p:nvPr/>
        </p:nvPicPr>
        <p:blipFill>
          <a:blip r:embed="rId2"/>
          <a:stretch/>
        </p:blipFill>
        <p:spPr>
          <a:xfrm>
            <a:off x="838080" y="2057400"/>
            <a:ext cx="7620120" cy="4267080"/>
          </a:xfrm>
          <a:prstGeom prst="rect">
            <a:avLst/>
          </a:prstGeom>
          <a:ln w="0">
            <a:noFill/>
          </a:ln>
        </p:spPr>
      </p:pic>
      <p:sp>
        <p:nvSpPr>
          <p:cNvPr id="479" name="文本框 8194"/>
          <p:cNvSpPr/>
          <p:nvPr/>
        </p:nvSpPr>
        <p:spPr>
          <a:xfrm>
            <a:off x="838080" y="1722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1657440" y="425520"/>
            <a:ext cx="5364000" cy="936720"/>
          </a:xfrm>
          <a:prstGeom prst="rect">
            <a:avLst/>
          </a:prstGeom>
          <a:ln w="0">
            <a:noFill/>
          </a:ln>
        </p:spPr>
      </p:pic>
      <p:grpSp>
        <p:nvGrpSpPr>
          <p:cNvPr id="481" name="Group 3"/>
          <p:cNvGrpSpPr/>
          <p:nvPr/>
        </p:nvGrpSpPr>
        <p:grpSpPr>
          <a:xfrm>
            <a:off x="755640" y="1628640"/>
            <a:ext cx="7704000" cy="2625480"/>
            <a:chOff x="755640" y="1628640"/>
            <a:chExt cx="7704000" cy="2625480"/>
          </a:xfrm>
        </p:grpSpPr>
        <p:grpSp>
          <p:nvGrpSpPr>
            <p:cNvPr id="482" name=""/>
            <p:cNvGrpSpPr/>
            <p:nvPr/>
          </p:nvGrpSpPr>
          <p:grpSpPr>
            <a:xfrm>
              <a:off x="2556000" y="1628640"/>
              <a:ext cx="1296720" cy="1800360"/>
              <a:chOff x="2556000" y="1628640"/>
              <a:chExt cx="1296720" cy="1800360"/>
            </a:xfrm>
          </p:grpSpPr>
          <p:sp>
            <p:nvSpPr>
              <p:cNvPr id="483" name="Line 4"/>
              <p:cNvSpPr/>
              <p:nvPr/>
            </p:nvSpPr>
            <p:spPr>
              <a:xfrm flipH="1">
                <a:off x="2556000" y="1628640"/>
                <a:ext cx="1296720" cy="1800360"/>
              </a:xfrm>
              <a:prstGeom prst="line">
                <a:avLst/>
              </a:prstGeom>
              <a:ln w="228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>
                <a:off x="2556000" y="1628640"/>
                <a:ext cx="1296720" cy="180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Text Box 5"/>
            <p:cNvSpPr/>
            <p:nvPr/>
          </p:nvSpPr>
          <p:spPr>
            <a:xfrm>
              <a:off x="755640" y="3429000"/>
              <a:ext cx="3456000" cy="82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是否在动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6"/>
            <p:cNvSpPr/>
            <p:nvPr/>
          </p:nvSpPr>
          <p:spPr>
            <a:xfrm>
              <a:off x="4716360" y="3429000"/>
              <a:ext cx="3743280" cy="82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  </a:t>
              </a: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怎样运动？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隶书"/>
                </a:rPr>
                <a:t>（运动快慢、方向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4572000" y="1628640"/>
              <a:ext cx="1368360" cy="1729080"/>
              <a:chOff x="4572000" y="1628640"/>
              <a:chExt cx="1368360" cy="1729080"/>
            </a:xfrm>
          </p:grpSpPr>
          <p:sp>
            <p:nvSpPr>
              <p:cNvPr id="488" name="Line 7"/>
              <p:cNvSpPr/>
              <p:nvPr/>
            </p:nvSpPr>
            <p:spPr>
              <a:xfrm>
                <a:off x="4572000" y="1628640"/>
                <a:ext cx="1368360" cy="1729080"/>
              </a:xfrm>
              <a:prstGeom prst="line">
                <a:avLst/>
              </a:prstGeom>
              <a:ln w="228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4572000" y="1628640"/>
                <a:ext cx="1368360" cy="172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250920" y="1052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一、机械运动的定义：物体位置的相对变化就是机械运动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二、参照物：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Franklin Gothic Book"/>
                <a:ea typeface="楷体_GB2312"/>
              </a:rPr>
              <a:t>在判断物体是否运动时，事先选作标准、假定为不动的物体就是参照物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11:14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04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