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730-8818-4BC0-A1C1-81A1468F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845-3594-4BA7-B24C-558305A2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74E-6AF8-4C50-AF36-A96D29FA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005-D23F-4D1E-98D4-251CDC91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6C60-7124-4F9B-855D-E281DB0C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27EC-85A4-4EA4-8CB1-CC76CACB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76B4-FE8D-4F06-AA02-84946C16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9DDA-11A7-4723-8242-8687F8D4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287D-6199-4077-8889-A5C68CB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36BA-FE1A-4F40-8452-6D824483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75A2-EDF4-4706-8AE6-0CBFE6CD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74B-DDEB-4834-8A5B-422134B7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5F1D-3FC9-4889-BCEA-BE754CC8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91C4-14AF-4AD2-BA75-E74DDD5B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F187-D2AB-4626-8464-2F04AB9C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DDC6-9CC0-45E0-AAF9-7CDCDEEB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FDE9-4740-40FD-AFC1-1F778942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7C6-4A1E-4275-811B-1C81E775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81E-EA5F-4957-BA35-32A54AD2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1CD-2C7D-4362-81F4-A4F2771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611-105A-4BDD-A684-06B32ED0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F39-C3F1-47DC-A51E-33DA2C6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249-A393-4979-B450-6DB7591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406-5491-4650-8A6B-7FE62B4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87D5-B8CC-46A8-B2F3-B50DACE85B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2AED-0C92-4296-8024-8E6D86A9A5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xjxsj.cn/article/46660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xxjxsj.cn/article/4666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p2010111610263754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运动与设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68200" y="391464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物体在另一个物体表面运动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总是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摩擦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伴随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我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有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有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让我们找一找自行车上的好设计，并在班上进行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轻便、安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手把上和轮子做有花纹，防止打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后轴里安滚珠，使自行车减少了摩擦力，开的速度加快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大轮盘带动小齿轮盘，使速度加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刹车机关做在手把上，便于操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Cj04179920000[1]"/>
          <p:cNvPicPr/>
          <p:nvPr/>
        </p:nvPicPr>
        <p:blipFill>
          <a:blip r:embed="rId1"/>
          <a:stretch/>
        </p:blipFill>
        <p:spPr>
          <a:xfrm>
            <a:off x="1116000" y="4508640"/>
            <a:ext cx="6048360" cy="170172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锁不灵活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往锁孔里加点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摩擦力增大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鞋子穿旧了容易打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摩擦力减小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拉链不灵活了，涂点石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足球鞋底部有鞋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3141720"/>
            <a:ext cx="2448000" cy="1295280"/>
            <a:chOff x="2411280" y="3141720"/>
            <a:chExt cx="2448000" cy="1295280"/>
          </a:xfrm>
        </p:grpSpPr>
        <p:sp>
          <p:nvSpPr>
            <p:cNvPr id="118" name="Line 4"/>
            <p:cNvSpPr/>
            <p:nvPr/>
          </p:nvSpPr>
          <p:spPr>
            <a:xfrm>
              <a:off x="2411280" y="3141720"/>
              <a:ext cx="2448000" cy="12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411280" y="3141720"/>
              <a:ext cx="24480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3280" y="2349360"/>
            <a:ext cx="1440000" cy="1224000"/>
            <a:chOff x="3203280" y="2349360"/>
            <a:chExt cx="1440000" cy="1224000"/>
          </a:xfrm>
        </p:grpSpPr>
        <p:sp>
          <p:nvSpPr>
            <p:cNvPr id="121" name="Line 5"/>
            <p:cNvSpPr/>
            <p:nvPr/>
          </p:nvSpPr>
          <p:spPr>
            <a:xfrm flipV="1">
              <a:off x="3203640" y="2349360"/>
              <a:ext cx="1439640" cy="122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 rot="10800000">
              <a:off x="3203280" y="2349360"/>
              <a:ext cx="143964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059280" y="3573360"/>
            <a:ext cx="1512720" cy="71640"/>
            <a:chOff x="3059280" y="3573360"/>
            <a:chExt cx="1512720" cy="71640"/>
          </a:xfrm>
        </p:grpSpPr>
        <p:sp>
          <p:nvSpPr>
            <p:cNvPr id="124" name="Line 6"/>
            <p:cNvSpPr/>
            <p:nvPr/>
          </p:nvSpPr>
          <p:spPr>
            <a:xfrm>
              <a:off x="3059280" y="3573360"/>
              <a:ext cx="1512720" cy="71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059280" y="3573360"/>
              <a:ext cx="151272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132000" y="2276640"/>
            <a:ext cx="1440000" cy="2376360"/>
            <a:chOff x="3132000" y="2276640"/>
            <a:chExt cx="1440000" cy="2376360"/>
          </a:xfrm>
        </p:grpSpPr>
        <p:sp>
          <p:nvSpPr>
            <p:cNvPr id="127" name="Line 7"/>
            <p:cNvSpPr/>
            <p:nvPr/>
          </p:nvSpPr>
          <p:spPr>
            <a:xfrm>
              <a:off x="3132000" y="2276640"/>
              <a:ext cx="1440000" cy="2376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132000" y="2276640"/>
              <a:ext cx="144000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203640" y="2276640"/>
            <a:ext cx="1512720" cy="2447640"/>
            <a:chOff x="3203640" y="2276640"/>
            <a:chExt cx="1512720" cy="2447640"/>
          </a:xfrm>
        </p:grpSpPr>
        <p:sp>
          <p:nvSpPr>
            <p:cNvPr id="130" name="Line 8"/>
            <p:cNvSpPr/>
            <p:nvPr/>
          </p:nvSpPr>
          <p:spPr>
            <a:xfrm>
              <a:off x="3203640" y="2276640"/>
              <a:ext cx="1512720" cy="244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203640" y="2276640"/>
              <a:ext cx="1512720" cy="24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276720" y="2492280"/>
            <a:ext cx="1224000" cy="2232000"/>
            <a:chOff x="3276720" y="2492280"/>
            <a:chExt cx="1224000" cy="2232000"/>
          </a:xfrm>
        </p:grpSpPr>
        <p:sp>
          <p:nvSpPr>
            <p:cNvPr id="133" name="Line 9"/>
            <p:cNvSpPr/>
            <p:nvPr/>
          </p:nvSpPr>
          <p:spPr>
            <a:xfrm>
              <a:off x="3276720" y="2492280"/>
              <a:ext cx="1224000" cy="223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3276720" y="2492280"/>
              <a:ext cx="1224000" cy="22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2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补充作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增大摩擦力的实例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鞋底部的花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轮胎表面的花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自行车的刹车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水泥地面的凿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老虎钳柄上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突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84360" y="1916280"/>
            <a:ext cx="74880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03280" y="2997360"/>
            <a:ext cx="5905440" cy="1800000"/>
            <a:chOff x="1403280" y="2997360"/>
            <a:chExt cx="5905440" cy="1800000"/>
          </a:xfrm>
        </p:grpSpPr>
        <p:sp>
          <p:nvSpPr>
            <p:cNvPr id="139" name="Line 5"/>
            <p:cNvSpPr/>
            <p:nvPr/>
          </p:nvSpPr>
          <p:spPr>
            <a:xfrm>
              <a:off x="1403280" y="2997360"/>
              <a:ext cx="5905440" cy="180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1403280" y="2997360"/>
              <a:ext cx="590544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6"/>
          <p:cNvSpPr/>
          <p:nvPr/>
        </p:nvSpPr>
        <p:spPr>
          <a:xfrm>
            <a:off x="971640" y="2349360"/>
            <a:ext cx="7632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971640" y="2276640"/>
            <a:ext cx="7632720" cy="3889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00000" y="2781360"/>
            <a:ext cx="792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二、减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摩擦力的实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齿轮上涂润滑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轴承上安滚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锁不灵活了，往锁孔里加点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拉链不灵活了，涂点石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阅读资料库中的短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世界没有了摩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能选择该短文后面的一个问题写一篇小论文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…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接着往下写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试试吧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够写一篇题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没有重力的世界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作品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200"/>
          <p:cNvSpPr/>
          <p:nvPr/>
        </p:nvSpPr>
        <p:spPr>
          <a:xfrm>
            <a:off x="755640" y="2238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在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接着往下写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试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没有了摩擦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物在地上到处乱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碰撞在一起”汪汪”直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孩子也因为没有了摩擦力玩到很远的地方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几个小朋友互相缠绕在一起哭喊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外出因为没有了摩擦力经常摔跟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没有重力的世界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力对我们的生活影响很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没有重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雨雪不能落到地面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踢出去的皮球会远走高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只要轻轻一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再也不能落到地面上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话，人就不一定会站在地面上，人的身子很轻像风筝一样到处乱飘；动物也会到处乱跑，像跳霹雳舞一样不用力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E46E-DA03-49BF-A4A8-5A7E84773B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田野里的蔬菜也会飞起来。河流没有很多水，有部分飞到了天上和树上。吃饭时菜和饭到处乱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街面上到处是垃圾飘扬。树上的果实都飞到天外去了，你嘴馋也别想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上没有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的人和鸡毛一样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的手不能推房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轻轻一推房子就跑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书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铅笔都要用线捆在身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然会飞走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摩擦力在什么时候对我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有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小孩蹬滑板车，摩擦力对滑板前进有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碍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机器部件相互摩擦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磨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有害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车轴处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摩擦力有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0000" y="5373720"/>
            <a:ext cx="3095640" cy="360"/>
            <a:chOff x="900000" y="5373720"/>
            <a:chExt cx="3095640" cy="360"/>
          </a:xfrm>
        </p:grpSpPr>
        <p:sp>
          <p:nvSpPr>
            <p:cNvPr id="89" name="Line 4"/>
            <p:cNvSpPr/>
            <p:nvPr/>
          </p:nvSpPr>
          <p:spPr>
            <a:xfrm>
              <a:off x="900000" y="5373720"/>
              <a:ext cx="3095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900000" y="537372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摩擦力在什么时候是有利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走路，汽车行驶时，这时的摩擦力对人和车是有利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人站在滑板车上，这时鞋子和车板的摩擦力是有利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汽车刹车时，摩擦力是有利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鞋底和车轮表面做成花纹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为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为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防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和汽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打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也就是说为了运动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体接触面更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粗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增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了摩擦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一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更好地运动，人们在制造有关物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都进行了精心的设计。当人们需要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擦力的时候，就想办法去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增大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摩擦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人们不需要摩擦力时就想办法去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减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擦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20101116102749687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72880" y="2205000"/>
            <a:ext cx="85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了使骑自行车时轻便、安全，设计师们进行了精心的设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19240" y="9079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寻找自行车上的好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7"/>
          <p:cNvSpPr/>
          <p:nvPr/>
        </p:nvSpPr>
        <p:spPr>
          <a:xfrm>
            <a:off x="3981600" y="4076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自行车有哪些与运动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密切有关的部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轮子、脚蹬子、前轴、后轴、齿轮、链条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轴大链盘、刹车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b_200878163433"/>
          <p:cNvPicPr/>
          <p:nvPr/>
        </p:nvPicPr>
        <p:blipFill>
          <a:blip r:embed="rId1"/>
          <a:stretch/>
        </p:blipFill>
        <p:spPr>
          <a:xfrm>
            <a:off x="1332000" y="3429000"/>
            <a:ext cx="6840360" cy="321624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自行车运动哪些地方需要摩擦力？是用什么方法增加摩擦力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需要摩擦力的有：轮胎表面、脚蹬板表面、把手表面、刹车橡皮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后轮胎、脚蹬板表面、把手用做花纹的办法，增加表面粗糙；刹车橡皮运用施加压力办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b_200878163433"/>
          <p:cNvPicPr/>
          <p:nvPr/>
        </p:nvPicPr>
        <p:blipFill>
          <a:blip r:embed="rId1"/>
          <a:stretch/>
        </p:blipFill>
        <p:spPr>
          <a:xfrm>
            <a:off x="2700360" y="3789360"/>
            <a:ext cx="5904000" cy="270972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8200"/>
          <p:cNvSpPr/>
          <p:nvPr/>
        </p:nvSpPr>
        <p:spPr>
          <a:xfrm>
            <a:off x="1327320" y="14176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行车运动哪些地方不需要摩擦力。是用什么方法减少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答：不需要摩擦力的有：前轴、后轴、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蹬子轴、大小齿轮和链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少摩擦力的方法是在轴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安滚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加润滑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轮胎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加花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Cj04212820000[1]"/>
          <p:cNvPicPr/>
          <p:nvPr/>
        </p:nvPicPr>
        <p:blipFill>
          <a:blip r:embed="rId1"/>
          <a:stretch/>
        </p:blipFill>
        <p:spPr>
          <a:xfrm>
            <a:off x="4859280" y="3429000"/>
            <a:ext cx="2951280" cy="2130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MCj04206200000[1]"/>
          <p:cNvPicPr/>
          <p:nvPr/>
        </p:nvPicPr>
        <p:blipFill>
          <a:blip r:embed="rId2"/>
          <a:stretch/>
        </p:blipFill>
        <p:spPr>
          <a:xfrm>
            <a:off x="611280" y="393372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5:45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00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