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08F-DBCC-40FE-9BB5-9F2180DF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F4E-A408-4CC5-A286-DD8577F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8E4-00F1-4052-AA08-54767647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E65-B73D-473B-97FB-4E3F2982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9EE-DA0F-470F-A731-3F035FAE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499-A463-4DB4-8212-9BFE21D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1B1-890E-40C1-A87B-CE15E401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AF4-FD4F-4C48-A1A9-28721BC2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B68-0F60-45E7-B0E7-C45AB9F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0030-E9D4-48C0-8D97-8908B1A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BDEE-A5D6-4151-B4D7-B22D658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75D-F607-4876-A138-6A5117E0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7F4C-E77C-4B42-A0C3-E59235D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F2B2-1EF4-46C8-9004-B203FA2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CAF9-7551-40FB-B85A-95A3C6AF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715-2503-469C-87D1-09F1A0CF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C8DE-05D1-47E3-B782-7213CA97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C8E-14A5-4A30-92B0-A01B392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19D-25BF-4E5C-8971-DDEC45C1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7A4-9AA3-4FA1-BCA1-7D74CD5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D35-FA1A-429A-AADE-4EA666A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819-87B5-4D5E-B302-632179B0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81B-1BCA-4708-B038-CEEADE1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5DE-AC30-4124-9376-AC2D271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A6D-5B3E-4ED4-8A66-1BBA2F117E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D05-05F3-45FA-AEFA-B6F13C0E50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91A-5259-449A-8484-268A85222E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276720" y="292572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音乐教育专业毕业论文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1160" y="716040"/>
            <a:ext cx="898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bg3_03.png"/>
          <p:cNvPicPr/>
          <p:nvPr/>
        </p:nvPicPr>
        <p:blipFill>
          <a:blip r:embed="rId1"/>
          <a:stretch/>
        </p:blipFill>
        <p:spPr>
          <a:xfrm>
            <a:off x="0" y="5210280"/>
            <a:ext cx="2467080" cy="16477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bg3_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857160" y="58428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Elephant"/>
              </a:rPr>
              <a:t>Enter you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5E8-B3C2-438D-8AE9-42C8925FC5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8599-2351-4612-99F0-AB9A950550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4113360" y="3068640"/>
            <a:ext cx="571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Elephant"/>
              </a:rPr>
              <a:t>Thank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9588-5548-426C-8827-01449276DE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3:2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