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490-9672-4985-B92B-FA90A905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BFB6-845D-4730-A4E8-D81F850E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CE7-A444-4FC2-99A9-D514ABAF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DF25-3C77-4256-9EFD-6705F743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593A-4CB0-4046-9376-86A985F5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428E-52A0-438E-8DFC-A7732154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5FF2-B155-447A-820F-E91E142C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0F24-F4E5-4843-95DD-E5CB51EA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B3BB-9F47-4D71-A7F3-0A15B64E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5B67-E565-4A2E-A47B-0B9E4489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A920-6028-4A58-86B1-890F09D0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D48-26C1-49B3-9220-3E954844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41BE-1588-4848-A1E6-2783A918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EA52-76DE-4D78-868F-191FF4DD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88A9-15D9-4569-B9A1-33A215DF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E5C9-CA79-4EAD-A7FA-D1334D0A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E5D7-4C57-427F-BB1B-5898B7E7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B36CB-B3E5-4B1C-8600-ECF1B132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A0A22-74B3-4815-A431-F84E7EDD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A468A-3756-41E1-94CA-CC72B043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357A5-72C1-4996-8049-897473B2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566D9-C1AF-4CA4-AD8E-A86D32BC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D2B-7629-400F-A8B6-72241352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8DFFC-4C73-4579-B3DB-007D24EE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09DF5-185E-482E-B60C-1418463F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D8DB7-D74E-4807-8A36-D1101AB9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52A5D-1CEA-4F4F-80B8-C4DABD10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197BA-0038-4CDA-A6F6-2B9FD74D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8CACF-837E-4C42-94E9-84EBD544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A9F33-CA99-4C99-A254-19449236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492-0ED1-4DE7-8513-25C3151E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44D-3CC2-41A2-84E6-043CC1B2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C784-980A-4AA2-BCBF-17B77AB5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82D7-15B4-464A-9A01-03C292A2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757-C474-4016-80D0-E24D2F1E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C2FB-C949-4C16-A452-47BA34AE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DC7C-EC4F-4AE6-B25B-22B93F511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6185-A84D-4497-935B-4D268B6A5B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2C5B-C646-46D1-913B-BD39B3457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原来是相关联的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别写出金鱼和鸽子与它们的生活环境相适应的身体形态结构特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057400"/>
          <a:ext cx="8229600" cy="4656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动物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生活环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身体特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我猜想的功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金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鸽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115"/>
          <p:cNvSpPr/>
          <p:nvPr/>
        </p:nvSpPr>
        <p:spPr>
          <a:xfrm>
            <a:off x="25909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水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6"/>
          <p:cNvSpPr/>
          <p:nvPr/>
        </p:nvSpPr>
        <p:spPr>
          <a:xfrm>
            <a:off x="26668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树木、天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7"/>
          <p:cNvSpPr/>
          <p:nvPr/>
        </p:nvSpPr>
        <p:spPr>
          <a:xfrm>
            <a:off x="4572000" y="320040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身体上有鳞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长有鱼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有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梭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8"/>
          <p:cNvSpPr/>
          <p:nvPr/>
        </p:nvSpPr>
        <p:spPr>
          <a:xfrm>
            <a:off x="4648320" y="4878360"/>
            <a:ext cx="190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长有翅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长有羽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骨骼中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长有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9"/>
          <p:cNvSpPr/>
          <p:nvPr/>
        </p:nvSpPr>
        <p:spPr>
          <a:xfrm>
            <a:off x="6629400" y="3048120"/>
            <a:ext cx="2286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保护身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游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呼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减少运动阻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0"/>
          <p:cNvSpPr/>
          <p:nvPr/>
        </p:nvSpPr>
        <p:spPr>
          <a:xfrm>
            <a:off x="6705720" y="4876920"/>
            <a:ext cx="190476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飞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飞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减轻体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吃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植物和动物所具有的形态结构，使它们与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生活环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相适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它们与什么环境相关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猫的抓"/>
          <p:cNvPicPr/>
          <p:nvPr/>
        </p:nvPicPr>
        <p:blipFill>
          <a:blip r:embed="rId1"/>
          <a:stretch/>
        </p:blipFill>
        <p:spPr>
          <a:xfrm>
            <a:off x="380880" y="2057400"/>
            <a:ext cx="2781360" cy="3657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鸟的抓"/>
          <p:cNvPicPr/>
          <p:nvPr/>
        </p:nvPicPr>
        <p:blipFill>
          <a:blip r:embed="rId2"/>
          <a:stretch/>
        </p:blipFill>
        <p:spPr>
          <a:xfrm>
            <a:off x="3048120" y="2743200"/>
            <a:ext cx="2197080" cy="2548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鸭的蹼"/>
          <p:cNvPicPr/>
          <p:nvPr/>
        </p:nvPicPr>
        <p:blipFill>
          <a:blip r:embed="rId3"/>
          <a:stretch/>
        </p:blipFill>
        <p:spPr>
          <a:xfrm>
            <a:off x="6095880" y="2819520"/>
            <a:ext cx="1787760" cy="259056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7"/>
          <p:cNvSpPr/>
          <p:nvPr/>
        </p:nvSpPr>
        <p:spPr>
          <a:xfrm>
            <a:off x="1828800" y="5334120"/>
            <a:ext cx="5181480" cy="1295280"/>
          </a:xfrm>
          <a:prstGeom prst="wedgeRoundRectCallout">
            <a:avLst>
              <a:gd name="adj1" fmla="val -53675"/>
              <a:gd name="adj2" fmla="val -947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肉垫，地上跑时发出声音较小，不易被捕食对象发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724280" y="1676520"/>
            <a:ext cx="3657600" cy="1523880"/>
          </a:xfrm>
          <a:prstGeom prst="wedgeRoundRectCallout">
            <a:avLst>
              <a:gd name="adj1" fmla="val -71962"/>
              <a:gd name="adj2" fmla="val 478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容易抓住树干，适宜生活在森林中，并有利于捕抓小动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1600200" y="5181480"/>
            <a:ext cx="4114800" cy="1524240"/>
          </a:xfrm>
          <a:prstGeom prst="wedgeRoundRectCallout">
            <a:avLst>
              <a:gd name="adj1" fmla="val 81981"/>
              <a:gd name="adj2" fmla="val -5020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可以用来划水，适应生活在水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533520" y="685800"/>
            <a:ext cx="8076960" cy="1676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观察图中的生物器官有什么特点？它们分别有什么作用，这些生物适宜生活在什么样的环境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7FF2-5E9B-4606-B8C3-CC4A8DD8C7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苍耳"/>
          <p:cNvPicPr/>
          <p:nvPr/>
        </p:nvPicPr>
        <p:blipFill>
          <a:blip r:embed="rId1"/>
          <a:stretch/>
        </p:blipFill>
        <p:spPr>
          <a:xfrm>
            <a:off x="228600" y="609480"/>
            <a:ext cx="4486320" cy="2606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莲子"/>
          <p:cNvPicPr/>
          <p:nvPr/>
        </p:nvPicPr>
        <p:blipFill>
          <a:blip r:embed="rId2"/>
          <a:stretch/>
        </p:blipFill>
        <p:spPr>
          <a:xfrm>
            <a:off x="380880" y="3429000"/>
            <a:ext cx="4114800" cy="2176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蒲公英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828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"/>
          <p:cNvSpPr/>
          <p:nvPr/>
        </p:nvSpPr>
        <p:spPr>
          <a:xfrm>
            <a:off x="838080" y="3124080"/>
            <a:ext cx="4496040" cy="1600200"/>
          </a:xfrm>
          <a:prstGeom prst="wedgeRoundRectCallout">
            <a:avLst>
              <a:gd name="adj1" fmla="val -55259"/>
              <a:gd name="adj2" fmla="val -450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种子上有刺，在陆地上生活，容易被动物携带传播种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3886200" y="5638680"/>
            <a:ext cx="4495680" cy="1219320"/>
          </a:xfrm>
          <a:prstGeom prst="wedgeRoundRectCallout">
            <a:avLst>
              <a:gd name="adj1" fmla="val -116490"/>
              <a:gd name="adj2" fmla="val -583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莲子有较硬的外壳，可在水中漂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4191120" y="685800"/>
            <a:ext cx="4495680" cy="1219320"/>
          </a:xfrm>
          <a:prstGeom prst="wedgeRoundRectCallout">
            <a:avLst>
              <a:gd name="adj1" fmla="val 11226"/>
              <a:gd name="adj2" fmla="val 8203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种子上有毛，容易随风漂移，传播种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47712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67053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848360" cy="562752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知道许多生物都有特殊的形态结构，骆驼的驼峰、鸟类的翅膀、仙人掌退化成刺的叶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些特殊结构，使得生命世界更加丰富多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9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不同环境中的植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浮萍"/>
          <p:cNvPicPr/>
          <p:nvPr/>
        </p:nvPicPr>
        <p:blipFill>
          <a:blip r:embed="rId1"/>
          <a:stretch/>
        </p:blipFill>
        <p:spPr>
          <a:xfrm>
            <a:off x="152280" y="1828800"/>
            <a:ext cx="4108680" cy="4400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小草"/>
          <p:cNvPicPr/>
          <p:nvPr/>
        </p:nvPicPr>
        <p:blipFill>
          <a:blip r:embed="rId2"/>
          <a:stretch/>
        </p:blipFill>
        <p:spPr>
          <a:xfrm>
            <a:off x="4343400" y="1965240"/>
            <a:ext cx="4572000" cy="40546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685800" y="1905120"/>
            <a:ext cx="777240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采集一些生活在水中的植物和一些生活在陆地上的植物，观察比较它们的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有什么不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85800" y="685800"/>
            <a:ext cx="7772400" cy="243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浮萍：根系退化，只有一根较细的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草、玉米：都有庞大的根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观察生活在不同地方的陆生植物，比较它们的叶子有什么不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仙人掌"/>
          <p:cNvPicPr/>
          <p:nvPr/>
        </p:nvPicPr>
        <p:blipFill>
          <a:blip r:embed="rId1"/>
          <a:stretch/>
        </p:blipFill>
        <p:spPr>
          <a:xfrm>
            <a:off x="304920" y="2438280"/>
            <a:ext cx="2971800" cy="2640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松树"/>
          <p:cNvPicPr/>
          <p:nvPr/>
        </p:nvPicPr>
        <p:blipFill>
          <a:blip r:embed="rId2"/>
          <a:stretch/>
        </p:blipFill>
        <p:spPr>
          <a:xfrm>
            <a:off x="3581280" y="2209680"/>
            <a:ext cx="2867040" cy="2967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香蕉树"/>
          <p:cNvPicPr/>
          <p:nvPr/>
        </p:nvPicPr>
        <p:blipFill>
          <a:blip r:embed="rId3"/>
          <a:stretch/>
        </p:blipFill>
        <p:spPr>
          <a:xfrm>
            <a:off x="6629400" y="2362320"/>
            <a:ext cx="2036880" cy="302400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7"/>
          <p:cNvSpPr/>
          <p:nvPr/>
        </p:nvSpPr>
        <p:spPr>
          <a:xfrm>
            <a:off x="609480" y="5562720"/>
            <a:ext cx="7772400" cy="1143000"/>
          </a:xfrm>
          <a:prstGeom prst="wedgeRoundRectCallout">
            <a:avLst>
              <a:gd name="adj1" fmla="val -24694"/>
              <a:gd name="adj2" fmla="val -1140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仙人掌叶子退化城刺状，茎绿色、肥厚多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533520" y="5562720"/>
            <a:ext cx="7772400" cy="1143000"/>
          </a:xfrm>
          <a:prstGeom prst="wedgeRoundRectCallout">
            <a:avLst>
              <a:gd name="adj1" fmla="val 9537"/>
              <a:gd name="adj2" fmla="val -1077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松树的叶为针形，可以减少水分的蒸发，有利于保持身体温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685800" y="5562720"/>
            <a:ext cx="7772400" cy="1143000"/>
          </a:xfrm>
          <a:prstGeom prst="wedgeRoundRectCallout">
            <a:avLst>
              <a:gd name="adj1" fmla="val 35050"/>
              <a:gd name="adj2" fmla="val -912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香蕉树叶子宽大，更有利于蒸发体内水分，调节植物体的温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还能说出哪些植物的特殊形态结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们为什么会有这些不同的形态结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85800" y="41911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植物叶的形态与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生活环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相适应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不同环境中的动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观察生活在水里和在空中飞行的动物，比较它们的身体特征有什么相同和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金鱼"/>
          <p:cNvPicPr/>
          <p:nvPr/>
        </p:nvPicPr>
        <p:blipFill>
          <a:blip r:embed="rId1"/>
          <a:stretch/>
        </p:blipFill>
        <p:spPr>
          <a:xfrm>
            <a:off x="838080" y="4419720"/>
            <a:ext cx="3124440" cy="1508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鸽子"/>
          <p:cNvPicPr/>
          <p:nvPr/>
        </p:nvPicPr>
        <p:blipFill>
          <a:blip r:embed="rId2"/>
          <a:stretch/>
        </p:blipFill>
        <p:spPr>
          <a:xfrm>
            <a:off x="4572000" y="4191120"/>
            <a:ext cx="2676600" cy="22888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533520" y="1981080"/>
            <a:ext cx="807696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在不同环境中生活的动物，也有明显不同的形态结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08:21:0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15Z</dcterms:modified>
  <cp:revision>5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