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F4A-9561-43EB-A586-7E64067E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DE0-347D-4C2E-BFF8-16BE4F53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921-0D28-4E40-AC6B-D709738D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7B4-B3FD-4EE3-96C4-F7A3D2C9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6A82-66D6-4DAF-8426-D1D08C36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E7EA-606F-4C60-99B6-F784CE0D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463F-BDB9-4E65-989B-68C13BF6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808F-B965-47A7-90C5-A95BE062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D574-A038-47C2-9481-3B643412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DD7A-ADE5-4664-BAD8-7316BC25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A4CF-5A58-43EB-9799-0B0CB87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FCB-EF2F-4CA6-A877-A0F7A14C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7EBD-7AE7-4CC5-B869-09216B05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5DF3-33F1-4B23-85EB-B022F1DE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B6CA-A68B-4BF6-9CC2-1AE889CC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F625-3D84-4306-BE8A-41C2A450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D41C-20C3-4C5D-9085-31BFB9ED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13D48-BE91-4838-A37F-7B4CE965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2648-9D8D-484E-8C20-30C2D960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CD28C-BAEA-4356-AABC-4DCE6BA5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7EBF-0818-4A9F-8131-08DFB0CA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6CBE-9685-4EAF-94CD-774A93D3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071-3E9E-4633-B660-0BF673E0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15D4-56E3-4E85-8029-CAE28929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E32D-8323-4A5D-9401-19E6CB2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26C5-27CE-4276-931B-6EB8167F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930C2-2D05-4725-9B12-8C95E659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4C0E-68F2-41C7-8A54-3F243A47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4AC4-14DD-4368-9D1C-BD56F782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74F3-CE67-4D40-92FB-61550A94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F2C-74F9-4835-8E24-E6308BF1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D6C-28B0-46FC-A15E-A3112AB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6CE-CC29-449F-B0BD-0F58F2E2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AC5-B534-493F-9AC5-EA1921F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59A-24E4-462A-BB5C-CDF3548D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2EE-695B-4139-80DE-59216F7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7F7-F9FD-4CDB-A25D-BCE590059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EE04-31C1-4868-AF72-11038A8F35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A4AD-8756-4EF1-A43F-6DCDDC990C44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云南的歌会课件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模板打包下载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沈从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765000"/>
            <a:ext cx="8540640" cy="54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正月里那个说媒，二月里定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三月里交大钱，四月里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三班子那个吹来，两班子打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撇下我的情哥哥，抬进了周家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6"/>
          <p:cNvSpPr/>
          <p:nvPr/>
        </p:nvSpPr>
        <p:spPr>
          <a:xfrm>
            <a:off x="1908000" y="486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一、介绍作者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700280"/>
            <a:ext cx="82310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沈从文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190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988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苗族，湖南凤凰人，历任武汉大学、青岛大学、西南联大、北京大学教授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大公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艺副刊编辑，中国历史博物馆文物研究员，中国社会科学院历史研究所研究员。在散文、小说创作和古代服饰研究方面均取得很大成绩，代表作有小说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边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散文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湘行散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论著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国古代服饰研究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文本框 8197"/>
          <p:cNvSpPr/>
          <p:nvPr/>
        </p:nvSpPr>
        <p:spPr>
          <a:xfrm>
            <a:off x="2124000" y="5877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理解下列词语的意思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蹲踞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蹲着、坐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酬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用诗词应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熹微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形容阳光不强（多指清晨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淳朴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诚实、朴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龙吟凤哕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龙凤鸣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三、整体感知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54720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朗读课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精读讨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概述三个场面的各自的内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一部分：山野对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具有对抗的性质 情歌为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二部分：山路漫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着力描写唱歌人所处的优美的环境 随心所欲 山歌为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三部分：村寨传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场面描写较多 教歌 内容丰富不受限制 突出云南歌会的特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广泛 参与人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小结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章字里行间洋溢着对自然、对人、对艺术的品味和赞赏。生活的美好，人生的美好在作者抒情的笔调中汩汩流淌而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文本框 8197"/>
          <p:cNvSpPr/>
          <p:nvPr/>
        </p:nvSpPr>
        <p:spPr>
          <a:xfrm>
            <a:off x="900000" y="4581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四、问题研究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课后练习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一段以工笔描绘为主，刻画细腻真实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二段着力描写人物的神韵气度，流露出作者的情感倾向。运用了比喻、拟人等手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086D-EC9A-4F7D-87A9-CCE5BB46E7EC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后练习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课文第四段，用许多笔墨描写由呈贡进城时一路的景色，写“开满杂花的小山坡”，“各种山鸟呼朋唤侣”，还有戴胜鸟和云雀的歌唱。这些内容和“赶马女孩子的歌唱”有什么关系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你觉得作者写这些有什么用意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对“赶马女孩的歌唱”的真实写照，又是对主脑的铺垫，还是一种烘托映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07:39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06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