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7E5-CA25-4ACD-A516-2AB72909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3A2-8324-4824-8822-3F710DC1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D17-CB2D-4272-BB2F-8309DD38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871-149B-4B0C-B6D6-3689AC2E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B34-E98B-49C2-9BE1-1866BE1F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0898-9D63-447E-AF57-CA1CA55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509-00B0-41A5-BFD0-1A2A5F54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8A2-F691-4D91-8DAA-2602877A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D9E-7406-4DF6-9743-4CC1F75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7D9C-1E8E-4E19-A286-C58CEB9B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4527-97DA-4642-92B9-1D9BF97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CDE-A6CB-40EF-8024-57A6C19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984D-C2E8-46AD-B141-16AC890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F4B-536B-49A3-92AD-32FDC56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FB35-DFA2-45E3-BEA3-C8C4D03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654F-259B-4F4E-8F77-8FD38AB4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8ED2-D035-411F-BCA0-4D3E5EB7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D78-0BBA-4A98-9FA1-D8CCA189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77A-C99A-4C59-A583-CF223E32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9FB-A62F-4243-8E79-2B0E567E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FC5-8D12-4B07-A40B-F5E6AC9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83C-25BA-444F-A905-4573CE9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CCF-EBAC-4D9C-A5E2-3BCBA7C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6BA-EFCB-41B0-92EC-C6F66DC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77A-A519-423F-94D4-077CB7AC6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CA8-ADD4-4C07-B84C-CFA3285625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55627&#23731;&#38451;&#27004;&#35760;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828720" y="692280"/>
            <a:ext cx="72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岳阳楼记语文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508720" y="34290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455627岳阳楼记.wav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36360" y="-458640"/>
            <a:ext cx="883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予观夫巴陵胜状，在洞庭一湖。衔远山，吞长江，浩浩汤汤，横无际涯；朝晖夕阴，气象万千。此则岳阳楼之大观也。前人之述备矣，然则北通巫峡，南极潇湘，迁客骚人，多会于此，览物之情，得无异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“此则岳阳楼之大观也”中的“大观”与上文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一词照应；“多会于此”中的“此”指代的是              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作者对“岳阳楼之大观”的描写很简略，其原因是（请用课文中的话回答）具体描述岳阳楼之大观的句子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本文的最后一句“览物之情，得无异乎？”的意思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句话在文中的作用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841520" y="1471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胜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6294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岳阳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前人之述备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29000" y="3886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衔远山，吞长江，浩浩汤汤，横无际涯；朝晖夕阴，气象万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04920" y="51055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看了自然景物而触发的感情，怎能不有所不同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787640" y="5877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引出并概括下文（承上启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9280" y="26028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嗟夫！予尝求古仁人之心，或异二者之为，何哉？不以物喜，不以已悲；居庙堂之高则忧其民；处江湖之远则忧其君。是进亦忧，退亦忧。然则何时而乐耶？其必日：“先天下之忧而忧，后天下之乐而乐”乎。噫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微斯人，吾谁与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解释文中加点的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尝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或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则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加横线句子的意思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句子朗读节奏划分正确的一项是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予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古仁人／之心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／异二者／之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天下／之忧而／忧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处／江湖／之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／忧其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关这段文字，说法正确的一项是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这段文字出自宋代文学家欧阳修写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阳楼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“先天下之忧而忧，后天下之乐而乐”一句表达了作者旷达的胸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中的“进”和“退”分别照应前文的“居庙堂之高”和“处江湖之远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本段文字表达了作者被贬后的苦闷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1460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或许，也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80060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因，因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364160" y="205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11480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没有这种人，我同谁一道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248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9436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43828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岳阳楼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其余知识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2193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下列句子的默写和翻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" y="18288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登斯楼也，则有去国怀乡，忧谗畏讥，满目萧然，感极而悲者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3520" y="2971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以物喜，不以已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3657600"/>
            <a:ext cx="3657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重点字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0880" y="434340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具  谪守  越 明年  旧制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属予作文以记之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偕忘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9640" y="573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综合使用了几种表达方式？主要使用什么写法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8194"/>
          <p:cNvSpPr/>
          <p:nvPr/>
        </p:nvSpPr>
        <p:spPr>
          <a:xfrm>
            <a:off x="3348000" y="342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楼上碑刻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050920" y="62373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岳阳楼上的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岳阳楼记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碑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FFB-F01F-48A6-892E-7CD236BF25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杜甫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6732720" y="2997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609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作者"/>
          <p:cNvPicPr/>
          <p:nvPr/>
        </p:nvPicPr>
        <p:blipFill>
          <a:blip r:embed="rId1"/>
          <a:stretch/>
        </p:blipFill>
        <p:spPr>
          <a:xfrm>
            <a:off x="5181480" y="0"/>
            <a:ext cx="352908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0492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范仲淹，字希文，北宋政治家、军事家、文学家。苏州吴县（今属江苏）人。幼年时家境贫寒，在母亲教育下，发奋读书并怀有大志。公元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1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年考取进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3962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庆历三年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4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召为枢密副使，旋改参知政事。任职期间，敢于直言，实行有一定进步意义的改革，遭到保守势力的反对，不幸被贬到邓州任太守。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岳阳楼记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是他在邓州任上应好友滕子京所请而作。他的名句“先天下之忧而忧，后天下之乐而乐”，至今广为传诵。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范文正公集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026"/>
          <p:cNvSpPr/>
          <p:nvPr/>
        </p:nvSpPr>
        <p:spPr>
          <a:xfrm>
            <a:off x="533520" y="457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滕子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27"/>
          <p:cNvSpPr/>
          <p:nvPr/>
        </p:nvSpPr>
        <p:spPr>
          <a:xfrm>
            <a:off x="685800" y="1523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范仲淹同榜进士，两人的友谊是从那时候开始的。滕子京支持范仲淹的政治改革，也遭到保守势力的反对，亦被贬于岳州，心里很愤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28"/>
          <p:cNvSpPr/>
          <p:nvPr/>
        </p:nvSpPr>
        <p:spPr>
          <a:xfrm>
            <a:off x="762120" y="3886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29"/>
          <p:cNvSpPr/>
          <p:nvPr/>
        </p:nvSpPr>
        <p:spPr>
          <a:xfrm>
            <a:off x="609480" y="3429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仲淹想找机会劝慰好友，恰好他请范仲淹为重修岳阳楼作记。范仲淹就借题发挥，写出自己理想的为人处世态度，勉励滕子京学习古代有修养的人，不计较个人眼前得失，要做到“先天下之忧而忧，后天下之乐而乐”。当时范仲淹的处境同滕子京一样，写此文是劝友，也是自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28600" y="3808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庆历四年春，滕子京谪守巴陵郡。越明年，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政通人和，百废具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乃重修岳阳楼，增其旧制，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刻唐贤今人诗赋于其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属予作文以记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62120" y="335268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叙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修楼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作记缘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予观夫巴陵胜状，在洞庭一湖。衔远山，吞长江，浩浩汤汤，横无际涯；朝晖夕阴，气象万千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此则岳阳楼之大观也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人之述备矣。然则北通巫峡，南极潇湘，迁客骚人，多会于此，览物之情，得无异乎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4920" y="3124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写景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洞庭全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86200" y="114300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夫霪雨霏霏，连月不开，阴风怒号，浊浪排空；日星隐耀，山岳潜形；商旅不行，樯倾楫摧；薄暮冥冥，虎啸猿啼。登斯楼也，则有去国怀乡，忧谗畏讥，满目萧然，感极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0" y="4343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写景抒情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阴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9880" y="1371600"/>
            <a:ext cx="510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若春和景明，波澜不惊，上下天光，一碧万顷；沙鸥翔集，锦鳞游泳；岸芷汀兰，郁郁青青。而或长烟一空，皓月千里，浮光跃金，静影沉璧，渔歌互答，此乐何极！登斯楼也，则有心旷神怡，宠辱偕忘，把酒临风，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洋洋者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800600" y="5334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写景抒情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晴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-----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152280"/>
            <a:ext cx="8153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嗟夫！予尝求古仁人之心，或异二者之为，何哉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以物喜，不以己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居庙堂之高则忧其民；处江湖之远则忧其君。是进亦忧，退亦忧。然则何时而乐耶？其必曰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先天下之忧而忧，后天下之乐而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乎。噫！微斯人，吾谁与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六年九月十五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365760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议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博大胸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政治理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838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骈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236232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指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Arial"/>
              </a:rPr>
              <a:t>结构相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Arial"/>
              </a:rPr>
              <a:t>内容相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Arial"/>
              </a:rPr>
              <a:t>行文相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Arial"/>
              </a:rPr>
              <a:t>字数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的两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古诗文中的一些对偶句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排比句都属于骈句。骈句以外的句子都叫散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5:07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12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