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3.jpeg" ContentType="image/jpeg"/>
  <Override PartName="/ppt/media/image22.wmf" ContentType="image/x-wmf"/>
  <Override PartName="/ppt/media/camera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780-30BF-4804-ADEF-AA698562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3B3-EBA0-43C6-A11D-31AEEE5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83D-B103-4BBD-8EAA-9713AAD8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2F0-7384-49CB-8E9B-5344A042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B9B9-A1C4-42BC-8E84-294896AE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45A3-2BD1-4B6D-A7E4-E1DBE587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FABD-94D1-48DE-B14F-D6CD561A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380F-92D9-46EB-BA73-1E45AF89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ECB-DD26-4389-9422-29C206E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9297-4E2E-452D-AD52-5C52EC76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47F8-A16B-440D-A45F-E314954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B6B-8799-47CE-A1B8-39EF9FC8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80CD-2ED3-445C-9E07-0CE6B16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0890-B000-4C8B-AC07-D6BB527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4F31-0429-47B0-8BFA-C5AC488D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8352-BA88-4FBA-A4CF-8EDC33B3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4FC6-4654-4633-BEB5-E4F3688D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1542-B0A9-47BD-93A3-7BF6CF0F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C2E7-58BB-475A-8D86-E5E1BD7F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100E-E6F3-4B6E-BB4F-F7DBC8D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750C-2E1E-4701-B7C3-28C588B2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8F2F-743D-49E2-BDB1-EDC50C25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2D7-36B0-4D3A-9BEE-A318A33C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21BF-AD87-4C49-85F5-3A60E883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02DD-A0A2-48B8-8428-6FFB1749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21B8-A579-4246-8F9C-8C97A7E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ACCE-EE95-4015-ABED-F686A2A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793A-C07D-46CE-A697-380C73A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828B-112F-4F99-81A6-D68452A4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9BB6-1447-4C55-8370-FA69152E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76D1-5D81-4F7C-AEFE-144AE725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C7E6-2651-4726-9D14-467DB917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4481-61A6-43B9-A235-B5E2CE22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648-A8E6-4C9C-A5B3-302E70A3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02B2-1A90-48E9-972F-84FBFBFE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42B65-E4E2-41BF-833A-A85ED9C7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31E3-4BBA-4962-BA51-BD49CCE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967F-79FF-4504-B1AE-105B1DA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38C3-131E-4DAE-9966-237874F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FC35-BADE-4A03-9833-2053E06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08E0-FAF7-49D6-8DAF-10C50BF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5A35-FE3E-4D1F-BE9D-754BFDE2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A86E-68B5-4B62-9374-B079A7CA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39B-1442-41EB-81EF-9329A284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857-D56F-4170-B3B0-E53BBD88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4C8-AB62-4294-A8F8-EAE7818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86C-56A7-4373-9346-6D7B362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2D2-3144-4EF6-9EB8-4AE4486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0A6C-9293-4960-8798-15DD75C18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F542-B3C1-4D52-A62A-D6612239D5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9E63-F647-4B65-A7BD-17B0CA8F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B05A-3FBE-4059-9285-E202C28BFF5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322280" y="2057400"/>
            <a:ext cx="6499440" cy="73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正比例函数数学课件</a:t>
            </a:r>
            <a:r>
              <a:rPr b="1" lang="en-US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324000" y="404640"/>
            <a:ext cx="8686800" cy="703440"/>
            <a:chOff x="324000" y="404640"/>
            <a:chExt cx="8686800" cy="703440"/>
          </a:xfrm>
        </p:grpSpPr>
        <p:sp>
          <p:nvSpPr>
            <p:cNvPr id="253" name="Text Box 3"/>
            <p:cNvSpPr/>
            <p:nvPr/>
          </p:nvSpPr>
          <p:spPr>
            <a:xfrm>
              <a:off x="324000" y="404640"/>
              <a:ext cx="868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</a:rPr>
                <a:t>正比例函数         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y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k x</a:t>
              </a:r>
              <a:r>
                <a:rPr b="1" lang="zh-CN" sz="40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≠0</a:t>
              </a:r>
              <a:r>
                <a:rPr b="1" lang="zh-CN" sz="40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3193920" y="658800"/>
              <a:ext cx="914400" cy="304560"/>
            </a:xfrm>
            <a:prstGeom prst="leftRightArrow">
              <a:avLst>
                <a:gd name="adj1" fmla="val 50000"/>
                <a:gd name="adj2" fmla="val 6004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55" name="Object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05920" cy="167976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6" descr=""/>
          <p:cNvPicPr/>
          <p:nvPr/>
        </p:nvPicPr>
        <p:blipFill>
          <a:blip r:embed="rId2"/>
          <a:stretch/>
        </p:blipFill>
        <p:spPr>
          <a:xfrm>
            <a:off x="457200" y="2908440"/>
            <a:ext cx="7772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95280" y="98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应用新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838080" y="1916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若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y=5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3m-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是正比例函数，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= </a:t>
            </a:r>
            <a:r>
              <a:rPr b="1" lang="en-US" sz="40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132000" y="25653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正比例函数解析式的应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79280" y="259884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若                             是正比例函数，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=</a:t>
            </a:r>
            <a:r>
              <a:rPr b="1" lang="en-US" sz="40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2" name="Object 4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2951280" cy="1063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2195640" y="32130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文本框 8199"/>
          <p:cNvSpPr/>
          <p:nvPr/>
        </p:nvSpPr>
        <p:spPr>
          <a:xfrm>
            <a:off x="1571760" y="5329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42920" y="134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试一试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79280" y="134136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36480" y="315432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95280" y="1773360"/>
            <a:ext cx="708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9" name="Object 6" descr=""/>
          <p:cNvPicPr/>
          <p:nvPr/>
        </p:nvPicPr>
        <p:blipFill>
          <a:blip r:embed="rId1"/>
          <a:stretch/>
        </p:blipFill>
        <p:spPr>
          <a:xfrm>
            <a:off x="274680" y="1989000"/>
            <a:ext cx="891540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140360" y="620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正比例函数解析式的应用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72" name="Object 3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79280" y="134136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36480" y="315432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95280" y="1773360"/>
            <a:ext cx="708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0920" y="765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、正比例函数的概念的应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7" name="Object 6" descr=""/>
          <p:cNvPicPr/>
          <p:nvPr/>
        </p:nvPicPr>
        <p:blipFill>
          <a:blip r:embed="rId1"/>
          <a:stretch/>
        </p:blipFill>
        <p:spPr>
          <a:xfrm>
            <a:off x="1047600" y="1573200"/>
            <a:ext cx="720108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79" name="Object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81" name="Object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0" y="457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1: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画出下列正比例函数的图象（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y=2x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） 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y=-2x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34560" y="1981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画图步骤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00800" y="2743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１、列表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800800" y="3581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２、描点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89560" y="43434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３、连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42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730800" y="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y=2x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图象为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67796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28744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89692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5830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1166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7260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53359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563800" y="16002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y=2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457200"/>
          <a:ext cx="5943600" cy="88884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440"/>
                <a:gridCol w="593640"/>
                <a:gridCol w="593640"/>
                <a:gridCol w="595440"/>
                <a:gridCol w="593640"/>
                <a:gridCol w="595440"/>
                <a:gridCol w="593640"/>
              </a:tblGrid>
              <a:tr h="444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48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301" name="Line 49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3" name="Rectangle 50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Rectangle 51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Rectangle 52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Rectangle 53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Rectangle 56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Rectangle 58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Rectangle 59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Rectangle 62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Rectangle 65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Rectangle 66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Rectangle 67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Rectangle 68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Rectangle 69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Rectangle 70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Rectangle 71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Rectangle 72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Rectangle 73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Rectangle 74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Rectangle 75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Rectangle 76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Rectangle 77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Rectangle 78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Rectangle 79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Rectangle 80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Rectangle 81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Rectangle 82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Rectangle 83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Rectangle 84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Rectangle 85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Rectangle 86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Rectangle 87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Rectangle 88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Rectangle 89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Rectangle 90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Rectangle 91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Rectangle 92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Rectangle 93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Rectangle 94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Rectangle 95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Rectangle 96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Rectangle 97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Rectangle 98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Rectangle 99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Rectangle 100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Rectangle 101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Rectangle 102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Rectangle 103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Rectangle 104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Rectangle 105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Rectangle 106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Rectangle 107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Rectangle 108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Rectangle 109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Rectangle 110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Rectangle 111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Rectangle 112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Rectangle 113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Rectangle 114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Rectangle 115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Rectangle 116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Rectangle 117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Rectangle 118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Rectangle 119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Rectangle 120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Rectangle 121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Rectangle 122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Rectangle 123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Rectangle 124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Rectangle 125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Rectangle 126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Rectangle 127"/>
          <p:cNvSpPr/>
          <p:nvPr/>
        </p:nvSpPr>
        <p:spPr>
          <a:xfrm>
            <a:off x="3809880" y="36576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Rectangle 128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Rectangle 129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Rectangle 130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Rectangle 131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Rectangle 132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Rectangle 133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Rectangle 134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Rectangle 135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Rectangle 136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Rectangle 137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Rectangle 138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Rectangle 139"/>
          <p:cNvSpPr/>
          <p:nvPr/>
        </p:nvSpPr>
        <p:spPr>
          <a:xfrm>
            <a:off x="3809880" y="32767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Rectangle 140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Rectangle 141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Rectangle 142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Rectangle 143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Rectangle 144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Rectangle 145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Rectangle 146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Rectangle 147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Rectangle 148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Rectangle 149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Rectangle 150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Rectangle 151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Rectangle 152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Rectangle 153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Rectangle 154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Rectangle 155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Rectangle 156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Rectangle 157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Rectangle 158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Rectangle 159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Rectangle 160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Rectangle 161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Rectangle 162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Rectangle 163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Rectangle 164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Rectangle 165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Rectangle 166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Rectangle 167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Rectangle 168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Rectangle 169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Rectangle 170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Rectangle 171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Rectangle 172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Rectangle 173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Rectangle 175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Rectangle 176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Rectangle 177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Rectangle 178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Rectangle 179"/>
          <p:cNvSpPr/>
          <p:nvPr/>
        </p:nvSpPr>
        <p:spPr>
          <a:xfrm>
            <a:off x="1778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Rectangle 180"/>
          <p:cNvSpPr/>
          <p:nvPr/>
        </p:nvSpPr>
        <p:spPr>
          <a:xfrm>
            <a:off x="1270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Rectangle 181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Rectangle 182"/>
          <p:cNvSpPr/>
          <p:nvPr/>
        </p:nvSpPr>
        <p:spPr>
          <a:xfrm>
            <a:off x="6350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Rectangle 183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Rectangle 184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Rectangle 185"/>
          <p:cNvSpPr/>
          <p:nvPr/>
        </p:nvSpPr>
        <p:spPr>
          <a:xfrm>
            <a:off x="4343400" y="152388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Rectangle 186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Rectangle 187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Rectangle 188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Rectangle 189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Rectangle 190"/>
          <p:cNvSpPr/>
          <p:nvPr/>
        </p:nvSpPr>
        <p:spPr>
          <a:xfrm>
            <a:off x="1270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Rectangle 191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762120" y="1523880"/>
            <a:ext cx="6095880" cy="360"/>
            <a:chOff x="762120" y="1523880"/>
            <a:chExt cx="6095880" cy="360"/>
          </a:xfrm>
        </p:grpSpPr>
        <p:sp>
          <p:nvSpPr>
            <p:cNvPr id="446" name="Line 192"/>
            <p:cNvSpPr/>
            <p:nvPr/>
          </p:nvSpPr>
          <p:spPr>
            <a:xfrm>
              <a:off x="762120" y="15238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762120" y="15238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62120" y="1951200"/>
            <a:ext cx="6095880" cy="360"/>
            <a:chOff x="762120" y="1951200"/>
            <a:chExt cx="6095880" cy="360"/>
          </a:xfrm>
        </p:grpSpPr>
        <p:sp>
          <p:nvSpPr>
            <p:cNvPr id="449" name="Line 193"/>
            <p:cNvSpPr/>
            <p:nvPr/>
          </p:nvSpPr>
          <p:spPr>
            <a:xfrm>
              <a:off x="762120" y="1951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762120" y="1951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62120" y="2378160"/>
            <a:ext cx="6095880" cy="360"/>
            <a:chOff x="762120" y="2378160"/>
            <a:chExt cx="6095880" cy="360"/>
          </a:xfrm>
        </p:grpSpPr>
        <p:sp>
          <p:nvSpPr>
            <p:cNvPr id="452" name="Line 194"/>
            <p:cNvSpPr/>
            <p:nvPr/>
          </p:nvSpPr>
          <p:spPr>
            <a:xfrm>
              <a:off x="762120" y="23781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762120" y="23781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62120" y="2805120"/>
            <a:ext cx="6095880" cy="360"/>
            <a:chOff x="762120" y="2805120"/>
            <a:chExt cx="6095880" cy="360"/>
          </a:xfrm>
        </p:grpSpPr>
        <p:sp>
          <p:nvSpPr>
            <p:cNvPr id="455" name="Line 195"/>
            <p:cNvSpPr/>
            <p:nvPr/>
          </p:nvSpPr>
          <p:spPr>
            <a:xfrm>
              <a:off x="762120" y="28051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62120" y="2805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762120" y="3232080"/>
            <a:ext cx="6095880" cy="360"/>
            <a:chOff x="762120" y="3232080"/>
            <a:chExt cx="6095880" cy="360"/>
          </a:xfrm>
        </p:grpSpPr>
        <p:sp>
          <p:nvSpPr>
            <p:cNvPr id="458" name="Line 196"/>
            <p:cNvSpPr/>
            <p:nvPr/>
          </p:nvSpPr>
          <p:spPr>
            <a:xfrm>
              <a:off x="762120" y="32320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762120" y="32320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62120" y="3659040"/>
            <a:ext cx="6095880" cy="360"/>
            <a:chOff x="762120" y="3659040"/>
            <a:chExt cx="6095880" cy="360"/>
          </a:xfrm>
        </p:grpSpPr>
        <p:sp>
          <p:nvSpPr>
            <p:cNvPr id="461" name="Line 197"/>
            <p:cNvSpPr/>
            <p:nvPr/>
          </p:nvSpPr>
          <p:spPr>
            <a:xfrm>
              <a:off x="762120" y="36590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762120" y="36590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62120" y="4086360"/>
            <a:ext cx="6095880" cy="360"/>
            <a:chOff x="762120" y="4086360"/>
            <a:chExt cx="6095880" cy="360"/>
          </a:xfrm>
        </p:grpSpPr>
        <p:sp>
          <p:nvSpPr>
            <p:cNvPr id="464" name="Line 198"/>
            <p:cNvSpPr/>
            <p:nvPr/>
          </p:nvSpPr>
          <p:spPr>
            <a:xfrm>
              <a:off x="762120" y="40863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62120" y="40863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62120" y="4513320"/>
            <a:ext cx="6095880" cy="360"/>
            <a:chOff x="762120" y="4513320"/>
            <a:chExt cx="6095880" cy="360"/>
          </a:xfrm>
        </p:grpSpPr>
        <p:sp>
          <p:nvSpPr>
            <p:cNvPr id="467" name="Line 199"/>
            <p:cNvSpPr/>
            <p:nvPr/>
          </p:nvSpPr>
          <p:spPr>
            <a:xfrm>
              <a:off x="762120" y="45133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762120" y="4513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62120" y="4940280"/>
            <a:ext cx="6095880" cy="360"/>
            <a:chOff x="762120" y="4940280"/>
            <a:chExt cx="6095880" cy="360"/>
          </a:xfrm>
        </p:grpSpPr>
        <p:sp>
          <p:nvSpPr>
            <p:cNvPr id="470" name="Line 200"/>
            <p:cNvSpPr/>
            <p:nvPr/>
          </p:nvSpPr>
          <p:spPr>
            <a:xfrm>
              <a:off x="762120" y="49402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762120" y="49402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62120" y="5367240"/>
            <a:ext cx="6095880" cy="360"/>
            <a:chOff x="762120" y="5367240"/>
            <a:chExt cx="6095880" cy="360"/>
          </a:xfrm>
        </p:grpSpPr>
        <p:sp>
          <p:nvSpPr>
            <p:cNvPr id="473" name="Line 201"/>
            <p:cNvSpPr/>
            <p:nvPr/>
          </p:nvSpPr>
          <p:spPr>
            <a:xfrm>
              <a:off x="762120" y="53672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762120" y="53672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762120" y="5794200"/>
            <a:ext cx="6095880" cy="360"/>
            <a:chOff x="762120" y="5794200"/>
            <a:chExt cx="6095880" cy="360"/>
          </a:xfrm>
        </p:grpSpPr>
        <p:sp>
          <p:nvSpPr>
            <p:cNvPr id="476" name="Line 202"/>
            <p:cNvSpPr/>
            <p:nvPr/>
          </p:nvSpPr>
          <p:spPr>
            <a:xfrm>
              <a:off x="762120" y="5794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762120" y="5794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762120" y="6248520"/>
            <a:ext cx="6095880" cy="360"/>
            <a:chOff x="762120" y="6248520"/>
            <a:chExt cx="6095880" cy="360"/>
          </a:xfrm>
        </p:grpSpPr>
        <p:sp>
          <p:nvSpPr>
            <p:cNvPr id="479" name="Line 203"/>
            <p:cNvSpPr/>
            <p:nvPr/>
          </p:nvSpPr>
          <p:spPr>
            <a:xfrm>
              <a:off x="762120" y="62485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762120" y="62485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62120" y="1523880"/>
            <a:ext cx="360" cy="5151600"/>
            <a:chOff x="762120" y="1523880"/>
            <a:chExt cx="360" cy="5151600"/>
          </a:xfrm>
        </p:grpSpPr>
        <p:sp>
          <p:nvSpPr>
            <p:cNvPr id="482" name="Line 204"/>
            <p:cNvSpPr/>
            <p:nvPr/>
          </p:nvSpPr>
          <p:spPr>
            <a:xfrm>
              <a:off x="762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762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270080" y="1523880"/>
            <a:ext cx="360" cy="5151600"/>
            <a:chOff x="1270080" y="1523880"/>
            <a:chExt cx="360" cy="5151600"/>
          </a:xfrm>
        </p:grpSpPr>
        <p:sp>
          <p:nvSpPr>
            <p:cNvPr id="485" name="Line 205"/>
            <p:cNvSpPr/>
            <p:nvPr/>
          </p:nvSpPr>
          <p:spPr>
            <a:xfrm>
              <a:off x="1270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1270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778040" y="1523880"/>
            <a:ext cx="360" cy="5151600"/>
            <a:chOff x="1778040" y="1523880"/>
            <a:chExt cx="360" cy="5151600"/>
          </a:xfrm>
        </p:grpSpPr>
        <p:sp>
          <p:nvSpPr>
            <p:cNvPr id="488" name="Line 206"/>
            <p:cNvSpPr/>
            <p:nvPr/>
          </p:nvSpPr>
          <p:spPr>
            <a:xfrm>
              <a:off x="1778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1778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286000" y="1523880"/>
            <a:ext cx="360" cy="5151600"/>
            <a:chOff x="2286000" y="1523880"/>
            <a:chExt cx="360" cy="5151600"/>
          </a:xfrm>
        </p:grpSpPr>
        <p:sp>
          <p:nvSpPr>
            <p:cNvPr id="491" name="Line 207"/>
            <p:cNvSpPr/>
            <p:nvPr/>
          </p:nvSpPr>
          <p:spPr>
            <a:xfrm>
              <a:off x="2286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2286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743200" y="1523880"/>
            <a:ext cx="360" cy="5151600"/>
            <a:chOff x="2743200" y="1523880"/>
            <a:chExt cx="360" cy="5151600"/>
          </a:xfrm>
        </p:grpSpPr>
        <p:sp>
          <p:nvSpPr>
            <p:cNvPr id="494" name="Line 208"/>
            <p:cNvSpPr/>
            <p:nvPr/>
          </p:nvSpPr>
          <p:spPr>
            <a:xfrm>
              <a:off x="27432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27432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01920" y="1523880"/>
            <a:ext cx="360" cy="5151600"/>
            <a:chOff x="3301920" y="1523880"/>
            <a:chExt cx="360" cy="5151600"/>
          </a:xfrm>
        </p:grpSpPr>
        <p:sp>
          <p:nvSpPr>
            <p:cNvPr id="497" name="Line 209"/>
            <p:cNvSpPr/>
            <p:nvPr/>
          </p:nvSpPr>
          <p:spPr>
            <a:xfrm>
              <a:off x="33019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33019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809880" y="1523880"/>
            <a:ext cx="360" cy="5151600"/>
            <a:chOff x="3809880" y="1523880"/>
            <a:chExt cx="360" cy="5151600"/>
          </a:xfrm>
        </p:grpSpPr>
        <p:sp>
          <p:nvSpPr>
            <p:cNvPr id="500" name="Line 210"/>
            <p:cNvSpPr/>
            <p:nvPr/>
          </p:nvSpPr>
          <p:spPr>
            <a:xfrm>
              <a:off x="38098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38098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343400" y="1523880"/>
            <a:ext cx="360" cy="5151600"/>
            <a:chOff x="4343400" y="1523880"/>
            <a:chExt cx="360" cy="5151600"/>
          </a:xfrm>
        </p:grpSpPr>
        <p:sp>
          <p:nvSpPr>
            <p:cNvPr id="503" name="Line 211"/>
            <p:cNvSpPr/>
            <p:nvPr/>
          </p:nvSpPr>
          <p:spPr>
            <a:xfrm>
              <a:off x="43434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43434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826160" y="1523880"/>
            <a:ext cx="360" cy="5151600"/>
            <a:chOff x="4826160" y="1523880"/>
            <a:chExt cx="360" cy="5151600"/>
          </a:xfrm>
        </p:grpSpPr>
        <p:sp>
          <p:nvSpPr>
            <p:cNvPr id="506" name="Line 212"/>
            <p:cNvSpPr/>
            <p:nvPr/>
          </p:nvSpPr>
          <p:spPr>
            <a:xfrm>
              <a:off x="482616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482616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334120" y="1523880"/>
            <a:ext cx="360" cy="5151600"/>
            <a:chOff x="5334120" y="1523880"/>
            <a:chExt cx="360" cy="5151600"/>
          </a:xfrm>
        </p:grpSpPr>
        <p:sp>
          <p:nvSpPr>
            <p:cNvPr id="509" name="Line 213"/>
            <p:cNvSpPr/>
            <p:nvPr/>
          </p:nvSpPr>
          <p:spPr>
            <a:xfrm>
              <a:off x="5334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334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842080" y="1523880"/>
            <a:ext cx="360" cy="5151600"/>
            <a:chOff x="5842080" y="1523880"/>
            <a:chExt cx="360" cy="5151600"/>
          </a:xfrm>
        </p:grpSpPr>
        <p:sp>
          <p:nvSpPr>
            <p:cNvPr id="512" name="Line 214"/>
            <p:cNvSpPr/>
            <p:nvPr/>
          </p:nvSpPr>
          <p:spPr>
            <a:xfrm>
              <a:off x="5842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5842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350040" y="1523880"/>
            <a:ext cx="360" cy="5151600"/>
            <a:chOff x="6350040" y="1523880"/>
            <a:chExt cx="360" cy="5151600"/>
          </a:xfrm>
        </p:grpSpPr>
        <p:sp>
          <p:nvSpPr>
            <p:cNvPr id="515" name="Line 215"/>
            <p:cNvSpPr/>
            <p:nvPr/>
          </p:nvSpPr>
          <p:spPr>
            <a:xfrm>
              <a:off x="6350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6350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858000" y="1523880"/>
            <a:ext cx="360" cy="5151600"/>
            <a:chOff x="6858000" y="1523880"/>
            <a:chExt cx="360" cy="5151600"/>
          </a:xfrm>
        </p:grpSpPr>
        <p:sp>
          <p:nvSpPr>
            <p:cNvPr id="518" name="Line 216"/>
            <p:cNvSpPr/>
            <p:nvPr/>
          </p:nvSpPr>
          <p:spPr>
            <a:xfrm>
              <a:off x="6858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6858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62120" y="6675480"/>
            <a:ext cx="6095880" cy="360"/>
            <a:chOff x="762120" y="6675480"/>
            <a:chExt cx="6095880" cy="360"/>
          </a:xfrm>
        </p:grpSpPr>
        <p:sp>
          <p:nvSpPr>
            <p:cNvPr id="521" name="Line 217"/>
            <p:cNvSpPr/>
            <p:nvPr/>
          </p:nvSpPr>
          <p:spPr>
            <a:xfrm>
              <a:off x="762120" y="66754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762120" y="6675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524" name="Line 218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26" name="Text Box 219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Text Box 220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529" name="Line 221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133360" y="1142640"/>
            <a:ext cx="3429360" cy="5715000"/>
            <a:chOff x="2133360" y="1142640"/>
            <a:chExt cx="3429360" cy="5715000"/>
          </a:xfrm>
        </p:grpSpPr>
        <p:sp>
          <p:nvSpPr>
            <p:cNvPr id="532" name="Line 222"/>
            <p:cNvSpPr/>
            <p:nvPr/>
          </p:nvSpPr>
          <p:spPr>
            <a:xfrm flipV="1">
              <a:off x="2133720" y="1142640"/>
              <a:ext cx="3429000" cy="571500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 rot="10800000">
              <a:off x="2133360" y="1142640"/>
              <a:ext cx="3429000" cy="571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4" name="AutoShape 223"/>
          <p:cNvSpPr/>
          <p:nvPr/>
        </p:nvSpPr>
        <p:spPr>
          <a:xfrm>
            <a:off x="4267080" y="3159000"/>
            <a:ext cx="13356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AutoShape 224"/>
          <p:cNvSpPr/>
          <p:nvPr/>
        </p:nvSpPr>
        <p:spPr>
          <a:xfrm>
            <a:off x="4743360" y="2320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AutoShape 225"/>
          <p:cNvSpPr/>
          <p:nvPr/>
        </p:nvSpPr>
        <p:spPr>
          <a:xfrm>
            <a:off x="5276880" y="1447920"/>
            <a:ext cx="13320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AutoShape 226"/>
          <p:cNvSpPr/>
          <p:nvPr/>
        </p:nvSpPr>
        <p:spPr>
          <a:xfrm>
            <a:off x="2209680" y="6588000"/>
            <a:ext cx="13356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AutoShape 227"/>
          <p:cNvSpPr/>
          <p:nvPr/>
        </p:nvSpPr>
        <p:spPr>
          <a:xfrm>
            <a:off x="2666880" y="5749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AutoShape 228"/>
          <p:cNvSpPr/>
          <p:nvPr/>
        </p:nvSpPr>
        <p:spPr>
          <a:xfrm>
            <a:off x="3219480" y="4876920"/>
            <a:ext cx="13320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AutoShape 229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0" y="0"/>
            <a:ext cx="41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复习旧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4920" y="198900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函数的定义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般的，在一个变化过程中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个变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并且对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每一个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确定的值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都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唯一确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值与其对应，那么我们就说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自变量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函数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4920" y="371628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函数图象的定义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般的，对于一个函数，如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把自变量与函数的每对对应值分别作为点的横、纵坐标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那么坐标平面内由这些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组成的图形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就是这个函数的图象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6360" y="5373720"/>
            <a:ext cx="792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函数的三种表示方法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列表法　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图象法　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析式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5842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730440" y="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y=-2x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图象为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678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2878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8972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5830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411624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72572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533556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14408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y=-2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457200"/>
          <a:ext cx="5943600" cy="90180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63400"/>
                <a:gridCol w="625680"/>
                <a:gridCol w="593640"/>
                <a:gridCol w="593640"/>
                <a:gridCol w="595440"/>
                <a:gridCol w="593640"/>
                <a:gridCol w="595440"/>
                <a:gridCol w="59364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Text Box 48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555" name="Line 49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57" name="Rectangle 50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Rectangle 54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Rectangle 55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Rectangle 56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Rectangle 57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Rectangle 58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Rectangle 59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Rectangle 60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Rectangle 61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Rectangle 62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Rectangle 63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Rectangle 64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Rectangle 65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Rectangle 66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Rectangle 67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Rectangle 68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Rectangle 69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Rectangle 70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Rectangle 71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Rectangle 72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Rectangle 73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Rectangle 74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Rectangle 75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Rectangle 76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Rectangle 77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Rectangle 79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Rectangle 80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Rectangle 81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Rectangle 82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Rectangle 83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Rectangle 84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Rectangle 85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Rectangle 86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Rectangle 87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Rectangle 88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Rectangle 89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Rectangle 90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Rectangle 91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Rectangle 92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Rectangle 93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Rectangle 94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Rectangle 95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Rectangle 96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Rectangle 97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Rectangle 98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Rectangle 99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Rectangle 100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Rectangle 101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Rectangle 102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Rectangle 103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Rectangle 104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Rectangle 105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Rectangle 106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Rectangle 107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Rectangle 108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Rectangle 109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Rectangle 110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Rectangle 111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Rectangle 112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Rectangle 113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Rectangle 114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Rectangle 115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Rectangle 116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Rectangle 117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Rectangle 118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Rectangle 119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7" name="Rectangle 120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Rectangle 121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Rectangle 122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0" name="Rectangle 123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Rectangle 124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Rectangle 125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Rectangle 126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Rectangle 127"/>
          <p:cNvSpPr/>
          <p:nvPr/>
        </p:nvSpPr>
        <p:spPr>
          <a:xfrm>
            <a:off x="3809880" y="36576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Rectangle 128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Rectangle 129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Rectangle 130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Rectangle 131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Rectangle 132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Rectangle 133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Rectangle 134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Rectangle 135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Rectangle 136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Rectangle 137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Rectangle 138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Rectangle 139"/>
          <p:cNvSpPr/>
          <p:nvPr/>
        </p:nvSpPr>
        <p:spPr>
          <a:xfrm>
            <a:off x="3809880" y="32767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Rectangle 140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Rectangle 141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Rectangle 142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Rectangle 143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Rectangle 144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Rectangle 145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Rectangle 146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Rectangle 147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Rectangle 148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Rectangle 149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Rectangle 150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Rectangle 151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Rectangle 152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Rectangle 153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Rectangle 154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Rectangle 155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Rectangle 156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Rectangle 157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Rectangle 158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Rectangle 159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Rectangle 160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Rectangle 161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9" name="Rectangle 162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Rectangle 163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Rectangle 164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Rectangle 165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Rectangle 166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Rectangle 167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Rectangle 168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Rectangle 169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Rectangle 170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Rectangle 171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Rectangle 172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Rectangle 173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Rectangle 174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2" name="Rectangle 175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3" name="Rectangle 176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Rectangle 177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Rectangle 178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Rectangle 179"/>
          <p:cNvSpPr/>
          <p:nvPr/>
        </p:nvSpPr>
        <p:spPr>
          <a:xfrm>
            <a:off x="1778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Rectangle 180"/>
          <p:cNvSpPr/>
          <p:nvPr/>
        </p:nvSpPr>
        <p:spPr>
          <a:xfrm>
            <a:off x="1270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Rectangle 181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Rectangle 182"/>
          <p:cNvSpPr/>
          <p:nvPr/>
        </p:nvSpPr>
        <p:spPr>
          <a:xfrm>
            <a:off x="6350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Rectangle 183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Rectangle 184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Rectangle 185"/>
          <p:cNvSpPr/>
          <p:nvPr/>
        </p:nvSpPr>
        <p:spPr>
          <a:xfrm>
            <a:off x="4343400" y="152388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Rectangle 186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Rectangle 187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Rectangle 188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Rectangle 189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Rectangle 190"/>
          <p:cNvSpPr/>
          <p:nvPr/>
        </p:nvSpPr>
        <p:spPr>
          <a:xfrm>
            <a:off x="1270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8" name="Rectangle 191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762120" y="1523880"/>
            <a:ext cx="6095880" cy="360"/>
            <a:chOff x="762120" y="1523880"/>
            <a:chExt cx="6095880" cy="360"/>
          </a:xfrm>
        </p:grpSpPr>
        <p:sp>
          <p:nvSpPr>
            <p:cNvPr id="700" name="Line 192"/>
            <p:cNvSpPr/>
            <p:nvPr/>
          </p:nvSpPr>
          <p:spPr>
            <a:xfrm>
              <a:off x="762120" y="15238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762120" y="15238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62120" y="1951200"/>
            <a:ext cx="6095880" cy="360"/>
            <a:chOff x="762120" y="1951200"/>
            <a:chExt cx="6095880" cy="360"/>
          </a:xfrm>
        </p:grpSpPr>
        <p:sp>
          <p:nvSpPr>
            <p:cNvPr id="703" name="Line 193"/>
            <p:cNvSpPr/>
            <p:nvPr/>
          </p:nvSpPr>
          <p:spPr>
            <a:xfrm>
              <a:off x="762120" y="1951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762120" y="1951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62120" y="2378160"/>
            <a:ext cx="6095880" cy="360"/>
            <a:chOff x="762120" y="2378160"/>
            <a:chExt cx="6095880" cy="360"/>
          </a:xfrm>
        </p:grpSpPr>
        <p:sp>
          <p:nvSpPr>
            <p:cNvPr id="706" name="Line 194"/>
            <p:cNvSpPr/>
            <p:nvPr/>
          </p:nvSpPr>
          <p:spPr>
            <a:xfrm>
              <a:off x="762120" y="23781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762120" y="23781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62120" y="2805120"/>
            <a:ext cx="6095880" cy="360"/>
            <a:chOff x="762120" y="2805120"/>
            <a:chExt cx="6095880" cy="360"/>
          </a:xfrm>
        </p:grpSpPr>
        <p:sp>
          <p:nvSpPr>
            <p:cNvPr id="709" name="Line 195"/>
            <p:cNvSpPr/>
            <p:nvPr/>
          </p:nvSpPr>
          <p:spPr>
            <a:xfrm>
              <a:off x="762120" y="28051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762120" y="2805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62120" y="3232080"/>
            <a:ext cx="6095880" cy="360"/>
            <a:chOff x="762120" y="3232080"/>
            <a:chExt cx="6095880" cy="360"/>
          </a:xfrm>
        </p:grpSpPr>
        <p:sp>
          <p:nvSpPr>
            <p:cNvPr id="712" name="Line 196"/>
            <p:cNvSpPr/>
            <p:nvPr/>
          </p:nvSpPr>
          <p:spPr>
            <a:xfrm>
              <a:off x="762120" y="32320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762120" y="32320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62120" y="3659040"/>
            <a:ext cx="6095880" cy="360"/>
            <a:chOff x="762120" y="3659040"/>
            <a:chExt cx="6095880" cy="360"/>
          </a:xfrm>
        </p:grpSpPr>
        <p:sp>
          <p:nvSpPr>
            <p:cNvPr id="715" name="Line 197"/>
            <p:cNvSpPr/>
            <p:nvPr/>
          </p:nvSpPr>
          <p:spPr>
            <a:xfrm>
              <a:off x="762120" y="36590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762120" y="36590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62120" y="4086360"/>
            <a:ext cx="6095880" cy="360"/>
            <a:chOff x="762120" y="4086360"/>
            <a:chExt cx="6095880" cy="360"/>
          </a:xfrm>
        </p:grpSpPr>
        <p:sp>
          <p:nvSpPr>
            <p:cNvPr id="718" name="Line 198"/>
            <p:cNvSpPr/>
            <p:nvPr/>
          </p:nvSpPr>
          <p:spPr>
            <a:xfrm>
              <a:off x="762120" y="40863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762120" y="40863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62120" y="4513320"/>
            <a:ext cx="6095880" cy="360"/>
            <a:chOff x="762120" y="4513320"/>
            <a:chExt cx="6095880" cy="360"/>
          </a:xfrm>
        </p:grpSpPr>
        <p:sp>
          <p:nvSpPr>
            <p:cNvPr id="721" name="Line 199"/>
            <p:cNvSpPr/>
            <p:nvPr/>
          </p:nvSpPr>
          <p:spPr>
            <a:xfrm>
              <a:off x="762120" y="45133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762120" y="4513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62120" y="4940280"/>
            <a:ext cx="6095880" cy="360"/>
            <a:chOff x="762120" y="4940280"/>
            <a:chExt cx="6095880" cy="360"/>
          </a:xfrm>
        </p:grpSpPr>
        <p:sp>
          <p:nvSpPr>
            <p:cNvPr id="724" name="Line 200"/>
            <p:cNvSpPr/>
            <p:nvPr/>
          </p:nvSpPr>
          <p:spPr>
            <a:xfrm>
              <a:off x="762120" y="49402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62120" y="49402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62120" y="5367240"/>
            <a:ext cx="6095880" cy="360"/>
            <a:chOff x="762120" y="5367240"/>
            <a:chExt cx="6095880" cy="360"/>
          </a:xfrm>
        </p:grpSpPr>
        <p:sp>
          <p:nvSpPr>
            <p:cNvPr id="727" name="Line 201"/>
            <p:cNvSpPr/>
            <p:nvPr/>
          </p:nvSpPr>
          <p:spPr>
            <a:xfrm>
              <a:off x="762120" y="53672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762120" y="53672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62120" y="5794200"/>
            <a:ext cx="6095880" cy="360"/>
            <a:chOff x="762120" y="5794200"/>
            <a:chExt cx="6095880" cy="360"/>
          </a:xfrm>
        </p:grpSpPr>
        <p:sp>
          <p:nvSpPr>
            <p:cNvPr id="730" name="Line 202"/>
            <p:cNvSpPr/>
            <p:nvPr/>
          </p:nvSpPr>
          <p:spPr>
            <a:xfrm>
              <a:off x="762120" y="5794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762120" y="5794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62120" y="6248520"/>
            <a:ext cx="6095880" cy="360"/>
            <a:chOff x="762120" y="6248520"/>
            <a:chExt cx="6095880" cy="360"/>
          </a:xfrm>
        </p:grpSpPr>
        <p:sp>
          <p:nvSpPr>
            <p:cNvPr id="733" name="Line 203"/>
            <p:cNvSpPr/>
            <p:nvPr/>
          </p:nvSpPr>
          <p:spPr>
            <a:xfrm>
              <a:off x="762120" y="62485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62120" y="62485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62120" y="1523880"/>
            <a:ext cx="360" cy="5151600"/>
            <a:chOff x="762120" y="1523880"/>
            <a:chExt cx="360" cy="5151600"/>
          </a:xfrm>
        </p:grpSpPr>
        <p:sp>
          <p:nvSpPr>
            <p:cNvPr id="736" name="Line 204"/>
            <p:cNvSpPr/>
            <p:nvPr/>
          </p:nvSpPr>
          <p:spPr>
            <a:xfrm>
              <a:off x="762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762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270080" y="1523880"/>
            <a:ext cx="360" cy="5151600"/>
            <a:chOff x="1270080" y="1523880"/>
            <a:chExt cx="360" cy="5151600"/>
          </a:xfrm>
        </p:grpSpPr>
        <p:sp>
          <p:nvSpPr>
            <p:cNvPr id="739" name="Line 205"/>
            <p:cNvSpPr/>
            <p:nvPr/>
          </p:nvSpPr>
          <p:spPr>
            <a:xfrm>
              <a:off x="1270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1270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778040" y="1523880"/>
            <a:ext cx="360" cy="5151600"/>
            <a:chOff x="1778040" y="1523880"/>
            <a:chExt cx="360" cy="5151600"/>
          </a:xfrm>
        </p:grpSpPr>
        <p:sp>
          <p:nvSpPr>
            <p:cNvPr id="742" name="Line 206"/>
            <p:cNvSpPr/>
            <p:nvPr/>
          </p:nvSpPr>
          <p:spPr>
            <a:xfrm>
              <a:off x="1778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1778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286000" y="1523880"/>
            <a:ext cx="360" cy="5151600"/>
            <a:chOff x="2286000" y="1523880"/>
            <a:chExt cx="360" cy="5151600"/>
          </a:xfrm>
        </p:grpSpPr>
        <p:sp>
          <p:nvSpPr>
            <p:cNvPr id="745" name="Line 207"/>
            <p:cNvSpPr/>
            <p:nvPr/>
          </p:nvSpPr>
          <p:spPr>
            <a:xfrm>
              <a:off x="2286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2286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743200" y="1523880"/>
            <a:ext cx="360" cy="5151600"/>
            <a:chOff x="2743200" y="1523880"/>
            <a:chExt cx="360" cy="5151600"/>
          </a:xfrm>
        </p:grpSpPr>
        <p:sp>
          <p:nvSpPr>
            <p:cNvPr id="748" name="Line 208"/>
            <p:cNvSpPr/>
            <p:nvPr/>
          </p:nvSpPr>
          <p:spPr>
            <a:xfrm>
              <a:off x="27432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27432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301920" y="1523880"/>
            <a:ext cx="360" cy="5151600"/>
            <a:chOff x="3301920" y="1523880"/>
            <a:chExt cx="360" cy="5151600"/>
          </a:xfrm>
        </p:grpSpPr>
        <p:sp>
          <p:nvSpPr>
            <p:cNvPr id="751" name="Line 209"/>
            <p:cNvSpPr/>
            <p:nvPr/>
          </p:nvSpPr>
          <p:spPr>
            <a:xfrm>
              <a:off x="33019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33019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809880" y="1523880"/>
            <a:ext cx="360" cy="5151600"/>
            <a:chOff x="3809880" y="1523880"/>
            <a:chExt cx="360" cy="5151600"/>
          </a:xfrm>
        </p:grpSpPr>
        <p:sp>
          <p:nvSpPr>
            <p:cNvPr id="754" name="Line 210"/>
            <p:cNvSpPr/>
            <p:nvPr/>
          </p:nvSpPr>
          <p:spPr>
            <a:xfrm>
              <a:off x="38098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38098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343400" y="1523880"/>
            <a:ext cx="360" cy="5151600"/>
            <a:chOff x="4343400" y="1523880"/>
            <a:chExt cx="360" cy="5151600"/>
          </a:xfrm>
        </p:grpSpPr>
        <p:sp>
          <p:nvSpPr>
            <p:cNvPr id="757" name="Line 211"/>
            <p:cNvSpPr/>
            <p:nvPr/>
          </p:nvSpPr>
          <p:spPr>
            <a:xfrm>
              <a:off x="43434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43434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826160" y="1523880"/>
            <a:ext cx="360" cy="5151600"/>
            <a:chOff x="4826160" y="1523880"/>
            <a:chExt cx="360" cy="5151600"/>
          </a:xfrm>
        </p:grpSpPr>
        <p:sp>
          <p:nvSpPr>
            <p:cNvPr id="760" name="Line 212"/>
            <p:cNvSpPr/>
            <p:nvPr/>
          </p:nvSpPr>
          <p:spPr>
            <a:xfrm>
              <a:off x="482616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482616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334120" y="1523880"/>
            <a:ext cx="360" cy="5151600"/>
            <a:chOff x="5334120" y="1523880"/>
            <a:chExt cx="360" cy="5151600"/>
          </a:xfrm>
        </p:grpSpPr>
        <p:sp>
          <p:nvSpPr>
            <p:cNvPr id="763" name="Line 213"/>
            <p:cNvSpPr/>
            <p:nvPr/>
          </p:nvSpPr>
          <p:spPr>
            <a:xfrm>
              <a:off x="5334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5334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842080" y="1523880"/>
            <a:ext cx="360" cy="5151600"/>
            <a:chOff x="5842080" y="1523880"/>
            <a:chExt cx="360" cy="5151600"/>
          </a:xfrm>
        </p:grpSpPr>
        <p:sp>
          <p:nvSpPr>
            <p:cNvPr id="766" name="Line 214"/>
            <p:cNvSpPr/>
            <p:nvPr/>
          </p:nvSpPr>
          <p:spPr>
            <a:xfrm>
              <a:off x="5842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5842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6350040" y="1523880"/>
            <a:ext cx="360" cy="5151600"/>
            <a:chOff x="6350040" y="1523880"/>
            <a:chExt cx="360" cy="5151600"/>
          </a:xfrm>
        </p:grpSpPr>
        <p:sp>
          <p:nvSpPr>
            <p:cNvPr id="769" name="Line 215"/>
            <p:cNvSpPr/>
            <p:nvPr/>
          </p:nvSpPr>
          <p:spPr>
            <a:xfrm>
              <a:off x="6350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6350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858000" y="1523880"/>
            <a:ext cx="360" cy="5151600"/>
            <a:chOff x="6858000" y="1523880"/>
            <a:chExt cx="360" cy="5151600"/>
          </a:xfrm>
        </p:grpSpPr>
        <p:sp>
          <p:nvSpPr>
            <p:cNvPr id="772" name="Line 216"/>
            <p:cNvSpPr/>
            <p:nvPr/>
          </p:nvSpPr>
          <p:spPr>
            <a:xfrm>
              <a:off x="6858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6858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62120" y="6675480"/>
            <a:ext cx="6095880" cy="360"/>
            <a:chOff x="762120" y="6675480"/>
            <a:chExt cx="6095880" cy="360"/>
          </a:xfrm>
        </p:grpSpPr>
        <p:sp>
          <p:nvSpPr>
            <p:cNvPr id="775" name="Line 217"/>
            <p:cNvSpPr/>
            <p:nvPr/>
          </p:nvSpPr>
          <p:spPr>
            <a:xfrm>
              <a:off x="762120" y="66754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762120" y="6675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778" name="Line 218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80" name="Text Box 219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Text Box 220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783" name="Line 221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85" name="AutoShape 222"/>
          <p:cNvSpPr/>
          <p:nvPr/>
        </p:nvSpPr>
        <p:spPr>
          <a:xfrm>
            <a:off x="4267080" y="4876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AutoShape 223"/>
          <p:cNvSpPr/>
          <p:nvPr/>
        </p:nvSpPr>
        <p:spPr>
          <a:xfrm>
            <a:off x="4724280" y="57913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7" name="AutoShape 224"/>
          <p:cNvSpPr/>
          <p:nvPr/>
        </p:nvSpPr>
        <p:spPr>
          <a:xfrm>
            <a:off x="5257800" y="65530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8" name="AutoShape 225"/>
          <p:cNvSpPr/>
          <p:nvPr/>
        </p:nvSpPr>
        <p:spPr>
          <a:xfrm>
            <a:off x="2209680" y="1447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9" name="AutoShape 226"/>
          <p:cNvSpPr/>
          <p:nvPr/>
        </p:nvSpPr>
        <p:spPr>
          <a:xfrm>
            <a:off x="2666880" y="228600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0" name="AutoShape 227"/>
          <p:cNvSpPr/>
          <p:nvPr/>
        </p:nvSpPr>
        <p:spPr>
          <a:xfrm>
            <a:off x="3200400" y="3200400"/>
            <a:ext cx="13320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AutoShape 228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133720" y="1295280"/>
            <a:ext cx="3429000" cy="5715000"/>
            <a:chOff x="2133720" y="1295280"/>
            <a:chExt cx="3429000" cy="5715000"/>
          </a:xfrm>
        </p:grpSpPr>
        <p:sp>
          <p:nvSpPr>
            <p:cNvPr id="793" name="Line 229"/>
            <p:cNvSpPr/>
            <p:nvPr/>
          </p:nvSpPr>
          <p:spPr>
            <a:xfrm>
              <a:off x="2133720" y="1295280"/>
              <a:ext cx="3429000" cy="57150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2133720" y="1295280"/>
              <a:ext cx="3429000" cy="571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62120" y="12193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看图 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在同一坐标系下，观察下列函数的图象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并对它们进行比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）                        （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1904760" cy="1255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16765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800" name="Line 3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02" name="Rectangle 4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Rectangle 12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Rectangle 13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2" name="Rectangle 14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Rectangle 15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Rectangle 16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Rectangle 18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7" name="Rectangle 19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Rectangle 20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9" name="Rectangle 21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0" name="Rectangle 22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Rectangle 23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Rectangle 24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Rectangle 25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4" name="Rectangle 26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Rectangle 27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Rectangle 28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Rectangle 29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Rectangle 30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Rectangle 31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Rectangle 32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1" name="Rectangle 33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2" name="Rectangle 34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3" name="Rectangle 35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Rectangle 36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5" name="Rectangle 37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6" name="Rectangle 38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7" name="Rectangle 39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8" name="Rectangle 40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9" name="Rectangle 41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Rectangle 43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2" name="Rectangle 44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3" name="Rectangle 45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4" name="Rectangle 46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5" name="Rectangle 47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6" name="Rectangle 48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7" name="Rectangle 49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8" name="Rectangle 50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9" name="Rectangle 51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Rectangle 52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1" name="Rectangle 53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2" name="Rectangle 54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3" name="Rectangle 55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4" name="Rectangle 56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5" name="Rectangle 57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6" name="Rectangle 58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7" name="Rectangle 59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8" name="Rectangle 60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9" name="Rectangle 61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0" name="Rectangle 62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1" name="Rectangle 63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2" name="Rectangle 64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3" name="Rectangle 65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Rectangle 66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Rectangle 67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6" name="Rectangle 68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7" name="Rectangle 69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8" name="Rectangle 70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9" name="Rectangle 71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0" name="Rectangle 72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1" name="Rectangle 73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Rectangle 74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3" name="Rectangle 75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4" name="Rectangle 76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5" name="Rectangle 77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6" name="Rectangle 78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7" name="Rectangle 79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8" name="Rectangle 80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9" name="Rectangle 81"/>
          <p:cNvSpPr/>
          <p:nvPr/>
        </p:nvSpPr>
        <p:spPr>
          <a:xfrm>
            <a:off x="3809880" y="365904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0" name="Rectangle 82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1" name="Rectangle 83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2" name="Rectangle 84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3" name="Rectangle 85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4" name="Rectangle 86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5" name="Rectangle 87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Rectangle 88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7" name="Rectangle 89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8" name="Rectangle 90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9" name="Rectangle 91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0" name="Rectangle 92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1" name="Rectangle 93"/>
          <p:cNvSpPr/>
          <p:nvPr/>
        </p:nvSpPr>
        <p:spPr>
          <a:xfrm>
            <a:off x="3809880" y="32320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2" name="Rectangle 94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3" name="Rectangle 95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Rectangle 96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5" name="Rectangle 97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6" name="Rectangle 98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7" name="Rectangle 99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8" name="Rectangle 100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9" name="Rectangle 101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Rectangle 102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1" name="Rectangle 103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2" name="Rectangle 104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3" name="Rectangle 105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4" name="Rectangle 106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5" name="Rectangle 107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6" name="Rectangle 108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Rectangle 109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8" name="Rectangle 110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9" name="Rectangle 111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0" name="Rectangle 112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1" name="Rectangle 113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Rectangle 114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Rectangle 115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4" name="Rectangle 116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5" name="Rectangle 117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6" name="Rectangle 118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7" name="Rectangle 119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8" name="Rectangle 120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9" name="Rectangle 121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Rectangle 122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Rectangle 123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2" name="Rectangle 124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3" name="Rectangle 125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4" name="Rectangle 126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5" name="Rectangle 127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6" name="Rectangle 128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7" name="Rectangle 129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8" name="Rectangle 130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Rectangle 131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0" name="Rectangle 132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1" name="Rectangle 133"/>
          <p:cNvSpPr/>
          <p:nvPr/>
        </p:nvSpPr>
        <p:spPr>
          <a:xfrm>
            <a:off x="1778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2" name="Rectangle 134"/>
          <p:cNvSpPr/>
          <p:nvPr/>
        </p:nvSpPr>
        <p:spPr>
          <a:xfrm>
            <a:off x="1270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3" name="Rectangle 135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Rectangle 136"/>
          <p:cNvSpPr/>
          <p:nvPr/>
        </p:nvSpPr>
        <p:spPr>
          <a:xfrm>
            <a:off x="6350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5" name="Rectangle 137"/>
          <p:cNvSpPr/>
          <p:nvPr/>
        </p:nvSpPr>
        <p:spPr>
          <a:xfrm>
            <a:off x="5842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6" name="Rectangle 138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7" name="Rectangle 139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8" name="Rectangle 140"/>
          <p:cNvSpPr/>
          <p:nvPr/>
        </p:nvSpPr>
        <p:spPr>
          <a:xfrm>
            <a:off x="4343400" y="152388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9" name="Rectangle 141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0" name="Rectangle 142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1" name="Rectangle 143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2" name="Rectangle 144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3" name="Rectangle 145"/>
          <p:cNvSpPr/>
          <p:nvPr/>
        </p:nvSpPr>
        <p:spPr>
          <a:xfrm>
            <a:off x="1270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4" name="Rectangle 146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62120" y="1523880"/>
            <a:ext cx="6095880" cy="360"/>
            <a:chOff x="762120" y="1523880"/>
            <a:chExt cx="6095880" cy="360"/>
          </a:xfrm>
        </p:grpSpPr>
        <p:sp>
          <p:nvSpPr>
            <p:cNvPr id="946" name="Line 147"/>
            <p:cNvSpPr/>
            <p:nvPr/>
          </p:nvSpPr>
          <p:spPr>
            <a:xfrm>
              <a:off x="762120" y="15238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762120" y="15238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762120" y="1951200"/>
            <a:ext cx="6095880" cy="360"/>
            <a:chOff x="762120" y="1951200"/>
            <a:chExt cx="6095880" cy="360"/>
          </a:xfrm>
        </p:grpSpPr>
        <p:sp>
          <p:nvSpPr>
            <p:cNvPr id="949" name="Line 148"/>
            <p:cNvSpPr/>
            <p:nvPr/>
          </p:nvSpPr>
          <p:spPr>
            <a:xfrm>
              <a:off x="762120" y="1951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762120" y="1951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62120" y="2378160"/>
            <a:ext cx="6095880" cy="360"/>
            <a:chOff x="762120" y="2378160"/>
            <a:chExt cx="6095880" cy="360"/>
          </a:xfrm>
        </p:grpSpPr>
        <p:sp>
          <p:nvSpPr>
            <p:cNvPr id="952" name="Line 149"/>
            <p:cNvSpPr/>
            <p:nvPr/>
          </p:nvSpPr>
          <p:spPr>
            <a:xfrm>
              <a:off x="762120" y="23781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762120" y="23781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762120" y="2805120"/>
            <a:ext cx="6095880" cy="360"/>
            <a:chOff x="762120" y="2805120"/>
            <a:chExt cx="6095880" cy="360"/>
          </a:xfrm>
        </p:grpSpPr>
        <p:sp>
          <p:nvSpPr>
            <p:cNvPr id="955" name="Line 150"/>
            <p:cNvSpPr/>
            <p:nvPr/>
          </p:nvSpPr>
          <p:spPr>
            <a:xfrm>
              <a:off x="762120" y="28051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762120" y="2805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762120" y="3232080"/>
            <a:ext cx="6095880" cy="360"/>
            <a:chOff x="762120" y="3232080"/>
            <a:chExt cx="6095880" cy="360"/>
          </a:xfrm>
        </p:grpSpPr>
        <p:sp>
          <p:nvSpPr>
            <p:cNvPr id="958" name="Line 151"/>
            <p:cNvSpPr/>
            <p:nvPr/>
          </p:nvSpPr>
          <p:spPr>
            <a:xfrm>
              <a:off x="762120" y="32320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762120" y="32320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62120" y="3659040"/>
            <a:ext cx="6095880" cy="360"/>
            <a:chOff x="762120" y="3659040"/>
            <a:chExt cx="6095880" cy="360"/>
          </a:xfrm>
        </p:grpSpPr>
        <p:sp>
          <p:nvSpPr>
            <p:cNvPr id="961" name="Line 152"/>
            <p:cNvSpPr/>
            <p:nvPr/>
          </p:nvSpPr>
          <p:spPr>
            <a:xfrm>
              <a:off x="762120" y="36590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762120" y="36590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762120" y="4086360"/>
            <a:ext cx="6095880" cy="360"/>
            <a:chOff x="762120" y="4086360"/>
            <a:chExt cx="6095880" cy="360"/>
          </a:xfrm>
        </p:grpSpPr>
        <p:sp>
          <p:nvSpPr>
            <p:cNvPr id="964" name="Line 153"/>
            <p:cNvSpPr/>
            <p:nvPr/>
          </p:nvSpPr>
          <p:spPr>
            <a:xfrm>
              <a:off x="762120" y="40863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762120" y="40863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762120" y="4513320"/>
            <a:ext cx="6095880" cy="360"/>
            <a:chOff x="762120" y="4513320"/>
            <a:chExt cx="6095880" cy="360"/>
          </a:xfrm>
        </p:grpSpPr>
        <p:sp>
          <p:nvSpPr>
            <p:cNvPr id="967" name="Line 154"/>
            <p:cNvSpPr/>
            <p:nvPr/>
          </p:nvSpPr>
          <p:spPr>
            <a:xfrm>
              <a:off x="762120" y="45133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762120" y="4513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762120" y="4940280"/>
            <a:ext cx="6095880" cy="360"/>
            <a:chOff x="762120" y="4940280"/>
            <a:chExt cx="6095880" cy="360"/>
          </a:xfrm>
        </p:grpSpPr>
        <p:sp>
          <p:nvSpPr>
            <p:cNvPr id="970" name="Line 155"/>
            <p:cNvSpPr/>
            <p:nvPr/>
          </p:nvSpPr>
          <p:spPr>
            <a:xfrm>
              <a:off x="762120" y="49402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762120" y="49402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62120" y="5367240"/>
            <a:ext cx="6095880" cy="360"/>
            <a:chOff x="762120" y="5367240"/>
            <a:chExt cx="6095880" cy="360"/>
          </a:xfrm>
        </p:grpSpPr>
        <p:sp>
          <p:nvSpPr>
            <p:cNvPr id="973" name="Line 156"/>
            <p:cNvSpPr/>
            <p:nvPr/>
          </p:nvSpPr>
          <p:spPr>
            <a:xfrm>
              <a:off x="762120" y="53672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762120" y="53672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762120" y="5794200"/>
            <a:ext cx="6095880" cy="360"/>
            <a:chOff x="762120" y="5794200"/>
            <a:chExt cx="6095880" cy="360"/>
          </a:xfrm>
        </p:grpSpPr>
        <p:sp>
          <p:nvSpPr>
            <p:cNvPr id="976" name="Line 157"/>
            <p:cNvSpPr/>
            <p:nvPr/>
          </p:nvSpPr>
          <p:spPr>
            <a:xfrm>
              <a:off x="762120" y="5794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>
              <a:off x="762120" y="5794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62120" y="6248520"/>
            <a:ext cx="6095880" cy="360"/>
            <a:chOff x="762120" y="6248520"/>
            <a:chExt cx="6095880" cy="360"/>
          </a:xfrm>
        </p:grpSpPr>
        <p:sp>
          <p:nvSpPr>
            <p:cNvPr id="979" name="Line 158"/>
            <p:cNvSpPr/>
            <p:nvPr/>
          </p:nvSpPr>
          <p:spPr>
            <a:xfrm>
              <a:off x="762120" y="62485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762120" y="62485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762120" y="1523880"/>
            <a:ext cx="360" cy="5151600"/>
            <a:chOff x="762120" y="1523880"/>
            <a:chExt cx="360" cy="5151600"/>
          </a:xfrm>
        </p:grpSpPr>
        <p:sp>
          <p:nvSpPr>
            <p:cNvPr id="982" name="Line 159"/>
            <p:cNvSpPr/>
            <p:nvPr/>
          </p:nvSpPr>
          <p:spPr>
            <a:xfrm>
              <a:off x="762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762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270080" y="1523880"/>
            <a:ext cx="360" cy="5151600"/>
            <a:chOff x="1270080" y="1523880"/>
            <a:chExt cx="360" cy="5151600"/>
          </a:xfrm>
        </p:grpSpPr>
        <p:sp>
          <p:nvSpPr>
            <p:cNvPr id="985" name="Line 160"/>
            <p:cNvSpPr/>
            <p:nvPr/>
          </p:nvSpPr>
          <p:spPr>
            <a:xfrm>
              <a:off x="1270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6" name=""/>
            <p:cNvSpPr txBox="1"/>
            <p:nvPr/>
          </p:nvSpPr>
          <p:spPr>
            <a:xfrm>
              <a:off x="1270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778040" y="1523880"/>
            <a:ext cx="360" cy="5151600"/>
            <a:chOff x="1778040" y="1523880"/>
            <a:chExt cx="360" cy="5151600"/>
          </a:xfrm>
        </p:grpSpPr>
        <p:sp>
          <p:nvSpPr>
            <p:cNvPr id="988" name="Line 161"/>
            <p:cNvSpPr/>
            <p:nvPr/>
          </p:nvSpPr>
          <p:spPr>
            <a:xfrm>
              <a:off x="1778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9" name=""/>
            <p:cNvSpPr txBox="1"/>
            <p:nvPr/>
          </p:nvSpPr>
          <p:spPr>
            <a:xfrm>
              <a:off x="1778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2286000" y="1523880"/>
            <a:ext cx="360" cy="5151600"/>
            <a:chOff x="2286000" y="1523880"/>
            <a:chExt cx="360" cy="5151600"/>
          </a:xfrm>
        </p:grpSpPr>
        <p:sp>
          <p:nvSpPr>
            <p:cNvPr id="991" name="Line 162"/>
            <p:cNvSpPr/>
            <p:nvPr/>
          </p:nvSpPr>
          <p:spPr>
            <a:xfrm>
              <a:off x="2286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2" name=""/>
            <p:cNvSpPr txBox="1"/>
            <p:nvPr/>
          </p:nvSpPr>
          <p:spPr>
            <a:xfrm>
              <a:off x="2286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743200" y="1523880"/>
            <a:ext cx="360" cy="5151600"/>
            <a:chOff x="2743200" y="1523880"/>
            <a:chExt cx="360" cy="5151600"/>
          </a:xfrm>
        </p:grpSpPr>
        <p:sp>
          <p:nvSpPr>
            <p:cNvPr id="994" name="Line 163"/>
            <p:cNvSpPr/>
            <p:nvPr/>
          </p:nvSpPr>
          <p:spPr>
            <a:xfrm>
              <a:off x="27432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27432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301920" y="1523880"/>
            <a:ext cx="360" cy="5151600"/>
            <a:chOff x="3301920" y="1523880"/>
            <a:chExt cx="360" cy="5151600"/>
          </a:xfrm>
        </p:grpSpPr>
        <p:sp>
          <p:nvSpPr>
            <p:cNvPr id="997" name="Line 164"/>
            <p:cNvSpPr/>
            <p:nvPr/>
          </p:nvSpPr>
          <p:spPr>
            <a:xfrm>
              <a:off x="33019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8" name=""/>
            <p:cNvSpPr txBox="1"/>
            <p:nvPr/>
          </p:nvSpPr>
          <p:spPr>
            <a:xfrm>
              <a:off x="33019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809880" y="1523880"/>
            <a:ext cx="360" cy="5151600"/>
            <a:chOff x="3809880" y="1523880"/>
            <a:chExt cx="360" cy="5151600"/>
          </a:xfrm>
        </p:grpSpPr>
        <p:sp>
          <p:nvSpPr>
            <p:cNvPr id="1000" name="Line 165"/>
            <p:cNvSpPr/>
            <p:nvPr/>
          </p:nvSpPr>
          <p:spPr>
            <a:xfrm>
              <a:off x="38098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38098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343400" y="1523880"/>
            <a:ext cx="360" cy="5151600"/>
            <a:chOff x="4343400" y="1523880"/>
            <a:chExt cx="360" cy="5151600"/>
          </a:xfrm>
        </p:grpSpPr>
        <p:sp>
          <p:nvSpPr>
            <p:cNvPr id="1003" name="Line 166"/>
            <p:cNvSpPr/>
            <p:nvPr/>
          </p:nvSpPr>
          <p:spPr>
            <a:xfrm>
              <a:off x="43434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43434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4826160" y="1523880"/>
            <a:ext cx="360" cy="5151600"/>
            <a:chOff x="4826160" y="1523880"/>
            <a:chExt cx="360" cy="5151600"/>
          </a:xfrm>
        </p:grpSpPr>
        <p:sp>
          <p:nvSpPr>
            <p:cNvPr id="1006" name="Line 167"/>
            <p:cNvSpPr/>
            <p:nvPr/>
          </p:nvSpPr>
          <p:spPr>
            <a:xfrm>
              <a:off x="482616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7" name=""/>
            <p:cNvSpPr txBox="1"/>
            <p:nvPr/>
          </p:nvSpPr>
          <p:spPr>
            <a:xfrm>
              <a:off x="482616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5334120" y="1523880"/>
            <a:ext cx="360" cy="5151600"/>
            <a:chOff x="5334120" y="1523880"/>
            <a:chExt cx="360" cy="5151600"/>
          </a:xfrm>
        </p:grpSpPr>
        <p:sp>
          <p:nvSpPr>
            <p:cNvPr id="1009" name="Line 168"/>
            <p:cNvSpPr/>
            <p:nvPr/>
          </p:nvSpPr>
          <p:spPr>
            <a:xfrm>
              <a:off x="5334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0" name=""/>
            <p:cNvSpPr txBox="1"/>
            <p:nvPr/>
          </p:nvSpPr>
          <p:spPr>
            <a:xfrm>
              <a:off x="5334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842080" y="1523880"/>
            <a:ext cx="360" cy="5151600"/>
            <a:chOff x="5842080" y="1523880"/>
            <a:chExt cx="360" cy="5151600"/>
          </a:xfrm>
        </p:grpSpPr>
        <p:sp>
          <p:nvSpPr>
            <p:cNvPr id="1012" name="Line 169"/>
            <p:cNvSpPr/>
            <p:nvPr/>
          </p:nvSpPr>
          <p:spPr>
            <a:xfrm>
              <a:off x="5842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>
              <a:off x="5842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350040" y="1523880"/>
            <a:ext cx="360" cy="5151600"/>
            <a:chOff x="6350040" y="1523880"/>
            <a:chExt cx="360" cy="5151600"/>
          </a:xfrm>
        </p:grpSpPr>
        <p:sp>
          <p:nvSpPr>
            <p:cNvPr id="1015" name="Line 170"/>
            <p:cNvSpPr/>
            <p:nvPr/>
          </p:nvSpPr>
          <p:spPr>
            <a:xfrm>
              <a:off x="6350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6" name=""/>
            <p:cNvSpPr txBox="1"/>
            <p:nvPr/>
          </p:nvSpPr>
          <p:spPr>
            <a:xfrm>
              <a:off x="6350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6858000" y="1523880"/>
            <a:ext cx="360" cy="5151600"/>
            <a:chOff x="6858000" y="1523880"/>
            <a:chExt cx="360" cy="5151600"/>
          </a:xfrm>
        </p:grpSpPr>
        <p:sp>
          <p:nvSpPr>
            <p:cNvPr id="1018" name="Line 171"/>
            <p:cNvSpPr/>
            <p:nvPr/>
          </p:nvSpPr>
          <p:spPr>
            <a:xfrm>
              <a:off x="6858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6858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762120" y="6675480"/>
            <a:ext cx="6095880" cy="360"/>
            <a:chOff x="762120" y="6675480"/>
            <a:chExt cx="6095880" cy="360"/>
          </a:xfrm>
        </p:grpSpPr>
        <p:sp>
          <p:nvSpPr>
            <p:cNvPr id="1021" name="Line 172"/>
            <p:cNvSpPr/>
            <p:nvPr/>
          </p:nvSpPr>
          <p:spPr>
            <a:xfrm>
              <a:off x="762120" y="66754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2" name=""/>
            <p:cNvSpPr txBox="1"/>
            <p:nvPr/>
          </p:nvSpPr>
          <p:spPr>
            <a:xfrm>
              <a:off x="762120" y="6675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1024" name="Line 173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26" name="AutoShape 174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7" name="Text Box 175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8" name="Text Box 176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1030" name="Line 177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1033" name="Line 178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35" name="AutoShape 179"/>
          <p:cNvSpPr/>
          <p:nvPr/>
        </p:nvSpPr>
        <p:spPr>
          <a:xfrm>
            <a:off x="4800600" y="35812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6" name="AutoShape 180"/>
          <p:cNvSpPr/>
          <p:nvPr/>
        </p:nvSpPr>
        <p:spPr>
          <a:xfrm>
            <a:off x="5257800" y="33526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7" name="AutoShape 181"/>
          <p:cNvSpPr/>
          <p:nvPr/>
        </p:nvSpPr>
        <p:spPr>
          <a:xfrm>
            <a:off x="2209680" y="46483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8" name="AutoShape 182"/>
          <p:cNvSpPr/>
          <p:nvPr/>
        </p:nvSpPr>
        <p:spPr>
          <a:xfrm>
            <a:off x="2666880" y="4495680"/>
            <a:ext cx="13356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9" name="AutoShape 183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AutoShape 184"/>
          <p:cNvSpPr/>
          <p:nvPr/>
        </p:nvSpPr>
        <p:spPr>
          <a:xfrm>
            <a:off x="4267080" y="4267080"/>
            <a:ext cx="13356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1" name="AutoShape 185"/>
          <p:cNvSpPr/>
          <p:nvPr/>
        </p:nvSpPr>
        <p:spPr>
          <a:xfrm>
            <a:off x="4743360" y="4454640"/>
            <a:ext cx="133560" cy="117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2" name="AutoShape 186"/>
          <p:cNvSpPr/>
          <p:nvPr/>
        </p:nvSpPr>
        <p:spPr>
          <a:xfrm>
            <a:off x="5276880" y="4648320"/>
            <a:ext cx="133200" cy="117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3" name="AutoShape 187"/>
          <p:cNvSpPr/>
          <p:nvPr/>
        </p:nvSpPr>
        <p:spPr>
          <a:xfrm>
            <a:off x="3219480" y="3809880"/>
            <a:ext cx="13320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4" name="AutoShape 188"/>
          <p:cNvSpPr/>
          <p:nvPr/>
        </p:nvSpPr>
        <p:spPr>
          <a:xfrm>
            <a:off x="2685960" y="3581280"/>
            <a:ext cx="13356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5" name="AutoShape 189"/>
          <p:cNvSpPr/>
          <p:nvPr/>
        </p:nvSpPr>
        <p:spPr>
          <a:xfrm>
            <a:off x="2228760" y="3387600"/>
            <a:ext cx="13356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6" name="Picture 190" descr=""/>
          <p:cNvPicPr/>
          <p:nvPr/>
        </p:nvPicPr>
        <p:blipFill>
          <a:blip r:embed="rId1"/>
          <a:stretch/>
        </p:blipFill>
        <p:spPr>
          <a:xfrm>
            <a:off x="7086600" y="5562720"/>
            <a:ext cx="1143000" cy="753840"/>
          </a:xfrm>
          <a:prstGeom prst="rect">
            <a:avLst/>
          </a:prstGeom>
          <a:ln w="0">
            <a:noFill/>
          </a:ln>
        </p:spPr>
      </p:pic>
      <p:grpSp>
        <p:nvGrpSpPr>
          <p:cNvPr id="1047" name=""/>
          <p:cNvGrpSpPr/>
          <p:nvPr/>
        </p:nvGrpSpPr>
        <p:grpSpPr>
          <a:xfrm>
            <a:off x="457200" y="2743200"/>
            <a:ext cx="6629400" cy="2666880"/>
            <a:chOff x="457200" y="2743200"/>
            <a:chExt cx="6629400" cy="2666880"/>
          </a:xfrm>
        </p:grpSpPr>
        <p:sp>
          <p:nvSpPr>
            <p:cNvPr id="1048" name="Line 191"/>
            <p:cNvSpPr/>
            <p:nvPr/>
          </p:nvSpPr>
          <p:spPr>
            <a:xfrm>
              <a:off x="457200" y="2743200"/>
              <a:ext cx="6629400" cy="266688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457200" y="2743200"/>
              <a:ext cx="6629400" cy="26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50" name="AutoShape 192"/>
          <p:cNvSpPr/>
          <p:nvPr/>
        </p:nvSpPr>
        <p:spPr>
          <a:xfrm>
            <a:off x="4267080" y="4267080"/>
            <a:ext cx="133560" cy="11772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1" name="Picture 193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137160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052" name=""/>
          <p:cNvGrpSpPr/>
          <p:nvPr/>
        </p:nvGrpSpPr>
        <p:grpSpPr>
          <a:xfrm>
            <a:off x="304920" y="2743200"/>
            <a:ext cx="6705360" cy="2819520"/>
            <a:chOff x="304920" y="2743200"/>
            <a:chExt cx="6705360" cy="2819520"/>
          </a:xfrm>
        </p:grpSpPr>
        <p:sp>
          <p:nvSpPr>
            <p:cNvPr id="1053" name="Line 194"/>
            <p:cNvSpPr/>
            <p:nvPr/>
          </p:nvSpPr>
          <p:spPr>
            <a:xfrm flipH="1">
              <a:off x="304920" y="2743200"/>
              <a:ext cx="6705360" cy="2819520"/>
            </a:xfrm>
            <a:prstGeom prst="line">
              <a:avLst/>
            </a:prstGeom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304920" y="2743200"/>
              <a:ext cx="6705360" cy="281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5"/>
          <p:cNvSpPr/>
          <p:nvPr/>
        </p:nvSpPr>
        <p:spPr>
          <a:xfrm>
            <a:off x="684360" y="1197000"/>
            <a:ext cx="73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较上面的两个函数的图象的相同点与不同点 ，考虑两个函数的变化规律 ， 填写你发现的规律 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539640" y="3284640"/>
            <a:ext cx="979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两函数图象都是经过原点的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函数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= 2x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的图象从左向右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经过第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象限；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函数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= -2x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的图象从左向右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经过第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象限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4356000" y="32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4354560" y="3763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上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6875640" y="3763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和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457200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6875640" y="4292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二和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304920" y="762120"/>
            <a:ext cx="82296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图像：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 正比例函数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y= kx (k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是常数，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k≠0)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的图象是经过原点的一条直线，我们称它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= kx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性质：当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&gt;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= k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经过第一、三象限，从左向右上升，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随着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增大而增大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&lt;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= k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经过第二、四象限，从左向右下降，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随着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增大而减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3" name="文本框 8199"/>
          <p:cNvSpPr/>
          <p:nvPr/>
        </p:nvSpPr>
        <p:spPr>
          <a:xfrm>
            <a:off x="2151000" y="426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WordArt 4"/>
          <p:cNvSpPr txBox="1"/>
          <p:nvPr/>
        </p:nvSpPr>
        <p:spPr>
          <a:xfrm>
            <a:off x="611280" y="144360"/>
            <a:ext cx="3816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250920" y="21337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你认为有什么简单的方法画一次函数的图像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6" name="Text Box 6"/>
          <p:cNvSpPr/>
          <p:nvPr/>
        </p:nvSpPr>
        <p:spPr>
          <a:xfrm>
            <a:off x="1547640" y="515772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7" name="Picture 7" descr=""/>
          <p:cNvPicPr/>
          <p:nvPr/>
        </p:nvPicPr>
        <p:blipFill>
          <a:blip r:embed="rId1"/>
          <a:stretch/>
        </p:blipFill>
        <p:spPr>
          <a:xfrm>
            <a:off x="1841400" y="2565360"/>
            <a:ext cx="2514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F8A8-B1C6-485D-A1B2-580F1CA17863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5"/>
          <p:cNvSpPr/>
          <p:nvPr/>
        </p:nvSpPr>
        <p:spPr>
          <a:xfrm>
            <a:off x="3704400" y="8380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彩云"/>
              </a:rPr>
              <a:t>小结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3" name="Text Box 6"/>
          <p:cNvSpPr/>
          <p:nvPr/>
        </p:nvSpPr>
        <p:spPr>
          <a:xfrm>
            <a:off x="468360" y="3789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正比例函数的概念和一般解析式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468360" y="472428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正比例函数的简单应用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755640" y="220500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１、这节课你学到了些什么知识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２、你有什么收获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6" name="Text Box 10"/>
          <p:cNvSpPr/>
          <p:nvPr/>
        </p:nvSpPr>
        <p:spPr>
          <a:xfrm>
            <a:off x="539640" y="55468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正比例函数的图象和简单性质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863640" y="228600"/>
            <a:ext cx="80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华文中宋"/>
                <a:ea typeface="华文中宋"/>
              </a:rPr>
              <a:t>问题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1996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年，鸟类研究者在芬兰给一只燕鸥（候鸟）套上标志环；大约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128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天后，人们在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25600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千米外的澳大利亚发现了它。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WordArt 11"/>
          <p:cNvSpPr txBox="1"/>
          <p:nvPr/>
        </p:nvSpPr>
        <p:spPr>
          <a:xfrm rot="5400000">
            <a:off x="-471600" y="68868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问题研讨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Text Box 63"/>
          <p:cNvSpPr/>
          <p:nvPr/>
        </p:nvSpPr>
        <p:spPr>
          <a:xfrm>
            <a:off x="250920" y="198108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这只百余克重的小鸟大约平均每天飞行多少千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73"/>
          <p:cNvSpPr/>
          <p:nvPr/>
        </p:nvSpPr>
        <p:spPr>
          <a:xfrm>
            <a:off x="250920" y="3581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这只燕鸥的行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单位：千米）与飞行的时间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单位：天）之间有什么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75"/>
          <p:cNvSpPr/>
          <p:nvPr/>
        </p:nvSpPr>
        <p:spPr>
          <a:xfrm>
            <a:off x="838080" y="30481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5600÷12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m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76"/>
          <p:cNvSpPr/>
          <p:nvPr/>
        </p:nvSpPr>
        <p:spPr>
          <a:xfrm>
            <a:off x="826920" y="46497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200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≤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≤12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77"/>
          <p:cNvSpPr/>
          <p:nvPr/>
        </p:nvSpPr>
        <p:spPr>
          <a:xfrm>
            <a:off x="206280" y="50846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这只燕鸥飞行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个半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个月按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天计算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行程大约是多少千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78"/>
          <p:cNvSpPr/>
          <p:nvPr/>
        </p:nvSpPr>
        <p:spPr>
          <a:xfrm>
            <a:off x="990720" y="61628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4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200×45=9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下列问题中的变量对应规律可用怎样的函数表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WordArt 17"/>
          <p:cNvSpPr txBox="1"/>
          <p:nvPr/>
        </p:nvSpPr>
        <p:spPr>
          <a:xfrm>
            <a:off x="0" y="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开动脑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04920" y="281952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圆的周长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随半径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大小变化而变化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24000" y="40384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铁的密度为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7.8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克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立方厘米，铁块的质量为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克，则它的质量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与体积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V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的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2" name="Picture 21" descr="post-1093-1114777432"/>
          <p:cNvPicPr/>
          <p:nvPr/>
        </p:nvPicPr>
        <p:blipFill>
          <a:blip r:embed="rId1"/>
          <a:stretch/>
        </p:blipFill>
        <p:spPr>
          <a:xfrm>
            <a:off x="380880" y="5791320"/>
            <a:ext cx="8763120" cy="1066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3198960" y="3429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L=2πr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048120" y="518148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m=7.8V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5" name="Group 24"/>
          <p:cNvGrpSpPr/>
          <p:nvPr/>
        </p:nvGrpSpPr>
        <p:grpSpPr>
          <a:xfrm>
            <a:off x="6172200" y="158400"/>
            <a:ext cx="2665080" cy="973440"/>
            <a:chOff x="6172200" y="158400"/>
            <a:chExt cx="2665080" cy="973440"/>
          </a:xfrm>
        </p:grpSpPr>
        <p:sp>
          <p:nvSpPr>
            <p:cNvPr id="186" name="WordArt 25"/>
            <p:cNvSpPr txBox="1"/>
            <p:nvPr/>
          </p:nvSpPr>
          <p:spPr>
            <a:xfrm>
              <a:off x="7311960" y="255600"/>
              <a:ext cx="13096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彩云"/>
                </a:rPr>
                <a:t>想一想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  <a:ea typeface="华文彩云"/>
              </a:endParaRPr>
            </a:p>
          </p:txBody>
        </p:sp>
        <p:grpSp>
          <p:nvGrpSpPr>
            <p:cNvPr id="187" name="Group 26"/>
            <p:cNvGrpSpPr/>
            <p:nvPr/>
          </p:nvGrpSpPr>
          <p:grpSpPr>
            <a:xfrm>
              <a:off x="6172200" y="158400"/>
              <a:ext cx="2665080" cy="973440"/>
              <a:chOff x="6172200" y="158400"/>
              <a:chExt cx="2665080" cy="973440"/>
            </a:xfrm>
          </p:grpSpPr>
          <p:sp>
            <p:nvSpPr>
              <p:cNvPr id="188" name="AutoShape 27"/>
              <p:cNvSpPr/>
              <p:nvPr/>
            </p:nvSpPr>
            <p:spPr>
              <a:xfrm rot="17553000">
                <a:off x="6162840" y="256320"/>
                <a:ext cx="353880" cy="212040"/>
              </a:xfrm>
              <a:custGeom>
                <a:avLst/>
                <a:gdLst>
                  <a:gd name="textAreaLeft" fmla="*/ 61920 w 353880"/>
                  <a:gd name="textAreaRight" fmla="*/ 256680 w 353880"/>
                  <a:gd name="textAreaTop" fmla="*/ 28440 h 212040"/>
                  <a:gd name="textAreaBottom" fmla="*/ 183600 h 21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3443"/>
                    <a:lnTo>
                      <a:pt x="21168" y="14403"/>
                    </a:lnTo>
                    <a:lnTo>
                      <a:pt x="17280" y="21600"/>
                    </a:lnTo>
                    <a:lnTo>
                      <a:pt x="12528" y="14403"/>
                    </a:lnTo>
                    <a:lnTo>
                      <a:pt x="14688" y="14403"/>
                    </a:lnTo>
                    <a:arcTo wR="7560" hR="21600" stAng="-2716557" swAng="-2326008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9" name="Rectangle 28"/>
              <p:cNvSpPr/>
              <p:nvPr/>
            </p:nvSpPr>
            <p:spPr>
              <a:xfrm>
                <a:off x="6172200" y="743040"/>
                <a:ext cx="2485080" cy="38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0" name="Oval 29"/>
              <p:cNvSpPr/>
              <p:nvPr/>
            </p:nvSpPr>
            <p:spPr>
              <a:xfrm>
                <a:off x="6372360" y="297000"/>
                <a:ext cx="619200" cy="466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7d7d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1" name="Oval 30"/>
              <p:cNvSpPr/>
              <p:nvPr/>
            </p:nvSpPr>
            <p:spPr>
              <a:xfrm>
                <a:off x="649584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2" name="Oval 31"/>
              <p:cNvSpPr/>
              <p:nvPr/>
            </p:nvSpPr>
            <p:spPr>
              <a:xfrm>
                <a:off x="680580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3" name="AutoShape 32"/>
              <p:cNvSpPr/>
              <p:nvPr/>
            </p:nvSpPr>
            <p:spPr>
              <a:xfrm rot="16300200">
                <a:off x="6669360" y="551520"/>
                <a:ext cx="77760" cy="18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ff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4" name="AutoShape 33"/>
              <p:cNvSpPr/>
              <p:nvPr/>
            </p:nvSpPr>
            <p:spPr>
              <a:xfrm>
                <a:off x="7039440" y="490680"/>
                <a:ext cx="307800" cy="137880"/>
              </a:xfrm>
              <a:prstGeom prst="rightArrow">
                <a:avLst>
                  <a:gd name="adj1" fmla="val 50000"/>
                  <a:gd name="adj2" fmla="val 55809"/>
                </a:avLst>
              </a:prstGeom>
              <a:gradFill rotWithShape="0">
                <a:gsLst>
                  <a:gs pos="0">
                    <a:srgbClr val="cc0066"/>
                  </a:gs>
                  <a:gs pos="50000">
                    <a:srgbClr val="3399ff"/>
                  </a:gs>
                  <a:gs pos="100000">
                    <a:srgbClr val="cc0066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5" name="AutoShape 34"/>
              <p:cNvSpPr/>
              <p:nvPr/>
            </p:nvSpPr>
            <p:spPr>
              <a:xfrm>
                <a:off x="6246720" y="820800"/>
                <a:ext cx="559080" cy="2001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ccecff"/>
                  </a:gs>
                  <a:gs pos="50000">
                    <a:srgbClr val="3399ff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7294320" y="262080"/>
                <a:ext cx="1542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>
                <a:off x="6954120" y="719280"/>
                <a:ext cx="339840" cy="22860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7d7da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Object 37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41" descr=""/>
          <p:cNvPicPr/>
          <p:nvPr/>
        </p:nvPicPr>
        <p:blipFill>
          <a:blip r:embed="rId5"/>
          <a:stretch/>
        </p:blipFill>
        <p:spPr>
          <a:xfrm>
            <a:off x="4476600" y="3270240"/>
            <a:ext cx="19080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43" descr=""/>
          <p:cNvPicPr/>
          <p:nvPr/>
        </p:nvPicPr>
        <p:blipFill>
          <a:blip r:embed="rId6"/>
          <a:stretch/>
        </p:blipFill>
        <p:spPr>
          <a:xfrm>
            <a:off x="4476600" y="3270240"/>
            <a:ext cx="1908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3"/>
          <p:cNvSpPr txBox="1"/>
          <p:nvPr/>
        </p:nvSpPr>
        <p:spPr>
          <a:xfrm>
            <a:off x="609480" y="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开动脑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04920" y="42670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冷冻一个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0℃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物体，使它每分下降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2℃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，物体的温度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单位：℃）随冷冻时间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单位：分）的变化而变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80880" y="1066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下列问题中的变量对应规律可用怎样的函数表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04920" y="220968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每个练习本的厚度为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0.5c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，一些练习本撂在一起的总厚度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单位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c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随这些练习本的本数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的变化而变化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352680" y="3505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=0.5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3429000" y="6033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=-2t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7" name="Group 12"/>
          <p:cNvGrpSpPr/>
          <p:nvPr/>
        </p:nvGrpSpPr>
        <p:grpSpPr>
          <a:xfrm>
            <a:off x="6172200" y="158400"/>
            <a:ext cx="2665080" cy="973440"/>
            <a:chOff x="6172200" y="158400"/>
            <a:chExt cx="2665080" cy="973440"/>
          </a:xfrm>
        </p:grpSpPr>
        <p:sp>
          <p:nvSpPr>
            <p:cNvPr id="208" name="WordArt 13"/>
            <p:cNvSpPr txBox="1"/>
            <p:nvPr/>
          </p:nvSpPr>
          <p:spPr>
            <a:xfrm>
              <a:off x="7311960" y="255600"/>
              <a:ext cx="13096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彩云"/>
                </a:rPr>
                <a:t>想一想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  <a:ea typeface="华文彩云"/>
              </a:endParaRPr>
            </a:p>
          </p:txBody>
        </p:sp>
        <p:grpSp>
          <p:nvGrpSpPr>
            <p:cNvPr id="209" name="Group 14"/>
            <p:cNvGrpSpPr/>
            <p:nvPr/>
          </p:nvGrpSpPr>
          <p:grpSpPr>
            <a:xfrm>
              <a:off x="6172200" y="158400"/>
              <a:ext cx="2665080" cy="973440"/>
              <a:chOff x="6172200" y="158400"/>
              <a:chExt cx="2665080" cy="973440"/>
            </a:xfrm>
          </p:grpSpPr>
          <p:sp>
            <p:nvSpPr>
              <p:cNvPr id="210" name="AutoShape 15"/>
              <p:cNvSpPr/>
              <p:nvPr/>
            </p:nvSpPr>
            <p:spPr>
              <a:xfrm rot="17553000">
                <a:off x="6162840" y="256320"/>
                <a:ext cx="353880" cy="212040"/>
              </a:xfrm>
              <a:custGeom>
                <a:avLst/>
                <a:gdLst>
                  <a:gd name="textAreaLeft" fmla="*/ 61920 w 353880"/>
                  <a:gd name="textAreaRight" fmla="*/ 256680 w 353880"/>
                  <a:gd name="textAreaTop" fmla="*/ 28440 h 212040"/>
                  <a:gd name="textAreaBottom" fmla="*/ 183600 h 21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3443"/>
                    <a:lnTo>
                      <a:pt x="21168" y="14403"/>
                    </a:lnTo>
                    <a:lnTo>
                      <a:pt x="17280" y="21600"/>
                    </a:lnTo>
                    <a:lnTo>
                      <a:pt x="12528" y="14403"/>
                    </a:lnTo>
                    <a:lnTo>
                      <a:pt x="14688" y="14403"/>
                    </a:lnTo>
                    <a:arcTo wR="7560" hR="21600" stAng="-2716557" swAng="-2326008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6172200" y="743040"/>
                <a:ext cx="2485080" cy="38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2" name="Oval 17"/>
              <p:cNvSpPr/>
              <p:nvPr/>
            </p:nvSpPr>
            <p:spPr>
              <a:xfrm>
                <a:off x="6372360" y="297000"/>
                <a:ext cx="619200" cy="466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7d7d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3" name="Oval 18"/>
              <p:cNvSpPr/>
              <p:nvPr/>
            </p:nvSpPr>
            <p:spPr>
              <a:xfrm>
                <a:off x="649584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4" name="Oval 19"/>
              <p:cNvSpPr/>
              <p:nvPr/>
            </p:nvSpPr>
            <p:spPr>
              <a:xfrm>
                <a:off x="680580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5" name="AutoShape 20"/>
              <p:cNvSpPr/>
              <p:nvPr/>
            </p:nvSpPr>
            <p:spPr>
              <a:xfrm rot="16300200">
                <a:off x="6669360" y="551520"/>
                <a:ext cx="77760" cy="18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ff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6" name="AutoShape 21"/>
              <p:cNvSpPr/>
              <p:nvPr/>
            </p:nvSpPr>
            <p:spPr>
              <a:xfrm>
                <a:off x="7039440" y="490680"/>
                <a:ext cx="307800" cy="137880"/>
              </a:xfrm>
              <a:prstGeom prst="rightArrow">
                <a:avLst>
                  <a:gd name="adj1" fmla="val 50000"/>
                  <a:gd name="adj2" fmla="val 55809"/>
                </a:avLst>
              </a:prstGeom>
              <a:gradFill rotWithShape="0">
                <a:gsLst>
                  <a:gs pos="0">
                    <a:srgbClr val="cc0066"/>
                  </a:gs>
                  <a:gs pos="50000">
                    <a:srgbClr val="3399ff"/>
                  </a:gs>
                  <a:gs pos="100000">
                    <a:srgbClr val="cc0066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7" name="AutoShape 22"/>
              <p:cNvSpPr/>
              <p:nvPr/>
            </p:nvSpPr>
            <p:spPr>
              <a:xfrm>
                <a:off x="6246720" y="820800"/>
                <a:ext cx="559080" cy="2001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ccecff"/>
                  </a:gs>
                  <a:gs pos="50000">
                    <a:srgbClr val="3399ff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8" name="Text Box 23"/>
              <p:cNvSpPr/>
              <p:nvPr/>
            </p:nvSpPr>
            <p:spPr>
              <a:xfrm>
                <a:off x="7294320" y="262080"/>
                <a:ext cx="1542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9" name="Freeform 24"/>
              <p:cNvSpPr/>
              <p:nvPr/>
            </p:nvSpPr>
            <p:spPr>
              <a:xfrm>
                <a:off x="6954120" y="719280"/>
                <a:ext cx="339840" cy="22860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7d7da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26"/>
          <p:cNvSpPr/>
          <p:nvPr/>
        </p:nvSpPr>
        <p:spPr>
          <a:xfrm>
            <a:off x="324000" y="54936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认真观察以上出现的四个函数解析式，分别说出哪些是常数、自变量和函数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24000" y="2492280"/>
          <a:ext cx="5933880" cy="4062240"/>
        </p:xfrm>
        <a:graphic>
          <a:graphicData uri="http://schemas.openxmlformats.org/drawingml/2006/table">
            <a:tbl>
              <a:tblPr/>
              <a:tblGrid>
                <a:gridCol w="2371680"/>
                <a:gridCol w="1006560"/>
                <a:gridCol w="1248480"/>
                <a:gridCol w="1089000"/>
                <a:gridCol w="21888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函数解析式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常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自变量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函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2π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7.8</a:t>
                      </a: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0.5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2" name="AutoShape 1067"/>
          <p:cNvSpPr/>
          <p:nvPr/>
        </p:nvSpPr>
        <p:spPr>
          <a:xfrm>
            <a:off x="6372360" y="2565360"/>
            <a:ext cx="2592360" cy="1150920"/>
          </a:xfrm>
          <a:prstGeom prst="wedgeRoundRectCallout">
            <a:avLst>
              <a:gd name="adj1" fmla="val -33893"/>
              <a:gd name="adj2" fmla="val 74967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这些函数有什么共同点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1068"/>
          <p:cNvSpPr/>
          <p:nvPr/>
        </p:nvSpPr>
        <p:spPr>
          <a:xfrm>
            <a:off x="6300720" y="41497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这些函数都是常数与自变量的乘积的形式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1069"/>
          <p:cNvSpPr/>
          <p:nvPr/>
        </p:nvSpPr>
        <p:spPr>
          <a:xfrm>
            <a:off x="2700360" y="3213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l-GR" sz="2400" spc="-1" strike="noStrike">
                <a:solidFill>
                  <a:srgbClr val="0033cc"/>
                </a:solidFill>
                <a:latin typeface="Times New Roman"/>
              </a:rPr>
              <a:t>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1070"/>
          <p:cNvSpPr/>
          <p:nvPr/>
        </p:nvSpPr>
        <p:spPr>
          <a:xfrm>
            <a:off x="4067280" y="32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1071"/>
          <p:cNvSpPr/>
          <p:nvPr/>
        </p:nvSpPr>
        <p:spPr>
          <a:xfrm>
            <a:off x="5076720" y="32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1072"/>
          <p:cNvSpPr/>
          <p:nvPr/>
        </p:nvSpPr>
        <p:spPr>
          <a:xfrm>
            <a:off x="2771640" y="386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8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1073"/>
          <p:cNvSpPr/>
          <p:nvPr/>
        </p:nvSpPr>
        <p:spPr>
          <a:xfrm>
            <a:off x="385128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1074"/>
          <p:cNvSpPr/>
          <p:nvPr/>
        </p:nvSpPr>
        <p:spPr>
          <a:xfrm>
            <a:off x="507672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1075"/>
          <p:cNvSpPr/>
          <p:nvPr/>
        </p:nvSpPr>
        <p:spPr>
          <a:xfrm>
            <a:off x="2700360" y="450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1076"/>
          <p:cNvSpPr/>
          <p:nvPr/>
        </p:nvSpPr>
        <p:spPr>
          <a:xfrm>
            <a:off x="385128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1077"/>
          <p:cNvSpPr/>
          <p:nvPr/>
        </p:nvSpPr>
        <p:spPr>
          <a:xfrm>
            <a:off x="5148360" y="450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1078"/>
          <p:cNvSpPr/>
          <p:nvPr/>
        </p:nvSpPr>
        <p:spPr>
          <a:xfrm>
            <a:off x="2771640" y="5157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Text Box 1079"/>
          <p:cNvSpPr/>
          <p:nvPr/>
        </p:nvSpPr>
        <p:spPr>
          <a:xfrm>
            <a:off x="406728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 Box 1080"/>
          <p:cNvSpPr/>
          <p:nvPr/>
        </p:nvSpPr>
        <p:spPr>
          <a:xfrm>
            <a:off x="521964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 rot="5400000">
            <a:off x="-30600" y="639360"/>
            <a:ext cx="1343160" cy="66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</a:rPr>
              <a:t>归纳</a:t>
            </a:r>
            <a:endParaRPr b="0" lang="en-US" sz="1800" spc="-1" strike="noStrike">
              <a:ln w="0">
                <a:noFill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3000" y="3808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一般地，形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=k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常数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≠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的函数，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比例函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其中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比例系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295280" y="20574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注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里强调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常数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≠0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762120" y="2743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你能举出一些正比例函数的例子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0" name="Group 14"/>
          <p:cNvGrpSpPr/>
          <p:nvPr/>
        </p:nvGrpSpPr>
        <p:grpSpPr>
          <a:xfrm>
            <a:off x="838080" y="3429000"/>
            <a:ext cx="7848720" cy="3135960"/>
            <a:chOff x="838080" y="3429000"/>
            <a:chExt cx="7848720" cy="3135960"/>
          </a:xfrm>
        </p:grpSpPr>
        <p:sp>
          <p:nvSpPr>
            <p:cNvPr id="241" name="Text Box 8"/>
            <p:cNvSpPr/>
            <p:nvPr/>
          </p:nvSpPr>
          <p:spPr>
            <a:xfrm>
              <a:off x="838080" y="3429000"/>
              <a:ext cx="70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下列函数中哪些是正比例函数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42" name="Object 11" descr=""/>
            <p:cNvPicPr/>
            <p:nvPr/>
          </p:nvPicPr>
          <p:blipFill>
            <a:blip r:embed="rId1"/>
            <a:stretch/>
          </p:blipFill>
          <p:spPr>
            <a:xfrm>
              <a:off x="1504800" y="3962160"/>
              <a:ext cx="59817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295280" y="5241960"/>
              <a:ext cx="73915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=2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x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+1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en-US" sz="32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+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-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为常数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4" name="WordArt 13"/>
          <p:cNvSpPr txBox="1"/>
          <p:nvPr/>
        </p:nvSpPr>
        <p:spPr>
          <a:xfrm rot="5400000">
            <a:off x="-609840" y="449568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隶书"/>
              </a:rPr>
              <a:t>试一试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04920" y="304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应用新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04920" y="10666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971640" y="1758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1042920" y="1125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已知一个正比例函数的比例系数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则它的解析式为 ？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419640" y="26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y=-5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685800" y="228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68360" y="155736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解析式的特征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正比例函数解析式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y=kx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k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是常数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k≠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的特征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k≠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自变量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的指数是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；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1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26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