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ACC-48B5-4960-9283-EE374BE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99B-3878-42B6-B1C0-73E1EB6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DBCF6-155E-42D5-85E4-F7EBDEF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799D0-1539-4402-8BB9-EFD13F88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A41C-D54F-4499-9016-C70F446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F0B6E-10F5-426C-9C9D-2A058A8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B646-2D7A-4069-8250-1D1B521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D1BD0-78C0-4242-8542-6918476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BCCF-A881-41C0-AA6A-30C2B46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40980-CD3B-45CA-9070-F25121D2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8278-957F-4E5B-8461-F7C99D63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B7F56-F95F-45A5-81FA-A7841AA3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171-ECD6-4927-A2D0-AB5FCC26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06CA9-361F-49C5-B3E8-64CF055D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959CF-2DB6-4641-A1F6-3733133D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80D2D-F4F1-48B4-9CE8-DFD946E8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FB2AB-AE4F-4C28-9B7D-6F0C36F3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3F8FB-FA9B-43FD-BBB3-A887780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0A90C-A3DC-4FB2-8CF1-87CECD6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8CE3-27B6-4CF2-87AE-7F869C1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FFAB7-8655-4C0A-8CED-48C9C18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E652A-1148-492F-859B-1BDA549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021D4-0E70-4777-BCB7-1C98C650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DBE-BC27-4953-9540-63C7D1D9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FBEF-31C6-4A82-9BFB-4EED097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E4B7-A546-459C-A471-42BF7973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3BF23-6EDF-4CB7-A4AE-73B123F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04354-7AD5-4C8B-ADFB-F7ADA79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6776D-F068-4D3C-B028-20E119C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18509-E842-4B8A-B4BB-76406E4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FA32D-06BA-4B1E-9CD2-5335B451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E7DB-7679-40B7-8A0A-8C1A842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B5A7E-CB05-48AA-8F3E-945EB38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06469-9550-45B8-B4C5-9085DF3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3D7-5303-4F89-80A0-299CB5BC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E1207-46D0-4F57-BD18-C968681B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55868-D534-480B-95DF-EE66784E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75CB3-B2A5-4C90-8479-47CF92A9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0A92C-9136-484A-83C9-8F43ED94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D5602-4B9A-42B1-B7CE-BF8CC9E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06D6A-44E3-47F4-82BF-0B5B495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34DF-571E-42EE-BC32-58E2483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8FB4D-78A4-444A-B40C-68EC0547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249D-4D93-4682-B709-5D3957A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AD9ED-0C9B-422A-A007-991881A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A1D-C72B-4CB1-A42E-20C82139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525D8-C4B8-4D72-B5FA-C636818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F1895-6C7C-4B0A-8A79-FAC98BE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B54DC-54D9-4317-91A2-4BE78F43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F80E4-3FDF-4ADE-ACB1-B7227503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3D450-C3B1-42FF-955F-89D20B0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1BEE3-3E6E-4005-A2A8-DF9C8FF0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D9D70-CAFE-4500-833C-98C68AD3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99900-AE89-449A-903F-1C8D2609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726E5-98AD-4422-A13C-33DDCBCA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87977-F2C8-4D9B-8E3F-7126B9A6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C145-793F-4716-B980-C9E68EF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38E83-9EF8-4810-83B6-68F37D36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6FEC3-A684-4BB7-92E9-F1B1ACA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1634E-A205-4387-96DC-726C9D6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C18A2-715D-41A3-8329-0B219100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BDA12-F910-49D3-A129-050818E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394BD-06AE-4D99-A452-1547E33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9D444-64D1-47C2-8831-F7680C22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C8AE-7DE0-406D-8930-F9CA3D4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0FCF-3796-495B-BF25-D0207627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9826-378D-4B40-A2C5-6DD5910E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94AC-A3BA-4D6C-952D-84A2A63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FE5-4A9B-4ED8-A4CE-6A0B721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A6F0-2339-4F7A-8232-C1DDC8C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9A1-7DCC-4009-8B43-E26FBBA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FE6-1FB0-4E9F-B859-AD1D56C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7AC2-48B2-4646-9A9A-F67C4068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6A5-8334-448A-8E44-70619AF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4475-1135-4C5A-805E-7741A4C1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1819-1B2E-42F3-B6FB-FACABF2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E415-A9FC-4E88-A18F-D092C6B2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E4CF-F91F-4DBB-905F-F6647317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7736-4511-4B23-80AB-8A0BD76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DB8-B2BB-4310-9F16-35DB1E7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5E31-F464-42E6-AA4F-EA5F8C4D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756F-40FD-4B49-BEAD-39A43E0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5A0A-2B6D-418C-B90C-0066221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8CAC-3674-4805-98AF-82F5DB0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C6B9-23A6-465B-86F6-2F8EE3B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A8F6-D643-41C9-A0FA-39E3B26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0ECA-20C2-4213-824A-A025FA0B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4E31-2582-4AE0-833E-0E86BEF0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BAB6-E504-4691-89EF-68126EC7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5B59-1151-44F0-85EC-184E2636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462-DAD9-4672-9649-E1547736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4B74-AD25-45EA-96B1-75B81C2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8070-0B05-4F47-B773-72420923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43A3-E910-4BC3-9379-61494F49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5BC8-4DAC-45B6-A202-D423825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4BAF-C0E7-4678-9BEA-6C42E07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F65C-AFB9-41BC-9F64-B966591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E011-65CB-4DA5-B4CC-1CEDC17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04C9-5AE0-49B2-BEFC-273CD845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DE71-9A84-4D28-B752-196AC1F0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3AA2-6750-4AB8-ACCB-79FC7243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5B9-70DF-48A3-95EE-4A7EE3D4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D25B-98B7-4C12-BE5E-0467C0D1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F905-AAE0-4729-B4F0-8273CF1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94D4-DD39-4CAC-805E-8FE61E3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6BAE-3510-48E1-9B0B-A57CCEA4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1392-9888-4EA9-82C7-7B8BF42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31FF-E354-4336-BA3B-52DD935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AB3B-48B5-4838-AC4B-F9BB2A8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42F0C-7213-4FB5-AC96-02B178E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0F29-96CF-4936-A458-D05F499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6B8B-0E69-49F6-B275-0320887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AC1-5DE9-46C1-B531-E3143F8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DB51-98DC-4A80-8141-DCD1E207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7700-08BE-41FB-B826-F9853EC0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A4E7-88A7-4F67-B6B2-CFD67AAA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EBF6-F2CE-44FF-88EA-56A0FFC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7583-6295-489C-819A-B89C107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EDAF-E3BF-47EC-BDA1-0B36341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665E0-8AFC-4A1E-9067-4CF4CAC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6F85-9D32-4FED-A8A8-730338D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855AE-9DCF-4D3A-8911-E4FC556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A9A3-0C7B-4740-84B9-323AE98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975-683D-4939-B3BC-5F6614F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33A77-2DD3-4F07-A518-0587916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74155-EFF3-4A34-8991-8F6388A0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FE15-35CB-4493-B845-C6BE5204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F079-11F7-4612-8C13-6031D479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88B89-F352-4B7A-B2F9-9E21DD1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79BD-8802-49C7-8C40-657EB1FD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F24F-102F-463B-BD79-3AE33A3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1CFD8-F832-4F5D-9915-BFFAD4F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7798-1BFD-48A4-8382-DAAFC2D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6B6D-AB73-4EF7-99CE-742E245B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7FB-347E-4200-8892-538CE35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D3E1-9F91-46CB-AB0B-57E3C97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B298-8BA9-4C3F-AB86-DE8241AF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A5897-20A1-4754-AF6E-768DD7C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E6B6B-57A0-4AAB-82ED-E3D16A2C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2656-239F-46C5-8C75-76D71933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5F4DE-10A5-4A1D-B563-F3AEEAE6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981B9-8247-46CE-B9D6-F6CD3E71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A522A-0BBC-416B-ABC9-83504121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2EE66-0E06-47DA-AF15-6666D24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B463-FC9E-4DD8-B726-66A4807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A23-4EC8-4913-8018-13B01A8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BB2F-CB4A-417B-8872-EEB7575A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2ACD-2CC4-48AD-BFE0-F2C0AAB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F6D17-BCA4-4418-8DBD-6943D90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C4CF-387B-484E-BA69-C463ACC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7017-3084-4402-B161-7B486F3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53B9-C8F1-4DA1-80FE-2E37AAB6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68ED-8F55-44D9-AA29-7E2AE757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31A95-E900-436A-BCB5-C90C76A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90D37-0025-4BAC-BF2A-2FF6CB2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7F1A-11A5-42C3-ADE2-C1C9586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396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47520" y="61538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4680" y="61459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26880" y="61603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404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36880" y="616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0800" y="616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1680" y="613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2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4480" y="614916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4080" y="61567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4680" y="60728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67520" y="608112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19280" y="6103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17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49760" y="596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2240" y="5995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55800" y="60123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08280" y="6033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3960" y="584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1480" y="586656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78280" y="5895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4000" y="5922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86360" y="5751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4960" y="5779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36040" y="39200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2400" y="394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46680" y="3845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89520" y="38581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4800" y="38689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4040" y="388836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26360" y="37972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0280" y="38070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18160" y="3815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66040" y="3821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4520" y="379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2040" y="37929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89560" y="3788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38880" y="37893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59440" y="382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06960" y="38185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59160" y="381168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08840" y="380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2920" y="389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2240" y="388044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17960" y="3864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59000" y="38466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3600" y="4040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97560" y="3989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1840" y="3966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4680" y="3950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4000" y="3927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68920" y="3781800"/>
                <a:ext cx="245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5200" y="385164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77040" y="5631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422-3204-4807-9B9F-AD7324D91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EDF-00D7-488C-AA43-C279B0C9B3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032-88AA-446C-88CF-F458FFC3A2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9DB5-EBBB-48D0-B622-41C4E38C09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8671-43C0-422E-9C22-B5F5B81B12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9B1-B92F-425D-8620-041E33910A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396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47520" y="61538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4680" y="61459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26880" y="61603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404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36880" y="616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0800" y="616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1680" y="613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2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4480" y="614916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4080" y="61567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4680" y="60728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67520" y="608112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19280" y="6103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17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49760" y="596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2240" y="5995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55800" y="60123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08280" y="6033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3960" y="584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1480" y="586656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78280" y="5895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4000" y="5922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86360" y="5751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4960" y="5779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36040" y="39200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2400" y="394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46680" y="3845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89520" y="385812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4800" y="38689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4040" y="388836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26360" y="37972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0280" y="38070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18160" y="3815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66040" y="3821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4520" y="3796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2040" y="37929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89560" y="378828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38880" y="37893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59440" y="3826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06960" y="38185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59160" y="381168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08840" y="380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2920" y="3896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2240" y="3880440"/>
                <a:ext cx="10008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17960" y="3864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59000" y="38466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3600" y="4040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97560" y="3989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1840" y="3966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4680" y="3950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4000" y="3927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68920" y="3781800"/>
                <a:ext cx="245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5200" y="385164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77040" y="5631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858F-8C44-4DFB-B0BF-97C365FEC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D9E-5325-4CB6-BBF4-495521A5B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CB5-BD53-4154-B5D2-4C0DA00A76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049-48D1-42D9-8297-1348F328A7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6FC-A17C-43E3-901B-E27B5DD0C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1E3-2569-4B9F-B606-15FFCE0C09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DB5-0E32-478A-8F0F-B42B94FEE0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05440" cy="103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枣儿语文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人物形象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老人    老一辈的农民形象：辛勤劳作，热爱家乡，关爱下一代，念旧而又传统，对生活不失希望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男孩     年幼的新生一代的形象：思念父亲，喜爱心疼自己的老人，纯真可爱，好奇而又懂事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文本框 8198"/>
          <p:cNvSpPr/>
          <p:nvPr/>
        </p:nvSpPr>
        <p:spPr>
          <a:xfrm>
            <a:off x="1187280" y="1052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艺术手法</a:t>
            </a:r>
            <a:br>
              <a:rPr sz="6000"/>
            </a:b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全剧运用了象征的艺术手法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全剧以“枣儿”为线索贯穿剧情，借“枣儿”牵系和寄托人物的感情：老人和男孩因“枣儿”而相遇、而亲近，又因“枣儿”而引起他们对亲人的思念和呼唤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剧中有不少台词和情节富有象征意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E01-BE34-4F6B-A211-24002227C2E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怎样理解剧本的思想内容？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01680" y="1557360"/>
            <a:ext cx="884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双重性    表层   表现的是牵动人心的深切亲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深层   表现的是人们在社会变革中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情感动荡、人生变化和生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考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双向性      相反相成的两个方面 ：至爱亲情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传统失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多样性       内涵丰富   理解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作者简介</a:t>
            </a: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孙鸿   剧作家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999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枣儿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》 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荣获曹禺优秀 话剧小品 奖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9" name="Picture 5" descr="8391,4a1161,1d01,1"/>
          <p:cNvPicPr/>
          <p:nvPr/>
        </p:nvPicPr>
        <p:blipFill>
          <a:blip r:embed="rId1"/>
          <a:stretch/>
        </p:blipFill>
        <p:spPr>
          <a:xfrm>
            <a:off x="6300720" y="4653000"/>
            <a:ext cx="1944720" cy="1168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7"/>
          <p:cNvSpPr/>
          <p:nvPr/>
        </p:nvSpPr>
        <p:spPr>
          <a:xfrm>
            <a:off x="6031080" y="501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什么叫象征？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01680" y="1599840"/>
            <a:ext cx="85406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象征就是托意于物，通过某一特定的具体形象来表现抽象事物和思想感情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Picture 4" descr="fswy38"/>
          <p:cNvPicPr/>
          <p:nvPr/>
        </p:nvPicPr>
        <p:blipFill>
          <a:blip r:embed="rId1"/>
          <a:stretch/>
        </p:blipFill>
        <p:spPr>
          <a:xfrm>
            <a:off x="4788000" y="4276800"/>
            <a:ext cx="3809880" cy="2581200"/>
          </a:xfrm>
          <a:prstGeom prst="rect">
            <a:avLst/>
          </a:prstGeom>
          <a:ln w="0">
            <a:noFill/>
          </a:ln>
        </p:spPr>
      </p:pic>
      <p:sp>
        <p:nvSpPr>
          <p:cNvPr id="84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枣儿象征什么？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枣儿”是亲情的象征，是故乡的象征，也是传统生活的象征和精神生活的象征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7" name="Picture 4" descr="6119,162df1,d09,1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186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讨论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有几个人物？在出场上有何不同 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共有四个人物。两位出场：老人和男孩；两位未出场：老人的儿子和男孩的父亲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谈谈枣儿在剧中所起的作用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全剧以“枣儿”为标题，并以“枣儿”贯穿全剧，让老人与男孩围绕“枣儿”进行对话展开情节。老人的经历、情感乃至命运都与“枣儿”有着不解之缘，男孩对父亲的思念，也与“枣儿”相牵连。“枣儿”是全剧情节发展的线索，是人物对白的话题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ahoma"/>
              </a:rPr>
              <a:t>结构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枣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老人                                   寄托人物感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线索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枣儿       象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男孩                               反映人物生存状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Oval 12"/>
          <p:cNvSpPr/>
          <p:nvPr/>
        </p:nvSpPr>
        <p:spPr>
          <a:xfrm flipV="1">
            <a:off x="3348000" y="2924280"/>
            <a:ext cx="1224000" cy="57600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AutoShape 15"/>
          <p:cNvSpPr/>
          <p:nvPr/>
        </p:nvSpPr>
        <p:spPr>
          <a:xfrm rot="5975400">
            <a:off x="1908000" y="2563560"/>
            <a:ext cx="1079640" cy="936720"/>
          </a:xfrm>
          <a:prstGeom prst="triangle">
            <a:avLst>
              <a:gd name="adj" fmla="val 879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AutoShape 18"/>
          <p:cNvSpPr/>
          <p:nvPr/>
        </p:nvSpPr>
        <p:spPr>
          <a:xfrm rot="15264000">
            <a:off x="5047200" y="2584800"/>
            <a:ext cx="1057320" cy="1008000"/>
          </a:xfrm>
          <a:prstGeom prst="triangle">
            <a:avLst>
              <a:gd name="adj" fmla="val 2377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7" name="Picture 20" descr="5017,162bcf,10d9,1"/>
          <p:cNvPicPr/>
          <p:nvPr/>
        </p:nvPicPr>
        <p:blipFill>
          <a:blip r:embed="rId1"/>
          <a:stretch/>
        </p:blipFill>
        <p:spPr>
          <a:xfrm>
            <a:off x="5435640" y="4697280"/>
            <a:ext cx="1873080" cy="216072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ffcc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ffcc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864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  “</a:t>
            </a:r>
            <a:r>
              <a:rPr b="1" lang="zh-CN" sz="4000" spc="-1" strike="noStrike">
                <a:solidFill>
                  <a:srgbClr val="ffff99"/>
                </a:solidFill>
                <a:latin typeface="Tahoma"/>
              </a:rPr>
              <a:t>枣儿甜，</a:t>
            </a: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……</a:t>
            </a:r>
            <a:r>
              <a:rPr b="1" lang="zh-CN" sz="4000" spc="-1" strike="noStrike">
                <a:solidFill>
                  <a:srgbClr val="ffff99"/>
                </a:solidFill>
                <a:latin typeface="Tahoma"/>
              </a:rPr>
              <a:t>留给娃娃过年吃”在文中出现两次，请从结构内容上说说它在剧中所起的作用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23587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结构上首尾呼应，用这首童谣表达了在枣儿中所融入的父母爱子女的亲情，因而在内容上又强化了剧中的情景，升华了全剧的思想内容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99"/>
                </a:solidFill>
                <a:latin typeface="Tahoma"/>
              </a:rPr>
              <a:t>主旨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全剧运用象征手法，围绕着枣儿展开情节，描写了老人和男孩之间的一段亲切交往，表现了老人对儿子、男孩对父亲的深切亲情，反映了我国在现代化进程中的社会变迁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2:37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0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