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199-FF55-482E-BFC6-8E700AA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62B-3A11-45CE-B602-3C702CA6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6DA-A34E-4B7F-8EA0-78D7A40A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6BD-C608-4773-93C4-7642619B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7BE5-A887-409A-99A0-EC3B8632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9DE0-1B80-4A59-95F6-9A00F13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04E4-D71D-45C0-B542-E3793F2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2DC-E1C1-43A4-984D-1175E9FF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105-2A83-45D5-AE05-F1B54A73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455-12F7-42AD-BD2A-0D303AFB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E127-9C5E-418E-A944-99ABD6E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90C-8190-4044-A2C6-DAD6367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834-8A0A-4008-9F04-31AFF67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4D36-E650-4C8C-BF99-AACB9A9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32A-1BEC-4D97-BADD-01EAEBA9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A0F9-82BF-45B4-8AE6-4554918D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F98A-C942-4621-B04F-943F41F3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7E49-AE16-45FF-8F3B-139F58DD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6B72-4056-434D-84AD-E9E6D853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198D-9D0E-4009-830B-F3088DE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AEBC-8ABD-45EE-ABE8-90E81C0C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AF84-6151-4D2A-ACBF-27F192A9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769-4C18-4B86-ADC7-9846C63B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A0DF-B8BF-4275-8F09-0D86C249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13B4-9325-42CD-A22D-0C3A358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0047-DB95-4838-93AD-82116CA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E8D3-2C55-4B3D-97CB-A4BC418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288A-E1CA-4AAA-B3DA-0D77835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9030-639C-448E-AB2F-25443FE9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A76C-AA21-4C32-86B7-7C54796E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B30-598A-4CC9-B304-E8809FA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E7B-DA90-4AE2-A00A-B98B613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824-FC3B-406D-8F44-474D71D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6FE-4DF2-4D11-AEDB-00D8237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0F3-8AAC-410B-85D3-42389D9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C91-7CA4-469D-A3FD-0AD838E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5AD-ADA4-451F-A337-A0674F0B4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18C6-771E-4678-8666-C7D3CD0E0B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785-0993-4805-8070-122E5BDAB6B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79120" y="1844640"/>
            <a:ext cx="7581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祖父的园子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为什么能将她的童年生活写得那样有趣，真实，吸引读者？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祖父的园子──“我”的乐园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留心观察生活，用心感受生活，真实表达感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4" descr="k07-0011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16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0" y="1689120"/>
            <a:ext cx="9144000" cy="44038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3419640" y="2276640"/>
            <a:ext cx="1008000" cy="504720"/>
            <a:chOff x="3419640" y="2276640"/>
            <a:chExt cx="1008000" cy="504720"/>
          </a:xfrm>
        </p:grpSpPr>
        <p:sp>
          <p:nvSpPr>
            <p:cNvPr id="158" name="Line 6"/>
            <p:cNvSpPr/>
            <p:nvPr/>
          </p:nvSpPr>
          <p:spPr>
            <a:xfrm>
              <a:off x="3419640" y="2276640"/>
              <a:ext cx="1008000" cy="504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419640" y="2276640"/>
              <a:ext cx="1008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84720" y="3213000"/>
            <a:ext cx="1008360" cy="505080"/>
            <a:chOff x="6084720" y="3213000"/>
            <a:chExt cx="1008360" cy="505080"/>
          </a:xfrm>
        </p:grpSpPr>
        <p:sp>
          <p:nvSpPr>
            <p:cNvPr id="161" name="Line 7"/>
            <p:cNvSpPr/>
            <p:nvPr/>
          </p:nvSpPr>
          <p:spPr>
            <a:xfrm>
              <a:off x="6084720" y="3213000"/>
              <a:ext cx="100836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6084720" y="3213000"/>
              <a:ext cx="1008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00720" y="4221000"/>
            <a:ext cx="1008000" cy="505080"/>
            <a:chOff x="6300720" y="4221000"/>
            <a:chExt cx="1008000" cy="505080"/>
          </a:xfrm>
        </p:grpSpPr>
        <p:sp>
          <p:nvSpPr>
            <p:cNvPr id="164" name="Line 8"/>
            <p:cNvSpPr/>
            <p:nvPr/>
          </p:nvSpPr>
          <p:spPr>
            <a:xfrm>
              <a:off x="6300720" y="4221000"/>
              <a:ext cx="100800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300720" y="4221000"/>
              <a:ext cx="100800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71640" y="5084640"/>
            <a:ext cx="1008000" cy="505080"/>
            <a:chOff x="971640" y="5084640"/>
            <a:chExt cx="1008000" cy="505080"/>
          </a:xfrm>
        </p:grpSpPr>
        <p:sp>
          <p:nvSpPr>
            <p:cNvPr id="167" name="Line 9"/>
            <p:cNvSpPr/>
            <p:nvPr/>
          </p:nvSpPr>
          <p:spPr>
            <a:xfrm>
              <a:off x="971640" y="5084640"/>
              <a:ext cx="100800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971640" y="5084640"/>
              <a:ext cx="100800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2BDD-E7BB-4F29-A926-C0D8BAAFF41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6084720" y="4373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981000"/>
            <a:ext cx="1446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萧红（１９１１～１９４２）中国现代著名女作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黑龙江省呼兰县人，原名张乃莹。１９３５年在上海出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名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死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，开始用萧红作笔名，蜚声文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萧红不到 １０年的创作生涯中，为祖国文学宝库留下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近百万字的作品，深受广大读者的喜爱，具有广泛而深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影响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5" descr="k07-007a"/>
          <p:cNvPicPr/>
          <p:nvPr/>
        </p:nvPicPr>
        <p:blipFill>
          <a:blip r:embed="rId1"/>
          <a:stretch/>
        </p:blipFill>
        <p:spPr>
          <a:xfrm>
            <a:off x="5003640" y="3429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603720"/>
            <a:ext cx="879156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wēng       kě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蚂蚱    蝴蝶   蜻蜓    翁翁    啃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īng     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ng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pi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o    w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ō        dū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樱桃    蚌壳   水瓢    倭瓜    嘟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lu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下雨罗     光芒四射   蚯蚓    蝙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说说本文的主要内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4" descr="k07-005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4" descr="k07-006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回忆了童年时代在祖父的园子里快乐玩耍的哪些情景？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Picture 4" descr="k07-009a"/>
          <p:cNvPicPr/>
          <p:nvPr/>
        </p:nvPicPr>
        <p:blipFill>
          <a:blip r:embed="rId1"/>
          <a:stretch/>
        </p:blipFill>
        <p:spPr>
          <a:xfrm>
            <a:off x="3851280" y="1844640"/>
            <a:ext cx="4932360" cy="39466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8199"/>
          <p:cNvSpPr/>
          <p:nvPr/>
        </p:nvSpPr>
        <p:spPr>
          <a:xfrm>
            <a:off x="755640" y="587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843560" y="1876320"/>
            <a:ext cx="548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用自己喜欢的方式再读课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找出自己喜欢的段落先自己练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再读给同伴听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想一想，你为什么喜欢自己读的段落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什么感受和体会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68360" y="388800"/>
            <a:ext cx="30240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提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体会“我”在园子里的心情是怎样的？你是从哪里体会到的？用笔勾出相关句子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Picture 4" descr="k07-008a"/>
          <p:cNvPicPr/>
          <p:nvPr/>
        </p:nvPicPr>
        <p:blipFill>
          <a:blip r:embed="rId1"/>
          <a:stretch/>
        </p:blipFill>
        <p:spPr>
          <a:xfrm>
            <a:off x="4859280" y="3213000"/>
            <a:ext cx="41767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”在祖父的园子里是自由自在、快乐无忧的，“我”的童年生活是多彩有趣的，令人向往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0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47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