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49F-5A83-422A-B020-089D069B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52F-F19B-42DD-829B-FD1DAF43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433-388F-44DE-B698-BD4F274C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EE3-CD48-46A4-A515-D2485017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8599-9E53-4029-B90B-3B1A63F8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33A5-206B-4FEA-826C-8A6D7D98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B775-99AC-4EB0-A031-D9B6A46D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8340-8916-4670-B1A9-E14B29CC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79BC-560E-4556-9BF7-844BAD22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F31B-A63B-4FBD-BE2D-F05FEE36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5371-B0BE-423C-868D-0D25F716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C2D-A96F-4484-BB37-55A68901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54FE-53E2-437C-9E70-65D0CC54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DA08-B7F4-4354-97CA-BA51231D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CE2C-66B0-4E1D-9CE9-1DA3B8D0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7ACE-A702-4E3D-AAA1-2977B837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56CF-ECB5-45FD-9185-04B1018D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61E-AC48-4F99-AF2B-2EFF9C7E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E2F-2180-4102-A166-1A1EB815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C14-F611-4C49-8AE9-D6811E48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7BB-EBA4-4CC1-A43B-22AF284F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5613-9E32-4CF7-ACFD-2E1C5F0A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027-7FB9-49D5-9FB1-AB6D53B8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7DB-9FFA-431D-B634-B06D4F0C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6870-C7B4-4638-B220-DEDA5058D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88F4-6D39-418E-A483-D8A275FD9C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1488960" y="2206800"/>
            <a:ext cx="61930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祝福青春课件</a:t>
            </a:r>
            <a:r>
              <a:rPr b="1" lang="en-US" sz="4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2945160" y="90792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四课   欢快的青春节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547640" y="12114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步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珍惜青春，灿烂人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627280" y="2276640"/>
            <a:ext cx="295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立志  理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毅力  拼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惜时  勤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自尊  自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实践  创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立志  理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16765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理想，是人们渴望达到的奋斗目标，也是人们为达到目标所下的决心。没有理想，青春就会枯萎；没有伟大的志愿，生命就会暗淡无光。没有理想的青春就是没有太阳。理想是指路灯，没有理想就没有坚定的方向；没有方向就没有生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143000" y="1447920"/>
            <a:ext cx="688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檐上水滴之力微不足道，它却能穿越石块；愚公年老力衰，子孙势单力薄，但他们敢于向巍然的太行王屋开战；兔子跳跃迅捷，乌龟爬行缓慢，龟兔赛跑乌龟折桂。“咬定青山不放松，立根原在破岩中。钱磨万击还坚韧，任尔东西南北风”（郑板桥）人生就是拼搏，朝着目标迎难而上，不达目的决不罢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8199"/>
          <p:cNvSpPr/>
          <p:nvPr/>
        </p:nvSpPr>
        <p:spPr>
          <a:xfrm>
            <a:off x="1479600" y="1112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惜时  勤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11280" y="1268280"/>
            <a:ext cx="7543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寸光阴一寸金”  “青春是有限的，智慧是无穷的。趁短短的青春，去学无穷的智慧” （高尔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天才在于积累，聪明在于勤奋” （华罗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谁虚度年华，青春就会褪色，生命就抛弃他们”（雨果）“在天才和勤奋之间，我毫不迟疑地选择勤奋，她几乎是世界上一切成就的催生婆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尊  自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47280" y="1628640"/>
            <a:ext cx="65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尊心是一种促使一个人不断向上发展的动力。“天行健，君子以自强不息”困难逆境的砥砺和生活强者的驾御，恰如正电和负电，一经碰撞，驾御者就能观赏到自己胜利的火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8199"/>
          <p:cNvSpPr/>
          <p:nvPr/>
        </p:nvSpPr>
        <p:spPr>
          <a:xfrm>
            <a:off x="755640" y="1316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实践  创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05228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实践出真知，实践长才干。知识是宝库，开启这个宝库的钥匙是实践。面对享乐的寒流，创新就是青春面前熊熊篝火；面对庸俗的暗夜，创新就是青春拨云见日的阳光；面对没有追求没有信念的迷茫，创新就是青春的快乐与幸福。时光如梭，生命并非是永远饱满，让创新翅膀插进青春向往飞翔的身体，永远在事业的天空中自由飞翔。让创新的心灵溶入我们青春的灵魂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403280" y="1197000"/>
            <a:ext cx="57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步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想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前面学习了哪些知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通过上面的学习有哪些问题和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7AEA-0D5B-4348-AFDA-EC33447D16B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474920" y="690480"/>
            <a:ext cx="597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出示两首诗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岳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满江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怒发冲冠，凭栏处潇潇雨歇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抬望眼，仰天长啸，壮怀激烈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十功名尘与土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八千里路云和月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莫等闲白了少年头，空悲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547640" y="3498840"/>
            <a:ext cx="547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毛主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“世界是你们的！也是我们的，但是归根结底是你们的！”努力学习，争做国家的栋梁之才。（学生齐读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490920" y="54435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五步：检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116000" y="1341360"/>
            <a:ext cx="70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突破难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步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出示一组情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组植物；第二组动物；第三组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42920" y="314172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观察上述图片，你有哪些对青春的感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引导学生得出：青春是向上的、充满活力的、幸福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eac0cd7d4b3e3f8a044df2e"/>
          <p:cNvPicPr/>
          <p:nvPr/>
        </p:nvPicPr>
        <p:blipFill>
          <a:blip r:embed="rId1"/>
          <a:stretch/>
        </p:blipFill>
        <p:spPr>
          <a:xfrm>
            <a:off x="4500720" y="71280"/>
            <a:ext cx="4500360" cy="5950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200931195351_16"/>
          <p:cNvPicPr/>
          <p:nvPr/>
        </p:nvPicPr>
        <p:blipFill>
          <a:blip r:embed="rId2"/>
          <a:stretch/>
        </p:blipFill>
        <p:spPr>
          <a:xfrm>
            <a:off x="112680" y="71280"/>
            <a:ext cx="4388040" cy="5805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684360" y="6165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挺拔的松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012000" y="6165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树盘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002C93F81C00F0F22EE4CA0C8264323B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0015f26306540be1bd2b27"/>
          <p:cNvPicPr/>
          <p:nvPr/>
        </p:nvPicPr>
        <p:blipFill>
          <a:blip r:embed="rId2"/>
          <a:stretch/>
        </p:blipFill>
        <p:spPr>
          <a:xfrm>
            <a:off x="0" y="3573360"/>
            <a:ext cx="4643280" cy="3140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2009050313541758706"/>
          <p:cNvPicPr/>
          <p:nvPr/>
        </p:nvPicPr>
        <p:blipFill>
          <a:blip r:embed="rId3"/>
          <a:stretch/>
        </p:blipFill>
        <p:spPr>
          <a:xfrm>
            <a:off x="0" y="0"/>
            <a:ext cx="4821120" cy="381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2009050314134142979"/>
          <p:cNvPicPr/>
          <p:nvPr/>
        </p:nvPicPr>
        <p:blipFill>
          <a:blip r:embed="rId4"/>
          <a:stretch/>
        </p:blipFill>
        <p:spPr>
          <a:xfrm>
            <a:off x="4716360" y="3716280"/>
            <a:ext cx="44276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5"/>
          <p:cNvSpPr/>
          <p:nvPr/>
        </p:nvSpPr>
        <p:spPr>
          <a:xfrm>
            <a:off x="5796000" y="1125360"/>
            <a:ext cx="73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zyn20090212037"/>
          <p:cNvPicPr/>
          <p:nvPr/>
        </p:nvPicPr>
        <p:blipFill>
          <a:blip r:embed="rId1"/>
          <a:stretch/>
        </p:blipFill>
        <p:spPr>
          <a:xfrm>
            <a:off x="468360" y="189000"/>
            <a:ext cx="4762440" cy="4105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001d92d13f780a78bb701e"/>
          <p:cNvPicPr/>
          <p:nvPr/>
        </p:nvPicPr>
        <p:blipFill>
          <a:blip r:embed="rId2"/>
          <a:stretch/>
        </p:blipFill>
        <p:spPr>
          <a:xfrm>
            <a:off x="324000" y="3068640"/>
            <a:ext cx="3600360" cy="3789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200951996361w"/>
          <p:cNvPicPr/>
          <p:nvPr/>
        </p:nvPicPr>
        <p:blipFill>
          <a:blip r:embed="rId3"/>
          <a:stretch/>
        </p:blipFill>
        <p:spPr>
          <a:xfrm>
            <a:off x="5580000" y="1066680"/>
            <a:ext cx="3810240" cy="579132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8199"/>
          <p:cNvSpPr/>
          <p:nvPr/>
        </p:nvSpPr>
        <p:spPr>
          <a:xfrm>
            <a:off x="3344760" y="1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116000" y="2708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出示材料：金庸笔下的杨过少年凄惨，父亲降金，母亲自杀，人们看不起他，但他通过自己的努力成为一个大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042920" y="1413000"/>
            <a:ext cx="58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比青春：填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页留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116000" y="4724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得出结论：青春是奋斗史，不是怯懦者的避风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971640" y="1484280"/>
            <a:ext cx="57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步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想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学生读刚才写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的留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给青春寄语。（青春立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长江后浪推前浪，一代更比一代强。自古英雄出少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16000" y="465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五步：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403280" y="62064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突出重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步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出示古今中外名人寄语青春的名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187280" y="2060640"/>
            <a:ext cx="684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春是一年的青春，青春是生命的的春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雨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世界进文明，为人类造幸福，以青年之我，创造青春之家庭，青春之国家，青春之民族，青春之人类，青春之地球，青春之宇宙，资以乐其无涯之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李大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岁月如流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断地逝去却又源源而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惟有青春一去不复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易卜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世间，比青春再可宝贵的东西实在没有，然而青春也最容易消逝。最可宝贵的东西都不甚 为人所爱惜，最容易消逝的东西却在促进它的消逝。谁能保持得永远的青春的，便是伟大的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郭沫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百金买骏马，千金买美人；万金买高爵，何处买青春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屈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763640" y="1844640"/>
            <a:ext cx="58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步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将课前调查班上交流：同学间；家长给孩子的寄语；老师给孩子的寄语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5:05:3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48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