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DD58-CD47-4855-9067-F031F6ED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61B-35AA-47AD-A261-75273845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B634-A987-400E-A8EE-D8D8079C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62A2-B5C4-43DE-997F-80FB8632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5008-A8DD-4CBD-9479-E8C0C857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9440" y="190080"/>
            <a:ext cx="8207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F44-FFC5-4B7C-BF03-BC3E802B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7B9-D6E5-4B7A-A5D7-1446D3DC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5C3-CDAC-47BA-8EAC-2E862DB7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310-674F-475D-9AEE-DD7198E8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411E-E1AF-464B-9EDF-7D92BD5D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51AB-53C7-4C03-BC91-5885E4CC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F88A-47A7-4A46-AB3B-54A79F62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9440" y="190080"/>
            <a:ext cx="8207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ahoma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ahoma"/>
              </a:rPr>
              <a:t> </a:t>
            </a:r>
            <a:fld id="{B025A4FE-1952-4E73-901D-17229A6EF03F}" type="slidenum">
              <a:rPr b="1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3AF5-7815-452B-AC87-DEB52F12D34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WordArt 4" descr=""/>
          <p:cNvPicPr/>
          <p:nvPr/>
        </p:nvPicPr>
        <p:blipFill>
          <a:blip r:embed="rId2"/>
          <a:stretch/>
        </p:blipFill>
        <p:spPr>
          <a:xfrm>
            <a:off x="977760" y="2622600"/>
            <a:ext cx="7258320" cy="857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2728800" y="836640"/>
            <a:ext cx="375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华文中宋"/>
                <a:ea typeface="华文中宋"/>
              </a:rPr>
              <a:t>第七课　关注经济发展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250920" y="270072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夕，老李一家五口围坐在一起，吃着“团圆饭”，聊着开心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李大爷说：“我们钢铁公司是国营骨干企业，今年完成了一个投资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亿元，能生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吨特种钢铁的项目。今年公司产值突破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亿元，利税达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亿元。光年终奖金我就拿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。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WordArt 5"/>
          <p:cNvSpPr txBox="1"/>
          <p:nvPr/>
        </p:nvSpPr>
        <p:spPr>
          <a:xfrm>
            <a:off x="1403280" y="1052640"/>
            <a:ext cx="23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宋体"/>
              </a:rPr>
              <a:t>镜头一：</a:t>
            </a:r>
            <a:endParaRPr b="0" lang="en-US" sz="1800" spc="1" strike="noStrike">
              <a:ln w="255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137320" y="4797360"/>
            <a:ext cx="511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方正魏碑_GBK"/>
              </a:rPr>
              <a:t>问：①李大爷所从事的职业属于哪一种经济成分？地位如何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方正魏碑_GBK"/>
              </a:rPr>
              <a:t>          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方正魏碑_GBK"/>
              </a:rPr>
              <a:t>有什么作用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201760" y="5661000"/>
            <a:ext cx="39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方正魏碑_GBK"/>
              </a:rPr>
              <a:t>②</a:t>
            </a:r>
            <a:r>
              <a:rPr b="1" lang="zh-CN" sz="2400" spc="-1" strike="noStrike">
                <a:solidFill>
                  <a:srgbClr val="0000ff"/>
                </a:solidFill>
                <a:latin typeface="方正魏碑_GBK"/>
                <a:ea typeface="方正魏碑_GBK"/>
              </a:rPr>
              <a:t>你还知道还有那些行业是由国有经济控制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方正魏碑_GBK"/>
                <a:ea typeface="方正魏碑_GBK"/>
              </a:rPr>
              <a:t>为何由国有经济控制？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1958760" y="1054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国有经济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50920" y="2421000"/>
            <a:ext cx="86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含义：生产资料和劳动产品归</a:t>
            </a: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全体人民共同所有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的公有制经济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580120" y="364500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地位：国民经济的</a:t>
            </a: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主导力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50920" y="436572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作用：对于发挥社会主义制度的优越性，增强我国的经济实力、国防实力和民族凝聚力，具有关键作用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Oval 4"/>
          <p:cNvSpPr/>
          <p:nvPr/>
        </p:nvSpPr>
        <p:spPr>
          <a:xfrm>
            <a:off x="2700360" y="2781360"/>
            <a:ext cx="3384360" cy="1152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国有经济控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的行业和领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5292720" y="836640"/>
            <a:ext cx="3600360" cy="1727280"/>
          </a:xfrm>
          <a:prstGeom prst="wedgeRoundRectCallout">
            <a:avLst>
              <a:gd name="adj1" fmla="val -41356"/>
              <a:gd name="adj2" fmla="val 7003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支柱产业和高新技术产业中的重要骨干企业（机械、电子、汽车、石油化工、建筑等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179280" y="836640"/>
            <a:ext cx="3600720" cy="1727280"/>
          </a:xfrm>
          <a:prstGeom prst="wedgeRoundRectCallout">
            <a:avLst>
              <a:gd name="adj1" fmla="val 37388"/>
              <a:gd name="adj2" fmla="val 6948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涉及国家安全的行业（国防工业、造币工业、航空航天工业等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5003640" y="4365720"/>
            <a:ext cx="3600720" cy="1727280"/>
          </a:xfrm>
          <a:prstGeom prst="wedgeRoundRectCallout">
            <a:avLst>
              <a:gd name="adj1" fmla="val -46120"/>
              <a:gd name="adj2" fmla="val -7600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重大基础设施和重要矿产资源行业（煤气、电力电网、电信、煤炭等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468360" y="4365720"/>
            <a:ext cx="3600360" cy="1727280"/>
          </a:xfrm>
          <a:prstGeom prst="wedgeRoundRectCallout">
            <a:avLst>
              <a:gd name="adj1" fmla="val 40430"/>
              <a:gd name="adj2" fmla="val -7399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提供重要公共产品的行业（大江大河的治理、重点防护林工程、重点公益事业等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文本框 8198"/>
          <p:cNvSpPr/>
          <p:nvPr/>
        </p:nvSpPr>
        <p:spPr>
          <a:xfrm>
            <a:off x="755640" y="5014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c1c1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1c1c1c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1863720" y="1123920"/>
            <a:ext cx="604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009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年世界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500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强排行中国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43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家企业入选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2349360"/>
          <a:ext cx="8785080" cy="3801960"/>
        </p:xfrm>
        <a:graphic>
          <a:graphicData uri="http://schemas.openxmlformats.org/drawingml/2006/table">
            <a:tbl>
              <a:tblPr/>
              <a:tblGrid>
                <a:gridCol w="900000"/>
                <a:gridCol w="2148120"/>
                <a:gridCol w="2244600"/>
                <a:gridCol w="1619280"/>
                <a:gridCol w="187308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排名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公司名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公司标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主要业务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利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（百万美元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中国石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炼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7,81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中国石油天然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炼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1,12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国家电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电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4,13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中国工商银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银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,56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中国移动通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电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,01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Picture 60" descr="xinsrc_512070214110831226007128"/>
          <p:cNvPicPr/>
          <p:nvPr/>
        </p:nvPicPr>
        <p:blipFill>
          <a:blip r:embed="rId1"/>
          <a:stretch/>
        </p:blipFill>
        <p:spPr>
          <a:xfrm>
            <a:off x="3348000" y="3284640"/>
            <a:ext cx="2158920" cy="500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1" descr="2"/>
          <p:cNvPicPr/>
          <p:nvPr/>
        </p:nvPicPr>
        <p:blipFill>
          <a:blip r:embed="rId2"/>
          <a:stretch/>
        </p:blipFill>
        <p:spPr>
          <a:xfrm>
            <a:off x="3348000" y="4437000"/>
            <a:ext cx="2160720" cy="498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2" descr="5"/>
          <p:cNvPicPr/>
          <p:nvPr/>
        </p:nvPicPr>
        <p:blipFill>
          <a:blip r:embed="rId3"/>
          <a:stretch/>
        </p:blipFill>
        <p:spPr>
          <a:xfrm>
            <a:off x="3348000" y="5589720"/>
            <a:ext cx="2160720" cy="504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3" descr="3"/>
          <p:cNvPicPr/>
          <p:nvPr/>
        </p:nvPicPr>
        <p:blipFill>
          <a:blip r:embed="rId4"/>
          <a:stretch/>
        </p:blipFill>
        <p:spPr>
          <a:xfrm>
            <a:off x="3348000" y="3860640"/>
            <a:ext cx="2160720" cy="498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4" descr="6"/>
          <p:cNvPicPr/>
          <p:nvPr/>
        </p:nvPicPr>
        <p:blipFill>
          <a:blip r:embed="rId5"/>
          <a:stretch/>
        </p:blipFill>
        <p:spPr>
          <a:xfrm>
            <a:off x="3348000" y="5013360"/>
            <a:ext cx="2143080" cy="49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6"/>
          <p:cNvSpPr/>
          <p:nvPr/>
        </p:nvSpPr>
        <p:spPr>
          <a:xfrm>
            <a:off x="2727720" y="109224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为什么说国有经济是国民经济的主导力量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4461840" y="2276640"/>
            <a:ext cx="69120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拥有雄厚的经济实力和先进的技术设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积聚着我国最先进的生产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控制国民经济命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担负着国计民生的重要产品的生产和流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179280" y="291384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李大妈说：“我们那个服装厂是乡镇企业，以前只能接受外贸定单，加工儿童服饰和休闲服饰，还要看外国人的脸色。今年我们引进了一套西服生产流水线，当年投产当年见效，光是税收就上缴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元。嘿，我还拿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红包。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1403280" y="1052640"/>
            <a:ext cx="23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宋体"/>
              </a:rPr>
              <a:t>镜头二：</a:t>
            </a:r>
            <a:endParaRPr b="0" lang="en-US" sz="1800" spc="1" strike="noStrike">
              <a:ln w="255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828800" y="450864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方正魏碑_GBK"/>
              </a:rPr>
              <a:t>问：①李大妈所从事的职业属于哪一种经济成分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042920" y="52293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方正魏碑_GBK"/>
              </a:rPr>
              <a:t>②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方正魏碑_GBK"/>
              </a:rPr>
              <a:t>它的地位如何？有什么作用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1958760" y="1054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集体经济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324000" y="2421000"/>
            <a:ext cx="86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含义：生产资料归</a:t>
            </a: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一部分劳动者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共同所有的一种公有制经济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50920" y="3573360"/>
            <a:ext cx="80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地位：集体经济是公有制经济的</a:t>
            </a: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重要组成部分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50920" y="45086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作用：集体经济体现着共同富裕的原则，可以广泛吸收社会分散资金，缓解就业压力，增加公共财富和国家税收。发展多种形式的集体经济，对发挥公有制经济的主体作用具有重大意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2728800" y="123048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你知道哪些集体经济蓬勃发展的例子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4342320" y="2205000"/>
            <a:ext cx="73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方正魏碑_GBK"/>
              </a:rPr>
              <a:t>家庭联产承包责任制、阳光集团、澄星集团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方正魏碑_GBK"/>
              </a:rPr>
              <a:t>华西集团、三房巷实业股份有限公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684360" y="357336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公有制经济除了国有经济、集体经济以外，还有什么实现形式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865520" y="479736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方正魏碑_GBK"/>
              </a:rPr>
              <a:t>混合所有制经济中的国有成分集体成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95,95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28,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95,95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28,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1258920" y="765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方正魏碑_GBK"/>
              </a:rPr>
              <a:t>问：①国有经济和集体经济都属于何种所有制经济？ 它的地位如何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642760" y="1844640"/>
            <a:ext cx="44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方正魏碑_GBK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方正魏碑_GBK"/>
              </a:rPr>
              <a:t>你知道公有制经济还有其他实现形式吗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612000" y="3141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公有制经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2268360" y="2708280"/>
            <a:ext cx="142920" cy="1440000"/>
          </a:xfrm>
          <a:custGeom>
            <a:avLst/>
            <a:gdLst>
              <a:gd name="textAreaLeft" fmla="*/ 91440 w 142920"/>
              <a:gd name="textAreaRight" fmla="*/ 143280 w 142920"/>
              <a:gd name="textAreaTop" fmla="*/ 75240 h 1440000"/>
              <a:gd name="textAreaBottom" fmla="*/ 13647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6"/>
                  <a:pt x="10800" y="3611"/>
                </a:cubicBezTo>
                <a:lnTo>
                  <a:pt x="10800" y="7189"/>
                </a:lnTo>
                <a:cubicBezTo>
                  <a:pt x="10800" y="8995"/>
                  <a:pt x="5400" y="10800"/>
                  <a:pt x="0" y="10800"/>
                </a:cubicBezTo>
                <a:cubicBezTo>
                  <a:pt x="5400" y="10800"/>
                  <a:pt x="10800" y="12606"/>
                  <a:pt x="10800" y="14411"/>
                </a:cubicBezTo>
                <a:lnTo>
                  <a:pt x="10800" y="17989"/>
                </a:lnTo>
                <a:cubicBezTo>
                  <a:pt x="10800" y="1979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624480" y="270828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ahoma"/>
                <a:ea typeface="楷体_GB2312"/>
              </a:rPr>
              <a:t>国有经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ahoma"/>
                <a:ea typeface="楷体_GB2312"/>
              </a:rPr>
              <a:t>集体经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ahoma"/>
                <a:ea typeface="楷体_GB2312"/>
              </a:rPr>
              <a:t>混合所有制经济中的国有成分和集体成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324000" y="45086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方正魏碑_GBK"/>
              </a:rPr>
              <a:t>地位：</a:t>
            </a: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主角、基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95,95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28,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95,95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28,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179280" y="25599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儿子李强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我开了一个电脑专卖店，现在人们的生活条件越来越好，就这几天，光电脑就卖出去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多台。呵呵，今年这个年过得美滋滋的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WordArt 5"/>
          <p:cNvSpPr txBox="1"/>
          <p:nvPr/>
        </p:nvSpPr>
        <p:spPr>
          <a:xfrm>
            <a:off x="1403280" y="1052640"/>
            <a:ext cx="23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宋体"/>
              </a:rPr>
              <a:t>镜头三：</a:t>
            </a:r>
            <a:endParaRPr b="0" lang="en-US" sz="1800" spc="1" strike="noStrike">
              <a:ln w="255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872360" y="378936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方正魏碑_GBK"/>
              </a:rPr>
              <a:t>问：①李强所从事的职业属于哪一种经济成分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1405080" y="4581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  <a:ea typeface="黑体"/>
              </a:rPr>
              <a:t>个体经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F200710241427222112328290"/>
          <p:cNvPicPr/>
          <p:nvPr/>
        </p:nvPicPr>
        <p:blipFill>
          <a:blip r:embed="rId1"/>
          <a:stretch/>
        </p:blipFill>
        <p:spPr>
          <a:xfrm>
            <a:off x="0" y="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826920" y="30308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坚持和完善公有制为主体、多种所有制经济共同发展的基本经济制度，毫不动摇地巩固和发展公有制经济，毫不动摇地鼓励、支持、引导非公有制经济发展，坚持平等保护物权，形成各种所有制经济平等竞争、相互促进新格局。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党的十七大报告内容节选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179280" y="27000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媳妇王芳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还说呢，我都累死了。我那个美容院生意好得不得了，请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员工，一直做到现在才把最后一个客人送走。年初二又有十几个新娘要等我给她们化妆。咳，看来，我是没法跟你们出去旅游了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WordArt 5"/>
          <p:cNvSpPr txBox="1"/>
          <p:nvPr/>
        </p:nvSpPr>
        <p:spPr>
          <a:xfrm>
            <a:off x="1403280" y="1052640"/>
            <a:ext cx="23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宋体"/>
              </a:rPr>
              <a:t>镜头四：</a:t>
            </a:r>
            <a:endParaRPr b="0" lang="en-US" sz="1800" spc="1" strike="noStrike">
              <a:ln w="255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3754800" y="4221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方正魏碑_GBK"/>
              </a:rPr>
              <a:t>问：王芳所从事的职业属于哪一种经济成分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829080" y="501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  <a:ea typeface="黑体"/>
              </a:rPr>
              <a:t>私营经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文本框 8198"/>
          <p:cNvSpPr/>
          <p:nvPr/>
        </p:nvSpPr>
        <p:spPr>
          <a:xfrm>
            <a:off x="3857760" y="1365120"/>
            <a:ext cx="5040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c1c1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1c1c1c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5"/>
          <p:cNvSpPr/>
          <p:nvPr/>
        </p:nvSpPr>
        <p:spPr>
          <a:xfrm>
            <a:off x="4461840" y="47628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方正魏碑_GBK"/>
              </a:rPr>
              <a:t>问：①个体经济和私营经济同属于何种所有制经济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127960" y="1125360"/>
            <a:ext cx="31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方正魏碑_GBK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方正魏碑_GBK"/>
              </a:rPr>
              <a:t>它的地位和作用分别如何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2127960" y="1773360"/>
            <a:ext cx="31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方正魏碑_GBK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方正魏碑_GBK"/>
              </a:rPr>
              <a:t>国家对它们采取什么态度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325440" y="2852640"/>
            <a:ext cx="8818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非公有制经济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楷体_GB2312"/>
              </a:rPr>
              <a:t>（个体经济、私营经济、外资经济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方正魏碑_GBK"/>
              </a:rPr>
              <a:t>地位：</a:t>
            </a:r>
            <a:r>
              <a:rPr b="1" lang="zh-CN" sz="2800" spc="-1" strike="noStrike">
                <a:solidFill>
                  <a:srgbClr val="663300"/>
                </a:solidFill>
                <a:latin typeface="Tahoma"/>
                <a:ea typeface="方正魏碑_GBK"/>
              </a:rPr>
              <a:t>是社会主义市场经济的</a:t>
            </a:r>
            <a:r>
              <a:rPr b="1" lang="zh-CN" sz="2800" spc="-1" strike="noStrike">
                <a:solidFill>
                  <a:srgbClr val="1c1c1c"/>
                </a:solidFill>
                <a:latin typeface="Tahoma"/>
                <a:ea typeface="方正魏碑_GBK"/>
              </a:rPr>
              <a:t>重要组成部分</a:t>
            </a:r>
            <a:r>
              <a:rPr b="1" lang="zh-CN" sz="2800" spc="-1" strike="noStrike">
                <a:solidFill>
                  <a:srgbClr val="663300"/>
                </a:solidFill>
                <a:latin typeface="Tahoma"/>
                <a:ea typeface="方正魏碑_GBK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方正魏碑_GBK"/>
              </a:rPr>
              <a:t>作用：</a:t>
            </a:r>
            <a:r>
              <a:rPr b="1" lang="zh-CN" sz="2800" spc="-1" strike="noStrike">
                <a:solidFill>
                  <a:srgbClr val="003300"/>
                </a:solidFill>
                <a:latin typeface="Tahoma"/>
                <a:ea typeface="方正魏碑_GBK"/>
              </a:rPr>
              <a:t>对充分调动社会各方面的积极性、加快生产力发展具有重要的作用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方正魏碑_GBK"/>
              </a:rPr>
              <a:t>态度或政策：</a:t>
            </a:r>
            <a:r>
              <a:rPr b="1" lang="zh-CN" sz="2800" spc="-1" strike="noStrike">
                <a:solidFill>
                  <a:srgbClr val="800000"/>
                </a:solidFill>
                <a:latin typeface="Tahoma"/>
                <a:ea typeface="方正魏碑_GBK"/>
              </a:rPr>
              <a:t>保护、鼓励、支持、引导、监督、管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2CD1-7FB9-42F2-A8FC-3E38ACE471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4"/>
          <p:cNvSpPr txBox="1"/>
          <p:nvPr/>
        </p:nvSpPr>
        <p:spPr>
          <a:xfrm>
            <a:off x="1403280" y="1052640"/>
            <a:ext cx="23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宋体"/>
              </a:rPr>
              <a:t>镜头五：</a:t>
            </a:r>
            <a:endParaRPr b="0" lang="en-US" sz="1800" spc="1" strike="noStrike">
              <a:ln w="255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79280" y="24868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这时，孙子李明拿来了计算器，嚷着要算算大家今年一年的收入。不一会儿，他惊叫起来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哇，我们家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万元户了！这回，该买辆小汽车了吧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大家听了，都哈哈大笑起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548520" y="422100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方正魏碑_GBK"/>
              </a:rPr>
              <a:t>请你说说老李一家致富的秘诀是什么？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432960" y="5084640"/>
            <a:ext cx="4021200" cy="52056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ahoma"/>
                <a:ea typeface="楷体_GB2312"/>
              </a:rPr>
              <a:t>公有制为主体，多种所有制经济共同发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9"/>
          <p:cNvSpPr/>
          <p:nvPr/>
        </p:nvSpPr>
        <p:spPr>
          <a:xfrm>
            <a:off x="4500720" y="4653000"/>
            <a:ext cx="718920" cy="36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2148480" y="6093000"/>
            <a:ext cx="1278000" cy="4597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楷体_GB2312"/>
              </a:rPr>
              <a:t>社会主义性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5460480" y="6093000"/>
            <a:ext cx="2558160" cy="4597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楷体_GB2312"/>
              </a:rPr>
              <a:t>社会主义初级阶段的基本国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0" y="515772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基本经济制度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AutoShape 14"/>
          <p:cNvSpPr/>
          <p:nvPr/>
        </p:nvSpPr>
        <p:spPr>
          <a:xfrm>
            <a:off x="2843280" y="5661000"/>
            <a:ext cx="718920" cy="36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15"/>
          <p:cNvSpPr/>
          <p:nvPr/>
        </p:nvSpPr>
        <p:spPr>
          <a:xfrm>
            <a:off x="5796000" y="5661000"/>
            <a:ext cx="719280" cy="36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141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改革开放以来，我国经济建设取得了巨大的成就。这些成就既体现在我们祖国发生的巨大变化上，也体现在我们的日常生活中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3" descr="1121746622_1RaWv2"/>
          <p:cNvPicPr/>
          <p:nvPr/>
        </p:nvPicPr>
        <p:blipFill>
          <a:blip r:embed="rId1"/>
          <a:stretch/>
        </p:blipFill>
        <p:spPr>
          <a:xfrm>
            <a:off x="250920" y="2421000"/>
            <a:ext cx="4248000" cy="201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200351815264313191"/>
          <p:cNvPicPr/>
          <p:nvPr/>
        </p:nvPicPr>
        <p:blipFill>
          <a:blip r:embed="rId2"/>
          <a:stretch/>
        </p:blipFill>
        <p:spPr>
          <a:xfrm>
            <a:off x="250920" y="4437000"/>
            <a:ext cx="4189320" cy="2051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Img241161954"/>
          <p:cNvPicPr/>
          <p:nvPr/>
        </p:nvPicPr>
        <p:blipFill>
          <a:blip r:embed="rId3"/>
          <a:stretch/>
        </p:blipFill>
        <p:spPr>
          <a:xfrm>
            <a:off x="4427640" y="2421000"/>
            <a:ext cx="4321080" cy="201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20041029102529604"/>
          <p:cNvPicPr/>
          <p:nvPr/>
        </p:nvPicPr>
        <p:blipFill>
          <a:blip r:embed="rId4"/>
          <a:stretch/>
        </p:blipFill>
        <p:spPr>
          <a:xfrm>
            <a:off x="4427640" y="4365720"/>
            <a:ext cx="4321080" cy="2158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468360" y="260280"/>
            <a:ext cx="60483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一、感受身边的变化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改革开放以来，取得的巨大成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5"/>
          <p:cNvSpPr/>
          <p:nvPr/>
        </p:nvSpPr>
        <p:spPr>
          <a:xfrm>
            <a:off x="4859280" y="4076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395280" y="479736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之所以有这么大的变化，是因为我国采取了“三步走”战略，究竟“三步走”战略是什么呢？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3" descr="2004810220251"/>
          <p:cNvPicPr/>
          <p:nvPr/>
        </p:nvPicPr>
        <p:blipFill>
          <a:blip r:embed="rId1"/>
          <a:stretch/>
        </p:blipFill>
        <p:spPr>
          <a:xfrm>
            <a:off x="971640" y="333360"/>
            <a:ext cx="3600360" cy="446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ggkf3"/>
          <p:cNvPicPr/>
          <p:nvPr/>
        </p:nvPicPr>
        <p:blipFill>
          <a:blip r:embed="rId2"/>
          <a:stretch/>
        </p:blipFill>
        <p:spPr>
          <a:xfrm>
            <a:off x="4572000" y="333360"/>
            <a:ext cx="36003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8"/>
          <p:cNvSpPr/>
          <p:nvPr/>
        </p:nvSpPr>
        <p:spPr>
          <a:xfrm>
            <a:off x="250920" y="1125360"/>
            <a:ext cx="4859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实施三步走战略的目的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实施三步走战略的依据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535640" y="148428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保证国民经济又好又快发展，使全体人民共享经济繁荣成果，最终实现共同富裕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4788000" y="3213000"/>
            <a:ext cx="410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我国正处于并将长期处于社会主义初级阶段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人口国情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环境国情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资源国情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……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84360" y="4762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三步走发展战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4427640" y="3429000"/>
            <a:ext cx="360360" cy="201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67320 h 2016000"/>
              <a:gd name="textAreaBottom" fmla="*/ 194868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5"/>
                  <a:pt x="10800" y="2309"/>
                </a:cubicBezTo>
                <a:lnTo>
                  <a:pt x="10800" y="8491"/>
                </a:lnTo>
                <a:cubicBezTo>
                  <a:pt x="10800" y="9646"/>
                  <a:pt x="5400" y="10800"/>
                  <a:pt x="0" y="10800"/>
                </a:cubicBezTo>
                <a:cubicBezTo>
                  <a:pt x="5400" y="10800"/>
                  <a:pt x="10800" y="11955"/>
                  <a:pt x="10800" y="13109"/>
                </a:cubicBezTo>
                <a:lnTo>
                  <a:pt x="10800" y="19291"/>
                </a:lnTo>
                <a:cubicBezTo>
                  <a:pt x="10800" y="2044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c1c1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1c1c1c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630520" y="27306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030320" y="2197080"/>
            <a:ext cx="7391520" cy="360"/>
            <a:chOff x="1030320" y="2197080"/>
            <a:chExt cx="7391520" cy="360"/>
          </a:xfrm>
        </p:grpSpPr>
        <p:sp>
          <p:nvSpPr>
            <p:cNvPr id="103" name="Line 3"/>
            <p:cNvSpPr/>
            <p:nvPr/>
          </p:nvSpPr>
          <p:spPr>
            <a:xfrm>
              <a:off x="1030320" y="2197080"/>
              <a:ext cx="7391520" cy="0"/>
            </a:xfrm>
            <a:prstGeom prst="line">
              <a:avLst/>
            </a:prstGeom>
            <a:ln w="57240">
              <a:solidFill>
                <a:srgbClr val="cc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1030320" y="2197080"/>
              <a:ext cx="7391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258560" y="1206000"/>
            <a:ext cx="360" cy="2133720"/>
            <a:chOff x="1258560" y="1206000"/>
            <a:chExt cx="360" cy="2133720"/>
          </a:xfrm>
        </p:grpSpPr>
        <p:sp>
          <p:nvSpPr>
            <p:cNvPr id="106" name="Line 4"/>
            <p:cNvSpPr/>
            <p:nvPr/>
          </p:nvSpPr>
          <p:spPr>
            <a:xfrm flipV="1">
              <a:off x="1258920" y="1206000"/>
              <a:ext cx="0" cy="2133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 rot="10800000">
              <a:off x="1258560" y="1206000"/>
              <a:ext cx="360" cy="213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401560" y="1968120"/>
            <a:ext cx="360" cy="1066680"/>
            <a:chOff x="2401560" y="1968120"/>
            <a:chExt cx="360" cy="1066680"/>
          </a:xfrm>
        </p:grpSpPr>
        <p:sp>
          <p:nvSpPr>
            <p:cNvPr id="109" name="Line 5"/>
            <p:cNvSpPr/>
            <p:nvPr/>
          </p:nvSpPr>
          <p:spPr>
            <a:xfrm flipV="1">
              <a:off x="2401920" y="196812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 rot="10800000">
              <a:off x="2401560" y="1968120"/>
              <a:ext cx="36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544560" y="1968480"/>
            <a:ext cx="360" cy="2209680"/>
            <a:chOff x="3544560" y="1968480"/>
            <a:chExt cx="360" cy="2209680"/>
          </a:xfrm>
        </p:grpSpPr>
        <p:sp>
          <p:nvSpPr>
            <p:cNvPr id="112" name="Line 6"/>
            <p:cNvSpPr/>
            <p:nvPr/>
          </p:nvSpPr>
          <p:spPr>
            <a:xfrm flipV="1">
              <a:off x="3544920" y="1968480"/>
              <a:ext cx="0" cy="22096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 rot="10800000">
              <a:off x="3544560" y="1968480"/>
              <a:ext cx="36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4" name="Text Box 7"/>
          <p:cNvSpPr/>
          <p:nvPr/>
        </p:nvSpPr>
        <p:spPr>
          <a:xfrm>
            <a:off x="954000" y="14349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198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021040" y="14349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199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3087720" y="14349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678280" y="1816200"/>
            <a:ext cx="360" cy="2743200"/>
            <a:chOff x="5678280" y="1816200"/>
            <a:chExt cx="360" cy="2743200"/>
          </a:xfrm>
        </p:grpSpPr>
        <p:sp>
          <p:nvSpPr>
            <p:cNvPr id="118" name="Line 10"/>
            <p:cNvSpPr/>
            <p:nvPr/>
          </p:nvSpPr>
          <p:spPr>
            <a:xfrm flipV="1">
              <a:off x="5678640" y="181620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 rot="10800000">
              <a:off x="5678280" y="1816200"/>
              <a:ext cx="360" cy="274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0" name="Text Box 11"/>
          <p:cNvSpPr/>
          <p:nvPr/>
        </p:nvSpPr>
        <p:spPr>
          <a:xfrm>
            <a:off x="4992840" y="1449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202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7431120" y="1511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20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8345520" y="18921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14"/>
          <p:cNvSpPr/>
          <p:nvPr/>
        </p:nvSpPr>
        <p:spPr>
          <a:xfrm rot="16189200">
            <a:off x="1792080" y="1815840"/>
            <a:ext cx="76320" cy="1143000"/>
          </a:xfrm>
          <a:custGeom>
            <a:avLst/>
            <a:gdLst>
              <a:gd name="textAreaLeft" fmla="*/ 48960 w 76320"/>
              <a:gd name="textAreaRight" fmla="*/ 7632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AutoShape 15"/>
          <p:cNvSpPr/>
          <p:nvPr/>
        </p:nvSpPr>
        <p:spPr>
          <a:xfrm rot="16189200">
            <a:off x="2935080" y="1968120"/>
            <a:ext cx="75960" cy="1143000"/>
          </a:xfrm>
          <a:custGeom>
            <a:avLst/>
            <a:gdLst>
              <a:gd name="textAreaLeft" fmla="*/ 48600 w 75960"/>
              <a:gd name="textAreaRight" fmla="*/ 7632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16"/>
          <p:cNvSpPr/>
          <p:nvPr/>
        </p:nvSpPr>
        <p:spPr>
          <a:xfrm rot="16189200">
            <a:off x="5814720" y="688320"/>
            <a:ext cx="150840" cy="4726080"/>
          </a:xfrm>
          <a:custGeom>
            <a:avLst/>
            <a:gdLst>
              <a:gd name="textAreaLeft" fmla="*/ 96480 w 150840"/>
              <a:gd name="textAreaRight" fmla="*/ 151200 w 150840"/>
              <a:gd name="textAreaTop" fmla="*/ 122760 h 4726080"/>
              <a:gd name="textAreaBottom" fmla="*/ 4603320 h 472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11"/>
                </a:lnTo>
                <a:cubicBezTo>
                  <a:pt x="10800" y="9910"/>
                  <a:pt x="5400" y="10808"/>
                  <a:pt x="0" y="10808"/>
                </a:cubicBezTo>
                <a:cubicBezTo>
                  <a:pt x="5400" y="10808"/>
                  <a:pt x="10800" y="11707"/>
                  <a:pt x="10800" y="12605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258920" y="2502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第一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2401920" y="2654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第二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5602320" y="295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第三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Group 20"/>
          <p:cNvGrpSpPr/>
          <p:nvPr/>
        </p:nvGrpSpPr>
        <p:grpSpPr>
          <a:xfrm>
            <a:off x="3564000" y="2205000"/>
            <a:ext cx="2123640" cy="719280"/>
            <a:chOff x="3564000" y="2205000"/>
            <a:chExt cx="2123640" cy="719280"/>
          </a:xfrm>
        </p:grpSpPr>
        <p:sp>
          <p:nvSpPr>
            <p:cNvPr id="130" name="Oval 21"/>
            <p:cNvSpPr/>
            <p:nvPr/>
          </p:nvSpPr>
          <p:spPr>
            <a:xfrm>
              <a:off x="3564000" y="2205000"/>
              <a:ext cx="2014920" cy="719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22"/>
            <p:cNvSpPr/>
            <p:nvPr/>
          </p:nvSpPr>
          <p:spPr>
            <a:xfrm>
              <a:off x="3618360" y="2396880"/>
              <a:ext cx="20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Times New Roman"/>
                </a:rPr>
                <a:t>全面建设小康社会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8192880" y="1206360"/>
            <a:ext cx="360" cy="3353040"/>
            <a:chOff x="8192880" y="1206360"/>
            <a:chExt cx="360" cy="3353040"/>
          </a:xfrm>
        </p:grpSpPr>
        <p:sp>
          <p:nvSpPr>
            <p:cNvPr id="133" name="Line 23"/>
            <p:cNvSpPr/>
            <p:nvPr/>
          </p:nvSpPr>
          <p:spPr>
            <a:xfrm flipV="1">
              <a:off x="8193240" y="1206360"/>
              <a:ext cx="0" cy="33530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 rot="10800000">
              <a:off x="8192880" y="1206360"/>
              <a:ext cx="360" cy="3353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5" name="AutoShape 24"/>
          <p:cNvSpPr/>
          <p:nvPr/>
        </p:nvSpPr>
        <p:spPr>
          <a:xfrm rot="9761400">
            <a:off x="172800" y="3690720"/>
            <a:ext cx="1922400" cy="1069920"/>
          </a:xfrm>
          <a:prstGeom prst="wedgeEllipseCallout">
            <a:avLst>
              <a:gd name="adj1" fmla="val -58620"/>
              <a:gd name="adj2" fmla="val 9456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解决温饱问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AutoShape 25"/>
          <p:cNvSpPr/>
          <p:nvPr/>
        </p:nvSpPr>
        <p:spPr>
          <a:xfrm flipV="1">
            <a:off x="1332000" y="4437000"/>
            <a:ext cx="2577960" cy="1152720"/>
          </a:xfrm>
          <a:prstGeom prst="wedgeEllipseCallout">
            <a:avLst>
              <a:gd name="adj1" fmla="val 13064"/>
              <a:gd name="adj2" fmla="val 16572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总体上达到小康水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AutoShape 26"/>
          <p:cNvSpPr/>
          <p:nvPr/>
        </p:nvSpPr>
        <p:spPr>
          <a:xfrm rot="11872200">
            <a:off x="5893560" y="3611520"/>
            <a:ext cx="2505240" cy="1558800"/>
          </a:xfrm>
          <a:prstGeom prst="wedgeEllipseCallout">
            <a:avLst>
              <a:gd name="adj1" fmla="val -14800"/>
              <a:gd name="adj2" fmla="val 8018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人民生活比较富裕基本实现现代化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1514520" y="311040"/>
            <a:ext cx="43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国经济社会发展的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“三步走”战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" name="Group 33"/>
          <p:cNvGrpSpPr/>
          <p:nvPr/>
        </p:nvGrpSpPr>
        <p:grpSpPr>
          <a:xfrm>
            <a:off x="3564000" y="5300640"/>
            <a:ext cx="4213080" cy="1244520"/>
            <a:chOff x="3564000" y="5300640"/>
            <a:chExt cx="4213080" cy="1244520"/>
          </a:xfrm>
        </p:grpSpPr>
        <p:sp>
          <p:nvSpPr>
            <p:cNvPr id="140" name="AutoShape 31"/>
            <p:cNvSpPr/>
            <p:nvPr/>
          </p:nvSpPr>
          <p:spPr>
            <a:xfrm>
              <a:off x="3564000" y="5300640"/>
              <a:ext cx="4213080" cy="1244520"/>
            </a:xfrm>
            <a:prstGeom prst="wedgeRoundRectCallout">
              <a:avLst>
                <a:gd name="adj1" fmla="val -23787"/>
                <a:gd name="adj2" fmla="val -204824"/>
                <a:gd name="adj3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32"/>
            <p:cNvSpPr/>
            <p:nvPr/>
          </p:nvSpPr>
          <p:spPr>
            <a:xfrm>
              <a:off x="3666960" y="5456520"/>
              <a:ext cx="392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Tahoma"/>
                </a:rPr>
                <a:t>但这种小康是低水平的、不全面的，发展不平衡的小康！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4423680" y="47628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二、充满生机与活力的经济制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823760" y="2422080"/>
            <a:ext cx="5685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）社会主义经济制度的基础是什么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）公有制经济的实现形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）什么是国有经济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）国有经济在国民经济中的地位和作用怎样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5</a:t>
            </a: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）什么是集体经济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6</a:t>
            </a: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）集体经济的地位和作用怎样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7</a:t>
            </a: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）对待非公有制经济的态度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8</a:t>
            </a: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）我国的基本经济制度是什么？其确立依据是什么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9</a:t>
            </a: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）如何正确对待公有制经济和非公有制经济？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WordArt 6"/>
          <p:cNvSpPr txBox="1"/>
          <p:nvPr/>
        </p:nvSpPr>
        <p:spPr>
          <a:xfrm>
            <a:off x="1403280" y="1844640"/>
            <a:ext cx="172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宋体"/>
              </a:rPr>
              <a:t>自主学习：</a:t>
            </a:r>
            <a:endParaRPr b="0" lang="en-US" sz="1800" spc="1" strike="noStrike">
              <a:ln w="255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1864800" y="1862640"/>
            <a:ext cx="1704600" cy="70344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公有制经济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755640" y="4671000"/>
            <a:ext cx="3456000" cy="70344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非公有制经济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921200" y="981000"/>
            <a:ext cx="1155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方正魏碑_GBK"/>
              </a:rPr>
              <a:t>国有经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921200" y="1916280"/>
            <a:ext cx="1155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方正魏碑_GBK"/>
              </a:rPr>
              <a:t>集体经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186880" y="2852640"/>
            <a:ext cx="23752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方正魏碑_GBK"/>
              </a:rPr>
              <a:t>混合所有制经济中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方正魏碑_GBK"/>
              </a:rPr>
              <a:t>国有成分和集体成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5065560" y="4221000"/>
            <a:ext cx="1155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方正魏碑_GBK"/>
              </a:rPr>
              <a:t>个体经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065560" y="5229360"/>
            <a:ext cx="1155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方正魏碑_GBK"/>
              </a:rPr>
              <a:t>私营经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1403280" y="907920"/>
            <a:ext cx="266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宋体"/>
              </a:rPr>
              <a:t>人物信息：</a:t>
            </a:r>
            <a:endParaRPr b="0" lang="en-US" sz="1800" spc="1" strike="noStrike">
              <a:ln w="255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5343480" y="9302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  <a:ea typeface="黑体"/>
              </a:rPr>
              <a:t>老李一家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44"/>
          <p:cNvSpPr/>
          <p:nvPr/>
        </p:nvSpPr>
        <p:spPr>
          <a:xfrm>
            <a:off x="2870640" y="2298600"/>
            <a:ext cx="329436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李大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钢铁公司职工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李大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服装厂职工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李  强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电脑专卖店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王  芳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美容院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李  明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学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6:11:5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2:14Z</dcterms:modified>
  <cp:revision>2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