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80EC-7021-4EDA-9D47-F91515CE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168F-EDFC-43FD-8A27-9AAC08A5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AC92-595D-4165-AAFF-D9CC4796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A509-F465-4F9E-9409-D860D53F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DDCA-3C62-4CA7-8A96-88BEE00B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49A9-EB1F-4CC9-BCFE-E27380CE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F65B-EC41-43AB-952B-148CB5E0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731B-7F0D-4FA9-B09A-C0EEA5E1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60DB-75E2-4DB0-A434-36402D44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40B4-A661-4443-8EED-8701258C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5906-EE06-416B-9F0A-8200AAC6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5284-5EBE-483A-BC2E-3A45BE5B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82B5-81A0-46FF-A512-09494F26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5F54-35D6-4C7E-9505-FC2B7CBE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7997-FFD6-4610-BD2E-FA84DF6F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2C18-0933-4E91-AEC6-D5CF247E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25BC-701E-4301-839E-1828295E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9A52A-D850-4C40-9E4F-1354E231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0ECE9-B93E-4DD7-BC5D-8E84F2E6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A75DB-07AE-4381-9ED6-2D9EF294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572CB-DA3B-413F-B276-647C2FC4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4E064-8AD6-4AE2-95B1-D9B3503C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3E6F-93B3-4E5F-B356-C3518A54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70615-463F-4F93-B373-A28C4C08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6BBAD-8715-4B69-A743-67361B5A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0F024-ECCE-4A16-B4D8-3EB8E07B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F0206-F095-4BC9-A3CF-F1AA8AEA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1EE02-20AE-48AE-8F92-BF8EEE9E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29FDD-A577-489B-8945-1CBE9D69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6241E-0848-4F67-ADE6-02CC0DF3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CC09-001D-4416-9B42-49759935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44D-D37D-4D0B-BA97-9C97D6EC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416-7632-4BC6-9973-F7B613DF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6CB-9D7D-42A3-B605-6B9AB674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5637-173D-4A26-A551-80A0FCF5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F784-4194-48AC-9B38-7073DEFC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4356-F17A-48D9-A07F-C16A5701C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E341-99DB-4C00-9F30-E2CC95B81E1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A30C-7C6B-4ADB-8E80-C5D4C17DAB9D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zhidao.baidu.com/search?word=17&#19990;&#32426;&amp;fr=qb_search_exp&amp;ie=gbk" TargetMode="External"/><Relationship Id="rId2" Type="http://schemas.openxmlformats.org/officeDocument/2006/relationships/hyperlink" Target="http://zhidao.baidu.com/search?word=17&#19990;&#32426;&amp;fr=qb_search_exp&amp;ie=gbk" TargetMode="External"/><Relationship Id="rId3" Type="http://schemas.openxmlformats.org/officeDocument/2006/relationships/hyperlink" Target="http://zhidao.baidu.com/search?word=&#37073;&#25104;&#21151;&#25910;&#22797;&#21488;&#28286;&amp;fr=qb_search_exp&amp;ie=gbk" TargetMode="External"/><Relationship Id="rId4" Type="http://schemas.openxmlformats.org/officeDocument/2006/relationships/hyperlink" Target="http://zhidao.baidu.com/search?word=1895&#24180;&amp;fr=qb_search_exp&amp;ie=gbk" TargetMode="External"/><Relationship Id="rId5" Type="http://schemas.openxmlformats.org/officeDocument/2006/relationships/hyperlink" Target="http://zhidao.baidu.com/search?word=1895&#24180;&amp;fr=qb_search_exp&amp;ie=gbk" TargetMode="External"/><Relationship Id="rId6" Type="http://schemas.openxmlformats.org/officeDocument/2006/relationships/hyperlink" Target="http://zhidao.baidu.com/search?word=&#21488;&#28286;&#20809;&#22797;&amp;fr=qb_search_exp&amp;ie=gbk" TargetMode="Externa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WordArt 15" descr=""/>
          <p:cNvPicPr/>
          <p:nvPr/>
        </p:nvPicPr>
        <p:blipFill>
          <a:blip r:embed="rId2"/>
          <a:stretch/>
        </p:blipFill>
        <p:spPr>
          <a:xfrm>
            <a:off x="804960" y="1209600"/>
            <a:ext cx="7678800" cy="157500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d32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1d32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AFDE-9FC9-48E5-898A-8B114B689079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1" name="Picture 5" descr="T01371~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W02007~1"/>
          <p:cNvPicPr/>
          <p:nvPr/>
        </p:nvPicPr>
        <p:blipFill>
          <a:blip r:embed="rId2"/>
          <a:stretch/>
        </p:blipFill>
        <p:spPr>
          <a:xfrm rot="20701200">
            <a:off x="755640" y="1412640"/>
            <a:ext cx="4286160" cy="3143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4920" y="2060280"/>
            <a:ext cx="296244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华文中宋"/>
                <a:ea typeface="华文中宋"/>
              </a:rPr>
              <a:t>俯视中华大地，在祖国东南辽阔的海域上，有一座形似芭蕉叶的岛屿，显得格外翠绿，那就是祖国的宝岛</a:t>
            </a:r>
            <a:r>
              <a:rPr b="0" lang="en-US" sz="2800" spc="-1" strike="noStrike">
                <a:solidFill>
                  <a:srgbClr val="007a77"/>
                </a:solidFill>
                <a:latin typeface="华文中宋"/>
                <a:ea typeface="华文中宋"/>
              </a:rPr>
              <a:t>——</a:t>
            </a:r>
            <a:r>
              <a:rPr b="0" lang="zh-CN" sz="2800" spc="-1" strike="noStrike">
                <a:solidFill>
                  <a:srgbClr val="007a77"/>
                </a:solidFill>
                <a:latin typeface="华文中宋"/>
                <a:ea typeface="华文中宋"/>
              </a:rPr>
              <a:t>台湾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7" name="Picture 5" descr="200711180277734"/>
          <p:cNvPicPr/>
          <p:nvPr/>
        </p:nvPicPr>
        <p:blipFill>
          <a:blip r:embed="rId1"/>
          <a:stretch/>
        </p:blipFill>
        <p:spPr>
          <a:xfrm>
            <a:off x="3708360" y="1628640"/>
            <a:ext cx="4946760" cy="4751640"/>
          </a:xfrm>
          <a:prstGeom prst="rect">
            <a:avLst/>
          </a:prstGeom>
          <a:ln w="0">
            <a:noFill/>
          </a:ln>
        </p:spPr>
      </p:pic>
      <p:sp>
        <p:nvSpPr>
          <p:cNvPr id="128" name="WordArt 7"/>
          <p:cNvSpPr txBox="1"/>
          <p:nvPr/>
        </p:nvSpPr>
        <p:spPr>
          <a:xfrm>
            <a:off x="395280" y="281160"/>
            <a:ext cx="860112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祖国的宝岛台湾</a:t>
            </a:r>
            <a:endParaRPr b="1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最早开发台湾的是三国时的东吴，公元</a:t>
            </a:r>
            <a:r>
              <a:rPr b="0" lang="en-US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230</a:t>
            </a:r>
            <a:r>
              <a:rPr b="0" lang="zh-CN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年，孙权派将军卫温和诸葛直率船队渡海到达台湾，同当地人进行了经济和文化交流，后来在</a:t>
            </a:r>
            <a:r>
              <a:rPr b="0" lang="en-US" sz="24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  <a:hlinkClick r:id="rId1"/>
              </a:rPr>
              <a:t>17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  <a:hlinkClick r:id="rId2"/>
              </a:rPr>
              <a:t>世纪</a:t>
            </a:r>
            <a:r>
              <a:rPr b="0" lang="zh-CN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初向外侵略扩张的荷兰趁明朝内忧外患之际侵占了台湾，随后</a:t>
            </a:r>
            <a:r>
              <a:rPr b="0" lang="en-US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1662</a:t>
            </a:r>
            <a:r>
              <a:rPr b="0" lang="zh-CN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年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  <a:hlinkClick r:id="rId3"/>
              </a:rPr>
              <a:t>郑成功收复台湾</a:t>
            </a:r>
            <a:r>
              <a:rPr b="0" lang="zh-CN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</a:t>
            </a:r>
            <a:r>
              <a:rPr b="0" lang="en-US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1683</a:t>
            </a:r>
            <a:r>
              <a:rPr b="0" lang="zh-CN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年清军收复台湾，把它置于中央政府统治之下，</a:t>
            </a:r>
            <a:r>
              <a:rPr b="0" lang="en-US" sz="24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  <a:hlinkClick r:id="rId4"/>
              </a:rPr>
              <a:t>1895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  <a:hlinkClick r:id="rId5"/>
              </a:rPr>
              <a:t>年</a:t>
            </a:r>
            <a:r>
              <a:rPr b="0" lang="zh-CN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日本侵占台湾，</a:t>
            </a:r>
            <a:r>
              <a:rPr b="0" lang="en-US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1945</a:t>
            </a:r>
            <a:r>
              <a:rPr b="0" lang="zh-CN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年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  <a:hlinkClick r:id="rId6"/>
              </a:rPr>
              <a:t>台湾光复</a:t>
            </a:r>
            <a:r>
              <a:rPr b="0" lang="zh-CN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随后蒋介石败退台湾，直至现在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0" name="Picture 5" descr="u=307441650,3216546275&amp;fm=21&amp;gp=0"/>
          <p:cNvPicPr/>
          <p:nvPr/>
        </p:nvPicPr>
        <p:blipFill>
          <a:blip r:embed="rId7"/>
          <a:stretch/>
        </p:blipFill>
        <p:spPr>
          <a:xfrm>
            <a:off x="1042920" y="4292640"/>
            <a:ext cx="3456000" cy="2327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20090423152403-1284187818"/>
          <p:cNvPicPr/>
          <p:nvPr/>
        </p:nvPicPr>
        <p:blipFill>
          <a:blip r:embed="rId8"/>
          <a:stretch/>
        </p:blipFill>
        <p:spPr>
          <a:xfrm>
            <a:off x="5003640" y="4076640"/>
            <a:ext cx="3600720" cy="2781360"/>
          </a:xfrm>
          <a:prstGeom prst="rect">
            <a:avLst/>
          </a:prstGeom>
          <a:ln w="0">
            <a:noFill/>
          </a:ln>
        </p:spPr>
      </p:pic>
      <p:sp>
        <p:nvSpPr>
          <p:cNvPr id="132" name="WordArt 10"/>
          <p:cNvSpPr txBox="1"/>
          <p:nvPr/>
        </p:nvSpPr>
        <p:spPr>
          <a:xfrm>
            <a:off x="250920" y="476280"/>
            <a:ext cx="85341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开发台湾的故事</a:t>
            </a:r>
            <a:endParaRPr b="0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24000" y="2349000"/>
            <a:ext cx="8540640" cy="31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郑成功的母亲是日本人 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郑成功的母亲叫田川氏，是日本人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郑成功的父亲曾经是海盗，人称老郑，为逃脱官府的追捕，流落在日本多年。郑成功在日本出生，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岁的时候，因为老郑归顺了明朝廷，郑成功和母亲回到了老郑在中国福建的老家 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郑成功长大成人的时候，正值清兵入关，嘉定三屠，扬州十日，疯狂屠杀国人。郑成功坚定地举起了反清复明的大旗，被南明朝廷封赐“国姓”，所以人称“国姓”爷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) </a:t>
            </a:r>
            <a:br>
              <a:rPr sz="2400"/>
            </a:b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1979640" y="836640"/>
            <a:ext cx="489744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郑成功</a:t>
            </a:r>
            <a:endParaRPr b="0" lang="en-US" sz="72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35" name="文本框 8197"/>
          <p:cNvSpPr/>
          <p:nvPr/>
        </p:nvSpPr>
        <p:spPr>
          <a:xfrm>
            <a:off x="865080" y="2714760"/>
            <a:ext cx="58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  <a:ea typeface="华文行楷"/>
              </a:rPr>
              <a:t>                   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祖国大陆和台湾同胞心相系、脉相连，共有中华传统习俗，共享中华灿烂文明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7" name="Picture 24" descr="310579~1"/>
          <p:cNvPicPr/>
          <p:nvPr/>
        </p:nvPicPr>
        <p:blipFill>
          <a:blip r:embed="rId1"/>
          <a:stretch/>
        </p:blipFill>
        <p:spPr>
          <a:xfrm>
            <a:off x="0" y="3284640"/>
            <a:ext cx="4537080" cy="3019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6" descr="108593~1"/>
          <p:cNvPicPr/>
          <p:nvPr/>
        </p:nvPicPr>
        <p:blipFill>
          <a:blip r:embed="rId2"/>
          <a:stretch/>
        </p:blipFill>
        <p:spPr>
          <a:xfrm>
            <a:off x="5364000" y="3213000"/>
            <a:ext cx="4824720" cy="3113280"/>
          </a:xfrm>
          <a:prstGeom prst="rect">
            <a:avLst/>
          </a:prstGeom>
          <a:ln w="0">
            <a:noFill/>
          </a:ln>
        </p:spPr>
      </p:pic>
      <p:sp>
        <p:nvSpPr>
          <p:cNvPr id="149" name="WordArt 27"/>
          <p:cNvSpPr txBox="1"/>
          <p:nvPr/>
        </p:nvSpPr>
        <p:spPr>
          <a:xfrm>
            <a:off x="826920" y="907920"/>
            <a:ext cx="77058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根脉相连</a:t>
            </a:r>
            <a:endParaRPr b="0" lang="en-US" sz="8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comb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99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799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799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99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485362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台北故宫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99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799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99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99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201303~1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台湾孔庙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5280" y="33573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文本框 8197"/>
          <p:cNvSpPr/>
          <p:nvPr/>
        </p:nvSpPr>
        <p:spPr>
          <a:xfrm>
            <a:off x="1179360" y="5700600"/>
            <a:ext cx="58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99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799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799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799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949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年起，台湾与祖国大陆一直处于分离状态。为了实现我国统一，我国政府采取了一系列措施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8" name="Picture 5" descr="SE7387~1"/>
          <p:cNvPicPr/>
          <p:nvPr/>
        </p:nvPicPr>
        <p:blipFill>
          <a:blip r:embed="rId1"/>
          <a:stretch/>
        </p:blipFill>
        <p:spPr>
          <a:xfrm>
            <a:off x="4140360" y="2997360"/>
            <a:ext cx="4681440" cy="3568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MB0006~1"/>
          <p:cNvPicPr/>
          <p:nvPr/>
        </p:nvPicPr>
        <p:blipFill>
          <a:blip r:embed="rId2"/>
          <a:stretch/>
        </p:blipFill>
        <p:spPr>
          <a:xfrm>
            <a:off x="250920" y="3645000"/>
            <a:ext cx="3529080" cy="3024000"/>
          </a:xfrm>
          <a:prstGeom prst="rect">
            <a:avLst/>
          </a:prstGeom>
          <a:ln w="0">
            <a:noFill/>
          </a:ln>
        </p:spPr>
      </p:pic>
      <p:sp>
        <p:nvSpPr>
          <p:cNvPr id="160" name="WordArt 8"/>
          <p:cNvSpPr txBox="1"/>
          <p:nvPr/>
        </p:nvSpPr>
        <p:spPr>
          <a:xfrm>
            <a:off x="250920" y="549360"/>
            <a:ext cx="8534160" cy="12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祖国一定要统一</a:t>
            </a:r>
            <a:endParaRPr b="0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党中央政策的有力推动下，在两岸人民的共同努力下，祖国大陆和台湾同胞逐渐从隔绝走向交流，从陌生走向熟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3" name="Picture 8" descr="103461~1"/>
          <p:cNvPicPr/>
          <p:nvPr/>
        </p:nvPicPr>
        <p:blipFill>
          <a:blip r:embed="rId1"/>
          <a:stretch/>
        </p:blipFill>
        <p:spPr>
          <a:xfrm>
            <a:off x="4716360" y="2997360"/>
            <a:ext cx="4067280" cy="3395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013000~1"/>
          <p:cNvPicPr/>
          <p:nvPr/>
        </p:nvPicPr>
        <p:blipFill>
          <a:blip r:embed="rId2"/>
          <a:stretch/>
        </p:blipFill>
        <p:spPr>
          <a:xfrm>
            <a:off x="0" y="2997360"/>
            <a:ext cx="4427640" cy="2885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99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799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799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799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13:00:15Z</dcterms:created>
  <dc:creator>第一PPT模板网-WWW.1PPT.COM</dc:creator>
  <dc:description>第一PPT模板网-WWW.1PPT.COM
</dc:description>
  <cp:keywords>第一PPT模板网-WWW.1PPT.COM</cp:keywords>
  <dc:language>en-US</dc:language>
  <cp:lastModifiedBy>pc</cp:lastModifiedBy>
  <dcterms:modified xsi:type="dcterms:W3CDTF">2016-06-30T08:58:44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