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4.png" ContentType="image/png"/>
  <Override PartName="/ppt/media/image7.jpeg" ContentType="image/jpeg"/>
  <Override PartName="/ppt/media/3.wav" ContentType="audio/x-wav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BAD3-C4F8-4563-9A01-835BD1A0C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4C2C-5FA6-4F55-96C4-9B5F86B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B899-AE31-4D63-937E-56B32C8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7187-27F6-4685-97BF-30E916E8E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AEDF5-1DE2-4070-8F35-E577E26C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C70FA-D397-49E6-B69E-0090364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54AD0-F6AF-40DA-AF29-D831B66A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48282-896C-47D5-AB0D-41152F9C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71DE-3208-4836-A55C-964DC1C7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FF24-99F2-488E-8D16-83A7469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D653-9340-40C1-AEBA-1CB2031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5185-78DC-4925-B451-05F1ED3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3B278-CD2A-40EF-BD51-D41F164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11366-0EFE-47C3-B08F-19B41A1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9A6EA-9793-4A71-A2A6-9933A6DE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E026-E268-46DB-A96B-D06D353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4F421-1D77-4304-92B6-BC249719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2460C-FC2D-4000-8FF4-2BE6A022D1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AC35F-7413-45D9-B5A0-0464E80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FC668-DD5C-46AF-970C-922B9687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E5E8D-D902-4D48-BA6C-875B0D6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8D7C4-A628-44CD-A9B2-16D2360E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A8A6-3BE5-4766-8BEE-995D686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22251-9BFB-4E0C-B268-9AA95CDF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4D15A-6939-409A-AF43-45496E2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4F097-9D3C-4BF9-98EF-A0A85CA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7C5FB-08CA-4D29-A434-F57DB21D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B179B-B5C7-495A-BB19-231172E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A7E13-BB04-438D-8257-592F311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3F48A-2044-4C0A-833A-13882AF6D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81A4-2167-464F-B512-FE0A2526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AAC5-25D4-49FC-9432-48394F02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BDCB-22B2-4973-A1F9-EBFE48DB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71A0-8665-4E08-926B-9EFA90D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7208-005D-4036-9E1D-B421A1A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96FE-E25C-4F19-A55D-B1880D33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160" cy="6858000"/>
            <a:chOff x="-720" y="-4680"/>
            <a:chExt cx="10641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7000" cy="6857640"/>
              <a:chOff x="41400" y="-4680"/>
              <a:chExt cx="101700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4000" y="-4680"/>
                <a:ext cx="99648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49320" y="1689120"/>
                <a:ext cx="99648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4000" y="128700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49320" y="14904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4000" y="98460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4000" y="680040"/>
                <a:ext cx="99648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48960" y="368280"/>
                <a:ext cx="10090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624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6080" y="353376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1400" y="2391480"/>
                <a:ext cx="996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6080" y="323028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400" y="29232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5720" y="2617920"/>
                <a:ext cx="10090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9320" y="496692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4000" y="456444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400" y="566892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70440" y="6180840"/>
                <a:ext cx="345960" cy="997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5360" y="5895000"/>
                <a:ext cx="100908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1400" y="3095640"/>
              <a:ext cx="6858000" cy="6570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960" y="3272760"/>
              <a:ext cx="6856200" cy="3009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66F2-C143-43E9-AFA8-A8809A4F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8A7-EA0B-4075-A21C-1585FE54CB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5" name="Group 3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106" name="Freeform 4"/>
              <p:cNvSpPr/>
              <p:nvPr/>
            </p:nvSpPr>
            <p:spPr>
              <a:xfrm flipH="1" rot="5400000">
                <a:off x="4087440" y="-157212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5"/>
              <p:cNvSpPr/>
              <p:nvPr/>
            </p:nvSpPr>
            <p:spPr>
              <a:xfrm flipH="1" rot="5400000">
                <a:off x="605412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 flipH="1" rot="5400000">
                <a:off x="658980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 flipH="1" rot="5400000">
                <a:off x="7094880" y="275436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 flipH="1" rot="5400000">
                <a:off x="7447320" y="270036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 flipH="1" rot="5400000">
                <a:off x="789408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 flipH="1" rot="5400000">
                <a:off x="305712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 flipH="1" rot="5400000">
                <a:off x="3592800" y="264492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 flipH="1" rot="5400000">
                <a:off x="524952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 flipH="1" rot="5400000">
                <a:off x="4099320" y="274644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 flipH="1" rot="5400000">
                <a:off x="445572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 flipH="1" rot="5400000">
                <a:off x="4892760" y="273564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 flipH="1" rot="5400000">
                <a:off x="1682280" y="264888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 flipH="1" rot="5400000">
                <a:off x="221796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 flipH="1" rot="5400000">
                <a:off x="87732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20"/>
              <p:cNvSpPr/>
              <p:nvPr/>
            </p:nvSpPr>
            <p:spPr>
              <a:xfrm flipH="1">
                <a:off x="-3960" y="248292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21"/>
              <p:cNvSpPr/>
              <p:nvPr/>
            </p:nvSpPr>
            <p:spPr>
              <a:xfrm flipH="1" rot="5400000">
                <a:off x="838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 flipH="1" rot="5400000">
                <a:off x="520920" y="273564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D24-6C56-44EC-BB97-05C4988B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3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4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653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4356000" y="4653000"/>
            <a:ext cx="4788000" cy="2205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4356000" cy="1844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3"/>
          <p:cNvPicPr/>
          <p:nvPr/>
        </p:nvPicPr>
        <p:blipFill>
          <a:blip r:embed="rId2"/>
          <a:stretch/>
        </p:blipFill>
        <p:spPr>
          <a:xfrm>
            <a:off x="0" y="1844640"/>
            <a:ext cx="4343400" cy="5013360"/>
          </a:xfrm>
          <a:prstGeom prst="rect">
            <a:avLst/>
          </a:prstGeom>
          <a:ln w="0">
            <a:noFill/>
          </a:ln>
        </p:spPr>
      </p:pic>
      <p:pic>
        <p:nvPicPr>
          <p:cNvPr id="171" name="Text Box 3" descr=""/>
          <p:cNvPicPr/>
          <p:nvPr/>
        </p:nvPicPr>
        <p:blipFill>
          <a:blip r:embed="rId3"/>
          <a:stretch/>
        </p:blipFill>
        <p:spPr>
          <a:xfrm>
            <a:off x="1222200" y="836640"/>
            <a:ext cx="6413760" cy="70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4716360" y="4221000"/>
            <a:ext cx="44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雨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浪之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6155"/>
          <p:cNvSpPr/>
          <p:nvPr/>
        </p:nvSpPr>
        <p:spPr>
          <a:xfrm>
            <a:off x="4500720" y="6453360"/>
            <a:ext cx="40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187280" y="3209760"/>
            <a:ext cx="75614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这首诗中，作者的想象是紧贴着海浪的自然物理特性展开的，你能举例证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1476360" y="765000"/>
            <a:ext cx="676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人之情，入物之理，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4"/>
          <p:cNvPicPr/>
          <p:nvPr/>
        </p:nvPicPr>
        <p:blipFill>
          <a:blip r:embed="rId1"/>
          <a:stretch/>
        </p:blipFill>
        <p:spPr>
          <a:xfrm>
            <a:off x="4800600" y="3137040"/>
            <a:ext cx="4343400" cy="3720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5"/>
          <p:cNvPicPr/>
          <p:nvPr/>
        </p:nvPicPr>
        <p:blipFill>
          <a:blip r:embed="rId2"/>
          <a:srcRect l="0" t="0" r="63" b="0"/>
          <a:stretch/>
        </p:blipFill>
        <p:spPr>
          <a:xfrm>
            <a:off x="0" y="0"/>
            <a:ext cx="4800600" cy="3560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4932360" y="152280"/>
            <a:ext cx="413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朗读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雨之歌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: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雨”在文中是怎样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686280" y="1995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奉献者、生命的使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36440" y="40356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主题：借雨之歌，表达诗人愿为万物付出爱心和愿为万物传递爱的信息的意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971640" y="3427920"/>
            <a:ext cx="7921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这首散文诗中，作者的想像是紧贴着雨水的自然物理特征来展开的，你能找出例证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1908000" y="765000"/>
            <a:ext cx="633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人之情，入物之理，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3"/>
          <p:cNvSpPr txBox="1"/>
          <p:nvPr/>
        </p:nvSpPr>
        <p:spPr>
          <a:xfrm>
            <a:off x="250920" y="189000"/>
            <a:ext cx="1295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</a:rPr>
              <a:t>小结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24000" y="26067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纪伯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组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一般哲理诗一样，采用拟人化手法。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浪之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里，海浪的形象是一个博爱者的形象，从中可以看到诗人自已的影子，诗人是世间种种美好事物的守护者。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雨之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里，雨的形象是一个奉献者和使者的形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它滋润万物，也把距离遥远的事物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31880" y="1037520"/>
            <a:ext cx="416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让我们拥有一双灵性的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让我们拥有一颗灵性的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flysn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040200" y="1828800"/>
            <a:ext cx="12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用第一人称便于抒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219320" y="2590920"/>
            <a:ext cx="73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用拟人手法赋予“浪”“雨”人的灵性，想象新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295280" y="38862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成语、双声叠韵词、文言词的使用，有文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909880" y="510552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押韵，朗朗上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440080" y="914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语言特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本框 8197"/>
          <p:cNvSpPr/>
          <p:nvPr/>
        </p:nvSpPr>
        <p:spPr>
          <a:xfrm>
            <a:off x="161928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3"/>
          <p:cNvSpPr txBox="1"/>
          <p:nvPr/>
        </p:nvSpPr>
        <p:spPr>
          <a:xfrm>
            <a:off x="2666880" y="62064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模仿创作</a:t>
            </a:r>
            <a:endParaRPr b="1" i="1" lang="en-US" sz="2400" spc="1" strike="noStrike">
              <a:ln w="9360">
                <a:solidFill>
                  <a:srgbClr val="00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908000" y="315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这两首散文诗中，作者分别采用第一人称，借助丰富的想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艺术地描绘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生活，表现出对人生的思考。请模仿这种写法写一首散文诗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8BC-0311-445F-8D5A-228AF9F7EC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666880" y="685800"/>
            <a:ext cx="4191120" cy="101448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延伸阅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209680" y="2209680"/>
            <a:ext cx="49532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花之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981080" y="3809880"/>
            <a:ext cx="5257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美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438280" y="5334120"/>
            <a:ext cx="4648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幸福之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950400" y="347868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让我们拥有一双灵性的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998040" y="3404880"/>
            <a:ext cx="1277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让我们拥有一颗灵性的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146040" y="565920"/>
            <a:ext cx="33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黎巴嫩文坛骄子纪伯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34696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纪伯伦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83——193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作为哲理诗人和杰出画家，和泰戈尔 一样是近代东方文学走向世界的先驱。同时，他又是阿拉伯现代小说和艺术散文的主要奠基 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世纪阿拉伯新文学道路的开拓者之一。上世纪二十年代初，以纪伯伦为中坚和代表形成的阿拉伯第一个文学流派「叙美派」（即「阿拉伯侨民文学」）曾闻名全球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8"/>
          <p:cNvSpPr txBox="1"/>
          <p:nvPr/>
        </p:nvSpPr>
        <p:spPr>
          <a:xfrm>
            <a:off x="252360" y="333360"/>
            <a:ext cx="15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作者简介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: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52360" y="2256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纪伯伦是位热爱祖国、热爱全人类的艺术家。在生命的最后岁月，他写下了传遍阿拉伯世界的诗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朦胧中的祖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讴歌毕生苦恋的祖国：“您在我们的灵魂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火，是光；您在我的胸膛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我悸动的心脏。”爱与美是纪伯伦作品的主旋律。他曾说：“整个地球都是我的祖国，全部人类都是我的乡亲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东方文学史上，纪伯伦的艺术风格独树一帜。他的作品既有理性思考的严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冷峻，又有咏叹调式的浪漫与抒情。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66560" y="2592720"/>
            <a:ext cx="820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善于在美妙的比喻中启示深刻的哲理。 纪伯伦风格还见诸于他极有个性的语言。他是一个能用阿拉伯文和英文写作的双语作家，而且每种语言都运用得清丽流畅，其作品的语言风格征服了一代又一代的东西方读者。美国人曾称誉纪伯伦“象从东方吹来横扫西方的风暴”，而他带有强烈东方意识的作品被视为“东方赠给西方的最好礼物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0920" y="4365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著有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泪与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沙与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本文选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泪与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组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共包括五首散文诗，这里选的是其中两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0920" y="1979640"/>
            <a:ext cx="8642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学与绘画是纪伯艺术生命双翼。纪伯伦的前期创作以小说为主，后期创作则以散文诗为主。此外还有诗歌、诗剧、文学评论、书信等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纪伯伦步入世界文坛的顶峰之作，曾被译成二十多种文字在世界各地出版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6" descr="xinsrc_002090115172231668189"/>
          <p:cNvPicPr/>
          <p:nvPr/>
        </p:nvPicPr>
        <p:blipFill>
          <a:blip r:embed="rId1"/>
          <a:stretch/>
        </p:blipFill>
        <p:spPr>
          <a:xfrm>
            <a:off x="-7308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xinsrc_002090115172231668189"/>
          <p:cNvPicPr/>
          <p:nvPr/>
        </p:nvPicPr>
        <p:blipFill>
          <a:blip r:embed="rId2"/>
          <a:stretch/>
        </p:blipFill>
        <p:spPr>
          <a:xfrm>
            <a:off x="8802720" y="27000"/>
            <a:ext cx="32364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xinsrc_002090115172231668189"/>
          <p:cNvPicPr/>
          <p:nvPr/>
        </p:nvPicPr>
        <p:blipFill>
          <a:blip r:embed="rId3"/>
          <a:stretch/>
        </p:blipFill>
        <p:spPr>
          <a:xfrm>
            <a:off x="233280" y="44280"/>
            <a:ext cx="880272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xinsrc_002090115172231668189"/>
          <p:cNvPicPr/>
          <p:nvPr/>
        </p:nvPicPr>
        <p:blipFill>
          <a:blip r:embed="rId4"/>
          <a:stretch/>
        </p:blipFill>
        <p:spPr>
          <a:xfrm>
            <a:off x="108000" y="6597720"/>
            <a:ext cx="88027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听读课文，疏解疑难字词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执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憔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馈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真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璀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400" y="1268280"/>
            <a:ext cx="66913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ni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ù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）：固执任性，不听从别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人的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79640" y="37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</a:rPr>
              <a:t>ku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赠送（礼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050920" y="2492280"/>
            <a:ext cx="6048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qi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á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o cu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形容人瘦弱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           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面色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97964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d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ì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真实的意义或道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908000" y="5734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cu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ǐ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c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仿宋_GB2312"/>
              </a:rPr>
              <a:t>à</a:t>
            </a:r>
            <a:r>
              <a:rPr b="1" lang="en-US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n)</a:t>
            </a:r>
            <a:r>
              <a:rPr b="1" lang="zh-CN" sz="36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形容珠玉等光彩鲜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8197"/>
          <p:cNvSpPr/>
          <p:nvPr/>
        </p:nvSpPr>
        <p:spPr>
          <a:xfrm>
            <a:off x="140328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00040"/>
            <a:ext cx="4572000" cy="56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镶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酷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誓山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68360" y="1341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xiào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）：酷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987640" y="2133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男女相爱时所立的誓言和盟约，表示爱情要像山和海一样永恒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348000" y="5516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傲慢的气势逼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771640" y="3933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xū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）：因伤感、烦闷、痛苦等不住地唉声叹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908000" y="457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qiàn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）：把一物体嵌入别一物体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8"/>
          <p:cNvSpPr/>
          <p:nvPr/>
        </p:nvSpPr>
        <p:spPr>
          <a:xfrm>
            <a:off x="7451640" y="87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04920" y="5562720"/>
            <a:ext cx="822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朗读课文，整体感知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39640" y="4046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海浪唱出了怎样的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95280" y="1989000"/>
            <a:ext cx="55450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—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节：海岸的情人，唱出难舍难分的炽热恋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72960" y="3357720"/>
            <a:ext cx="57117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—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节：人世间的守护神，唱出宽广博大的情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776240" y="4658760"/>
            <a:ext cx="4741920" cy="6426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诗中海浪的语义是怎样递进伸展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7596360" y="5516640"/>
            <a:ext cx="1547640" cy="1341360"/>
          </a:xfrm>
          <a:custGeom>
            <a:avLst/>
            <a:gdLst>
              <a:gd name="textAreaLeft" fmla="*/ 86760 w 1547640"/>
              <a:gd name="textAreaRight" fmla="*/ 1460880 w 154764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24921" h="21600">
                <a:moveTo>
                  <a:pt x="0" y="0"/>
                </a:moveTo>
                <a:lnTo>
                  <a:pt x="24921" y="0"/>
                </a:lnTo>
                <a:lnTo>
                  <a:pt x="24921" y="21600"/>
                </a:lnTo>
                <a:lnTo>
                  <a:pt x="0" y="21600"/>
                </a:lnTo>
                <a:close/>
              </a:path>
              <a:path fill="lightenLess" w="24921" h="21600">
                <a:moveTo>
                  <a:pt x="0" y="0"/>
                </a:moveTo>
                <a:lnTo>
                  <a:pt x="24921" y="0"/>
                </a:lnTo>
                <a:lnTo>
                  <a:pt x="23521" y="1400"/>
                </a:lnTo>
                <a:lnTo>
                  <a:pt x="1400" y="1400"/>
                </a:lnTo>
                <a:close/>
              </a:path>
              <a:path fill="darken" w="24921" h="21600">
                <a:moveTo>
                  <a:pt x="24921" y="0"/>
                </a:moveTo>
                <a:lnTo>
                  <a:pt x="24921" y="21600"/>
                </a:lnTo>
                <a:lnTo>
                  <a:pt x="23521" y="20200"/>
                </a:lnTo>
                <a:lnTo>
                  <a:pt x="23521" y="1400"/>
                </a:lnTo>
                <a:close/>
              </a:path>
              <a:path fill="darkenLess" w="24921" h="21600">
                <a:moveTo>
                  <a:pt x="24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1" y="20200"/>
                </a:lnTo>
                <a:close/>
              </a:path>
              <a:path fill="lighten" w="24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921" h="21600">
                <a:moveTo>
                  <a:pt x="6934" y="3985"/>
                </a:moveTo>
                <a:lnTo>
                  <a:pt x="13931" y="3985"/>
                </a:lnTo>
                <a:lnTo>
                  <a:pt x="17987" y="7484"/>
                </a:lnTo>
                <a:lnTo>
                  <a:pt x="17987" y="17615"/>
                </a:lnTo>
                <a:lnTo>
                  <a:pt x="6934" y="17615"/>
                </a:lnTo>
                <a:close/>
              </a:path>
              <a:path fill="darken" w="24921" h="21600">
                <a:moveTo>
                  <a:pt x="13931" y="3985"/>
                </a:moveTo>
                <a:lnTo>
                  <a:pt x="17987" y="7484"/>
                </a:lnTo>
                <a:lnTo>
                  <a:pt x="13931" y="7484"/>
                </a:lnTo>
                <a:close/>
              </a:path>
            </a:pathLst>
          </a:custGeom>
          <a:solidFill>
            <a:srgbClr val="0099cc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181080" y="43988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作者借“浪之歌”要表达什么意思和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79280" y="5551560"/>
            <a:ext cx="8596440" cy="642600"/>
          </a:xfrm>
          <a:prstGeom prst="rect">
            <a:avLst/>
          </a:prstGeom>
          <a:solidFill>
            <a:srgbClr val="0000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借海浪与海岸热恋的形象，曲折表达对祖国忠贞不渝的情感和火热的衷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920" y="44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诗中是如何塑造海浪与海岸的热恋形象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08000" y="2438640"/>
            <a:ext cx="8424720" cy="532440"/>
          </a:xfrm>
          <a:prstGeom prst="rect">
            <a:avLst/>
          </a:prstGeom>
          <a:solidFill>
            <a:srgbClr val="0000c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海浪对情侣海岸一往情深，爱的热烈，爱的深沉。黎明，她信誓旦旦地在情人耳畔许下忠诚的誓愿；傍晚，她又为爱情唱着祈祷的诗篇。潮涨时，她热情洋溢，紧紧与情人拥抱；潮退了，她难舍难分，依恋地扑倒在情侣的脚下。面对她这诚挚炽烈的情爱，海岸是异常感激的，他亲吻她，还容忍了她的“任性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12"/>
          <p:cNvSpPr txBox="1"/>
          <p:nvPr/>
        </p:nvSpPr>
        <p:spPr>
          <a:xfrm rot="5400000">
            <a:off x="7261200" y="2540160"/>
            <a:ext cx="3168720" cy="482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 作 探 究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62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2900880" y="5428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拟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2:51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9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