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hammer.wav" ContentType="audio/x-wav"/>
  <Override PartName="/ppt/media/image36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7C3-FE2A-41D6-A42B-A6D55E5B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6CD-8357-482E-89A3-EF77CBBB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5B3-DB4A-41D1-8043-410F99CD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4D2-3920-4FC3-9AD7-303FD138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C164-0D79-46A4-B2B6-0A01199C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BF11-03D6-4162-9709-C945CC74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BACB-599C-4320-A958-FD68DE4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E1B0-5769-4CD4-86C5-503B65AD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2B6E-B541-46FA-B315-65949FEB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560B-03AE-4BCE-B8CF-08ABF349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8EBF-7C3F-47BD-9E75-3AC8805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F8C-381E-4788-9157-FAF12D5D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6107-8810-47E9-A666-5E101BD0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F4AB-6E67-430C-A777-C2EE0A6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7608-9AB3-449B-B39A-6AA2FBD0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F635-5C55-4164-9AA7-A62CC55A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7419-1D7F-4A97-B3E4-C7C7838F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E524-BD51-4D58-ADB0-0A4AD11E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66F2-70C2-49C7-A030-26FD0620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274B-361C-41CA-B7E4-649CDC72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17BD-B696-4F18-8B0E-4FA281C5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0057-8D91-47E2-B2A6-BFFEC7F7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AAF-50BD-4353-A456-B0AACE39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0306-20FC-4D9E-AE37-5EDC1068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4B14-02CC-4AB4-92FC-3E6CF9F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5567-6BF1-4E03-93E6-D77EB9C6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F68F-740F-4C65-A45C-E0EAC6AC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1E93-93D5-48EE-AB0B-56F8CE6E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C6CB-A8AC-423A-970F-A1706E36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214E-C9E0-4069-8FA5-B029F837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C51-E398-44C2-8AB6-39C04029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C0C-7E37-492B-B6D3-2E6AED61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0C0-7042-443F-8337-40EB11F2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57E-84C9-4778-9121-615BC42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FE9-F681-4249-9AB0-3E6C7E7E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D63-5772-484E-B518-D481B7D9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637E-02CC-4C27-AC3C-D93E887E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215A-7E2D-4C4D-8BE8-997D0EE86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E850-B1AC-4759-B6EF-F91B3B5906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zhidao.baidu.com/search?word=&#33609;&#26681;&amp;fr=qb_search_exp&amp;ie=utf8" TargetMode="External"/><Relationship Id="rId2" Type="http://schemas.openxmlformats.org/officeDocument/2006/relationships/hyperlink" Target="http://zhidao.baidu.com/search?word=&#32593;&#24651;&amp;fr=qb_search_exp&amp;ie=utf8" TargetMode="External"/><Relationship Id="rId3" Type="http://schemas.openxmlformats.org/officeDocument/2006/relationships/hyperlink" Target="http://zhidao.baidu.com/search?word=&#32500;&#23458;&amp;fr=qb_search_exp&amp;ie=utf8" TargetMode="External"/><Relationship Id="rId4" Type="http://schemas.openxmlformats.org/officeDocument/2006/relationships/hyperlink" Target="http://zhidao.baidu.com/search?word=&#22855;&#23458;&amp;fr=qb_search_exp&amp;ie=utf8" TargetMode="External"/><Relationship Id="rId5" Type="http://schemas.openxmlformats.org/officeDocument/2006/relationships/hyperlink" Target="http://zhidao.baidu.com/search?word=&#25773;&#23458;&amp;fr=qb_search_exp&amp;ie=utf8" TargetMode="External"/><Relationship Id="rId6" Type="http://schemas.openxmlformats.org/officeDocument/2006/relationships/hyperlink" Target="http://zhidao.baidu.com/search?word=&#39134;&#23458;&amp;fr=qb_search_exp&amp;ie=utf8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hyperlink" Target="C:\Users\Administrator\Desktop\&#20013;&#22269;&#22312;&#19990;&#30028;&#20013;\&#35270;&#39057;&#65306;&#26085;&#26412;&#33258;&#21355;&#38431;&#25311;&#39547;&#25166;&#33778;&#24459;&#23486; &#20854;&#24847;&#22312;&#38035;&#40060;&#23707;.fl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················································································································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  <a:ea typeface="宋体"/>
            </a:endParaRPr>
          </a:p>
        </p:txBody>
      </p:sp>
      <p:pic>
        <p:nvPicPr>
          <p:cNvPr id="125" name="Picture 2" descr="G:\八年级地理教学案上、下\第9章 教学案与课件\u=1728765123,2399000375&amp;fm=23&amp;gp=0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534960" y="271440"/>
            <a:ext cx="80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第十章  中国在世界中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矩形 5" descr=""/>
          <p:cNvPicPr/>
          <p:nvPr/>
        </p:nvPicPr>
        <p:blipFill>
          <a:blip r:embed="rId2"/>
          <a:stretch/>
        </p:blipFill>
        <p:spPr>
          <a:xfrm>
            <a:off x="2327400" y="5981760"/>
            <a:ext cx="45226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G:\八年级地理教学案上、下\第9章 教学案与课件\上海港.jpg"/>
          <p:cNvPicPr/>
          <p:nvPr/>
        </p:nvPicPr>
        <p:blipFill>
          <a:blip r:embed="rId1"/>
          <a:stretch/>
        </p:blipFill>
        <p:spPr>
          <a:xfrm>
            <a:off x="0" y="0"/>
            <a:ext cx="4429080" cy="544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G:\八年级地理教学案上、下\第9章 教学案与课件\辽宁港.jpg"/>
          <p:cNvPicPr/>
          <p:nvPr/>
        </p:nvPicPr>
        <p:blipFill>
          <a:blip r:embed="rId2"/>
          <a:stretch/>
        </p:blipFill>
        <p:spPr>
          <a:xfrm>
            <a:off x="4500720" y="44280"/>
            <a:ext cx="4643280" cy="533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250920" y="563868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我国成为世界第一大货物出口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676520" y="58672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跃居世界前列的主要工农业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990720"/>
          <a:ext cx="4038480" cy="4724280"/>
        </p:xfrm>
        <a:graphic>
          <a:graphicData uri="http://schemas.openxmlformats.org/drawingml/2006/table">
            <a:tbl>
              <a:tblPr/>
              <a:tblGrid>
                <a:gridCol w="2089080"/>
                <a:gridCol w="1949400"/>
              </a:tblGrid>
              <a:tr h="471600">
                <a:tc gridSpan="2"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主要农业产品产量（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楷体_GB2312"/>
                        </a:rPr>
                        <a:t>2010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楷体_GB2312"/>
                        </a:rPr>
                        <a:t>年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1368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谷  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16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肉  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124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棉  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大  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276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花  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16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油菜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98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甘  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16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茶  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124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水  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724280" y="990720"/>
          <a:ext cx="4038480" cy="4724280"/>
        </p:xfrm>
        <a:graphic>
          <a:graphicData uri="http://schemas.openxmlformats.org/drawingml/2006/table">
            <a:tbl>
              <a:tblPr/>
              <a:tblGrid>
                <a:gridCol w="2195640"/>
                <a:gridCol w="1842840"/>
              </a:tblGrid>
              <a:tr h="561960">
                <a:tc gridSpan="2"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主要工业产品产量（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楷体_GB2312"/>
                        </a:rPr>
                        <a:t>2010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1368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68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原  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416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发电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544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水  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化  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棉  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矩形 8"/>
          <p:cNvSpPr/>
          <p:nvPr/>
        </p:nvSpPr>
        <p:spPr>
          <a:xfrm>
            <a:off x="228600" y="0"/>
            <a:ext cx="678168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一、举世瞩目的发展成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:\八年级地理教学案上、下\第9章 教学案与课件\u=2070776029,2612184824&amp;fm=23&amp;gp=0.jpg"/>
          <p:cNvPicPr/>
          <p:nvPr/>
        </p:nvPicPr>
        <p:blipFill>
          <a:blip r:embed="rId1"/>
          <a:stretch/>
        </p:blipFill>
        <p:spPr>
          <a:xfrm>
            <a:off x="4514760" y="0"/>
            <a:ext cx="4629240" cy="321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G:\八年级地理教学案上、下\第9章 教学案与课件\u=2157284404,1455140857&amp;fm=23&amp;gp=0.jpg"/>
          <p:cNvPicPr/>
          <p:nvPr/>
        </p:nvPicPr>
        <p:blipFill>
          <a:blip r:embed="rId2"/>
          <a:stretch/>
        </p:blipFill>
        <p:spPr>
          <a:xfrm>
            <a:off x="0" y="3286080"/>
            <a:ext cx="4286160" cy="3571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G:\八年级地理教学案上、下\第9章 教学案与课件\u=4037739508,3959605189&amp;fm=23&amp;gp=0.jpg"/>
          <p:cNvPicPr/>
          <p:nvPr/>
        </p:nvPicPr>
        <p:blipFill>
          <a:blip r:embed="rId3"/>
          <a:stretch/>
        </p:blipFill>
        <p:spPr>
          <a:xfrm>
            <a:off x="0" y="0"/>
            <a:ext cx="4295880" cy="32148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4786200" y="342900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我国成功完成了无人和载人航天飞行，跻身于世界先进航天国家之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1"/>
          <a:stretch/>
        </p:blipFill>
        <p:spPr>
          <a:xfrm>
            <a:off x="420840" y="900000"/>
            <a:ext cx="8229600" cy="5373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0" y="6277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举办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届奥运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420840" y="133200"/>
            <a:ext cx="52578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举世瞩目的发展成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0" y="0"/>
            <a:ext cx="868680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口答题：北京举办奥运会时间是什么时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6019920" y="6273720"/>
            <a:ext cx="284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08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动一：课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06520" y="12304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革开发以来，体现我国发展成就的新名词，新事物不断涌现，下面列举了一些，你还能列举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32160" y="2379240"/>
            <a:ext cx="22615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NO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：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1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草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32160" y="2989080"/>
            <a:ext cx="22615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NO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：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2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网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33520" y="3660480"/>
            <a:ext cx="22860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NO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：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3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恶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610920" y="4346280"/>
            <a:ext cx="28375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NO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：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4 X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客系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2004120" y="4955760"/>
            <a:ext cx="425124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博客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维客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奇客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播客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、黑客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飞客</a:t>
            </a:r>
            <a:r>
              <a:rPr b="1" lang="zh-CN" sz="3200" spc="-1" strike="noStrike">
                <a:solidFill>
                  <a:srgbClr val="2d64b3"/>
                </a:solidFill>
                <a:latin typeface="Arial"/>
                <a:ea typeface="Arial"/>
              </a:rPr>
              <a:t>等</a:t>
            </a:r>
            <a:r>
              <a:rPr b="1" lang="en-US" sz="3200" spc="-1" strike="noStrike">
                <a:solidFill>
                  <a:srgbClr val="2d64b3"/>
                </a:solidFill>
                <a:latin typeface="Arial"/>
                <a:ea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2590920" y="3660480"/>
            <a:ext cx="62481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Arial"/>
              </a:rPr>
              <a:t>（工作之余，抒发你的底层欲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标题 1"/>
          <p:cNvSpPr/>
          <p:nvPr/>
        </p:nvSpPr>
        <p:spPr>
          <a:xfrm>
            <a:off x="214200" y="228600"/>
            <a:ext cx="6338880" cy="771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发展中面临的挑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G:\八年级地理教学案上、下\第9章 教学案与课件\u=2416640549,15318426&amp;fm=23&amp;gp=0.jpg"/>
          <p:cNvPicPr/>
          <p:nvPr/>
        </p:nvPicPr>
        <p:blipFill>
          <a:blip r:embed="rId1"/>
          <a:stretch/>
        </p:blipFill>
        <p:spPr>
          <a:xfrm>
            <a:off x="2209680" y="1143000"/>
            <a:ext cx="6500880" cy="37861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304920" y="5334120"/>
            <a:ext cx="85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我国虽然成为世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第二大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经济体，但人均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DP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仍然排在</a:t>
            </a: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100</a:t>
            </a:r>
            <a:r>
              <a:rPr b="1" lang="zh-CN" sz="4000" spc="-1" strike="noStrike">
                <a:solidFill>
                  <a:srgbClr val="0066ff"/>
                </a:solidFill>
                <a:latin typeface="Calibri"/>
              </a:rPr>
              <a:t>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之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219320" y="914400"/>
            <a:ext cx="685800" cy="44830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与发达国家差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4"/>
          <p:cNvSpPr/>
          <p:nvPr/>
        </p:nvSpPr>
        <p:spPr>
          <a:xfrm>
            <a:off x="2295360" y="1327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423034_W020070109293661710086_2_thumb"/>
          <p:cNvPicPr/>
          <p:nvPr/>
        </p:nvPicPr>
        <p:blipFill>
          <a:blip r:embed="rId1"/>
          <a:stretch/>
        </p:blipFill>
        <p:spPr>
          <a:xfrm>
            <a:off x="304920" y="1066680"/>
            <a:ext cx="7848360" cy="4572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28600" y="563796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国虽成为了制造业大国，但制造业水平还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较低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与制造业强国相比仍有相当的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差距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8229600" y="1219320"/>
            <a:ext cx="685800" cy="44830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与发达国家差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标题 1"/>
          <p:cNvSpPr/>
          <p:nvPr/>
        </p:nvSpPr>
        <p:spPr>
          <a:xfrm>
            <a:off x="214200" y="228600"/>
            <a:ext cx="5958000" cy="771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发展中面临的挑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:\八年级地理教学案上、下\第9章 教学案与课件\u=2581020735,924674188&amp;fm=23&amp;gp=0.jpg"/>
          <p:cNvPicPr/>
          <p:nvPr/>
        </p:nvPicPr>
        <p:blipFill>
          <a:blip r:embed="rId1"/>
          <a:stretch/>
        </p:blipFill>
        <p:spPr>
          <a:xfrm>
            <a:off x="0" y="1447920"/>
            <a:ext cx="42163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G:\八年级地理教学案上、下\第9章 教学案与课件\u=1951873297,1516433563&amp;fm=21&amp;gp=0.jpg"/>
          <p:cNvPicPr/>
          <p:nvPr/>
        </p:nvPicPr>
        <p:blipFill>
          <a:blip r:embed="rId2"/>
          <a:stretch/>
        </p:blipFill>
        <p:spPr>
          <a:xfrm>
            <a:off x="4572000" y="152280"/>
            <a:ext cx="4357800" cy="3286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G:\八年级地理教学案上、下\第9章 教学案与课件\u=1815399542,3476765064&amp;fm=23&amp;gp=0.jpg"/>
          <p:cNvPicPr/>
          <p:nvPr/>
        </p:nvPicPr>
        <p:blipFill>
          <a:blip r:embed="rId3"/>
          <a:stretch/>
        </p:blipFill>
        <p:spPr>
          <a:xfrm>
            <a:off x="4572000" y="3733920"/>
            <a:ext cx="4314960" cy="31240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0" y="1523880"/>
            <a:ext cx="164304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气污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8229600" y="1676520"/>
            <a:ext cx="48564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水污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6400800" y="3886200"/>
            <a:ext cx="239544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固体垃圾污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04920" y="228600"/>
            <a:ext cx="4038480" cy="64260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人地关系不和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G:\八年级地理教学案上、下\第9章 教学案与课件\生态恶化.jpg"/>
          <p:cNvPicPr/>
          <p:nvPr/>
        </p:nvPicPr>
        <p:blipFill>
          <a:blip r:embed="rId1"/>
          <a:stretch/>
        </p:blipFill>
        <p:spPr>
          <a:xfrm>
            <a:off x="457200" y="838080"/>
            <a:ext cx="6553080" cy="2857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G:\八年级地理教学案上、下\第9章 教学案与课件\生态恶化1.jpg"/>
          <p:cNvPicPr/>
          <p:nvPr/>
        </p:nvPicPr>
        <p:blipFill>
          <a:blip r:embed="rId2"/>
          <a:stretch/>
        </p:blipFill>
        <p:spPr>
          <a:xfrm>
            <a:off x="457200" y="3724200"/>
            <a:ext cx="6491160" cy="31291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8"/>
          <p:cNvSpPr/>
          <p:nvPr/>
        </p:nvSpPr>
        <p:spPr>
          <a:xfrm>
            <a:off x="7315200" y="1371600"/>
            <a:ext cx="76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生态恶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28600" y="228600"/>
            <a:ext cx="3962520" cy="64260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人地关系不和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G:\八年级地理教学案上、下\第9章 教学案与课件\植树.jpg"/>
          <p:cNvPicPr/>
          <p:nvPr/>
        </p:nvPicPr>
        <p:blipFill>
          <a:blip r:embed="rId1"/>
          <a:stretch/>
        </p:blipFill>
        <p:spPr>
          <a:xfrm>
            <a:off x="0" y="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G:\八年级地理教学案上、下\第9章 教学案与课件\植树节.jpg"/>
          <p:cNvPicPr/>
          <p:nvPr/>
        </p:nvPicPr>
        <p:blipFill>
          <a:blip r:embed="rId2"/>
          <a:stretch/>
        </p:blipFill>
        <p:spPr>
          <a:xfrm>
            <a:off x="0" y="3500280"/>
            <a:ext cx="3500280" cy="3357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G:\八年级地理教学案上、下\第9章 教学案与课件\u=924060011,2281135959&amp;fm=23&amp;gp=0.jpg"/>
          <p:cNvPicPr/>
          <p:nvPr/>
        </p:nvPicPr>
        <p:blipFill>
          <a:blip r:embed="rId3"/>
          <a:stretch/>
        </p:blipFill>
        <p:spPr>
          <a:xfrm>
            <a:off x="4500720" y="0"/>
            <a:ext cx="4500360" cy="342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G:\八年级地理教学案上、下\第9章 教学案与课件\鄱阳湖.jpg"/>
          <p:cNvPicPr/>
          <p:nvPr/>
        </p:nvPicPr>
        <p:blipFill>
          <a:blip r:embed="rId4"/>
          <a:stretch/>
        </p:blipFill>
        <p:spPr>
          <a:xfrm>
            <a:off x="4500720" y="3500280"/>
            <a:ext cx="4429080" cy="31435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7"/>
          <p:cNvSpPr/>
          <p:nvPr/>
        </p:nvSpPr>
        <p:spPr>
          <a:xfrm>
            <a:off x="3679920" y="3857760"/>
            <a:ext cx="67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自然保护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357120" y="557208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5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，中国最大的钢铁联合企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——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鞍山钢铁公司恢复并扩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228600" y="0"/>
            <a:ext cx="52578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一、举世瞩目的发展成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457200" y="11430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个五年计划完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609480" y="236232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1953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——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1957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G:\八年级地理教学案上、下\第9章 教学案与课件\u=1464222457,1752264531&amp;fm=23&amp;gp=0.jpg"/>
          <p:cNvPicPr/>
          <p:nvPr/>
        </p:nvPicPr>
        <p:blipFill>
          <a:blip r:embed="rId1"/>
          <a:stretch/>
        </p:blipFill>
        <p:spPr>
          <a:xfrm>
            <a:off x="228600" y="733320"/>
            <a:ext cx="8643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0"/>
          <p:cNvSpPr/>
          <p:nvPr/>
        </p:nvSpPr>
        <p:spPr>
          <a:xfrm>
            <a:off x="228600" y="228600"/>
            <a:ext cx="44197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地区发展不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2010519134049210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572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1371600" y="6019920"/>
            <a:ext cx="6324480" cy="6426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东、中、西部发展不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G:\八年级地理教学案上、下\第9章 教学案与课件\西部2.jpg"/>
          <p:cNvPicPr/>
          <p:nvPr/>
        </p:nvPicPr>
        <p:blipFill>
          <a:blip r:embed="rId1"/>
          <a:stretch/>
        </p:blipFill>
        <p:spPr>
          <a:xfrm>
            <a:off x="0" y="3214800"/>
            <a:ext cx="3857760" cy="3643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G:\八年级地理教学案上、下\第9章 教学案与课件\西部.jpg"/>
          <p:cNvPicPr/>
          <p:nvPr/>
        </p:nvPicPr>
        <p:blipFill>
          <a:blip r:embed="rId2"/>
          <a:stretch/>
        </p:blipFill>
        <p:spPr>
          <a:xfrm>
            <a:off x="228600" y="0"/>
            <a:ext cx="3643200" cy="3143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G:\八年级地理教学案上、下\第9章 教学案与课件\西部3.jpg"/>
          <p:cNvPicPr/>
          <p:nvPr/>
        </p:nvPicPr>
        <p:blipFill>
          <a:blip r:embed="rId3"/>
          <a:stretch/>
        </p:blipFill>
        <p:spPr>
          <a:xfrm>
            <a:off x="4857840" y="0"/>
            <a:ext cx="4000320" cy="35002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4495680" y="3657600"/>
            <a:ext cx="492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大开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alibri"/>
              </a:rPr>
              <a:t>振兴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_____</a:t>
            </a:r>
            <a:r>
              <a:rPr b="1" lang="zh-CN" sz="3200" spc="-1" strike="noStrike">
                <a:solidFill>
                  <a:srgbClr val="0066ff"/>
                </a:solidFill>
                <a:latin typeface="Calibri"/>
              </a:rPr>
              <a:t>老工业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促进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区崛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alibri"/>
              </a:rPr>
              <a:t>推动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_____</a:t>
            </a:r>
            <a:r>
              <a:rPr b="1" lang="zh-CN" sz="3200" spc="-1" strike="noStrike">
                <a:solidFill>
                  <a:srgbClr val="0066ff"/>
                </a:solidFill>
                <a:latin typeface="Calibri"/>
              </a:rPr>
              <a:t>发展一体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演题：根据图片，小组代表上台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9"/>
          <p:cNvSpPr/>
          <p:nvPr/>
        </p:nvSpPr>
        <p:spPr>
          <a:xfrm>
            <a:off x="603720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城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5198760" y="3505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西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1"/>
          <p:cNvSpPr/>
          <p:nvPr/>
        </p:nvSpPr>
        <p:spPr>
          <a:xfrm>
            <a:off x="596088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东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603720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中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G:\八年级地理教学案上、下\第9章 教学案与课件\黄岩岛.jpg"/>
          <p:cNvPicPr/>
          <p:nvPr/>
        </p:nvPicPr>
        <p:blipFill>
          <a:blip r:embed="rId1"/>
          <a:stretch/>
        </p:blipFill>
        <p:spPr>
          <a:xfrm>
            <a:off x="4643280" y="914400"/>
            <a:ext cx="4500720" cy="5302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G:\八年级地理教学案上、下\第9章 教学案与课件\钓鱼岛.jpg"/>
          <p:cNvPicPr/>
          <p:nvPr/>
        </p:nvPicPr>
        <p:blipFill>
          <a:blip r:embed="rId2"/>
          <a:stretch/>
        </p:blipFill>
        <p:spPr>
          <a:xfrm>
            <a:off x="0" y="914400"/>
            <a:ext cx="457200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1066680" y="6149880"/>
            <a:ext cx="559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海洋权益面临严峻挑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标题 1"/>
          <p:cNvSpPr/>
          <p:nvPr/>
        </p:nvSpPr>
        <p:spPr>
          <a:xfrm>
            <a:off x="0" y="0"/>
            <a:ext cx="5867280" cy="771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发展中面临的挑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动作按钮: 影片 5">
            <a:hlinkClick r:id="rId3"/>
          </p:cNvPr>
          <p:cNvSpPr/>
          <p:nvPr/>
        </p:nvSpPr>
        <p:spPr>
          <a:xfrm>
            <a:off x="6858000" y="380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301"/>
                </a:moveTo>
                <a:lnTo>
                  <a:pt x="10103" y="7301"/>
                </a:lnTo>
                <a:lnTo>
                  <a:pt x="10486" y="7667"/>
                </a:lnTo>
                <a:lnTo>
                  <a:pt x="19695" y="7667"/>
                </a:lnTo>
                <a:lnTo>
                  <a:pt x="20252" y="8224"/>
                </a:lnTo>
                <a:lnTo>
                  <a:pt x="20252" y="8772"/>
                </a:lnTo>
                <a:lnTo>
                  <a:pt x="22097" y="8772"/>
                </a:lnTo>
                <a:lnTo>
                  <a:pt x="22462" y="8224"/>
                </a:lnTo>
                <a:lnTo>
                  <a:pt x="23202" y="8224"/>
                </a:lnTo>
                <a:lnTo>
                  <a:pt x="23202" y="13376"/>
                </a:lnTo>
                <a:lnTo>
                  <a:pt x="22462" y="13376"/>
                </a:lnTo>
                <a:lnTo>
                  <a:pt x="22097" y="12828"/>
                </a:lnTo>
                <a:lnTo>
                  <a:pt x="20252" y="12828"/>
                </a:lnTo>
                <a:lnTo>
                  <a:pt x="20252" y="14107"/>
                </a:lnTo>
                <a:lnTo>
                  <a:pt x="10669" y="14107"/>
                </a:lnTo>
                <a:lnTo>
                  <a:pt x="10669" y="9877"/>
                </a:lnTo>
                <a:lnTo>
                  <a:pt x="10486" y="9877"/>
                </a:lnTo>
                <a:lnTo>
                  <a:pt x="10103" y="10243"/>
                </a:lnTo>
                <a:lnTo>
                  <a:pt x="9189" y="1024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val 4"/>
          <p:cNvSpPr/>
          <p:nvPr/>
        </p:nvSpPr>
        <p:spPr>
          <a:xfrm flipH="1">
            <a:off x="2286000" y="2743200"/>
            <a:ext cx="1851120" cy="1905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资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"/>
          <p:cNvSpPr/>
          <p:nvPr/>
        </p:nvSpPr>
        <p:spPr>
          <a:xfrm flipH="1">
            <a:off x="4267080" y="2819520"/>
            <a:ext cx="1851120" cy="1904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 flipH="1">
            <a:off x="3429000" y="1981080"/>
            <a:ext cx="1851120" cy="1905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经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2209680" y="5029200"/>
            <a:ext cx="40388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走可持续发展道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动二：课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1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0"/>
          <p:cNvSpPr/>
          <p:nvPr/>
        </p:nvSpPr>
        <p:spPr>
          <a:xfrm>
            <a:off x="228600" y="0"/>
            <a:ext cx="43434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三、做负责任的大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5881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013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日，中国常驻联合国代表在阿富汗问题上阐述中方立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W020130920417993428814"/>
          <p:cNvPicPr/>
          <p:nvPr/>
        </p:nvPicPr>
        <p:blipFill>
          <a:blip r:embed="rId1"/>
          <a:stretch/>
        </p:blipFill>
        <p:spPr>
          <a:xfrm>
            <a:off x="457200" y="685800"/>
            <a:ext cx="7924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0"/>
          <p:cNvSpPr/>
          <p:nvPr/>
        </p:nvSpPr>
        <p:spPr>
          <a:xfrm>
            <a:off x="228600" y="0"/>
            <a:ext cx="3581280" cy="6426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做负责任的大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144807_553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622440" y="611100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参加印度洋海域护航任务的中国海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0"/>
          <p:cNvSpPr/>
          <p:nvPr/>
        </p:nvSpPr>
        <p:spPr>
          <a:xfrm>
            <a:off x="228600" y="152280"/>
            <a:ext cx="34290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Arial"/>
                <a:ea typeface="黑体"/>
              </a:rPr>
              <a:t>做负责任的大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g266813735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181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1219320" y="6018840"/>
            <a:ext cx="63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中国维和部队在非洲刚果（金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G:\八年级地理教学案上、下\第9章 教学案与课件\u=563406656,688735676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6357960" cy="3643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G:\八年级地理教学案上、下\第9章 教学案与课件\国就队.jpg"/>
          <p:cNvPicPr/>
          <p:nvPr/>
        </p:nvPicPr>
        <p:blipFill>
          <a:blip r:embed="rId2"/>
          <a:stretch/>
        </p:blipFill>
        <p:spPr>
          <a:xfrm>
            <a:off x="0" y="3809880"/>
            <a:ext cx="635796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6858000" y="500040"/>
            <a:ext cx="1571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和平发展合作共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6715080" y="4286160"/>
            <a:ext cx="22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和谐世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80880" y="228600"/>
            <a:ext cx="190512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685800" y="1676520"/>
            <a:ext cx="533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中国在世界中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275200" y="9144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举世瞩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发 展成就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4868280" y="1219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改革开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5117760" y="609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五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967280" y="1778040"/>
            <a:ext cx="24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世纪经济高速发展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086920" y="32767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面临的挑战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785840" y="281952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与发达国家的差距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202120" y="563868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负责的大国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5214600" y="594360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倡导“和谐世界”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5307480" y="5029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和平、发展、合作、共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1447920" y="1219320"/>
            <a:ext cx="304560" cy="4800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7"/>
          <p:cNvSpPr/>
          <p:nvPr/>
        </p:nvSpPr>
        <p:spPr>
          <a:xfrm>
            <a:off x="3962520" y="76212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8"/>
          <p:cNvSpPr/>
          <p:nvPr/>
        </p:nvSpPr>
        <p:spPr>
          <a:xfrm>
            <a:off x="3886200" y="2590920"/>
            <a:ext cx="533520" cy="2057400"/>
          </a:xfrm>
          <a:custGeom>
            <a:avLst/>
            <a:gdLst>
              <a:gd name="textAreaLeft" fmla="*/ 340920 w 533520"/>
              <a:gd name="textAreaRight" fmla="*/ 533880 w 533520"/>
              <a:gd name="textAreaTop" fmla="*/ 53280 h 2057400"/>
              <a:gd name="textAreaBottom" fmla="*/ 20041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9"/>
          <p:cNvSpPr/>
          <p:nvPr/>
        </p:nvSpPr>
        <p:spPr>
          <a:xfrm>
            <a:off x="3962520" y="53341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4790520" y="38098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发展中的矛盾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28600" y="91440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下列说法正确的是                              （    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我国是个经济发达的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我国是个发展中国家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我国不能向太空发射卫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我国人均工业产值居世界首位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从国内生产总值来看，我国目前是世界第几大经济体                                                  （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一   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二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三                            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80880" y="228600"/>
            <a:ext cx="190512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959600" y="835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8029440" y="429264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8194"/>
          <p:cNvSpPr/>
          <p:nvPr/>
        </p:nvSpPr>
        <p:spPr>
          <a:xfrm>
            <a:off x="884160" y="3390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················································································································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  <a:ea typeface="宋体"/>
            </a:endParaRPr>
          </a:p>
        </p:txBody>
      </p:sp>
      <p:pic>
        <p:nvPicPr>
          <p:cNvPr id="135" name="Picture 2" descr="G:\八年级地理教学案上、下\第9章 教学案与课件\u=1728765123,2399000375&amp;fm=23&amp;gp=0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534960" y="271440"/>
            <a:ext cx="807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十章  中国在世界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04920" y="99072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我国积极融入经济全球化的过程，加入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TO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加强与世界各国、 各地区的经济合作，这有利于  （   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控制我国人口增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促进世界发展，维护世界和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保护地球环境，促进人类社会进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引进资金和先进的技术，开拓国际市场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我国建设中存在的问题有                 （   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我国的人均国民生产总值较低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我国人民的温饱问题没有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我国主要工农业产品的产量大多低于世界平均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我国的经济发展速度较慢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0880" y="228600"/>
            <a:ext cx="19814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75260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68810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E4D1-522A-4049-8F6F-B44293F9A8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extBox 1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3360" cy="271440"/>
          </a:xfrm>
          <a:prstGeom prst="rect">
            <a:avLst/>
          </a:prstGeom>
          <a:ln w="0">
            <a:noFill/>
          </a:ln>
        </p:spPr>
      </p:pic>
      <p:sp>
        <p:nvSpPr>
          <p:cNvPr id="275" name="直接连接符 10"/>
          <p:cNvSpPr/>
          <p:nvPr/>
        </p:nvSpPr>
        <p:spPr>
          <a:xfrm>
            <a:off x="0" y="6500880"/>
            <a:ext cx="9144000" cy="0"/>
          </a:xfrm>
          <a:prstGeom prst="line">
            <a:avLst/>
          </a:prstGeom>
          <a:ln w="38160">
            <a:solidFill>
              <a:srgbClr val="00acf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虚尾箭头 3"/>
          <p:cNvSpPr/>
          <p:nvPr/>
        </p:nvSpPr>
        <p:spPr>
          <a:xfrm rot="10800000">
            <a:off x="78868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52400" y="95250"/>
                </a:lnTo>
                <a:lnTo>
                  <a:pt x="152400" y="0"/>
                </a:lnTo>
                <a:lnTo>
                  <a:pt x="304800" y="190500"/>
                </a:lnTo>
                <a:lnTo>
                  <a:pt x="152400" y="381000"/>
                </a:lnTo>
                <a:lnTo>
                  <a:pt x="152400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虚尾箭头 4"/>
          <p:cNvSpPr/>
          <p:nvPr/>
        </p:nvSpPr>
        <p:spPr>
          <a:xfrm rot="10800000">
            <a:off x="69724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52400" y="95250"/>
                </a:lnTo>
                <a:lnTo>
                  <a:pt x="152400" y="0"/>
                </a:lnTo>
                <a:lnTo>
                  <a:pt x="304800" y="190500"/>
                </a:lnTo>
                <a:lnTo>
                  <a:pt x="152400" y="381000"/>
                </a:lnTo>
                <a:lnTo>
                  <a:pt x="152400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虚尾箭头 5"/>
          <p:cNvSpPr/>
          <p:nvPr/>
        </p:nvSpPr>
        <p:spPr>
          <a:xfrm rot="10800000">
            <a:off x="65152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52400" y="95250"/>
                </a:lnTo>
                <a:lnTo>
                  <a:pt x="152400" y="0"/>
                </a:lnTo>
                <a:lnTo>
                  <a:pt x="304800" y="190500"/>
                </a:lnTo>
                <a:lnTo>
                  <a:pt x="152400" y="381000"/>
                </a:lnTo>
                <a:lnTo>
                  <a:pt x="152400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虚尾箭头 6"/>
          <p:cNvSpPr/>
          <p:nvPr/>
        </p:nvSpPr>
        <p:spPr>
          <a:xfrm rot="10800000">
            <a:off x="74296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64756" y="95250"/>
                </a:lnTo>
                <a:lnTo>
                  <a:pt x="164756" y="0"/>
                </a:lnTo>
                <a:lnTo>
                  <a:pt x="304800" y="190500"/>
                </a:lnTo>
                <a:lnTo>
                  <a:pt x="164756" y="381000"/>
                </a:lnTo>
                <a:lnTo>
                  <a:pt x="164756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虚尾箭头 7"/>
          <p:cNvSpPr/>
          <p:nvPr/>
        </p:nvSpPr>
        <p:spPr>
          <a:xfrm rot="10800000">
            <a:off x="8286840" y="6286680"/>
            <a:ext cx="357120" cy="380880"/>
          </a:xfrm>
          <a:custGeom>
            <a:avLst/>
            <a:gdLst/>
            <a:ahLst/>
            <a:rect l="l" t="t" r="r" b="b"/>
            <a:pathLst>
              <a:path w="357187" h="381000">
                <a:moveTo>
                  <a:pt x="0" y="95250"/>
                </a:moveTo>
                <a:lnTo>
                  <a:pt x="11162" y="95250"/>
                </a:lnTo>
                <a:lnTo>
                  <a:pt x="11162" y="285750"/>
                </a:lnTo>
                <a:lnTo>
                  <a:pt x="0" y="285750"/>
                </a:lnTo>
                <a:close/>
                <a:moveTo>
                  <a:pt x="22324" y="95250"/>
                </a:moveTo>
                <a:lnTo>
                  <a:pt x="44648" y="95250"/>
                </a:lnTo>
                <a:lnTo>
                  <a:pt x="44648" y="285750"/>
                </a:lnTo>
                <a:lnTo>
                  <a:pt x="22324" y="285750"/>
                </a:lnTo>
                <a:close/>
                <a:moveTo>
                  <a:pt x="55810" y="95250"/>
                </a:moveTo>
                <a:lnTo>
                  <a:pt x="178593" y="95250"/>
                </a:lnTo>
                <a:lnTo>
                  <a:pt x="178593" y="0"/>
                </a:lnTo>
                <a:lnTo>
                  <a:pt x="357187" y="190500"/>
                </a:lnTo>
                <a:lnTo>
                  <a:pt x="178593" y="381000"/>
                </a:lnTo>
                <a:lnTo>
                  <a:pt x="178593" y="285750"/>
                </a:lnTo>
                <a:lnTo>
                  <a:pt x="55810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TextBox 8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271440"/>
          </a:xfrm>
          <a:prstGeom prst="rect">
            <a:avLst/>
          </a:prstGeom>
          <a:ln w="0">
            <a:noFill/>
          </a:ln>
        </p:spPr>
      </p:pic>
      <p:sp>
        <p:nvSpPr>
          <p:cNvPr id="282" name="直接连接符 10"/>
          <p:cNvSpPr/>
          <p:nvPr/>
        </p:nvSpPr>
        <p:spPr>
          <a:xfrm>
            <a:off x="0" y="6500880"/>
            <a:ext cx="9144000" cy="0"/>
          </a:xfrm>
          <a:prstGeom prst="line">
            <a:avLst/>
          </a:prstGeom>
          <a:ln w="38160">
            <a:solidFill>
              <a:srgbClr val="00acf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虚尾箭头 10"/>
          <p:cNvSpPr/>
          <p:nvPr/>
        </p:nvSpPr>
        <p:spPr>
          <a:xfrm rot="10800000">
            <a:off x="78868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52400" y="95250"/>
                </a:lnTo>
                <a:lnTo>
                  <a:pt x="152400" y="0"/>
                </a:lnTo>
                <a:lnTo>
                  <a:pt x="304800" y="190500"/>
                </a:lnTo>
                <a:lnTo>
                  <a:pt x="152400" y="381000"/>
                </a:lnTo>
                <a:lnTo>
                  <a:pt x="152400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虚尾箭头 11"/>
          <p:cNvSpPr/>
          <p:nvPr/>
        </p:nvSpPr>
        <p:spPr>
          <a:xfrm rot="10800000">
            <a:off x="69724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52400" y="95250"/>
                </a:lnTo>
                <a:lnTo>
                  <a:pt x="152400" y="0"/>
                </a:lnTo>
                <a:lnTo>
                  <a:pt x="304800" y="190500"/>
                </a:lnTo>
                <a:lnTo>
                  <a:pt x="152400" y="381000"/>
                </a:lnTo>
                <a:lnTo>
                  <a:pt x="152400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虚尾箭头 12"/>
          <p:cNvSpPr/>
          <p:nvPr/>
        </p:nvSpPr>
        <p:spPr>
          <a:xfrm rot="10800000">
            <a:off x="65152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52400" y="95250"/>
                </a:lnTo>
                <a:lnTo>
                  <a:pt x="152400" y="0"/>
                </a:lnTo>
                <a:lnTo>
                  <a:pt x="304800" y="190500"/>
                </a:lnTo>
                <a:lnTo>
                  <a:pt x="152400" y="381000"/>
                </a:lnTo>
                <a:lnTo>
                  <a:pt x="152400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虚尾箭头 13"/>
          <p:cNvSpPr/>
          <p:nvPr/>
        </p:nvSpPr>
        <p:spPr>
          <a:xfrm rot="10800000">
            <a:off x="74296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64756" y="95250"/>
                </a:lnTo>
                <a:lnTo>
                  <a:pt x="164756" y="0"/>
                </a:lnTo>
                <a:lnTo>
                  <a:pt x="304800" y="190500"/>
                </a:lnTo>
                <a:lnTo>
                  <a:pt x="164756" y="381000"/>
                </a:lnTo>
                <a:lnTo>
                  <a:pt x="164756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虚尾箭头 14"/>
          <p:cNvSpPr/>
          <p:nvPr/>
        </p:nvSpPr>
        <p:spPr>
          <a:xfrm rot="10800000">
            <a:off x="8286840" y="6286680"/>
            <a:ext cx="357120" cy="380880"/>
          </a:xfrm>
          <a:custGeom>
            <a:avLst/>
            <a:gdLst/>
            <a:ahLst/>
            <a:rect l="l" t="t" r="r" b="b"/>
            <a:pathLst>
              <a:path w="357187" h="381000">
                <a:moveTo>
                  <a:pt x="0" y="95250"/>
                </a:moveTo>
                <a:lnTo>
                  <a:pt x="11162" y="95250"/>
                </a:lnTo>
                <a:lnTo>
                  <a:pt x="11162" y="285750"/>
                </a:lnTo>
                <a:lnTo>
                  <a:pt x="0" y="285750"/>
                </a:lnTo>
                <a:close/>
                <a:moveTo>
                  <a:pt x="22324" y="95250"/>
                </a:moveTo>
                <a:lnTo>
                  <a:pt x="44648" y="95250"/>
                </a:lnTo>
                <a:lnTo>
                  <a:pt x="44648" y="285750"/>
                </a:lnTo>
                <a:lnTo>
                  <a:pt x="22324" y="285750"/>
                </a:lnTo>
                <a:close/>
                <a:moveTo>
                  <a:pt x="55810" y="95250"/>
                </a:moveTo>
                <a:lnTo>
                  <a:pt x="178593" y="95250"/>
                </a:lnTo>
                <a:lnTo>
                  <a:pt x="178593" y="0"/>
                </a:lnTo>
                <a:lnTo>
                  <a:pt x="357187" y="190500"/>
                </a:lnTo>
                <a:lnTo>
                  <a:pt x="178593" y="381000"/>
                </a:lnTo>
                <a:lnTo>
                  <a:pt x="178593" y="285750"/>
                </a:lnTo>
                <a:lnTo>
                  <a:pt x="55810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TextBox 15" descr=""/>
          <p:cNvPicPr/>
          <p:nvPr/>
        </p:nvPicPr>
        <p:blipFill>
          <a:blip r:embed="rId3"/>
          <a:stretch/>
        </p:blipFill>
        <p:spPr>
          <a:xfrm>
            <a:off x="-4680" y="-4680"/>
            <a:ext cx="9153360" cy="271440"/>
          </a:xfrm>
          <a:prstGeom prst="rect">
            <a:avLst/>
          </a:prstGeom>
          <a:ln w="0">
            <a:noFill/>
          </a:ln>
        </p:spPr>
      </p:pic>
      <p:sp>
        <p:nvSpPr>
          <p:cNvPr id="289" name="直接连接符 10"/>
          <p:cNvSpPr/>
          <p:nvPr/>
        </p:nvSpPr>
        <p:spPr>
          <a:xfrm>
            <a:off x="0" y="6500880"/>
            <a:ext cx="9144000" cy="0"/>
          </a:xfrm>
          <a:prstGeom prst="line">
            <a:avLst/>
          </a:prstGeom>
          <a:ln w="38160">
            <a:solidFill>
              <a:srgbClr val="00acf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虚尾箭头 17"/>
          <p:cNvSpPr/>
          <p:nvPr/>
        </p:nvSpPr>
        <p:spPr>
          <a:xfrm rot="10800000">
            <a:off x="78868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52400" y="95250"/>
                </a:lnTo>
                <a:lnTo>
                  <a:pt x="152400" y="0"/>
                </a:lnTo>
                <a:lnTo>
                  <a:pt x="304800" y="190500"/>
                </a:lnTo>
                <a:lnTo>
                  <a:pt x="152400" y="381000"/>
                </a:lnTo>
                <a:lnTo>
                  <a:pt x="152400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虚尾箭头 18"/>
          <p:cNvSpPr/>
          <p:nvPr/>
        </p:nvSpPr>
        <p:spPr>
          <a:xfrm rot="10800000">
            <a:off x="69724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52400" y="95250"/>
                </a:lnTo>
                <a:lnTo>
                  <a:pt x="152400" y="0"/>
                </a:lnTo>
                <a:lnTo>
                  <a:pt x="304800" y="190500"/>
                </a:lnTo>
                <a:lnTo>
                  <a:pt x="152400" y="381000"/>
                </a:lnTo>
                <a:lnTo>
                  <a:pt x="152400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虚尾箭头 19"/>
          <p:cNvSpPr/>
          <p:nvPr/>
        </p:nvSpPr>
        <p:spPr>
          <a:xfrm rot="10800000">
            <a:off x="65152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52400" y="95250"/>
                </a:lnTo>
                <a:lnTo>
                  <a:pt x="152400" y="0"/>
                </a:lnTo>
                <a:lnTo>
                  <a:pt x="304800" y="190500"/>
                </a:lnTo>
                <a:lnTo>
                  <a:pt x="152400" y="381000"/>
                </a:lnTo>
                <a:lnTo>
                  <a:pt x="152400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虚尾箭头 20"/>
          <p:cNvSpPr/>
          <p:nvPr/>
        </p:nvSpPr>
        <p:spPr>
          <a:xfrm rot="10800000">
            <a:off x="7429680" y="6286680"/>
            <a:ext cx="30456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0" y="95250"/>
                </a:moveTo>
                <a:lnTo>
                  <a:pt x="9525" y="95250"/>
                </a:lnTo>
                <a:lnTo>
                  <a:pt x="9525" y="285750"/>
                </a:lnTo>
                <a:lnTo>
                  <a:pt x="0" y="285750"/>
                </a:lnTo>
                <a:close/>
                <a:moveTo>
                  <a:pt x="19050" y="95250"/>
                </a:moveTo>
                <a:lnTo>
                  <a:pt x="38100" y="95250"/>
                </a:lnTo>
                <a:lnTo>
                  <a:pt x="38100" y="285750"/>
                </a:lnTo>
                <a:lnTo>
                  <a:pt x="19050" y="285750"/>
                </a:lnTo>
                <a:close/>
                <a:moveTo>
                  <a:pt x="47625" y="95250"/>
                </a:moveTo>
                <a:lnTo>
                  <a:pt x="164756" y="95250"/>
                </a:lnTo>
                <a:lnTo>
                  <a:pt x="164756" y="0"/>
                </a:lnTo>
                <a:lnTo>
                  <a:pt x="304800" y="190500"/>
                </a:lnTo>
                <a:lnTo>
                  <a:pt x="164756" y="381000"/>
                </a:lnTo>
                <a:lnTo>
                  <a:pt x="164756" y="285750"/>
                </a:lnTo>
                <a:lnTo>
                  <a:pt x="47625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虚尾箭头 21"/>
          <p:cNvSpPr/>
          <p:nvPr/>
        </p:nvSpPr>
        <p:spPr>
          <a:xfrm rot="10800000">
            <a:off x="8286840" y="6286680"/>
            <a:ext cx="357120" cy="380880"/>
          </a:xfrm>
          <a:custGeom>
            <a:avLst/>
            <a:gdLst/>
            <a:ahLst/>
            <a:rect l="l" t="t" r="r" b="b"/>
            <a:pathLst>
              <a:path w="357187" h="381000">
                <a:moveTo>
                  <a:pt x="0" y="95250"/>
                </a:moveTo>
                <a:lnTo>
                  <a:pt x="11162" y="95250"/>
                </a:lnTo>
                <a:lnTo>
                  <a:pt x="11162" y="285750"/>
                </a:lnTo>
                <a:lnTo>
                  <a:pt x="0" y="285750"/>
                </a:lnTo>
                <a:close/>
                <a:moveTo>
                  <a:pt x="22324" y="95250"/>
                </a:moveTo>
                <a:lnTo>
                  <a:pt x="44648" y="95250"/>
                </a:lnTo>
                <a:lnTo>
                  <a:pt x="44648" y="285750"/>
                </a:lnTo>
                <a:lnTo>
                  <a:pt x="22324" y="285750"/>
                </a:lnTo>
                <a:close/>
                <a:moveTo>
                  <a:pt x="55810" y="95250"/>
                </a:moveTo>
                <a:lnTo>
                  <a:pt x="178593" y="95250"/>
                </a:lnTo>
                <a:lnTo>
                  <a:pt x="178593" y="0"/>
                </a:lnTo>
                <a:lnTo>
                  <a:pt x="357187" y="190500"/>
                </a:lnTo>
                <a:lnTo>
                  <a:pt x="178593" y="381000"/>
                </a:lnTo>
                <a:lnTo>
                  <a:pt x="178593" y="285750"/>
                </a:lnTo>
                <a:lnTo>
                  <a:pt x="55810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内容占位符 1"/>
          <p:cNvSpPr/>
          <p:nvPr/>
        </p:nvSpPr>
        <p:spPr>
          <a:xfrm>
            <a:off x="366840" y="1724040"/>
            <a:ext cx="5186160" cy="947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22400" indent="-9144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长风破浪会有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3510000" y="3867120"/>
            <a:ext cx="5500800" cy="91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直挂云帆济沧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"/>
          <p:cNvSpPr/>
          <p:nvPr/>
        </p:nvSpPr>
        <p:spPr>
          <a:xfrm>
            <a:off x="152280" y="581040"/>
            <a:ext cx="9144000" cy="0"/>
          </a:xfrm>
          <a:prstGeom prst="line">
            <a:avLst/>
          </a:prstGeom>
          <a:ln w="38160">
            <a:solidFill>
              <a:srgbClr val="00acf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虚尾箭头 25"/>
          <p:cNvSpPr/>
          <p:nvPr/>
        </p:nvSpPr>
        <p:spPr>
          <a:xfrm>
            <a:off x="1514520" y="366840"/>
            <a:ext cx="357120" cy="380880"/>
          </a:xfrm>
          <a:custGeom>
            <a:avLst/>
            <a:gdLst/>
            <a:ahLst/>
            <a:rect l="l" t="t" r="r" b="b"/>
            <a:pathLst>
              <a:path w="357187" h="381000">
                <a:moveTo>
                  <a:pt x="0" y="95250"/>
                </a:moveTo>
                <a:lnTo>
                  <a:pt x="11162" y="95250"/>
                </a:lnTo>
                <a:lnTo>
                  <a:pt x="11162" y="285750"/>
                </a:lnTo>
                <a:lnTo>
                  <a:pt x="0" y="285750"/>
                </a:lnTo>
                <a:close/>
                <a:moveTo>
                  <a:pt x="22324" y="95250"/>
                </a:moveTo>
                <a:lnTo>
                  <a:pt x="44648" y="95250"/>
                </a:lnTo>
                <a:lnTo>
                  <a:pt x="44648" y="285750"/>
                </a:lnTo>
                <a:lnTo>
                  <a:pt x="22324" y="285750"/>
                </a:lnTo>
                <a:close/>
                <a:moveTo>
                  <a:pt x="55810" y="95250"/>
                </a:moveTo>
                <a:lnTo>
                  <a:pt x="178593" y="95250"/>
                </a:lnTo>
                <a:lnTo>
                  <a:pt x="178593" y="0"/>
                </a:lnTo>
                <a:lnTo>
                  <a:pt x="357187" y="190500"/>
                </a:lnTo>
                <a:lnTo>
                  <a:pt x="178593" y="381000"/>
                </a:lnTo>
                <a:lnTo>
                  <a:pt x="178593" y="285750"/>
                </a:lnTo>
                <a:lnTo>
                  <a:pt x="55810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虚尾箭头 26"/>
          <p:cNvSpPr/>
          <p:nvPr/>
        </p:nvSpPr>
        <p:spPr>
          <a:xfrm>
            <a:off x="528480" y="390600"/>
            <a:ext cx="357480" cy="380880"/>
          </a:xfrm>
          <a:custGeom>
            <a:avLst/>
            <a:gdLst/>
            <a:ahLst/>
            <a:rect l="l" t="t" r="r" b="b"/>
            <a:pathLst>
              <a:path w="357187" h="381000">
                <a:moveTo>
                  <a:pt x="0" y="95250"/>
                </a:moveTo>
                <a:lnTo>
                  <a:pt x="11162" y="95250"/>
                </a:lnTo>
                <a:lnTo>
                  <a:pt x="11162" y="285750"/>
                </a:lnTo>
                <a:lnTo>
                  <a:pt x="0" y="285750"/>
                </a:lnTo>
                <a:close/>
                <a:moveTo>
                  <a:pt x="22324" y="95250"/>
                </a:moveTo>
                <a:lnTo>
                  <a:pt x="44648" y="95250"/>
                </a:lnTo>
                <a:lnTo>
                  <a:pt x="44648" y="285750"/>
                </a:lnTo>
                <a:lnTo>
                  <a:pt x="22324" y="285750"/>
                </a:lnTo>
                <a:close/>
                <a:moveTo>
                  <a:pt x="55810" y="95250"/>
                </a:moveTo>
                <a:lnTo>
                  <a:pt x="178593" y="95250"/>
                </a:lnTo>
                <a:lnTo>
                  <a:pt x="178593" y="0"/>
                </a:lnTo>
                <a:lnTo>
                  <a:pt x="357187" y="190500"/>
                </a:lnTo>
                <a:lnTo>
                  <a:pt x="178593" y="381000"/>
                </a:lnTo>
                <a:lnTo>
                  <a:pt x="178593" y="285750"/>
                </a:lnTo>
                <a:lnTo>
                  <a:pt x="55810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虚尾箭头 27"/>
          <p:cNvSpPr/>
          <p:nvPr/>
        </p:nvSpPr>
        <p:spPr>
          <a:xfrm>
            <a:off x="1009800" y="366840"/>
            <a:ext cx="357120" cy="380880"/>
          </a:xfrm>
          <a:custGeom>
            <a:avLst/>
            <a:gdLst/>
            <a:ahLst/>
            <a:rect l="l" t="t" r="r" b="b"/>
            <a:pathLst>
              <a:path w="357187" h="381000">
                <a:moveTo>
                  <a:pt x="0" y="95250"/>
                </a:moveTo>
                <a:lnTo>
                  <a:pt x="11162" y="95250"/>
                </a:lnTo>
                <a:lnTo>
                  <a:pt x="11162" y="285750"/>
                </a:lnTo>
                <a:lnTo>
                  <a:pt x="0" y="285750"/>
                </a:lnTo>
                <a:close/>
                <a:moveTo>
                  <a:pt x="22324" y="95250"/>
                </a:moveTo>
                <a:lnTo>
                  <a:pt x="44648" y="95250"/>
                </a:lnTo>
                <a:lnTo>
                  <a:pt x="44648" y="285750"/>
                </a:lnTo>
                <a:lnTo>
                  <a:pt x="22324" y="285750"/>
                </a:lnTo>
                <a:close/>
                <a:moveTo>
                  <a:pt x="55810" y="95250"/>
                </a:moveTo>
                <a:lnTo>
                  <a:pt x="178593" y="95250"/>
                </a:lnTo>
                <a:lnTo>
                  <a:pt x="178593" y="0"/>
                </a:lnTo>
                <a:lnTo>
                  <a:pt x="357187" y="190500"/>
                </a:lnTo>
                <a:lnTo>
                  <a:pt x="178593" y="381000"/>
                </a:lnTo>
                <a:lnTo>
                  <a:pt x="178593" y="285750"/>
                </a:lnTo>
                <a:lnTo>
                  <a:pt x="55810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虚尾箭头 28"/>
          <p:cNvSpPr/>
          <p:nvPr/>
        </p:nvSpPr>
        <p:spPr>
          <a:xfrm>
            <a:off x="2509920" y="366840"/>
            <a:ext cx="357120" cy="380880"/>
          </a:xfrm>
          <a:custGeom>
            <a:avLst/>
            <a:gdLst/>
            <a:ahLst/>
            <a:rect l="l" t="t" r="r" b="b"/>
            <a:pathLst>
              <a:path w="357187" h="381000">
                <a:moveTo>
                  <a:pt x="0" y="95250"/>
                </a:moveTo>
                <a:lnTo>
                  <a:pt x="11162" y="95250"/>
                </a:lnTo>
                <a:lnTo>
                  <a:pt x="11162" y="285750"/>
                </a:lnTo>
                <a:lnTo>
                  <a:pt x="0" y="285750"/>
                </a:lnTo>
                <a:close/>
                <a:moveTo>
                  <a:pt x="22324" y="95250"/>
                </a:moveTo>
                <a:lnTo>
                  <a:pt x="44648" y="95250"/>
                </a:lnTo>
                <a:lnTo>
                  <a:pt x="44648" y="285750"/>
                </a:lnTo>
                <a:lnTo>
                  <a:pt x="22324" y="285750"/>
                </a:lnTo>
                <a:close/>
                <a:moveTo>
                  <a:pt x="55810" y="95250"/>
                </a:moveTo>
                <a:lnTo>
                  <a:pt x="178593" y="95250"/>
                </a:lnTo>
                <a:lnTo>
                  <a:pt x="178593" y="0"/>
                </a:lnTo>
                <a:lnTo>
                  <a:pt x="357187" y="190500"/>
                </a:lnTo>
                <a:lnTo>
                  <a:pt x="178593" y="381000"/>
                </a:lnTo>
                <a:lnTo>
                  <a:pt x="178593" y="285750"/>
                </a:lnTo>
                <a:lnTo>
                  <a:pt x="55810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虚尾箭头 29"/>
          <p:cNvSpPr/>
          <p:nvPr/>
        </p:nvSpPr>
        <p:spPr>
          <a:xfrm>
            <a:off x="2009880" y="366840"/>
            <a:ext cx="357120" cy="380880"/>
          </a:xfrm>
          <a:custGeom>
            <a:avLst/>
            <a:gdLst/>
            <a:ahLst/>
            <a:rect l="l" t="t" r="r" b="b"/>
            <a:pathLst>
              <a:path w="357187" h="381000">
                <a:moveTo>
                  <a:pt x="0" y="95250"/>
                </a:moveTo>
                <a:lnTo>
                  <a:pt x="11162" y="95250"/>
                </a:lnTo>
                <a:lnTo>
                  <a:pt x="11162" y="285750"/>
                </a:lnTo>
                <a:lnTo>
                  <a:pt x="0" y="285750"/>
                </a:lnTo>
                <a:close/>
                <a:moveTo>
                  <a:pt x="22324" y="95250"/>
                </a:moveTo>
                <a:lnTo>
                  <a:pt x="44648" y="95250"/>
                </a:lnTo>
                <a:lnTo>
                  <a:pt x="44648" y="285750"/>
                </a:lnTo>
                <a:lnTo>
                  <a:pt x="22324" y="285750"/>
                </a:lnTo>
                <a:close/>
                <a:moveTo>
                  <a:pt x="55810" y="95250"/>
                </a:moveTo>
                <a:lnTo>
                  <a:pt x="178593" y="95250"/>
                </a:lnTo>
                <a:lnTo>
                  <a:pt x="178593" y="0"/>
                </a:lnTo>
                <a:lnTo>
                  <a:pt x="357187" y="190500"/>
                </a:lnTo>
                <a:lnTo>
                  <a:pt x="178593" y="381000"/>
                </a:lnTo>
                <a:lnTo>
                  <a:pt x="178593" y="285750"/>
                </a:lnTo>
                <a:lnTo>
                  <a:pt x="55810" y="2857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内容占位符 2"/>
          <p:cNvSpPr/>
          <p:nvPr/>
        </p:nvSpPr>
        <p:spPr>
          <a:xfrm>
            <a:off x="142920" y="4221000"/>
            <a:ext cx="860724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G:\八年级地理教学案上、下\第9章 教学案与课件\u=502534512,2880132253&amp;fm=23&amp;gp=0.jpg"/>
          <p:cNvPicPr/>
          <p:nvPr/>
        </p:nvPicPr>
        <p:blipFill>
          <a:blip r:embed="rId1"/>
          <a:stretch/>
        </p:blipFill>
        <p:spPr>
          <a:xfrm>
            <a:off x="228600" y="1828800"/>
            <a:ext cx="8344080" cy="4767120"/>
          </a:xfrm>
          <a:prstGeom prst="rect">
            <a:avLst/>
          </a:prstGeom>
          <a:ln w="0">
            <a:noFill/>
          </a:ln>
        </p:spPr>
      </p:pic>
      <p:sp>
        <p:nvSpPr>
          <p:cNvPr id="140" name="矩形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1956</a:t>
            </a:r>
            <a:r>
              <a:rPr b="0" lang="zh-CN" sz="44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年，</a:t>
            </a:r>
            <a:r>
              <a:rPr b="1" lang="zh-CN" sz="44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中国第一辆国产</a:t>
            </a:r>
            <a:r>
              <a:rPr b="1" lang="zh-CN" sz="4400" spc="-1" strike="noStrike">
                <a:solidFill>
                  <a:srgbClr val="ff0000"/>
                </a:solidFill>
                <a:latin typeface="叶根友毛笔行书2.0版"/>
                <a:ea typeface="叶根友毛笔行书2.0版"/>
              </a:rPr>
              <a:t>汽车</a:t>
            </a:r>
            <a:r>
              <a:rPr b="1" lang="zh-CN" sz="44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诞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1523880" y="11430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长春第一汽车制造厂生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口答题：它是哪个汽车制造厂生产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G:\八年级地理教学案上、下\第9章 教学案与课件\u=84213746,2906829349&amp;fm=23&amp;gp=0.jpg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5429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214200" y="57862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1956</a:t>
            </a:r>
            <a:r>
              <a:rPr b="1" lang="zh-CN" sz="36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年，中国试制成功第一批喷气式</a:t>
            </a:r>
            <a:r>
              <a:rPr b="1" lang="zh-CN" sz="3600" spc="-1" strike="noStrike">
                <a:solidFill>
                  <a:srgbClr val="ff0000"/>
                </a:solidFill>
                <a:latin typeface="叶根友毛笔行书2.0版"/>
                <a:ea typeface="叶根友毛笔行书2.0版"/>
              </a:rPr>
              <a:t>飞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:\八年级地理教学案上、下\第9章 教学案与课件\南京长江大桥.jpg"/>
          <p:cNvPicPr/>
          <p:nvPr/>
        </p:nvPicPr>
        <p:blipFill>
          <a:blip r:embed="rId1"/>
          <a:stretch/>
        </p:blipFill>
        <p:spPr>
          <a:xfrm>
            <a:off x="0" y="0"/>
            <a:ext cx="9001080" cy="5562720"/>
          </a:xfrm>
          <a:prstGeom prst="rect">
            <a:avLst/>
          </a:prstGeom>
          <a:ln w="0">
            <a:noFill/>
          </a:ln>
        </p:spPr>
      </p:pic>
      <p:sp>
        <p:nvSpPr>
          <p:cNvPr id="146" name="矩形 3"/>
          <p:cNvSpPr/>
          <p:nvPr/>
        </p:nvSpPr>
        <p:spPr>
          <a:xfrm>
            <a:off x="838080" y="56386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1957</a:t>
            </a:r>
            <a:r>
              <a:rPr b="1" lang="zh-CN" sz="44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年，武汉长江大桥建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ldyxgc"/>
          <p:cNvPicPr/>
          <p:nvPr/>
        </p:nvPicPr>
        <p:blipFill>
          <a:blip r:embed="rId1"/>
          <a:stretch/>
        </p:blipFill>
        <p:spPr>
          <a:xfrm>
            <a:off x="228600" y="990720"/>
            <a:ext cx="4788000" cy="5562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952880" y="12952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迷你简隶书"/>
                <a:ea typeface="迷你简隶书"/>
              </a:rPr>
              <a:t>1964</a:t>
            </a:r>
            <a:r>
              <a:rPr b="1" lang="zh-CN" sz="3200" spc="-1" strike="noStrike">
                <a:solidFill>
                  <a:srgbClr val="002060"/>
                </a:solidFill>
                <a:latin typeface="迷你简隶书"/>
                <a:ea typeface="迷你简隶书"/>
              </a:rPr>
              <a:t>年我国第一颗</a:t>
            </a:r>
            <a:r>
              <a:rPr b="1" lang="zh-CN" sz="32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原子弹</a:t>
            </a:r>
            <a:r>
              <a:rPr b="1" lang="zh-CN" sz="3200" spc="-1" strike="noStrike">
                <a:solidFill>
                  <a:srgbClr val="002060"/>
                </a:solidFill>
                <a:latin typeface="迷你简隶书"/>
                <a:ea typeface="迷你简隶书"/>
              </a:rPr>
              <a:t>爆炸成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952880" y="26668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迷你简隶书"/>
                <a:ea typeface="迷你简隶书"/>
              </a:rPr>
              <a:t>1967</a:t>
            </a:r>
            <a:r>
              <a:rPr b="1" lang="zh-CN" sz="3200" spc="-1" strike="noStrike">
                <a:solidFill>
                  <a:srgbClr val="002060"/>
                </a:solidFill>
                <a:latin typeface="迷你简隶书"/>
                <a:ea typeface="迷你简隶书"/>
              </a:rPr>
              <a:t>年我国第一颗</a:t>
            </a:r>
            <a:r>
              <a:rPr b="1" lang="zh-CN" sz="32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氢弹</a:t>
            </a:r>
            <a:r>
              <a:rPr b="1" lang="zh-CN" sz="3200" spc="-1" strike="noStrike">
                <a:solidFill>
                  <a:srgbClr val="002060"/>
                </a:solidFill>
                <a:latin typeface="迷你简隶书"/>
                <a:ea typeface="迷你简隶书"/>
              </a:rPr>
              <a:t>空爆试验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029200" y="41911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迷你简隶书"/>
                <a:ea typeface="迷你简隶书"/>
              </a:rPr>
              <a:t>1970</a:t>
            </a:r>
            <a:r>
              <a:rPr b="1" lang="zh-CN" sz="3200" spc="-1" strike="noStrike">
                <a:solidFill>
                  <a:srgbClr val="002060"/>
                </a:solidFill>
                <a:latin typeface="迷你简隶书"/>
                <a:ea typeface="迷你简隶书"/>
              </a:rPr>
              <a:t>年我国</a:t>
            </a:r>
            <a:r>
              <a:rPr b="1" lang="zh-CN" sz="32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第一颗人造卫星</a:t>
            </a:r>
            <a:r>
              <a:rPr b="1" lang="zh-CN" sz="3200" spc="-1" strike="noStrike">
                <a:solidFill>
                  <a:srgbClr val="002060"/>
                </a:solidFill>
                <a:latin typeface="迷你简隶书"/>
                <a:ea typeface="迷你简隶书"/>
              </a:rPr>
              <a:t>发射成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228600" y="0"/>
            <a:ext cx="693432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一、举世瞩目的发展成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40206092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89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G:\八年级地理教学案上、下\第9章 教学案与课件\深圳建设景观.jpg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35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C:\Users\Administrator\Desktop\a71fd72395ab2371ac34de10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sp>
        <p:nvSpPr>
          <p:cNvPr id="155" name="矩形 4"/>
          <p:cNvSpPr/>
          <p:nvPr/>
        </p:nvSpPr>
        <p:spPr>
          <a:xfrm>
            <a:off x="0" y="152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改革开放前的深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"/>
          <p:cNvSpPr/>
          <p:nvPr/>
        </p:nvSpPr>
        <p:spPr>
          <a:xfrm>
            <a:off x="6705720" y="152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现在的深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158" name="矩形 6"/>
          <p:cNvSpPr/>
          <p:nvPr/>
        </p:nvSpPr>
        <p:spPr>
          <a:xfrm>
            <a:off x="228600" y="0"/>
            <a:ext cx="685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迷你简隶书"/>
                <a:ea typeface="迷你简隶书"/>
              </a:rPr>
              <a:t>一、举世瞩目的发展成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0:55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23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