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type.wav" ContentType="audio/x-wav"/>
  <Override PartName="/ppt/media/image5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200-45C1-401B-9CAC-F926757F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9CD-5219-425B-8B3B-E21CC38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8DF9-A2DD-48E0-93E5-16EE6098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065D9-97F9-4D6B-85DC-8A9649F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5038-7F98-4BDF-9272-E1C19A95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40EA5-D1ED-4DE2-AD12-69E858B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3C533-399F-484E-88DF-0A05625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865E-7DB3-458F-B697-D88C5DD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06495-1F36-4118-BA3B-DD7DE2E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4FA4C-E9AE-4196-9271-7492124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6FFF0-E2D3-4ADF-BDE1-DC8F710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83DE2-E028-4C9C-9889-C90C9272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A2A-F555-4180-86B9-82C21B06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CF79-A29D-4CD5-B846-FA3388FA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C42DD-0EB0-4B33-9A09-376A758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F89EB-8EC2-404F-B236-49F49E0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6C3C-540A-4A6E-B19F-1F3D245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981CC-BCA7-49D1-8D02-F721BA4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F031-853C-4CED-B0A4-3DED7EB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4683C-96EE-438C-A4F5-E2C3DE22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5265-CD15-45D8-B7C7-B915EB6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86D6C-AB5F-4A1F-A9FE-6F4E36F7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059CA-ADD0-4685-BD27-7BE00808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713-4AD7-49F6-A057-87253A66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2C7CD-470E-49B2-ABB1-85128EC6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0AA7-9385-4120-8A2F-0100A649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A8E-BEA6-4AD0-AC96-E1E2D68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2127-E24C-4A7F-9ADD-727A14A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B2B-6BD1-4290-B14E-84997B44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B3E2-8610-422C-9AB1-240BF6B8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5F92-B377-4C7D-988D-A5EA29CA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0409-7D24-48D0-AF76-D4B84DAA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BE4-6BA0-481D-9590-A6EECAF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58E-16EB-4437-B731-C3D5912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E39-C42E-4B76-A79E-40AA2158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A834-E7CE-4BF0-817C-3F6C0A93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D48-EBA0-4A49-9777-D9EA96D4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E67-87C9-43D7-9D71-BC41A66E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EB80-C1A9-4EC1-84A5-49E79EA3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B3A3-EFBD-453B-8C58-DC60997D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C3A9-EDFA-4ED2-A419-5BBB9A9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1CE9-4D13-414A-9EEE-11411E15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8E5B-45BD-4270-9701-140AB82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AF6-7682-4AA5-9BFF-AC1E197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DF0E-15F6-4A31-9D37-B2233F6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E3FF-0257-46E4-93AC-2465590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EADE-CC6F-47D6-BEAD-5F81BAC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D6B8-BD6A-40F0-818E-5CEC73E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3A51-3E04-4AB5-BA20-E9B4EBB5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F447-E12B-49FF-805C-0DAA64A7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3AFE-73C8-4216-8B8B-4197DFE9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D28D-DDC4-46B7-8EAD-A702839F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8116-8E25-46E1-B62E-91A3580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3DCB-AF2E-4B92-AC01-24BBFCB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846-0E54-4E38-862B-2FF9E6C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AE75-27F9-4EDF-9C36-0812441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EAA2-9F99-4B77-BF54-30BB6EA9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25E8-2773-4A31-A508-4370F53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B4DB-804E-4380-8184-F9C7CAE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02F6-9863-47E6-BA65-E765669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BB46-A9B0-467A-85A2-9BFAC79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316C-4913-459C-B3E2-E91A596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86B0-9AEC-486C-855A-8D54587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0420-6986-458D-9F54-C17633A2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EA4A-3295-4405-BD3A-99F0A2F5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433-FA8D-4889-AA47-3446ABC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3AD8-8CC4-4FD7-87FD-2895F7F4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0AE3-F5DE-4F6E-80EC-9DB59F7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A7A8-5626-4667-AE87-7A395C22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6CC95-AF55-4570-B367-44E10BE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55A9-5551-4F06-A6EA-244F20C0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9250-AB17-4BB3-9D8F-EAB4BF2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2088-4FCD-493E-885B-3D048653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4595-74F3-4EA1-90A0-12A187C2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11D0-8653-4AAE-BE31-4A58AB39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8B34-C14F-42FA-9196-8615A25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A69-BC4A-4B98-B52F-2CE5F32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6FE7-E22E-4688-85B5-3A5C5498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370D-213C-40D5-A886-0733BF12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E443-7D29-48FC-A95B-DD73DE53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EC7AA-6139-422A-BECA-2D4EAAB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8FAE-C81E-498B-BE4A-3DFD9A1D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C9DEB-13AF-499D-A905-D5A5835C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6D76-06E2-4A61-965C-051AF77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3DB15-64CA-4464-97CE-9EAFC8F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0B3A-454C-4462-A7F6-B3097F8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5E95-72EF-428F-B71C-817D00A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203-7CD5-4B27-A5E1-9F8BEC4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B523-1C0A-4A15-9283-A72F92D5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0521-A879-46D0-B57D-5DAAFBAE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2FAA-CD22-400E-8F31-5AB66AC2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DA3A-7A95-4F08-ADE7-91CC62AD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A936-E19C-4CF5-A8C2-0185A93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59E25-1B77-49C4-A133-D2B98FC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54AD-FC2C-45F2-8D47-8B08059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0259-E9B9-4A98-A4F1-2224A976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B904-CCC7-4005-AEDC-AF6F282C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7EC9-F93B-4275-A9B4-808067D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4E1-7B2F-47D6-9670-6B0AC56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2A8C-B3C1-47FB-9367-FCA37E1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5DE1-F857-4188-8D94-6C10022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B77AD-4193-4288-AE9C-00F07FE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4469-86FB-4DC6-958F-370EAFA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F734A-12D8-41DA-A4F9-271B2198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7308-C394-4B18-95D0-9C8C89F7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FE450-19EB-47F8-810C-290D3A9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A859-D582-42B7-931A-6F6330E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8390-6D13-4344-8B12-2009F10B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EA1D-3796-4752-8BC8-3C1331F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939-C160-4087-967C-FF2FD7D8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2E52-F41F-4495-B138-D0AC7289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1654B-2FF4-4648-B8F1-8B607CE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FA58-D93E-45A5-8BAF-6343A19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ABEE-AD09-47F4-918F-57315C5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5A7E-FDAB-4698-AFC4-0E76F63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7C7B-8FD5-45AD-8B59-5C2DFBF7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05E03-3330-4E30-82B9-FA1B6A2D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D2B78-2179-41D8-A8C7-7A627594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D59B-E823-44E4-BB36-932872D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B83CA-4FB5-41A1-BF7A-03CF372E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247-9473-44FD-BE5F-94FF9261E4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845-0DC6-43CF-A15D-E14B7D9A39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5350-5047-4334-B714-85CB1A8A7E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C87-451C-45A5-BFE4-CC80D3D972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311-B9C0-4081-ADB6-26C939590A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3AE-4F51-4D0C-B33A-62D17FD78D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2FE0-CA23-49E9-9E8E-DBE154E68E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29C-F043-4E3D-A459-79814B3346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7280-4C39-48A8-AA1A-90BF99EDA7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805-58BB-4812-B366-FA79ADACC2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298520" y="2548080"/>
            <a:ext cx="73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贞观之治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1397160" y="2265480"/>
            <a:ext cx="7157880" cy="1266840"/>
            <a:chOff x="1397160" y="2265480"/>
            <a:chExt cx="7157880" cy="1266840"/>
          </a:xfrm>
        </p:grpSpPr>
        <p:grpSp>
          <p:nvGrpSpPr>
            <p:cNvPr id="422" name=""/>
            <p:cNvGrpSpPr/>
            <p:nvPr/>
          </p:nvGrpSpPr>
          <p:grpSpPr>
            <a:xfrm>
              <a:off x="1688760" y="3531960"/>
              <a:ext cx="6552000" cy="360"/>
              <a:chOff x="1688760" y="3531960"/>
              <a:chExt cx="6552000" cy="360"/>
            </a:xfrm>
          </p:grpSpPr>
          <p:sp>
            <p:nvSpPr>
              <p:cNvPr id="423" name="Line 4"/>
              <p:cNvSpPr/>
              <p:nvPr/>
            </p:nvSpPr>
            <p:spPr>
              <a:xfrm>
                <a:off x="1688760" y="3531960"/>
                <a:ext cx="655200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>
                <a:off x="1688760" y="3531960"/>
                <a:ext cx="655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397160" y="2540520"/>
              <a:ext cx="360" cy="716400"/>
              <a:chOff x="1397160" y="2540520"/>
              <a:chExt cx="360" cy="716400"/>
            </a:xfrm>
          </p:grpSpPr>
          <p:sp>
            <p:nvSpPr>
              <p:cNvPr id="426" name="Line 5"/>
              <p:cNvSpPr/>
              <p:nvPr/>
            </p:nvSpPr>
            <p:spPr>
              <a:xfrm>
                <a:off x="1397160" y="2540520"/>
                <a:ext cx="0" cy="71640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>
                <a:off x="1397160" y="2540520"/>
                <a:ext cx="360" cy="71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554680" y="2540520"/>
              <a:ext cx="360" cy="716400"/>
              <a:chOff x="8554680" y="2540520"/>
              <a:chExt cx="360" cy="716400"/>
            </a:xfrm>
          </p:grpSpPr>
          <p:sp>
            <p:nvSpPr>
              <p:cNvPr id="429" name="Line 6"/>
              <p:cNvSpPr/>
              <p:nvPr/>
            </p:nvSpPr>
            <p:spPr>
              <a:xfrm>
                <a:off x="8554680" y="2540520"/>
                <a:ext cx="0" cy="71640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>
                <a:off x="8554680" y="2540520"/>
                <a:ext cx="360" cy="71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400040" y="3264120"/>
              <a:ext cx="283320" cy="360"/>
              <a:chOff x="1400040" y="3264120"/>
              <a:chExt cx="283320" cy="360"/>
            </a:xfrm>
          </p:grpSpPr>
          <p:sp>
            <p:nvSpPr>
              <p:cNvPr id="432" name="Line 7"/>
              <p:cNvSpPr/>
              <p:nvPr/>
            </p:nvSpPr>
            <p:spPr>
              <a:xfrm>
                <a:off x="1400040" y="3264120"/>
                <a:ext cx="28332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1400040" y="3264120"/>
                <a:ext cx="28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688760" y="3264120"/>
              <a:ext cx="360" cy="265320"/>
              <a:chOff x="1688760" y="3264120"/>
              <a:chExt cx="360" cy="265320"/>
            </a:xfrm>
          </p:grpSpPr>
          <p:sp>
            <p:nvSpPr>
              <p:cNvPr id="435" name="Line 8"/>
              <p:cNvSpPr/>
              <p:nvPr/>
            </p:nvSpPr>
            <p:spPr>
              <a:xfrm>
                <a:off x="1688760" y="3264120"/>
                <a:ext cx="0" cy="26532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1688760" y="3264120"/>
                <a:ext cx="360" cy="26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8257320" y="3264120"/>
              <a:ext cx="283320" cy="360"/>
              <a:chOff x="8257320" y="3264120"/>
              <a:chExt cx="283320" cy="360"/>
            </a:xfrm>
          </p:grpSpPr>
          <p:sp>
            <p:nvSpPr>
              <p:cNvPr id="438" name="Line 9"/>
              <p:cNvSpPr/>
              <p:nvPr/>
            </p:nvSpPr>
            <p:spPr>
              <a:xfrm>
                <a:off x="8257320" y="3264120"/>
                <a:ext cx="28332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8257320" y="3264120"/>
                <a:ext cx="28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8251560" y="3264120"/>
              <a:ext cx="360" cy="265320"/>
              <a:chOff x="8251560" y="3264120"/>
              <a:chExt cx="360" cy="265320"/>
            </a:xfrm>
          </p:grpSpPr>
          <p:sp>
            <p:nvSpPr>
              <p:cNvPr id="441" name="Line 10"/>
              <p:cNvSpPr/>
              <p:nvPr/>
            </p:nvSpPr>
            <p:spPr>
              <a:xfrm>
                <a:off x="8251560" y="3264120"/>
                <a:ext cx="0" cy="26532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8251560" y="3264120"/>
                <a:ext cx="360" cy="26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400040" y="2537640"/>
              <a:ext cx="283320" cy="360"/>
              <a:chOff x="1400040" y="2537640"/>
              <a:chExt cx="283320" cy="360"/>
            </a:xfrm>
          </p:grpSpPr>
          <p:sp>
            <p:nvSpPr>
              <p:cNvPr id="444" name="Line 11"/>
              <p:cNvSpPr/>
              <p:nvPr/>
            </p:nvSpPr>
            <p:spPr>
              <a:xfrm>
                <a:off x="1400040" y="2537640"/>
                <a:ext cx="28332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1400040" y="2537640"/>
                <a:ext cx="28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8257320" y="2537640"/>
              <a:ext cx="283320" cy="360"/>
              <a:chOff x="8257320" y="2537640"/>
              <a:chExt cx="283320" cy="360"/>
            </a:xfrm>
          </p:grpSpPr>
          <p:sp>
            <p:nvSpPr>
              <p:cNvPr id="447" name="Line 12"/>
              <p:cNvSpPr/>
              <p:nvPr/>
            </p:nvSpPr>
            <p:spPr>
              <a:xfrm>
                <a:off x="8257320" y="2537640"/>
                <a:ext cx="28332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8257320" y="2537640"/>
                <a:ext cx="28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688760" y="2272680"/>
              <a:ext cx="360" cy="264960"/>
              <a:chOff x="1688760" y="2272680"/>
              <a:chExt cx="360" cy="264960"/>
            </a:xfrm>
          </p:grpSpPr>
          <p:sp>
            <p:nvSpPr>
              <p:cNvPr id="450" name="Line 13"/>
              <p:cNvSpPr/>
              <p:nvPr/>
            </p:nvSpPr>
            <p:spPr>
              <a:xfrm>
                <a:off x="1688760" y="2272680"/>
                <a:ext cx="0" cy="26496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1688760" y="2272680"/>
                <a:ext cx="36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8251560" y="2272680"/>
              <a:ext cx="360" cy="264960"/>
              <a:chOff x="8251560" y="2272680"/>
              <a:chExt cx="360" cy="264960"/>
            </a:xfrm>
          </p:grpSpPr>
          <p:sp>
            <p:nvSpPr>
              <p:cNvPr id="453" name="Line 14"/>
              <p:cNvSpPr/>
              <p:nvPr/>
            </p:nvSpPr>
            <p:spPr>
              <a:xfrm>
                <a:off x="8251560" y="2272680"/>
                <a:ext cx="0" cy="26496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8251560" y="2272680"/>
                <a:ext cx="36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688760" y="2265480"/>
              <a:ext cx="6552000" cy="360"/>
              <a:chOff x="1688760" y="2265480"/>
              <a:chExt cx="6552000" cy="360"/>
            </a:xfrm>
          </p:grpSpPr>
          <p:sp>
            <p:nvSpPr>
              <p:cNvPr id="456" name="Line 15"/>
              <p:cNvSpPr/>
              <p:nvPr/>
            </p:nvSpPr>
            <p:spPr>
              <a:xfrm>
                <a:off x="1688760" y="2265480"/>
                <a:ext cx="6552000" cy="0"/>
              </a:xfrm>
              <a:prstGeom prst="line">
                <a:avLst/>
              </a:prstGeom>
              <a:ln w="57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1688760" y="2265480"/>
                <a:ext cx="655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16"/>
            <p:cNvSpPr/>
            <p:nvPr/>
          </p:nvSpPr>
          <p:spPr>
            <a:xfrm>
              <a:off x="8318160" y="3321000"/>
              <a:ext cx="210960" cy="19368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8318160" y="2279880"/>
              <a:ext cx="210960" cy="19368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8"/>
            <p:cNvSpPr/>
            <p:nvPr/>
          </p:nvSpPr>
          <p:spPr>
            <a:xfrm>
              <a:off x="1400040" y="3321000"/>
              <a:ext cx="210960" cy="19368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9"/>
            <p:cNvSpPr/>
            <p:nvPr/>
          </p:nvSpPr>
          <p:spPr>
            <a:xfrm>
              <a:off x="1400040" y="2279880"/>
              <a:ext cx="210960" cy="19368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21"/>
          <p:cNvSpPr/>
          <p:nvPr/>
        </p:nvSpPr>
        <p:spPr>
          <a:xfrm>
            <a:off x="2981880" y="97632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单元　繁荣与开放的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1116000" y="29890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铜为镜，可以正衣冠；以古为镜，可以知兴替；以人为镜，可以明得失。朕尝宝此三镜，用防己过。今魏征殂逝，遂亡一镜矣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971640" y="4751640"/>
            <a:ext cx="720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提到的魏征是个怎样的大臣？从以上论述来看，你又能看出唐太宗是个怎样的君主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1979640" y="260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兼听则明，偏信则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人欲自照，必须明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主欲知过，必籍忠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91440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吸取隋亡教训，重视民众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注重发展生产，减轻人民负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注意任用贤才，善于虚心纳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6300720" y="263700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6867720" y="35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合并州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6867720" y="29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戒奢从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6867720" y="242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轻徭薄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826920" y="62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一、唐高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554280" y="692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建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长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713240" y="148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二、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440160" y="1484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贞观之治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7504200" y="40766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（房玄龄、杜如晦、魏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0" y="549360"/>
            <a:ext cx="8101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贞观初期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洛阳以东直至沿海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茫茫千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烟断绝，鸡犬不闻，道路萧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贞观政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经过唐太宗的一段统治后）天下大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流散者咸归乡里，米斗不过三四钱，终岁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死刑才二十九人。东至于海，南极五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皆外户不闭，行旅不赍粮，取给于道路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治通鉴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吸取隋亡教训，重视民众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注重发展生产，减轻人民负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、注意任用贤才，善于虚心纳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300720" y="263700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867720" y="35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合并州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867720" y="29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戒奢从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867720" y="242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轻徭薄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826920" y="62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一、唐高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554280" y="692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建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长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1713240" y="148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二、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3440160" y="1484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贞观之治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7504200" y="407664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Verdana"/>
              </a:rPr>
              <a:t>（房玄龄、杜如晦、魏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900000" y="4941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三、武则天（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政启开元，治宏贞观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A86E-01D9-42D0-9BAF-9A9BD3EBD6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3" descr="3"/>
          <p:cNvPicPr/>
          <p:nvPr/>
        </p:nvPicPr>
        <p:blipFill>
          <a:blip r:embed="rId1"/>
          <a:stretch/>
        </p:blipFill>
        <p:spPr>
          <a:xfrm>
            <a:off x="4067280" y="404640"/>
            <a:ext cx="4849560" cy="5973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527" name="Text Box 4"/>
          <p:cNvSpPr/>
          <p:nvPr/>
        </p:nvSpPr>
        <p:spPr>
          <a:xfrm>
            <a:off x="684360" y="17002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4e3b30"/>
                </a:solidFill>
                <a:latin typeface="Arial"/>
              </a:rPr>
              <a:t>后人为何称武则天的统治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政启开元，治宏贞观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684360" y="54936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唐朝的建立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676520" y="2666880"/>
            <a:ext cx="228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都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建立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7" descr="0108pic16458"/>
          <p:cNvPicPr/>
          <p:nvPr/>
        </p:nvPicPr>
        <p:blipFill>
          <a:blip r:embed="rId1"/>
          <a:stretch/>
        </p:blipFill>
        <p:spPr>
          <a:xfrm>
            <a:off x="4643280" y="836640"/>
            <a:ext cx="33274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2"/>
          <p:cNvGrpSpPr/>
          <p:nvPr/>
        </p:nvGrpSpPr>
        <p:grpSpPr>
          <a:xfrm>
            <a:off x="971640" y="836640"/>
            <a:ext cx="5607000" cy="591840"/>
            <a:chOff x="971640" y="836640"/>
            <a:chExt cx="5607000" cy="591840"/>
          </a:xfrm>
        </p:grpSpPr>
        <p:sp>
          <p:nvSpPr>
            <p:cNvPr id="468" name="Rectangle 11"/>
            <p:cNvSpPr/>
            <p:nvPr/>
          </p:nvSpPr>
          <p:spPr>
            <a:xfrm>
              <a:off x="971640" y="836640"/>
              <a:ext cx="26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一、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唐高祖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3699000" y="9079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建唐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618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年，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长安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3"/>
          <p:cNvGrpSpPr/>
          <p:nvPr/>
        </p:nvGrpSpPr>
        <p:grpSpPr>
          <a:xfrm>
            <a:off x="1393200" y="1628640"/>
            <a:ext cx="3753360" cy="520560"/>
            <a:chOff x="1393200" y="1628640"/>
            <a:chExt cx="3753360" cy="520560"/>
          </a:xfrm>
        </p:grpSpPr>
        <p:sp>
          <p:nvSpPr>
            <p:cNvPr id="471" name="Rectangle 15"/>
            <p:cNvSpPr/>
            <p:nvPr/>
          </p:nvSpPr>
          <p:spPr>
            <a:xfrm>
              <a:off x="1393200" y="162864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二、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唐太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6"/>
            <p:cNvSpPr/>
            <p:nvPr/>
          </p:nvSpPr>
          <p:spPr>
            <a:xfrm>
              <a:off x="3368520" y="162864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（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“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贞观之治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”</a:t>
              </a:r>
              <a:r>
                <a:rPr b="1" lang="zh-CN" sz="2800" spc="-1" strike="noStrike">
                  <a:solidFill>
                    <a:srgbClr val="cc0000"/>
                  </a:solidFill>
                  <a:latin typeface="Verdana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1"/>
          <p:cNvSpPr/>
          <p:nvPr/>
        </p:nvSpPr>
        <p:spPr>
          <a:xfrm>
            <a:off x="826920" y="2205000"/>
            <a:ext cx="727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何谓贞观之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幼圆"/>
              </a:rPr>
              <a:t>这一局面出现的原因是什么（统治者措施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324000" y="90792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读课文“贞观之治”一目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108pic16595"/>
          <p:cNvPicPr/>
          <p:nvPr/>
        </p:nvPicPr>
        <p:blipFill>
          <a:blip r:embed="rId1"/>
          <a:stretch/>
        </p:blipFill>
        <p:spPr>
          <a:xfrm>
            <a:off x="5651640" y="593640"/>
            <a:ext cx="3333600" cy="626436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611280" y="549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唐太宗李世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250920" y="2276640"/>
            <a:ext cx="53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唐太宗统治的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贞观年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政治比较清明，经济有所发展，国力逐步强盛，历史上称当时的统治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贞观之治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610920" y="1989000"/>
            <a:ext cx="7777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4e3b30"/>
                </a:solidFill>
                <a:latin typeface="宋体"/>
                <a:ea typeface="楷体_GB2312"/>
              </a:rPr>
              <a:t>贞观初，太宗谓侍臣曰：为君之道，必须先存百姓，若损百姓以奉其身，犹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割</a:t>
            </a:r>
            <a:r>
              <a:rPr b="1" lang="zh-CN" sz="3200" spc="-1" strike="noStrike">
                <a:solidFill>
                  <a:srgbClr val="4e3b30"/>
                </a:solidFill>
                <a:latin typeface="宋体"/>
                <a:ea typeface="楷体_GB2312"/>
              </a:rPr>
              <a:t>股以啖腹，腹饱而身毙 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宋体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贞观政要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826920" y="40464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舟所以比人君，水所以比黎庶，水能载舟，亦能覆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11280" y="4508640"/>
            <a:ext cx="777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楷体_GB2312"/>
              </a:rPr>
              <a:t>以上材料反映出唐太宗的什么治国思想？他为什么能有这种认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914400" y="2133720"/>
            <a:ext cx="822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吸取隋亡教训，重视民众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826920" y="62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、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唐高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3554280" y="692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建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长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1393200" y="148428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二、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3440160" y="1484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贞观之治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1116000" y="620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贞观二年，太宗谓侍臣曰：“凡事皆须务本，国以人为本，人以衣食为本，凡营衣食，以不失时为本。夫不失时者，在人君简静乃可致耳。若兵戈屡动，土木不息，而欲不夺农时，其可得乎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贞观政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971640" y="4292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基于以上认识，唐太宗采取了哪些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91440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吸取隋亡教训，重视民众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注重发展生产，减轻人民负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6300720" y="263700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6864480" y="350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合并州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6864480" y="29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戒奢从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6864480" y="242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轻徭薄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826920" y="62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一、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唐高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3554280" y="692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建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长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393200" y="148428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二、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3440160" y="1484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贞观之治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0:42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8Z</dcterms:modified>
  <cp:revision>10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