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4E3-EE2C-4739-A05E-FAD56945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254-1A94-4BEF-AF4F-14CA4623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942-CDEF-45CB-A6A6-F27F804E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730-EA07-451E-819F-E3B4250D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FC8B-2C3D-4F4F-9DDC-1B4C91A4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6BA1-7BB8-431D-BFAE-00FD84F5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A5EB-F870-4989-A580-9025B94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AC6E-852B-4D38-AE87-B54E701F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FAD9-973C-4ABC-BF39-2FF8BA8A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39CF-7A92-4843-BFDA-84FF5F4F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90AE-F5AE-49A6-B859-AB044FB2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479-8F50-4247-AB55-06EF4650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61F0-40B9-4181-8D7F-D7E38FA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025C-CE46-45A0-92CB-272B16C0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DD03-B058-433C-9719-82F8D87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4104-7DA2-4458-A7D0-0481D7D7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B482-0571-40A4-AAFE-A3D60A12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2E603-479F-4342-AA1D-2E18A336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C16A-B17A-4694-9CA3-966AF77F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6CD0B-35A4-4646-A2CB-56F88AA7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31A3A-8A72-4F5C-88D3-2DDB55AF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5E68-4CB9-4A7B-9B2E-AD24C4BD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675-2AFF-46F0-B624-EB26625D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06D6-E710-49CC-9209-CA54ED53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67AE-4010-40D9-B34B-78FC19C0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90A9-498E-4ED8-B699-4813B80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67A1-3006-424E-950C-657317C0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7FAA8-598E-4F9A-AAAE-35020780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96EE-767F-416D-8F33-57D57E34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7E8D-D46D-4084-B117-3B308BA1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A01-E2C6-4046-A23A-E40CFECF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82E-F924-49B0-B10F-CED909C3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3A0-9208-4278-9CC8-87CACC53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F23-5BCF-44D3-A076-D2CBBFA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2AE-EF4D-4794-AC99-E9DCA739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2EC-3E81-47FD-A198-E706228E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4285-7654-4E9C-B7DE-33E1FC3B00D0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EA0D-EF18-4ACF-8797-4D5BC7B919A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3FEF-BA84-491C-A6E2-B1C8E9A436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8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5A6E-AC42-4989-A73A-2E86D8D4CD70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6E61-C10D-4E0B-92F7-5F617AD40F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2795-BC7D-4705-BAE3-B85F4766D713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263E-2B90-4F67-B097-687C3E13E5B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最后一课语文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PPT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课件下载</a:t>
            </a:r>
            <a:br>
              <a:rPr sz="8000"/>
            </a:br>
            <a:r>
              <a:rPr b="0" lang="zh-CN" sz="8000" spc="-1" strike="noStrike">
                <a:solidFill>
                  <a:srgbClr val="ffcc66"/>
                </a:solidFill>
                <a:latin typeface="Times New Roman"/>
                <a:ea typeface="黑体"/>
              </a:rPr>
              <a:t>         </a:t>
            </a: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华文行楷"/>
              </a:rPr>
              <a:t>都  德（法）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A711-E584-4A29-93D7-E5AA1E6A10D2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页脚占位符 2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AB20-82B7-485B-95BA-4150846B05E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WordArt 2"/>
          <p:cNvSpPr txBox="1"/>
          <p:nvPr/>
        </p:nvSpPr>
        <p:spPr>
          <a:xfrm>
            <a:off x="2590920" y="1905120"/>
            <a:ext cx="46479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80FE-E075-4E1F-901A-28431D22D6B1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8BA0-EE4F-4BE5-B839-03B60388160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学习目标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积累词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学习表现人物思想感情的手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BS00554_"/>
          <p:cNvPicPr/>
          <p:nvPr/>
        </p:nvPicPr>
        <p:blipFill>
          <a:blip r:embed="rId1"/>
          <a:stretch/>
        </p:blipFill>
        <p:spPr>
          <a:xfrm>
            <a:off x="6477120" y="4648320"/>
            <a:ext cx="2209680" cy="11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4FD1-20CF-41C6-9AF5-0800E322EB42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7356-8D96-4730-A80B-78B368138C0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检查预习：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43430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、给下列词语注音并积累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惩罚          祈祷        哽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郝叟          诧异        踱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09480" y="17524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后一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作者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国作家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篇小说以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为背景，写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课文表现了法国人民面对侵略者的同仇敌忾的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精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914400" y="1600200"/>
            <a:ext cx="8001000" cy="4493520"/>
            <a:chOff x="914400" y="1600200"/>
            <a:chExt cx="8001000" cy="4493520"/>
          </a:xfrm>
        </p:grpSpPr>
        <p:sp>
          <p:nvSpPr>
            <p:cNvPr id="148" name="Text Box 7"/>
            <p:cNvSpPr/>
            <p:nvPr/>
          </p:nvSpPr>
          <p:spPr>
            <a:xfrm>
              <a:off x="5334120" y="16002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法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7696080" y="16002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都德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9"/>
            <p:cNvSpPr/>
            <p:nvPr/>
          </p:nvSpPr>
          <p:spPr>
            <a:xfrm>
              <a:off x="2819520" y="21337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普法战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7086600" y="22096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87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914400" y="32767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爱国主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1600200" y="4952880"/>
              <a:ext cx="2057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ch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é</a:t>
              </a:r>
              <a:r>
                <a:rPr b="0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nɡ f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á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4495680" y="4952880"/>
              <a:ext cx="16765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q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í</a:t>
              </a: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 dǎ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010280" y="4952880"/>
              <a:ext cx="19051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ɡěnɡ y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1676520" y="5486400"/>
              <a:ext cx="190476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hǎo sǒ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419720" y="5562720"/>
              <a:ext cx="152388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ch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à</a:t>
              </a: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 y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ì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Text Box 18"/>
            <p:cNvSpPr/>
            <p:nvPr/>
          </p:nvSpPr>
          <p:spPr>
            <a:xfrm>
              <a:off x="7086600" y="5562720"/>
              <a:ext cx="167652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du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ó</a:t>
              </a:r>
              <a:r>
                <a:rPr b="0" lang="en-US" sz="3200" spc="-1" strike="noStrike">
                  <a:solidFill>
                    <a:srgbClr val="ffff00"/>
                  </a:solidFill>
                  <a:latin typeface="宋体"/>
                </a:rPr>
                <a:t> b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ù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Text Box 21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文本框 8199"/>
          <p:cNvSpPr/>
          <p:nvPr/>
        </p:nvSpPr>
        <p:spPr>
          <a:xfrm>
            <a:off x="755640" y="1341360"/>
            <a:ext cx="453708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0"/>
          <p:cNvSpPr/>
          <p:nvPr/>
        </p:nvSpPr>
        <p:spPr>
          <a:xfrm>
            <a:off x="5003640" y="4437000"/>
            <a:ext cx="66204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F059-AD4B-4FDE-90F5-9D5EB100E4CA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77B3-8704-47AD-968C-8A3739D1ED1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22856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默读课文，标出有关描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韩麦尔先生的文段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1143000" y="4572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课文感知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BS00559_"/>
          <p:cNvPicPr/>
          <p:nvPr/>
        </p:nvPicPr>
        <p:blipFill>
          <a:blip r:embed="rId1"/>
          <a:stretch/>
        </p:blipFill>
        <p:spPr>
          <a:xfrm>
            <a:off x="3886200" y="4114800"/>
            <a:ext cx="4267080" cy="187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FA40-2ED3-4119-ADEF-8E1480D6597C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8C9C-39AA-4906-BA05-509DA01C1A9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030"/>
          <p:cNvSpPr/>
          <p:nvPr/>
        </p:nvSpPr>
        <p:spPr>
          <a:xfrm>
            <a:off x="685800" y="990720"/>
            <a:ext cx="78487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韩麦尔先生在最后一课上有哪些言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试从文中找出有关段落品读，并思考作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使用什么样的手法表现了他的思想感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032"/>
          <p:cNvSpPr/>
          <p:nvPr/>
        </p:nvSpPr>
        <p:spPr>
          <a:xfrm>
            <a:off x="1219320" y="3352680"/>
            <a:ext cx="71625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）韩麦尔先生的服饰是怎样的？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什么他在上最后一课时也穿戴呢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33"/>
          <p:cNvSpPr/>
          <p:nvPr/>
        </p:nvSpPr>
        <p:spPr>
          <a:xfrm>
            <a:off x="1219320" y="4876920"/>
            <a:ext cx="70102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韩麦尔先生是怎样赞美法语的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何理解韩麦尔先生的这句话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4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2367-5BC5-46E9-9185-04368417BBA8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8C27-F5F2-43C7-94D3-93BFF921219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5800" y="2286000"/>
            <a:ext cx="800100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小弗郎士在上学路上看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了什么， 他的思想感情是怎样的？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课堂上小弗郎士注意到了什么，他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情发生了怎样的变化，这一变化说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8" descr="BD00028_"/>
          <p:cNvPicPr/>
          <p:nvPr/>
        </p:nvPicPr>
        <p:blipFill>
          <a:blip r:embed="rId1"/>
          <a:stretch/>
        </p:blipFill>
        <p:spPr>
          <a:xfrm>
            <a:off x="914400" y="14479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241A-8314-466A-BE0E-3E8CC58117FC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6D01-0D8F-42AE-92BE-411AD3A6444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拓展训练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以“下课以后”为题，以第一人称为小弗朗士写一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字左右的短文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提示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利用环境描写或心理描写表现人物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思想感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7" descr="BD04924_"/>
          <p:cNvPicPr/>
          <p:nvPr/>
        </p:nvPicPr>
        <p:blipFill>
          <a:blip r:embed="rId1"/>
          <a:stretch/>
        </p:blipFill>
        <p:spPr>
          <a:xfrm>
            <a:off x="457200" y="4038480"/>
            <a:ext cx="1143000" cy="112248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8199"/>
          <p:cNvSpPr/>
          <p:nvPr/>
        </p:nvSpPr>
        <p:spPr>
          <a:xfrm>
            <a:off x="755640" y="1341360"/>
            <a:ext cx="453708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日期占位符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6ED8-9068-41C1-8FDD-43E56ECAA440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页脚占位符 4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灯片编号占位符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75B4-366D-43EB-A817-86044D5EEB8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2057400" y="2057400"/>
            <a:ext cx="510552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课堂小结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315200" y="228600"/>
            <a:ext cx="1828800" cy="47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最后一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219320" y="2895480"/>
            <a:ext cx="4419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04920" y="2209680"/>
            <a:ext cx="8839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278-F021-4A2C-B885-77105DD28218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58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28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