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10.gif" ContentType="image/gif"/>
  <Override PartName="/ppt/media/type.wav" ContentType="audio/x-wav"/>
  <Override PartName="/ppt/media/image6.png" ContentType="image/pn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4A9-83FF-4BE8-B511-5B3DEF06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F13-339F-4143-8C30-44FC689D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877-43EA-4538-9105-F773F83D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034-B347-4E85-B9F1-4A6CA734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F3B2-71B7-4D85-BD29-6CA450DC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7176-4FB9-40E7-BB5F-F8DD9D6E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6483-6EE8-4748-99B1-7AAD9FAB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E150-83DE-4312-8041-5940E99A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9D02-220D-473F-B420-2B4B74E2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44AF-E72C-4C04-B716-66488CB5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DA31-A3A1-4BF8-95ED-5EDB0257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556-A251-430C-B907-5753E35D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D217-B59F-4CAF-A493-A5E89897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8ADA-1E51-498C-8178-C792ACDE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FA37-2E2C-403D-B509-700D2CFC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1515-5F2C-4FCA-943B-E0B3B79A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8A8F-9562-4BC3-BACC-58940023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16E-FBA4-439D-85E8-90108C88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5956-0579-4CD6-BC6A-54CA3FD3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0A6-26D2-409B-ABC2-8D276630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589-2793-4DB6-B43F-DA1F428D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0C6-B5A3-4CB1-B492-FDBBD2F1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BF6-3351-4286-8FAB-988630C9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C96-9DE1-41D4-A4CE-1D1A8E3A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7705-9F1A-4E4D-8935-C8C8603B50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4C07-50DD-4761-B190-A2D282342F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371600" y="5943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WordArt 9" descr=""/>
          <p:cNvPicPr/>
          <p:nvPr/>
        </p:nvPicPr>
        <p:blipFill>
          <a:blip r:embed="rId2"/>
          <a:stretch/>
        </p:blipFill>
        <p:spPr>
          <a:xfrm>
            <a:off x="330120" y="1911240"/>
            <a:ext cx="834732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7"/>
          <p:cNvSpPr/>
          <p:nvPr/>
        </p:nvSpPr>
        <p:spPr>
          <a:xfrm>
            <a:off x="7093080" y="105264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164304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04920" y="838080"/>
            <a:ext cx="6705360" cy="53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性  宇宙  真切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脊梁  家家户户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莞尔一笑  花团锦簇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姹紫嫣红  应接不暇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耐人寻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2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164304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52280" y="380880"/>
            <a:ext cx="8991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房东：出租或出借房屋的人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对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房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客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莞尔一笑：形容微笑的样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指女性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花团锦簇：形容五彩缤纷、十分华丽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景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姹紫嫣红：嫣：娇艳。形容各种好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花娇艳绚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050607095418453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164304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09480" y="380880"/>
            <a:ext cx="8001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朵都朝外开，在屋子里只能看到花的脊梁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643040" y="309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5800" y="190512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话承接上一句，进一步点明了德国人养花的与众不同之处。因为花朵都朝外开，那么在屋里看到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的脊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花朵的背面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括枝干和叶子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显然，德国人养花是给别人看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未命名"/>
          <p:cNvPicPr/>
          <p:nvPr/>
        </p:nvPicPr>
        <p:blipFill>
          <a:blip r:embed="rId1"/>
          <a:stretch/>
        </p:blipFill>
        <p:spPr>
          <a:xfrm>
            <a:off x="6141960" y="2362320"/>
            <a:ext cx="300204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64304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人为我，我为人人。我觉得这一种境界是颇耐人寻味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64304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52280" y="1600200"/>
            <a:ext cx="8991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一种境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这里指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人为我，我为人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颇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很、非常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意思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耐人寻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意味深长，值得仔细体会琢磨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为人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说每个人心中要有他人，要有社会                   责任感，要用实际行动为大众着想，为社会                      尽到自己的义务。如果大家都这么想这么做                     就必然会换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人为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结果。虽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人                 为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放在前面，但实际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为人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前                                        提，只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为人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尽到责任和义务，才会                                    实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人为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美好愿望，这两者之间要                   辩证看待，整体理解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人为我，我为人                   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实例很多，课文中德国人养花，自己                   的花是让别人看的，而各自又看别人的花；                  学生轮流值日打扫教室卫生，每人带课外                        书到班上建立图书角等等，都是人人为我，                           我为人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050607101059093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164304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0880" y="1295280"/>
            <a:ext cx="86108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时隔四五十年，作者又来到德国，当然会见到许多变化，但他说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美丽并没有改变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结合上下文我们可以知道，作者是说德国沿街的奇丽风景没有改变，依然是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家家户户的窗子前都是花团锦簇、姹紫嫣红。许多窗子连接在一起，汇成了一个花的海洋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同时，也许作者言下之意还在赞扬德国人民那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人人为我，我为人人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的美好境界。这种境界是更令作者欣赏的，也是更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美丽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是有的，但是美丽并没有改变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eyurv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164304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04920" y="13716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曾在德国留学十多年，在留学期间时常思念家乡、思念亲人、思念祖国。现在时隔四五十年作者又来到德国，见到那家家户户窗口上的鲜花，不由得触景生情，仿佛进入了梦乡，回到了四五十年前的留学生活时代，他陶醉在鲜花艳丽之中，沉浸于思乡情绪之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仿佛又回到了四五十年前，我做了一个花的梦，做了一个思乡的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3F90-5C03-49AD-97DC-FCE2C89837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050607101152890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64304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04920" y="0"/>
            <a:ext cx="8534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本文是我国著名语言学家、教育家和社会活动家，北京大学教授季羡林先生写的一篇精美隽永的短文。作者先点明了德国是一个爱花的国度；然后回忆了自己早年在德国留学时亲身感受到德国人非常爱花；接着用优美生动的语言，描述了德国家家户户窗口都开满鲜花的情景，并抒发了自己的感慨：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人人为我，我为人人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这种境界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颇耐人寻味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；最后讲述作者再次来到德国，又看到这番情景，表达了自己旧地重游的感受，即对德国奇丽风景和与众不同风俗习惯的赞美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4T03:34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08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