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61E-44BC-4AB0-B650-FA9FDFB5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7CE-BE93-4560-947E-658FDAD8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BCE-DFC6-4A1E-955E-328559F2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C72-7052-45C9-B8E6-AE973888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18C-F95D-4BB9-90AC-AFA661CE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EE4-4739-46C4-B5C5-AC74BD4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CCCB-DB7E-4182-BEA3-30500093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521A-30B4-42EA-8F5E-5CEBEE25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D63-DA5F-4324-AA6D-BF58F22E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E2F-FE1B-43D9-A5A7-3A8C4D0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6FFB-F01F-4769-A57F-B3CFE64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39D-E952-469F-B09D-5481385A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3FA7-D373-4B37-B835-84C8297F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963A-651C-47B5-8D85-70F847F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A66E-F36D-404F-8B51-460DB596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47E3-A95D-43CD-ABF4-A35D8D92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338-5E3E-4C04-A04B-76A0DC21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A26-5B2F-4FFB-90A0-02D207F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571-7F1A-4026-B7C6-7450808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415-BDDA-4ACC-A6A2-24C3ED6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CE6-A5C3-4F31-B6AC-F77CB61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BF8-F70E-469F-B256-10BEFEE9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D86-4372-4266-A72B-0987515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B28-F99F-4D38-A788-735B4DD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B5FC-9F28-477B-AE0B-0F642920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6A3-DB31-4EB3-87C8-6C600133E4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8,3,&#24187;&#28783;&#29255; 3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73,4,&#24187;&#28783;&#29255; 4" TargetMode="External"/><Relationship Id="rId2" Type="http://schemas.openxmlformats.org/officeDocument/2006/relationships/hyperlink" Target="275,10,&#24187;&#28783;&#29255; 10" TargetMode="External"/><Relationship Id="rId3" Type="http://schemas.openxmlformats.org/officeDocument/2006/relationships/hyperlink" Target="269,12,&#24187;&#28783;&#29255; 12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8,3,&#24187;&#28783;&#29255; 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2"/>
          <a:stretch/>
        </p:blipFill>
        <p:spPr>
          <a:xfrm>
            <a:off x="853920" y="228600"/>
            <a:ext cx="171936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895760" y="763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再见了亲人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8080" y="1905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你乘机钻进屋里，解开老王身上的绳索，救出了老王。你回到村里，焦急地等待妈妈。第二天传来噩耗，你妈妈拉响手榴弹跟敌人同归于尽了。同志们伤心的痛哭起来，你却把脚一跺，嘴角抽动着狠狠地说：“妈妈，这个仇我一定要报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80880" y="1371600"/>
            <a:ext cx="84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你乘机钻进屋里，解开老王身上的绳索，救出了老王。你回到村里，焦急地等待妈妈。第二天传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噩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你妈妈拉响手榴弹跟敌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同归于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了。同志们伤心的痛哭起来，你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把脚一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嘴角抽动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狠狠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说：“妈妈，这个仇我一定要报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95280" y="4800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为了救侦察员，小金花失去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42160" y="6192720"/>
            <a:ext cx="100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9"/>
          <p:cNvSpPr/>
          <p:nvPr/>
        </p:nvSpPr>
        <p:spPr>
          <a:xfrm>
            <a:off x="914400" y="762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jwz2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4038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4632480" y="3679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00600" y="3808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是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195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的春天，金达莱花开满山野的时候，您知道我们缺少蔬菜，就挎着篮子上山挖野菜。后面山上的野菜挖光了，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跑到前沿阵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血泊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3520" y="5105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了给志愿军挖野菜，大嫂失去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85800"/>
            <a:ext cx="815364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2590920"/>
            <a:ext cx="8321400" cy="106884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3352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533520"/>
            <a:ext cx="8153640" cy="85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2666880"/>
            <a:ext cx="8321400" cy="58140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0948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174040" y="198108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您 说，这比山还高，比海还深的的情谊，我们不能忘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34628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是今天，跟志愿军叔叔分别的今天，你不应该落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720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您为我们付出了这样高的代价，足以表达您对中国人民的友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1018_155-0"/>
          <p:cNvPicPr/>
          <p:nvPr/>
        </p:nvPicPr>
        <p:blipFill>
          <a:blip r:embed="rId1"/>
          <a:stretch/>
        </p:blipFill>
        <p:spPr>
          <a:xfrm>
            <a:off x="380880" y="3049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6737760" y="3124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图为志愿军战士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战火中救出朝鲜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大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1018_163-0"/>
          <p:cNvPicPr/>
          <p:nvPr/>
        </p:nvPicPr>
        <p:blipFill>
          <a:blip r:embed="rId1"/>
          <a:stretch/>
        </p:blipFill>
        <p:spPr>
          <a:xfrm>
            <a:off x="762120" y="457200"/>
            <a:ext cx="5548320" cy="5562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948000" y="335268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志愿军帮助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鲜人民修水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重建家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32767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舍身堵枪眼的战斗英雄黄继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u=2247571777,1095470324&amp;gp=48"/>
          <p:cNvPicPr/>
          <p:nvPr/>
        </p:nvPicPr>
        <p:blipFill>
          <a:blip r:embed="rId1"/>
          <a:stretch/>
        </p:blipFill>
        <p:spPr>
          <a:xfrm>
            <a:off x="380880" y="380880"/>
            <a:ext cx="28958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5"/>
          <p:cNvPicPr/>
          <p:nvPr/>
        </p:nvPicPr>
        <p:blipFill>
          <a:blip r:embed="rId2"/>
          <a:stretch/>
        </p:blipFill>
        <p:spPr>
          <a:xfrm>
            <a:off x="358128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352680" y="32767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烈火中纹丝不动的战斗英雄邱少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u=1759503450,3944356674&amp;gp=-2"/>
          <p:cNvPicPr/>
          <p:nvPr/>
        </p:nvPicPr>
        <p:blipFill>
          <a:blip r:embed="rId3"/>
          <a:stretch/>
        </p:blipFill>
        <p:spPr>
          <a:xfrm>
            <a:off x="6477120" y="457200"/>
            <a:ext cx="213336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6324480" y="3200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抢救朝鲜落水儿童而牺牲的罗盛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380400" y="4724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青山处处埋忠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85800" y="167652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在朝鲜战场上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为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浴血奋战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为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谁）也付出了很高的代价。两国人民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凝成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的情谊，因此两国人民不是胜似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__________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2"/>
          <p:cNvPicPr/>
          <p:nvPr/>
        </p:nvPicPr>
        <p:blipFill>
          <a:blip r:embed="rId1"/>
          <a:stretch/>
        </p:blipFill>
        <p:spPr>
          <a:xfrm>
            <a:off x="533520" y="457200"/>
            <a:ext cx="4011480" cy="3962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3"/>
          <p:cNvPicPr/>
          <p:nvPr/>
        </p:nvPicPr>
        <p:blipFill>
          <a:blip r:embed="rId2"/>
          <a:stretch/>
        </p:blipFill>
        <p:spPr>
          <a:xfrm>
            <a:off x="4724280" y="457200"/>
            <a:ext cx="396576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600200" y="4952880"/>
            <a:ext cx="6629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是亲人，胜似亲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514600" y="1905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762120"/>
            <a:ext cx="8153280" cy="106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比山还高，比海还深的的情谊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2590920"/>
            <a:ext cx="8321400" cy="106884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你怎么就落泪了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3520" y="4648320"/>
            <a:ext cx="8245440" cy="106884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这样高的代价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09480" y="121932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再见了，亲爱的土地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我们的心永远跟你们在一起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2D94-30CF-40C9-AF07-E49C4551A0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57200" y="17524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背诵自己喜欢的段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推荐阅读：魏巍的作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依依惜别的深情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谁是最可爱的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33520" y="762120"/>
            <a:ext cx="8153280" cy="113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※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娘，停住您送别的脚步吧！您 说，这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比山还高，比海还深的的情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我们怎么能忘怀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590920"/>
            <a:ext cx="8321400" cy="1134720"/>
          </a:xfrm>
          <a:prstGeom prst="rect">
            <a:avLst/>
          </a:prstGeom>
          <a:solidFill>
            <a:srgbClr val="5bf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金花，不要哭了，擦干眼泪，在给我们唱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捣米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吧！可是今天，跟志愿军叔叔分别的今天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你怎么就落泪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呢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4648320"/>
            <a:ext cx="8245440" cy="1134720"/>
          </a:xfrm>
          <a:prstGeom prst="rect">
            <a:avLst/>
          </a:prstGeom>
          <a:solidFill>
            <a:srgbClr val="c3d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大嫂，请回去吧！您为我们付出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这样高的代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，难道还不足以表达您对中国人民的友谊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04920" y="5335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多少心血，给了我们多少慈母般的温暖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顶着打 糕，冒着炮火，穿过硝烟，送到阵地上给我们吃。这真是雪中送炭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敌机来了，您丢下自己的小孙孙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您为我们失去了唯一的亲人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38080" y="190512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多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血，给了我们多少慈母般的温暖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5040" y="12193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着打 糕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冒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着炮火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穿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过硝烟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到阵地上给我们吃。这真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中送炭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80880" y="38088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八年来，您为我们花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多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心血，给了我们多少慈母般的温暖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记得五次战役的时候，由于敌机的封锁，造成了暂时的供应困难。我们空着肚子，在阵地上跟敌人拼了三天三夜。是您带着全村妇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着打 糕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冒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着炮火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穿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过硝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到阵地上给我们吃。这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雪中送炭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啊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敌机来了，您丢下自己的小孙孙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464560" y="5486400"/>
            <a:ext cx="26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您为我们失去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的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6"/>
          <p:cNvSpPr/>
          <p:nvPr/>
        </p:nvSpPr>
        <p:spPr>
          <a:xfrm>
            <a:off x="1143000" y="990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1018_159-0"/>
          <p:cNvPicPr/>
          <p:nvPr/>
        </p:nvPicPr>
        <p:blipFill>
          <a:blip r:embed="rId1"/>
          <a:stretch/>
        </p:blipFill>
        <p:spPr>
          <a:xfrm>
            <a:off x="380880" y="685800"/>
            <a:ext cx="8763120" cy="49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137840" y="5791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鲜阿妈妮象对待亲生儿子一样照顾志愿军伤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1018_158-0"/>
          <p:cNvPicPr/>
          <p:nvPr/>
        </p:nvPicPr>
        <p:blipFill>
          <a:blip r:embed="rId1"/>
          <a:stretch/>
        </p:blipFill>
        <p:spPr>
          <a:xfrm>
            <a:off x="457200" y="304920"/>
            <a:ext cx="7162920" cy="4744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593640" y="518148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朝鲜人民全力支援志愿军，他们组成运输队、担架队奔赴战场。这是在上甘岭战役中，朝鲜人民昼夜不停地将弹药送往前线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496280" y="61722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7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1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