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59A-0ED6-425D-9F0B-1D116572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FE5-1607-4614-8CC9-DD445F65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5EF-1028-49C1-AA89-9E88E5CC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B7C-D059-4DF6-82B2-DC3A1164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19F3-E877-4977-A701-77132D01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FF6E-82D6-4ADD-BF59-DFFAB478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99F5-42C9-4D19-94A1-8328C793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E502-47CD-4068-9784-FE3F4DBC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CACD-59D8-4038-8DEA-037DD31B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826F-6C76-4452-AFAE-E7F82748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8C23-C694-42FC-98F4-8FDD1420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8CE-A9CE-4DAF-AA21-14CD964F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13ED-46F6-455C-81EE-9AD7F2E0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7076-74A8-41EA-9EA9-BCF66969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82C4-1047-42B2-A5D2-1B002167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06F9-9344-49BA-B920-FD604E78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E959-1FC8-4004-8D82-E87B2A41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A1D-10D7-45DA-8EB7-CFF81A26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0C9-1A8F-4DD4-9F0C-5AEA7EFE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84A-C540-47AE-9C58-949D216E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337-3F16-4084-A8FB-566774A2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AFB-1D48-4B2C-9F16-76754CDE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220-1D81-435A-B910-393CDD24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807-0F10-4BA0-B44E-583EB81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FE4A-1002-4FAE-9254-2C5AEC2D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7D52-5AAE-422A-865F-D53EB38430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1" descr=""/>
          <p:cNvPicPr/>
          <p:nvPr/>
        </p:nvPicPr>
        <p:blipFill>
          <a:blip r:embed="rId2"/>
          <a:stretch/>
        </p:blipFill>
        <p:spPr>
          <a:xfrm>
            <a:off x="466560" y="1268280"/>
            <a:ext cx="8394840" cy="7002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111600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33231_20061217191321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685800" y="457200"/>
            <a:ext cx="647712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作者介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叶永烈（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940—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著名科普作家、传记文学作家，是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十万个为什么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的主要作者，著有科幻故事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小灵通漫游未来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，影响较大。还著有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历史选择了毛泽东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毛泽东和蒋介石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星条旗下的中国人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胡乔木传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马思聪传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等传记。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998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年获香港“中华文学艺术家金龙奖”的“最佳传记文学家奖”。新版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小灵通漫游未来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于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月获第十三届中国图书奖。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月获中国当代优秀传记文学作家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199"/>
          <p:cNvSpPr/>
          <p:nvPr/>
        </p:nvSpPr>
        <p:spPr>
          <a:xfrm>
            <a:off x="248436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9041_20070630115400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2389810000[1]"/>
          <p:cNvPicPr/>
          <p:nvPr/>
        </p:nvPicPr>
        <p:blipFill>
          <a:blip r:embed="rId2"/>
          <a:stretch/>
        </p:blipFill>
        <p:spPr>
          <a:xfrm>
            <a:off x="7162920" y="5105520"/>
            <a:ext cx="1798560" cy="1253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914400" y="21337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、想一想课文具体写了哪几件事，用自己的话简要地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、再请大家仔细地读读这三个事例，看看三段话在写法上、内容上有什么相同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14600" y="45720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整体感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20_wEFn0RKXpudu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33160" y="685800"/>
            <a:ext cx="8305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理：已经证明具有正确性、可以作为原则或规律的命题或公式，如，几何定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律：科学上对某种客观规律的概括，反映事物在一定条件下发生一定变化过程的必然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说：指学术上自成理论体系的主张或见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司空见惯：看得多了，不以为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根求源：追溯事物发生的根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破砂锅问到底：比喻追究事情的根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微知著：微：隐约；著：明显。见到事情的苗头，就能知道它的实质和发展趋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锲而不舍：锲：镂刻；舍：停止。比喻有恒心，有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3505320" y="152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词语理解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文本框 8199"/>
          <p:cNvSpPr/>
          <p:nvPr/>
        </p:nvSpPr>
        <p:spPr>
          <a:xfrm>
            <a:off x="2771640" y="6165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"/>
                            </p:stCondLst>
                            <p:childTnLst>
                              <p:par>
                                <p:cTn id="2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"/>
                            </p:stCondLst>
                            <p:childTnLst>
                              <p:par>
                                <p:cTn id="3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"/>
                            </p:stCondLst>
                            <p:childTnLst>
                              <p:par>
                                <p:cTn id="3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"/>
                            </p:stCondLst>
                            <p:childTnLst>
                              <p:par>
                                <p:cTn id="4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"/>
                            </p:stCondLst>
                            <p:childTnLst>
                              <p:par>
                                <p:cTn id="5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"/>
                            </p:stCondLst>
                            <p:childTnLst>
                              <p:par>
                                <p:cTn id="5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"/>
                            </p:stCondLst>
                            <p:childTnLst>
                              <p:par>
                                <p:cTn id="6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1766845874_32Me6kvNUTs0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04920" y="762120"/>
          <a:ext cx="8534160" cy="5715000"/>
        </p:xfrm>
        <a:graphic>
          <a:graphicData uri="http://schemas.openxmlformats.org/drawingml/2006/table">
            <a:tbl>
              <a:tblPr/>
              <a:tblGrid>
                <a:gridCol w="1599840"/>
                <a:gridCol w="2271600"/>
                <a:gridCol w="2529000"/>
                <a:gridCol w="2133720"/>
              </a:tblGrid>
              <a:tr h="69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发现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断发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找到真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30"/>
          <p:cNvSpPr/>
          <p:nvPr/>
        </p:nvSpPr>
        <p:spPr>
          <a:xfrm>
            <a:off x="380880" y="1676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皮罗教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2133720" y="1600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洗澡水的漩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4343400" y="1494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为什么总朝逆时针方向旋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6705720" y="1494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旋涡的方向与地球的自转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380880" y="3611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波义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1981080" y="3429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盐酸会使花瓣变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4114800" y="32004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紫罗兰中的什么成分遇盐酸会变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6934320" y="33987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发明了酸碱试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80880" y="49989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奥地利医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1981080" y="49989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儿子做梦时眼珠转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343400" y="4846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眼珠转动会不会与做梦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"/>
          <p:cNvSpPr/>
          <p:nvPr/>
        </p:nvSpPr>
        <p:spPr>
          <a:xfrm>
            <a:off x="6629400" y="4800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凡睡者眼珠转动时都表示在做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1766896919_FDXsFqiXeOf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762120" y="121932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蕊试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蕊是一种枝状地衣，可提炼出红紫色的结晶粉末，粉末的主要成分是碱性碳酸盐；这种粉末微溶于水，易溶于酒精。将粉末溶于酒精溶液等，形成一种混合物，就是石蕊色素染料；把滤纸浸在染料中，干燥后便成了石蕊试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蕊试纸常用来检定物质的酸碱性。如果将石蕊试纸放入酸性溶液中，试纸就会转为红色；若放入碱性溶液中，试纸则变成蓝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3505320" y="304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相关链接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1523-5EEA-4E11-AD88-3434DFFC28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1766830372_hlK4MfMymRFy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3"/>
          <p:cNvSpPr txBox="1"/>
          <p:nvPr/>
        </p:nvSpPr>
        <p:spPr>
          <a:xfrm>
            <a:off x="3200400" y="2438280"/>
            <a:ext cx="38098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"/>
                            </p:stCondLst>
                            <p:childTnLst>
                              <p:par>
                                <p:cTn id="179" dur="indefinite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3:19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06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