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DF24-CFC3-4CC5-981B-F5540D2C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FF56-5710-4107-B039-08428D9E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2323-A67D-4CCC-8A36-2EA4D34A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276D-4F53-442A-8E4E-2CC30166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9AEB-D562-4454-BB3D-C452DB58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3EA8-E5F7-4138-B733-B9B36BE7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35EF-0BC0-4026-B155-BAC50C7B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E01C-5480-4C3F-BFE1-C0DF3E33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1F88-5972-4F4D-BD90-61982153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F182-1F0A-493B-8042-C1C7780F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FC87-B32F-40CA-BE9F-48F70495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EDEA-0ABE-4121-9EC9-EE990600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14D1-6C80-49DA-A97E-CA102472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ACE3-DF50-45C6-ABD6-6CFA550F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CDF7-ACA2-4129-82F1-05AEB7EA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9CAC-1627-4C97-B4DB-9ED2C173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1BDA-E3F5-490B-8416-DDE90946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1F01-1A5D-4957-B736-5049B304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C08-CC9D-42A9-9DD3-77421254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A910-A38B-4C82-B3E6-8973BBBE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03A-C4A3-4192-ACCE-78936888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22EB-344D-4D17-923E-205C616F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F73B-967D-451B-A492-1A9416F6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9B3-EAB6-419E-BDB7-64AD4269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CBC1-5EB0-42D7-B5ED-D1CFC461E4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7255-8A97-468F-BB33-225BD57CB1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684360" y="2330280"/>
            <a:ext cx="7848360" cy="148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站立起来的中国人</a:t>
            </a:r>
            <a:r>
              <a:rPr b="1" lang="en-US" sz="4000" spc="-1" strike="noStrike">
                <a:ln w="0">
                  <a:noFill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件下载</a:t>
            </a:r>
            <a:endParaRPr b="1" lang="en-US" sz="4000" spc="-1" strike="noStrike">
              <a:ln w="0">
                <a:noFill/>
              </a:ln>
              <a:solidFill>
                <a:srgbClr val="00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508040" y="1052640"/>
            <a:ext cx="554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人教新课标 六年级品德与社会上册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 advTm="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1571760" y="2214720"/>
            <a:ext cx="542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通过两张照片的对比你感受到什么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9" name="下箭头 2"/>
          <p:cNvSpPr/>
          <p:nvPr/>
        </p:nvSpPr>
        <p:spPr>
          <a:xfrm>
            <a:off x="1000080" y="571680"/>
            <a:ext cx="642960" cy="85716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cc99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638360" y="357120"/>
            <a:ext cx="576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想一想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1000080" y="500040"/>
            <a:ext cx="70581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我国是联合国安理会五个常任理事国之一，参与国际各项重大事务的讨论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2" name="Picture 5" descr="插图（2）"/>
          <p:cNvPicPr/>
          <p:nvPr/>
        </p:nvPicPr>
        <p:blipFill>
          <a:blip r:embed="rId1"/>
          <a:stretch/>
        </p:blipFill>
        <p:spPr>
          <a:xfrm>
            <a:off x="2143080" y="1643040"/>
            <a:ext cx="4392720" cy="299880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8199"/>
          <p:cNvSpPr/>
          <p:nvPr/>
        </p:nvSpPr>
        <p:spPr>
          <a:xfrm>
            <a:off x="2143080" y="4956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1071720" y="4500720"/>
            <a:ext cx="68418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亚洲论坛设在我国海南博鳌，它是亚洲各国共同商讨和解决亚洲重要事务的场所。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5" name="图片 3" descr="122918674_31n.jpg"/>
          <p:cNvPicPr/>
          <p:nvPr/>
        </p:nvPicPr>
        <p:blipFill>
          <a:blip r:embed="rId1"/>
          <a:stretch/>
        </p:blipFill>
        <p:spPr>
          <a:xfrm>
            <a:off x="1500120" y="71280"/>
            <a:ext cx="5929560" cy="4486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928800" y="3500280"/>
            <a:ext cx="6842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截止到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2003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年，中国已同世界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160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多个国家建立了外交关系；同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220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多个国家和地区展开了多方面的交流与合作。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7" name="Picture 6" descr="插图（5）"/>
          <p:cNvPicPr/>
          <p:nvPr/>
        </p:nvPicPr>
        <p:blipFill>
          <a:blip r:embed="rId1"/>
          <a:srcRect l="0" t="0" r="-26" b="0"/>
          <a:stretch/>
        </p:blipFill>
        <p:spPr>
          <a:xfrm>
            <a:off x="2214720" y="357120"/>
            <a:ext cx="4178160" cy="28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2714760" y="4286160"/>
            <a:ext cx="39290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2001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年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11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月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日世界贸易组织审议通过了中国加入世界贸易组织的决定。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9" name="Picture 6" descr="插图（4）"/>
          <p:cNvPicPr/>
          <p:nvPr/>
        </p:nvPicPr>
        <p:blipFill>
          <a:blip r:embed="rId1"/>
          <a:stretch/>
        </p:blipFill>
        <p:spPr>
          <a:xfrm>
            <a:off x="2214720" y="642960"/>
            <a:ext cx="4751280" cy="3290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0"/>
          <p:cNvSpPr/>
          <p:nvPr/>
        </p:nvSpPr>
        <p:spPr>
          <a:xfrm>
            <a:off x="714240" y="571680"/>
            <a:ext cx="136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◆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讨论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928800" y="1071720"/>
            <a:ext cx="707220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、体育运动给我国带来了什么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2008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年在北京举办奥运会，你作为一个中国人是否感到骄傲和自豪？我们每个人用一句发自肺腑的语言，来讴歌我们伟大的祖国。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5"/>
          <p:cNvGrpSpPr/>
          <p:nvPr/>
        </p:nvGrpSpPr>
        <p:grpSpPr>
          <a:xfrm>
            <a:off x="500040" y="285840"/>
            <a:ext cx="7867440" cy="4357080"/>
            <a:chOff x="500040" y="285840"/>
            <a:chExt cx="7867440" cy="4357080"/>
          </a:xfrm>
        </p:grpSpPr>
        <p:sp>
          <p:nvSpPr>
            <p:cNvPr id="123" name="AutoShape 14"/>
            <p:cNvSpPr/>
            <p:nvPr/>
          </p:nvSpPr>
          <p:spPr>
            <a:xfrm>
              <a:off x="500040" y="285840"/>
              <a:ext cx="7716240" cy="43570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4" name="Text Box 13"/>
            <p:cNvSpPr/>
            <p:nvPr/>
          </p:nvSpPr>
          <p:spPr>
            <a:xfrm>
              <a:off x="1071360" y="1498320"/>
              <a:ext cx="7296120" cy="17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cc"/>
                  </a:solidFill>
                  <a:latin typeface="Times New Roman"/>
                </a:rPr>
                <a:t>　　</a:t>
              </a:r>
              <a:r>
                <a:rPr b="1" lang="zh-CN" sz="3000" spc="-1" strike="noStrike">
                  <a:solidFill>
                    <a:srgbClr val="0000cc"/>
                  </a:solidFill>
                  <a:latin typeface="Times New Roman"/>
                </a:rPr>
                <a:t>我们的民族将再也不是一个被人侮辱的民族了，我们已经站起来了。</a:t>
              </a:r>
              <a:endParaRPr b="1" lang="en-US" sz="30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cc"/>
                  </a:solidFill>
                  <a:latin typeface="Times New Roman"/>
                </a:rPr>
                <a:t>                    </a:t>
              </a:r>
              <a:r>
                <a:rPr b="1" lang="zh-CN" sz="3000" spc="-1" strike="noStrike">
                  <a:solidFill>
                    <a:srgbClr val="0000cc"/>
                  </a:solidFill>
                  <a:latin typeface="Times New Roman"/>
                </a:rPr>
                <a:t>　　　　</a:t>
              </a: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——</a:t>
              </a:r>
              <a:r>
                <a:rPr b="1" lang="zh-CN" sz="3000" spc="-1" strike="noStrike">
                  <a:solidFill>
                    <a:srgbClr val="0000cc"/>
                  </a:solidFill>
                  <a:latin typeface="Times New Roman"/>
                </a:rPr>
                <a:t>毛泽东 </a:t>
              </a:r>
              <a:endParaRPr b="1" lang="en-US" sz="3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F1CB-4E9A-4726-A6C1-6A05DE55E679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AutoShape 4" descr=""/>
          <p:cNvPicPr/>
          <p:nvPr/>
        </p:nvPicPr>
        <p:blipFill>
          <a:blip r:embed="rId1"/>
          <a:stretch/>
        </p:blipFill>
        <p:spPr>
          <a:xfrm>
            <a:off x="125280" y="206280"/>
            <a:ext cx="6291360" cy="20289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1928880" y="2428920"/>
            <a:ext cx="5643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请搜集中国近年来频繁参与国际事务的相关报道，看谁最了解国家大事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041"/>
          <p:cNvSpPr/>
          <p:nvPr/>
        </p:nvSpPr>
        <p:spPr>
          <a:xfrm>
            <a:off x="3025800" y="2781360"/>
            <a:ext cx="2847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cc"/>
                </a:solidFill>
                <a:latin typeface="Times New Roman"/>
              </a:rPr>
              <a:t>回顾那激动人心的时刻</a:t>
            </a:r>
            <a:endParaRPr b="1" lang="en-US" sz="35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申奥成功</a:t>
            </a:r>
            <a:endParaRPr b="1" lang="en-US" sz="35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6" name="Text Box 1048"/>
          <p:cNvSpPr/>
          <p:nvPr/>
        </p:nvSpPr>
        <p:spPr>
          <a:xfrm>
            <a:off x="1187280" y="170028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从“东亚病夫”到相约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008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5"/>
          <p:cNvSpPr/>
          <p:nvPr/>
        </p:nvSpPr>
        <p:spPr>
          <a:xfrm>
            <a:off x="1000080" y="1857240"/>
            <a:ext cx="684216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你可知道在旧中国，中国人被人讥笑为“东亚病夫”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艰辛的奥运历程。　　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8" name="爆炸形 1 3"/>
          <p:cNvSpPr/>
          <p:nvPr/>
        </p:nvSpPr>
        <p:spPr>
          <a:xfrm>
            <a:off x="857160" y="857160"/>
            <a:ext cx="914400" cy="9144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857240" y="100008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Times New Roman"/>
              </a:rPr>
              <a:t>你知道吗？</a:t>
            </a:r>
            <a:endParaRPr b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pull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000080" y="1428840"/>
            <a:ext cx="221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想一想：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1357200" y="2000160"/>
            <a:ext cx="621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假如自己就是刘长春或看台上的一个中国观众，当时会是怎样的心情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571760" y="1357200"/>
            <a:ext cx="4857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在多个申奥国家的竞争中，为什么世界会选择中国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从中国申奥的成功和人们的欢呼声中，你看到和感受到了什么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928800" y="642960"/>
            <a:ext cx="4000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思考并在小组内讨论：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4" name="右箭头 4"/>
          <p:cNvSpPr/>
          <p:nvPr/>
        </p:nvSpPr>
        <p:spPr>
          <a:xfrm>
            <a:off x="214200" y="785880"/>
            <a:ext cx="785880" cy="28584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00cc99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" name="文本框 8199"/>
          <p:cNvSpPr/>
          <p:nvPr/>
        </p:nvSpPr>
        <p:spPr>
          <a:xfrm>
            <a:off x="1892160" y="4081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857160" y="571680"/>
            <a:ext cx="5929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1984——2008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年奥运会中国奖牌统计表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00040" y="1071720"/>
          <a:ext cx="4857840" cy="4471920"/>
        </p:xfrm>
        <a:graphic>
          <a:graphicData uri="http://schemas.openxmlformats.org/drawingml/2006/table">
            <a:tbl>
              <a:tblPr/>
              <a:tblGrid>
                <a:gridCol w="2071800"/>
                <a:gridCol w="857160"/>
                <a:gridCol w="785880"/>
                <a:gridCol w="1143000"/>
              </a:tblGrid>
              <a:tr h="8539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984——2008</a:t>
                      </a:r>
                      <a:r>
                        <a:rPr b="1" lang="zh-CN" sz="25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年奥运会中国奖牌统计表</a:t>
                      </a:r>
                      <a:endParaRPr b="1" lang="en-US" sz="25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金牌总数（枚）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奖牌总数（枚）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名次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4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1984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年（洛杉矶）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2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1988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年（汉城）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28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1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1992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年（巴塞罗那）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54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1996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年（亚特兰大）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2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2000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年（悉尼）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28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59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2004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年（雅典）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63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00040" y="5500800"/>
          <a:ext cx="4857840" cy="428400"/>
        </p:xfrm>
        <a:graphic>
          <a:graphicData uri="http://schemas.openxmlformats.org/drawingml/2006/table">
            <a:tbl>
              <a:tblPr/>
              <a:tblGrid>
                <a:gridCol w="2071800"/>
                <a:gridCol w="857160"/>
                <a:gridCol w="785880"/>
                <a:gridCol w="114300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747ff"/>
                          </a:solidFill>
                          <a:latin typeface="Times New Roman"/>
                          <a:ea typeface="宋体"/>
                        </a:rPr>
                        <a:t>2008</a:t>
                      </a:r>
                      <a:r>
                        <a:rPr b="1" lang="zh-CN" sz="1800" spc="-1" strike="noStrike">
                          <a:solidFill>
                            <a:srgbClr val="4747ff"/>
                          </a:solidFill>
                          <a:latin typeface="Times New Roman"/>
                          <a:ea typeface="宋体"/>
                        </a:rPr>
                        <a:t>年（北京）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747ff"/>
                          </a:solidFill>
                          <a:latin typeface="Times New Roman"/>
                          <a:ea typeface="宋体"/>
                        </a:rPr>
                        <a:t>51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747ff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747ff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  <p:sp>
        <p:nvSpPr>
          <p:cNvPr id="99" name="TextBox 8"/>
          <p:cNvSpPr/>
          <p:nvPr/>
        </p:nvSpPr>
        <p:spPr>
          <a:xfrm>
            <a:off x="5357880" y="492912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新中国的运动员为什么能不断取得好成绩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？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00" name="wo99_com_中华人民共和国国歌_伴奏.mp3" descr=""/>
          <p:cNvPicPr/>
          <p:nvPr/>
        </p:nvPicPr>
        <p:blipFill>
          <a:blip r:embed="rId1"/>
          <a:stretch/>
        </p:blipFill>
        <p:spPr>
          <a:xfrm>
            <a:off x="6429240" y="4214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4861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857160" y="928800"/>
            <a:ext cx="684216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体育的兴旺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从一个侧面反映了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国家的强盛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。祖国一天天地强大，使我国的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国际地位和威望日益提高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，我国已成为国际重大事务中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不可缺少的负责任的大国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。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000080" y="4287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日益提高的国际地位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03" name="Picture 5" descr="插图（1）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28760" y="2071800"/>
            <a:ext cx="7956360" cy="1998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1143000" y="4071960"/>
            <a:ext cx="667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2001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年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月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21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日参加亚太经和组织的各国首脑，身穿唐装聚集上海。会议主题是：新世纪，新挑战；合作、参与，促进共同繁荣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357200" y="1500120"/>
            <a:ext cx="428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两张照片的对话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11384818_927676.jpg"/>
          <p:cNvPicPr/>
          <p:nvPr/>
        </p:nvPicPr>
        <p:blipFill>
          <a:blip r:embed="rId1"/>
          <a:stretch/>
        </p:blipFill>
        <p:spPr>
          <a:xfrm>
            <a:off x="785880" y="214200"/>
            <a:ext cx="7572240" cy="3884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142920" y="4071960"/>
            <a:ext cx="8429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1901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年清政府与十一国列强在北京签订了丧权辱国的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《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辛丑条约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》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，中国赔偿白银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亿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千万两，外国军队可以驻扎在北京等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12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个重要地区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3:50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9:09Z</dcterms:modified>
  <cp:revision>17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720f000000000001024120</vt:lpwstr>
  </property>
</Properties>
</file>