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17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1DA2-3B0B-4C9E-B634-3F2B7C396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C46F-1834-4FD5-9A05-60AFDD385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9CF0-8F0B-41FF-8645-3B1D70D5D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248A-47DA-417A-BC1A-FE079C986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800D3-9658-4D5B-B7D2-3AF232634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9E5ED-A3B4-4CBA-BEAD-28307301D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573F1-AE56-49BF-A40C-6244B4F23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387A3-5D53-4324-9579-DC2C7D4D7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AEF4A-4492-4FB2-A45D-509CB51FB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D5FFA-13BC-4008-9051-515B408A4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CC393-296B-49E5-B6EA-84729368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228D-461A-478C-956D-B54561BC6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8251F-5CD4-4EE7-8797-9B51A918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4D3A6-47AE-4E32-A9B0-098F7B8D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70DFF-36A3-49EF-BE01-E560FE688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ABC23-FEC8-448A-873F-3800C5838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983F0-4EEE-4701-9A76-85661B86B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61F83-F3DC-48CF-ADB8-3AC0E032B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554F3-5207-455C-B41B-AEC0F3839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B22EA-2CFF-4111-B895-E17240C2B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3AB3F-B02D-47BB-9103-202C4FDE3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AF048-1B17-4DE3-89AD-96DDFE938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C395-9193-4151-8125-B44FFA8F6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22A83-47FD-4F75-AECC-72220A70F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CB6BE-5BE5-4ECD-8580-392A25F4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E2C9F-2B40-4F26-96DC-A1BB33FB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A0ADE-E9A0-4563-85D7-F74DE8C7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53D1D-0F2D-4C2D-989F-C46C7B4B8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15866-F549-49CB-8B96-49E411A14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A83AC-5544-4364-AC93-7C9367C26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AD624-5AAF-4541-8322-3D45E0FAC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7F4B7-8889-436C-9E33-93E9CCD0C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9C499-D1B3-45B9-AAEB-99C500405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8BE0-EC14-4003-B4AF-2ADBD3A8C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AD5EB-506D-435C-8D84-8F4CC5139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B60E1-C0EC-4A49-94C7-623C98A58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2E8BF-8F98-4C2F-A080-FE474FD2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FA77D-9DC5-4411-B996-133C744B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BDF40-8FD4-4B3E-8571-D3D7A220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0F7C5-6742-4D6C-91BE-1C0CDE1D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A6682-7A75-465B-A3D7-FBEB42D14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B10EF-5303-4DC8-92A0-4FADFBC45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25256-8CDE-4AFC-82FC-04C9EB082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D44B-A13B-489A-BE5C-2607F7F4A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90E4-8F7F-4E54-A1E2-E0B5CE548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CBD3-4DE0-4909-8C9D-800C935B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EE44-D1D6-436D-94F4-6D2BF431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2549-9F8D-4E86-8D5F-A395AEE6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lvl="1" marL="457200" indent="457200">
              <a:spcBef>
                <a:spcPts val="601"/>
              </a:spcBef>
              <a:buClr>
                <a:srgbClr val="80808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lvl="2" marL="91440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lvl="3" marL="1371600" indent="-457200">
              <a:spcBef>
                <a:spcPts val="601"/>
              </a:spcBef>
              <a:buClr>
                <a:srgbClr val="80808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lvl="4" marL="1828800" indent="-91440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3082E-E506-470B-8E45-D12925B34FA4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993DE-AD9B-4AE0-BE04-250374E6C07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lvl="1" marL="457200" indent="457200">
              <a:spcBef>
                <a:spcPts val="601"/>
              </a:spcBef>
              <a:buClr>
                <a:srgbClr val="80808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lvl="2" marL="91440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lvl="3" marL="1371600" indent="-457200">
              <a:spcBef>
                <a:spcPts val="601"/>
              </a:spcBef>
              <a:buClr>
                <a:srgbClr val="80808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lvl="4" marL="1828800" indent="-91440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8DB19-AFB7-47F2-AEF5-2525A37AEDDE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lvl="1" marL="457200" indent="457200">
              <a:spcBef>
                <a:spcPts val="601"/>
              </a:spcBef>
              <a:buClr>
                <a:srgbClr val="80808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lvl="2" marL="91440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lvl="3" marL="1371600" indent="-457200">
              <a:spcBef>
                <a:spcPts val="601"/>
              </a:spcBef>
              <a:buClr>
                <a:srgbClr val="80808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lvl="4" marL="1828800" indent="-91440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8D3F4-EE90-4662-8226-ADDA1C5A44CA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6" descr="284_133467_486e61c0fa2483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4" name="WordArt 7" descr=""/>
          <p:cNvPicPr/>
          <p:nvPr/>
        </p:nvPicPr>
        <p:blipFill>
          <a:blip r:embed="rId2"/>
          <a:stretch/>
        </p:blipFill>
        <p:spPr>
          <a:xfrm>
            <a:off x="885960" y="966960"/>
            <a:ext cx="7358040" cy="2331720"/>
          </a:xfrm>
          <a:prstGeom prst="rect">
            <a:avLst/>
          </a:prstGeom>
          <a:ln w="0">
            <a:noFill/>
          </a:ln>
        </p:spPr>
      </p:pic>
      <p:sp>
        <p:nvSpPr>
          <p:cNvPr id="17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4" descr="HWOCRTEMP_ROC180"/>
          <p:cNvPicPr/>
          <p:nvPr/>
        </p:nvPicPr>
        <p:blipFill>
          <a:blip r:embed="rId1"/>
          <a:stretch/>
        </p:blipFill>
        <p:spPr>
          <a:xfrm>
            <a:off x="0" y="0"/>
            <a:ext cx="8964720" cy="6846840"/>
          </a:xfrm>
          <a:prstGeom prst="rect">
            <a:avLst/>
          </a:prstGeom>
          <a:ln w="0">
            <a:noFill/>
          </a:ln>
        </p:spPr>
      </p:pic>
      <p:grpSp>
        <p:nvGrpSpPr>
          <p:cNvPr id="294" name=""/>
          <p:cNvGrpSpPr/>
          <p:nvPr/>
        </p:nvGrpSpPr>
        <p:grpSpPr>
          <a:xfrm>
            <a:off x="4643280" y="5734080"/>
            <a:ext cx="433440" cy="360"/>
            <a:chOff x="4643280" y="5734080"/>
            <a:chExt cx="433440" cy="360"/>
          </a:xfrm>
        </p:grpSpPr>
        <p:sp>
          <p:nvSpPr>
            <p:cNvPr id="295" name="Line 13"/>
            <p:cNvSpPr/>
            <p:nvPr/>
          </p:nvSpPr>
          <p:spPr>
            <a:xfrm>
              <a:off x="4643280" y="5734080"/>
              <a:ext cx="43344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 txBox="1"/>
            <p:nvPr/>
          </p:nvSpPr>
          <p:spPr>
            <a:xfrm>
              <a:off x="4643280" y="5734080"/>
              <a:ext cx="43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Group 19"/>
          <p:cNvGrpSpPr/>
          <p:nvPr/>
        </p:nvGrpSpPr>
        <p:grpSpPr>
          <a:xfrm>
            <a:off x="714240" y="1628640"/>
            <a:ext cx="7948440" cy="4626000"/>
            <a:chOff x="714240" y="1628640"/>
            <a:chExt cx="7948440" cy="4626000"/>
          </a:xfrm>
        </p:grpSpPr>
        <p:sp>
          <p:nvSpPr>
            <p:cNvPr id="298" name="Text Box 5"/>
            <p:cNvSpPr/>
            <p:nvPr/>
          </p:nvSpPr>
          <p:spPr>
            <a:xfrm>
              <a:off x="1818360" y="21002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6"/>
            <p:cNvSpPr/>
            <p:nvPr/>
          </p:nvSpPr>
          <p:spPr>
            <a:xfrm>
              <a:off x="1621440" y="38606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7"/>
            <p:cNvSpPr/>
            <p:nvPr/>
          </p:nvSpPr>
          <p:spPr>
            <a:xfrm>
              <a:off x="4386240" y="2976480"/>
              <a:ext cx="48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8"/>
            <p:cNvSpPr/>
            <p:nvPr/>
          </p:nvSpPr>
          <p:spPr>
            <a:xfrm>
              <a:off x="5798160" y="16286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9"/>
            <p:cNvSpPr/>
            <p:nvPr/>
          </p:nvSpPr>
          <p:spPr>
            <a:xfrm>
              <a:off x="5005800" y="54450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10"/>
            <p:cNvSpPr/>
            <p:nvPr/>
          </p:nvSpPr>
          <p:spPr>
            <a:xfrm>
              <a:off x="7453440" y="378936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11"/>
            <p:cNvSpPr/>
            <p:nvPr/>
          </p:nvSpPr>
          <p:spPr>
            <a:xfrm>
              <a:off x="4286880" y="573408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12"/>
            <p:cNvSpPr/>
            <p:nvPr/>
          </p:nvSpPr>
          <p:spPr>
            <a:xfrm>
              <a:off x="8245800" y="414972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14"/>
            <p:cNvSpPr/>
            <p:nvPr/>
          </p:nvSpPr>
          <p:spPr>
            <a:xfrm>
              <a:off x="5178240" y="3933720"/>
              <a:ext cx="48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④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15"/>
            <p:cNvSpPr/>
            <p:nvPr/>
          </p:nvSpPr>
          <p:spPr>
            <a:xfrm>
              <a:off x="6330960" y="2903400"/>
              <a:ext cx="48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16"/>
            <p:cNvSpPr/>
            <p:nvPr/>
          </p:nvSpPr>
          <p:spPr>
            <a:xfrm>
              <a:off x="5510880" y="32846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17"/>
            <p:cNvSpPr/>
            <p:nvPr/>
          </p:nvSpPr>
          <p:spPr>
            <a:xfrm>
              <a:off x="4530600" y="1628640"/>
              <a:ext cx="48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18"/>
            <p:cNvSpPr/>
            <p:nvPr/>
          </p:nvSpPr>
          <p:spPr>
            <a:xfrm>
              <a:off x="714240" y="2687760"/>
              <a:ext cx="48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⑤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Text Box 20"/>
          <p:cNvSpPr/>
          <p:nvPr/>
        </p:nvSpPr>
        <p:spPr>
          <a:xfrm>
            <a:off x="179280" y="5300640"/>
            <a:ext cx="3888000" cy="1373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地形区：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岛屿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F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海峡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山脉：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~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21"/>
          <p:cNvSpPr/>
          <p:nvPr/>
        </p:nvSpPr>
        <p:spPr>
          <a:xfrm>
            <a:off x="4932360" y="836640"/>
            <a:ext cx="1008000" cy="504720"/>
          </a:xfrm>
          <a:prstGeom prst="wedgeRectCallout">
            <a:avLst>
              <a:gd name="adj1" fmla="val -52833"/>
              <a:gd name="adj2" fmla="val 127046"/>
            </a:avLst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巫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22"/>
          <p:cNvSpPr/>
          <p:nvPr/>
        </p:nvSpPr>
        <p:spPr>
          <a:xfrm>
            <a:off x="2340000" y="1413000"/>
            <a:ext cx="1727280" cy="576000"/>
          </a:xfrm>
          <a:prstGeom prst="wedgeRectCallout">
            <a:avLst>
              <a:gd name="adj1" fmla="val -59009"/>
              <a:gd name="adj2" fmla="val 98759"/>
            </a:avLst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c5252"/>
                </a:solidFill>
                <a:latin typeface="Arial"/>
              </a:rPr>
              <a:t>四川盆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23"/>
          <p:cNvSpPr/>
          <p:nvPr/>
        </p:nvSpPr>
        <p:spPr>
          <a:xfrm>
            <a:off x="6588000" y="2205000"/>
            <a:ext cx="1835280" cy="717480"/>
          </a:xfrm>
          <a:prstGeom prst="wedgeRectCallout">
            <a:avLst>
              <a:gd name="adj1" fmla="val 17212"/>
              <a:gd name="adj2" fmla="val 142699"/>
            </a:avLst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2b2b2"/>
                </a:solidFill>
                <a:latin typeface="Arial"/>
              </a:rPr>
              <a:t>台湾海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24"/>
          <p:cNvSpPr/>
          <p:nvPr/>
        </p:nvSpPr>
        <p:spPr>
          <a:xfrm rot="5400000">
            <a:off x="4716000" y="5733720"/>
            <a:ext cx="503280" cy="1366920"/>
          </a:xfrm>
          <a:prstGeom prst="wedgeRectCallout">
            <a:avLst>
              <a:gd name="adj1" fmla="val -79657"/>
              <a:gd name="adj2" fmla="val 31763"/>
            </a:avLst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海南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25"/>
          <p:cNvSpPr/>
          <p:nvPr/>
        </p:nvSpPr>
        <p:spPr>
          <a:xfrm rot="10800000">
            <a:off x="2771280" y="3499920"/>
            <a:ext cx="1295640" cy="576360"/>
          </a:xfrm>
          <a:prstGeom prst="wedgeRectCallout">
            <a:avLst>
              <a:gd name="adj1" fmla="val -91425"/>
              <a:gd name="adj2" fmla="val 86087"/>
            </a:avLst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雪峰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26"/>
          <p:cNvSpPr/>
          <p:nvPr/>
        </p:nvSpPr>
        <p:spPr>
          <a:xfrm>
            <a:off x="6156360" y="620640"/>
            <a:ext cx="2808360" cy="792360"/>
          </a:xfrm>
          <a:prstGeom prst="wedgeRectCallout">
            <a:avLst>
              <a:gd name="adj1" fmla="val -49263"/>
              <a:gd name="adj2" fmla="val 95087"/>
            </a:avLst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c5252"/>
                </a:solidFill>
                <a:latin typeface="Arial"/>
              </a:rPr>
              <a:t>长江中下游平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27"/>
          <p:cNvSpPr/>
          <p:nvPr/>
        </p:nvSpPr>
        <p:spPr>
          <a:xfrm rot="10800000">
            <a:off x="179280" y="4508280"/>
            <a:ext cx="1728720" cy="718920"/>
          </a:xfrm>
          <a:prstGeom prst="wedgeRectCallout">
            <a:avLst>
              <a:gd name="adj1" fmla="val -34300"/>
              <a:gd name="adj2" fmla="val 88629"/>
            </a:avLst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c5252"/>
                </a:solidFill>
                <a:latin typeface="Arial"/>
              </a:rPr>
              <a:t>云贵高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28"/>
          <p:cNvSpPr/>
          <p:nvPr/>
        </p:nvSpPr>
        <p:spPr>
          <a:xfrm rot="5400000">
            <a:off x="6227640" y="3931920"/>
            <a:ext cx="1006200" cy="1152720"/>
          </a:xfrm>
          <a:prstGeom prst="wedgeRectCallout">
            <a:avLst>
              <a:gd name="adj1" fmla="val -87009"/>
              <a:gd name="adj2" fmla="val 84847"/>
            </a:avLst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c5252"/>
                </a:solidFill>
                <a:latin typeface="Arial"/>
              </a:rPr>
              <a:t>东南丘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29"/>
          <p:cNvSpPr/>
          <p:nvPr/>
        </p:nvSpPr>
        <p:spPr>
          <a:xfrm rot="10800000">
            <a:off x="7596000" y="5300640"/>
            <a:ext cx="1331640" cy="504720"/>
          </a:xfrm>
          <a:prstGeom prst="wedgeRectCallout">
            <a:avLst>
              <a:gd name="adj1" fmla="val -898"/>
              <a:gd name="adj2" fmla="val 203773"/>
            </a:avLst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台湾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30"/>
          <p:cNvSpPr/>
          <p:nvPr/>
        </p:nvSpPr>
        <p:spPr>
          <a:xfrm>
            <a:off x="4932360" y="2349360"/>
            <a:ext cx="1366920" cy="574920"/>
          </a:xfrm>
          <a:prstGeom prst="wedgeRectCallout">
            <a:avLst>
              <a:gd name="adj1" fmla="val 56504"/>
              <a:gd name="adj2" fmla="val 93648"/>
            </a:avLst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武夷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31"/>
          <p:cNvSpPr/>
          <p:nvPr/>
        </p:nvSpPr>
        <p:spPr>
          <a:xfrm rot="10800000">
            <a:off x="3995280" y="4652640"/>
            <a:ext cx="1081080" cy="647640"/>
          </a:xfrm>
          <a:prstGeom prst="wedgeRectCallout">
            <a:avLst>
              <a:gd name="adj1" fmla="val -69092"/>
              <a:gd name="adj2" fmla="val 120097"/>
            </a:avLst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南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32"/>
          <p:cNvSpPr/>
          <p:nvPr/>
        </p:nvSpPr>
        <p:spPr>
          <a:xfrm>
            <a:off x="250920" y="1628640"/>
            <a:ext cx="1655640" cy="503280"/>
          </a:xfrm>
          <a:prstGeom prst="wedgeRectCallout">
            <a:avLst>
              <a:gd name="adj1" fmla="val -11171"/>
              <a:gd name="adj2" fmla="val 179967"/>
            </a:avLst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横断山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33"/>
          <p:cNvSpPr/>
          <p:nvPr/>
        </p:nvSpPr>
        <p:spPr>
          <a:xfrm>
            <a:off x="5651640" y="5229360"/>
            <a:ext cx="1800000" cy="504720"/>
          </a:xfrm>
          <a:prstGeom prst="wedgeRectCallout">
            <a:avLst>
              <a:gd name="adj1" fmla="val -66050"/>
              <a:gd name="adj2" fmla="val 28930"/>
            </a:avLst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2b2b2"/>
                </a:solidFill>
                <a:latin typeface="Arial"/>
              </a:rPr>
              <a:t>琼州海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中国干湿状况"/>
          <p:cNvPicPr/>
          <p:nvPr/>
        </p:nvPicPr>
        <p:blipFill>
          <a:blip r:embed="rId1"/>
          <a:stretch/>
        </p:blipFill>
        <p:spPr>
          <a:xfrm>
            <a:off x="4724280" y="3322800"/>
            <a:ext cx="4419720" cy="35352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中国温度带1"/>
          <p:cNvPicPr/>
          <p:nvPr/>
        </p:nvPicPr>
        <p:blipFill>
          <a:blip r:embed="rId2"/>
          <a:stretch/>
        </p:blipFill>
        <p:spPr>
          <a:xfrm>
            <a:off x="4600440" y="0"/>
            <a:ext cx="4543560" cy="358920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4"/>
          <p:cNvSpPr/>
          <p:nvPr/>
        </p:nvSpPr>
        <p:spPr>
          <a:xfrm>
            <a:off x="684360" y="2852640"/>
            <a:ext cx="297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夏季高温多雨                                         冬季温暖湿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4171680" cy="69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5897"/>
                </a:solidFill>
                <a:latin typeface="Palatino Linotype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2f5897"/>
                </a:solidFill>
                <a:latin typeface="Palatino Linotype"/>
                <a:ea typeface="华文新魏"/>
              </a:rPr>
              <a:t>、南方地区的气候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9" name="Text Box 8"/>
          <p:cNvSpPr/>
          <p:nvPr/>
        </p:nvSpPr>
        <p:spPr>
          <a:xfrm>
            <a:off x="539640" y="1125360"/>
            <a:ext cx="295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亚热带季风气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热带季风气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18"/>
          <p:cNvGrpSpPr/>
          <p:nvPr/>
        </p:nvGrpSpPr>
        <p:grpSpPr>
          <a:xfrm>
            <a:off x="468360" y="4076640"/>
            <a:ext cx="4176720" cy="2611440"/>
            <a:chOff x="468360" y="4076640"/>
            <a:chExt cx="4176720" cy="2611440"/>
          </a:xfrm>
        </p:grpSpPr>
        <p:pic>
          <p:nvPicPr>
            <p:cNvPr id="331" name="Picture 14" descr="013000~3"/>
            <p:cNvPicPr/>
            <p:nvPr/>
          </p:nvPicPr>
          <p:blipFill>
            <a:blip r:embed="rId3"/>
            <a:stretch/>
          </p:blipFill>
          <p:spPr>
            <a:xfrm>
              <a:off x="468360" y="4076640"/>
              <a:ext cx="2087640" cy="25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16" descr="201104~1"/>
            <p:cNvPicPr/>
            <p:nvPr/>
          </p:nvPicPr>
          <p:blipFill>
            <a:blip r:embed="rId4"/>
            <a:stretch/>
          </p:blipFill>
          <p:spPr>
            <a:xfrm>
              <a:off x="2484720" y="4076640"/>
              <a:ext cx="2160360" cy="2611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文本框 8200"/>
          <p:cNvSpPr/>
          <p:nvPr/>
        </p:nvSpPr>
        <p:spPr>
          <a:xfrm>
            <a:off x="119160" y="22860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99ff"/>
                </a:solidFill>
                <a:uFillTx/>
                <a:latin typeface="Arial"/>
                <a:ea typeface="宋体"/>
                <a:hlinkClick r:id="rId5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WordArt 4"/>
          <p:cNvSpPr txBox="1"/>
          <p:nvPr/>
        </p:nvSpPr>
        <p:spPr>
          <a:xfrm>
            <a:off x="539640" y="476280"/>
            <a:ext cx="2057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合作探究</a:t>
            </a:r>
            <a:endParaRPr b="1" lang="en-US" sz="54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1834560" y="1773360"/>
            <a:ext cx="48747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探究一：冬季，四川盆地比同纬度的长江中下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平原温暖的原因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探究二：西双版纳不受寒潮影响，而广州却受寒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影响的原因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8" descr="Image3"/>
          <p:cNvPicPr/>
          <p:nvPr/>
        </p:nvPicPr>
        <p:blipFill>
          <a:blip r:embed="rId3"/>
          <a:stretch/>
        </p:blipFill>
        <p:spPr>
          <a:xfrm>
            <a:off x="503280" y="0"/>
            <a:ext cx="8640720" cy="64818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0" descr="正文 (45)"/>
          <p:cNvPicPr/>
          <p:nvPr/>
        </p:nvPicPr>
        <p:blipFill>
          <a:blip r:embed="rId4"/>
          <a:stretch/>
        </p:blipFill>
        <p:spPr>
          <a:xfrm>
            <a:off x="468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6"/>
          <p:cNvSpPr/>
          <p:nvPr/>
        </p:nvSpPr>
        <p:spPr>
          <a:xfrm>
            <a:off x="1911600" y="2565360"/>
            <a:ext cx="5301360" cy="94716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四川盆地周围地势高，阻挡了冬季风进入；长江中下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平原地势低平，受冬季风影响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7"/>
          <p:cNvSpPr/>
          <p:nvPr/>
        </p:nvSpPr>
        <p:spPr>
          <a:xfrm>
            <a:off x="378000" y="5300640"/>
            <a:ext cx="8515080" cy="94716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西双版纳位于云贵高原的南部，云贵高原阻挡了南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的寒潮；广州位于珠江三角洲地区，地势低平，受寒潮影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0" dur="5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4"/>
          <p:cNvSpPr/>
          <p:nvPr/>
        </p:nvSpPr>
        <p:spPr>
          <a:xfrm>
            <a:off x="395280" y="2134440"/>
            <a:ext cx="8497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南方地区位于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南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东，东临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南临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南方地区地形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东西差异明显。西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主，东部交错分布着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沿江有面积较大的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南方地区属于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气候，特点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WordArt 5"/>
          <p:cNvSpPr txBox="1"/>
          <p:nvPr/>
        </p:nvSpPr>
        <p:spPr>
          <a:xfrm>
            <a:off x="900000" y="692280"/>
            <a:ext cx="1440000" cy="7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小结</a:t>
            </a:r>
            <a:endParaRPr b="1" lang="en-US" sz="40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42" name="Text Box 11"/>
          <p:cNvSpPr/>
          <p:nvPr/>
        </p:nvSpPr>
        <p:spPr>
          <a:xfrm>
            <a:off x="1042920" y="328464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高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2"/>
          <p:cNvSpPr/>
          <p:nvPr/>
        </p:nvSpPr>
        <p:spPr>
          <a:xfrm>
            <a:off x="3635280" y="328464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盆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3"/>
          <p:cNvSpPr/>
          <p:nvPr/>
        </p:nvSpPr>
        <p:spPr>
          <a:xfrm>
            <a:off x="1187280" y="371628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平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4"/>
          <p:cNvSpPr/>
          <p:nvPr/>
        </p:nvSpPr>
        <p:spPr>
          <a:xfrm>
            <a:off x="3492360" y="3716280"/>
            <a:ext cx="12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低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5"/>
          <p:cNvSpPr/>
          <p:nvPr/>
        </p:nvSpPr>
        <p:spPr>
          <a:xfrm>
            <a:off x="5580000" y="37162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丘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6"/>
          <p:cNvSpPr/>
          <p:nvPr/>
        </p:nvSpPr>
        <p:spPr>
          <a:xfrm>
            <a:off x="2484360" y="414972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平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7"/>
          <p:cNvSpPr/>
          <p:nvPr/>
        </p:nvSpPr>
        <p:spPr>
          <a:xfrm>
            <a:off x="4716360" y="414972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三角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8"/>
          <p:cNvSpPr/>
          <p:nvPr/>
        </p:nvSpPr>
        <p:spPr>
          <a:xfrm>
            <a:off x="2771640" y="458136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亚热带季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9"/>
          <p:cNvSpPr/>
          <p:nvPr/>
        </p:nvSpPr>
        <p:spPr>
          <a:xfrm>
            <a:off x="5364000" y="4581360"/>
            <a:ext cx="22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热带季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20"/>
          <p:cNvSpPr/>
          <p:nvPr/>
        </p:nvSpPr>
        <p:spPr>
          <a:xfrm>
            <a:off x="1547640" y="5013360"/>
            <a:ext cx="51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夏季高温多雨冬季温暖湿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1"/>
          <p:cNvSpPr/>
          <p:nvPr/>
        </p:nvSpPr>
        <p:spPr>
          <a:xfrm>
            <a:off x="2987640" y="292428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复杂多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4859280" y="249228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南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41"/>
          <p:cNvSpPr/>
          <p:nvPr/>
        </p:nvSpPr>
        <p:spPr>
          <a:xfrm>
            <a:off x="1763640" y="249228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东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42"/>
          <p:cNvSpPr/>
          <p:nvPr/>
        </p:nvSpPr>
        <p:spPr>
          <a:xfrm>
            <a:off x="6012000" y="206064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青藏高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3"/>
          <p:cNvSpPr/>
          <p:nvPr/>
        </p:nvSpPr>
        <p:spPr>
          <a:xfrm>
            <a:off x="2556000" y="2060640"/>
            <a:ext cx="31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秦岭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淮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4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9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7"/>
          <p:cNvSpPr/>
          <p:nvPr/>
        </p:nvSpPr>
        <p:spPr>
          <a:xfrm>
            <a:off x="324000" y="2637000"/>
            <a:ext cx="84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红土地”、紫色土壤、喀斯特地形的成因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WordArt 8"/>
          <p:cNvSpPr txBox="1"/>
          <p:nvPr/>
        </p:nvSpPr>
        <p:spPr>
          <a:xfrm>
            <a:off x="539640" y="476280"/>
            <a:ext cx="2057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找找说说</a:t>
            </a:r>
            <a:endParaRPr b="1" lang="en-US" sz="54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2"/>
          <p:cNvSpPr/>
          <p:nvPr/>
        </p:nvSpPr>
        <p:spPr>
          <a:xfrm>
            <a:off x="468360" y="476280"/>
            <a:ext cx="8351640" cy="21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</a:rPr>
              <a:t>红壤  高温多雨环境淋溶作用强，有机质分解快，土质黏重，有机质少的酸性土壤。长江以南广大丘陵，红壤广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</a:rPr>
              <a:t>紫色土  分布在四川盆地，由盆地中紫红色的砂岩和页岩发育而成，较为肥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</a:rPr>
              <a:t>中国西南喀斯特地区位于湿热多雨的亚热带气候区，这本来是有利于农作物生长的，但由于喀斯特发育的石灰岩地区多裂缝空洞，雨水、地面水极易漏失，造成农田受旱；另一方面，因缺乏地表排水系统的封闭洼地地形，雨季又极易受涝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WordArt 12"/>
          <p:cNvSpPr txBox="1"/>
          <p:nvPr/>
        </p:nvSpPr>
        <p:spPr>
          <a:xfrm>
            <a:off x="1547640" y="907920"/>
            <a:ext cx="5616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二、重要的水田农业区</a:t>
            </a:r>
            <a:endParaRPr b="0" lang="en-US" sz="18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042920" y="2781000"/>
            <a:ext cx="684216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entury Gothic"/>
              </a:rPr>
              <a:t>1.</a:t>
            </a:r>
            <a:r>
              <a:rPr b="1" lang="zh-CN" sz="2400" spc="-1" strike="noStrike">
                <a:solidFill>
                  <a:srgbClr val="808080"/>
                </a:solidFill>
                <a:latin typeface="Century Gothic"/>
              </a:rPr>
              <a:t>水田发展的气候条件。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entury Gothic"/>
              </a:rPr>
              <a:t>2.</a:t>
            </a:r>
            <a:r>
              <a:rPr b="1" lang="zh-CN" sz="2400" spc="-1" strike="noStrike">
                <a:solidFill>
                  <a:srgbClr val="808080"/>
                </a:solidFill>
                <a:latin typeface="Century Gothic"/>
              </a:rPr>
              <a:t>水田发展的地形条件。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entury Gothic"/>
              </a:rPr>
              <a:t>3.</a:t>
            </a:r>
            <a:r>
              <a:rPr b="1" lang="zh-CN" sz="2400" spc="-1" strike="noStrike">
                <a:solidFill>
                  <a:srgbClr val="808080"/>
                </a:solidFill>
                <a:latin typeface="Century Gothic"/>
              </a:rPr>
              <a:t>本区盛产水稻的原因？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500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南方地区无论从热量条件和水分条件看，都优于北方地区， 其农业生产的有利条件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雨热同期，水热配合好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长江中下游平原、珠江三角洲地势低平、土壤肥沃，河汊纵横，既灌溉便利，也利于发展淡水养殖；四川盆地紫色土肥沃；横断山区，森林资源丰富，树种多，人类影响小，利于发展林业生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长江流域农业生产历史悠久，生产水平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因此南方地区在平原、盆地等地区发展了水田为主的种植业，农作物一年可以两熟至三熟；低山丘陵地区为我国南方地区的重要林区，生长着常绿阔叶林；珠江三角洲的基塘生产：混合农业；两广地区是我国热带和亚热带水果的主要产区，盛产香蕉、菠萝、荔枝等；海南岛、雷州半岛和台湾岛的南部是我国热带经济作物的生产基地，如天然橡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900000" y="620640"/>
            <a:ext cx="7272360" cy="56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4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4"/>
          <p:cNvSpPr txBox="1"/>
          <p:nvPr/>
        </p:nvSpPr>
        <p:spPr>
          <a:xfrm>
            <a:off x="2771640" y="476280"/>
            <a:ext cx="3600720" cy="11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华文行楷"/>
              </a:rPr>
              <a:t>教学目标</a:t>
            </a:r>
            <a:endParaRPr b="1" lang="en-US" sz="1800" spc="-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latin typeface="华文行楷"/>
              <a:ea typeface="华文行楷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2003760" y="2132640"/>
            <a:ext cx="5136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了解南方地区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位置、范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以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地形特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了解南方地区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气候特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及红土地的成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分析南方地区农业发展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有利条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了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南方地区主要的农作物及其分布地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4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3456000"/>
          </a:xfrm>
          <a:prstGeom prst="rect">
            <a:avLst/>
          </a:prstGeom>
          <a:ln w="0">
            <a:noFill/>
          </a:ln>
        </p:spPr>
      </p:pic>
      <p:sp>
        <p:nvSpPr>
          <p:cNvPr id="366" name="文本框 8200"/>
          <p:cNvSpPr/>
          <p:nvPr/>
        </p:nvSpPr>
        <p:spPr>
          <a:xfrm>
            <a:off x="1233360" y="29052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99ff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164AB-D54F-455E-AA2E-C81FB06286E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6"/>
          <p:cNvSpPr/>
          <p:nvPr/>
        </p:nvSpPr>
        <p:spPr>
          <a:xfrm>
            <a:off x="950760" y="914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WordArt 7"/>
          <p:cNvSpPr txBox="1"/>
          <p:nvPr/>
        </p:nvSpPr>
        <p:spPr>
          <a:xfrm>
            <a:off x="539640" y="476280"/>
            <a:ext cx="2057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小结</a:t>
            </a:r>
            <a:endParaRPr b="1" lang="en-US" sz="54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73" name="Text Box 10"/>
          <p:cNvSpPr/>
          <p:nvPr/>
        </p:nvSpPr>
        <p:spPr>
          <a:xfrm>
            <a:off x="756720" y="17859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位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1"/>
          <p:cNvSpPr/>
          <p:nvPr/>
        </p:nvSpPr>
        <p:spPr>
          <a:xfrm>
            <a:off x="685080" y="2708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地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2"/>
          <p:cNvSpPr/>
          <p:nvPr/>
        </p:nvSpPr>
        <p:spPr>
          <a:xfrm>
            <a:off x="685080" y="35146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气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3"/>
          <p:cNvSpPr/>
          <p:nvPr/>
        </p:nvSpPr>
        <p:spPr>
          <a:xfrm>
            <a:off x="3061080" y="2781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南方地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4"/>
          <p:cNvSpPr/>
          <p:nvPr/>
        </p:nvSpPr>
        <p:spPr>
          <a:xfrm>
            <a:off x="5941080" y="19890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重要的水田农业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5"/>
          <p:cNvSpPr/>
          <p:nvPr/>
        </p:nvSpPr>
        <p:spPr>
          <a:xfrm>
            <a:off x="5364000" y="2781360"/>
            <a:ext cx="28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发展的有利条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16"/>
          <p:cNvSpPr/>
          <p:nvPr/>
        </p:nvSpPr>
        <p:spPr>
          <a:xfrm>
            <a:off x="1692360" y="1916280"/>
            <a:ext cx="360360" cy="2089080"/>
          </a:xfrm>
          <a:custGeom>
            <a:avLst/>
            <a:gdLst>
              <a:gd name="textAreaLeft" fmla="*/ 0 w 360360"/>
              <a:gd name="textAreaRight" fmla="*/ 129960 w 360360"/>
              <a:gd name="textAreaTop" fmla="*/ 54360 h 2089080"/>
              <a:gd name="textAreaBottom" fmla="*/ 2034720 h 20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17"/>
          <p:cNvSpPr/>
          <p:nvPr/>
        </p:nvSpPr>
        <p:spPr>
          <a:xfrm>
            <a:off x="5148360" y="2276640"/>
            <a:ext cx="360360" cy="1728720"/>
          </a:xfrm>
          <a:custGeom>
            <a:avLst/>
            <a:gdLst>
              <a:gd name="textAreaLeft" fmla="*/ 230400 w 360360"/>
              <a:gd name="textAreaRight" fmla="*/ 360720 w 36036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8"/>
          <p:cNvSpPr/>
          <p:nvPr/>
        </p:nvSpPr>
        <p:spPr>
          <a:xfrm>
            <a:off x="2064960" y="2015640"/>
            <a:ext cx="606960" cy="202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然特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9"/>
          <p:cNvSpPr/>
          <p:nvPr/>
        </p:nvSpPr>
        <p:spPr>
          <a:xfrm>
            <a:off x="4441320" y="2579760"/>
            <a:ext cx="606960" cy="106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农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20"/>
          <p:cNvSpPr/>
          <p:nvPr/>
        </p:nvSpPr>
        <p:spPr>
          <a:xfrm>
            <a:off x="5435640" y="357336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主要的农作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2916360" y="3284640"/>
            <a:ext cx="1295280" cy="360"/>
            <a:chOff x="2916360" y="3284640"/>
            <a:chExt cx="1295280" cy="360"/>
          </a:xfrm>
        </p:grpSpPr>
        <p:sp>
          <p:nvSpPr>
            <p:cNvPr id="385" name="Line 21"/>
            <p:cNvSpPr/>
            <p:nvPr/>
          </p:nvSpPr>
          <p:spPr>
            <a:xfrm>
              <a:off x="2916360" y="3284640"/>
              <a:ext cx="129528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 txBox="1"/>
            <p:nvPr/>
          </p:nvSpPr>
          <p:spPr>
            <a:xfrm>
              <a:off x="2916360" y="3284640"/>
              <a:ext cx="1295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reeform 2"/>
          <p:cNvSpPr/>
          <p:nvPr/>
        </p:nvSpPr>
        <p:spPr>
          <a:xfrm>
            <a:off x="4727520" y="189000"/>
            <a:ext cx="4202280" cy="3924360"/>
          </a:xfrm>
          <a:custGeom>
            <a:avLst/>
            <a:gdLst/>
            <a:ahLst/>
            <a:rect l="l" t="t" r="r" b="b"/>
            <a:pathLst>
              <a:path w="2647" h="2623">
                <a:moveTo>
                  <a:pt x="1308" y="423"/>
                </a:moveTo>
                <a:cubicBezTo>
                  <a:pt x="1308" y="468"/>
                  <a:pt x="1376" y="454"/>
                  <a:pt x="1399" y="514"/>
                </a:cubicBezTo>
                <a:cubicBezTo>
                  <a:pt x="1422" y="574"/>
                  <a:pt x="1421" y="733"/>
                  <a:pt x="1444" y="786"/>
                </a:cubicBezTo>
                <a:cubicBezTo>
                  <a:pt x="1467" y="839"/>
                  <a:pt x="1505" y="838"/>
                  <a:pt x="1535" y="831"/>
                </a:cubicBezTo>
                <a:cubicBezTo>
                  <a:pt x="1565" y="824"/>
                  <a:pt x="1596" y="756"/>
                  <a:pt x="1626" y="741"/>
                </a:cubicBezTo>
                <a:cubicBezTo>
                  <a:pt x="1656" y="726"/>
                  <a:pt x="1709" y="718"/>
                  <a:pt x="1716" y="741"/>
                </a:cubicBezTo>
                <a:cubicBezTo>
                  <a:pt x="1723" y="764"/>
                  <a:pt x="1678" y="809"/>
                  <a:pt x="1671" y="877"/>
                </a:cubicBezTo>
                <a:cubicBezTo>
                  <a:pt x="1664" y="945"/>
                  <a:pt x="1678" y="1081"/>
                  <a:pt x="1671" y="1149"/>
                </a:cubicBezTo>
                <a:cubicBezTo>
                  <a:pt x="1664" y="1217"/>
                  <a:pt x="1694" y="1224"/>
                  <a:pt x="1626" y="1285"/>
                </a:cubicBezTo>
                <a:cubicBezTo>
                  <a:pt x="1558" y="1346"/>
                  <a:pt x="1384" y="1444"/>
                  <a:pt x="1263" y="1512"/>
                </a:cubicBezTo>
                <a:cubicBezTo>
                  <a:pt x="1142" y="1580"/>
                  <a:pt x="983" y="1648"/>
                  <a:pt x="900" y="1693"/>
                </a:cubicBezTo>
                <a:cubicBezTo>
                  <a:pt x="817" y="1738"/>
                  <a:pt x="817" y="1754"/>
                  <a:pt x="764" y="1784"/>
                </a:cubicBezTo>
                <a:cubicBezTo>
                  <a:pt x="711" y="1814"/>
                  <a:pt x="635" y="1844"/>
                  <a:pt x="582" y="1874"/>
                </a:cubicBezTo>
                <a:cubicBezTo>
                  <a:pt x="529" y="1904"/>
                  <a:pt x="514" y="1935"/>
                  <a:pt x="446" y="1965"/>
                </a:cubicBezTo>
                <a:cubicBezTo>
                  <a:pt x="378" y="1995"/>
                  <a:pt x="242" y="2041"/>
                  <a:pt x="174" y="2056"/>
                </a:cubicBezTo>
                <a:cubicBezTo>
                  <a:pt x="106" y="2071"/>
                  <a:pt x="53" y="2033"/>
                  <a:pt x="38" y="2056"/>
                </a:cubicBezTo>
                <a:cubicBezTo>
                  <a:pt x="23" y="2079"/>
                  <a:pt x="68" y="2147"/>
                  <a:pt x="83" y="2192"/>
                </a:cubicBezTo>
                <a:cubicBezTo>
                  <a:pt x="98" y="2237"/>
                  <a:pt x="121" y="2283"/>
                  <a:pt x="129" y="2328"/>
                </a:cubicBezTo>
                <a:cubicBezTo>
                  <a:pt x="137" y="2373"/>
                  <a:pt x="122" y="2419"/>
                  <a:pt x="129" y="2464"/>
                </a:cubicBezTo>
                <a:cubicBezTo>
                  <a:pt x="136" y="2509"/>
                  <a:pt x="0" y="2577"/>
                  <a:pt x="174" y="2600"/>
                </a:cubicBezTo>
                <a:cubicBezTo>
                  <a:pt x="348" y="2623"/>
                  <a:pt x="975" y="2608"/>
                  <a:pt x="1172" y="2600"/>
                </a:cubicBezTo>
                <a:cubicBezTo>
                  <a:pt x="1369" y="2592"/>
                  <a:pt x="1256" y="2600"/>
                  <a:pt x="1354" y="2555"/>
                </a:cubicBezTo>
                <a:cubicBezTo>
                  <a:pt x="1452" y="2510"/>
                  <a:pt x="1717" y="2381"/>
                  <a:pt x="1762" y="2328"/>
                </a:cubicBezTo>
                <a:cubicBezTo>
                  <a:pt x="1807" y="2275"/>
                  <a:pt x="1641" y="2275"/>
                  <a:pt x="1626" y="2237"/>
                </a:cubicBezTo>
                <a:cubicBezTo>
                  <a:pt x="1611" y="2199"/>
                  <a:pt x="1626" y="2146"/>
                  <a:pt x="1671" y="2101"/>
                </a:cubicBezTo>
                <a:cubicBezTo>
                  <a:pt x="1716" y="2056"/>
                  <a:pt x="1860" y="2010"/>
                  <a:pt x="1898" y="1965"/>
                </a:cubicBezTo>
                <a:cubicBezTo>
                  <a:pt x="1936" y="1920"/>
                  <a:pt x="1928" y="1844"/>
                  <a:pt x="1898" y="1829"/>
                </a:cubicBezTo>
                <a:cubicBezTo>
                  <a:pt x="1868" y="1814"/>
                  <a:pt x="1761" y="1851"/>
                  <a:pt x="1716" y="1874"/>
                </a:cubicBezTo>
                <a:cubicBezTo>
                  <a:pt x="1671" y="1897"/>
                  <a:pt x="1656" y="1965"/>
                  <a:pt x="1626" y="1965"/>
                </a:cubicBezTo>
                <a:cubicBezTo>
                  <a:pt x="1596" y="1965"/>
                  <a:pt x="1565" y="1881"/>
                  <a:pt x="1535" y="1874"/>
                </a:cubicBezTo>
                <a:cubicBezTo>
                  <a:pt x="1505" y="1867"/>
                  <a:pt x="1467" y="1935"/>
                  <a:pt x="1444" y="1920"/>
                </a:cubicBezTo>
                <a:cubicBezTo>
                  <a:pt x="1421" y="1905"/>
                  <a:pt x="1384" y="1814"/>
                  <a:pt x="1399" y="1784"/>
                </a:cubicBezTo>
                <a:cubicBezTo>
                  <a:pt x="1414" y="1754"/>
                  <a:pt x="1475" y="1791"/>
                  <a:pt x="1535" y="1738"/>
                </a:cubicBezTo>
                <a:cubicBezTo>
                  <a:pt x="1595" y="1685"/>
                  <a:pt x="1724" y="1481"/>
                  <a:pt x="1762" y="1466"/>
                </a:cubicBezTo>
                <a:cubicBezTo>
                  <a:pt x="1800" y="1451"/>
                  <a:pt x="1770" y="1603"/>
                  <a:pt x="1762" y="1648"/>
                </a:cubicBezTo>
                <a:cubicBezTo>
                  <a:pt x="1754" y="1693"/>
                  <a:pt x="1678" y="1753"/>
                  <a:pt x="1716" y="1738"/>
                </a:cubicBezTo>
                <a:cubicBezTo>
                  <a:pt x="1754" y="1723"/>
                  <a:pt x="1921" y="1632"/>
                  <a:pt x="1989" y="1557"/>
                </a:cubicBezTo>
                <a:cubicBezTo>
                  <a:pt x="2057" y="1482"/>
                  <a:pt x="2087" y="1330"/>
                  <a:pt x="2125" y="1285"/>
                </a:cubicBezTo>
                <a:cubicBezTo>
                  <a:pt x="2163" y="1240"/>
                  <a:pt x="2192" y="1300"/>
                  <a:pt x="2215" y="1285"/>
                </a:cubicBezTo>
                <a:cubicBezTo>
                  <a:pt x="2238" y="1270"/>
                  <a:pt x="2238" y="1217"/>
                  <a:pt x="2261" y="1194"/>
                </a:cubicBezTo>
                <a:cubicBezTo>
                  <a:pt x="2284" y="1171"/>
                  <a:pt x="2328" y="1172"/>
                  <a:pt x="2351" y="1149"/>
                </a:cubicBezTo>
                <a:cubicBezTo>
                  <a:pt x="2374" y="1126"/>
                  <a:pt x="2374" y="1058"/>
                  <a:pt x="2397" y="1058"/>
                </a:cubicBezTo>
                <a:cubicBezTo>
                  <a:pt x="2420" y="1058"/>
                  <a:pt x="2480" y="1194"/>
                  <a:pt x="2487" y="1149"/>
                </a:cubicBezTo>
                <a:cubicBezTo>
                  <a:pt x="2494" y="1104"/>
                  <a:pt x="2434" y="846"/>
                  <a:pt x="2442" y="786"/>
                </a:cubicBezTo>
                <a:cubicBezTo>
                  <a:pt x="2450" y="726"/>
                  <a:pt x="2503" y="862"/>
                  <a:pt x="2533" y="786"/>
                </a:cubicBezTo>
                <a:cubicBezTo>
                  <a:pt x="2563" y="710"/>
                  <a:pt x="2647" y="377"/>
                  <a:pt x="2624" y="332"/>
                </a:cubicBezTo>
                <a:cubicBezTo>
                  <a:pt x="2601" y="287"/>
                  <a:pt x="2473" y="506"/>
                  <a:pt x="2397" y="514"/>
                </a:cubicBezTo>
                <a:cubicBezTo>
                  <a:pt x="2321" y="522"/>
                  <a:pt x="2230" y="401"/>
                  <a:pt x="2170" y="378"/>
                </a:cubicBezTo>
                <a:cubicBezTo>
                  <a:pt x="2110" y="355"/>
                  <a:pt x="2094" y="431"/>
                  <a:pt x="2034" y="378"/>
                </a:cubicBezTo>
                <a:cubicBezTo>
                  <a:pt x="1974" y="325"/>
                  <a:pt x="1883" y="120"/>
                  <a:pt x="1807" y="60"/>
                </a:cubicBezTo>
                <a:cubicBezTo>
                  <a:pt x="1731" y="0"/>
                  <a:pt x="1663" y="0"/>
                  <a:pt x="1580" y="15"/>
                </a:cubicBezTo>
                <a:cubicBezTo>
                  <a:pt x="1497" y="30"/>
                  <a:pt x="1338" y="113"/>
                  <a:pt x="1308" y="151"/>
                </a:cubicBezTo>
                <a:cubicBezTo>
                  <a:pt x="1278" y="189"/>
                  <a:pt x="1406" y="197"/>
                  <a:pt x="1399" y="242"/>
                </a:cubicBezTo>
                <a:cubicBezTo>
                  <a:pt x="1392" y="287"/>
                  <a:pt x="1308" y="378"/>
                  <a:pt x="1308" y="423"/>
                </a:cubicBezTo>
                <a:close/>
              </a:path>
            </a:pathLst>
          </a:custGeom>
          <a:solidFill>
            <a:srgbClr val="2f5897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3"/>
          <p:cNvSpPr/>
          <p:nvPr/>
        </p:nvSpPr>
        <p:spPr>
          <a:xfrm>
            <a:off x="468360" y="620640"/>
            <a:ext cx="7043760" cy="2687760"/>
          </a:xfrm>
          <a:custGeom>
            <a:avLst/>
            <a:gdLst/>
            <a:ahLst/>
            <a:rect l="l" t="t" r="r" b="b"/>
            <a:pathLst>
              <a:path w="4437" h="1693">
                <a:moveTo>
                  <a:pt x="3961" y="8"/>
                </a:moveTo>
                <a:cubicBezTo>
                  <a:pt x="3938" y="16"/>
                  <a:pt x="3945" y="84"/>
                  <a:pt x="3915" y="99"/>
                </a:cubicBezTo>
                <a:cubicBezTo>
                  <a:pt x="3885" y="114"/>
                  <a:pt x="3809" y="69"/>
                  <a:pt x="3779" y="99"/>
                </a:cubicBezTo>
                <a:cubicBezTo>
                  <a:pt x="3749" y="129"/>
                  <a:pt x="3734" y="235"/>
                  <a:pt x="3734" y="280"/>
                </a:cubicBezTo>
                <a:cubicBezTo>
                  <a:pt x="3734" y="325"/>
                  <a:pt x="3749" y="363"/>
                  <a:pt x="3779" y="371"/>
                </a:cubicBezTo>
                <a:cubicBezTo>
                  <a:pt x="3809" y="379"/>
                  <a:pt x="3862" y="326"/>
                  <a:pt x="3915" y="326"/>
                </a:cubicBezTo>
                <a:cubicBezTo>
                  <a:pt x="3968" y="326"/>
                  <a:pt x="4067" y="348"/>
                  <a:pt x="4097" y="371"/>
                </a:cubicBezTo>
                <a:cubicBezTo>
                  <a:pt x="4127" y="394"/>
                  <a:pt x="4120" y="447"/>
                  <a:pt x="4097" y="462"/>
                </a:cubicBezTo>
                <a:cubicBezTo>
                  <a:pt x="4074" y="477"/>
                  <a:pt x="3999" y="455"/>
                  <a:pt x="3961" y="462"/>
                </a:cubicBezTo>
                <a:cubicBezTo>
                  <a:pt x="3923" y="469"/>
                  <a:pt x="3900" y="477"/>
                  <a:pt x="3870" y="507"/>
                </a:cubicBezTo>
                <a:cubicBezTo>
                  <a:pt x="3840" y="537"/>
                  <a:pt x="3817" y="613"/>
                  <a:pt x="3779" y="643"/>
                </a:cubicBezTo>
                <a:cubicBezTo>
                  <a:pt x="3741" y="673"/>
                  <a:pt x="3681" y="673"/>
                  <a:pt x="3643" y="688"/>
                </a:cubicBezTo>
                <a:cubicBezTo>
                  <a:pt x="3605" y="703"/>
                  <a:pt x="3583" y="734"/>
                  <a:pt x="3553" y="734"/>
                </a:cubicBezTo>
                <a:cubicBezTo>
                  <a:pt x="3523" y="734"/>
                  <a:pt x="3485" y="665"/>
                  <a:pt x="3462" y="688"/>
                </a:cubicBezTo>
                <a:cubicBezTo>
                  <a:pt x="3439" y="711"/>
                  <a:pt x="3431" y="817"/>
                  <a:pt x="3416" y="870"/>
                </a:cubicBezTo>
                <a:cubicBezTo>
                  <a:pt x="3401" y="923"/>
                  <a:pt x="3409" y="976"/>
                  <a:pt x="3371" y="1006"/>
                </a:cubicBezTo>
                <a:cubicBezTo>
                  <a:pt x="3333" y="1036"/>
                  <a:pt x="3243" y="1044"/>
                  <a:pt x="3190" y="1051"/>
                </a:cubicBezTo>
                <a:cubicBezTo>
                  <a:pt x="3137" y="1058"/>
                  <a:pt x="3092" y="1051"/>
                  <a:pt x="3054" y="1051"/>
                </a:cubicBezTo>
                <a:cubicBezTo>
                  <a:pt x="3016" y="1051"/>
                  <a:pt x="2986" y="1036"/>
                  <a:pt x="2963" y="1051"/>
                </a:cubicBezTo>
                <a:cubicBezTo>
                  <a:pt x="2940" y="1066"/>
                  <a:pt x="2956" y="1134"/>
                  <a:pt x="2918" y="1142"/>
                </a:cubicBezTo>
                <a:cubicBezTo>
                  <a:pt x="2880" y="1150"/>
                  <a:pt x="2796" y="1112"/>
                  <a:pt x="2736" y="1097"/>
                </a:cubicBezTo>
                <a:cubicBezTo>
                  <a:pt x="2676" y="1082"/>
                  <a:pt x="2600" y="1066"/>
                  <a:pt x="2555" y="1051"/>
                </a:cubicBezTo>
                <a:cubicBezTo>
                  <a:pt x="2510" y="1036"/>
                  <a:pt x="2502" y="1013"/>
                  <a:pt x="2464" y="1006"/>
                </a:cubicBezTo>
                <a:cubicBezTo>
                  <a:pt x="2426" y="999"/>
                  <a:pt x="2366" y="1013"/>
                  <a:pt x="2328" y="1006"/>
                </a:cubicBezTo>
                <a:cubicBezTo>
                  <a:pt x="2290" y="999"/>
                  <a:pt x="2267" y="961"/>
                  <a:pt x="2237" y="961"/>
                </a:cubicBezTo>
                <a:cubicBezTo>
                  <a:pt x="2207" y="961"/>
                  <a:pt x="2176" y="1014"/>
                  <a:pt x="2146" y="1006"/>
                </a:cubicBezTo>
                <a:cubicBezTo>
                  <a:pt x="2116" y="998"/>
                  <a:pt x="2079" y="945"/>
                  <a:pt x="2056" y="915"/>
                </a:cubicBezTo>
                <a:cubicBezTo>
                  <a:pt x="2033" y="885"/>
                  <a:pt x="2040" y="854"/>
                  <a:pt x="2010" y="824"/>
                </a:cubicBezTo>
                <a:cubicBezTo>
                  <a:pt x="1980" y="794"/>
                  <a:pt x="1911" y="757"/>
                  <a:pt x="1874" y="734"/>
                </a:cubicBezTo>
                <a:cubicBezTo>
                  <a:pt x="1837" y="711"/>
                  <a:pt x="1814" y="696"/>
                  <a:pt x="1784" y="688"/>
                </a:cubicBezTo>
                <a:cubicBezTo>
                  <a:pt x="1754" y="680"/>
                  <a:pt x="1701" y="718"/>
                  <a:pt x="1693" y="688"/>
                </a:cubicBezTo>
                <a:cubicBezTo>
                  <a:pt x="1685" y="658"/>
                  <a:pt x="1746" y="567"/>
                  <a:pt x="1738" y="507"/>
                </a:cubicBezTo>
                <a:cubicBezTo>
                  <a:pt x="1730" y="447"/>
                  <a:pt x="1677" y="356"/>
                  <a:pt x="1647" y="326"/>
                </a:cubicBezTo>
                <a:cubicBezTo>
                  <a:pt x="1617" y="296"/>
                  <a:pt x="1587" y="349"/>
                  <a:pt x="1557" y="326"/>
                </a:cubicBezTo>
                <a:cubicBezTo>
                  <a:pt x="1527" y="303"/>
                  <a:pt x="1504" y="204"/>
                  <a:pt x="1466" y="189"/>
                </a:cubicBezTo>
                <a:cubicBezTo>
                  <a:pt x="1428" y="174"/>
                  <a:pt x="1360" y="212"/>
                  <a:pt x="1330" y="235"/>
                </a:cubicBezTo>
                <a:cubicBezTo>
                  <a:pt x="1300" y="258"/>
                  <a:pt x="1308" y="311"/>
                  <a:pt x="1285" y="326"/>
                </a:cubicBezTo>
                <a:cubicBezTo>
                  <a:pt x="1262" y="341"/>
                  <a:pt x="1240" y="311"/>
                  <a:pt x="1194" y="326"/>
                </a:cubicBezTo>
                <a:cubicBezTo>
                  <a:pt x="1148" y="341"/>
                  <a:pt x="1057" y="378"/>
                  <a:pt x="1012" y="416"/>
                </a:cubicBezTo>
                <a:cubicBezTo>
                  <a:pt x="967" y="454"/>
                  <a:pt x="952" y="529"/>
                  <a:pt x="922" y="552"/>
                </a:cubicBezTo>
                <a:cubicBezTo>
                  <a:pt x="892" y="575"/>
                  <a:pt x="854" y="529"/>
                  <a:pt x="831" y="552"/>
                </a:cubicBezTo>
                <a:cubicBezTo>
                  <a:pt x="808" y="575"/>
                  <a:pt x="801" y="643"/>
                  <a:pt x="786" y="688"/>
                </a:cubicBezTo>
                <a:cubicBezTo>
                  <a:pt x="771" y="733"/>
                  <a:pt x="763" y="786"/>
                  <a:pt x="740" y="824"/>
                </a:cubicBezTo>
                <a:cubicBezTo>
                  <a:pt x="717" y="862"/>
                  <a:pt x="680" y="900"/>
                  <a:pt x="650" y="915"/>
                </a:cubicBezTo>
                <a:cubicBezTo>
                  <a:pt x="620" y="930"/>
                  <a:pt x="597" y="915"/>
                  <a:pt x="559" y="915"/>
                </a:cubicBezTo>
                <a:cubicBezTo>
                  <a:pt x="521" y="915"/>
                  <a:pt x="461" y="900"/>
                  <a:pt x="423" y="915"/>
                </a:cubicBezTo>
                <a:cubicBezTo>
                  <a:pt x="385" y="930"/>
                  <a:pt x="362" y="998"/>
                  <a:pt x="332" y="1006"/>
                </a:cubicBezTo>
                <a:cubicBezTo>
                  <a:pt x="302" y="1014"/>
                  <a:pt x="286" y="961"/>
                  <a:pt x="241" y="961"/>
                </a:cubicBezTo>
                <a:cubicBezTo>
                  <a:pt x="196" y="961"/>
                  <a:pt x="97" y="983"/>
                  <a:pt x="60" y="1006"/>
                </a:cubicBezTo>
                <a:cubicBezTo>
                  <a:pt x="23" y="1029"/>
                  <a:pt x="0" y="1074"/>
                  <a:pt x="15" y="1097"/>
                </a:cubicBezTo>
                <a:cubicBezTo>
                  <a:pt x="30" y="1120"/>
                  <a:pt x="106" y="1119"/>
                  <a:pt x="151" y="1142"/>
                </a:cubicBezTo>
                <a:cubicBezTo>
                  <a:pt x="196" y="1165"/>
                  <a:pt x="249" y="1203"/>
                  <a:pt x="287" y="1233"/>
                </a:cubicBezTo>
                <a:cubicBezTo>
                  <a:pt x="325" y="1263"/>
                  <a:pt x="347" y="1293"/>
                  <a:pt x="377" y="1323"/>
                </a:cubicBezTo>
                <a:cubicBezTo>
                  <a:pt x="407" y="1353"/>
                  <a:pt x="430" y="1376"/>
                  <a:pt x="468" y="1414"/>
                </a:cubicBezTo>
                <a:cubicBezTo>
                  <a:pt x="506" y="1452"/>
                  <a:pt x="559" y="1512"/>
                  <a:pt x="604" y="1550"/>
                </a:cubicBezTo>
                <a:cubicBezTo>
                  <a:pt x="649" y="1588"/>
                  <a:pt x="680" y="1633"/>
                  <a:pt x="740" y="1641"/>
                </a:cubicBezTo>
                <a:cubicBezTo>
                  <a:pt x="800" y="1649"/>
                  <a:pt x="884" y="1603"/>
                  <a:pt x="967" y="1596"/>
                </a:cubicBezTo>
                <a:cubicBezTo>
                  <a:pt x="1050" y="1589"/>
                  <a:pt x="1126" y="1611"/>
                  <a:pt x="1239" y="1596"/>
                </a:cubicBezTo>
                <a:cubicBezTo>
                  <a:pt x="1352" y="1581"/>
                  <a:pt x="1556" y="1535"/>
                  <a:pt x="1647" y="1505"/>
                </a:cubicBezTo>
                <a:cubicBezTo>
                  <a:pt x="1738" y="1475"/>
                  <a:pt x="1708" y="1429"/>
                  <a:pt x="1784" y="1414"/>
                </a:cubicBezTo>
                <a:cubicBezTo>
                  <a:pt x="1860" y="1399"/>
                  <a:pt x="2010" y="1414"/>
                  <a:pt x="2101" y="1414"/>
                </a:cubicBezTo>
                <a:cubicBezTo>
                  <a:pt x="2192" y="1414"/>
                  <a:pt x="2260" y="1399"/>
                  <a:pt x="2328" y="1414"/>
                </a:cubicBezTo>
                <a:cubicBezTo>
                  <a:pt x="2396" y="1429"/>
                  <a:pt x="2456" y="1475"/>
                  <a:pt x="2509" y="1505"/>
                </a:cubicBezTo>
                <a:cubicBezTo>
                  <a:pt x="2562" y="1535"/>
                  <a:pt x="2607" y="1566"/>
                  <a:pt x="2645" y="1596"/>
                </a:cubicBezTo>
                <a:cubicBezTo>
                  <a:pt x="2683" y="1626"/>
                  <a:pt x="2706" y="1679"/>
                  <a:pt x="2736" y="1686"/>
                </a:cubicBezTo>
                <a:cubicBezTo>
                  <a:pt x="2766" y="1693"/>
                  <a:pt x="2789" y="1656"/>
                  <a:pt x="2827" y="1641"/>
                </a:cubicBezTo>
                <a:cubicBezTo>
                  <a:pt x="2865" y="1626"/>
                  <a:pt x="2903" y="1611"/>
                  <a:pt x="2963" y="1596"/>
                </a:cubicBezTo>
                <a:cubicBezTo>
                  <a:pt x="3023" y="1581"/>
                  <a:pt x="3115" y="1588"/>
                  <a:pt x="3190" y="1550"/>
                </a:cubicBezTo>
                <a:cubicBezTo>
                  <a:pt x="3265" y="1512"/>
                  <a:pt x="3333" y="1414"/>
                  <a:pt x="3416" y="1369"/>
                </a:cubicBezTo>
                <a:cubicBezTo>
                  <a:pt x="3499" y="1324"/>
                  <a:pt x="3591" y="1331"/>
                  <a:pt x="3689" y="1278"/>
                </a:cubicBezTo>
                <a:cubicBezTo>
                  <a:pt x="3787" y="1225"/>
                  <a:pt x="3908" y="1112"/>
                  <a:pt x="4006" y="1051"/>
                </a:cubicBezTo>
                <a:cubicBezTo>
                  <a:pt x="4104" y="990"/>
                  <a:pt x="4210" y="953"/>
                  <a:pt x="4278" y="915"/>
                </a:cubicBezTo>
                <a:cubicBezTo>
                  <a:pt x="4346" y="877"/>
                  <a:pt x="4399" y="892"/>
                  <a:pt x="4414" y="824"/>
                </a:cubicBezTo>
                <a:cubicBezTo>
                  <a:pt x="4429" y="756"/>
                  <a:pt x="4369" y="575"/>
                  <a:pt x="4369" y="507"/>
                </a:cubicBezTo>
                <a:cubicBezTo>
                  <a:pt x="4369" y="439"/>
                  <a:pt x="4407" y="446"/>
                  <a:pt x="4414" y="416"/>
                </a:cubicBezTo>
                <a:cubicBezTo>
                  <a:pt x="4421" y="386"/>
                  <a:pt x="4437" y="341"/>
                  <a:pt x="4414" y="326"/>
                </a:cubicBezTo>
                <a:cubicBezTo>
                  <a:pt x="4391" y="311"/>
                  <a:pt x="4308" y="311"/>
                  <a:pt x="4278" y="326"/>
                </a:cubicBezTo>
                <a:cubicBezTo>
                  <a:pt x="4248" y="341"/>
                  <a:pt x="4256" y="401"/>
                  <a:pt x="4233" y="416"/>
                </a:cubicBezTo>
                <a:cubicBezTo>
                  <a:pt x="4210" y="431"/>
                  <a:pt x="4165" y="446"/>
                  <a:pt x="4142" y="416"/>
                </a:cubicBezTo>
                <a:cubicBezTo>
                  <a:pt x="4119" y="386"/>
                  <a:pt x="4104" y="280"/>
                  <a:pt x="4097" y="235"/>
                </a:cubicBezTo>
                <a:cubicBezTo>
                  <a:pt x="4090" y="190"/>
                  <a:pt x="4104" y="174"/>
                  <a:pt x="4097" y="144"/>
                </a:cubicBezTo>
                <a:cubicBezTo>
                  <a:pt x="4090" y="114"/>
                  <a:pt x="4082" y="68"/>
                  <a:pt x="4052" y="53"/>
                </a:cubicBezTo>
                <a:cubicBezTo>
                  <a:pt x="4022" y="38"/>
                  <a:pt x="3984" y="0"/>
                  <a:pt x="3961" y="8"/>
                </a:cubicBezTo>
                <a:close/>
              </a:path>
            </a:pathLst>
          </a:cu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4"/>
          <p:cNvSpPr/>
          <p:nvPr/>
        </p:nvSpPr>
        <p:spPr>
          <a:xfrm>
            <a:off x="395280" y="2421000"/>
            <a:ext cx="4583160" cy="2700360"/>
          </a:xfrm>
          <a:custGeom>
            <a:avLst/>
            <a:gdLst/>
            <a:ahLst/>
            <a:rect l="l" t="t" r="r" b="b"/>
            <a:pathLst>
              <a:path w="2887" h="1822">
                <a:moveTo>
                  <a:pt x="15" y="23"/>
                </a:moveTo>
                <a:cubicBezTo>
                  <a:pt x="30" y="0"/>
                  <a:pt x="136" y="30"/>
                  <a:pt x="196" y="68"/>
                </a:cubicBezTo>
                <a:cubicBezTo>
                  <a:pt x="256" y="106"/>
                  <a:pt x="332" y="204"/>
                  <a:pt x="377" y="249"/>
                </a:cubicBezTo>
                <a:cubicBezTo>
                  <a:pt x="422" y="294"/>
                  <a:pt x="423" y="295"/>
                  <a:pt x="468" y="340"/>
                </a:cubicBezTo>
                <a:cubicBezTo>
                  <a:pt x="513" y="385"/>
                  <a:pt x="597" y="484"/>
                  <a:pt x="650" y="522"/>
                </a:cubicBezTo>
                <a:cubicBezTo>
                  <a:pt x="703" y="560"/>
                  <a:pt x="733" y="575"/>
                  <a:pt x="786" y="567"/>
                </a:cubicBezTo>
                <a:cubicBezTo>
                  <a:pt x="839" y="559"/>
                  <a:pt x="884" y="483"/>
                  <a:pt x="967" y="476"/>
                </a:cubicBezTo>
                <a:cubicBezTo>
                  <a:pt x="1050" y="469"/>
                  <a:pt x="1202" y="522"/>
                  <a:pt x="1285" y="522"/>
                </a:cubicBezTo>
                <a:cubicBezTo>
                  <a:pt x="1368" y="522"/>
                  <a:pt x="1413" y="491"/>
                  <a:pt x="1466" y="476"/>
                </a:cubicBezTo>
                <a:cubicBezTo>
                  <a:pt x="1519" y="461"/>
                  <a:pt x="1557" y="446"/>
                  <a:pt x="1602" y="431"/>
                </a:cubicBezTo>
                <a:cubicBezTo>
                  <a:pt x="1647" y="416"/>
                  <a:pt x="1700" y="400"/>
                  <a:pt x="1738" y="385"/>
                </a:cubicBezTo>
                <a:cubicBezTo>
                  <a:pt x="1776" y="370"/>
                  <a:pt x="1731" y="347"/>
                  <a:pt x="1829" y="340"/>
                </a:cubicBezTo>
                <a:cubicBezTo>
                  <a:pt x="1927" y="333"/>
                  <a:pt x="2192" y="310"/>
                  <a:pt x="2328" y="340"/>
                </a:cubicBezTo>
                <a:cubicBezTo>
                  <a:pt x="2464" y="370"/>
                  <a:pt x="2562" y="462"/>
                  <a:pt x="2645" y="522"/>
                </a:cubicBezTo>
                <a:cubicBezTo>
                  <a:pt x="2728" y="582"/>
                  <a:pt x="2797" y="627"/>
                  <a:pt x="2827" y="703"/>
                </a:cubicBezTo>
                <a:cubicBezTo>
                  <a:pt x="2857" y="779"/>
                  <a:pt x="2820" y="892"/>
                  <a:pt x="2827" y="975"/>
                </a:cubicBezTo>
                <a:cubicBezTo>
                  <a:pt x="2834" y="1058"/>
                  <a:pt x="2887" y="1119"/>
                  <a:pt x="2872" y="1202"/>
                </a:cubicBezTo>
                <a:cubicBezTo>
                  <a:pt x="2857" y="1285"/>
                  <a:pt x="2781" y="1391"/>
                  <a:pt x="2736" y="1474"/>
                </a:cubicBezTo>
                <a:cubicBezTo>
                  <a:pt x="2691" y="1557"/>
                  <a:pt x="2638" y="1656"/>
                  <a:pt x="2600" y="1701"/>
                </a:cubicBezTo>
                <a:cubicBezTo>
                  <a:pt x="2562" y="1746"/>
                  <a:pt x="2554" y="1739"/>
                  <a:pt x="2509" y="1746"/>
                </a:cubicBezTo>
                <a:cubicBezTo>
                  <a:pt x="2464" y="1753"/>
                  <a:pt x="2381" y="1753"/>
                  <a:pt x="2328" y="1746"/>
                </a:cubicBezTo>
                <a:cubicBezTo>
                  <a:pt x="2275" y="1739"/>
                  <a:pt x="2230" y="1724"/>
                  <a:pt x="2192" y="1701"/>
                </a:cubicBezTo>
                <a:cubicBezTo>
                  <a:pt x="2154" y="1678"/>
                  <a:pt x="2124" y="1610"/>
                  <a:pt x="2101" y="1610"/>
                </a:cubicBezTo>
                <a:cubicBezTo>
                  <a:pt x="2078" y="1610"/>
                  <a:pt x="2094" y="1686"/>
                  <a:pt x="2056" y="1701"/>
                </a:cubicBezTo>
                <a:cubicBezTo>
                  <a:pt x="2018" y="1716"/>
                  <a:pt x="1919" y="1694"/>
                  <a:pt x="1874" y="1701"/>
                </a:cubicBezTo>
                <a:cubicBezTo>
                  <a:pt x="1829" y="1708"/>
                  <a:pt x="1814" y="1731"/>
                  <a:pt x="1784" y="1746"/>
                </a:cubicBezTo>
                <a:cubicBezTo>
                  <a:pt x="1754" y="1761"/>
                  <a:pt x="1738" y="1784"/>
                  <a:pt x="1693" y="1792"/>
                </a:cubicBezTo>
                <a:cubicBezTo>
                  <a:pt x="1648" y="1800"/>
                  <a:pt x="1549" y="1822"/>
                  <a:pt x="1511" y="1792"/>
                </a:cubicBezTo>
                <a:cubicBezTo>
                  <a:pt x="1473" y="1762"/>
                  <a:pt x="1503" y="1640"/>
                  <a:pt x="1466" y="1610"/>
                </a:cubicBezTo>
                <a:cubicBezTo>
                  <a:pt x="1429" y="1580"/>
                  <a:pt x="1330" y="1595"/>
                  <a:pt x="1285" y="1610"/>
                </a:cubicBezTo>
                <a:cubicBezTo>
                  <a:pt x="1240" y="1625"/>
                  <a:pt x="1209" y="1701"/>
                  <a:pt x="1194" y="1701"/>
                </a:cubicBezTo>
                <a:cubicBezTo>
                  <a:pt x="1179" y="1701"/>
                  <a:pt x="1209" y="1625"/>
                  <a:pt x="1194" y="1610"/>
                </a:cubicBezTo>
                <a:cubicBezTo>
                  <a:pt x="1179" y="1595"/>
                  <a:pt x="1141" y="1610"/>
                  <a:pt x="1103" y="1610"/>
                </a:cubicBezTo>
                <a:cubicBezTo>
                  <a:pt x="1065" y="1610"/>
                  <a:pt x="1020" y="1625"/>
                  <a:pt x="967" y="1610"/>
                </a:cubicBezTo>
                <a:cubicBezTo>
                  <a:pt x="914" y="1595"/>
                  <a:pt x="824" y="1557"/>
                  <a:pt x="786" y="1519"/>
                </a:cubicBezTo>
                <a:cubicBezTo>
                  <a:pt x="748" y="1481"/>
                  <a:pt x="763" y="1413"/>
                  <a:pt x="740" y="1383"/>
                </a:cubicBezTo>
                <a:cubicBezTo>
                  <a:pt x="717" y="1353"/>
                  <a:pt x="680" y="1361"/>
                  <a:pt x="650" y="1338"/>
                </a:cubicBezTo>
                <a:cubicBezTo>
                  <a:pt x="620" y="1315"/>
                  <a:pt x="589" y="1262"/>
                  <a:pt x="559" y="1247"/>
                </a:cubicBezTo>
                <a:cubicBezTo>
                  <a:pt x="529" y="1232"/>
                  <a:pt x="506" y="1262"/>
                  <a:pt x="468" y="1247"/>
                </a:cubicBezTo>
                <a:cubicBezTo>
                  <a:pt x="430" y="1232"/>
                  <a:pt x="362" y="1195"/>
                  <a:pt x="332" y="1157"/>
                </a:cubicBezTo>
                <a:cubicBezTo>
                  <a:pt x="302" y="1119"/>
                  <a:pt x="294" y="1074"/>
                  <a:pt x="287" y="1021"/>
                </a:cubicBezTo>
                <a:cubicBezTo>
                  <a:pt x="280" y="968"/>
                  <a:pt x="272" y="862"/>
                  <a:pt x="287" y="839"/>
                </a:cubicBezTo>
                <a:cubicBezTo>
                  <a:pt x="302" y="816"/>
                  <a:pt x="370" y="907"/>
                  <a:pt x="377" y="884"/>
                </a:cubicBezTo>
                <a:cubicBezTo>
                  <a:pt x="384" y="861"/>
                  <a:pt x="339" y="756"/>
                  <a:pt x="332" y="703"/>
                </a:cubicBezTo>
                <a:cubicBezTo>
                  <a:pt x="325" y="650"/>
                  <a:pt x="355" y="597"/>
                  <a:pt x="332" y="567"/>
                </a:cubicBezTo>
                <a:cubicBezTo>
                  <a:pt x="309" y="537"/>
                  <a:pt x="226" y="560"/>
                  <a:pt x="196" y="522"/>
                </a:cubicBezTo>
                <a:cubicBezTo>
                  <a:pt x="166" y="484"/>
                  <a:pt x="174" y="378"/>
                  <a:pt x="151" y="340"/>
                </a:cubicBezTo>
                <a:cubicBezTo>
                  <a:pt x="128" y="302"/>
                  <a:pt x="68" y="318"/>
                  <a:pt x="60" y="295"/>
                </a:cubicBezTo>
                <a:cubicBezTo>
                  <a:pt x="52" y="272"/>
                  <a:pt x="112" y="242"/>
                  <a:pt x="105" y="204"/>
                </a:cubicBezTo>
                <a:cubicBezTo>
                  <a:pt x="98" y="166"/>
                  <a:pt x="0" y="46"/>
                  <a:pt x="15" y="23"/>
                </a:cubicBezTo>
                <a:close/>
              </a:path>
            </a:pathLst>
          </a:custGeom>
          <a:solidFill>
            <a:srgbClr val="6076b4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5"/>
          <p:cNvSpPr/>
          <p:nvPr/>
        </p:nvSpPr>
        <p:spPr>
          <a:xfrm rot="195600">
            <a:off x="3708000" y="3645000"/>
            <a:ext cx="4260960" cy="2784240"/>
          </a:xfrm>
          <a:custGeom>
            <a:avLst/>
            <a:gdLst/>
            <a:ahLst/>
            <a:rect l="l" t="t" r="r" b="b"/>
            <a:pathLst>
              <a:path w="2684" h="1754">
                <a:moveTo>
                  <a:pt x="151" y="922"/>
                </a:moveTo>
                <a:cubicBezTo>
                  <a:pt x="98" y="937"/>
                  <a:pt x="219" y="953"/>
                  <a:pt x="196" y="1013"/>
                </a:cubicBezTo>
                <a:cubicBezTo>
                  <a:pt x="173" y="1073"/>
                  <a:pt x="30" y="1225"/>
                  <a:pt x="15" y="1285"/>
                </a:cubicBezTo>
                <a:cubicBezTo>
                  <a:pt x="0" y="1345"/>
                  <a:pt x="76" y="1361"/>
                  <a:pt x="106" y="1376"/>
                </a:cubicBezTo>
                <a:cubicBezTo>
                  <a:pt x="136" y="1391"/>
                  <a:pt x="181" y="1353"/>
                  <a:pt x="196" y="1376"/>
                </a:cubicBezTo>
                <a:cubicBezTo>
                  <a:pt x="211" y="1399"/>
                  <a:pt x="166" y="1467"/>
                  <a:pt x="196" y="1512"/>
                </a:cubicBezTo>
                <a:cubicBezTo>
                  <a:pt x="226" y="1557"/>
                  <a:pt x="332" y="1625"/>
                  <a:pt x="378" y="1648"/>
                </a:cubicBezTo>
                <a:cubicBezTo>
                  <a:pt x="424" y="1671"/>
                  <a:pt x="431" y="1671"/>
                  <a:pt x="469" y="1648"/>
                </a:cubicBezTo>
                <a:cubicBezTo>
                  <a:pt x="507" y="1625"/>
                  <a:pt x="552" y="1535"/>
                  <a:pt x="605" y="1512"/>
                </a:cubicBezTo>
                <a:cubicBezTo>
                  <a:pt x="658" y="1489"/>
                  <a:pt x="726" y="1527"/>
                  <a:pt x="786" y="1512"/>
                </a:cubicBezTo>
                <a:cubicBezTo>
                  <a:pt x="846" y="1497"/>
                  <a:pt x="923" y="1421"/>
                  <a:pt x="968" y="1421"/>
                </a:cubicBezTo>
                <a:cubicBezTo>
                  <a:pt x="1013" y="1421"/>
                  <a:pt x="1035" y="1474"/>
                  <a:pt x="1058" y="1512"/>
                </a:cubicBezTo>
                <a:cubicBezTo>
                  <a:pt x="1081" y="1550"/>
                  <a:pt x="1036" y="1625"/>
                  <a:pt x="1104" y="1648"/>
                </a:cubicBezTo>
                <a:cubicBezTo>
                  <a:pt x="1172" y="1671"/>
                  <a:pt x="1399" y="1633"/>
                  <a:pt x="1467" y="1648"/>
                </a:cubicBezTo>
                <a:cubicBezTo>
                  <a:pt x="1535" y="1663"/>
                  <a:pt x="1474" y="1754"/>
                  <a:pt x="1512" y="1739"/>
                </a:cubicBezTo>
                <a:cubicBezTo>
                  <a:pt x="1550" y="1724"/>
                  <a:pt x="1617" y="1602"/>
                  <a:pt x="1693" y="1557"/>
                </a:cubicBezTo>
                <a:cubicBezTo>
                  <a:pt x="1769" y="1512"/>
                  <a:pt x="1890" y="1505"/>
                  <a:pt x="1966" y="1467"/>
                </a:cubicBezTo>
                <a:cubicBezTo>
                  <a:pt x="2042" y="1429"/>
                  <a:pt x="2087" y="1384"/>
                  <a:pt x="2147" y="1331"/>
                </a:cubicBezTo>
                <a:cubicBezTo>
                  <a:pt x="2207" y="1278"/>
                  <a:pt x="2275" y="1202"/>
                  <a:pt x="2328" y="1149"/>
                </a:cubicBezTo>
                <a:cubicBezTo>
                  <a:pt x="2381" y="1096"/>
                  <a:pt x="2434" y="1066"/>
                  <a:pt x="2464" y="1013"/>
                </a:cubicBezTo>
                <a:cubicBezTo>
                  <a:pt x="2494" y="960"/>
                  <a:pt x="2480" y="892"/>
                  <a:pt x="2510" y="832"/>
                </a:cubicBezTo>
                <a:cubicBezTo>
                  <a:pt x="2540" y="772"/>
                  <a:pt x="2623" y="726"/>
                  <a:pt x="2646" y="650"/>
                </a:cubicBezTo>
                <a:cubicBezTo>
                  <a:pt x="2669" y="574"/>
                  <a:pt x="2684" y="408"/>
                  <a:pt x="2646" y="378"/>
                </a:cubicBezTo>
                <a:cubicBezTo>
                  <a:pt x="2608" y="348"/>
                  <a:pt x="2426" y="476"/>
                  <a:pt x="2419" y="469"/>
                </a:cubicBezTo>
                <a:cubicBezTo>
                  <a:pt x="2412" y="462"/>
                  <a:pt x="2586" y="378"/>
                  <a:pt x="2601" y="333"/>
                </a:cubicBezTo>
                <a:cubicBezTo>
                  <a:pt x="2616" y="288"/>
                  <a:pt x="2548" y="250"/>
                  <a:pt x="2510" y="197"/>
                </a:cubicBezTo>
                <a:cubicBezTo>
                  <a:pt x="2472" y="144"/>
                  <a:pt x="2472" y="0"/>
                  <a:pt x="2374" y="15"/>
                </a:cubicBezTo>
                <a:cubicBezTo>
                  <a:pt x="2276" y="30"/>
                  <a:pt x="2185" y="242"/>
                  <a:pt x="1920" y="287"/>
                </a:cubicBezTo>
                <a:cubicBezTo>
                  <a:pt x="1655" y="332"/>
                  <a:pt x="975" y="272"/>
                  <a:pt x="786" y="287"/>
                </a:cubicBezTo>
                <a:cubicBezTo>
                  <a:pt x="597" y="302"/>
                  <a:pt x="801" y="333"/>
                  <a:pt x="786" y="378"/>
                </a:cubicBezTo>
                <a:cubicBezTo>
                  <a:pt x="771" y="423"/>
                  <a:pt x="740" y="468"/>
                  <a:pt x="695" y="559"/>
                </a:cubicBezTo>
                <a:cubicBezTo>
                  <a:pt x="650" y="650"/>
                  <a:pt x="612" y="869"/>
                  <a:pt x="514" y="922"/>
                </a:cubicBezTo>
                <a:cubicBezTo>
                  <a:pt x="416" y="975"/>
                  <a:pt x="204" y="907"/>
                  <a:pt x="151" y="922"/>
                </a:cubicBezTo>
                <a:close/>
              </a:path>
            </a:pathLst>
          </a:custGeom>
          <a:solidFill>
            <a:srgbClr val="b2b2b2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6"/>
          <p:cNvSpPr/>
          <p:nvPr/>
        </p:nvSpPr>
        <p:spPr>
          <a:xfrm>
            <a:off x="5784840" y="6405480"/>
            <a:ext cx="453960" cy="373320"/>
          </a:xfrm>
          <a:custGeom>
            <a:avLst/>
            <a:gdLst/>
            <a:ahLst/>
            <a:rect l="l" t="t" r="r" b="b"/>
            <a:pathLst>
              <a:path w="286" h="235">
                <a:moveTo>
                  <a:pt x="279" y="30"/>
                </a:moveTo>
                <a:cubicBezTo>
                  <a:pt x="272" y="0"/>
                  <a:pt x="143" y="7"/>
                  <a:pt x="98" y="30"/>
                </a:cubicBezTo>
                <a:cubicBezTo>
                  <a:pt x="53" y="53"/>
                  <a:pt x="0" y="136"/>
                  <a:pt x="7" y="166"/>
                </a:cubicBezTo>
                <a:cubicBezTo>
                  <a:pt x="14" y="196"/>
                  <a:pt x="98" y="235"/>
                  <a:pt x="143" y="212"/>
                </a:cubicBezTo>
                <a:cubicBezTo>
                  <a:pt x="188" y="189"/>
                  <a:pt x="286" y="60"/>
                  <a:pt x="279" y="30"/>
                </a:cubicBezTo>
                <a:close/>
              </a:path>
            </a:pathLst>
          </a:custGeom>
          <a:solidFill>
            <a:srgbClr val="b2b2b2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7"/>
          <p:cNvSpPr/>
          <p:nvPr/>
        </p:nvSpPr>
        <p:spPr>
          <a:xfrm>
            <a:off x="7848720" y="5218200"/>
            <a:ext cx="276120" cy="611280"/>
          </a:xfrm>
          <a:custGeom>
            <a:avLst/>
            <a:gdLst/>
            <a:ahLst/>
            <a:rect l="l" t="t" r="r" b="b"/>
            <a:pathLst>
              <a:path w="174" h="385">
                <a:moveTo>
                  <a:pt x="159" y="7"/>
                </a:moveTo>
                <a:cubicBezTo>
                  <a:pt x="144" y="14"/>
                  <a:pt x="46" y="98"/>
                  <a:pt x="23" y="143"/>
                </a:cubicBezTo>
                <a:cubicBezTo>
                  <a:pt x="0" y="188"/>
                  <a:pt x="8" y="241"/>
                  <a:pt x="23" y="279"/>
                </a:cubicBezTo>
                <a:cubicBezTo>
                  <a:pt x="38" y="317"/>
                  <a:pt x="90" y="385"/>
                  <a:pt x="113" y="370"/>
                </a:cubicBezTo>
                <a:cubicBezTo>
                  <a:pt x="136" y="355"/>
                  <a:pt x="159" y="233"/>
                  <a:pt x="159" y="188"/>
                </a:cubicBezTo>
                <a:cubicBezTo>
                  <a:pt x="159" y="143"/>
                  <a:pt x="113" y="128"/>
                  <a:pt x="113" y="98"/>
                </a:cubicBezTo>
                <a:cubicBezTo>
                  <a:pt x="113" y="68"/>
                  <a:pt x="174" y="0"/>
                  <a:pt x="159" y="7"/>
                </a:cubicBezTo>
                <a:close/>
              </a:path>
            </a:pathLst>
          </a:custGeom>
          <a:solidFill>
            <a:srgbClr val="b2b2b2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WordArt 8"/>
          <p:cNvSpPr txBox="1"/>
          <p:nvPr/>
        </p:nvSpPr>
        <p:spPr>
          <a:xfrm>
            <a:off x="6227640" y="3789360"/>
            <a:ext cx="551160" cy="80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2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effectLst>
                  <a:outerShdw dist="107932" dir="8100000" blurRad="0" rotWithShape="0">
                    <a:srgbClr val="868686">
                      <a:alpha val="50000"/>
                    </a:srgbClr>
                  </a:outerShdw>
                </a:effectLst>
                <a:latin typeface="宋体"/>
              </a:rPr>
              <a:t>B</a:t>
            </a:r>
            <a:endParaRPr b="1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effectLst>
                <a:outerShdw dist="107932" dir="8100000" blurRad="0" rotWithShape="0">
                  <a:srgbClr val="868686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5" name="WordArt 9"/>
          <p:cNvSpPr txBox="1"/>
          <p:nvPr/>
        </p:nvSpPr>
        <p:spPr>
          <a:xfrm>
            <a:off x="5508720" y="3284640"/>
            <a:ext cx="1511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11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cc"/>
                  </a:solidFill>
                  <a:round/>
                </a:ln>
                <a:solidFill>
                  <a:srgbClr val="0000cc"/>
                </a:solidFill>
                <a:latin typeface="华文新魏"/>
              </a:rPr>
              <a:t>北方地区</a:t>
            </a:r>
            <a:endParaRPr b="1" lang="en-US" sz="1800" spc="1" strike="noStrike">
              <a:ln w="9360">
                <a:solidFill>
                  <a:srgbClr val="0000cc"/>
                </a:solidFill>
                <a:round/>
              </a:ln>
              <a:solidFill>
                <a:srgbClr val="0000cc"/>
              </a:solidFill>
              <a:latin typeface="华文新魏"/>
              <a:ea typeface="华文新魏"/>
            </a:endParaRPr>
          </a:p>
        </p:txBody>
      </p:sp>
      <p:sp>
        <p:nvSpPr>
          <p:cNvPr id="186" name="WordArt 10"/>
          <p:cNvSpPr txBox="1"/>
          <p:nvPr/>
        </p:nvSpPr>
        <p:spPr>
          <a:xfrm>
            <a:off x="5508720" y="4724280"/>
            <a:ext cx="16556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11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cc"/>
                  </a:solidFill>
                  <a:round/>
                </a:ln>
                <a:solidFill>
                  <a:srgbClr val="0000cc"/>
                </a:solidFill>
                <a:latin typeface="华文新魏"/>
              </a:rPr>
              <a:t>南方地区</a:t>
            </a:r>
            <a:endParaRPr b="1" lang="en-US" sz="1800" spc="1" strike="noStrike">
              <a:ln w="9360">
                <a:solidFill>
                  <a:srgbClr val="0000cc"/>
                </a:solidFill>
                <a:round/>
              </a:ln>
              <a:solidFill>
                <a:srgbClr val="0000cc"/>
              </a:solidFill>
              <a:latin typeface="华文新魏"/>
              <a:ea typeface="华文新魏"/>
            </a:endParaRPr>
          </a:p>
        </p:txBody>
      </p:sp>
      <p:sp>
        <p:nvSpPr>
          <p:cNvPr id="187" name="WordArt 11"/>
          <p:cNvSpPr txBox="1"/>
          <p:nvPr/>
        </p:nvSpPr>
        <p:spPr>
          <a:xfrm>
            <a:off x="1763640" y="2060640"/>
            <a:ext cx="1656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11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cc"/>
                  </a:solidFill>
                  <a:round/>
                </a:ln>
                <a:solidFill>
                  <a:srgbClr val="0000cc"/>
                </a:solidFill>
                <a:latin typeface="华文新魏"/>
              </a:rPr>
              <a:t>西北地区</a:t>
            </a:r>
            <a:endParaRPr b="1" lang="en-US" sz="1800" spc="1" strike="noStrike">
              <a:ln w="9360">
                <a:solidFill>
                  <a:srgbClr val="0000cc"/>
                </a:solidFill>
                <a:round/>
              </a:ln>
              <a:solidFill>
                <a:srgbClr val="0000cc"/>
              </a:solidFill>
              <a:latin typeface="华文新魏"/>
              <a:ea typeface="华文新魏"/>
            </a:endParaRPr>
          </a:p>
        </p:txBody>
      </p:sp>
      <p:sp>
        <p:nvSpPr>
          <p:cNvPr id="188" name="WordArt 12"/>
          <p:cNvSpPr txBox="1"/>
          <p:nvPr/>
        </p:nvSpPr>
        <p:spPr>
          <a:xfrm>
            <a:off x="2340000" y="3716280"/>
            <a:ext cx="16556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11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cc"/>
                  </a:solidFill>
                  <a:round/>
                </a:ln>
                <a:solidFill>
                  <a:srgbClr val="0000cc"/>
                </a:solidFill>
                <a:latin typeface="华文新魏"/>
              </a:rPr>
              <a:t>青藏地区</a:t>
            </a:r>
            <a:endParaRPr b="1" lang="en-US" sz="1800" spc="1" strike="noStrike">
              <a:ln w="9360">
                <a:solidFill>
                  <a:srgbClr val="0000cc"/>
                </a:solidFill>
                <a:round/>
              </a:ln>
              <a:solidFill>
                <a:srgbClr val="0000cc"/>
              </a:solidFill>
              <a:latin typeface="华文新魏"/>
              <a:ea typeface="华文新魏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250920" y="5013360"/>
          <a:ext cx="3529080" cy="1697040"/>
        </p:xfrm>
        <a:graphic>
          <a:graphicData uri="http://schemas.openxmlformats.org/drawingml/2006/table">
            <a:tbl>
              <a:tblPr/>
              <a:tblGrid>
                <a:gridCol w="1008000"/>
                <a:gridCol w="2521080"/>
              </a:tblGrid>
              <a:tr h="411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名 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cc0000"/>
                      </a:solidFill>
                    </a:lnL>
                    <a:lnR w="9360">
                      <a:solidFill>
                        <a:srgbClr val="cc0000"/>
                      </a:solidFill>
                    </a:lnR>
                    <a:lnT w="9360">
                      <a:solidFill>
                        <a:srgbClr val="cc0000"/>
                      </a:solidFill>
                    </a:lnT>
                    <a:lnB w="9360">
                      <a:solidFill>
                        <a:srgbClr val="cc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主导因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cc0000"/>
                      </a:solidFill>
                    </a:lnL>
                    <a:lnR w="9360">
                      <a:solidFill>
                        <a:srgbClr val="cc0000"/>
                      </a:solidFill>
                    </a:lnR>
                    <a:lnT w="9360">
                      <a:solidFill>
                        <a:srgbClr val="cc0000"/>
                      </a:solidFill>
                    </a:lnT>
                    <a:lnB w="9360">
                      <a:solidFill>
                        <a:srgbClr val="cc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4399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界线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cc0000"/>
                      </a:solidFill>
                    </a:lnL>
                    <a:lnR w="9360">
                      <a:solidFill>
                        <a:srgbClr val="cc0000"/>
                      </a:solidFill>
                    </a:lnR>
                    <a:lnT w="9360">
                      <a:solidFill>
                        <a:srgbClr val="cc0000"/>
                      </a:solidFill>
                    </a:lnT>
                    <a:lnB w="9360">
                      <a:solidFill>
                        <a:srgbClr val="cc0000"/>
                      </a:solidFill>
                    </a:lnB>
                    <a:solidFill>
                      <a:srgbClr val="9c525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cc0000"/>
                      </a:solidFill>
                    </a:lnL>
                    <a:lnR w="9360">
                      <a:solidFill>
                        <a:srgbClr val="cc0000"/>
                      </a:solidFill>
                    </a:lnR>
                    <a:lnT w="9360">
                      <a:solidFill>
                        <a:srgbClr val="cc0000"/>
                      </a:solidFill>
                    </a:lnT>
                    <a:lnB w="9360">
                      <a:solidFill>
                        <a:srgbClr val="cc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39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界线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cc0000"/>
                      </a:solidFill>
                    </a:lnL>
                    <a:lnR w="9360">
                      <a:solidFill>
                        <a:srgbClr val="cc0000"/>
                      </a:solidFill>
                    </a:lnR>
                    <a:lnT w="9360">
                      <a:solidFill>
                        <a:srgbClr val="cc0000"/>
                      </a:solidFill>
                    </a:lnT>
                    <a:lnB w="9360">
                      <a:solidFill>
                        <a:srgbClr val="cc0000"/>
                      </a:solidFill>
                    </a:lnB>
                    <a:solidFill>
                      <a:srgbClr val="9c525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cc0000"/>
                      </a:solidFill>
                    </a:lnL>
                    <a:lnR w="9360">
                      <a:solidFill>
                        <a:srgbClr val="cc0000"/>
                      </a:solidFill>
                    </a:lnR>
                    <a:lnT w="9360">
                      <a:solidFill>
                        <a:srgbClr val="cc0000"/>
                      </a:solidFill>
                    </a:lnT>
                    <a:lnB w="9360">
                      <a:solidFill>
                        <a:srgbClr val="cc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064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界线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cc0000"/>
                      </a:solidFill>
                    </a:lnL>
                    <a:lnR w="9360">
                      <a:solidFill>
                        <a:srgbClr val="cc0000"/>
                      </a:solidFill>
                    </a:lnR>
                    <a:lnT w="9360">
                      <a:solidFill>
                        <a:srgbClr val="cc0000"/>
                      </a:solidFill>
                    </a:lnT>
                    <a:lnB w="9360">
                      <a:solidFill>
                        <a:srgbClr val="cc0000"/>
                      </a:solidFill>
                    </a:lnB>
                    <a:solidFill>
                      <a:srgbClr val="9c525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cc0000"/>
                      </a:solidFill>
                    </a:lnL>
                    <a:lnR w="9360">
                      <a:solidFill>
                        <a:srgbClr val="cc0000"/>
                      </a:solidFill>
                    </a:lnR>
                    <a:lnT w="9360">
                      <a:solidFill>
                        <a:srgbClr val="cc0000"/>
                      </a:solidFill>
                    </a:lnT>
                    <a:lnB w="9360">
                      <a:solidFill>
                        <a:srgbClr val="cc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190" name="WordArt 30"/>
          <p:cNvSpPr txBox="1"/>
          <p:nvPr/>
        </p:nvSpPr>
        <p:spPr>
          <a:xfrm>
            <a:off x="6012000" y="2060640"/>
            <a:ext cx="550800" cy="80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2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effectLst>
                  <a:outerShdw dist="107932" dir="8100000" blurRad="0" rotWithShape="0">
                    <a:srgbClr val="868686">
                      <a:alpha val="50000"/>
                    </a:srgbClr>
                  </a:outerShdw>
                </a:effectLst>
                <a:latin typeface="宋体"/>
              </a:rPr>
              <a:t>A</a:t>
            </a:r>
            <a:endParaRPr b="1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effectLst>
                <a:outerShdw dist="107932" dir="8100000" blurRad="0" rotWithShape="0">
                  <a:srgbClr val="868686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1" name="WordArt 31"/>
          <p:cNvSpPr txBox="1"/>
          <p:nvPr/>
        </p:nvSpPr>
        <p:spPr>
          <a:xfrm>
            <a:off x="3564000" y="2492280"/>
            <a:ext cx="550800" cy="80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2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effectLst>
                  <a:outerShdw dist="107932" dir="8100000" blurRad="0" rotWithShape="0">
                    <a:srgbClr val="868686">
                      <a:alpha val="50000"/>
                    </a:srgbClr>
                  </a:outerShdw>
                </a:effectLst>
                <a:latin typeface="宋体"/>
              </a:rPr>
              <a:t>C</a:t>
            </a:r>
            <a:endParaRPr b="1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effectLst>
                <a:outerShdw dist="107932" dir="8100000" blurRad="0" rotWithShape="0">
                  <a:srgbClr val="868686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2" name="Rectangle 32"/>
          <p:cNvSpPr/>
          <p:nvPr/>
        </p:nvSpPr>
        <p:spPr>
          <a:xfrm>
            <a:off x="1692360" y="544500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夏季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3"/>
          <p:cNvSpPr/>
          <p:nvPr/>
        </p:nvSpPr>
        <p:spPr>
          <a:xfrm>
            <a:off x="1403280" y="58770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气候（气温和降水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4"/>
          <p:cNvSpPr/>
          <p:nvPr/>
        </p:nvSpPr>
        <p:spPr>
          <a:xfrm>
            <a:off x="1908000" y="6308640"/>
            <a:ext cx="15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地形、地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WordArt 35"/>
          <p:cNvSpPr txBox="1"/>
          <p:nvPr/>
        </p:nvSpPr>
        <p:spPr>
          <a:xfrm>
            <a:off x="324000" y="549360"/>
            <a:ext cx="20574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00ccff">
                    <a:alpha val="80000"/>
                  </a:srgbClr>
                </a:solidFill>
                <a:latin typeface="宋体"/>
              </a:rPr>
              <a:t>复习</a:t>
            </a:r>
            <a:endParaRPr b="1" lang="en-US" sz="4000" spc="1" strike="noStrike">
              <a:ln w="9360">
                <a:solidFill>
                  <a:srgbClr val="0000ff"/>
                </a:solidFill>
                <a:round/>
              </a:ln>
              <a:solidFill>
                <a:srgbClr val="00ccff">
                  <a:alpha val="80000"/>
                </a:srgbClr>
              </a:solidFill>
              <a:latin typeface="宋体"/>
              <a:ea typeface="宋体"/>
            </a:endParaRPr>
          </a:p>
        </p:txBody>
      </p:sp>
      <p:sp>
        <p:nvSpPr>
          <p:cNvPr id="196" name="Text Box 36"/>
          <p:cNvSpPr/>
          <p:nvPr/>
        </p:nvSpPr>
        <p:spPr>
          <a:xfrm>
            <a:off x="3822840" y="26028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四大地理区域的名称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界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主导因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WordArt 9"/>
          <p:cNvSpPr txBox="1"/>
          <p:nvPr/>
        </p:nvSpPr>
        <p:spPr>
          <a:xfrm>
            <a:off x="900000" y="1052640"/>
            <a:ext cx="698508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一、气候湿热的红土地</a:t>
            </a:r>
            <a:endParaRPr b="1" lang="en-US" sz="18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68000" y="2349000"/>
            <a:ext cx="806436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华文中宋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808080"/>
                </a:solidFill>
                <a:latin typeface="华文中宋"/>
                <a:ea typeface="华文中宋"/>
              </a:rPr>
              <a:t>、南方地区的位置、范围以及地形特征。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华文中宋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808080"/>
                </a:solidFill>
                <a:latin typeface="华文中宋"/>
                <a:ea typeface="华文中宋"/>
              </a:rPr>
              <a:t>、南方地区的气候特征及红土地的成因。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图片 1" descr=""/>
          <p:cNvPicPr/>
          <p:nvPr/>
        </p:nvPicPr>
        <p:blipFill>
          <a:blip r:embed="rId1"/>
          <a:stretch/>
        </p:blipFill>
        <p:spPr>
          <a:xfrm>
            <a:off x="-3240" y="14400"/>
            <a:ext cx="9147240" cy="68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图片 1" descr=""/>
          <p:cNvPicPr/>
          <p:nvPr/>
        </p:nvPicPr>
        <p:blipFill>
          <a:blip r:embed="rId1"/>
          <a:stretch/>
        </p:blipFill>
        <p:spPr>
          <a:xfrm>
            <a:off x="4680" y="0"/>
            <a:ext cx="9139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4" descr="正文 (45)"/>
          <p:cNvPicPr/>
          <p:nvPr/>
        </p:nvPicPr>
        <p:blipFill>
          <a:blip r:embed="rId1"/>
          <a:stretch/>
        </p:blipFill>
        <p:spPr>
          <a:xfrm>
            <a:off x="0" y="0"/>
            <a:ext cx="9139320" cy="680076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6"/>
          <p:cNvSpPr/>
          <p:nvPr/>
        </p:nvSpPr>
        <p:spPr>
          <a:xfrm>
            <a:off x="0" y="6026040"/>
            <a:ext cx="9144000" cy="45972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图中找出：青藏高原、秦岭、淮河、台湾岛、海南岛、台湾海峡、琼州海峡、东海、南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294120" y="0"/>
            <a:ext cx="103428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图表解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无标题"/>
          <p:cNvPicPr/>
          <p:nvPr/>
        </p:nvPicPr>
        <p:blipFill>
          <a:blip r:embed="rId1"/>
          <a:stretch/>
        </p:blipFill>
        <p:spPr>
          <a:xfrm>
            <a:off x="0" y="1916280"/>
            <a:ext cx="6172200" cy="4525920"/>
          </a:xfrm>
          <a:prstGeom prst="rect">
            <a:avLst/>
          </a:prstGeom>
          <a:ln w="0">
            <a:noFill/>
          </a:ln>
        </p:spPr>
      </p:pic>
      <p:grpSp>
        <p:nvGrpSpPr>
          <p:cNvPr id="205" name="Group 3"/>
          <p:cNvGrpSpPr/>
          <p:nvPr/>
        </p:nvGrpSpPr>
        <p:grpSpPr>
          <a:xfrm>
            <a:off x="2352600" y="4495680"/>
            <a:ext cx="2447640" cy="1371240"/>
            <a:chOff x="2352600" y="4495680"/>
            <a:chExt cx="2447640" cy="1371240"/>
          </a:xfrm>
        </p:grpSpPr>
        <p:grpSp>
          <p:nvGrpSpPr>
            <p:cNvPr id="206" name=""/>
            <p:cNvGrpSpPr/>
            <p:nvPr/>
          </p:nvGrpSpPr>
          <p:grpSpPr>
            <a:xfrm>
              <a:off x="2352600" y="5157000"/>
              <a:ext cx="334080" cy="344160"/>
              <a:chOff x="2352600" y="5157000"/>
              <a:chExt cx="334080" cy="344160"/>
            </a:xfrm>
          </p:grpSpPr>
          <p:sp>
            <p:nvSpPr>
              <p:cNvPr id="207" name="Line 4"/>
              <p:cNvSpPr/>
              <p:nvPr/>
            </p:nvSpPr>
            <p:spPr>
              <a:xfrm flipH="1">
                <a:off x="2352600" y="5157000"/>
                <a:ext cx="334080" cy="344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 txBox="1"/>
              <p:nvPr/>
            </p:nvSpPr>
            <p:spPr>
              <a:xfrm>
                <a:off x="2352600" y="5157000"/>
                <a:ext cx="334080" cy="344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2435760" y="4640760"/>
              <a:ext cx="918720" cy="946800"/>
              <a:chOff x="2435760" y="4640760"/>
              <a:chExt cx="918720" cy="946800"/>
            </a:xfrm>
          </p:grpSpPr>
          <p:sp>
            <p:nvSpPr>
              <p:cNvPr id="210" name="Line 5"/>
              <p:cNvSpPr/>
              <p:nvPr/>
            </p:nvSpPr>
            <p:spPr>
              <a:xfrm flipH="1">
                <a:off x="2435760" y="4640760"/>
                <a:ext cx="918360" cy="946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 txBox="1"/>
              <p:nvPr/>
            </p:nvSpPr>
            <p:spPr>
              <a:xfrm>
                <a:off x="2436120" y="4640760"/>
                <a:ext cx="918360" cy="946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2518920" y="4640760"/>
              <a:ext cx="1002240" cy="1032480"/>
              <a:chOff x="2518920" y="4640760"/>
              <a:chExt cx="1002240" cy="1032480"/>
            </a:xfrm>
          </p:grpSpPr>
          <p:sp>
            <p:nvSpPr>
              <p:cNvPr id="213" name="Line 6"/>
              <p:cNvSpPr/>
              <p:nvPr/>
            </p:nvSpPr>
            <p:spPr>
              <a:xfrm flipH="1">
                <a:off x="2518920" y="4640760"/>
                <a:ext cx="1001880" cy="1032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 txBox="1"/>
              <p:nvPr/>
            </p:nvSpPr>
            <p:spPr>
              <a:xfrm>
                <a:off x="2519280" y="4640760"/>
                <a:ext cx="1001880" cy="1032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2597760" y="4662360"/>
              <a:ext cx="1090800" cy="1124280"/>
              <a:chOff x="2597760" y="4662360"/>
              <a:chExt cx="1090800" cy="1124280"/>
            </a:xfrm>
          </p:grpSpPr>
          <p:sp>
            <p:nvSpPr>
              <p:cNvPr id="216" name="Line 7"/>
              <p:cNvSpPr/>
              <p:nvPr/>
            </p:nvSpPr>
            <p:spPr>
              <a:xfrm flipH="1">
                <a:off x="2597760" y="4662360"/>
                <a:ext cx="1090800" cy="1124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 txBox="1"/>
              <p:nvPr/>
            </p:nvSpPr>
            <p:spPr>
              <a:xfrm>
                <a:off x="2597760" y="4662360"/>
                <a:ext cx="1090800" cy="1124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2780280" y="4603320"/>
              <a:ext cx="1159200" cy="1193760"/>
              <a:chOff x="2780280" y="4603320"/>
              <a:chExt cx="1159200" cy="1193760"/>
            </a:xfrm>
          </p:grpSpPr>
          <p:sp>
            <p:nvSpPr>
              <p:cNvPr id="219" name="Line 8"/>
              <p:cNvSpPr/>
              <p:nvPr/>
            </p:nvSpPr>
            <p:spPr>
              <a:xfrm flipH="1">
                <a:off x="2780280" y="4603320"/>
                <a:ext cx="1158840" cy="119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 txBox="1"/>
              <p:nvPr/>
            </p:nvSpPr>
            <p:spPr>
              <a:xfrm>
                <a:off x="2780640" y="4603320"/>
                <a:ext cx="1158840" cy="1193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3103920" y="4624920"/>
              <a:ext cx="1012320" cy="1043280"/>
              <a:chOff x="3103920" y="4624920"/>
              <a:chExt cx="1012320" cy="1043280"/>
            </a:xfrm>
          </p:grpSpPr>
          <p:sp>
            <p:nvSpPr>
              <p:cNvPr id="222" name="Line 9"/>
              <p:cNvSpPr/>
              <p:nvPr/>
            </p:nvSpPr>
            <p:spPr>
              <a:xfrm flipH="1">
                <a:off x="3103920" y="4624920"/>
                <a:ext cx="1012320" cy="104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 txBox="1"/>
              <p:nvPr/>
            </p:nvSpPr>
            <p:spPr>
              <a:xfrm>
                <a:off x="3103920" y="4624920"/>
                <a:ext cx="1012320" cy="104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3317760" y="4640760"/>
              <a:ext cx="1013040" cy="1043640"/>
              <a:chOff x="3317760" y="4640760"/>
              <a:chExt cx="1013040" cy="1043640"/>
            </a:xfrm>
          </p:grpSpPr>
          <p:sp>
            <p:nvSpPr>
              <p:cNvPr id="225" name="Line 10"/>
              <p:cNvSpPr/>
              <p:nvPr/>
            </p:nvSpPr>
            <p:spPr>
              <a:xfrm flipH="1">
                <a:off x="3317760" y="4640760"/>
                <a:ext cx="1012680" cy="1043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 txBox="1"/>
              <p:nvPr/>
            </p:nvSpPr>
            <p:spPr>
              <a:xfrm>
                <a:off x="3318120" y="4640760"/>
                <a:ext cx="1012680" cy="1043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3354480" y="4495680"/>
              <a:ext cx="1330560" cy="1371240"/>
              <a:chOff x="3354480" y="4495680"/>
              <a:chExt cx="1330560" cy="1371240"/>
            </a:xfrm>
          </p:grpSpPr>
          <p:sp>
            <p:nvSpPr>
              <p:cNvPr id="228" name="Line 11"/>
              <p:cNvSpPr/>
              <p:nvPr/>
            </p:nvSpPr>
            <p:spPr>
              <a:xfrm flipH="1">
                <a:off x="3354480" y="4495680"/>
                <a:ext cx="1330560" cy="1371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 txBox="1"/>
              <p:nvPr/>
            </p:nvSpPr>
            <p:spPr>
              <a:xfrm>
                <a:off x="3354480" y="4495680"/>
                <a:ext cx="1330560" cy="1371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3583800" y="4629960"/>
              <a:ext cx="1190160" cy="1226160"/>
              <a:chOff x="3583800" y="4629960"/>
              <a:chExt cx="1190160" cy="1226160"/>
            </a:xfrm>
          </p:grpSpPr>
          <p:sp>
            <p:nvSpPr>
              <p:cNvPr id="231" name="Line 12"/>
              <p:cNvSpPr/>
              <p:nvPr/>
            </p:nvSpPr>
            <p:spPr>
              <a:xfrm flipH="1">
                <a:off x="3583800" y="4629960"/>
                <a:ext cx="1189800" cy="122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 txBox="1"/>
              <p:nvPr/>
            </p:nvSpPr>
            <p:spPr>
              <a:xfrm>
                <a:off x="3584160" y="4629960"/>
                <a:ext cx="1189800" cy="1226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3787920" y="4813200"/>
              <a:ext cx="1012320" cy="1043280"/>
              <a:chOff x="3787920" y="4813200"/>
              <a:chExt cx="1012320" cy="1043280"/>
            </a:xfrm>
          </p:grpSpPr>
          <p:sp>
            <p:nvSpPr>
              <p:cNvPr id="234" name="Line 13"/>
              <p:cNvSpPr/>
              <p:nvPr/>
            </p:nvSpPr>
            <p:spPr>
              <a:xfrm flipH="1">
                <a:off x="3787920" y="4813200"/>
                <a:ext cx="1012320" cy="104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 txBox="1"/>
              <p:nvPr/>
            </p:nvSpPr>
            <p:spPr>
              <a:xfrm>
                <a:off x="3787920" y="4813200"/>
                <a:ext cx="1012320" cy="104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4096080" y="5092560"/>
              <a:ext cx="678240" cy="699120"/>
              <a:chOff x="4096080" y="5092560"/>
              <a:chExt cx="678240" cy="699120"/>
            </a:xfrm>
          </p:grpSpPr>
          <p:sp>
            <p:nvSpPr>
              <p:cNvPr id="237" name="Line 14"/>
              <p:cNvSpPr/>
              <p:nvPr/>
            </p:nvSpPr>
            <p:spPr>
              <a:xfrm flipH="1">
                <a:off x="4096080" y="5092560"/>
                <a:ext cx="678240" cy="699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 txBox="1"/>
              <p:nvPr/>
            </p:nvSpPr>
            <p:spPr>
              <a:xfrm>
                <a:off x="4096080" y="5092560"/>
                <a:ext cx="678240" cy="699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9" name="Group 15"/>
          <p:cNvGrpSpPr/>
          <p:nvPr/>
        </p:nvGrpSpPr>
        <p:grpSpPr>
          <a:xfrm>
            <a:off x="2367000" y="4495680"/>
            <a:ext cx="2432880" cy="1361880"/>
            <a:chOff x="2367000" y="4495680"/>
            <a:chExt cx="2432880" cy="1361880"/>
          </a:xfrm>
        </p:grpSpPr>
        <p:grpSp>
          <p:nvGrpSpPr>
            <p:cNvPr id="240" name=""/>
            <p:cNvGrpSpPr/>
            <p:nvPr/>
          </p:nvGrpSpPr>
          <p:grpSpPr>
            <a:xfrm>
              <a:off x="2367000" y="5152680"/>
              <a:ext cx="331920" cy="342000"/>
              <a:chOff x="2367000" y="5152680"/>
              <a:chExt cx="331920" cy="342000"/>
            </a:xfrm>
          </p:grpSpPr>
          <p:sp>
            <p:nvSpPr>
              <p:cNvPr id="241" name="Line 16"/>
              <p:cNvSpPr/>
              <p:nvPr/>
            </p:nvSpPr>
            <p:spPr>
              <a:xfrm flipH="1">
                <a:off x="2367000" y="5152680"/>
                <a:ext cx="331920" cy="342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 txBox="1"/>
              <p:nvPr/>
            </p:nvSpPr>
            <p:spPr>
              <a:xfrm>
                <a:off x="2367000" y="5152680"/>
                <a:ext cx="331920" cy="342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2449800" y="4639680"/>
              <a:ext cx="912960" cy="940320"/>
              <a:chOff x="2449800" y="4639680"/>
              <a:chExt cx="912960" cy="940320"/>
            </a:xfrm>
          </p:grpSpPr>
          <p:sp>
            <p:nvSpPr>
              <p:cNvPr id="244" name="Line 17"/>
              <p:cNvSpPr/>
              <p:nvPr/>
            </p:nvSpPr>
            <p:spPr>
              <a:xfrm flipH="1">
                <a:off x="2449800" y="4639680"/>
                <a:ext cx="912960" cy="940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 txBox="1"/>
              <p:nvPr/>
            </p:nvSpPr>
            <p:spPr>
              <a:xfrm>
                <a:off x="2449800" y="4639680"/>
                <a:ext cx="912960" cy="940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2532240" y="4639680"/>
              <a:ext cx="996480" cy="1025640"/>
              <a:chOff x="2532240" y="4639680"/>
              <a:chExt cx="996480" cy="1025640"/>
            </a:xfrm>
          </p:grpSpPr>
          <p:sp>
            <p:nvSpPr>
              <p:cNvPr id="247" name="Line 18"/>
              <p:cNvSpPr/>
              <p:nvPr/>
            </p:nvSpPr>
            <p:spPr>
              <a:xfrm flipH="1">
                <a:off x="2532240" y="4639680"/>
                <a:ext cx="996120" cy="1025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 txBox="1"/>
              <p:nvPr/>
            </p:nvSpPr>
            <p:spPr>
              <a:xfrm>
                <a:off x="2532600" y="4639680"/>
                <a:ext cx="996120" cy="1025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2610720" y="4660920"/>
              <a:ext cx="1084320" cy="1116360"/>
              <a:chOff x="2610720" y="4660920"/>
              <a:chExt cx="1084320" cy="1116360"/>
            </a:xfrm>
          </p:grpSpPr>
          <p:sp>
            <p:nvSpPr>
              <p:cNvPr id="250" name="Line 19"/>
              <p:cNvSpPr/>
              <p:nvPr/>
            </p:nvSpPr>
            <p:spPr>
              <a:xfrm flipH="1">
                <a:off x="2610720" y="4660920"/>
                <a:ext cx="1084320" cy="1116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 txBox="1"/>
              <p:nvPr/>
            </p:nvSpPr>
            <p:spPr>
              <a:xfrm>
                <a:off x="2610720" y="4660920"/>
                <a:ext cx="1084320" cy="1116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2792520" y="4602600"/>
              <a:ext cx="1152000" cy="1185480"/>
              <a:chOff x="2792520" y="4602600"/>
              <a:chExt cx="1152000" cy="1185480"/>
            </a:xfrm>
          </p:grpSpPr>
          <p:sp>
            <p:nvSpPr>
              <p:cNvPr id="253" name="Line 20"/>
              <p:cNvSpPr/>
              <p:nvPr/>
            </p:nvSpPr>
            <p:spPr>
              <a:xfrm flipH="1">
                <a:off x="2792520" y="4602600"/>
                <a:ext cx="1152000" cy="1185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 txBox="1"/>
              <p:nvPr/>
            </p:nvSpPr>
            <p:spPr>
              <a:xfrm>
                <a:off x="2792520" y="4602600"/>
                <a:ext cx="1152000" cy="1185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3113640" y="4623840"/>
              <a:ext cx="1006560" cy="1036080"/>
              <a:chOff x="3113640" y="4623840"/>
              <a:chExt cx="1006560" cy="1036080"/>
            </a:xfrm>
          </p:grpSpPr>
          <p:sp>
            <p:nvSpPr>
              <p:cNvPr id="256" name="Line 21"/>
              <p:cNvSpPr/>
              <p:nvPr/>
            </p:nvSpPr>
            <p:spPr>
              <a:xfrm flipH="1">
                <a:off x="3113640" y="4623840"/>
                <a:ext cx="1006200" cy="1036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 txBox="1"/>
              <p:nvPr/>
            </p:nvSpPr>
            <p:spPr>
              <a:xfrm>
                <a:off x="3114000" y="4623840"/>
                <a:ext cx="1006200" cy="1036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3326400" y="4639680"/>
              <a:ext cx="1007280" cy="1036440"/>
              <a:chOff x="3326400" y="4639680"/>
              <a:chExt cx="1007280" cy="1036440"/>
            </a:xfrm>
          </p:grpSpPr>
          <p:sp>
            <p:nvSpPr>
              <p:cNvPr id="259" name="Line 22"/>
              <p:cNvSpPr/>
              <p:nvPr/>
            </p:nvSpPr>
            <p:spPr>
              <a:xfrm flipH="1">
                <a:off x="3326400" y="4639680"/>
                <a:ext cx="1006920" cy="1036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 txBox="1"/>
              <p:nvPr/>
            </p:nvSpPr>
            <p:spPr>
              <a:xfrm>
                <a:off x="3326760" y="4639680"/>
                <a:ext cx="1006920" cy="10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3362760" y="4495680"/>
              <a:ext cx="1323360" cy="1361880"/>
              <a:chOff x="3362760" y="4495680"/>
              <a:chExt cx="1323360" cy="1361880"/>
            </a:xfrm>
          </p:grpSpPr>
          <p:sp>
            <p:nvSpPr>
              <p:cNvPr id="262" name="Line 23"/>
              <p:cNvSpPr/>
              <p:nvPr/>
            </p:nvSpPr>
            <p:spPr>
              <a:xfrm flipH="1">
                <a:off x="3362760" y="4495680"/>
                <a:ext cx="1323000" cy="1361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 txBox="1"/>
              <p:nvPr/>
            </p:nvSpPr>
            <p:spPr>
              <a:xfrm>
                <a:off x="3363120" y="4495680"/>
                <a:ext cx="1323000" cy="1361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591360" y="4629240"/>
              <a:ext cx="1182960" cy="1217880"/>
              <a:chOff x="3591360" y="4629240"/>
              <a:chExt cx="1182960" cy="1217880"/>
            </a:xfrm>
          </p:grpSpPr>
          <p:sp>
            <p:nvSpPr>
              <p:cNvPr id="265" name="Line 24"/>
              <p:cNvSpPr/>
              <p:nvPr/>
            </p:nvSpPr>
            <p:spPr>
              <a:xfrm flipH="1">
                <a:off x="3591360" y="4629240"/>
                <a:ext cx="1182960" cy="1217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 txBox="1"/>
              <p:nvPr/>
            </p:nvSpPr>
            <p:spPr>
              <a:xfrm>
                <a:off x="3591360" y="4629240"/>
                <a:ext cx="1182960" cy="1217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3793320" y="4811040"/>
              <a:ext cx="1006560" cy="1036080"/>
              <a:chOff x="3793320" y="4811040"/>
              <a:chExt cx="1006560" cy="1036080"/>
            </a:xfrm>
          </p:grpSpPr>
          <p:sp>
            <p:nvSpPr>
              <p:cNvPr id="268" name="Line 25"/>
              <p:cNvSpPr/>
              <p:nvPr/>
            </p:nvSpPr>
            <p:spPr>
              <a:xfrm flipH="1">
                <a:off x="3793320" y="4811040"/>
                <a:ext cx="1006200" cy="1036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 txBox="1"/>
              <p:nvPr/>
            </p:nvSpPr>
            <p:spPr>
              <a:xfrm>
                <a:off x="3793680" y="4811040"/>
                <a:ext cx="1006200" cy="1036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4099680" y="5088240"/>
              <a:ext cx="674640" cy="694440"/>
              <a:chOff x="4099680" y="5088240"/>
              <a:chExt cx="674640" cy="694440"/>
            </a:xfrm>
          </p:grpSpPr>
          <p:sp>
            <p:nvSpPr>
              <p:cNvPr id="271" name="Line 26"/>
              <p:cNvSpPr/>
              <p:nvPr/>
            </p:nvSpPr>
            <p:spPr>
              <a:xfrm flipH="1">
                <a:off x="4099680" y="5088240"/>
                <a:ext cx="674280" cy="69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 txBox="1"/>
              <p:nvPr/>
            </p:nvSpPr>
            <p:spPr>
              <a:xfrm>
                <a:off x="4100040" y="5088240"/>
                <a:ext cx="674280" cy="69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50832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5897"/>
                </a:solidFill>
                <a:latin typeface="Palatino Linotype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2f5897"/>
                </a:solidFill>
                <a:latin typeface="Palatino Linotype"/>
                <a:ea typeface="华文新魏"/>
              </a:rPr>
              <a:t>、位置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74" name="Text Box 28"/>
          <p:cNvSpPr/>
          <p:nvPr/>
        </p:nvSpPr>
        <p:spPr>
          <a:xfrm>
            <a:off x="6553080" y="5638680"/>
            <a:ext cx="68580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6076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f5897"/>
                </a:solidFill>
                <a:latin typeface="Times New Roman"/>
              </a:rPr>
              <a:t>秦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9"/>
          <p:cNvSpPr/>
          <p:nvPr/>
        </p:nvSpPr>
        <p:spPr>
          <a:xfrm>
            <a:off x="6553080" y="6095880"/>
            <a:ext cx="685800" cy="368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6076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f5897"/>
                </a:solidFill>
                <a:latin typeface="Times New Roman"/>
              </a:rPr>
              <a:t>淮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886200" y="4571640"/>
            <a:ext cx="2666880" cy="1066680"/>
            <a:chOff x="3886200" y="4571640"/>
            <a:chExt cx="2666880" cy="1066680"/>
          </a:xfrm>
        </p:grpSpPr>
        <p:sp>
          <p:nvSpPr>
            <p:cNvPr id="277" name="Line 30"/>
            <p:cNvSpPr/>
            <p:nvPr/>
          </p:nvSpPr>
          <p:spPr>
            <a:xfrm flipH="1" flipV="1">
              <a:off x="3886200" y="4571640"/>
              <a:ext cx="2666880" cy="10666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 txBox="1"/>
            <p:nvPr/>
          </p:nvSpPr>
          <p:spPr>
            <a:xfrm rot="10800000">
              <a:off x="3886200" y="4571640"/>
              <a:ext cx="2666880" cy="1066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4343400" y="4571640"/>
            <a:ext cx="2209680" cy="1600200"/>
            <a:chOff x="4343400" y="4571640"/>
            <a:chExt cx="2209680" cy="1600200"/>
          </a:xfrm>
        </p:grpSpPr>
        <p:sp>
          <p:nvSpPr>
            <p:cNvPr id="280" name="Line 31"/>
            <p:cNvSpPr/>
            <p:nvPr/>
          </p:nvSpPr>
          <p:spPr>
            <a:xfrm flipH="1" flipV="1">
              <a:off x="4343400" y="4571640"/>
              <a:ext cx="2209680" cy="16002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 txBox="1"/>
            <p:nvPr/>
          </p:nvSpPr>
          <p:spPr>
            <a:xfrm rot="10800000">
              <a:off x="4343400" y="4571640"/>
              <a:ext cx="2209680" cy="160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Text Box 32"/>
          <p:cNvSpPr/>
          <p:nvPr/>
        </p:nvSpPr>
        <p:spPr>
          <a:xfrm>
            <a:off x="6324480" y="431640"/>
            <a:ext cx="2743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海陆位置：秦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淮河以南，青藏高原以东；东、南部面临东海和南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3"/>
          <p:cNvSpPr/>
          <p:nvPr/>
        </p:nvSpPr>
        <p:spPr>
          <a:xfrm>
            <a:off x="6324480" y="2133720"/>
            <a:ext cx="266724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经纬度位置：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4°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以南，北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归线穿过其南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部分位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°E~120°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之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dur="indefinite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dur="indefinite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500"/>
                            </p:stCondLst>
                            <p:childTnLst>
                              <p:par>
                                <p:cTn id="86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6400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5897"/>
                </a:solidFill>
                <a:latin typeface="Palatino Linotype"/>
              </a:rPr>
              <a:t>2</a:t>
            </a:r>
            <a:r>
              <a:rPr b="1" lang="zh-CN" sz="3200" spc="-1" strike="noStrike">
                <a:solidFill>
                  <a:srgbClr val="2f5897"/>
                </a:solidFill>
                <a:latin typeface="Palatino Linotype"/>
              </a:rPr>
              <a:t>、南方地区的地形</a:t>
            </a:r>
            <a:endParaRPr b="0" lang="en-US" sz="32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285" name="Picture 3" descr="南方地区地形图"/>
          <p:cNvPicPr/>
          <p:nvPr/>
        </p:nvPicPr>
        <p:blipFill>
          <a:blip r:embed="rId1"/>
          <a:stretch/>
        </p:blipFill>
        <p:spPr>
          <a:xfrm>
            <a:off x="228600" y="609480"/>
            <a:ext cx="6934320" cy="5715000"/>
          </a:xfrm>
          <a:prstGeom prst="rect">
            <a:avLst/>
          </a:prstGeom>
          <a:ln w="0">
            <a:noFill/>
          </a:ln>
        </p:spPr>
      </p:pic>
      <p:sp>
        <p:nvSpPr>
          <p:cNvPr id="286" name="AutoShape 4"/>
          <p:cNvSpPr/>
          <p:nvPr/>
        </p:nvSpPr>
        <p:spPr>
          <a:xfrm>
            <a:off x="0" y="6400800"/>
            <a:ext cx="1143000" cy="457200"/>
          </a:xfrm>
          <a:prstGeom prst="cloudCallout">
            <a:avLst>
              <a:gd name="adj1" fmla="val 82083"/>
              <a:gd name="adj2" fmla="val 45138"/>
            </a:avLst>
          </a:prstGeom>
          <a:solidFill>
            <a:srgbClr val="6076b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练一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1547640" y="6391440"/>
            <a:ext cx="4395960" cy="459720"/>
          </a:xfrm>
          <a:prstGeom prst="rect">
            <a:avLst/>
          </a:prstGeom>
          <a:solidFill>
            <a:srgbClr val="2f5897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找出南方地区主要的地形区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7205760" y="1452600"/>
            <a:ext cx="1797120" cy="368280"/>
          </a:xfrm>
          <a:prstGeom prst="rect">
            <a:avLst/>
          </a:prstGeom>
          <a:solidFill>
            <a:srgbClr val="2f5897"/>
          </a:solidFill>
          <a:ln w="9360">
            <a:solidFill>
              <a:srgbClr val="6076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四川盆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7209000" y="1976400"/>
            <a:ext cx="1858680" cy="368280"/>
          </a:xfrm>
          <a:prstGeom prst="rect">
            <a:avLst/>
          </a:prstGeom>
          <a:solidFill>
            <a:srgbClr val="2f5897"/>
          </a:solidFill>
          <a:ln w="9360">
            <a:solidFill>
              <a:srgbClr val="6076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长江中下游平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8"/>
          <p:cNvSpPr/>
          <p:nvPr/>
        </p:nvSpPr>
        <p:spPr>
          <a:xfrm>
            <a:off x="7210440" y="2443320"/>
            <a:ext cx="1641600" cy="368280"/>
          </a:xfrm>
          <a:prstGeom prst="rect">
            <a:avLst/>
          </a:prstGeom>
          <a:solidFill>
            <a:srgbClr val="2f5897"/>
          </a:solidFill>
          <a:ln w="9360">
            <a:solidFill>
              <a:srgbClr val="6076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东南丘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9"/>
          <p:cNvSpPr/>
          <p:nvPr/>
        </p:nvSpPr>
        <p:spPr>
          <a:xfrm>
            <a:off x="7164360" y="2924280"/>
            <a:ext cx="1797120" cy="368280"/>
          </a:xfrm>
          <a:prstGeom prst="rect">
            <a:avLst/>
          </a:prstGeom>
          <a:solidFill>
            <a:srgbClr val="2f5897"/>
          </a:solidFill>
          <a:ln w="9360">
            <a:solidFill>
              <a:srgbClr val="6076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云贵高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1"/>
          <p:cNvSpPr/>
          <p:nvPr/>
        </p:nvSpPr>
        <p:spPr>
          <a:xfrm>
            <a:off x="5231880" y="18900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地形复杂多样，东西差异明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dur="indefinite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dur="indefinite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500"/>
                            </p:stCondLst>
                            <p:childTnLst>
                              <p:par>
                                <p:cTn id="125" dur="indefinite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00:49:4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0:19Z</dcterms:modified>
  <cp:revision>13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