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6CA-0631-4A53-A710-3C276699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55AD-F358-4BB7-82C8-D28A1223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2A08-C43F-4467-A62C-63BE9975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0B4D-D611-4CCD-BBA4-06DA26D5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8F599-E9A4-4EF8-BF9C-DF1B46AC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4D5E1-3C6F-4626-B647-784B8AEE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24CEE-77F7-46AF-8222-FDC1D00C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EEF1F-B768-4481-B743-21453033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4C763-916C-4B83-BFD6-A8B862AD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D59C7-6382-4DF9-8F96-826981C6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0CD28-0963-4A89-99FF-9EC5E00F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0D2-6C0A-40F4-8B9A-4FADF645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9B526-47D8-4A2A-991C-CE588D78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739F7-7217-40A9-80D2-377EF048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9DE80-7B87-400A-A7D1-78351B5B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DF9D1-7B52-4FED-BB27-B1F16AB9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368A3-F354-4A85-AC63-9C6ED196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ECF4A-187A-47E0-B946-535CDFA7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24483-6B82-431D-88CF-BFAED91C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A825F-EEA4-40B3-BE42-1B70DFEA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45836-FD6A-4D81-ABD6-A9B9580C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86D69-F4E1-4E4B-98E4-881E9738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38A2-9458-4280-B19C-9A75BC8E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2A2AE-7FF1-48CD-8224-53083DE3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97A5F-ADE0-4493-A711-90217E2D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0D6DA-4D68-47CA-9635-9A795D6E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83DB7-54A5-43A8-BA23-A77B9B28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D8B6E-3487-44DD-9373-95347376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6B2B6-754B-43C0-8321-4CFF9D7C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1CD93-CCE8-4E49-9F98-FD13CCDE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64294-4DC6-4BE2-9091-19191B18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04E1C-5CF5-4AC9-B3C0-494165F9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BF63F-F68B-4218-B377-2A4A13CB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15B1-2AD7-4619-A7D4-EDC71AD6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3EBFF-979A-4416-80ED-DB391BB5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C993B-07C9-46FE-BF9D-6301432A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8811E-A641-424F-9D02-5B1D0184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A7D8E-9825-4916-802E-F8ECDE11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5BB95-06A7-4C09-AE58-0CA4D4D1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E1082-2AD7-4C3B-89E3-D6C3B5E5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C7347-594F-494C-ADAE-A95D48BE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82A60-BF45-4AF1-8B2E-664240A9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6D305-A14C-44EE-9CD4-E5792BC5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01D-D816-406F-AA3B-183B7C87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166-0A9B-4E92-AB5A-70D9943B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960-3CAA-4271-BF53-06D34C57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B889-01AB-4E41-94FA-6C01FCB7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666-7570-4B9F-B9B3-6F74100B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481440"/>
            <a:ext cx="45435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珠海拱北中学    赵兴华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xh173@126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60E8-276B-463E-9648-1C1920B81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694D-8653-4FB5-8498-5249DA0D7B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8C90-E82A-40FA-89AC-17AFCD86726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39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43B9-46AA-4453-917D-F699D8DB35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exhaustsystem.win.mofcom.gov.cn/www/8/exhaustsystem/img/2008328163612.jpg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ks.cn.yahoo.com/question/1307112203395_2.html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n/imgres?imgurl=http://pic.nipic.com/2008-01-11/20081119050373_2.jpg&amp;imgrefurl=http://www.nipic.com/show/4/104/298bcc71afc24314.html&amp;usg=__5U7jkJ4aGEndPTxhpzSEg3O0IWk=&amp;h=960&amp;w=1000&amp;sz=158&amp;hl=zh-CN&amp;start=13&amp;tbnid=Iu5S5UIvgoixrM:&amp;tbnh=143&amp;tbnw=149&amp;prev=/images%3Fq%3D%25E6%2594%25BE%25E9%259E%25AD%25E7%2582%25AE%26gbv%3D2%26hl%3Dzh-CN%26sa%3DG%26newwindow%3D1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441360" y="1811160"/>
            <a:ext cx="82090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四  噪声的危害和控制课件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2289240" y="692280"/>
            <a:ext cx="45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Arial"/>
              </a:rPr>
              <a:t>第二章  声现象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2289240" y="3195720"/>
            <a:ext cx="4875120" cy="2897280"/>
          </a:xfrm>
          <a:prstGeom prst="rect">
            <a:avLst/>
          </a:prstGeom>
          <a:ln w="0">
            <a:noFill/>
          </a:ln>
        </p:spPr>
      </p:pic>
      <p:sp>
        <p:nvSpPr>
          <p:cNvPr id="1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页脚占位符 2"/>
          <p:cNvSpPr/>
          <p:nvPr/>
        </p:nvSpPr>
        <p:spPr>
          <a:xfrm>
            <a:off x="3124080" y="6481800"/>
            <a:ext cx="4543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珠海拱北中学    赵兴华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xh173@126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2268360" y="836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贝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211640" y="1557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219640" y="220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68360" y="2852640"/>
            <a:ext cx="83883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保证休息和睡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声音不能超过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贝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为了保证睡眠和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理想的声音环境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)      A.0dB        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dB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dB      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90d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594036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744120" y="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练习二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539640" y="981000"/>
            <a:ext cx="7020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人们以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划分声音的等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保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听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声音不能超过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贝；为了保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证工作和学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声音不能超过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贝；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7740720" y="3357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826920" y="26028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自学探究三：噪声的控制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395280" y="177336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声音从产生到引起听觉有哪几个阶段？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784240" y="2349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声源的振动产生声音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649600" y="3500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空气等介质的传播声音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2712600" y="4797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鼓膜的振动引起听觉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3851280" y="2852640"/>
            <a:ext cx="485640" cy="720720"/>
          </a:xfrm>
          <a:prstGeom prst="downArrow">
            <a:avLst>
              <a:gd name="adj1" fmla="val 50000"/>
              <a:gd name="adj2" fmla="val 370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AutoShape 12"/>
          <p:cNvSpPr/>
          <p:nvPr/>
        </p:nvSpPr>
        <p:spPr>
          <a:xfrm>
            <a:off x="3851280" y="4076640"/>
            <a:ext cx="485640" cy="719280"/>
          </a:xfrm>
          <a:prstGeom prst="downArrow">
            <a:avLst>
              <a:gd name="adj1" fmla="val 50000"/>
              <a:gd name="adj2" fmla="val 370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1258200" y="10256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阅读教材讨论下列问题：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468360" y="558972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怎样控制噪音？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0" name="文本框 8194"/>
          <p:cNvSpPr/>
          <p:nvPr/>
        </p:nvSpPr>
        <p:spPr>
          <a:xfrm>
            <a:off x="2411280" y="61689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3020040" y="836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控制噪声三种方法：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170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防止噪声产生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声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处减弱噪声）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0" y="292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阻断噪声的传播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传播过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中减弱噪声）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179280" y="40766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防止噪声进入人耳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人耳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减弱噪声）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5" name="WordArt 9"/>
          <p:cNvSpPr txBox="1"/>
          <p:nvPr/>
        </p:nvSpPr>
        <p:spPr>
          <a:xfrm rot="20938200">
            <a:off x="0" y="0"/>
            <a:ext cx="158436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72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点拨</a:t>
            </a:r>
            <a:endParaRPr b="0" lang="en-US" sz="3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72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10"/>
          <p:cNvSpPr/>
          <p:nvPr/>
        </p:nvSpPr>
        <p:spPr>
          <a:xfrm>
            <a:off x="4500720" y="2997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0" y="1125360"/>
            <a:ext cx="835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防止噪声产生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---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声源处控制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在声源处安装消声器、禁止鸣喇叭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48" name="Picture 4" descr="jt013"/>
          <p:cNvPicPr/>
          <p:nvPr/>
        </p:nvPicPr>
        <p:blipFill>
          <a:blip r:embed="rId1"/>
          <a:stretch/>
        </p:blipFill>
        <p:spPr>
          <a:xfrm>
            <a:off x="0" y="2852640"/>
            <a:ext cx="2556000" cy="25225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249" name="Picture 5" descr="560x34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00360" y="2852640"/>
            <a:ext cx="2879640" cy="2448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250" name="Rectangle 6"/>
          <p:cNvSpPr/>
          <p:nvPr/>
        </p:nvSpPr>
        <p:spPr>
          <a:xfrm>
            <a:off x="3310200" y="551592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汽车消声器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1" name="Picture 7" descr="消声器是怎么工作的？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9680" y="2852640"/>
            <a:ext cx="3424320" cy="2490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252" name="Rectangle 8"/>
          <p:cNvSpPr/>
          <p:nvPr/>
        </p:nvSpPr>
        <p:spPr>
          <a:xfrm>
            <a:off x="493920" y="5516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禁止鸣笛标志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6496560" y="5589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枪管消声器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3655440" y="115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活实例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250920" y="333360"/>
            <a:ext cx="88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阻断噪声的传播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----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传播过程中控制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隔声板、植树种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吸收噪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关门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6" name="Picture 13" descr="迷失森林品味幽静森林迷失"/>
          <p:cNvPicPr/>
          <p:nvPr/>
        </p:nvPicPr>
        <p:blipFill>
          <a:blip r:embed="rId1"/>
          <a:stretch/>
        </p:blipFill>
        <p:spPr>
          <a:xfrm>
            <a:off x="108000" y="2133720"/>
            <a:ext cx="6553080" cy="4363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57" name="Text Box 15"/>
          <p:cNvSpPr/>
          <p:nvPr/>
        </p:nvSpPr>
        <p:spPr>
          <a:xfrm>
            <a:off x="6732720" y="2924280"/>
            <a:ext cx="241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树木能够吸收噪声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所以常说”幽静的森林”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608360" y="5444280"/>
            <a:ext cx="453564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公路隔声屏障减少公路噪声对居民的影响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9" name="Picture 9" descr="geyin5"/>
          <p:cNvPicPr/>
          <p:nvPr/>
        </p:nvPicPr>
        <p:blipFill>
          <a:blip r:embed="rId1"/>
          <a:stretch/>
        </p:blipFill>
        <p:spPr>
          <a:xfrm>
            <a:off x="2519280" y="333360"/>
            <a:ext cx="6624720" cy="49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60" name="Picture 5" descr="jiaok12"/>
          <p:cNvPicPr/>
          <p:nvPr/>
        </p:nvPicPr>
        <p:blipFill>
          <a:blip r:embed="rId2"/>
          <a:stretch/>
        </p:blipFill>
        <p:spPr>
          <a:xfrm>
            <a:off x="0" y="3141720"/>
            <a:ext cx="4500720" cy="2890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0" y="366840"/>
            <a:ext cx="608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防止噪声进入耳朵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---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人耳处控制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带耳罩、用手捂住耳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5940360" y="82440"/>
            <a:ext cx="3130560" cy="31305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263" name="Text Box 6"/>
          <p:cNvSpPr/>
          <p:nvPr/>
        </p:nvSpPr>
        <p:spPr>
          <a:xfrm>
            <a:off x="7005960" y="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防噪声耳塞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4" name="Picture 8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2637000"/>
            <a:ext cx="2935440" cy="2817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65" name="Picture 11" descr="CRW_6478"/>
          <p:cNvPicPr/>
          <p:nvPr/>
        </p:nvPicPr>
        <p:blipFill>
          <a:blip r:embed="rId4"/>
          <a:stretch/>
        </p:blipFill>
        <p:spPr>
          <a:xfrm>
            <a:off x="3851280" y="2852640"/>
            <a:ext cx="4680000" cy="31942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4"/>
          <p:cNvSpPr/>
          <p:nvPr/>
        </p:nvSpPr>
        <p:spPr>
          <a:xfrm>
            <a:off x="0" y="5661000"/>
            <a:ext cx="36212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放鞭炮时不由自主地会捂住耳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4746960" y="6078600"/>
            <a:ext cx="3042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直升机驾驶员为什么戴耳罩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1713960" y="1052640"/>
            <a:ext cx="52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居生活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哪些地方有防止噪声的措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523080" y="274680"/>
            <a:ext cx="12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讨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0" name="Picture 7" descr="窗帘装饰系列 NO.2"/>
          <p:cNvPicPr/>
          <p:nvPr/>
        </p:nvPicPr>
        <p:blipFill>
          <a:blip r:embed="rId1"/>
          <a:stretch/>
        </p:blipFill>
        <p:spPr>
          <a:xfrm>
            <a:off x="179280" y="1844640"/>
            <a:ext cx="3829320" cy="3257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271" name="Picture 15" descr="PTFE%E6%A9%A1%E8%83%B6%E5%AE%B6%E5%85%B7%E8%84%9A%E5%9E%AB"/>
          <p:cNvPicPr/>
          <p:nvPr/>
        </p:nvPicPr>
        <p:blipFill>
          <a:blip r:embed="rId2"/>
          <a:stretch/>
        </p:blipFill>
        <p:spPr>
          <a:xfrm>
            <a:off x="4427640" y="1773360"/>
            <a:ext cx="3457440" cy="31194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272" name="Rectangle 17"/>
          <p:cNvSpPr/>
          <p:nvPr/>
        </p:nvSpPr>
        <p:spPr>
          <a:xfrm>
            <a:off x="4572000" y="494100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TF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橡胶家具脚垫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0" y="5300640"/>
            <a:ext cx="396072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安装窗帘是在声音传播过程中减弱噪声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4211640" y="5445000"/>
            <a:ext cx="4680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凳子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椅子脚上安装橡胶垫是在声源处减弱噪声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5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179280" y="260280"/>
            <a:ext cx="8964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三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马路边和住宅附近植树造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仅可以净化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空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且还能起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作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洗衣机由于衣服没有放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出较大的噪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应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  )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买台新的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关闭门窗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拔掉洗衣机插头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将衣服重新放匀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3708360" y="1844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吸收噪声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1187280" y="4149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4"/>
          <p:cNvSpPr/>
          <p:nvPr/>
        </p:nvSpPr>
        <p:spPr>
          <a:xfrm>
            <a:off x="250920" y="476280"/>
            <a:ext cx="8569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下减弱噪声的措施中属于在传播过程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减弱的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  )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建筑工地上噪声大的工作要限时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市区种草植树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戴防止噪声的耳塞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市区内汽车禁止鸣喇叭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059280" y="134136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3189600" y="620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学习目标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24000" y="2205000"/>
            <a:ext cx="808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了解噪声的来源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了解噪声的等级和噪声的危害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知道防止噪声的途径，增强环境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保护的意识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179280" y="476280"/>
            <a:ext cx="86425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下减小噪声的措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属于在声源处减弱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  )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市区禁止汽车鸣喇叭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街道两旁种树种草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纺纱工人戴上防噪声的耳塞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建筑工地噪声大的工作要限时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0526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D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2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4"/>
          <p:cNvSpPr/>
          <p:nvPr/>
        </p:nvSpPr>
        <p:spPr>
          <a:xfrm>
            <a:off x="250920" y="333360"/>
            <a:ext cx="8569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城市高架道路的某些路段可以看到两侧设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的透明板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安装这些板墙是为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  )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保护车辆安全行驶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阻止车辆排放的废气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体现高架桥的设计的美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阻挡车辆产生的噪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减弱噪声污染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2268360" y="1484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页脚占位符 4"/>
          <p:cNvSpPr/>
          <p:nvPr/>
        </p:nvSpPr>
        <p:spPr>
          <a:xfrm>
            <a:off x="3124080" y="6481800"/>
            <a:ext cx="4543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珠海拱北中学    赵兴华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xh173@126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到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24000" y="1989000"/>
            <a:ext cx="83008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噪声的来源：交通噪声、工业噪声、居民噪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噪声的等级 分贝、危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控制噪声的三种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声源处控制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具体办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防止噪声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传播过程中控制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具体办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阻断噪声的传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人耳处控制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具体办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防止噪声进入耳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5D88-58FA-485D-A992-F2248F916A3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页脚占位符 4"/>
          <p:cNvSpPr/>
          <p:nvPr/>
        </p:nvSpPr>
        <p:spPr>
          <a:xfrm>
            <a:off x="3124080" y="6481800"/>
            <a:ext cx="4543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珠海拱北中学    赵兴华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xh173@126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11280" y="836280"/>
            <a:ext cx="6913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冬天，一场大雪过后，人们往往会感到万籁俱寂，你知道为什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611280" y="2060640"/>
            <a:ext cx="691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刚下过的雪是新鲜蓬松的，它的表面有许多小气孔，当外界的声音传入这些小孔时便会发生反射，由于气孔往往是内部大而孔径小，所以仅有小部分声音能从入口反射出来，而大部分则被吸掉了，因而导致了万籁俱寂的场面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042920" y="56610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声音在传播过程中被雪吸收了。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395280" y="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知道吗？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Garamond"/>
              </a:rPr>
              <a:t>自学探究（一）噪声的来源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79280" y="148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Garamond"/>
              </a:rPr>
              <a:t>阅读教材内容回答下列问题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8640" indent="-188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Garamond"/>
              </a:rPr>
              <a:t>1</a:t>
            </a:r>
            <a:r>
              <a:rPr b="0" lang="zh-CN" sz="3200" spc="-1" strike="noStrike">
                <a:solidFill>
                  <a:srgbClr val="990033"/>
                </a:solidFill>
                <a:latin typeface="Garamond"/>
              </a:rPr>
              <a:t>、噪声的含义是什么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8640" indent="-188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8640" indent="-188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79280" y="4724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  <a:ea typeface="宋体"/>
              </a:rPr>
              <a:t>、结合身边实例，同桌讨论噪声都来自于哪里？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0" y="278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Arial"/>
                <a:ea typeface="宋体"/>
              </a:rPr>
              <a:t>物理学角度的噪声</a:t>
            </a:r>
            <a:r>
              <a:rPr b="1" lang="en-US" sz="2800" spc="-1" strike="noStrike">
                <a:solidFill>
                  <a:srgbClr val="000514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514"/>
                </a:solidFill>
                <a:latin typeface="Arial"/>
                <a:ea typeface="宋体"/>
              </a:rPr>
              <a:t>是发声体做无规则振动时发出的声音</a:t>
            </a:r>
            <a:r>
              <a:rPr b="1" lang="en-US" sz="2800" spc="-1" strike="noStrike">
                <a:solidFill>
                  <a:srgbClr val="00051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0" y="350028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Arial"/>
                <a:ea typeface="宋体"/>
              </a:rPr>
              <a:t>环境保护角度上的噪声</a:t>
            </a:r>
            <a:r>
              <a:rPr b="1" lang="en-US" sz="2800" spc="-1" strike="noStrike">
                <a:solidFill>
                  <a:srgbClr val="000514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514"/>
                </a:solidFill>
                <a:latin typeface="Arial"/>
                <a:ea typeface="宋体"/>
              </a:rPr>
              <a:t>凡是防碍人们工作、学习</a:t>
            </a:r>
            <a:r>
              <a:rPr b="1" lang="en-US" sz="2800" spc="-1" strike="noStrike">
                <a:solidFill>
                  <a:srgbClr val="000514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514"/>
                </a:solidFill>
                <a:latin typeface="Arial"/>
                <a:ea typeface="宋体"/>
              </a:rPr>
              <a:t>影响人们生活</a:t>
            </a:r>
            <a:r>
              <a:rPr b="1" lang="en-US" sz="2800" spc="-1" strike="noStrike">
                <a:solidFill>
                  <a:srgbClr val="000514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514"/>
                </a:solidFill>
                <a:latin typeface="Arial"/>
                <a:ea typeface="宋体"/>
              </a:rPr>
              <a:t>干扰人们听觉的声音都属于噪声</a:t>
            </a:r>
            <a:r>
              <a:rPr b="1" lang="en-US" sz="2800" spc="-1" strike="noStrike">
                <a:solidFill>
                  <a:srgbClr val="00051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0" y="1413000"/>
            <a:ext cx="4716360" cy="35128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611280" y="5445000"/>
            <a:ext cx="3260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噪音的波形图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95" name="Picture 4" descr="jb402"/>
          <p:cNvPicPr/>
          <p:nvPr/>
        </p:nvPicPr>
        <p:blipFill>
          <a:blip r:embed="rId2"/>
          <a:stretch/>
        </p:blipFill>
        <p:spPr>
          <a:xfrm>
            <a:off x="4859280" y="1557360"/>
            <a:ext cx="4032360" cy="3529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5435640" y="5516640"/>
            <a:ext cx="3260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乐音的波形图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2195640" y="90792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噪声的来源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96720" y="18464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交通噪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引擎声、汽笛声、刹车声；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95280" y="2637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施工噪声：搅拌机、 打桩机、切割机等的声音；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468360" y="53006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居民噪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娱乐场所的音乐声，商店、集贸市场吆喝叫卖声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395280" y="3933720"/>
            <a:ext cx="833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工业噪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机器运转振动发声，机器切割、摩擦、锻造等发声；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WordArt 9"/>
          <p:cNvSpPr txBox="1"/>
          <p:nvPr/>
        </p:nvSpPr>
        <p:spPr>
          <a:xfrm>
            <a:off x="250920" y="0"/>
            <a:ext cx="1152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点拨</a:t>
            </a:r>
            <a:endParaRPr b="0" lang="en-US" sz="3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页脚占位符 2"/>
          <p:cNvSpPr/>
          <p:nvPr/>
        </p:nvSpPr>
        <p:spPr>
          <a:xfrm>
            <a:off x="3124080" y="6481800"/>
            <a:ext cx="4543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珠海拱北中学    赵兴华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xh173@126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250920" y="1273320"/>
            <a:ext cx="86421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声音中属于噪声的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晨读时的朗读声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城市里汽车发动机的运转声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习课时的喧哗声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剧场里京剧表演的锣鼓声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装修房子时电钻声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宵节夜晚的焰火声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6156360" y="105264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 c 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709560" y="189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练习一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2"/>
          <p:cNvSpPr/>
          <p:nvPr/>
        </p:nvSpPr>
        <p:spPr>
          <a:xfrm>
            <a:off x="3124080" y="6481800"/>
            <a:ext cx="4543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珠海拱北中学    赵兴华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xh173@126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79280" y="404640"/>
            <a:ext cx="8713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自学探究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：噪声的等级和危害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95280" y="1844640"/>
            <a:ext cx="8153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阅读课文并回答：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噪声的等级是怎样划分的？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同的噪声的等级对人们所产生的危害又是怎样的？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真阅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4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资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对不同强度的声音的感觉 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页脚占位符 4"/>
          <p:cNvSpPr/>
          <p:nvPr/>
        </p:nvSpPr>
        <p:spPr>
          <a:xfrm>
            <a:off x="3124080" y="6481800"/>
            <a:ext cx="4543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珠海拱北中学    赵兴华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xh173@126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2268360" y="692280"/>
            <a:ext cx="462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噪声的等级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1773360"/>
            <a:ext cx="85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们用分贝来划分声音强弱的等级，分贝的符号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0" y="292428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0d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人们刚刚能听到的最弱的声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听觉下限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0" y="43401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了保护听力，应控制噪声不超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0d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   为了保证工作和学习，应控制噪声不超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0d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了保证休息和睡眠，应控制噪声不超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d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WordArt 6"/>
          <p:cNvSpPr txBox="1"/>
          <p:nvPr/>
        </p:nvSpPr>
        <p:spPr>
          <a:xfrm>
            <a:off x="250920" y="260280"/>
            <a:ext cx="1152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点拨</a:t>
            </a:r>
            <a:endParaRPr b="0" lang="en-US" sz="3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页脚占位符 4"/>
          <p:cNvSpPr/>
          <p:nvPr/>
        </p:nvSpPr>
        <p:spPr>
          <a:xfrm>
            <a:off x="3124080" y="6481800"/>
            <a:ext cx="4543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珠海拱北中学    赵兴华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xh173@126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611280" y="2637000"/>
            <a:ext cx="59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心理效应：使人烦躁，精力不集中，妨碍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睡眠和休息，影响工作效率。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539640" y="3860640"/>
            <a:ext cx="81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生理效应：头痛、消化不良，视觉模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耳聋等，严重的甚至神志不清、 休克或死亡。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539640" y="5013360"/>
            <a:ext cx="80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物理效应：高强度噪声能够损坏建筑物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2124000" y="1268280"/>
            <a:ext cx="504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隐形杀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噪声的危害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WordArt 11"/>
          <p:cNvSpPr txBox="1"/>
          <p:nvPr/>
        </p:nvSpPr>
        <p:spPr>
          <a:xfrm>
            <a:off x="250920" y="115920"/>
            <a:ext cx="1152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点拨</a:t>
            </a:r>
            <a:endParaRPr b="0" lang="en-US" sz="3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3T12:01:1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10Z</dcterms:modified>
  <cp:revision>7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