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4C4-E8C7-4DCA-B14E-CB750960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C40E-9361-466F-9710-C81FBB6E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199-71FD-42AD-8441-8579F4E2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3FC-DDA1-43EF-83D5-2F3FE05E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ADF4-D625-4287-B3B1-6DD32B91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3494-DC6A-4DBE-9927-6F51B9F2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C655-7D90-4F68-B0EF-70DD20A7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966D-2B69-418A-A87F-FD753A86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BEA1-9B99-4FD6-8870-C36D0B53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1839-BA76-47F6-AD3F-6AF4B86B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F589-8B07-4BFC-B33B-23D282B2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A14-4921-4F51-A634-B4AF5A07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E3B4-D387-4ADD-BBE0-0A5344E9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28E5-D6A3-4466-8204-D60B4DF3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CEF3-31AB-41B4-8781-04E07508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0791-2099-40EC-9E18-38766974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8D98-E1C9-4B53-B83E-589C1287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9C5-6AD0-4DA5-B886-7C517B04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D271-3F8F-485A-AD8C-CA99BD1E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19C-70DD-4F7D-8B11-FF5CC9FE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954-4409-47ED-9E8F-0B7C10B8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A81-779D-43BE-A235-AA9E14F4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3E2-87E7-44CC-BC40-2AD9846E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1E2-EA9B-4BD6-A0E8-F0F32886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5358-91CC-4F8B-BC51-20C32193EC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5864-A984-4C20-948B-B04475C2B4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yw3c4c16001"/>
          <p:cNvPicPr/>
          <p:nvPr/>
        </p:nvPicPr>
        <p:blipFill>
          <a:blip r:embed="rId1"/>
          <a:stretch/>
        </p:blipFill>
        <p:spPr>
          <a:xfrm>
            <a:off x="0" y="0"/>
            <a:ext cx="64263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6"/>
          <p:cNvSpPr txBox="1"/>
          <p:nvPr/>
        </p:nvSpPr>
        <p:spPr>
          <a:xfrm rot="5400000">
            <a:off x="5072400" y="2431080"/>
            <a:ext cx="4968720" cy="13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再塑生命</a:t>
            </a:r>
            <a:endParaRPr b="0" lang="en-US" sz="24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237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1284480" y="47628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</a:rPr>
              <a:t>再塑生命课件</a:t>
            </a:r>
            <a:r>
              <a:rPr b="1" lang="en-US" sz="4000" spc="-1" strike="noStrike">
                <a:solidFill>
                  <a:srgbClr val="c0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19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814920" y="174600"/>
            <a:ext cx="5329080" cy="2288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再塑生命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美国教育家、盲聋哑作家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海伦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凯勒的作品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这篇课文选编自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假如给我三天光明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一书，原是互有联系又相对独立的三篇文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再塑生命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》《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亲近自然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》《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关于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爱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的含义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合在一起编成课文，并用空行使其自然分为三个部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Img16664662"/>
          <p:cNvPicPr/>
          <p:nvPr/>
        </p:nvPicPr>
        <p:blipFill>
          <a:blip r:embed="rId1"/>
          <a:stretch/>
        </p:blipFill>
        <p:spPr>
          <a:xfrm>
            <a:off x="250920" y="404640"/>
            <a:ext cx="3241440" cy="475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24000" y="5516640"/>
            <a:ext cx="316692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驱散生命的黑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924360" y="692280"/>
            <a:ext cx="4895640" cy="37947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你认为莎莉文老师的教学有何特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结合你所了解到的信息，说说海伦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·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凯勒为什么称莎莉文老师为”再塑生命”的人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hellen1"/>
          <p:cNvPicPr/>
          <p:nvPr/>
        </p:nvPicPr>
        <p:blipFill>
          <a:blip r:embed="rId1"/>
          <a:stretch/>
        </p:blipFill>
        <p:spPr>
          <a:xfrm>
            <a:off x="324000" y="549360"/>
            <a:ext cx="3456000" cy="597528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8197"/>
          <p:cNvSpPr/>
          <p:nvPr/>
        </p:nvSpPr>
        <p:spPr>
          <a:xfrm>
            <a:off x="611280" y="117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468360" y="1484280"/>
            <a:ext cx="4968720" cy="82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浏览课文，画出你认为具有深刻含义的语句，大声朗读并在组内交流你的看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hellen3"/>
          <p:cNvPicPr/>
          <p:nvPr/>
        </p:nvPicPr>
        <p:blipFill>
          <a:blip r:embed="rId1"/>
          <a:stretch/>
        </p:blipFill>
        <p:spPr>
          <a:xfrm>
            <a:off x="5651640" y="620640"/>
            <a:ext cx="3097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A2E9-65CC-482B-AE39-5F0C6D17C6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95280" y="333360"/>
            <a:ext cx="828036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从文中找出表现海伦</a:t>
            </a:r>
            <a:r>
              <a:rPr b="1" lang="en-US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·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凯勒心理活动的语句，分析她的性格特点，并说说哪些品质是值得你学习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hellen2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55640" y="3141720"/>
            <a:ext cx="7632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2T02:51:3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49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