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3.wmf" ContentType="image/x-wmf"/>
  <Override PartName="/ppt/media/image2.gif" ContentType="image/gif"/>
  <Override PartName="/ppt/media/image3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gif" ContentType="image/gif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1FC6-5908-43BF-ACB8-E5B2215F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F71D-E7EA-4EE1-8606-ADE6401E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EC5E-27B7-414E-BAF7-C3081354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3A7C-3174-4AB3-A9E7-C96D01C0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A3AF-6D25-4F35-BA0C-1F273BBC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826F-3847-47F1-9A34-3D16A4A4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C132-BF59-4899-997B-33BC435C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9858-C1F6-45BC-8EDA-F94240C1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1C17-EA14-4E91-9A8B-03AF5DA5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0CAC-30DB-43CF-B895-5DF22F2A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6CC4-C482-4CF6-9BAE-93E978ED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8333-CA4D-4523-9999-993E5713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775D-5FBA-4032-A22A-5A44E29D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CD14-9BC4-424A-891F-A5F56AEA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B11F-741D-4BA0-87DB-D3FA9674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D895-00DC-4F8E-870E-DD21E57F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8E25-0DF4-4DED-B181-A8B29A62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422C0-1C97-4CDB-9672-80817FCC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98A6-1CED-4198-9070-330A89F4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B0DD4-65A9-4AC5-9F85-0CE2803E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C538-B301-438A-AFC8-AACA326E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CBD58-D759-48B4-802C-EF6EDDFF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76BF-43A6-4471-821F-EAAF7444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5C244-6233-46AA-B4BF-83AE995A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C7047-1567-4D5E-94B3-41689DB5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AAE47-B077-4848-BA40-562B03E4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272A4-B52E-435A-9836-7AF9B0F8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2D42D-B07B-40D5-BB3D-8FCA48E5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4CD68-10E6-43B8-AACD-8128A79B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A925A-B093-4C4F-A22F-1E5F4949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A06A3-B64A-4DDC-BE2C-C2FDA224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AF690-D0B2-4C63-98B2-EF9673E9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B04C5-0830-491E-8A18-ECAF893C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7E7A-AD72-4470-89D3-DDCFDFC5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68FC9-2A29-4E37-82CB-3BD72471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2BDD9-ADBC-4CE7-8998-9F1E8EB3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27FF40-E74D-4B28-BA01-B362E94F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41B24-0EB6-4FBB-9B63-8FF075EC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9CB88-F110-4793-835C-2846DAA0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FCD74F-BD08-4027-AD78-92A06CDC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42B15-0641-4236-B919-FE202ECF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BD218-8900-459B-84F6-8F1B846F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DF7A5-4207-4290-A76A-809E52A0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DAF7-3E31-48B6-ABE7-177C68C1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5D62-38FA-43FA-9F3A-90E38238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D46E-EE1A-4E8E-B9A4-31BB70D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9773-D637-421A-B38B-14AE39DE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F504-B147-42BE-A1E7-EDFE1000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D0EC-9A7C-4B6B-8950-338F15B8671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34CC-F8D1-4E38-8275-646FFD66A1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92BE-FD7F-4101-A137-0DEDBDEB3256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1623-2413-462B-A4CE-ADDB47CA07F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12"/>
          <p:cNvSpPr txBox="1"/>
          <p:nvPr/>
        </p:nvSpPr>
        <p:spPr>
          <a:xfrm>
            <a:off x="1187280" y="1773360"/>
            <a:ext cx="7056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0000"/>
                  </a:solidFill>
                  <a:round/>
                </a:ln>
                <a:noFill/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中位数和众数课件</a:t>
            </a:r>
            <a:r>
              <a:rPr b="1" lang="en-US" sz="4000" spc="1" strike="noStrike">
                <a:ln w="19080">
                  <a:solidFill>
                    <a:srgbClr val="ff0000"/>
                  </a:solidFill>
                  <a:round/>
                </a:ln>
                <a:noFill/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ff0000"/>
                  </a:solidFill>
                  <a:round/>
                </a:ln>
                <a:noFill/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9080">
                <a:solidFill>
                  <a:srgbClr val="ff0000"/>
                </a:solidFill>
                <a:round/>
              </a:ln>
              <a:noFill/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468360" y="2602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整理上面的数据得到图表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900000" y="765000"/>
          <a:ext cx="8077320" cy="1657440"/>
        </p:xfrm>
        <a:graphic>
          <a:graphicData uri="http://schemas.openxmlformats.org/drawingml/2006/table">
            <a:tbl>
              <a:tblPr/>
              <a:tblGrid>
                <a:gridCol w="1828800"/>
                <a:gridCol w="609480"/>
                <a:gridCol w="590760"/>
                <a:gridCol w="1009440"/>
                <a:gridCol w="1009800"/>
                <a:gridCol w="1009800"/>
                <a:gridCol w="1009440"/>
                <a:gridCol w="1009800"/>
              </a:tblGrid>
              <a:tr h="4251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销售额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（人数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销售额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388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（人数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grpSp>
        <p:nvGrpSpPr>
          <p:cNvPr id="303" name="Group 57"/>
          <p:cNvGrpSpPr/>
          <p:nvPr/>
        </p:nvGrpSpPr>
        <p:grpSpPr>
          <a:xfrm>
            <a:off x="-108000" y="1989000"/>
            <a:ext cx="8001000" cy="3164040"/>
            <a:chOff x="-108000" y="1989000"/>
            <a:chExt cx="8001000" cy="3164040"/>
          </a:xfrm>
        </p:grpSpPr>
        <p:pic>
          <p:nvPicPr>
            <p:cNvPr id="304" name="Object 50" descr=""/>
            <p:cNvPicPr/>
            <p:nvPr/>
          </p:nvPicPr>
          <p:blipFill>
            <a:blip r:embed="rId1"/>
            <a:stretch/>
          </p:blipFill>
          <p:spPr>
            <a:xfrm>
              <a:off x="172800" y="2322360"/>
              <a:ext cx="6384960" cy="283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"/>
            <p:cNvGrpSpPr/>
            <p:nvPr/>
          </p:nvGrpSpPr>
          <p:grpSpPr>
            <a:xfrm>
              <a:off x="713880" y="2064960"/>
              <a:ext cx="360" cy="609480"/>
              <a:chOff x="713880" y="2064960"/>
              <a:chExt cx="360" cy="609480"/>
            </a:xfrm>
          </p:grpSpPr>
          <p:sp>
            <p:nvSpPr>
              <p:cNvPr id="306" name="Line 51"/>
              <p:cNvSpPr/>
              <p:nvPr/>
            </p:nvSpPr>
            <p:spPr>
              <a:xfrm flipV="1">
                <a:off x="714240" y="20649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 rot="10800000">
                <a:off x="713880" y="206496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52"/>
            <p:cNvSpPr/>
            <p:nvPr/>
          </p:nvSpPr>
          <p:spPr>
            <a:xfrm>
              <a:off x="-108000" y="19890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人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53"/>
            <p:cNvSpPr/>
            <p:nvPr/>
          </p:nvSpPr>
          <p:spPr>
            <a:xfrm>
              <a:off x="6368760" y="46558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销售额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万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156000" y="4413240"/>
              <a:ext cx="1067040" cy="360"/>
              <a:chOff x="6156000" y="4413240"/>
              <a:chExt cx="1067040" cy="360"/>
            </a:xfrm>
          </p:grpSpPr>
          <p:sp>
            <p:nvSpPr>
              <p:cNvPr id="311" name="Line 54"/>
              <p:cNvSpPr/>
              <p:nvPr/>
            </p:nvSpPr>
            <p:spPr>
              <a:xfrm>
                <a:off x="6156000" y="441324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6156000" y="4413240"/>
                <a:ext cx="106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Text Box 55"/>
          <p:cNvSpPr/>
          <p:nvPr/>
        </p:nvSpPr>
        <p:spPr>
          <a:xfrm>
            <a:off x="106200" y="5157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从表和图中可以看出，样本的数据的众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中位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得这组数据的平均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可以推测，这个服装部营业员的月销售额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的人数最多，中间的销售额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，平均销售额大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611280" y="1700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这个目标可以定为每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（平均数）。因为从样本数据看，在平均数、中位数和众数中，平均数最大，可以估计，月销售额定为每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是一个较高目标，大约会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的营业员获得奖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68360" y="458136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月销售额可以为每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（中位数），因为从样本情况看，月销售额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以上（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）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占总人数的一半左右，可以估计，如果月销售额定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，将有一半左右的营业员获得奖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>
            <a:hlinkClick r:id="" action="ppaction://hlinkshowjump?jump=previousslide"/>
          </p:cNvPr>
          <p:cNvSpPr/>
          <p:nvPr/>
        </p:nvSpPr>
        <p:spPr>
          <a:xfrm>
            <a:off x="539640" y="692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果想确定一个较高的销售目标，你认为月销售额定为多少合适？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468360" y="34290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想让一半左右的营业员都能达到目标，你认为月销售额定为多少合适？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250920" y="6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某次中学生田径运动会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参加男子跳高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运动员的成绩如下表所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79280" y="1989000"/>
          <a:ext cx="8713800" cy="1719360"/>
        </p:xfrm>
        <a:graphic>
          <a:graphicData uri="http://schemas.openxmlformats.org/drawingml/2006/table">
            <a:tbl>
              <a:tblPr/>
              <a:tblGrid>
                <a:gridCol w="1123920"/>
                <a:gridCol w="965160"/>
                <a:gridCol w="814320"/>
                <a:gridCol w="970200"/>
                <a:gridCol w="966600"/>
                <a:gridCol w="970200"/>
                <a:gridCol w="968400"/>
                <a:gridCol w="966600"/>
                <a:gridCol w="968400"/>
              </a:tblGrid>
              <a:tr h="819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绩（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Text Box 35"/>
          <p:cNvSpPr/>
          <p:nvPr/>
        </p:nvSpPr>
        <p:spPr>
          <a:xfrm>
            <a:off x="395280" y="4076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别求这些运动员成绩的众数、中位数与平均数（平均数保留两位小数）并解释所求结果的实际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0" y="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数据中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7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，出现的次数最多，即这组数据的众数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7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上表里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数据可看成是按从小到大的顺序排列的，其中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数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7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最中间的一个数据，，即这组数据的中位数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7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这组数据的平均数是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6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员成绩的众数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7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说明成绩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7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的人数最多；运动员成绩的中位数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7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说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7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以下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7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以上的数据各占一半；运动员成绩的平均数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6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说明所有参赛运动员的平均成绩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6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0" y="765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甲、乙两名运动员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百米跑训练中的成绩如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95280" y="2060640"/>
          <a:ext cx="8209080" cy="1136520"/>
        </p:xfrm>
        <a:graphic>
          <a:graphicData uri="http://schemas.openxmlformats.org/drawingml/2006/table">
            <a:tbl>
              <a:tblPr/>
              <a:tblGrid>
                <a:gridCol w="1628640"/>
                <a:gridCol w="1095480"/>
                <a:gridCol w="1096920"/>
                <a:gridCol w="1098720"/>
                <a:gridCol w="1095120"/>
                <a:gridCol w="1097280"/>
                <a:gridCol w="10969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甲（秒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乙（秒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Text Box 29"/>
          <p:cNvSpPr/>
          <p:nvPr/>
        </p:nvSpPr>
        <p:spPr>
          <a:xfrm>
            <a:off x="179280" y="37162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比较这两组数据的众数，平均数和中位数，再作判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0"/>
          <p:cNvSpPr/>
          <p:nvPr/>
        </p:nvSpPr>
        <p:spPr>
          <a:xfrm>
            <a:off x="324000" y="522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：谈看法实质上就是按众数，平均数和中位数的大小比较其优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324000" y="765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甲：平均数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众数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中位数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395280" y="1844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：平均数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众数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中位数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468360" y="26989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平均数看：甲的成绩比乙的好，从众数看：乙的成绩比甲的好，从中位数看两人成绩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71280" y="5796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某公司销售部有营销人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销售部为了制定某种商品的月销售定额，统计了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某月销售量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258920" y="2205000"/>
          <a:ext cx="6048360" cy="1419120"/>
        </p:xfrm>
        <a:graphic>
          <a:graphicData uri="http://schemas.openxmlformats.org/drawingml/2006/table">
            <a:tbl>
              <a:tblPr/>
              <a:tblGrid>
                <a:gridCol w="1106640"/>
                <a:gridCol w="936360"/>
                <a:gridCol w="852480"/>
                <a:gridCol w="766800"/>
                <a:gridCol w="766800"/>
                <a:gridCol w="852480"/>
                <a:gridCol w="766800"/>
              </a:tblGrid>
              <a:tr h="961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人销售件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Text Box 29"/>
          <p:cNvSpPr/>
          <p:nvPr/>
        </p:nvSpPr>
        <p:spPr>
          <a:xfrm>
            <a:off x="250920" y="3645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求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营销人员该月销售量的平均数、中位数和众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0"/>
          <p:cNvSpPr/>
          <p:nvPr/>
        </p:nvSpPr>
        <p:spPr>
          <a:xfrm>
            <a:off x="250920" y="48276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假定销售部负责人把每位营销员的月销售额定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，你认为是否合理？为什么？如不合理，请你给出一个较合理的销售定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5"/>
          <p:cNvSpPr/>
          <p:nvPr/>
        </p:nvSpPr>
        <p:spPr>
          <a:xfrm>
            <a:off x="3564000" y="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尝试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24000" y="765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平均数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件，众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件，中位数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50920" y="1700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不合理。因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中只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销售额超过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，而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达不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，尽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是平均数，但它却不能反映营销人员的一般水平，销售额定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更合适，因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是众数，又是中位数，是大部分人都能达到的定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179280" y="476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一名交通警察在高速公路上随机地观察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辆车的车速，观察后他记录如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212920" y="1603440"/>
          <a:ext cx="5018040" cy="1206360"/>
        </p:xfrm>
        <a:graphic>
          <a:graphicData uri="http://schemas.openxmlformats.org/drawingml/2006/table">
            <a:tbl>
              <a:tblPr/>
              <a:tblGrid>
                <a:gridCol w="1547640"/>
                <a:gridCol w="509760"/>
                <a:gridCol w="461880"/>
                <a:gridCol w="486000"/>
                <a:gridCol w="485640"/>
                <a:gridCol w="485640"/>
                <a:gridCol w="555840"/>
                <a:gridCol w="48564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车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车速（千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32"/>
          <p:cNvSpPr/>
          <p:nvPr/>
        </p:nvSpPr>
        <p:spPr>
          <a:xfrm>
            <a:off x="395280" y="314172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样本数据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辆车的车速）的中位数、众数各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3"/>
          <p:cNvSpPr/>
          <p:nvPr/>
        </p:nvSpPr>
        <p:spPr>
          <a:xfrm>
            <a:off x="250920" y="4221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有一辆车的速度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，那么它的速度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4"/>
          <p:cNvSpPr/>
          <p:nvPr/>
        </p:nvSpPr>
        <p:spPr>
          <a:xfrm>
            <a:off x="179280" y="53737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若只调查序号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的车，那么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数据的中位数、众数各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79280" y="0"/>
            <a:ext cx="8748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车的速度按从小到大的顺序排列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于位于正中间的数据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故中位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又因为这组数据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现的次数最多，所以众数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0" y="263700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这组数据的中位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，可以估计道路上车辆的速度有一半高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有一半低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而这辆车的速度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所以可以推测它的速度比道路上一半以上的车的速度还要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50920" y="465300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数据从小到大的顺序排列得到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位于中间的数据有两个，所以中位数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又因为每辆车的速度不一样，没有哪个车速出现的次数比别的多，所以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车的速度没有众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8199"/>
          <p:cNvSpPr/>
          <p:nvPr/>
        </p:nvSpPr>
        <p:spPr>
          <a:xfrm>
            <a:off x="1909800" y="2170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BJ1017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6201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70"/>
          <p:cNvSpPr/>
          <p:nvPr/>
        </p:nvSpPr>
        <p:spPr>
          <a:xfrm>
            <a:off x="685800" y="27432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71"/>
          <p:cNvGrpSpPr/>
          <p:nvPr/>
        </p:nvGrpSpPr>
        <p:grpSpPr>
          <a:xfrm>
            <a:off x="646200" y="2687760"/>
            <a:ext cx="6553080" cy="1602720"/>
            <a:chOff x="646200" y="2687760"/>
            <a:chExt cx="6553080" cy="1602720"/>
          </a:xfrm>
        </p:grpSpPr>
        <p:sp>
          <p:nvSpPr>
            <p:cNvPr id="203" name="Text Box 72"/>
            <p:cNvSpPr/>
            <p:nvPr/>
          </p:nvSpPr>
          <p:spPr>
            <a:xfrm>
              <a:off x="646200" y="268776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、中位数：将一组数据按照由小到大（或由大到小）的顺序排列，                                        则处于中间位置的数就是这组数据的中位数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3"/>
            <p:cNvSpPr/>
            <p:nvPr/>
          </p:nvSpPr>
          <p:spPr>
            <a:xfrm>
              <a:off x="3541680" y="30686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如果数据的个数是奇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74"/>
            <p:cNvSpPr/>
            <p:nvPr/>
          </p:nvSpPr>
          <p:spPr>
            <a:xfrm>
              <a:off x="646200" y="3830760"/>
              <a:ext cx="640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如果数据的个数是偶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则中间两个数据的平均数就是这组数据的中位数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75"/>
          <p:cNvSpPr/>
          <p:nvPr/>
        </p:nvSpPr>
        <p:spPr>
          <a:xfrm>
            <a:off x="539640" y="522936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众数：一组数据中出现次数最多的数据就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这组数据的众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8" descr="jiantou1"/>
          <p:cNvPicPr/>
          <p:nvPr/>
        </p:nvPicPr>
        <p:blipFill>
          <a:blip r:embed="rId2"/>
          <a:stretch/>
        </p:blipFill>
        <p:spPr>
          <a:xfrm>
            <a:off x="684360" y="6021360"/>
            <a:ext cx="323640" cy="3142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9"/>
          <p:cNvSpPr/>
          <p:nvPr/>
        </p:nvSpPr>
        <p:spPr>
          <a:xfrm>
            <a:off x="611280" y="20574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叫中位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0"/>
          <p:cNvSpPr/>
          <p:nvPr/>
        </p:nvSpPr>
        <p:spPr>
          <a:xfrm>
            <a:off x="468360" y="45813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叫众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83"/>
          <p:cNvSpPr txBox="1"/>
          <p:nvPr/>
        </p:nvSpPr>
        <p:spPr>
          <a:xfrm>
            <a:off x="971640" y="692280"/>
            <a:ext cx="2736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复习引入</a:t>
            </a:r>
            <a:endParaRPr b="1" i="1" lang="en-US" sz="2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395280" y="404640"/>
            <a:ext cx="874872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双语学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第二届校运会初二的男子跳高比赛       中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,1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名选手的成绩如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单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:cm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15     120      128     130      123    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05      125      125     127      132     12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79280" y="2997360"/>
            <a:ext cx="850608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将这组数据按照由小到大的顺序排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黑体"/>
              <a:buAutoNum type="arabicPlain" startAt="10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0   115   120   120   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黑体"/>
              <a:buAutoNum type="arabicPlain" startAt="1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5   127   128   130   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处于中间的两个数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5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中位数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65240" y="2565360"/>
            <a:ext cx="47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组数据的中位数是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132200" y="5300640"/>
            <a:ext cx="50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位选手的成绩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5cm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对他的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何评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Object 6" descr=""/>
          <p:cNvPicPr/>
          <p:nvPr/>
        </p:nvPicPr>
        <p:blipFill>
          <a:blip r:embed="rId1"/>
          <a:stretch/>
        </p:blipFill>
        <p:spPr>
          <a:xfrm>
            <a:off x="6948360" y="4221000"/>
            <a:ext cx="2195640" cy="10605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7"/>
          <p:cNvSpPr/>
          <p:nvPr/>
        </p:nvSpPr>
        <p:spPr>
          <a:xfrm>
            <a:off x="5724360" y="2565360"/>
            <a:ext cx="922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070c"/>
                </a:solidFill>
                <a:latin typeface="Arial"/>
              </a:rPr>
              <a:t>1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39280" y="1341000"/>
            <a:ext cx="82314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均数的计算要用到所有的数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能够充分利用数据提供的信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现实生活中较为常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它受极端值的影响较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950760" y="350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082960" y="2997360"/>
            <a:ext cx="51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一组数据中某些数据多次重复出现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众数往往是人们关心的一个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众数不受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端值的影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它的一个优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808200" y="4981680"/>
            <a:ext cx="8335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位数只需很少的计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受极端值的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在有些情况下是一个优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6"/>
          <p:cNvSpPr txBox="1"/>
          <p:nvPr/>
        </p:nvSpPr>
        <p:spPr>
          <a:xfrm>
            <a:off x="1042920" y="0"/>
            <a:ext cx="170676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精讲点拨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5"/>
          <p:cNvSpPr/>
          <p:nvPr/>
        </p:nvSpPr>
        <p:spPr>
          <a:xfrm>
            <a:off x="324000" y="765000"/>
            <a:ext cx="856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鞋店老板一般最关心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公司老板一般以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为销售标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裁判一般以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为选手最终得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292720" y="692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7070c"/>
                </a:solidFill>
                <a:latin typeface="Arial"/>
              </a:rPr>
              <a:t>众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4098960" y="1628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中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3194640" y="234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7070c"/>
                </a:solidFill>
                <a:latin typeface="Arial"/>
              </a:rPr>
              <a:t>平均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0" y="320976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 平均数、中位数和众数都可以作为一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数据的代表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，它们各有自己的特点，能够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同的角度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提供信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在实际应用中，需要分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具体问题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的情况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选择适当的量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来代表数据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2" descr="20034291535577745"/>
          <p:cNvPicPr/>
          <p:nvPr/>
        </p:nvPicPr>
        <p:blipFill>
          <a:blip r:embed="rId1"/>
          <a:stretch/>
        </p:blipFill>
        <p:spPr>
          <a:xfrm>
            <a:off x="7524720" y="476280"/>
            <a:ext cx="1082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7070c"/>
                </a:solidFill>
                <a:latin typeface="华文彩云"/>
                <a:ea typeface="华文彩云"/>
              </a:rPr>
              <a:t>当堂训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7d"/>
                </a:solidFill>
                <a:latin typeface="华文行楷"/>
                <a:ea typeface="华文行楷"/>
              </a:rPr>
              <a:t>      </a:t>
            </a:r>
            <a:r>
              <a:rPr b="1" lang="zh-CN" sz="5400" spc="-1" strike="noStrike">
                <a:solidFill>
                  <a:srgbClr val="00007d"/>
                </a:solidFill>
                <a:latin typeface="华文行楷"/>
                <a:ea typeface="华文行楷"/>
              </a:rPr>
              <a:t>课本第</a:t>
            </a:r>
            <a:r>
              <a:rPr b="1" lang="en-US" sz="5400" spc="-1" strike="noStrike">
                <a:solidFill>
                  <a:srgbClr val="00007d"/>
                </a:solidFill>
                <a:latin typeface="华文行楷"/>
                <a:ea typeface="华文行楷"/>
              </a:rPr>
              <a:t>135</a:t>
            </a:r>
            <a:r>
              <a:rPr b="1" lang="zh-CN" sz="5400" spc="-1" strike="noStrike">
                <a:solidFill>
                  <a:srgbClr val="00007d"/>
                </a:solidFill>
                <a:latin typeface="华文行楷"/>
                <a:ea typeface="华文行楷"/>
              </a:rPr>
              <a:t>页练习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324000" y="476280"/>
            <a:ext cx="81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数学老师布置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道选择题，课代表将全班同学的答题情况绘制成条形统计图，根据图表，全班每位同学答对的题数的中位数和众数分别为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Object 3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60958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6300720" y="5300640"/>
            <a:ext cx="762120" cy="360"/>
            <a:chOff x="6300720" y="5300640"/>
            <a:chExt cx="762120" cy="360"/>
          </a:xfrm>
        </p:grpSpPr>
        <p:sp>
          <p:nvSpPr>
            <p:cNvPr id="367" name="Line 4"/>
            <p:cNvSpPr/>
            <p:nvPr/>
          </p:nvSpPr>
          <p:spPr>
            <a:xfrm>
              <a:off x="6300720" y="5300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6300720" y="530064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123640" y="1916280"/>
            <a:ext cx="360" cy="914400"/>
            <a:chOff x="2123640" y="1916280"/>
            <a:chExt cx="360" cy="914400"/>
          </a:xfrm>
        </p:grpSpPr>
        <p:sp>
          <p:nvSpPr>
            <p:cNvPr id="370" name="Line 5"/>
            <p:cNvSpPr/>
            <p:nvPr/>
          </p:nvSpPr>
          <p:spPr>
            <a:xfrm flipV="1">
              <a:off x="2124000" y="1916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 rot="10800000">
              <a:off x="2123640" y="191628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6"/>
          <p:cNvSpPr/>
          <p:nvPr/>
        </p:nvSpPr>
        <p:spPr>
          <a:xfrm>
            <a:off x="2209680" y="1676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学生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7093080" y="5084640"/>
            <a:ext cx="838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答对题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7237080" y="1268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669960" y="6093000"/>
            <a:ext cx="84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 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      B   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     C  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      D  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2590920" y="41148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358308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45734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570096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24000" y="9079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已知一组数据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x,8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由大到小排列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的中位数与平均数相等，求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值及这组数据的中位数和众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755640" y="2781360"/>
            <a:ext cx="746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解：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, 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中位数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均数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∴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0+x)/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0+10+x+8)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0+x)/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组数据中的中位数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众数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Object 2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7010280" cy="343512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7162920" y="3505320"/>
            <a:ext cx="609480" cy="360"/>
            <a:chOff x="7162920" y="3505320"/>
            <a:chExt cx="609480" cy="360"/>
          </a:xfrm>
        </p:grpSpPr>
        <p:sp>
          <p:nvSpPr>
            <p:cNvPr id="384" name="Line 3"/>
            <p:cNvSpPr/>
            <p:nvPr/>
          </p:nvSpPr>
          <p:spPr>
            <a:xfrm>
              <a:off x="7162920" y="3505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7162920" y="35053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971440" y="609120"/>
            <a:ext cx="360" cy="304920"/>
            <a:chOff x="2971440" y="609120"/>
            <a:chExt cx="360" cy="304920"/>
          </a:xfrm>
        </p:grpSpPr>
        <p:sp>
          <p:nvSpPr>
            <p:cNvPr id="387" name="Line 4"/>
            <p:cNvSpPr/>
            <p:nvPr/>
          </p:nvSpPr>
          <p:spPr>
            <a:xfrm flipV="1">
              <a:off x="2971800" y="609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 rot="10800000">
              <a:off x="2971440" y="6091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5"/>
          <p:cNvSpPr/>
          <p:nvPr/>
        </p:nvSpPr>
        <p:spPr>
          <a:xfrm>
            <a:off x="7236000" y="350028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收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万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971800" y="457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所占户数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228600" y="83808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4.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某同学进行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会调查，随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抽查某地区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个家庭的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情况，并绘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了统计图请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据统计图给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的信息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0" y="3962520"/>
            <a:ext cx="60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填写下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380880" y="4495680"/>
          <a:ext cx="7467480" cy="1036800"/>
        </p:xfrm>
        <a:graphic>
          <a:graphicData uri="http://schemas.openxmlformats.org/drawingml/2006/table">
            <a:tbl>
              <a:tblPr/>
              <a:tblGrid>
                <a:gridCol w="1828800"/>
                <a:gridCol w="685800"/>
                <a:gridCol w="685800"/>
                <a:gridCol w="685800"/>
                <a:gridCol w="685800"/>
                <a:gridCol w="685800"/>
                <a:gridCol w="685800"/>
                <a:gridCol w="762120"/>
                <a:gridCol w="7617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收入（万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家庭户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Text Box 44"/>
          <p:cNvSpPr/>
          <p:nvPr/>
        </p:nvSpPr>
        <p:spPr>
          <a:xfrm>
            <a:off x="0" y="5715000"/>
            <a:ext cx="82296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家庭的年平均收入为</a:t>
            </a:r>
            <a:r>
              <a:rPr b="1" lang="en-US" sz="2400" spc="-1" strike="noStrike" baseline="-10000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中的中位数是</a:t>
            </a:r>
            <a:r>
              <a:rPr b="1" lang="en-US" sz="2400" spc="-1" strike="noStrike" baseline="-10000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，众数是</a:t>
            </a:r>
            <a:r>
              <a:rPr b="1" lang="en-US" sz="2400" spc="-1" strike="noStrike" baseline="-10000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5"/>
          <p:cNvSpPr/>
          <p:nvPr/>
        </p:nvSpPr>
        <p:spPr>
          <a:xfrm>
            <a:off x="244008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6"/>
          <p:cNvSpPr/>
          <p:nvPr/>
        </p:nvSpPr>
        <p:spPr>
          <a:xfrm>
            <a:off x="312588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7"/>
          <p:cNvSpPr/>
          <p:nvPr/>
        </p:nvSpPr>
        <p:spPr>
          <a:xfrm>
            <a:off x="37357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8"/>
          <p:cNvSpPr/>
          <p:nvPr/>
        </p:nvSpPr>
        <p:spPr>
          <a:xfrm>
            <a:off x="44215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9"/>
          <p:cNvSpPr/>
          <p:nvPr/>
        </p:nvSpPr>
        <p:spPr>
          <a:xfrm>
            <a:off x="51073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0"/>
          <p:cNvSpPr/>
          <p:nvPr/>
        </p:nvSpPr>
        <p:spPr>
          <a:xfrm>
            <a:off x="586908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1"/>
          <p:cNvSpPr/>
          <p:nvPr/>
        </p:nvSpPr>
        <p:spPr>
          <a:xfrm>
            <a:off x="655488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2"/>
          <p:cNvSpPr/>
          <p:nvPr/>
        </p:nvSpPr>
        <p:spPr>
          <a:xfrm>
            <a:off x="73170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3"/>
          <p:cNvSpPr/>
          <p:nvPr/>
        </p:nvSpPr>
        <p:spPr>
          <a:xfrm>
            <a:off x="4329360" y="5603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4"/>
          <p:cNvSpPr/>
          <p:nvPr/>
        </p:nvSpPr>
        <p:spPr>
          <a:xfrm>
            <a:off x="3567240" y="5985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5"/>
          <p:cNvSpPr/>
          <p:nvPr/>
        </p:nvSpPr>
        <p:spPr>
          <a:xfrm>
            <a:off x="6234120" y="5985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280" y="3500280"/>
            <a:ext cx="8207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7070c"/>
                </a:solidFill>
                <a:latin typeface="Arial"/>
              </a:rPr>
              <a:t>这节课我们学习了众数的概念，了解了它们在描述一组数据“平均水平” 时的</a:t>
            </a:r>
            <a:r>
              <a:rPr b="0" lang="zh-CN" sz="3600" spc="-1" strike="noStrike">
                <a:solidFill>
                  <a:srgbClr val="00007d"/>
                </a:solidFill>
                <a:latin typeface="Arial"/>
              </a:rPr>
              <a:t>不同角度和适用范围</a:t>
            </a:r>
            <a:r>
              <a:rPr b="0" lang="zh-CN" sz="3600" spc="-1" strike="noStrike">
                <a:solidFill>
                  <a:srgbClr val="d7070c"/>
                </a:solidFill>
                <a:latin typeface="Arial"/>
              </a:rPr>
              <a:t>。那么你能联系实际说出</a:t>
            </a:r>
            <a:r>
              <a:rPr b="0" lang="zh-CN" sz="3600" spc="-1" strike="noStrike">
                <a:solidFill>
                  <a:srgbClr val="00007d"/>
                </a:solidFill>
                <a:latin typeface="Arial"/>
              </a:rPr>
              <a:t>平均数</a:t>
            </a:r>
            <a:r>
              <a:rPr b="0" lang="zh-CN" sz="3600" spc="-1" strike="noStrike">
                <a:solidFill>
                  <a:srgbClr val="d7070c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7d"/>
                </a:solidFill>
                <a:latin typeface="Arial"/>
              </a:rPr>
              <a:t>中位数</a:t>
            </a:r>
            <a:r>
              <a:rPr b="0" lang="zh-CN" sz="3600" spc="-1" strike="noStrike">
                <a:solidFill>
                  <a:srgbClr val="d7070c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7d"/>
                </a:solidFill>
                <a:latin typeface="Arial"/>
              </a:rPr>
              <a:t>众数</a:t>
            </a:r>
            <a:r>
              <a:rPr b="0" lang="zh-CN" sz="3600" spc="-1" strike="noStrike">
                <a:solidFill>
                  <a:srgbClr val="d7070c"/>
                </a:solidFill>
                <a:latin typeface="Arial"/>
              </a:rPr>
              <a:t>各自各反映</a:t>
            </a:r>
            <a:r>
              <a:rPr b="0" lang="zh-CN" sz="3600" spc="-1" strike="noStrike">
                <a:solidFill>
                  <a:srgbClr val="00007d"/>
                </a:solidFill>
                <a:latin typeface="Arial"/>
              </a:rPr>
              <a:t>数据的什么特征吗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WordArt 5"/>
          <p:cNvSpPr txBox="1"/>
          <p:nvPr/>
        </p:nvSpPr>
        <p:spPr>
          <a:xfrm>
            <a:off x="826920" y="907920"/>
            <a:ext cx="158292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cap="sq"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自我小结</a:t>
            </a:r>
            <a:endParaRPr b="0" lang="en-US" sz="2000" spc="1" strike="noStrike">
              <a:ln cap="sq"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平均数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  <a:ea typeface="隶书"/>
              </a:rPr>
              <a:t>、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众数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  <a:ea typeface="隶书"/>
              </a:rPr>
              <a:t>及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中位数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  <a:ea typeface="隶书"/>
              </a:rPr>
              <a:t>都是描述一组数据的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隶书"/>
              </a:rPr>
              <a:t>集中趋势的特征数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  <a:ea typeface="隶书"/>
              </a:rPr>
              <a:t>，但描述的角度和适用范围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有所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d7070c"/>
                </a:solidFill>
                <a:latin typeface="华文行楷"/>
                <a:ea typeface="华文行楷"/>
              </a:rPr>
              <a:t>平均数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计算要用到所有的数据，它能够充分利用数据提供的信息，因此在现实生活中较为常用，但</a:t>
            </a:r>
            <a:r>
              <a:rPr b="1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它受极端值的影响较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d7070c"/>
                </a:solidFill>
                <a:latin typeface="宋体"/>
              </a:rPr>
              <a:t>众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着眼于对各数据出现的频数的考察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其大小只与这组数据中的部分数据有关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当一组数据中有不少数据多次重复出现时，其众数往往是我们关心的一种统计量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众数不受极端值的影响，这是它的一个优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d7070c"/>
                </a:solidFill>
                <a:latin typeface="宋体"/>
              </a:rPr>
              <a:t>中位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则仅与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数据的排列位置有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某些数据的变动对它的中位数没有影响。当一组数据中的个别数据变动较大时，可用它来描述其集中趋势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中位数不受极端值的影响，只需很少的计算，这是它的优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547640" y="404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求中位数的一般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250920" y="1197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将这一组数据从大到小（或从小到大）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50920" y="2060640"/>
            <a:ext cx="82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若该数据含有奇数个数，位于中间位置的数是中位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若该数据含有偶数个数，位于中间两个数的平均数就是中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200384123527"/>
          <p:cNvPicPr/>
          <p:nvPr/>
        </p:nvPicPr>
        <p:blipFill>
          <a:blip r:embed="rId1"/>
          <a:stretch/>
        </p:blipFill>
        <p:spPr>
          <a:xfrm>
            <a:off x="6896160" y="2844720"/>
            <a:ext cx="2247840" cy="4005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324000" y="436572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奇数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间位置是第              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偶数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间位置是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的平均数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Object 9" descr=""/>
          <p:cNvPicPr/>
          <p:nvPr/>
        </p:nvPicPr>
        <p:blipFill>
          <a:blip r:embed="rId2"/>
          <a:stretch/>
        </p:blipFill>
        <p:spPr>
          <a:xfrm>
            <a:off x="5508720" y="5156280"/>
            <a:ext cx="392040" cy="100800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10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812880" cy="934920"/>
          </a:xfrm>
          <a:prstGeom prst="rect">
            <a:avLst/>
          </a:prstGeom>
          <a:ln w="0">
            <a:noFill/>
          </a:ln>
        </p:spPr>
      </p:pic>
      <p:pic>
        <p:nvPicPr>
          <p:cNvPr id="218" name="Object 11" descr=""/>
          <p:cNvPicPr/>
          <p:nvPr/>
        </p:nvPicPr>
        <p:blipFill>
          <a:blip r:embed="rId4"/>
          <a:stretch/>
        </p:blipFill>
        <p:spPr>
          <a:xfrm>
            <a:off x="6661080" y="5373720"/>
            <a:ext cx="7495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468360" y="1197000"/>
            <a:ext cx="824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 平均数、中位数和众数都可以作为一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数据的代表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，它们各有自己的特点，能够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同的角度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提供信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在实际应用中，需要分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具体问题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的情况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选择适当的量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来代表数据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2D1A-3171-4732-A31F-5FEFE8C884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彩云"/>
                <a:ea typeface="华文彩云"/>
              </a:rPr>
              <a:t>作业</a:t>
            </a:r>
            <a:r>
              <a:rPr b="1" lang="en-US" sz="5400" spc="-1" strike="noStrike">
                <a:solidFill>
                  <a:srgbClr val="3333cc"/>
                </a:solidFill>
                <a:latin typeface="华文彩云"/>
                <a:ea typeface="华文彩云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360" y="2708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7070c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7070c"/>
                </a:solidFill>
                <a:latin typeface="Arial"/>
              </a:rPr>
              <a:t>           </a:t>
            </a:r>
            <a:r>
              <a:rPr b="1" lang="en-US" sz="4800" spc="-1" strike="noStrike">
                <a:solidFill>
                  <a:srgbClr val="d7070c"/>
                </a:solidFill>
                <a:latin typeface="Arial"/>
              </a:rPr>
              <a:t>P135:   </a:t>
            </a:r>
            <a:r>
              <a:rPr b="1" lang="zh-CN" sz="4800" spc="-1" strike="noStrike">
                <a:solidFill>
                  <a:srgbClr val="d7070c"/>
                </a:solidFill>
                <a:latin typeface="Arial"/>
              </a:rPr>
              <a:t>练习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7070c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d7070c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d7070c"/>
                </a:solidFill>
                <a:latin typeface="Arial"/>
              </a:rPr>
              <a:t>P137 </a:t>
            </a:r>
            <a:r>
              <a:rPr b="1" lang="zh-CN" sz="4800" spc="-1" strike="noStrike">
                <a:solidFill>
                  <a:srgbClr val="d7070c"/>
                </a:solidFill>
                <a:latin typeface="Arial"/>
              </a:rPr>
              <a:t>：第</a:t>
            </a:r>
            <a:r>
              <a:rPr b="1" lang="en-US" sz="4800" spc="-1" strike="noStrike">
                <a:solidFill>
                  <a:srgbClr val="d7070c"/>
                </a:solidFill>
                <a:latin typeface="Arial"/>
              </a:rPr>
              <a:t>7</a:t>
            </a:r>
            <a:r>
              <a:rPr b="1" lang="zh-CN" sz="4800" spc="-1" strike="noStrike">
                <a:solidFill>
                  <a:srgbClr val="d7070c"/>
                </a:solidFill>
                <a:latin typeface="Arial"/>
              </a:rPr>
              <a:t>题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0" y="371628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众数也常作为一组数据的代表，用来描述数据的集中趋势。当一组数据有较多的重复数据时，众数往往是人们所关心的一个量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042920" y="620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中位数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50920" y="126828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位数也是用来描述数据的集中趋势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位数是一个位置代表值。如果已知一组数据的中位数，那么可以知道，小于等于或大于等于这个中位数的数据各占一半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116000" y="2924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众数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0" y="0"/>
            <a:ext cx="3507480" cy="1125000"/>
            <a:chOff x="0" y="0"/>
            <a:chExt cx="3507480" cy="1125000"/>
          </a:xfrm>
        </p:grpSpPr>
        <p:sp>
          <p:nvSpPr>
            <p:cNvPr id="224" name="WordArt 3"/>
            <p:cNvSpPr txBox="1"/>
            <p:nvPr/>
          </p:nvSpPr>
          <p:spPr>
            <a:xfrm>
              <a:off x="974880" y="304920"/>
              <a:ext cx="2532600" cy="80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2232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新魏"/>
                </a:rPr>
                <a:t>试一试你的身手</a:t>
              </a:r>
              <a:endParaRPr b="0" lang="en-US" sz="4400" spc="1" strike="noStrike">
                <a:ln w="2232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225" name="Picture 4" descr="BD04924_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762120" cy="112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Text Box 5"/>
          <p:cNvSpPr/>
          <p:nvPr/>
        </p:nvSpPr>
        <p:spPr>
          <a:xfrm>
            <a:off x="801000" y="1268280"/>
            <a:ext cx="70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, 8, 2, 7, 9, 2, 7, 3, 2, 0, 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众数是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位数是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588000" y="1773360"/>
            <a:ext cx="1368720" cy="360"/>
            <a:chOff x="6588000" y="1773360"/>
            <a:chExt cx="1368720" cy="360"/>
          </a:xfrm>
        </p:grpSpPr>
        <p:sp>
          <p:nvSpPr>
            <p:cNvPr id="228" name="Line 6"/>
            <p:cNvSpPr/>
            <p:nvPr/>
          </p:nvSpPr>
          <p:spPr>
            <a:xfrm>
              <a:off x="6588000" y="1773360"/>
              <a:ext cx="13687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6588000" y="1773360"/>
              <a:ext cx="13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908000" y="2133720"/>
            <a:ext cx="1727280" cy="360"/>
            <a:chOff x="1908000" y="2133720"/>
            <a:chExt cx="1727280" cy="360"/>
          </a:xfrm>
        </p:grpSpPr>
        <p:sp>
          <p:nvSpPr>
            <p:cNvPr id="231" name="Line 7"/>
            <p:cNvSpPr/>
            <p:nvPr/>
          </p:nvSpPr>
          <p:spPr>
            <a:xfrm>
              <a:off x="1908000" y="2133720"/>
              <a:ext cx="17272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908000" y="2133720"/>
              <a:ext cx="17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8"/>
          <p:cNvSpPr/>
          <p:nvPr/>
        </p:nvSpPr>
        <p:spPr>
          <a:xfrm>
            <a:off x="825480" y="2276640"/>
            <a:ext cx="66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, 20, 20, 22,30,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众数是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位数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508720" y="2708280"/>
            <a:ext cx="2016000" cy="360"/>
            <a:chOff x="5508720" y="2708280"/>
            <a:chExt cx="2016000" cy="360"/>
          </a:xfrm>
        </p:grpSpPr>
        <p:sp>
          <p:nvSpPr>
            <p:cNvPr id="235" name="Line 9"/>
            <p:cNvSpPr/>
            <p:nvPr/>
          </p:nvSpPr>
          <p:spPr>
            <a:xfrm>
              <a:off x="5508720" y="2708280"/>
              <a:ext cx="201600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5508720" y="270828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050920" y="3141720"/>
            <a:ext cx="1729080" cy="360"/>
            <a:chOff x="2050920" y="3141720"/>
            <a:chExt cx="1729080" cy="360"/>
          </a:xfrm>
        </p:grpSpPr>
        <p:sp>
          <p:nvSpPr>
            <p:cNvPr id="238" name="Line 10"/>
            <p:cNvSpPr/>
            <p:nvPr/>
          </p:nvSpPr>
          <p:spPr>
            <a:xfrm>
              <a:off x="2050920" y="3141720"/>
              <a:ext cx="17290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2050920" y="3141720"/>
              <a:ext cx="172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1"/>
          <p:cNvSpPr/>
          <p:nvPr/>
        </p:nvSpPr>
        <p:spPr>
          <a:xfrm>
            <a:off x="586728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070c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d7070c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d7070c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395280" y="32130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数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,  0,  4,  5,  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插入一个数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得这组数据的中位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=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59280" y="4005360"/>
            <a:ext cx="2016360" cy="360"/>
            <a:chOff x="4859280" y="4005360"/>
            <a:chExt cx="2016360" cy="360"/>
          </a:xfrm>
        </p:grpSpPr>
        <p:sp>
          <p:nvSpPr>
            <p:cNvPr id="243" name="Line 13"/>
            <p:cNvSpPr/>
            <p:nvPr/>
          </p:nvSpPr>
          <p:spPr>
            <a:xfrm>
              <a:off x="4859280" y="4005360"/>
              <a:ext cx="201636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4859280" y="4005360"/>
              <a:ext cx="20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14"/>
          <p:cNvSpPr/>
          <p:nvPr/>
        </p:nvSpPr>
        <p:spPr>
          <a:xfrm>
            <a:off x="1300680" y="4221000"/>
            <a:ext cx="59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 8, x, 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众数与平均数相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它们的中位数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956720" y="4653000"/>
            <a:ext cx="1187280" cy="360"/>
            <a:chOff x="7956720" y="4653000"/>
            <a:chExt cx="1187280" cy="360"/>
          </a:xfrm>
        </p:grpSpPr>
        <p:sp>
          <p:nvSpPr>
            <p:cNvPr id="247" name="Line 15"/>
            <p:cNvSpPr/>
            <p:nvPr/>
          </p:nvSpPr>
          <p:spPr>
            <a:xfrm>
              <a:off x="7956720" y="4653000"/>
              <a:ext cx="11872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7956720" y="4653000"/>
              <a:ext cx="11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6"/>
          <p:cNvSpPr/>
          <p:nvPr/>
        </p:nvSpPr>
        <p:spPr>
          <a:xfrm>
            <a:off x="1212120" y="4916520"/>
            <a:ext cx="580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考链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zh-CN" sz="2400" spc="-1" strike="noStrike">
                <a:solidFill>
                  <a:srgbClr val="d7070c"/>
                </a:solidFill>
                <a:latin typeface="Arial"/>
              </a:rPr>
              <a:t>正整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小到大排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这组数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位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众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且唯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正整数的和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20         B.21         C.22         D.2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6875640" y="11811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2268360" y="16765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2195640" y="2637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5148360" y="357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8101080" y="4221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7021440" y="53578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532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均数、中位数和众数都可以作为一组数据的代表，它们都有各自的特点和作用，在具体问题中，如何用它们分析问题？如何选择适当的量来代表、分析数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8"/>
          <p:cNvSpPr/>
          <p:nvPr/>
        </p:nvSpPr>
        <p:spPr>
          <a:xfrm>
            <a:off x="0" y="765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商场服装部为了调动营业员的积极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决定实行目标管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确定一个月的销售目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目标完成的情况对营业员进行适当的奖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了确定一个适当的目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商场统计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营业员在某月的销售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如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位万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3" descr="4"/>
          <p:cNvPicPr/>
          <p:nvPr/>
        </p:nvPicPr>
        <p:blipFill>
          <a:blip r:embed="rId1"/>
          <a:stretch/>
        </p:blipFill>
        <p:spPr>
          <a:xfrm>
            <a:off x="8172360" y="333360"/>
            <a:ext cx="765360" cy="8222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20"/>
          <p:cNvSpPr/>
          <p:nvPr/>
        </p:nvSpPr>
        <p:spPr>
          <a:xfrm>
            <a:off x="324000" y="4581360"/>
            <a:ext cx="820872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销售额在哪个值的人数最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间的月销售额是多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均的月销售额是多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1"/>
          <p:cNvSpPr/>
          <p:nvPr/>
        </p:nvSpPr>
        <p:spPr>
          <a:xfrm>
            <a:off x="324000" y="5589720"/>
            <a:ext cx="82087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想确定一个较高的销售目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认为月销售额定为多少合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明理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4"/>
          <p:cNvSpPr/>
          <p:nvPr/>
        </p:nvSpPr>
        <p:spPr>
          <a:xfrm>
            <a:off x="611280" y="2924280"/>
            <a:ext cx="9217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  18  16  13  24  15  28  26  18  19  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 16  19  32  30  16  14  15  26  15 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  17  15  15  28  28  16  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25"/>
          <p:cNvSpPr/>
          <p:nvPr/>
        </p:nvSpPr>
        <p:spPr>
          <a:xfrm>
            <a:off x="250920" y="4437000"/>
            <a:ext cx="8569080" cy="1154160"/>
          </a:xfrm>
          <a:prstGeom prst="rect">
            <a:avLst/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6"/>
          <p:cNvSpPr/>
          <p:nvPr/>
        </p:nvSpPr>
        <p:spPr>
          <a:xfrm>
            <a:off x="250920" y="4437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想让一半左右的营业员都能达到目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认为月销售额定为多少合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明理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7"/>
          <p:cNvSpPr/>
          <p:nvPr/>
        </p:nvSpPr>
        <p:spPr>
          <a:xfrm>
            <a:off x="1116000" y="260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学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8"/>
          <p:cNvSpPr/>
          <p:nvPr/>
        </p:nvSpPr>
        <p:spPr>
          <a:xfrm>
            <a:off x="539640" y="692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：数据较多，用唱票的方法，列频数分布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95280" y="1628640"/>
          <a:ext cx="8229600" cy="4869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销售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划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3419640" y="4869000"/>
            <a:ext cx="504720" cy="360"/>
            <a:chOff x="3419640" y="4869000"/>
            <a:chExt cx="504720" cy="360"/>
          </a:xfrm>
        </p:grpSpPr>
        <p:sp>
          <p:nvSpPr>
            <p:cNvPr id="269" name="Line 280"/>
            <p:cNvSpPr/>
            <p:nvPr/>
          </p:nvSpPr>
          <p:spPr>
            <a:xfrm>
              <a:off x="3419640" y="4869000"/>
              <a:ext cx="5047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419640" y="4869000"/>
              <a:ext cx="50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419640" y="5516640"/>
            <a:ext cx="504720" cy="360"/>
            <a:chOff x="3419640" y="5516640"/>
            <a:chExt cx="504720" cy="360"/>
          </a:xfrm>
        </p:grpSpPr>
        <p:sp>
          <p:nvSpPr>
            <p:cNvPr id="272" name="Line 281"/>
            <p:cNvSpPr/>
            <p:nvPr/>
          </p:nvSpPr>
          <p:spPr>
            <a:xfrm>
              <a:off x="3419640" y="5516640"/>
              <a:ext cx="5047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3419640" y="5516640"/>
              <a:ext cx="50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19640" y="4292640"/>
            <a:ext cx="504720" cy="360"/>
            <a:chOff x="3419640" y="4292640"/>
            <a:chExt cx="504720" cy="360"/>
          </a:xfrm>
        </p:grpSpPr>
        <p:sp>
          <p:nvSpPr>
            <p:cNvPr id="275" name="Line 282"/>
            <p:cNvSpPr/>
            <p:nvPr/>
          </p:nvSpPr>
          <p:spPr>
            <a:xfrm>
              <a:off x="3419640" y="4292640"/>
              <a:ext cx="5047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3419640" y="4292640"/>
              <a:ext cx="50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492360" y="2492280"/>
            <a:ext cx="505080" cy="360"/>
            <a:chOff x="3492360" y="2492280"/>
            <a:chExt cx="505080" cy="360"/>
          </a:xfrm>
        </p:grpSpPr>
        <p:sp>
          <p:nvSpPr>
            <p:cNvPr id="278" name="Line 283"/>
            <p:cNvSpPr/>
            <p:nvPr/>
          </p:nvSpPr>
          <p:spPr>
            <a:xfrm>
              <a:off x="3492360" y="2492280"/>
              <a:ext cx="5050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492360" y="2492280"/>
              <a:ext cx="5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346560" y="3645000"/>
            <a:ext cx="504720" cy="360"/>
            <a:chOff x="3346560" y="3645000"/>
            <a:chExt cx="504720" cy="360"/>
          </a:xfrm>
        </p:grpSpPr>
        <p:sp>
          <p:nvSpPr>
            <p:cNvPr id="281" name="Line 284"/>
            <p:cNvSpPr/>
            <p:nvPr/>
          </p:nvSpPr>
          <p:spPr>
            <a:xfrm>
              <a:off x="3346560" y="3645000"/>
              <a:ext cx="5047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346560" y="3645000"/>
              <a:ext cx="50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635280" y="5516640"/>
            <a:ext cx="360" cy="217440"/>
            <a:chOff x="3635280" y="5516640"/>
            <a:chExt cx="360" cy="217440"/>
          </a:xfrm>
        </p:grpSpPr>
        <p:sp>
          <p:nvSpPr>
            <p:cNvPr id="284" name="Line 285"/>
            <p:cNvSpPr/>
            <p:nvPr/>
          </p:nvSpPr>
          <p:spPr>
            <a:xfrm>
              <a:off x="3635280" y="5516640"/>
              <a:ext cx="0" cy="21744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3635280" y="5516640"/>
              <a:ext cx="36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492360" y="6093000"/>
            <a:ext cx="505080" cy="360"/>
            <a:chOff x="3492360" y="6093000"/>
            <a:chExt cx="505080" cy="360"/>
          </a:xfrm>
        </p:grpSpPr>
        <p:sp>
          <p:nvSpPr>
            <p:cNvPr id="287" name="Line 286"/>
            <p:cNvSpPr/>
            <p:nvPr/>
          </p:nvSpPr>
          <p:spPr>
            <a:xfrm>
              <a:off x="3492360" y="6093000"/>
              <a:ext cx="5050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3492360" y="6093000"/>
              <a:ext cx="5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287"/>
          <p:cNvSpPr/>
          <p:nvPr/>
        </p:nvSpPr>
        <p:spPr>
          <a:xfrm>
            <a:off x="6373800" y="2201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755640" y="40464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：商场统计的每个营业员在某月的销售额组成一个样本，通过分析样本数据的平均数、中位数、众数来估计总体的情况，从而解决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95280" y="1628640"/>
          <a:ext cx="8229600" cy="4869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销售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划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2" name=""/>
          <p:cNvGrpSpPr/>
          <p:nvPr/>
        </p:nvGrpSpPr>
        <p:grpSpPr>
          <a:xfrm>
            <a:off x="3419640" y="3645000"/>
            <a:ext cx="504720" cy="360"/>
            <a:chOff x="3419640" y="3645000"/>
            <a:chExt cx="504720" cy="360"/>
          </a:xfrm>
        </p:grpSpPr>
        <p:sp>
          <p:nvSpPr>
            <p:cNvPr id="293" name="Line 45"/>
            <p:cNvSpPr/>
            <p:nvPr/>
          </p:nvSpPr>
          <p:spPr>
            <a:xfrm>
              <a:off x="3419640" y="3645000"/>
              <a:ext cx="5047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3419640" y="3645000"/>
              <a:ext cx="50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419640" y="4869000"/>
            <a:ext cx="504720" cy="360"/>
            <a:chOff x="3419640" y="4869000"/>
            <a:chExt cx="504720" cy="360"/>
          </a:xfrm>
        </p:grpSpPr>
        <p:sp>
          <p:nvSpPr>
            <p:cNvPr id="296" name="Line 46"/>
            <p:cNvSpPr/>
            <p:nvPr/>
          </p:nvSpPr>
          <p:spPr>
            <a:xfrm>
              <a:off x="3419640" y="4869000"/>
              <a:ext cx="5047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3419640" y="4869000"/>
              <a:ext cx="50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419640" y="4292640"/>
            <a:ext cx="504720" cy="360"/>
            <a:chOff x="3419640" y="4292640"/>
            <a:chExt cx="504720" cy="360"/>
          </a:xfrm>
        </p:grpSpPr>
        <p:sp>
          <p:nvSpPr>
            <p:cNvPr id="299" name="Line 47"/>
            <p:cNvSpPr/>
            <p:nvPr/>
          </p:nvSpPr>
          <p:spPr>
            <a:xfrm>
              <a:off x="3419640" y="4292640"/>
              <a:ext cx="5047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419640" y="4292640"/>
              <a:ext cx="50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19Z</dcterms:modified>
  <cp:revision>1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