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laser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gunshot.wav" ContentType="audio/x-wav"/>
  <Override PartName="/ppt/media/image17.jpeg" ContentType="image/jpeg"/>
  <Override PartName="/ppt/media/chimes.wav" ContentType="audio/x-wav"/>
  <Override PartName="/ppt/media/image16.jpeg" ContentType="image/jpeg"/>
  <Override PartName="/ppt/media/image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11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F4D-CB18-4958-83BD-140C72F2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0A5-82AE-4D13-B705-3C2BBCB9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978-5592-4E04-B81B-691E6B8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942-5218-4FAF-9E39-A83B0817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1E7B-E28F-4DB7-99D9-A92A4DA5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7545-EBC3-433B-896C-3151FF6C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0081-0E65-4FD5-A056-90C5F165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FF31-AB38-4C5D-B1F2-A9776EE3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D235-544A-4AF0-842E-7D84EB8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92C7-3106-430F-BE0C-110E0DE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F3E-456C-4167-B2E1-33DEB5C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44B-CB96-4BCA-95ED-D70103F4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301E-99D0-4FE3-82BA-EB9BA3B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B182-980A-4C16-962B-DC4C900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4BEA-27B9-4AA3-8E4E-46219AF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2BF1-1669-4D51-9591-32B59CE5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CB7A-1A1C-4308-81CD-E9AA07F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C60-6A2F-405D-A9CC-DE1FF3A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D37-B985-4C3F-9DBF-A4A39809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677-B7C5-4CDC-89DD-C2AEC30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073-EA76-4A9E-800E-9FF1A47C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C8D-4076-4AA0-B7D9-163AD58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C90-2246-4545-B377-B7B5785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68B-A037-42A6-8604-3FF167F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339-91E2-4B6C-B4BE-CDC4DBD28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8AD-E2F4-4748-81C2-5DCF32D3D1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89,2,&#37257;&#32705;&#20141;" TargetMode="External"/><Relationship Id="rId2" Type="http://schemas.openxmlformats.org/officeDocument/2006/relationships/hyperlink" Target="285,3,&#25945;&#23398;&#30446;&#26631;" TargetMode="External"/><Relationship Id="rId3" Type="http://schemas.openxmlformats.org/officeDocument/2006/relationships/hyperlink" Target="285,3,&#25945;&#23398;&#30446;&#26631;" TargetMode="External"/><Relationship Id="rId4" Type="http://schemas.openxmlformats.org/officeDocument/2006/relationships/hyperlink" Target="290,4,&#37257;&#32705;&#20141;&#35760;&#22270;&#29255;" TargetMode="External"/><Relationship Id="rId5" Type="http://schemas.openxmlformats.org/officeDocument/2006/relationships/hyperlink" Target="275,18,&#37257;&#32705;&#20141;" TargetMode="External"/><Relationship Id="rId6" Type="http://schemas.openxmlformats.org/officeDocument/2006/relationships/hyperlink" Target="283,25,&#20316;&#19994;&#65306;" TargetMode="External"/><Relationship Id="rId7" Type="http://schemas.openxmlformats.org/officeDocument/2006/relationships/hyperlink" Target="281,23,&#12298;&#37257;&#32705;&#20141;&#35760;&#12299;" TargetMode="External"/><Relationship Id="rId8" Type="http://schemas.openxmlformats.org/officeDocument/2006/relationships/hyperlink" Target="274,18,&#12298;&#37257;&#32705;&#20141;&#35760;&#12299;&#30865;&#21051;" TargetMode="External"/><Relationship Id="rId9" Type="http://schemas.openxmlformats.org/officeDocument/2006/relationships/hyperlink" Target="282,23,&#24187;&#28783;&#29255; 23" TargetMode="External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57,4,&#24187;&#28783;&#29255; 4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73,5,&#24187;&#28783;&#29255; 5" TargetMode="External"/><Relationship Id="rId4" Type="http://schemas.openxmlformats.org/officeDocument/2006/relationships/hyperlink" Target="273,5,&#24187;&#28783;&#29255; 5" TargetMode="External"/><Relationship Id="rId5" Type="http://schemas.openxmlformats.org/officeDocument/2006/relationships/hyperlink" Target="270,6,&#24187;&#28783;&#29255; 6" TargetMode="External"/><Relationship Id="rId6" Type="http://schemas.openxmlformats.org/officeDocument/2006/relationships/hyperlink" Target="277,7,&#24187;&#28783;&#29255; 7" TargetMode="External"/><Relationship Id="rId7" Type="http://schemas.openxmlformats.org/officeDocument/2006/relationships/hyperlink" Target="258,8,&#24187;&#28783;&#29255; 8" TargetMode="External"/><Relationship Id="rId8" Type="http://schemas.openxmlformats.org/officeDocument/2006/relationships/hyperlink" Target="276,9,&#24187;&#28783;&#29255; 9" TargetMode="External"/><Relationship Id="rId9" Type="http://schemas.openxmlformats.org/officeDocument/2006/relationships/hyperlink" Target="261,10,&#24187;&#28783;&#29255; 10" TargetMode="External"/><Relationship Id="rId10" Type="http://schemas.openxmlformats.org/officeDocument/2006/relationships/hyperlink" Target="260,11,&#24187;&#28783;&#29255; 11" TargetMode="External"/><Relationship Id="rId11" Type="http://schemas.openxmlformats.org/officeDocument/2006/relationships/hyperlink" Target="265,12,&#24187;&#28783;&#29255; 12" TargetMode="External"/><Relationship Id="rId12" Type="http://schemas.openxmlformats.org/officeDocument/2006/relationships/hyperlink" Target="260,11,&#24187;&#28783;&#29255; 11" TargetMode="External"/><Relationship Id="rId13" Type="http://schemas.openxmlformats.org/officeDocument/2006/relationships/hyperlink" Target="265,12,&#24187;&#28783;&#29255; 12" TargetMode="External"/><Relationship Id="rId14" Type="http://schemas.openxmlformats.org/officeDocument/2006/relationships/hyperlink" Target="272,13,&#24187;&#28783;&#29255; 13" TargetMode="External"/><Relationship Id="rId15" Type="http://schemas.openxmlformats.org/officeDocument/2006/relationships/hyperlink" Target="262,14,&#24187;&#28783;&#29255; 14" TargetMode="External"/><Relationship Id="rId16" Type="http://schemas.openxmlformats.org/officeDocument/2006/relationships/hyperlink" Target="263,15,&#24187;&#28783;&#29255; 15" TargetMode="External"/><Relationship Id="rId17" Type="http://schemas.openxmlformats.org/officeDocument/2006/relationships/hyperlink" Target="263,15,&#24187;&#28783;&#29255; 15" TargetMode="External"/><Relationship Id="rId18" Type="http://schemas.openxmlformats.org/officeDocument/2006/relationships/hyperlink" Target="264,16,&#24187;&#28783;&#29255; 16" TargetMode="External"/><Relationship Id="rId19" Type="http://schemas.openxmlformats.org/officeDocument/2006/relationships/hyperlink" Target="264,16,&#24187;&#28783;&#29255; 16" TargetMode="External"/><Relationship Id="rId20" Type="http://schemas.openxmlformats.org/officeDocument/2006/relationships/audio" Target="../media/projctor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audio" Target="../media/projctor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醉翁亭全景"/>
          <p:cNvPicPr/>
          <p:nvPr/>
        </p:nvPicPr>
        <p:blipFill>
          <a:blip r:embed="rId1"/>
          <a:stretch/>
        </p:blipFill>
        <p:spPr>
          <a:xfrm>
            <a:off x="-228600" y="-88920"/>
            <a:ext cx="9372600" cy="69469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9098" y="10800"/>
                </a:moveTo>
                <a:lnTo>
                  <a:pt x="8593" y="17806"/>
                </a:lnTo>
                <a:lnTo>
                  <a:pt x="8593" y="3794"/>
                </a:lnTo>
                <a:close/>
              </a:path>
              <a:path fill="darken" w="31199" h="21600">
                <a:moveTo>
                  <a:pt x="20943" y="3794"/>
                </a:moveTo>
                <a:lnTo>
                  <a:pt x="20943" y="17806"/>
                </a:lnTo>
                <a:lnTo>
                  <a:pt x="22606" y="17806"/>
                </a:lnTo>
                <a:lnTo>
                  <a:pt x="22606" y="379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矩形 1" descr=""/>
          <p:cNvPicPr/>
          <p:nvPr/>
        </p:nvPicPr>
        <p:blipFill>
          <a:blip r:embed="rId2"/>
          <a:stretch/>
        </p:blipFill>
        <p:spPr>
          <a:xfrm>
            <a:off x="466560" y="2276640"/>
            <a:ext cx="765828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夏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琅琊四季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蔚然深秀湖"/>
          <p:cNvPicPr/>
          <p:nvPr/>
        </p:nvPicPr>
        <p:blipFill>
          <a:blip r:embed="rId2"/>
          <a:stretch/>
        </p:blipFill>
        <p:spPr>
          <a:xfrm>
            <a:off x="42670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lastslide"/>
          </p:cNvPr>
          <p:cNvSpPr/>
          <p:nvPr/>
        </p:nvSpPr>
        <p:spPr>
          <a:xfrm>
            <a:off x="6858000" y="9907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10800"/>
                </a:moveTo>
                <a:lnTo>
                  <a:pt x="32192" y="3794"/>
                </a:lnTo>
                <a:lnTo>
                  <a:pt x="3219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佳木秀而繁阴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琅琊古道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>
            <a:hlinkClick r:id="" action="ppaction://hlinkshowjump?jump=lastslide"/>
          </p:cNvPr>
          <p:cNvSpPr/>
          <p:nvPr/>
        </p:nvSpPr>
        <p:spPr>
          <a:xfrm>
            <a:off x="6705720" y="68580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秋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秋天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" action="ppaction://hlinkshowjump?jump=lastslide"/>
          </p:cNvPr>
          <p:cNvSpPr/>
          <p:nvPr/>
        </p:nvSpPr>
        <p:spPr>
          <a:xfrm>
            <a:off x="7162920" y="1219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风霜高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醉翁潭1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>
            <a:hlinkClick r:id="" action="ppaction://hlinkshowjump?jump=lastslide"/>
          </p:cNvPr>
          <p:cNvSpPr/>
          <p:nvPr/>
        </p:nvSpPr>
        <p:spPr>
          <a:xfrm>
            <a:off x="6934320" y="914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冬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林冬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影香亭"/>
          <p:cNvPicPr/>
          <p:nvPr/>
        </p:nvPicPr>
        <p:blipFill>
          <a:blip r:embed="rId2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7">
            <a:hlinkClick r:id="" action="ppaction://hlinkshowjump?jump=lastslide"/>
          </p:cNvPr>
          <p:cNvSpPr/>
          <p:nvPr/>
        </p:nvSpPr>
        <p:spPr>
          <a:xfrm>
            <a:off x="7238880" y="9144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落而石出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酿泉水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" action="ppaction://hlinkshowjump?jump=lastslide"/>
          </p:cNvPr>
          <p:cNvSpPr/>
          <p:nvPr/>
        </p:nvSpPr>
        <p:spPr>
          <a:xfrm>
            <a:off x="7086600" y="762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四时之景不同，而乐亦无穷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秋波"/>
          <p:cNvPicPr/>
          <p:nvPr/>
        </p:nvPicPr>
        <p:blipFill>
          <a:blip r:embed="rId1"/>
          <a:stretch/>
        </p:blipFill>
        <p:spPr>
          <a:xfrm>
            <a:off x="685800" y="411480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深秀湖3"/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野芳园小景"/>
          <p:cNvPicPr/>
          <p:nvPr/>
        </p:nvPicPr>
        <p:blipFill>
          <a:blip r:embed="rId3"/>
          <a:stretch/>
        </p:blipFill>
        <p:spPr>
          <a:xfrm>
            <a:off x="4800600" y="4343400"/>
            <a:ext cx="3200400" cy="204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夏天"/>
          <p:cNvPicPr/>
          <p:nvPr/>
        </p:nvPicPr>
        <p:blipFill>
          <a:blip r:embed="rId4"/>
          <a:stretch/>
        </p:blipFill>
        <p:spPr>
          <a:xfrm>
            <a:off x="4648320" y="18288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>
            <a:hlinkClick r:id="" action="ppaction://hlinkshowjump?jump=lastslide"/>
          </p:cNvPr>
          <p:cNvSpPr/>
          <p:nvPr/>
        </p:nvSpPr>
        <p:spPr>
          <a:xfrm>
            <a:off x="8101080" y="99072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10800"/>
                </a:moveTo>
                <a:lnTo>
                  <a:pt x="19045" y="3794"/>
                </a:lnTo>
                <a:lnTo>
                  <a:pt x="190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5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记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碑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醉翁亭碑刻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>
            <a:hlinkClick r:id="" action="ppaction://hlinkshowjump?jump=previousslide"/>
          </p:cNvPr>
          <p:cNvSpPr/>
          <p:nvPr/>
        </p:nvSpPr>
        <p:spPr>
          <a:xfrm>
            <a:off x="7391520" y="22860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10800"/>
                </a:moveTo>
                <a:lnTo>
                  <a:pt x="18121" y="3794"/>
                </a:lnTo>
                <a:lnTo>
                  <a:pt x="1812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秋醉翁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68580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《</a:t>
            </a:r>
            <a:r>
              <a:rPr b="1" i="1" lang="zh-CN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醉翁亭记</a:t>
            </a:r>
            <a:r>
              <a:rPr b="1" i="1" lang="en-US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05120"/>
            <a:ext cx="8001000" cy="4114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作者：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欧阳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唐宋八大家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之一，</a:t>
            </a:r>
            <a:r>
              <a:rPr b="0" lang="zh-CN" sz="54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北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古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文运动领袖。字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永叔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号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醉翁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又号“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六一居士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。本文是作者被贬滁州所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6">
            <a:hlinkClick r:id="" action="ppaction://hlinkshowjump?jump=previousslide"/>
          </p:cNvPr>
          <p:cNvSpPr/>
          <p:nvPr/>
        </p:nvSpPr>
        <p:spPr>
          <a:xfrm>
            <a:off x="6781680" y="10666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971800" y="4572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醉翁亭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23880" y="320040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醉翁亭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 flipH="1">
            <a:off x="2057400" y="3048120"/>
            <a:ext cx="549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606760" y="3200400"/>
            <a:ext cx="7617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教学目标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657600" y="32767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图片再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800600" y="32767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朗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705720" y="3200400"/>
            <a:ext cx="7617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57200" y="320040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791320" y="3276720"/>
            <a:ext cx="7617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碑刻欣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696080" y="3276720"/>
            <a:ext cx="838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词语解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0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词语解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醉翁之意不在酒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形容人别有意图，言在此而意在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水落石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形容事情真相大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>
            <a:hlinkClick r:id="" action="ppaction://hlinkshowjump?jump=previousslide"/>
          </p:cNvPr>
          <p:cNvSpPr/>
          <p:nvPr/>
        </p:nvSpPr>
        <p:spPr>
          <a:xfrm>
            <a:off x="6858000" y="54864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8194"/>
          <p:cNvSpPr/>
          <p:nvPr/>
        </p:nvSpPr>
        <p:spPr>
          <a:xfrm>
            <a:off x="1908000" y="134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文中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夫日出而林霏开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乐亦无穷也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段所写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朝暮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四时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景物特点用现代汉语加以具体描写，写成</a:t>
            </a:r>
            <a:r>
              <a:rPr b="0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左右的短文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5867280" y="609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DAF-63B8-4642-863A-D9D61665D8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醉翁亭记图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1066680"/>
          <a:ext cx="8458200" cy="50292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16765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蔚然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深    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水    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潺    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日出而林霏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6"/>
                        </a:rPr>
                        <a:t>云归而岩穴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7"/>
                        </a:rPr>
                        <a:t>琅琊山春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16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8"/>
                        </a:rPr>
                        <a:t>野芳发而幽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9"/>
                        </a:rPr>
                        <a:t>琅琊山夏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0"/>
                        </a:rPr>
                        <a:t>佳木秀而繁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1"/>
                        </a:rPr>
                        <a:t>琅琊山秋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2"/>
                        </a:rPr>
                        <a:t>佳木秀而繁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3"/>
                        </a:rPr>
                        <a:t>琅琊山秋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4"/>
                        </a:rPr>
                        <a:t>风霜高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5"/>
                        </a:rPr>
                        <a:t>琅琊山冬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6"/>
                        </a:rPr>
                        <a:t>水  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7"/>
                        </a:rPr>
                        <a:t>石  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8"/>
                        </a:rPr>
                        <a:t>四时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9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AutoShape 64">
            <a:hlinkClick r:id="" action="ppaction://hlinkshowjump?jump=firstslide"/>
          </p:cNvPr>
          <p:cNvSpPr/>
          <p:nvPr/>
        </p:nvSpPr>
        <p:spPr>
          <a:xfrm>
            <a:off x="7315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0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472428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１．掌握文中的实词，了解文中“也”、“于”、“之”、“而”等虚词的用法。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２．理解本文写景抒情的特点。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３．认识文中所表现的作者的旷达情怀和美好理想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6934320" y="57150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20294" y="10800"/>
                </a:moveTo>
                <a:lnTo>
                  <a:pt x="9788" y="17806"/>
                </a:lnTo>
                <a:lnTo>
                  <a:pt x="9788" y="3794"/>
                </a:lnTo>
                <a:close/>
              </a:path>
              <a:path fill="darken" w="33590" h="21600">
                <a:moveTo>
                  <a:pt x="22139" y="3794"/>
                </a:moveTo>
                <a:lnTo>
                  <a:pt x="22139" y="17806"/>
                </a:lnTo>
                <a:lnTo>
                  <a:pt x="23801" y="17806"/>
                </a:lnTo>
                <a:lnTo>
                  <a:pt x="238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3419640" y="234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蔚然而深秀者，琅琊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sxlake"/>
          <p:cNvPicPr/>
          <p:nvPr/>
        </p:nvPicPr>
        <p:blipFill>
          <a:blip r:embed="rId16"/>
          <a:stretch/>
        </p:blipFill>
        <p:spPr>
          <a:xfrm>
            <a:off x="685800" y="15238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lastslide"/>
          </p:cNvPr>
          <p:cNvSpPr/>
          <p:nvPr/>
        </p:nvSpPr>
        <p:spPr>
          <a:xfrm>
            <a:off x="7086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7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声潺潺而泻出于两峰之间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醉翁潭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>
            <a:hlinkClick r:id="" action="ppaction://hlinkshowjump?jump=lastslide"/>
          </p:cNvPr>
          <p:cNvSpPr/>
          <p:nvPr/>
        </p:nvSpPr>
        <p:spPr>
          <a:xfrm>
            <a:off x="6858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日出而林霏开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夏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9532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" action="ppaction://hlinkshowjump?jump=lastslide"/>
          </p:cNvPr>
          <p:cNvSpPr/>
          <p:nvPr/>
        </p:nvSpPr>
        <p:spPr>
          <a:xfrm>
            <a:off x="7238880" y="5486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22004" y="10800"/>
                </a:moveTo>
                <a:lnTo>
                  <a:pt x="11498" y="17806"/>
                </a:lnTo>
                <a:lnTo>
                  <a:pt x="11498" y="3794"/>
                </a:lnTo>
                <a:close/>
              </a:path>
              <a:path fill="darken" w="37010" h="21600">
                <a:moveTo>
                  <a:pt x="23849" y="3794"/>
                </a:moveTo>
                <a:lnTo>
                  <a:pt x="23849" y="17806"/>
                </a:lnTo>
                <a:lnTo>
                  <a:pt x="25511" y="17806"/>
                </a:lnTo>
                <a:lnTo>
                  <a:pt x="2551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云归而岩穴暝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SF171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4960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>
            <a:hlinkClick r:id="" action="ppaction://hlinkshowjump?jump=lastslide"/>
          </p:cNvPr>
          <p:cNvSpPr/>
          <p:nvPr/>
        </p:nvSpPr>
        <p:spPr>
          <a:xfrm>
            <a:off x="7010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春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春"/>
          <p:cNvPicPr/>
          <p:nvPr/>
        </p:nvPicPr>
        <p:blipFill>
          <a:blip r:embed="rId1"/>
          <a:stretch/>
        </p:blipFill>
        <p:spPr>
          <a:xfrm>
            <a:off x="4114800" y="205740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春"/>
          <p:cNvPicPr/>
          <p:nvPr/>
        </p:nvPicPr>
        <p:blipFill>
          <a:blip r:embed="rId2"/>
          <a:stretch/>
        </p:blipFill>
        <p:spPr>
          <a:xfrm>
            <a:off x="914400" y="1828800"/>
            <a:ext cx="27576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lastslide"/>
          </p:cNvPr>
          <p:cNvSpPr/>
          <p:nvPr/>
        </p:nvSpPr>
        <p:spPr>
          <a:xfrm>
            <a:off x="7162920" y="10666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野芳发而幽香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bj006"/>
          <p:cNvPicPr/>
          <p:nvPr/>
        </p:nvPicPr>
        <p:blipFill>
          <a:blip r:embed="rId1"/>
          <a:stretch/>
        </p:blipFill>
        <p:spPr>
          <a:xfrm>
            <a:off x="506520" y="1981080"/>
            <a:ext cx="8129520" cy="44960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>
            <a:hlinkClick r:id="" action="ppaction://hlinkshowjump?jump=lastslide"/>
          </p:cNvPr>
          <p:cNvSpPr/>
          <p:nvPr/>
        </p:nvSpPr>
        <p:spPr>
          <a:xfrm>
            <a:off x="6629400" y="762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10800"/>
                </a:moveTo>
                <a:lnTo>
                  <a:pt x="37588" y="3794"/>
                </a:lnTo>
                <a:lnTo>
                  <a:pt x="375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7:1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24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