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1FE-EBF2-4473-ABF6-387CEE33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800892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4218480"/>
            <a:ext cx="800892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1E1-FBF4-4199-A082-E6342ADB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242-E7D5-48B0-90F4-73328307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4200" y="188100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2120" y="188100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421848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4200" y="421848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2120" y="421848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C923-822C-42AD-AA84-80D99A86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8AF6-8652-4365-8894-557A8CC2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881000"/>
            <a:ext cx="8008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9F04-216E-49C7-AB66-2CEFE4D4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8008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7D4B-5ED0-42B2-9AE6-D1E897A1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1CBC-E273-4462-A7AA-FA25E274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1477-E55C-41A0-9E9A-78BDE287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66280" y="1077480"/>
            <a:ext cx="80089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982E-7614-4E2E-9181-4315A6EC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07E5-BAE8-4D1E-B50A-8F507F0B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881000"/>
            <a:ext cx="8008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2CB-031A-48D2-ABE6-04E1414F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AE33-40B1-4486-9F83-A38646F5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4218480"/>
            <a:ext cx="800892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F865-64C5-4792-94CB-AB6CC84F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800892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4218480"/>
            <a:ext cx="800892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418B-B8FC-4D43-9DDD-81984BC3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550A-318B-4D1F-BA09-FA0DD04B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4200" y="188100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2120" y="188100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421848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4200" y="421848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2120" y="421848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74AD-E4BD-4772-84D6-5361BE12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DF6DA-912C-4706-B3C7-DE10F043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6280" y="1881000"/>
            <a:ext cx="8008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BC28C-0F80-4F03-9F68-C6E5AC48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8008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1F0F0-6584-40DA-B692-6AF7C17E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2C145-1224-4897-ACCF-5A18C954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E1E00-6090-4421-A8E6-C839F73C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8008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D35-A9E7-4DC9-80BE-B73C94F9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66280" y="1077480"/>
            <a:ext cx="80089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6987F-6E1E-4BFC-A10B-ECDDF94C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6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EACC6-22AF-4E22-8749-F12F1D57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6AA91-C5CF-4A1D-98C4-08A5E55F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4218480"/>
            <a:ext cx="800892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AC62D-BB9F-4EE3-ABC6-D0CAD5F4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800892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6280" y="4218480"/>
            <a:ext cx="800892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1E4E4-2A4D-4493-9F58-8D30C30D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C94E-3557-40A1-93B3-28AA2922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74200" y="188100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82120" y="188100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6280" y="421848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74200" y="421848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82120" y="421848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9729-C74F-4CF8-90BB-FE9E61CA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B4B-4273-48B9-A779-191AC70E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3A9D-086C-4262-BA2E-05FADF9A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66280" y="1077480"/>
            <a:ext cx="80089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2B11-CDAA-4B3B-B13B-C9D4828F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F771-2C72-4EA6-A840-CE28DE36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B735-A24F-45F6-9CC6-47EEBD23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4218480"/>
            <a:ext cx="800892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883-B15B-4C75-8932-5D8992CB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66280" y="1881000"/>
            <a:ext cx="8008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76aa30"/>
              </a:buClr>
              <a:buSzPct val="8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1" marL="357120" indent="-35712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SzPct val="80000"/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324A-FAB6-47EC-9FF3-2B2B2C61560B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aa30"/>
                </a:solidFill>
                <a:latin typeface="Tempus Sans ITC"/>
              </a:rPr>
              <a:t>Click to edit the title text format</a:t>
            </a: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2988-E85E-49D4-AF53-5A63CC5FE3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2"/>
          <a:stretch/>
        </p:blipFill>
        <p:spPr>
          <a:xfrm>
            <a:off x="0" y="-7920"/>
            <a:ext cx="9161640" cy="6865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aa30"/>
                </a:solidFill>
                <a:latin typeface="Tempus Sans ITC"/>
              </a:rPr>
              <a:t>Click to edit the title text format</a:t>
            </a: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66280" y="1881000"/>
            <a:ext cx="8008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76aa30"/>
              </a:buClr>
              <a:buSzPct val="8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1" marL="357120" indent="-35712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SzPct val="80000"/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2E75-4AB2-48B9-9C0A-0E35E82B5B30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ingxing365.com/p.asp?id=24838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6aa30"/>
                </a:solidFill>
                <a:latin typeface="宋体"/>
                <a:ea typeface="宋体"/>
              </a:rPr>
              <a:t>植物新生命的开始课件</a:t>
            </a:r>
            <a:r>
              <a:rPr b="1" lang="en-US" sz="4000" spc="-1" strike="noStrike">
                <a:solidFill>
                  <a:srgbClr val="76aa3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76aa3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f5f5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68000" y="1341000"/>
            <a:ext cx="767556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同植物的种子，它们的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形状、大小、颜色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各不相同。</a:t>
            </a:r>
            <a:endParaRPr b="0" lang="en-US" sz="36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828720" y="2781360"/>
            <a:ext cx="7467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cb032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9cb032"/>
                </a:solidFill>
                <a:latin typeface="黑体"/>
                <a:ea typeface="黑体"/>
              </a:rPr>
              <a:t>但它们都能生长成一株植物。</a:t>
            </a:r>
            <a:endParaRPr b="0" lang="en-US" sz="3600" spc="-1" strike="noStrike">
              <a:solidFill>
                <a:srgbClr val="5f5f5f"/>
              </a:solidFill>
              <a:latin typeface="Garamond"/>
            </a:endParaRPr>
          </a:p>
        </p:txBody>
      </p:sp>
      <p:pic>
        <p:nvPicPr>
          <p:cNvPr id="147" name="Picture 4" descr="yeguo2_0531_副本"/>
          <p:cNvPicPr/>
          <p:nvPr/>
        </p:nvPicPr>
        <p:blipFill>
          <a:blip r:embed="rId1"/>
          <a:stretch/>
        </p:blipFill>
        <p:spPr>
          <a:xfrm>
            <a:off x="8694720" y="6324480"/>
            <a:ext cx="449280" cy="5335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1044720" y="42210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让我们剥开种子，看看能发现什么？</a:t>
            </a:r>
            <a:endParaRPr b="0" lang="en-US" sz="4000" spc="-1" strike="noStrike">
              <a:solidFill>
                <a:srgbClr val="5f5f5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6280" y="1077840"/>
            <a:ext cx="8008920" cy="4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empus Sans ITC"/>
                <a:ea typeface="黑体"/>
              </a:rPr>
              <a:t>掰开一粒种子看一看</a:t>
            </a: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4537080" cy="382284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b0201-01"/>
          <p:cNvPicPr/>
          <p:nvPr/>
        </p:nvPicPr>
        <p:blipFill>
          <a:blip r:embed="rId1"/>
          <a:srcRect l="0" t="0" r="-94" b="0"/>
          <a:stretch/>
        </p:blipFill>
        <p:spPr>
          <a:xfrm>
            <a:off x="1116000" y="1916280"/>
            <a:ext cx="2016000" cy="3671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jg"/>
          <p:cNvPicPr/>
          <p:nvPr/>
        </p:nvPicPr>
        <p:blipFill>
          <a:blip r:embed="rId2"/>
          <a:stretch/>
        </p:blipFill>
        <p:spPr>
          <a:xfrm>
            <a:off x="4140360" y="1916280"/>
            <a:ext cx="3025440" cy="31064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79280" y="260280"/>
            <a:ext cx="8496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黑体"/>
              </a:rPr>
              <a:t>这些种子形状和大小有各种各样的，</a:t>
            </a:r>
            <a:endParaRPr b="0" lang="en-US" sz="3200" spc="-1" strike="noStrike">
              <a:solidFill>
                <a:srgbClr val="5f5f5f"/>
              </a:solidFill>
              <a:latin typeface="Garamond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黑体"/>
              </a:rPr>
              <a:t>但它们的结构基本相同</a:t>
            </a:r>
            <a:endParaRPr b="0" lang="en-US" sz="32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771640" y="2349360"/>
            <a:ext cx="13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胚芽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987640" y="3573360"/>
            <a:ext cx="11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叶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0" y="256536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胚根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1916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胚轴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50920" y="3933720"/>
            <a:ext cx="106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种皮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923160" y="1773360"/>
            <a:ext cx="22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皮和种皮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7164360" y="234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胚乳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30872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胚芽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7236000" y="292428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叶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7308720" y="4365720"/>
            <a:ext cx="10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胚根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7380360" y="3860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胚轴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826920" y="57340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黑体"/>
              </a:rPr>
              <a:t>菜豆的种子</a:t>
            </a:r>
            <a:endParaRPr b="0" lang="en-US" sz="24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5219640" y="5445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黑体"/>
              </a:rPr>
              <a:t>玉米的种子</a:t>
            </a:r>
            <a:endParaRPr b="0" lang="en-US" sz="2400" spc="-1" strike="noStrike">
              <a:solidFill>
                <a:srgbClr val="5f5f5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292536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empus Sans ITC"/>
              </a:rPr>
              <a:t>种子的里面都是相同的，都有</a:t>
            </a:r>
            <a:r>
              <a:rPr b="1" lang="zh-CN" sz="4000" spc="-1" strike="noStrike">
                <a:solidFill>
                  <a:srgbClr val="ff0066"/>
                </a:solidFill>
                <a:latin typeface="Tempus Sans ITC"/>
              </a:rPr>
              <a:t>胚根</a:t>
            </a:r>
            <a:r>
              <a:rPr b="1" lang="zh-CN" sz="4000" spc="-1" strike="noStrike">
                <a:solidFill>
                  <a:srgbClr val="000000"/>
                </a:solidFill>
                <a:latin typeface="Tempus Sans ITC"/>
              </a:rPr>
              <a:t>和</a:t>
            </a:r>
            <a:r>
              <a:rPr b="1" lang="zh-CN" sz="4000" spc="-1" strike="noStrike">
                <a:solidFill>
                  <a:srgbClr val="ff0066"/>
                </a:solidFill>
                <a:latin typeface="Tempus Sans ITC"/>
              </a:rPr>
              <a:t>胚芽</a:t>
            </a:r>
            <a:r>
              <a:rPr b="1" lang="zh-CN" sz="4000" spc="-1" strike="noStrike">
                <a:solidFill>
                  <a:srgbClr val="000000"/>
                </a:solidFill>
                <a:latin typeface="Tempus Sans ITC"/>
              </a:rPr>
              <a:t>。</a:t>
            </a:r>
            <a:endParaRPr b="0" lang="en-US" sz="4000" spc="-1" strike="noStrike">
              <a:solidFill>
                <a:srgbClr val="76aa3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BAF7-33BF-40D5-B22E-B3043A96F23B}" type="slidenum">
              <a:rPr b="0" lang="zh-CN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empus Sans ITC"/>
                <a:ea typeface="黑体"/>
              </a:rPr>
              <a:t>下节课准备</a:t>
            </a:r>
            <a:endParaRPr b="0" lang="en-US" sz="40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66280" y="1881000"/>
            <a:ext cx="80089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76aa30"/>
              </a:buClr>
              <a:buSzPct val="8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凤仙花的种子</a:t>
            </a:r>
            <a:endParaRPr b="0" lang="en-US" sz="3600" spc="-1" strike="noStrike">
              <a:solidFill>
                <a:srgbClr val="9cb032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76aa30"/>
              </a:buClr>
              <a:buSzPct val="8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查阅凤仙花的有关资料</a:t>
            </a:r>
            <a:endParaRPr b="0" lang="en-US" sz="3600" spc="-1" strike="noStrike">
              <a:solidFill>
                <a:srgbClr val="9cb032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76aa30"/>
              </a:buClr>
              <a:buSzPct val="8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了解凤仙花的栽培方法</a:t>
            </a:r>
            <a:endParaRPr b="0" lang="en-US" sz="3600" spc="-1" strike="noStrike">
              <a:solidFill>
                <a:srgbClr val="9cb032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76aa30"/>
              </a:buClr>
              <a:buSzPct val="8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准备播种所需要的材料和工具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endParaRPr b="0" lang="en-US" sz="3600" spc="-1" strike="noStrike">
              <a:solidFill>
                <a:srgbClr val="9cb0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6aa30"/>
                </a:solidFill>
                <a:latin typeface="Tempus Sans ITC"/>
                <a:ea typeface="黑体"/>
              </a:rPr>
              <a:t>下面的图片中是些什么动物，你知道是怎么来的吗？</a:t>
            </a: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pic>
        <p:nvPicPr>
          <p:cNvPr id="128" name="Picture 3" descr="u=1392497312,1078439128&amp;fm=0&amp;gp=0"/>
          <p:cNvPicPr/>
          <p:nvPr/>
        </p:nvPicPr>
        <p:blipFill>
          <a:blip r:embed="rId1"/>
          <a:stretch/>
        </p:blipFill>
        <p:spPr>
          <a:xfrm>
            <a:off x="468360" y="1486080"/>
            <a:ext cx="395928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u=3153072435,1193660980&amp;fm=0&amp;gp=0"/>
          <p:cNvPicPr/>
          <p:nvPr/>
        </p:nvPicPr>
        <p:blipFill>
          <a:blip r:embed="rId2"/>
          <a:stretch/>
        </p:blipFill>
        <p:spPr>
          <a:xfrm>
            <a:off x="4572000" y="3070080"/>
            <a:ext cx="4194000" cy="3353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324000" y="45086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Garamond"/>
                <a:ea typeface="黑体"/>
              </a:rPr>
              <a:t>狗妈妈生出来的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932360" y="2349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Garamond"/>
                <a:ea typeface="黑体"/>
              </a:rPr>
              <a:t>从鸡蛋里孵出来的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上学期我们已经知道了：</a:t>
            </a:r>
            <a:endParaRPr b="0" lang="en-US" sz="40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4360" y="177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植物在它们的生命过程中都要经历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出生、繁殖、成长、衰老直至死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600" spc="-1" strike="noStrike">
              <a:solidFill>
                <a:srgbClr val="5f5f5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empus Sans ITC"/>
                <a:ea typeface="黑体"/>
              </a:rPr>
              <a:t>你还知道植物是从哪里来的吗？</a:t>
            </a: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pic>
        <p:nvPicPr>
          <p:cNvPr id="135" name="Picture 3" descr="200611240944563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268280"/>
            <a:ext cx="7993080" cy="531972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8199"/>
          <p:cNvSpPr/>
          <p:nvPr/>
        </p:nvSpPr>
        <p:spPr>
          <a:xfrm>
            <a:off x="1944720" y="1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empus Sans ITC"/>
                <a:ea typeface="黑体"/>
              </a:rPr>
              <a:t>我们还知道：植物繁殖后代的方法有</a:t>
            </a:r>
            <a:endParaRPr b="0" lang="en-US" sz="3200" spc="-1" strike="noStrike">
              <a:solidFill>
                <a:srgbClr val="76aa30"/>
              </a:solidFill>
              <a:latin typeface="Tempus Sans ITC"/>
            </a:endParaRPr>
          </a:p>
        </p:txBody>
      </p:sp>
      <p:pic>
        <p:nvPicPr>
          <p:cNvPr id="138" name="Picture 3" descr="图片1"/>
          <p:cNvPicPr/>
          <p:nvPr/>
        </p:nvPicPr>
        <p:blipFill>
          <a:blip r:embed="rId1"/>
          <a:stretch/>
        </p:blipFill>
        <p:spPr>
          <a:xfrm>
            <a:off x="755640" y="1125360"/>
            <a:ext cx="727380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图片2"/>
          <p:cNvPicPr/>
          <p:nvPr/>
        </p:nvPicPr>
        <p:blipFill>
          <a:blip r:embed="rId1"/>
          <a:stretch/>
        </p:blipFill>
        <p:spPr>
          <a:xfrm>
            <a:off x="0" y="-82440"/>
            <a:ext cx="914400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图片3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68360" y="5589720"/>
            <a:ext cx="86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Garamond"/>
              </a:rPr>
              <a:t>绿色开花植物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几乎都是从</a:t>
            </a:r>
            <a:r>
              <a:rPr b="1" lang="zh-CN" sz="2800" spc="-1" strike="noStrike">
                <a:solidFill>
                  <a:srgbClr val="ff0066"/>
                </a:solidFill>
                <a:latin typeface="Garamond"/>
              </a:rPr>
              <a:t>种子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开始它们的新生命的，有些植物可以用根、茎、叶繁殖后代。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pic>
        <p:nvPicPr>
          <p:cNvPr id="142" name="Picture 3" descr="IMG_0157"/>
          <p:cNvPicPr/>
          <p:nvPr/>
        </p:nvPicPr>
        <p:blipFill>
          <a:blip r:embed="rId1"/>
          <a:stretch/>
        </p:blipFill>
        <p:spPr>
          <a:xfrm>
            <a:off x="828720" y="189000"/>
            <a:ext cx="72007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empus Sans ITC"/>
                <a:ea typeface="黑体"/>
              </a:rPr>
              <a:t>让我们一起来看看植物的种子</a:t>
            </a:r>
            <a:endParaRPr b="0" lang="en-US" sz="3200" spc="-1" strike="noStrike">
              <a:solidFill>
                <a:srgbClr val="76aa30"/>
              </a:solidFill>
              <a:latin typeface="Tempus Sans ITC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27380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1:38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10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1a07000000000001024120</vt:lpwstr>
  </property>
</Properties>
</file>