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D41-290C-4298-9FF6-CB1D1CE4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2DB-B9E2-4E27-9165-2543F3F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A6D-4C9C-44E1-9D98-D4678DB1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DBD-5AED-4BD4-9D7D-05F414CB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203F-53D9-4187-982E-DB280EE1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521E-B669-46A8-B216-3EC877B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DEB7-4614-4E5D-A884-9865964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3936-F215-4A43-A78C-EAED962D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4FE-AB60-4D91-A380-71463B06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E0F3-6C06-4320-ABB0-BA770D3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3F8-6B8B-48AB-BDA4-D94461B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C74-9363-4057-8A07-64D27FA7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E57-B34F-46C1-A62A-9463FDF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8BB-6631-4CBC-809C-0971C2B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F1E-B5D8-41B0-8901-10660C9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C396-3BF5-4A6F-8843-B2FB1FBE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9F0-9D35-4B45-9931-308722FB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8C5-007E-403A-A110-4437099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DD4-ED12-481C-BE06-2D756603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38D-C485-4EA2-AAF6-A7DDBA0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51F-983C-421B-84BA-5AA52EC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1DA-3939-458B-8FB9-611BB6E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925-47D7-425B-9CBE-107A272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F3E-4235-44F1-8AE6-85961BD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C6D-8418-4548-8803-13996DA6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C84-5186-43CC-8334-527A50B88E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357120" y="1413000"/>
            <a:ext cx="842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植物有哪些相同特点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发芽破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1231321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长成幼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图片7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植株成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7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图片12"/>
          <p:cNvPicPr/>
          <p:nvPr/>
        </p:nvPicPr>
        <p:blipFill>
          <a:blip r:embed="rId1"/>
          <a:stretch/>
        </p:blipFill>
        <p:spPr>
          <a:xfrm>
            <a:off x="0" y="0"/>
            <a:ext cx="74296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花蕾生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图片15"/>
          <p:cNvPicPr/>
          <p:nvPr/>
        </p:nvPicPr>
        <p:blipFill>
          <a:blip r:embed="rId1"/>
          <a:stretch/>
        </p:blipFill>
        <p:spPr>
          <a:xfrm>
            <a:off x="0" y="0"/>
            <a:ext cx="74296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鲜花盛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0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图片18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199"/>
          <p:cNvSpPr/>
          <p:nvPr/>
        </p:nvSpPr>
        <p:spPr>
          <a:xfrm>
            <a:off x="1525680" y="28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花落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3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图片20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7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85080" y="213372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植株枯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deab41cf355eeb22f9dc612a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5"/>
          <p:cNvSpPr/>
          <p:nvPr/>
        </p:nvSpPr>
        <p:spPr>
          <a:xfrm>
            <a:off x="7020000" y="6922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68360" y="18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向日葵一生的生长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064200" y="487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3"/>
          <p:cNvGrpSpPr/>
          <p:nvPr/>
        </p:nvGrpSpPr>
        <p:grpSpPr>
          <a:xfrm>
            <a:off x="2771640" y="3933720"/>
            <a:ext cx="2009880" cy="2536920"/>
            <a:chOff x="2771640" y="3933720"/>
            <a:chExt cx="2009880" cy="2536920"/>
          </a:xfrm>
        </p:grpSpPr>
        <p:pic>
          <p:nvPicPr>
            <p:cNvPr id="140" name="Picture 12" descr="图片20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20098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2"/>
            <p:cNvSpPr/>
            <p:nvPr/>
          </p:nvSpPr>
          <p:spPr>
            <a:xfrm>
              <a:off x="3348000" y="59500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0"/>
          <p:cNvGrpSpPr/>
          <p:nvPr/>
        </p:nvGrpSpPr>
        <p:grpSpPr>
          <a:xfrm>
            <a:off x="4859280" y="981000"/>
            <a:ext cx="1871640" cy="2527200"/>
            <a:chOff x="4859280" y="981000"/>
            <a:chExt cx="1871640" cy="2527200"/>
          </a:xfrm>
        </p:grpSpPr>
        <p:pic>
          <p:nvPicPr>
            <p:cNvPr id="143" name="Picture 7" descr="图片7"/>
            <p:cNvPicPr/>
            <p:nvPr/>
          </p:nvPicPr>
          <p:blipFill>
            <a:blip r:embed="rId2"/>
            <a:stretch/>
          </p:blipFill>
          <p:spPr>
            <a:xfrm>
              <a:off x="4859280" y="981000"/>
              <a:ext cx="1871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3"/>
            <p:cNvSpPr/>
            <p:nvPr/>
          </p:nvSpPr>
          <p:spPr>
            <a:xfrm>
              <a:off x="5364000" y="2987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幼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2"/>
          <p:cNvGrpSpPr/>
          <p:nvPr/>
        </p:nvGrpSpPr>
        <p:grpSpPr>
          <a:xfrm>
            <a:off x="5580000" y="3933720"/>
            <a:ext cx="3564000" cy="2536920"/>
            <a:chOff x="5580000" y="3933720"/>
            <a:chExt cx="3564000" cy="2536920"/>
          </a:xfrm>
        </p:grpSpPr>
        <p:pic>
          <p:nvPicPr>
            <p:cNvPr id="146" name="Picture 10" descr="图片15"/>
            <p:cNvPicPr/>
            <p:nvPr/>
          </p:nvPicPr>
          <p:blipFill>
            <a:blip r:embed="rId3"/>
            <a:stretch/>
          </p:blipFill>
          <p:spPr>
            <a:xfrm>
              <a:off x="7451640" y="3933720"/>
              <a:ext cx="1692360" cy="20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1" descr="图片18"/>
            <p:cNvPicPr/>
            <p:nvPr/>
          </p:nvPicPr>
          <p:blipFill>
            <a:blip r:embed="rId4"/>
            <a:stretch/>
          </p:blipFill>
          <p:spPr>
            <a:xfrm>
              <a:off x="5580000" y="3933720"/>
              <a:ext cx="194472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4"/>
            <p:cNvSpPr/>
            <p:nvPr/>
          </p:nvSpPr>
          <p:spPr>
            <a:xfrm>
              <a:off x="7093080" y="595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开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0" y="3933720"/>
            <a:ext cx="1835280" cy="2536920"/>
            <a:chOff x="0" y="3933720"/>
            <a:chExt cx="1835280" cy="2536920"/>
          </a:xfrm>
        </p:grpSpPr>
        <p:pic>
          <p:nvPicPr>
            <p:cNvPr id="150" name="Picture 14" descr="deab41cf355eeb22f9dc612a"/>
            <p:cNvPicPr/>
            <p:nvPr/>
          </p:nvPicPr>
          <p:blipFill>
            <a:blip r:embed="rId5"/>
            <a:stretch/>
          </p:blipFill>
          <p:spPr>
            <a:xfrm>
              <a:off x="0" y="3933720"/>
              <a:ext cx="18352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26"/>
            <p:cNvSpPr/>
            <p:nvPr/>
          </p:nvSpPr>
          <p:spPr>
            <a:xfrm>
              <a:off x="468360" y="595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枯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8"/>
          <p:cNvSpPr/>
          <p:nvPr/>
        </p:nvSpPr>
        <p:spPr>
          <a:xfrm rot="10800000">
            <a:off x="4788000" y="4868640"/>
            <a:ext cx="72072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9"/>
          <p:cNvSpPr/>
          <p:nvPr/>
        </p:nvSpPr>
        <p:spPr>
          <a:xfrm rot="5400000">
            <a:off x="8353080" y="3321000"/>
            <a:ext cx="718920" cy="36036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0"/>
          <p:cNvSpPr/>
          <p:nvPr/>
        </p:nvSpPr>
        <p:spPr>
          <a:xfrm rot="10800000">
            <a:off x="1907640" y="4868640"/>
            <a:ext cx="72108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197964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0" y="981000"/>
            <a:ext cx="1835280" cy="2538360"/>
            <a:chOff x="0" y="981000"/>
            <a:chExt cx="1835280" cy="2538360"/>
          </a:xfrm>
        </p:grpSpPr>
        <p:pic>
          <p:nvPicPr>
            <p:cNvPr id="157" name="Picture 20" descr="1273728538"/>
            <p:cNvPicPr/>
            <p:nvPr/>
          </p:nvPicPr>
          <p:blipFill>
            <a:blip r:embed="rId6"/>
            <a:stretch/>
          </p:blipFill>
          <p:spPr>
            <a:xfrm>
              <a:off x="0" y="981000"/>
              <a:ext cx="1835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33"/>
            <p:cNvSpPr/>
            <p:nvPr/>
          </p:nvSpPr>
          <p:spPr>
            <a:xfrm>
              <a:off x="466560" y="299880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4"/>
          <p:cNvSpPr/>
          <p:nvPr/>
        </p:nvSpPr>
        <p:spPr>
          <a:xfrm>
            <a:off x="6804000" y="1916280"/>
            <a:ext cx="360360" cy="360360"/>
          </a:xfrm>
          <a:prstGeom prst="rightArrow">
            <a:avLst>
              <a:gd name="adj1" fmla="val 50000"/>
              <a:gd name="adj2" fmla="val 2498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42764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1"/>
          <p:cNvGrpSpPr/>
          <p:nvPr/>
        </p:nvGrpSpPr>
        <p:grpSpPr>
          <a:xfrm>
            <a:off x="7308720" y="981000"/>
            <a:ext cx="1835280" cy="2536920"/>
            <a:chOff x="7308720" y="981000"/>
            <a:chExt cx="1835280" cy="2536920"/>
          </a:xfrm>
        </p:grpSpPr>
        <p:pic>
          <p:nvPicPr>
            <p:cNvPr id="162" name="Picture 8" descr="图片12"/>
            <p:cNvPicPr/>
            <p:nvPr/>
          </p:nvPicPr>
          <p:blipFill>
            <a:blip r:embed="rId7"/>
            <a:stretch/>
          </p:blipFill>
          <p:spPr>
            <a:xfrm>
              <a:off x="7308720" y="981000"/>
              <a:ext cx="1835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6"/>
            <p:cNvSpPr/>
            <p:nvPr/>
          </p:nvSpPr>
          <p:spPr>
            <a:xfrm>
              <a:off x="7667640" y="299736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成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2411280" y="981000"/>
            <a:ext cx="1944720" cy="2520720"/>
            <a:chOff x="2411280" y="981000"/>
            <a:chExt cx="1944720" cy="2520720"/>
          </a:xfrm>
        </p:grpSpPr>
        <p:sp>
          <p:nvSpPr>
            <p:cNvPr id="165" name="Text Box 25"/>
            <p:cNvSpPr/>
            <p:nvPr/>
          </p:nvSpPr>
          <p:spPr>
            <a:xfrm>
              <a:off x="2987640" y="29811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发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7" descr="21231321"/>
            <p:cNvPicPr/>
            <p:nvPr/>
          </p:nvPicPr>
          <p:blipFill>
            <a:blip r:embed="rId8"/>
            <a:stretch/>
          </p:blipFill>
          <p:spPr>
            <a:xfrm>
              <a:off x="2411280" y="981000"/>
              <a:ext cx="1944720" cy="2033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475080" y="62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大树一生的生长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-109440" y="5300640"/>
            <a:ext cx="92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发芽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幼苗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成熟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衰老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枯萎          枯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939492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324000" y="1890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比一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73080" y="357336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大树与向日葵一生的相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971640" y="40622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它们都有经历发芽、幼苗、成熟、枯死四个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71280" y="479736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大树与向日葵一生的不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971640" y="530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寿命的长短不同，大树的寿命长，向日葵的寿命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806480" y="595008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（看</a:t>
            </a:r>
            <a:r>
              <a:rPr b="1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19</a:t>
            </a: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页“植物的寿命有长有短”看完后说说你有什么体会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9"/>
          <p:cNvGrpSpPr/>
          <p:nvPr/>
        </p:nvGrpSpPr>
        <p:grpSpPr>
          <a:xfrm>
            <a:off x="0" y="907560"/>
            <a:ext cx="4643280" cy="2521080"/>
            <a:chOff x="0" y="907560"/>
            <a:chExt cx="4643280" cy="2521080"/>
          </a:xfrm>
        </p:grpSpPr>
        <p:pic>
          <p:nvPicPr>
            <p:cNvPr id="177" name="Picture 10" descr="图片3"/>
            <p:cNvPicPr/>
            <p:nvPr/>
          </p:nvPicPr>
          <p:blipFill>
            <a:blip r:embed="rId1"/>
            <a:stretch/>
          </p:blipFill>
          <p:spPr>
            <a:xfrm>
              <a:off x="1183320" y="907920"/>
              <a:ext cx="12538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2" descr="图片12"/>
            <p:cNvPicPr/>
            <p:nvPr/>
          </p:nvPicPr>
          <p:blipFill>
            <a:blip r:embed="rId2"/>
            <a:stretch/>
          </p:blipFill>
          <p:spPr>
            <a:xfrm>
              <a:off x="3552120" y="907920"/>
              <a:ext cx="10911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图片15"/>
            <p:cNvPicPr/>
            <p:nvPr/>
          </p:nvPicPr>
          <p:blipFill>
            <a:blip r:embed="rId3"/>
            <a:stretch/>
          </p:blipFill>
          <p:spPr>
            <a:xfrm>
              <a:off x="0" y="2145960"/>
              <a:ext cx="118332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" descr="1273728538"/>
            <p:cNvPicPr/>
            <p:nvPr/>
          </p:nvPicPr>
          <p:blipFill>
            <a:blip r:embed="rId4"/>
            <a:stretch/>
          </p:blipFill>
          <p:spPr>
            <a:xfrm rot="16200000">
              <a:off x="-40680" y="948600"/>
              <a:ext cx="126540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8" descr="图片7"/>
            <p:cNvPicPr/>
            <p:nvPr/>
          </p:nvPicPr>
          <p:blipFill>
            <a:blip r:embed="rId5"/>
            <a:stretch/>
          </p:blipFill>
          <p:spPr>
            <a:xfrm>
              <a:off x="2437200" y="907920"/>
              <a:ext cx="11145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图片18"/>
            <p:cNvPicPr/>
            <p:nvPr/>
          </p:nvPicPr>
          <p:blipFill>
            <a:blip r:embed="rId6"/>
            <a:stretch/>
          </p:blipFill>
          <p:spPr>
            <a:xfrm>
              <a:off x="1183320" y="2145960"/>
              <a:ext cx="125388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6" descr="deab41cf355eeb22f9dc612a"/>
            <p:cNvPicPr/>
            <p:nvPr/>
          </p:nvPicPr>
          <p:blipFill>
            <a:blip r:embed="rId7"/>
            <a:stretch/>
          </p:blipFill>
          <p:spPr>
            <a:xfrm>
              <a:off x="3552120" y="2145960"/>
              <a:ext cx="109008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图片20"/>
            <p:cNvPicPr/>
            <p:nvPr/>
          </p:nvPicPr>
          <p:blipFill>
            <a:blip r:embed="rId8"/>
            <a:stretch/>
          </p:blipFill>
          <p:spPr>
            <a:xfrm>
              <a:off x="2437200" y="2145960"/>
              <a:ext cx="1114560" cy="12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20" descr=""/>
          <p:cNvPicPr/>
          <p:nvPr/>
        </p:nvPicPr>
        <p:blipFill>
          <a:blip r:embed="rId9"/>
          <a:stretch/>
        </p:blipFill>
        <p:spPr>
          <a:xfrm>
            <a:off x="4643280" y="907920"/>
            <a:ext cx="4500720" cy="2521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11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春暖花开的季节，许多植物很快地进入生长期、发芽、长大、开花结果。秋天里，从开学到现在，好几个星期过去了，校园里和路边的植物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梧桐树枯黄"/>
          <p:cNvPicPr/>
          <p:nvPr/>
        </p:nvPicPr>
        <p:blipFill>
          <a:blip r:embed="rId1"/>
          <a:stretch/>
        </p:blipFill>
        <p:spPr>
          <a:xfrm>
            <a:off x="0" y="151596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12"/>
          <p:cNvGrpSpPr/>
          <p:nvPr/>
        </p:nvGrpSpPr>
        <p:grpSpPr>
          <a:xfrm>
            <a:off x="0" y="0"/>
            <a:ext cx="4716360" cy="4365720"/>
            <a:chOff x="0" y="0"/>
            <a:chExt cx="4716360" cy="4365720"/>
          </a:xfrm>
        </p:grpSpPr>
        <p:pic>
          <p:nvPicPr>
            <p:cNvPr id="187" name="Picture 4" descr="2aa4c6c3fcc1fcd818e8ba436b4ce6c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1636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6"/>
            <p:cNvSpPr/>
            <p:nvPr/>
          </p:nvSpPr>
          <p:spPr>
            <a:xfrm>
              <a:off x="0" y="2421000"/>
              <a:ext cx="2411280" cy="1871640"/>
            </a:xfrm>
            <a:prstGeom prst="cloudCallout">
              <a:avLst>
                <a:gd name="adj1" fmla="val 63430"/>
                <a:gd name="adj2" fmla="val -91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  <a:ea typeface="微软雅黑"/>
                </a:rPr>
                <a:t>这是南山古柏，是一棵千年老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4716360" y="0"/>
            <a:ext cx="4427640" cy="4365720"/>
            <a:chOff x="4716360" y="0"/>
            <a:chExt cx="4427640" cy="4365720"/>
          </a:xfrm>
        </p:grpSpPr>
        <p:pic>
          <p:nvPicPr>
            <p:cNvPr id="190" name="Picture 7" descr="2006112211582791016"/>
            <p:cNvPicPr/>
            <p:nvPr/>
          </p:nvPicPr>
          <p:blipFill>
            <a:blip r:embed="rId2"/>
            <a:stretch/>
          </p:blipFill>
          <p:spPr>
            <a:xfrm>
              <a:off x="4716360" y="0"/>
              <a:ext cx="442764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AutoShape 8"/>
            <p:cNvSpPr/>
            <p:nvPr/>
          </p:nvSpPr>
          <p:spPr>
            <a:xfrm>
              <a:off x="5003640" y="2708280"/>
              <a:ext cx="1944720" cy="1511280"/>
            </a:xfrm>
            <a:prstGeom prst="cloudCallout">
              <a:avLst>
                <a:gd name="adj1" fmla="val 57916"/>
                <a:gd name="adj2" fmla="val -493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  <a:ea typeface="微软雅黑"/>
                </a:rPr>
                <a:t>这是一棵枯死的胡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4"/>
          <p:cNvSpPr/>
          <p:nvPr/>
        </p:nvSpPr>
        <p:spPr>
          <a:xfrm>
            <a:off x="179280" y="4883040"/>
            <a:ext cx="88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每种植物都有几种生长不同的阶段，寿命有长也有短，但最终这些植物还是会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9280" y="260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在我们对植物进行了这些观察和研究之后，我们能够说出植物的哪些相同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340000" y="164772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微软雅黑"/>
              </a:rPr>
              <a:t>植物的相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2274840"/>
            <a:ext cx="67690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植物都生长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一定的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需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阳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空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生长发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，都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繁殖后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从生到死的生命过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有相同的基本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79280" y="9460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桉树。最高可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爷。树干的周径竟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长寿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龙血树。树龄大约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最小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花果。它的花要用显微镜才能看得清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重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西双版纳的铁力木。放在水中也不会浮于水面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轻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、广西等地的巴沙木。每立方米只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重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矮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矮柳。高度仅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粗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栗树。树身周长为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咸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龙江的木盐树。含盐量竟与普通食用盐相差无几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甜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槭树。含糖量可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硬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东北的铁桦树。比普通钢板还要硬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亮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魔树。晚上在树下可以看清楚小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楷书大小的字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毒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和海南的箭毒木。见血就要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耐火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松树和水瓶树。发生火灾，来年照样发新叶，正常开花结果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珍贵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杉和银杏。世界上唯有四川、湖北、湖南和广西等地才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长最慢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极林带的希特卡云杉。每百年的高度只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长最快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佚名树。一年就可以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冠最大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榕树。树冠下能容纳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左右乘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79280" y="189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微软雅黑"/>
              </a:rPr>
              <a:t>课题拓展：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你了解树木之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A4B-FEA7-4926-BA26-0B42C0E6BF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 rot="285600">
            <a:off x="2182680" y="258840"/>
            <a:ext cx="4896000" cy="31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休息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6372360" y="3175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银杏叶黄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732720" y="317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菊花开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9122044_145905600185_2"/>
          <p:cNvPicPr/>
          <p:nvPr/>
        </p:nvPicPr>
        <p:blipFill>
          <a:blip r:embed="rId2"/>
          <a:stretch/>
        </p:blipFill>
        <p:spPr>
          <a:xfrm>
            <a:off x="53964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169236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狗尾草枯黄"/>
          <p:cNvPicPr/>
          <p:nvPr/>
        </p:nvPicPr>
        <p:blipFill>
          <a:blip r:embed="rId2"/>
          <a:stretch/>
        </p:blipFill>
        <p:spPr>
          <a:xfrm>
            <a:off x="53964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083280" y="333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狗尾草枯萎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260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们周围生长着许多植物，我们已经认识了一些大树、狗尾草、水葫芦、金鱼藻等。你还知道哪些陆生植物和水生植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20720" y="2139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陆生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365800" y="2139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水生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53520" y="2924280"/>
            <a:ext cx="9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三叶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蒲公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车前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柳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银杏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樟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897160" y="2924280"/>
            <a:ext cx="9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芦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睡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花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浮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荷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仙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79280" y="76500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陆生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52276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泥土、养料、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79280" y="23446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水生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619160" y="2838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9280" y="392904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443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19160" y="4422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2885760" y="52293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（阅读</a:t>
            </a:r>
            <a:r>
              <a:rPr b="1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页的“植物需要阳光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199"/>
          <p:cNvSpPr/>
          <p:nvPr/>
        </p:nvSpPr>
        <p:spPr>
          <a:xfrm>
            <a:off x="1093680" y="26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144360" y="279360"/>
            <a:ext cx="89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来看看向日葵的一生经历了哪些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19300001338703133421580854358"/>
          <p:cNvPicPr/>
          <p:nvPr/>
        </p:nvPicPr>
        <p:blipFill>
          <a:blip r:embed="rId1"/>
          <a:stretch/>
        </p:blipFill>
        <p:spPr>
          <a:xfrm>
            <a:off x="179280" y="1103400"/>
            <a:ext cx="8785440" cy="5781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耕地播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273728538"/>
          <p:cNvPicPr/>
          <p:nvPr/>
        </p:nvPicPr>
        <p:blipFill>
          <a:blip r:embed="rId2"/>
          <a:stretch/>
        </p:blipFill>
        <p:spPr>
          <a:xfrm>
            <a:off x="3348000" y="0"/>
            <a:ext cx="4197240" cy="2806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5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