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684A-FE09-4A2E-A1E9-FF3CF89C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F3C7-16C6-4702-952D-2FB49ED9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D66A-435C-4E2B-A5EA-5649CA8A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8442-A6EF-4EED-B48A-1B8CC64C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19A7-93DC-457D-B828-0B530187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5E75-B4E7-4730-9A22-B8295CD5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1F20-2225-43B8-B917-BBB8688F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3BB9-B27B-42E7-B223-935E534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7338-0CAC-4AB1-A67F-8E39D87C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A025-E10A-487C-89B0-8C7C87D7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4DC6-BFBF-4021-976A-19470B8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84AE-9B09-4A7F-B535-C35BFD1A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2199-3C4B-4506-BBD3-9ADE7FE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C6CC-5331-498C-BF2E-CB6F728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294-C8BB-4E0E-B06F-6718669F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2D21-FD8F-4DB8-8E41-85A40F4C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DE3-4139-4DDF-8E8D-BF3A4C2B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EEF81-4D1F-4082-8D87-F699FCC2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68E3-6BF2-43C3-B0DE-C7F20EE1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91711-F802-4F8B-AB52-54C4D7DC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9DB7-9058-4428-8280-AEFE04C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57A4-7388-4C4F-B0D1-A3365A00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603A-DC2D-46A8-95A6-25EB67D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036F-6D97-4FF0-8171-D8063C38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3707-4507-4A43-AB04-877EE91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1F58-A6F5-4D2F-A591-DFF840C6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C391-F687-44AC-A8B7-E57DEC08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B5AB-ED6D-470C-97BC-742957B9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5D59-CA93-4AAB-A429-8F4472E4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E0D4-0429-48D0-9F77-B1F4DF24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B7F3-68D1-4C8E-A916-F4650326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21B0-359F-4FD3-8A95-D1659B8B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7EDF9-0B44-42AE-94A6-7A50E327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6584A-3E8B-4E0D-BFA4-24E608D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415F-A37B-410F-9881-B02A950B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EBBB-96AA-489E-8E0F-39FB9C65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F1D7-85B2-4A09-A652-D82231CEC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5996-214A-4AF7-8FD7-2780D9571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F4D-E359-4996-82E6-9636BDBDFA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upian.hudong.com/s/&#25195;&#25551;&#38567;&#36947;&#26174;&#24494;&#38236;/xgtupian/1/3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tupian.hudong.com/a4_57_06_01300000308005122971062591573_jpg.html" TargetMode="External"/><Relationship Id="rId4" Type="http://schemas.openxmlformats.org/officeDocument/2006/relationships/hyperlink" Target="http://tupian.hudong.com/a4_57_06_01300000308005122971062591573_jpg.html" TargetMode="External"/><Relationship Id="rId5" Type="http://schemas.openxmlformats.org/officeDocument/2006/relationships/hyperlink" Target="http://www.hudong.com/wiki/&#25195;&#25551;" TargetMode="External"/><Relationship Id="rId6" Type="http://schemas.openxmlformats.org/officeDocument/2006/relationships/hyperlink" Target="http://www.hudong.com/wiki/&#33521;&#25991;" TargetMode="External"/><Relationship Id="rId7" Type="http://schemas.openxmlformats.org/officeDocument/2006/relationships/hyperlink" Target="http://www.hudong.com/wiki/&#25195;&#25551;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89000" y="2133720"/>
            <a:ext cx="6019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怎样放得更大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3988"/>
                </a:moveTo>
                <a:lnTo>
                  <a:pt x="17806" y="10994"/>
                </a:lnTo>
                <a:lnTo>
                  <a:pt x="3794" y="18001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5086440" y="855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版六年级科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1130400" y="3573360"/>
            <a:ext cx="3512880" cy="21369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6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3090960" cy="213696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50920" y="836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然后移开一个凸透镜，比较一下两次看到的物体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复几次，看看有什么发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未标题-4"/>
          <p:cNvPicPr/>
          <p:nvPr/>
        </p:nvPicPr>
        <p:blipFill>
          <a:blip r:embed="rId1"/>
          <a:stretch/>
        </p:blipFill>
        <p:spPr>
          <a:xfrm>
            <a:off x="2411280" y="2852640"/>
            <a:ext cx="388800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下移动调整两个凸透镜之间的距离，直到找到物体最清楚的图像，用</a:t>
            </a:r>
            <a:r>
              <a:rPr b="0" lang="zh-CN" sz="3200" spc="-1" strike="noStrike">
                <a:solidFill>
                  <a:srgbClr val="9999cc"/>
                </a:solidFill>
                <a:latin typeface="Arial"/>
              </a:rPr>
              <a:t>学具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9999cc"/>
                </a:solidFill>
                <a:latin typeface="Arial"/>
              </a:rPr>
              <a:t>塑料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两个透镜固定下来，一个简易的显微镜就做好了。试试看，物体的图像是不是被放得更大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未标题-5"/>
          <p:cNvPicPr/>
          <p:nvPr/>
        </p:nvPicPr>
        <p:blipFill>
          <a:blip r:embed="rId1"/>
          <a:stretch/>
        </p:blipFill>
        <p:spPr>
          <a:xfrm>
            <a:off x="4140360" y="2924280"/>
            <a:ext cx="3404880" cy="37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世纪，人们发现把两个凸透镜组合起来明显提高了放大能力。这是因为一个凸透镜把另外一个凸透镜成的像进一步放大了。这就是早期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个了不起的发明，它使人类的视野一下子拓宽了许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3964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自制的显微镜观察周围的物体，与放大镜比物体图像的放大倍数是不是增加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是不是又有了新发现？把我们的发现记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2050560"/>
            <a:ext cx="3970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苔看起来好像绿茸茸的“地毯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苔藓2"/>
          <p:cNvPicPr/>
          <p:nvPr/>
        </p:nvPicPr>
        <p:blipFill>
          <a:blip r:embed="rId1"/>
          <a:stretch/>
        </p:blipFill>
        <p:spPr>
          <a:xfrm>
            <a:off x="4643280" y="907920"/>
            <a:ext cx="3765600" cy="56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苔藓"/>
          <p:cNvPicPr/>
          <p:nvPr/>
        </p:nvPicPr>
        <p:blipFill>
          <a:blip r:embed="rId1"/>
          <a:stretch/>
        </p:blipFill>
        <p:spPr>
          <a:xfrm>
            <a:off x="1042920" y="765000"/>
            <a:ext cx="5761080" cy="4608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395280" y="558972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显微镜下看，简直就像是一片丛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560" y="3933360"/>
            <a:ext cx="28810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肉眼看到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未标题-8"/>
          <p:cNvPicPr/>
          <p:nvPr/>
        </p:nvPicPr>
        <p:blipFill>
          <a:blip r:embed="rId1"/>
          <a:stretch/>
        </p:blipFill>
        <p:spPr>
          <a:xfrm>
            <a:off x="395280" y="1617840"/>
            <a:ext cx="2521080" cy="193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未标题-9"/>
          <p:cNvPicPr/>
          <p:nvPr/>
        </p:nvPicPr>
        <p:blipFill>
          <a:blip r:embed="rId2"/>
          <a:stretch/>
        </p:blipFill>
        <p:spPr>
          <a:xfrm>
            <a:off x="3276720" y="165744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未标题-10"/>
          <p:cNvPicPr/>
          <p:nvPr/>
        </p:nvPicPr>
        <p:blipFill>
          <a:blip r:embed="rId3"/>
          <a:stretch/>
        </p:blipFill>
        <p:spPr>
          <a:xfrm>
            <a:off x="6084720" y="1700280"/>
            <a:ext cx="2679840" cy="20016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3203640" y="4005360"/>
            <a:ext cx="2881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下看到的花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940360" y="4076640"/>
            <a:ext cx="2881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下看到的花粉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8199"/>
          <p:cNvSpPr/>
          <p:nvPr/>
        </p:nvSpPr>
        <p:spPr>
          <a:xfrm>
            <a:off x="1281240" y="874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花粉"/>
          <p:cNvPicPr/>
          <p:nvPr/>
        </p:nvPicPr>
        <p:blipFill>
          <a:blip r:embed="rId1"/>
          <a:stretch/>
        </p:blipFill>
        <p:spPr>
          <a:xfrm>
            <a:off x="1116000" y="907920"/>
            <a:ext cx="5400720" cy="4776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47640" y="5877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下看到的花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11280" y="5229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爵床的花粉。爵床还被称为小青草、孩儿草、野万年青、节节寒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花粉4"/>
          <p:cNvPicPr/>
          <p:nvPr/>
        </p:nvPicPr>
        <p:blipFill>
          <a:blip r:embed="rId1"/>
          <a:stretch/>
        </p:blipFill>
        <p:spPr>
          <a:xfrm>
            <a:off x="1547640" y="1413000"/>
            <a:ext cx="5761080" cy="3544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子显微镜下的花粉颗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79280" y="5516640"/>
            <a:ext cx="89647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凤梨科植物大铁兰的花粉表面皱褶，这种构造使得它能够干燥时收缩，潮湿时膨胀，而不必破坏受精过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花粉5"/>
          <p:cNvPicPr/>
          <p:nvPr/>
        </p:nvPicPr>
        <p:blipFill>
          <a:blip r:embed="rId1"/>
          <a:stretch/>
        </p:blipFill>
        <p:spPr>
          <a:xfrm>
            <a:off x="1258920" y="1484280"/>
            <a:ext cx="6335640" cy="3768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84360" y="1341360"/>
            <a:ext cx="7775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两个凸透镜组合起来可以使物体的图像放得更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显微镜的发明拓宽了观察领域，显微镜是人类认识微小世界的重要观察工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了解列文虎克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掌握显微镜的正确使用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537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勿忘我花瓣中的花粉颗粒。这些颗粒的直径只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0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毫米，属于最小的那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花粉6"/>
          <p:cNvPicPr/>
          <p:nvPr/>
        </p:nvPicPr>
        <p:blipFill>
          <a:blip r:embed="rId1"/>
          <a:stretch/>
        </p:blipFill>
        <p:spPr>
          <a:xfrm>
            <a:off x="755640" y="981000"/>
            <a:ext cx="741528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544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浮莲这种植物随处可见，需经过风的传递和借助昆虫的力量才能完成授粉和繁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水浮莲的花粉"/>
          <p:cNvPicPr/>
          <p:nvPr/>
        </p:nvPicPr>
        <p:blipFill>
          <a:blip r:embed="rId1"/>
          <a:stretch/>
        </p:blipFill>
        <p:spPr>
          <a:xfrm>
            <a:off x="1692360" y="692280"/>
            <a:ext cx="525600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显微镜下看到的花粉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显微镜下看到的花粉管"/>
          <p:cNvPicPr/>
          <p:nvPr/>
        </p:nvPicPr>
        <p:blipFill>
          <a:blip r:embed="rId1"/>
          <a:stretch/>
        </p:blipFill>
        <p:spPr>
          <a:xfrm>
            <a:off x="1547640" y="1916280"/>
            <a:ext cx="5616720" cy="44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612720" y="8366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80720"/>
            <a:ext cx="584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列文虎克发现微生物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未标题-11"/>
          <p:cNvPicPr/>
          <p:nvPr/>
        </p:nvPicPr>
        <p:blipFill>
          <a:blip r:embed="rId1"/>
          <a:stretch/>
        </p:blipFill>
        <p:spPr>
          <a:xfrm>
            <a:off x="6516720" y="1125360"/>
            <a:ext cx="19908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显微镜的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964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的发明，是人类认识世界的一大飞跃，把人类带入了一个崭新的微观世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列文虎克显微镜"/>
          <p:cNvPicPr/>
          <p:nvPr/>
        </p:nvPicPr>
        <p:blipFill>
          <a:blip r:embed="rId1"/>
          <a:stretch/>
        </p:blipFill>
        <p:spPr>
          <a:xfrm>
            <a:off x="755640" y="3429000"/>
            <a:ext cx="3192480" cy="239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罗伯特胡克显微镜"/>
          <p:cNvPicPr/>
          <p:nvPr/>
        </p:nvPicPr>
        <p:blipFill>
          <a:blip r:embed="rId2"/>
          <a:stretch/>
        </p:blipFill>
        <p:spPr>
          <a:xfrm>
            <a:off x="4859280" y="3213000"/>
            <a:ext cx="2933640" cy="275760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8199"/>
          <p:cNvSpPr/>
          <p:nvPr/>
        </p:nvSpPr>
        <p:spPr>
          <a:xfrm>
            <a:off x="1176480" y="457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电子显微镜"/>
          <p:cNvPicPr/>
          <p:nvPr/>
        </p:nvPicPr>
        <p:blipFill>
          <a:blip r:embed="rId1"/>
          <a:stretch/>
        </p:blipFill>
        <p:spPr>
          <a:xfrm>
            <a:off x="250920" y="1989000"/>
            <a:ext cx="3160440" cy="421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子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未标题-12"/>
          <p:cNvPicPr/>
          <p:nvPr/>
        </p:nvPicPr>
        <p:blipFill>
          <a:blip r:embed="rId2"/>
          <a:stretch/>
        </p:blipFill>
        <p:spPr>
          <a:xfrm>
            <a:off x="3708360" y="2133720"/>
            <a:ext cx="5000760" cy="40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未标题-13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681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SARS病毒"/>
          <p:cNvPicPr/>
          <p:nvPr/>
        </p:nvPicPr>
        <p:blipFill>
          <a:blip r:embed="rId2"/>
          <a:stretch/>
        </p:blipFill>
        <p:spPr>
          <a:xfrm>
            <a:off x="4572000" y="2708280"/>
            <a:ext cx="4248000" cy="25210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病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112-EAED-488B-A4BB-6968790653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93560" y="148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看到更小的物体，人们又研制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电子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扫描隧道显微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电子显微镜可把物体放大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万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11280" y="4508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是人类认识微小世界的重要观察工具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做一个简易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比较单个凸透镜与两个调整好焦距的凸透镜之间的效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制简易显微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显微镜是怎么显著提高放大物体的能力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因为显微镜中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“一个凸透镜把另外一个凸透镜成的像进一步放大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自制简易显微镜观察周围的物体，与放大镜比有什么新发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Arial"/>
              </a:rPr>
              <a:t>何兰生物学家列文虎克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列文虎克发明的显微镜"/>
          <p:cNvPicPr/>
          <p:nvPr/>
        </p:nvPicPr>
        <p:blipFill>
          <a:blip r:embed="rId1"/>
          <a:stretch/>
        </p:blipFill>
        <p:spPr>
          <a:xfrm>
            <a:off x="3419640" y="2637000"/>
            <a:ext cx="5400360" cy="3617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200511311252"/>
          <p:cNvPicPr/>
          <p:nvPr/>
        </p:nvPicPr>
        <p:blipFill>
          <a:blip r:embed="rId2"/>
          <a:stretch/>
        </p:blipFill>
        <p:spPr>
          <a:xfrm>
            <a:off x="324000" y="2565360"/>
            <a:ext cx="2735280" cy="367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2005113112526"/>
          <p:cNvPicPr/>
          <p:nvPr/>
        </p:nvPicPr>
        <p:blipFill>
          <a:blip r:embed="rId3"/>
          <a:stretch/>
        </p:blipFill>
        <p:spPr>
          <a:xfrm>
            <a:off x="6084720" y="981000"/>
            <a:ext cx="2381400" cy="1238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/>
          <p:cNvSpPr/>
          <p:nvPr/>
        </p:nvSpPr>
        <p:spPr>
          <a:xfrm>
            <a:off x="179280" y="981000"/>
            <a:ext cx="554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列文虎克和他的显微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>
            <a:hlinkClick r:id="" action="ppaction://hlinkshowjump?jump=previousslide"/>
          </p:cNvPr>
          <p:cNvSpPr/>
          <p:nvPr/>
        </p:nvSpPr>
        <p:spPr>
          <a:xfrm>
            <a:off x="7885080" y="6381720"/>
            <a:ext cx="538200" cy="476280"/>
          </a:xfrm>
          <a:custGeom>
            <a:avLst/>
            <a:gdLst>
              <a:gd name="textAreaLeft" fmla="*/ 30600 w 538200"/>
              <a:gd name="textAreaRight" fmla="*/ 507600 w 5382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06" h="21600">
                <a:moveTo>
                  <a:pt x="0" y="0"/>
                </a:moveTo>
                <a:lnTo>
                  <a:pt x="24406" y="0"/>
                </a:lnTo>
                <a:lnTo>
                  <a:pt x="24406" y="21600"/>
                </a:lnTo>
                <a:lnTo>
                  <a:pt x="0" y="21600"/>
                </a:lnTo>
                <a:close/>
              </a:path>
              <a:path fill="lightenLess" w="24406" h="21600">
                <a:moveTo>
                  <a:pt x="0" y="0"/>
                </a:moveTo>
                <a:lnTo>
                  <a:pt x="24406" y="0"/>
                </a:lnTo>
                <a:lnTo>
                  <a:pt x="23006" y="1400"/>
                </a:lnTo>
                <a:lnTo>
                  <a:pt x="1400" y="1400"/>
                </a:lnTo>
                <a:close/>
              </a:path>
              <a:path fill="darken" w="24406" h="21600">
                <a:moveTo>
                  <a:pt x="24406" y="0"/>
                </a:moveTo>
                <a:lnTo>
                  <a:pt x="24406" y="21600"/>
                </a:lnTo>
                <a:lnTo>
                  <a:pt x="23006" y="20200"/>
                </a:lnTo>
                <a:lnTo>
                  <a:pt x="23006" y="1400"/>
                </a:lnTo>
                <a:close/>
              </a:path>
              <a:path fill="darkenLess" w="24406" h="21600">
                <a:moveTo>
                  <a:pt x="244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06" y="20200"/>
                </a:lnTo>
                <a:close/>
              </a:path>
              <a:path fill="lighten" w="244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06" h="21600">
                <a:moveTo>
                  <a:pt x="5197" y="10800"/>
                </a:moveTo>
                <a:lnTo>
                  <a:pt x="19210" y="3794"/>
                </a:lnTo>
                <a:lnTo>
                  <a:pt x="19210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2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显微镜的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Arial"/>
              </a:rPr>
              <a:t>显微镜的发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显微镜（生物显微镜的构造与使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141720"/>
            <a:ext cx="18730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显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5651640" y="3141720"/>
            <a:ext cx="266364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扫描隧道显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3794" y="11024"/>
                </a:moveTo>
                <a:lnTo>
                  <a:pt x="17806" y="4017"/>
                </a:lnTo>
                <a:lnTo>
                  <a:pt x="17806" y="1803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611280" y="3068640"/>
            <a:ext cx="2016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学显微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2700360" y="3141720"/>
            <a:ext cx="431640" cy="70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148360" y="3068640"/>
            <a:ext cx="431640" cy="84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4">
            <a:hlinkClick r:id="" action="ppaction://hlinkshowjump?jump=nextslide"/>
          </p:cNvPr>
          <p:cNvSpPr/>
          <p:nvPr/>
        </p:nvSpPr>
        <p:spPr>
          <a:xfrm>
            <a:off x="8675640" y="6308640"/>
            <a:ext cx="468360" cy="54936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333">
                <a:moveTo>
                  <a:pt x="0" y="0"/>
                </a:moveTo>
                <a:lnTo>
                  <a:pt x="21600" y="0"/>
                </a:lnTo>
                <a:lnTo>
                  <a:pt x="21600" y="25333"/>
                </a:lnTo>
                <a:lnTo>
                  <a:pt x="0" y="25333"/>
                </a:lnTo>
                <a:close/>
              </a:path>
              <a:path fill="lightenLess" w="21600" h="253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33">
                <a:moveTo>
                  <a:pt x="21600" y="0"/>
                </a:moveTo>
                <a:lnTo>
                  <a:pt x="21600" y="25333"/>
                </a:lnTo>
                <a:lnTo>
                  <a:pt x="20200" y="23933"/>
                </a:lnTo>
                <a:lnTo>
                  <a:pt x="20200" y="1400"/>
                </a:lnTo>
                <a:close/>
              </a:path>
              <a:path fill="darkenLess" w="21600" h="25333">
                <a:moveTo>
                  <a:pt x="21600" y="25333"/>
                </a:moveTo>
                <a:lnTo>
                  <a:pt x="0" y="25333"/>
                </a:lnTo>
                <a:lnTo>
                  <a:pt x="1400" y="23933"/>
                </a:lnTo>
                <a:lnTo>
                  <a:pt x="20200" y="23933"/>
                </a:lnTo>
                <a:close/>
              </a:path>
              <a:path fill="lighten" w="21600" h="25333">
                <a:moveTo>
                  <a:pt x="0" y="253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33"/>
                </a:lnTo>
                <a:close/>
              </a:path>
              <a:path fill="darken" w="21600" h="25333">
                <a:moveTo>
                  <a:pt x="3794" y="5660"/>
                </a:moveTo>
                <a:lnTo>
                  <a:pt x="17806" y="12666"/>
                </a:lnTo>
                <a:lnTo>
                  <a:pt x="3794" y="1967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（图）扫描隧道显微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30240"/>
            <a:ext cx="6286680" cy="5027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2268360" y="620640"/>
            <a:ext cx="46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扫描隧道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372360" y="2464560"/>
            <a:ext cx="237636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1880" rIns="0" tIns="71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  </a:t>
            </a:r>
            <a:r>
              <a:rPr b="0" lang="en-US" sz="9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 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 </a:t>
            </a:r>
            <a:r>
              <a:rPr b="0" lang="zh-CN" sz="2800" spc="-1" strike="noStrike" u="sng">
                <a:solidFill>
                  <a:srgbClr val="666699"/>
                </a:solidFill>
                <a:uFillTx/>
                <a:latin typeface="Arial"/>
                <a:ea typeface="lucida grande"/>
                <a:hlinkClick r:id="rId5"/>
              </a:rPr>
              <a:t>扫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隧道显微镜的</a:t>
            </a:r>
            <a:r>
              <a:rPr b="0" lang="zh-CN" sz="2800" spc="-1" strike="noStrike" u="sng">
                <a:solidFill>
                  <a:srgbClr val="666699"/>
                </a:solidFill>
                <a:uFillTx/>
                <a:latin typeface="Arial"/>
                <a:ea typeface="lucida grande"/>
                <a:hlinkClick r:id="rId6"/>
              </a:rPr>
              <a:t>英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缩写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它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代初期出现的一种新型表面分析工具。其基本原理是基于量子力学的隧道效应和三维扫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en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32040" y="195588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10">
            <a:hlinkClick r:id="" action="ppaction://hlinkshowjump?jump=previousslide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确使用显微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步骤的记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79640" y="1773360"/>
            <a:ext cx="5545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放、二转、三反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四）粗调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筒载片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调螺旋慢慢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六）通过目镜往下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调螺旋慢慢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至看清该标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七）慢慢移动载玻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整个标本全看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403280" y="1197000"/>
            <a:ext cx="5400720" cy="5400720"/>
          </a:xfrm>
          <a:prstGeom prst="rect">
            <a:avLst/>
          </a:prstGeom>
          <a:noFill/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466560" cy="54936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49360"/>
              <a:gd name="textAreaBottom" fmla="*/ 519120 h 549360"/>
            </a:gdLst>
            <a:ahLst/>
            <a:rect l="textAreaLeft" t="textAreaTop" r="textAreaRight" b="textAreaBottom"/>
            <a:pathLst>
              <a:path w="21600" h="25430">
                <a:moveTo>
                  <a:pt x="0" y="0"/>
                </a:moveTo>
                <a:lnTo>
                  <a:pt x="21600" y="0"/>
                </a:lnTo>
                <a:lnTo>
                  <a:pt x="21600" y="25430"/>
                </a:lnTo>
                <a:lnTo>
                  <a:pt x="0" y="25430"/>
                </a:lnTo>
                <a:close/>
              </a:path>
              <a:path fill="lightenLess" w="21600" h="254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30">
                <a:moveTo>
                  <a:pt x="21600" y="0"/>
                </a:moveTo>
                <a:lnTo>
                  <a:pt x="21600" y="25430"/>
                </a:lnTo>
                <a:lnTo>
                  <a:pt x="20200" y="24030"/>
                </a:lnTo>
                <a:lnTo>
                  <a:pt x="20200" y="1400"/>
                </a:lnTo>
                <a:close/>
              </a:path>
              <a:path fill="darkenLess" w="21600" h="25430">
                <a:moveTo>
                  <a:pt x="21600" y="25430"/>
                </a:moveTo>
                <a:lnTo>
                  <a:pt x="0" y="25430"/>
                </a:lnTo>
                <a:lnTo>
                  <a:pt x="1400" y="24030"/>
                </a:lnTo>
                <a:lnTo>
                  <a:pt x="20200" y="24030"/>
                </a:lnTo>
                <a:close/>
              </a:path>
              <a:path fill="lighten" w="21600" h="25430">
                <a:moveTo>
                  <a:pt x="0" y="254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30"/>
                </a:lnTo>
                <a:close/>
              </a:path>
              <a:path fill="darken" w="21600" h="25430">
                <a:moveTo>
                  <a:pt x="3794" y="12715"/>
                </a:moveTo>
                <a:lnTo>
                  <a:pt x="17806" y="5709"/>
                </a:lnTo>
                <a:lnTo>
                  <a:pt x="17806" y="1972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>
            <a:hlinkClick r:id="" action="ppaction://hlinkshowjump?jump=firstslide"/>
          </p:cNvPr>
          <p:cNvSpPr/>
          <p:nvPr/>
        </p:nvSpPr>
        <p:spPr>
          <a:xfrm>
            <a:off x="8748720" y="6308640"/>
            <a:ext cx="395280" cy="54936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49360"/>
              <a:gd name="textAreaBottom" fmla="*/ 523800 h 549360"/>
            </a:gdLst>
            <a:ahLst/>
            <a:rect l="textAreaLeft" t="textAreaTop" r="textAreaRight" b="textAreaBottom"/>
            <a:pathLst>
              <a:path w="21600" h="30012">
                <a:moveTo>
                  <a:pt x="0" y="0"/>
                </a:moveTo>
                <a:lnTo>
                  <a:pt x="21600" y="0"/>
                </a:lnTo>
                <a:lnTo>
                  <a:pt x="21600" y="30012"/>
                </a:lnTo>
                <a:lnTo>
                  <a:pt x="0" y="30012"/>
                </a:lnTo>
                <a:close/>
              </a:path>
              <a:path fill="lightenLess" w="21600" h="30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012">
                <a:moveTo>
                  <a:pt x="21600" y="0"/>
                </a:moveTo>
                <a:lnTo>
                  <a:pt x="21600" y="30012"/>
                </a:lnTo>
                <a:lnTo>
                  <a:pt x="20200" y="28612"/>
                </a:lnTo>
                <a:lnTo>
                  <a:pt x="20200" y="1400"/>
                </a:lnTo>
                <a:close/>
              </a:path>
              <a:path fill="darkenLess" w="21600" h="30012">
                <a:moveTo>
                  <a:pt x="21600" y="30012"/>
                </a:moveTo>
                <a:lnTo>
                  <a:pt x="0" y="30012"/>
                </a:lnTo>
                <a:lnTo>
                  <a:pt x="1400" y="28612"/>
                </a:lnTo>
                <a:lnTo>
                  <a:pt x="20200" y="28612"/>
                </a:lnTo>
                <a:close/>
              </a:path>
              <a:path fill="lighten" w="21600" h="30012">
                <a:moveTo>
                  <a:pt x="0" y="30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8612"/>
                </a:lnTo>
                <a:close/>
              </a:path>
              <a:path fill="darken" w="21600" h="30012">
                <a:moveTo>
                  <a:pt x="10800" y="8043"/>
                </a:moveTo>
                <a:lnTo>
                  <a:pt x="13376" y="10654"/>
                </a:ln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lnTo>
                  <a:pt x="17763" y="15006"/>
                </a:lnTo>
                <a:lnTo>
                  <a:pt x="16109" y="15006"/>
                </a:lnTo>
                <a:lnTo>
                  <a:pt x="16109" y="22195"/>
                </a:lnTo>
                <a:lnTo>
                  <a:pt x="5491" y="22195"/>
                </a:lnTo>
                <a:lnTo>
                  <a:pt x="5491" y="15006"/>
                </a:lnTo>
                <a:lnTo>
                  <a:pt x="3837" y="15006"/>
                </a:lnTo>
                <a:close/>
              </a:path>
              <a:path fill="darkenLess" w="21600" h="30012">
                <a:moveTo>
                  <a:pt x="13376" y="10654"/>
                </a:moveTo>
                <a:lnTo>
                  <a:pt x="13376" y="8913"/>
                </a:lnTo>
                <a:lnTo>
                  <a:pt x="15152" y="8913"/>
                </a:lnTo>
                <a:lnTo>
                  <a:pt x="15152" y="12430"/>
                </a:lnTo>
                <a:close/>
              </a:path>
              <a:path fill="darkenLess" w="21600" h="30012">
                <a:moveTo>
                  <a:pt x="9877" y="18505"/>
                </a:moveTo>
                <a:lnTo>
                  <a:pt x="11723" y="18505"/>
                </a:lnTo>
                <a:lnTo>
                  <a:pt x="11723" y="22195"/>
                </a:lnTo>
                <a:lnTo>
                  <a:pt x="16109" y="22195"/>
                </a:lnTo>
                <a:lnTo>
                  <a:pt x="16109" y="15006"/>
                </a:lnTo>
                <a:lnTo>
                  <a:pt x="5491" y="15006"/>
                </a:lnTo>
                <a:lnTo>
                  <a:pt x="5491" y="22195"/>
                </a:lnTo>
                <a:lnTo>
                  <a:pt x="9877" y="2219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凸透镜的放大倍数是有限的，怎样才能把物体放得更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517c755ee731484b745aeb7"/>
          <p:cNvPicPr/>
          <p:nvPr/>
        </p:nvPicPr>
        <p:blipFill>
          <a:blip r:embed="rId1"/>
          <a:stretch/>
        </p:blipFill>
        <p:spPr>
          <a:xfrm>
            <a:off x="5867280" y="3141720"/>
            <a:ext cx="245448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92360" y="126792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个简易显微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3789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两个放大倍数不同的凸透镜，调整它们之间的距离来观察物体，直到看得最清楚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未标题-3"/>
          <p:cNvPicPr/>
          <p:nvPr/>
        </p:nvPicPr>
        <p:blipFill>
          <a:blip r:embed="rId1"/>
          <a:stretch/>
        </p:blipFill>
        <p:spPr>
          <a:xfrm>
            <a:off x="468360" y="76500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00:52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1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