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F78-63FB-406F-9C1D-CE024F05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8B5-0443-41BF-8924-50F6FDDF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A92-7C06-4283-8E49-6D3A1001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645-C454-45DA-9B25-67E672FA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9D58-4B0C-4C7F-ACB0-4F34151D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50C6-17C9-431B-9101-A2284D9B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6D72-8293-47AA-A320-FFC18112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BE5A-C77D-4C61-9D86-01AC4410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7669-5C45-4A14-8EB6-C5D8692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B9DB-E079-47A7-9A3A-2A8B1BF5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574A-2EB1-4CB8-AD7E-844473DA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DBD-9FC8-4381-A38C-C1FDE1DD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09E0-AEFD-4837-A601-6D4E0D13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A434-8E14-4070-B2D4-48CE5C80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39D8-7E10-40B2-A89E-231B78A4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23A9-8E35-45AE-B3B5-6E0E38D5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5264-C32B-4C76-92E7-7563FF43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84B1-BC2B-4149-A837-C1381541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D31E-B374-4F3E-80B3-E4348DCB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FAE1-1729-4B40-99E5-4EF67E5A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B19D-5C99-428B-B699-2FF0F2CB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7941-33CA-4107-B8B1-698A96AE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C15-600A-4C07-89D7-1AACD8C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D1E7-F5BC-4F2B-A136-A514F4FF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A5CF-B315-4758-BC53-33706CFD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BBFE-5665-482A-B87C-B1C2E5F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582F3-3F30-43D8-B5C2-21FA23B1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14A6-CD51-46D4-8A20-8F266B0F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4C89-0046-4089-9E04-A0BF2B0C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E2F3-1812-4F6A-8C06-B2E3DDD3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75A-7087-4ECA-8E88-F2BC2D7A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EA8-4B7A-4E40-A7EF-2BDC02BB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1DA-982A-4B4D-8CE8-7978AD54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150-B4CC-4CC5-ACE1-8C91551A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4F2-3943-4BB8-A654-8425D96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0C0-BA88-433E-AD98-1B3A9648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D486-9D27-47AA-B336-2F281C380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270A-CBAB-47E7-974E-2657EE1C0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3FC8-CB76-4A4B-A599-AC45BAABA3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1839960" y="981000"/>
            <a:ext cx="52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课  在承担责任中成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2725920" y="1908000"/>
            <a:ext cx="369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做一个负责任的公民</a:t>
            </a:r>
            <a:r>
              <a:rPr b="1" lang="en-US" sz="4000" spc="-1" strike="noStrike">
                <a:solidFill>
                  <a:srgbClr val="ff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1042920" y="2924280"/>
            <a:ext cx="700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承认错误  勇担过错</a:t>
            </a:r>
            <a:endParaRPr b="1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00280" y="5016600"/>
            <a:ext cx="76579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许苇承担了哪些责任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哪些责任是她被动承担的？哪些责任是她主动承担的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她怎样才能享受到承担责任的快乐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半透明条"/>
          <p:cNvPicPr/>
          <p:nvPr/>
        </p:nvPicPr>
        <p:blipFill>
          <a:blip r:embed="rId2"/>
          <a:stretch/>
        </p:blipFill>
        <p:spPr>
          <a:xfrm>
            <a:off x="304920" y="50760"/>
            <a:ext cx="3276360" cy="728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609480" y="177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活动：自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截图-许苇"/>
          <p:cNvPicPr/>
          <p:nvPr/>
        </p:nvPicPr>
        <p:blipFill>
          <a:blip r:embed="rId3"/>
          <a:stretch/>
        </p:blipFill>
        <p:spPr>
          <a:xfrm>
            <a:off x="2057400" y="1257480"/>
            <a:ext cx="5029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365120" y="2924280"/>
            <a:ext cx="63756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、自觉担责  享受快乐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半透明条"/>
          <p:cNvPicPr/>
          <p:nvPr/>
        </p:nvPicPr>
        <p:blipFill>
          <a:blip r:embed="rId2"/>
          <a:stretch/>
        </p:blipFill>
        <p:spPr>
          <a:xfrm>
            <a:off x="304920" y="50760"/>
            <a:ext cx="3276360" cy="728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609480" y="177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活动：学会反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666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自己的责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2057400"/>
          <a:ext cx="8534160" cy="3475080"/>
        </p:xfrm>
        <a:graphic>
          <a:graphicData uri="http://schemas.openxmlformats.org/drawingml/2006/table">
            <a:tbl>
              <a:tblPr/>
              <a:tblGrid>
                <a:gridCol w="1218960"/>
                <a:gridCol w="3886200"/>
                <a:gridCol w="3429000"/>
              </a:tblGrid>
              <a:tr h="6858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责    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我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学  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家  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班集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社  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F460-909D-42A0-9787-7897958F87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10666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自己的责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920" y="2057400"/>
          <a:ext cx="8534160" cy="3475080"/>
        </p:xfrm>
        <a:graphic>
          <a:graphicData uri="http://schemas.openxmlformats.org/drawingml/2006/table">
            <a:tbl>
              <a:tblPr/>
              <a:tblGrid>
                <a:gridCol w="1218960"/>
                <a:gridCol w="3886200"/>
                <a:gridCol w="3429000"/>
              </a:tblGrid>
              <a:tr h="685800"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责    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我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学  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认真学习，独立完成作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学习积极性、主动性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家  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尊敬长辈、孝敬父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主动承担子女的责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班集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积极完成值日等班级的事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集体荣誉感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社  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遵纪守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做一个合格的公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导入新课"/>
          <p:cNvPicPr/>
          <p:nvPr/>
        </p:nvPicPr>
        <p:blipFill>
          <a:blip r:embed="rId2"/>
          <a:stretch/>
        </p:blipFill>
        <p:spPr>
          <a:xfrm>
            <a:off x="291960" y="152280"/>
            <a:ext cx="2044800" cy="584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0"/>
          <p:cNvSpPr/>
          <p:nvPr/>
        </p:nvSpPr>
        <p:spPr>
          <a:xfrm>
            <a:off x="1066680" y="977760"/>
            <a:ext cx="65534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心理小测试：我是一个有责任感的人吗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（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来回答以下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个问题。）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520560" y="1955880"/>
            <a:ext cx="80773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做事总是非常认真，哪怕让人感觉有点过分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和别的小朋友约好一起玩，我总是准时赴约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做事一向善始善终，有头有尾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不论做什么事情，别人都很信任我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认为每一天自己都是进步和发展的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经常把事情拖到最后一刻才做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有时候会有放任自流的想法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专心致志地做一件事，如果时间持续很长，对我来说就很困难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需要很长时间的准备才能开始做一件事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常常会忘了需要我做的小事情。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419040" y="1447920"/>
            <a:ext cx="82422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习或者玩游戏，别人都很难和我步调一致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喜欢评论和批评别人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别人以为我是一个懒散的人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只要我答应做某件事情，不管过程有多麻烦，或者有很多变故，我总会努力实践诺言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有时候做事情，我会想马马虎虎混过去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老实说，我比其他人都更守诺言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如果需要在早上很早起床，我会上好闹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参加任何选举，我都不在乎自己得到的票数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在街上，我不会随地乱扔垃圾，一定要找到垃圾箱才扔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有时候会装病，用来逃课或者逃避玩讨厌的游戏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749160" y="182880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注意：选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得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，选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得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总分为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：你是一个非常有责任感的人，你行事谨慎、懂礼貌、为人诚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总分为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：大多数情况下，你很有责任感，但有时没有考虑得很周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总分为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以下：是一个完全不负责任的人，会造成人际关系的紧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187280" y="2924280"/>
            <a:ext cx="66247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、慎重许诺  履行诺言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73200" y="505476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如果商场送货工不能按时送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幼圆"/>
              </a:rPr>
              <a:t>……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如果商场送货工准时把电视机送到而刘汀家没人等候，那么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幼圆"/>
              </a:rPr>
              <a:t>……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有没有两全其美的办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截图-许诺"/>
          <p:cNvPicPr/>
          <p:nvPr/>
        </p:nvPicPr>
        <p:blipFill>
          <a:blip r:embed="rId2"/>
          <a:stretch/>
        </p:blipFill>
        <p:spPr>
          <a:xfrm>
            <a:off x="2463840" y="1752480"/>
            <a:ext cx="4241880" cy="2892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半透明条"/>
          <p:cNvPicPr/>
          <p:nvPr/>
        </p:nvPicPr>
        <p:blipFill>
          <a:blip r:embed="rId3"/>
          <a:stretch/>
        </p:blipFill>
        <p:spPr>
          <a:xfrm>
            <a:off x="304920" y="1003320"/>
            <a:ext cx="3276360" cy="728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609480" y="113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一：请你帮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新课教学"/>
          <p:cNvPicPr/>
          <p:nvPr/>
        </p:nvPicPr>
        <p:blipFill>
          <a:blip r:embed="rId4"/>
          <a:stretch/>
        </p:blipFill>
        <p:spPr>
          <a:xfrm>
            <a:off x="279360" y="152280"/>
            <a:ext cx="2044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851040" y="1447920"/>
            <a:ext cx="7543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我们要慎重许诺，一旦许诺，坚决履行诺言，做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言必信，行必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，这是对自己和他人负责任的表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23960" y="293364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生日常行为规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定：诚实守信，言行一致，答应他人的事要做到，做不到时表示歉意，借他人钱物要及时归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9640" y="4724280"/>
            <a:ext cx="86043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她为什么陷入矛盾之中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如果你是她，你该怎么办呢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你是如何对待自己的错误的？是勇敢认错，还是逃避责任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你有过勇敢认错的经历吗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截图-小玉"/>
          <p:cNvPicPr/>
          <p:nvPr/>
        </p:nvPicPr>
        <p:blipFill>
          <a:blip r:embed="rId2"/>
          <a:stretch/>
        </p:blipFill>
        <p:spPr>
          <a:xfrm>
            <a:off x="1905120" y="1066680"/>
            <a:ext cx="5333760" cy="326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半透明条"/>
          <p:cNvPicPr/>
          <p:nvPr/>
        </p:nvPicPr>
        <p:blipFill>
          <a:blip r:embed="rId3"/>
          <a:stretch/>
        </p:blipFill>
        <p:spPr>
          <a:xfrm>
            <a:off x="304920" y="50760"/>
            <a:ext cx="3276360" cy="728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609480" y="177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活动二：各抒己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74720" y="1447920"/>
            <a:ext cx="7696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当我们做错事时，承认错误是一种负责任的表现，而承担错误所造成的后果则更能考验我们的勇气和道德修养。错了，就要勇于承认，并承担相应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23960" y="358128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生日常行为规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定：不说谎，不骗人，不弄虚作假，知错就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3:17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20Z</dcterms:modified>
  <cp:revision>5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