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DBA-D20E-48E6-895B-458ECCFA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94A-F170-4A1D-8CD4-7C0731F8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279-0BAD-45CE-AE00-1B204C48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7B7-CAEB-4CAF-ACE3-63B965D2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6A36-AAEB-45D7-98E0-D49D10EE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1454-B8C7-4E7B-A885-66433A0B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2616-4DC7-44AD-A1FF-B10D0D51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1F61-44DF-47D9-B15B-895F1E60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19F8-2070-461C-96EE-F2EE8FD9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FFBB-E1EF-4CC8-BE81-92A597C8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60F4-1BEE-4845-9A55-F770A279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722-175A-4FF6-AEE0-70C66B1D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CDC1-0E66-4ADA-8E2D-3F15989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1BD7-378F-485B-9F70-1AB2177A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1BC-B719-4544-BA8A-BAD9E267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EFDA-C68D-4FD9-8B04-052A0C21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6792-9879-46EE-9F59-29A6A319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16C7-3C73-44BC-9654-8E831AEC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D0E1-B207-4534-9DC0-CC835329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E771-599D-4EBB-AF4E-3072F0E4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D992C-CA88-46DC-BF3B-6A51FA5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FA57-6BD8-43C8-887F-47EBE87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F70-0AD7-4647-8B68-1408DED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D1BD-5EBA-486F-90A7-825B5C86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CA4A-2140-4046-B44B-BCE0215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EBF3-C379-488C-9EF8-3994259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F2028-7CA0-4C2F-BFBD-83F2F2A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C5368-DCA7-4EDB-B696-022F2002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B57B-50BD-486D-8313-FE2E96B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84428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80600"/>
            <a:ext cx="264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85107-6D4D-4417-B649-6B89BCDB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408-D7EF-487F-A378-6241779D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003-DE59-4466-ABF6-E3853613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43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CB1-9736-4FF1-91D8-C7574EB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CBF-E973-40F2-8BE7-C558D92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060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048-97B6-4AE9-8EE4-47FDDAE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44280"/>
            <a:ext cx="40158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0600"/>
            <a:ext cx="822960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DBE-BE8C-4A58-B4D1-CB63CBF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5F89-3692-4B44-8283-5A14BF07D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A4C6-70FB-472A-BC8B-39BE91B77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EACE-B549-4D47-938F-A193414B94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7920" y="1580760"/>
            <a:ext cx="7848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正义是人类良知的声音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h3"/>
          <p:cNvPicPr/>
          <p:nvPr/>
        </p:nvPicPr>
        <p:blipFill>
          <a:blip r:embed="rId2"/>
          <a:stretch/>
        </p:blipFill>
        <p:spPr>
          <a:xfrm>
            <a:off x="4343400" y="3000240"/>
            <a:ext cx="457200" cy="85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7048666_170419000000_2"/>
          <p:cNvPicPr/>
          <p:nvPr/>
        </p:nvPicPr>
        <p:blipFill>
          <a:blip r:embed="rId3"/>
          <a:stretch/>
        </p:blipFill>
        <p:spPr>
          <a:xfrm>
            <a:off x="1123920" y="2808360"/>
            <a:ext cx="6877080" cy="3257640"/>
          </a:xfrm>
          <a:prstGeom prst="rect">
            <a:avLst/>
          </a:prstGeom>
          <a:ln w="0">
            <a:noFill/>
          </a:ln>
        </p:spPr>
      </p:pic>
      <p:sp>
        <p:nvSpPr>
          <p:cNvPr id="126" name="矩形 1"/>
          <p:cNvSpPr/>
          <p:nvPr/>
        </p:nvSpPr>
        <p:spPr>
          <a:xfrm>
            <a:off x="2846520" y="946080"/>
            <a:ext cx="27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十课　我们维护正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6720" y="2289240"/>
            <a:ext cx="799164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正义对社会发展的促进作用：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p110-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a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保障人民的生命和财产安全，使人民得以生存和发展，推动社会的进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b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通过制度的调节避免严重的社会分化，以利于社会健康、持续发展，造福每一个社会成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c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、正义有利于增进人与人之间的沟通、理解，有利于社会的和谐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90160" y="1053720"/>
            <a:ext cx="6550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三、由人到众——促进整个社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4"/>
          <p:cNvSpPr/>
          <p:nvPr/>
        </p:nvSpPr>
        <p:spPr>
          <a:xfrm>
            <a:off x="61920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838080"/>
            <a:ext cx="55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III 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为正义而战——维护正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8191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836640"/>
            <a:ext cx="5340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一、修炼内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528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内功心法：做一个有正义感的人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p1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有正义感、为人正直，这是做人应该具有的优良品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合作探究：何为正义感——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对正义行为表现出赞赏和崇敬之情，对正义充满向往之情，乐于把正义的崇尚之情付诸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对非正义行为，则会产生不安、不满愤怒等情绪，乃至采取行动来维护正义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p114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8198"/>
          <p:cNvSpPr/>
          <p:nvPr/>
        </p:nvSpPr>
        <p:spPr>
          <a:xfrm>
            <a:off x="663480" y="1440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活动：举例古今中外有正义感的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富贵不能淫，贫贱不能移，威武不能屈，此之谓大丈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惶恐滩头说惶恐，零丁洋里叹零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人生自古谁无死，留取丹心照汗青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文天祥《过零丁洋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粉身碎骨浑不怕，留得清白在人间。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于谦《石灰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砍头不要紧，只要主义真；杀了夏明翰，自有后来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夏明翰《就义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大雪压青松，青松挺且直。要知松高洁，待到雪化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-------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陈毅《明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0000" y="764640"/>
            <a:ext cx="641844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新时期正义应该与时俱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践行党的群众路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党的好干部，人民的好公仆</a:t>
            </a:r>
            <a:r>
              <a:rPr b="0" lang="zh-CN" sz="2000" spc="-1" strike="noStrike">
                <a:solidFill>
                  <a:srgbClr val="ff0066"/>
                </a:solidFill>
                <a:latin typeface="华文细黑"/>
              </a:rPr>
              <a:t>——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焦裕禄、孔繁森、任长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大限度将焦裕禄精神转化为改善民生的根本动力。学习焦裕禄精神，就是要强化宗旨观念和公仆情怀，把群众呼声作为第一信号，把群众需求作为第一选择，把群众满意作为第一标准，尽可能将新增财力向困难群体、基层、民生保障薄弱环节倾斜，强力推进城东新区、教育城、医疗卫生城及市民服务中心建设，着力解决衣食住行、业教保医等民生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c305bae43d60f7658680b"/>
          <p:cNvPicPr/>
          <p:nvPr/>
        </p:nvPicPr>
        <p:blipFill>
          <a:blip r:embed="rId1"/>
          <a:stretch/>
        </p:blipFill>
        <p:spPr>
          <a:xfrm>
            <a:off x="684360" y="907920"/>
            <a:ext cx="8243640" cy="5762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bc305bae43d60f76586810"/>
          <p:cNvPicPr/>
          <p:nvPr/>
        </p:nvPicPr>
        <p:blipFill>
          <a:blip r:embed="rId2"/>
          <a:stretch/>
        </p:blipFill>
        <p:spPr>
          <a:xfrm>
            <a:off x="684360" y="907920"/>
            <a:ext cx="828036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597672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争做有正义感的人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---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如何做</a:t>
            </a: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84428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如果非正义的事情发生在自己身上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如果非正义的事情发生在他人身上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做一个有正义感的人，不仅要求我们明辨什么是正义行为，什么是非正义行为，更重要的是去感悟，以升华道德境界；去践行，以伸张正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、作为未成年人，既要有见义勇为的精神，又要做到见义巧为，尽量在不伤害自己的前提下，维护正义。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p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684360" y="1773360"/>
            <a:ext cx="6443640" cy="3081240"/>
            <a:chOff x="684360" y="1773360"/>
            <a:chExt cx="6443640" cy="3081240"/>
          </a:xfrm>
        </p:grpSpPr>
        <p:sp>
          <p:nvSpPr>
            <p:cNvPr id="169" name="Text Box 3"/>
            <p:cNvSpPr/>
            <p:nvPr/>
          </p:nvSpPr>
          <p:spPr>
            <a:xfrm>
              <a:off x="684360" y="3141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青少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4"/>
            <p:cNvSpPr/>
            <p:nvPr/>
          </p:nvSpPr>
          <p:spPr>
            <a:xfrm>
              <a:off x="2592360" y="2206080"/>
              <a:ext cx="360360" cy="26485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8760 h 2648520"/>
                <a:gd name="textAreaBottom" fmla="*/ 2579760 h 264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cap="sq" w="57240">
              <a:solidFill>
                <a:srgbClr val="f365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5"/>
            <p:cNvSpPr/>
            <p:nvPr/>
          </p:nvSpPr>
          <p:spPr>
            <a:xfrm>
              <a:off x="2952360" y="292572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敢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3024000" y="4147560"/>
              <a:ext cx="144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善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4319640" y="2133000"/>
              <a:ext cx="380520" cy="2718360"/>
            </a:xfrm>
            <a:custGeom>
              <a:avLst/>
              <a:gdLst>
                <a:gd name="textAreaLeft" fmla="*/ 0 w 380520"/>
                <a:gd name="textAreaRight" fmla="*/ 137520 w 380520"/>
                <a:gd name="textAreaTop" fmla="*/ 70560 h 2718360"/>
                <a:gd name="textAreaBottom" fmla="*/ 2647800 h 271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16200" y="10800"/>
                    <a:pt x="21600" y="10800"/>
                  </a:cubicBezTo>
                  <a:cubicBezTo>
                    <a:pt x="162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5400" y="21600"/>
                    <a:pt x="0" y="21600"/>
                  </a:cubicBezTo>
                </a:path>
              </a:pathLst>
            </a:custGeom>
            <a:noFill/>
            <a:ln cap="sq" w="57240">
              <a:solidFill>
                <a:srgbClr val="f365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751280" y="2493720"/>
              <a:ext cx="237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黑体"/>
                </a:rPr>
                <a:t>同一切非正义的行      为作斗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2879280" y="1773360"/>
              <a:ext cx="167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应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74760" y="-69840"/>
            <a:ext cx="9518400" cy="6964200"/>
            <a:chOff x="-374760" y="-69840"/>
            <a:chExt cx="9518400" cy="6964200"/>
          </a:xfrm>
        </p:grpSpPr>
        <p:grpSp>
          <p:nvGrpSpPr>
            <p:cNvPr id="177" name="Group 3"/>
            <p:cNvGrpSpPr/>
            <p:nvPr/>
          </p:nvGrpSpPr>
          <p:grpSpPr>
            <a:xfrm>
              <a:off x="-374760" y="-69840"/>
              <a:ext cx="9515520" cy="6964200"/>
              <a:chOff x="-374760" y="-69840"/>
              <a:chExt cx="9515520" cy="6964200"/>
            </a:xfrm>
          </p:grpSpPr>
          <p:pic>
            <p:nvPicPr>
              <p:cNvPr id="178" name="Picture 4" descr="报案1"/>
              <p:cNvPicPr/>
              <p:nvPr/>
            </p:nvPicPr>
            <p:blipFill>
              <a:blip r:embed="rId1"/>
              <a:stretch/>
            </p:blipFill>
            <p:spPr>
              <a:xfrm>
                <a:off x="-374760" y="-69840"/>
                <a:ext cx="9515520" cy="696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AutoShape 5"/>
              <p:cNvSpPr/>
              <p:nvPr/>
            </p:nvSpPr>
            <p:spPr>
              <a:xfrm>
                <a:off x="4497120" y="44280"/>
                <a:ext cx="2664000" cy="760680"/>
              </a:xfrm>
              <a:prstGeom prst="cloudCallout">
                <a:avLst>
                  <a:gd name="adj1" fmla="val -40120"/>
                  <a:gd name="adj2" fmla="val 123750"/>
                </a:avLst>
              </a:prstGeom>
              <a:solidFill>
                <a:srgbClr val="bbe0e3"/>
              </a:solidFill>
              <a:ln cap="sq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8080"/>
                    </a:solidFill>
                    <a:latin typeface="Times New Roman"/>
                    <a:ea typeface="华文行楷"/>
                  </a:rPr>
                  <a:t>借点钱花花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utoShape 6"/>
            <p:cNvSpPr/>
            <p:nvPr/>
          </p:nvSpPr>
          <p:spPr>
            <a:xfrm>
              <a:off x="7200720" y="5400"/>
              <a:ext cx="1942920" cy="1195560"/>
            </a:xfrm>
            <a:prstGeom prst="wedgeEllipseCallout">
              <a:avLst>
                <a:gd name="adj1" fmla="val 6162"/>
                <a:gd name="adj2" fmla="val 900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要不冲上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0160" y="1125000"/>
            <a:ext cx="640728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微软雅黑"/>
              </a:rPr>
              <a:t>二、建立防护网——正义的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9640" y="1846440"/>
            <a:ext cx="82296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如果没有规则和制度的支持，就难以实现公平。正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制度：以公开宣布的程序和规则组成的系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微软雅黑"/>
                <a:ea typeface="微软雅黑"/>
              </a:rPr>
              <a:t>制度的正义性在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它的程序与规则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不是为少数人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利益制定的，</a:t>
            </a:r>
            <a:r>
              <a:rPr b="0" lang="zh-CN" sz="3200" spc="-1" strike="noStrike">
                <a:solidFill>
                  <a:srgbClr val="ff0066"/>
                </a:solidFill>
                <a:latin typeface="微软雅黑"/>
                <a:ea typeface="微软雅黑"/>
              </a:rPr>
              <a:t>而是为维护所有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成员的利益制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个人既能从制度和规则的正常运行中受益，又要受到制度和规则的约束。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9-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351160"/>
            <a:ext cx="7489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正义的化身</a:t>
            </a: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           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0066"/>
                </a:solidFill>
                <a:latin typeface="微软雅黑"/>
              </a:rPr>
              <a:t>    ——我们维护正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20130405113956_AzLzd.thumb.600_0"/>
          <p:cNvPicPr/>
          <p:nvPr/>
        </p:nvPicPr>
        <p:blipFill>
          <a:blip r:embed="rId1"/>
          <a:stretch/>
        </p:blipFill>
        <p:spPr>
          <a:xfrm>
            <a:off x="5724360" y="836640"/>
            <a:ext cx="307692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24000" y="12700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正义制度的要求：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p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每一个人都必须遵守制度、规则和程序，没有人可以例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规则和程序反对歧视，不允许特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5280" y="170172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正义的制度对社会公平的促进作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1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当我们参与社会合作竞争的时候，正义的制度给予人们何公平合作的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支持和保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2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当我们遇到不公平的事情时，公平的获得也需要正义的制度作为</a:t>
            </a:r>
            <a:r>
              <a:rPr b="0" lang="zh-CN" sz="2800" spc="-1" strike="noStrike">
                <a:solidFill>
                  <a:srgbClr val="ff0066"/>
                </a:solidFill>
                <a:latin typeface="微软雅黑"/>
              </a:rPr>
              <a:t>支撑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3</a:t>
            </a: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、没有正义的制度就没有真正的公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微软雅黑"/>
              </a:rPr>
              <a:t>p111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260360" y="98100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微软雅黑"/>
              </a:rPr>
              <a:t>防护网的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EA7-25BE-4F1A-87AA-C4E3CF826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4248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我们应该如何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22766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遵守社会规则和程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就是维护正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我们要从小树立自觉遵守各项社会制度和规则为荣的意识，养成自觉遵守各项社会制度和规则的良好习惯，以实际行动维护正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9080" y="1413000"/>
            <a:ext cx="165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标明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4160" y="1487520"/>
            <a:ext cx="6694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情感、态度与价值观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对正义充满向往和追求，做有正义感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能力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具有分辨正义行为与非正义行为的认知能力，自觉维护正义的实际行动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知识目标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：理解正义与非正义的涵义，正义与社会公平的关系，正义与社会发展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9fb05d8_8522_47b6_a3c4_9492c6416ae8"/>
          <p:cNvPicPr/>
          <p:nvPr/>
        </p:nvPicPr>
        <p:blipFill>
          <a:blip r:embed="rId1"/>
          <a:stretch/>
        </p:blipFill>
        <p:spPr>
          <a:xfrm>
            <a:off x="8029440" y="765000"/>
            <a:ext cx="987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2050920" y="981000"/>
            <a:ext cx="439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微软雅黑"/>
                <a:ea typeface="微软雅黑"/>
              </a:rPr>
              <a:t>I</a:t>
            </a:r>
            <a:r>
              <a:rPr b="1" lang="zh-CN" sz="4800" spc="-1" strike="noStrike">
                <a:solidFill>
                  <a:srgbClr val="ff0066"/>
                </a:solidFill>
                <a:latin typeface="Arial Narrow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Arial Narrow"/>
                <a:ea typeface="微软雅黑"/>
              </a:rPr>
              <a:t>感悟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1080" y="1846440"/>
            <a:ext cx="842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微软雅黑"/>
                <a:ea typeface="微软雅黑"/>
              </a:rPr>
              <a:t>我心永恒” 让心在人间继续跳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脑死亡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广西小伙子小叶在桂林解放军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1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医院无偿捐献心脏、肝、肾和眼角膜，率先被摘取的心脏，需要火速送往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87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里之外的北京——一名正在靠“人工体外心肺辅助装置”维持生命的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江西小男孩，正在焦急地等待着这颗圣洁的“爱心”做移植手术。桂林和北京两地的人们，为了跑赢生命倒计时，拉开了一场自建国以来十分罕见的“爱心”接力赛——民航航班提前起飞降落“送心”，数家航班绕道飞行，直升飞机首都机场“接心”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江西小男孩终于清醒过来了。我们呼唤他，他有反应，还能说话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8720" y="1412640"/>
            <a:ext cx="38145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看完这则故事你的感受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1280" y="28540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“</a:t>
            </a: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千里送心”——感动更要行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思想上：我们要对正义充满追求和向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微软雅黑"/>
              </a:rPr>
              <a:t>行动上：感动更要行动，做一个有正义感的人，让关爱他人、奉献社会的传统美德得以传承弘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236000" y="83664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升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19280" y="551808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 Narrow"/>
                <a:ea typeface="微软雅黑"/>
              </a:rPr>
              <a:t>开启正义之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050920" y="981000"/>
            <a:ext cx="43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微软雅黑"/>
                <a:ea typeface="微软雅黑"/>
              </a:rPr>
              <a:t>II</a:t>
            </a: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Arial Narrow"/>
                <a:ea typeface="微软雅黑"/>
              </a:rPr>
              <a:t>正义之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004240" y="2819520"/>
            <a:ext cx="4572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95280" y="2205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正义之行的意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12720" y="2925720"/>
            <a:ext cx="63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如果没有正义，善良就会被践踏，邪恶就会肆虐，整个社会就会陷入黑暗和混乱之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期盼正义、维护正义，是所有善良人的共同心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实施正义行为，不做非正义的事，是做人的基本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1365328143875122606"/>
          <p:cNvPicPr/>
          <p:nvPr/>
        </p:nvPicPr>
        <p:blipFill>
          <a:blip r:embed="rId1"/>
          <a:stretch/>
        </p:blipFill>
        <p:spPr>
          <a:xfrm>
            <a:off x="6804000" y="1125360"/>
            <a:ext cx="2082960" cy="38163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8198"/>
          <p:cNvSpPr/>
          <p:nvPr/>
        </p:nvSpPr>
        <p:spPr>
          <a:xfrm>
            <a:off x="1163520" y="7905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836640"/>
            <a:ext cx="56991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明辨是非、明确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68360" y="1844640"/>
            <a:ext cx="8064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判断正义行为与非正义行为的标准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1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促进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社会进步与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维护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利益和他人正当权益的行为，都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凡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阻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社会进步与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损害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共利益和他人正当权益的行为，都是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非正义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正义的要求：正义要求我们尊重他人的基本权利，尤其要尊重人的生命权，公正地对待他人和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2735280" cy="9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理论联系实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280" y="5030640"/>
            <a:ext cx="81378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左右，广州火车站广场有人持刀砍伤过往旅客，警方开枪击中其中一名持刀疑犯，目前该事件已造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群众受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600x450_9RJE7KB500AN0001"/>
          <p:cNvPicPr/>
          <p:nvPr/>
        </p:nvPicPr>
        <p:blipFill>
          <a:blip r:embed="rId1"/>
          <a:stretch/>
        </p:blipFill>
        <p:spPr>
          <a:xfrm>
            <a:off x="1260360" y="1486080"/>
            <a:ext cx="63756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95280" y="12700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校中，阿贵为了好朋友不受欺负两肋插刀，先下手为强，打伤他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孙军考试中没有给答案给同学受到冷落，不知所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东看到叔叔做生意出售假冒伪劣商品，多次劝说无效后打电话到工商管理部门举报，叔叔受到了处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3502080"/>
            <a:ext cx="8569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正义不等于哥们义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伸张正义不仅是对外界，对自己也有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表达正义感要合理、合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微软雅黑"/>
              </a:rPr>
              <a:t>正义感在日常生活中就会时常体现出来：如扶贫、公平、团结同学、尊重权利等等。良好的班风建立、制度的执行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04:02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4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