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gif" ContentType="image/gif"/>
  <Override PartName="/ppt/media/image7.gif" ContentType="image/gif"/>
  <Override PartName="/ppt/media/image11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13.png" ContentType="image/png"/>
  <Override PartName="/ppt/media/image12.jpeg" ContentType="image/jpeg"/>
  <Override PartName="/ppt/media/image21.jpeg" ContentType="image/jpeg"/>
  <Override PartName="/ppt/media/image23.png" ContentType="image/png"/>
  <Override PartName="/ppt/media/image20.gif" ContentType="image/gif"/>
  <Override PartName="/ppt/media/image3.gif" ContentType="image/gif"/>
  <Override PartName="/ppt/media/image19.jpeg" ContentType="image/jpeg"/>
  <Override PartName="/ppt/media/image18.png" ContentType="image/png"/>
  <Override PartName="/ppt/media/image15.jpeg" ContentType="image/jpeg"/>
  <Override PartName="/ppt/media/image16.gif" ContentType="image/gif"/>
  <Override PartName="/ppt/media/image14.gif" ContentType="image/gif"/>
  <Override PartName="/ppt/media/image17.png" ContentType="image/png"/>
  <Override PartName="/ppt/media/image1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EAA-A7B3-49C4-AB1D-2F2DC295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302-A236-45FC-AE04-9143E167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831-F19D-4514-80E4-0A94226E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70F-C812-4F2C-92A3-6A0AF8C8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E584-3347-46F4-AD13-2D1EFA99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F489-45DA-4BAD-95BE-2BE0FD35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B84D-C6BF-4B2A-854E-0ED1EBCB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6595-7ECD-4AC1-9FE9-5B507FE5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7570-7FCF-4BBD-9C0C-B113D3AF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788A-2B0D-432E-B164-E2BDB4BD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5BDD-4F0A-40FE-8F5A-841B8F0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9B5-373E-4351-8073-EF29861B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943D-50D6-444F-856B-8BD1295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35D7-6D87-4B45-AADF-6C5600E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9B64-E7B4-46BD-A537-C31BF078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10B8-AC70-4139-B91D-4ED489B5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73A7-F1E9-4B18-A288-DB1DA00D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CBC-1C1C-4AD7-83AF-0605C18D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67A-49F9-4DBF-BBAC-31CF8A1F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DCD-C604-4453-8C14-ABAD73E5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162-D137-4189-AB8E-820A07EA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BD6-2D91-417E-8D1E-AD614249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5D8-AC5C-4330-B42A-B1D9B05E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679-A150-4B75-9024-9CBA673F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9915-4535-402A-AF64-1565F846AE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D290-B79E-41EB-A988-EFAFA75E0B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 rot="5400000">
            <a:off x="5376600" y="4208400"/>
            <a:ext cx="2133720" cy="730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丰子恺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2374920" y="26028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竹影语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9"/>
          <p:cNvSpPr/>
          <p:nvPr/>
        </p:nvSpPr>
        <p:spPr>
          <a:xfrm>
            <a:off x="4470480" y="38466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1066680" y="533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作者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6002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生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81080" y="2286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解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362320" y="2971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多音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6668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课文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1240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文章主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5812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课后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9" descr="27"/>
          <p:cNvPicPr/>
          <p:nvPr/>
        </p:nvPicPr>
        <p:blipFill>
          <a:blip r:embed="rId1"/>
          <a:stretch/>
        </p:blipFill>
        <p:spPr>
          <a:xfrm>
            <a:off x="2819520" y="457200"/>
            <a:ext cx="609480" cy="57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16"/>
          <p:cNvPicPr/>
          <p:nvPr/>
        </p:nvPicPr>
        <p:blipFill>
          <a:blip r:embed="rId2"/>
          <a:stretch/>
        </p:blipFill>
        <p:spPr>
          <a:xfrm>
            <a:off x="2971800" y="1371600"/>
            <a:ext cx="4586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22"/>
          <p:cNvPicPr/>
          <p:nvPr/>
        </p:nvPicPr>
        <p:blipFill>
          <a:blip r:embed="rId3"/>
          <a:stretch/>
        </p:blipFill>
        <p:spPr>
          <a:xfrm>
            <a:off x="5486400" y="5181480"/>
            <a:ext cx="43956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52"/>
          <p:cNvPicPr/>
          <p:nvPr/>
        </p:nvPicPr>
        <p:blipFill>
          <a:blip r:embed="rId4"/>
          <a:stretch/>
        </p:blipFill>
        <p:spPr>
          <a:xfrm>
            <a:off x="3276720" y="2209680"/>
            <a:ext cx="614160" cy="58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pple"/>
          <p:cNvPicPr/>
          <p:nvPr/>
        </p:nvPicPr>
        <p:blipFill>
          <a:blip r:embed="rId5"/>
          <a:stretch/>
        </p:blipFill>
        <p:spPr>
          <a:xfrm>
            <a:off x="3962520" y="28954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1"/>
          <p:cNvPicPr/>
          <p:nvPr/>
        </p:nvPicPr>
        <p:blipFill>
          <a:blip r:embed="rId6"/>
          <a:stretch/>
        </p:blipFill>
        <p:spPr>
          <a:xfrm>
            <a:off x="4495680" y="373392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4"/>
          <p:cNvPicPr/>
          <p:nvPr/>
        </p:nvPicPr>
        <p:blipFill>
          <a:blip r:embed="rId7"/>
          <a:stretch/>
        </p:blipFill>
        <p:spPr>
          <a:xfrm>
            <a:off x="5181480" y="45720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back1"/>
          <p:cNvPicPr/>
          <p:nvPr/>
        </p:nvPicPr>
        <p:blipFill>
          <a:blip r:embed="rId8"/>
          <a:stretch/>
        </p:blipFill>
        <p:spPr>
          <a:xfrm>
            <a:off x="6629400" y="6019920"/>
            <a:ext cx="1096920" cy="51408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8200"/>
          <p:cNvSpPr/>
          <p:nvPr/>
        </p:nvSpPr>
        <p:spPr>
          <a:xfrm>
            <a:off x="3780000" y="1557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468360" y="189000"/>
            <a:ext cx="3429000" cy="13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者介绍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152388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丰子恺先生是中国现代漫画家、翻译家、文学家、音乐教育家，浙江省崇</a:t>
            </a:r>
            <a:r>
              <a:rPr b="1" i="1" lang="zh-CN" sz="3200" spc="-1" strike="noStrike">
                <a:solidFill>
                  <a:srgbClr val="f3fe10"/>
                </a:solidFill>
                <a:latin typeface="黑体"/>
                <a:ea typeface="黑体"/>
              </a:rPr>
              <a:t>德县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石门湾人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 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今桐乡石门镇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1914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 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年考入杭州</a:t>
            </a:r>
            <a:r>
              <a:rPr b="1" i="1" lang="zh-CN" sz="3200" spc="-1" strike="noStrike">
                <a:solidFill>
                  <a:srgbClr val="f3fe10"/>
                </a:solidFill>
                <a:latin typeface="黑体"/>
                <a:ea typeface="黑体"/>
              </a:rPr>
              <a:t>浙江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省立第一师范，曾受业于李叔同，后游学</a:t>
            </a:r>
            <a:r>
              <a:rPr b="1" i="1" lang="zh-CN" sz="3200" spc="-1" strike="noStrike">
                <a:solidFill>
                  <a:srgbClr val="f3fe10"/>
                </a:solidFill>
                <a:latin typeface="黑体"/>
                <a:ea typeface="黑体"/>
              </a:rPr>
              <a:t>日本。在东京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学习绘画和音乐时，受到画家竹久梦二画风影响。回国后开始以漫画描绘故事意境、儿童生活等。丰先生博学多能，在漫画、散文、美术、音乐理论、翻译、书法及艺术教育等诸方面均有突出成就。有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lt;&lt;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子恺漫画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gt;&gt;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lt;&lt;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缘缘堂随笔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gt;&gt;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等众多作品行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6"/>
          <p:cNvPicPr/>
          <p:nvPr/>
        </p:nvPicPr>
        <p:blipFill>
          <a:blip r:embed="rId2"/>
          <a:stretch/>
        </p:blipFill>
        <p:spPr>
          <a:xfrm>
            <a:off x="7772400" y="586728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539640" y="11448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方正姚体"/>
              </a:rPr>
              <a:t>生字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28600" y="1447920"/>
            <a:ext cx="8915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Piĕ  zhàn   yōu      qiè        shū           lu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撇     蘸     幽暗    惬意     疏密     包罗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shā             chán   cēn c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朱砂     口头禅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差不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1" descr="250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200"/>
          <p:cNvSpPr/>
          <p:nvPr/>
        </p:nvSpPr>
        <p:spPr>
          <a:xfrm>
            <a:off x="466560" y="50864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0" y="0"/>
            <a:ext cx="2209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1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latin typeface="华文行楷"/>
              </a:rPr>
              <a:t>解词</a:t>
            </a:r>
            <a:endParaRPr b="0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latin typeface="华文行楷"/>
              <a:ea typeface="华文行楷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1219320"/>
            <a:ext cx="8686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幽暗：昏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惬意：满意，称心，舒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包罗：包括（指大范围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口头禅：原指有的禅宗和尚，只空谈禅理而不实行。也指借禅宗常用语作为谈话的点缀。今指经常挂在口头的词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参差不齐：长短，高低，大小不齐，不一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2900000"/>
          <p:cNvPicPr/>
          <p:nvPr/>
        </p:nvPicPr>
        <p:blipFill>
          <a:blip r:embed="rId2"/>
          <a:stretch/>
        </p:blipFill>
        <p:spPr>
          <a:xfrm>
            <a:off x="7391520" y="3808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0" y="0"/>
            <a:ext cx="1905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华文中宋"/>
              </a:rPr>
              <a:t>多音字</a:t>
            </a:r>
            <a:endParaRPr b="0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858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066680" y="19051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7492"/>
                </a:lnTo>
                <a:cubicBezTo>
                  <a:pt x="10800" y="8391"/>
                  <a:pt x="5400" y="9289"/>
                  <a:pt x="0" y="9289"/>
                </a:cubicBezTo>
                <a:cubicBezTo>
                  <a:pt x="5400" y="9289"/>
                  <a:pt x="10800" y="10188"/>
                  <a:pt x="10800" y="11086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295280" y="190512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ā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参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hē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人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ē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参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38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219320" y="457200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7492"/>
                </a:lnTo>
                <a:cubicBezTo>
                  <a:pt x="10800" y="8391"/>
                  <a:pt x="5400" y="9289"/>
                  <a:pt x="0" y="9289"/>
                </a:cubicBezTo>
                <a:cubicBezTo>
                  <a:pt x="5400" y="9289"/>
                  <a:pt x="10800" y="10188"/>
                  <a:pt x="10800" y="11086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600200" y="4343400"/>
            <a:ext cx="2438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ā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钦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ā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差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相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ī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参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800600" y="2438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ĕ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撇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ē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撇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4724280" y="25146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45720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4952880" y="44956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é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乘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hè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千乘之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4343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4952880" y="45720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9" descr="logo04"/>
          <p:cNvPicPr/>
          <p:nvPr/>
        </p:nvPicPr>
        <p:blipFill>
          <a:blip r:embed="rId2"/>
          <a:stretch/>
        </p:blipFill>
        <p:spPr>
          <a:xfrm>
            <a:off x="6858000" y="22860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8200"/>
          <p:cNvSpPr/>
          <p:nvPr/>
        </p:nvSpPr>
        <p:spPr>
          <a:xfrm>
            <a:off x="1692360" y="378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38080" y="22860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33520" y="105084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文根据时间顺序，可分三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85800" y="22096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838080" y="1808280"/>
            <a:ext cx="7391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第一部分（第一节），写我与弟弟晚饭后去院中乘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第二部分（第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节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—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第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7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节），写几个小伙伴月下画竹影，并同父亲一起探讨中国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第三部分（第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8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节），写画竹影后的体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2"/>
          <p:cNvPicPr/>
          <p:nvPr/>
        </p:nvPicPr>
        <p:blipFill>
          <a:blip r:embed="rId2"/>
          <a:stretch/>
        </p:blipFill>
        <p:spPr>
          <a:xfrm>
            <a:off x="8229600" y="6019920"/>
            <a:ext cx="7318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3EE1-B6C3-41ED-87D9-BCD1728B12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26"/>
          <p:cNvSpPr/>
          <p:nvPr/>
        </p:nvSpPr>
        <p:spPr>
          <a:xfrm>
            <a:off x="1143000" y="1523880"/>
            <a:ext cx="800100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本文通过几个小伙伴，借着月光画竹影等充满童趣的小事，说明了艺术和美有时就蕴含在孩子的童稚活动中。本文以我和小伙伴看天看月看人影看竹影等活动为线索，按时间顺序，来表现中心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思想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27"/>
          <p:cNvSpPr/>
          <p:nvPr/>
        </p:nvSpPr>
        <p:spPr>
          <a:xfrm>
            <a:off x="304920" y="3808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51508"/>
                </a:solidFill>
                <a:latin typeface="Times New Roman"/>
                <a:ea typeface="方正舒体"/>
              </a:rPr>
              <a:t>本文主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29" descr="0101x008s"/>
          <p:cNvPicPr/>
          <p:nvPr/>
        </p:nvPicPr>
        <p:blipFill>
          <a:blip r:embed="rId2"/>
          <a:stretch/>
        </p:blipFill>
        <p:spPr>
          <a:xfrm>
            <a:off x="7467480" y="5807160"/>
            <a:ext cx="838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08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16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