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png" ContentType="image/png"/>
  <Override PartName="/ppt/media/image1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1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2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EF32-7781-4749-9C40-0B665560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3C1-07C2-4F31-93BA-FD323CBB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1280-5C26-4634-A88B-3990BB4D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B23-F8C8-4A53-BB2D-4CA85876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041D-EB3F-4370-92A0-5649A73D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9016-839B-4FCC-BF11-B769874F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74C8-5E33-4B06-9C94-3D4017EF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35C5-FE42-4351-A780-2EFCDF07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AC77-E097-4FEF-81E7-15627C4F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C2EF-94E1-4968-9343-72CA4264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BAD6-CF29-41F9-821A-71C257E7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1342-B1B5-4BFA-882A-C388CAA7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8048-4924-43DE-9F5C-01043FCF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D8F5-8B7C-480F-8A47-88AC5CA3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FE1A-EB0C-4E5F-B097-5FD41669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E546-96A1-490C-A6DD-DD4E3A70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BA77-DFCB-497A-9012-7990F8E1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6C1CF-E133-4615-85BA-D49453FB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24067-1110-453C-B7DA-DA8B067A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77AD6-0548-43AE-87D1-92E2DFB8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94235-4E79-4B2B-939E-A2E75B6E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7AADA-13FB-4A73-9254-19AA3001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089D-9512-4671-89E6-E6C1EDB2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5578D-98D2-498B-AD7F-AE24DC9E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EE86B-718F-40B1-9522-5A7E5EA5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B6765-8150-4EFD-A4D0-75F6649F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E62B8-C05D-4620-8FCA-4F971402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49E7E-7004-49E9-99E4-27776648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32769-BD39-459A-A030-2F1575C6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4025F-4ACF-4979-A68D-707002DE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F85-BF06-4E6E-80FE-8166FD3D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2CF-D550-458B-84C3-BB191385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FDC-8CB7-41D7-BF5A-4746CEE4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7D8-A9B7-4966-9A60-45DE22C5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313C-C9C0-42DD-9989-4CBB40AB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4EB-C434-41C1-9F69-16CF470F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26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1" name="组合 27"/>
            <p:cNvGrpSpPr/>
            <p:nvPr/>
          </p:nvGrpSpPr>
          <p:grpSpPr>
            <a:xfrm>
              <a:off x="1051200" y="6202440"/>
              <a:ext cx="535680" cy="655200"/>
              <a:chOff x="1051200" y="6202440"/>
              <a:chExt cx="535680" cy="655200"/>
            </a:xfrm>
          </p:grpSpPr>
          <p:sp>
            <p:nvSpPr>
              <p:cNvPr id="2" name="任意多边形 28"/>
              <p:cNvSpPr/>
              <p:nvPr/>
            </p:nvSpPr>
            <p:spPr>
              <a:xfrm rot="18580800">
                <a:off x="1137960" y="6233040"/>
                <a:ext cx="157320" cy="29952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任意多边形 29"/>
              <p:cNvSpPr/>
              <p:nvPr/>
            </p:nvSpPr>
            <p:spPr>
              <a:xfrm rot="2400000">
                <a:off x="1348200" y="6222960"/>
                <a:ext cx="167400" cy="2826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矩形 30"/>
              <p:cNvSpPr/>
              <p:nvPr/>
            </p:nvSpPr>
            <p:spPr>
              <a:xfrm>
                <a:off x="1322640" y="6467040"/>
                <a:ext cx="31680" cy="390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矩形 31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矩形 32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矩形 33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组合 12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" name="矩形 7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矩形 10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0013-C172-43B4-BE32-4516C142E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" name="组合 13"/>
          <p:cNvGrpSpPr/>
          <p:nvPr/>
        </p:nvGrpSpPr>
        <p:grpSpPr>
          <a:xfrm>
            <a:off x="7795080" y="-15480"/>
            <a:ext cx="1239120" cy="573840"/>
            <a:chOff x="7795080" y="-15480"/>
            <a:chExt cx="1239120" cy="573840"/>
          </a:xfrm>
        </p:grpSpPr>
        <p:grpSp>
          <p:nvGrpSpPr>
            <p:cNvPr id="17" name="组合 14"/>
            <p:cNvGrpSpPr/>
            <p:nvPr/>
          </p:nvGrpSpPr>
          <p:grpSpPr>
            <a:xfrm>
              <a:off x="7795080" y="-15480"/>
              <a:ext cx="451440" cy="573840"/>
              <a:chOff x="7795080" y="-15480"/>
              <a:chExt cx="451440" cy="573840"/>
            </a:xfrm>
          </p:grpSpPr>
          <p:sp>
            <p:nvSpPr>
              <p:cNvPr id="18" name="任意多边形 15"/>
              <p:cNvSpPr/>
              <p:nvPr/>
            </p:nvSpPr>
            <p:spPr>
              <a:xfrm rot="18580800">
                <a:off x="7865280" y="1620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任意多边形 16"/>
              <p:cNvSpPr/>
              <p:nvPr/>
            </p:nvSpPr>
            <p:spPr>
              <a:xfrm rot="2400000">
                <a:off x="804384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矩形 17"/>
              <p:cNvSpPr/>
              <p:nvPr/>
            </p:nvSpPr>
            <p:spPr>
              <a:xfrm>
                <a:off x="8021160" y="213840"/>
                <a:ext cx="27360" cy="34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组合 18"/>
            <p:cNvGrpSpPr/>
            <p:nvPr/>
          </p:nvGrpSpPr>
          <p:grpSpPr>
            <a:xfrm>
              <a:off x="8188560" y="-15480"/>
              <a:ext cx="451440" cy="573840"/>
              <a:chOff x="8188560" y="-15480"/>
              <a:chExt cx="451440" cy="573840"/>
            </a:xfrm>
          </p:grpSpPr>
          <p:sp>
            <p:nvSpPr>
              <p:cNvPr id="22" name="任意多边形 19"/>
              <p:cNvSpPr/>
              <p:nvPr/>
            </p:nvSpPr>
            <p:spPr>
              <a:xfrm rot="18580800">
                <a:off x="8258760" y="1620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任意多边形 20"/>
              <p:cNvSpPr/>
              <p:nvPr/>
            </p:nvSpPr>
            <p:spPr>
              <a:xfrm rot="2400000">
                <a:off x="843732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矩形 21"/>
              <p:cNvSpPr/>
              <p:nvPr/>
            </p:nvSpPr>
            <p:spPr>
              <a:xfrm>
                <a:off x="8414640" y="213840"/>
                <a:ext cx="27360" cy="34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组合 22"/>
            <p:cNvGrpSpPr/>
            <p:nvPr/>
          </p:nvGrpSpPr>
          <p:grpSpPr>
            <a:xfrm>
              <a:off x="8582040" y="-15480"/>
              <a:ext cx="452160" cy="573840"/>
              <a:chOff x="8582040" y="-15480"/>
              <a:chExt cx="452160" cy="573840"/>
            </a:xfrm>
          </p:grpSpPr>
          <p:sp>
            <p:nvSpPr>
              <p:cNvPr id="26" name="任意多边形 23"/>
              <p:cNvSpPr/>
              <p:nvPr/>
            </p:nvSpPr>
            <p:spPr>
              <a:xfrm rot="18580800">
                <a:off x="8652600" y="1584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任意多边形 24"/>
              <p:cNvSpPr/>
              <p:nvPr/>
            </p:nvSpPr>
            <p:spPr>
              <a:xfrm rot="2400000">
                <a:off x="8831160" y="0"/>
                <a:ext cx="13896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矩形 25"/>
              <p:cNvSpPr/>
              <p:nvPr/>
            </p:nvSpPr>
            <p:spPr>
              <a:xfrm>
                <a:off x="8808120" y="213840"/>
                <a:ext cx="27360" cy="34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31" descr="ab444bcfd516282693457e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46C5-EA9A-49D1-AF90-D9A2B2348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428A-6E4B-4D3F-8B54-CCDA8D30E8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qq82.com/vector/show/80/30221.htm" TargetMode="Externa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文本框 4"/>
          <p:cNvSpPr/>
          <p:nvPr/>
        </p:nvSpPr>
        <p:spPr>
          <a:xfrm>
            <a:off x="392040" y="51768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科教版小学科学三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1" descr=""/>
          <p:cNvPicPr/>
          <p:nvPr/>
        </p:nvPicPr>
        <p:blipFill>
          <a:blip r:embed="rId1"/>
          <a:stretch/>
        </p:blipFill>
        <p:spPr>
          <a:xfrm>
            <a:off x="304920" y="3495600"/>
            <a:ext cx="3468600" cy="2787840"/>
          </a:xfrm>
          <a:prstGeom prst="rect">
            <a:avLst/>
          </a:prstGeom>
          <a:ln w="0">
            <a:noFill/>
          </a:ln>
        </p:spPr>
      </p:pic>
      <p:sp>
        <p:nvSpPr>
          <p:cNvPr id="150" name="右箭头 5"/>
          <p:cNvSpPr/>
          <p:nvPr/>
        </p:nvSpPr>
        <p:spPr>
          <a:xfrm>
            <a:off x="3906720" y="4495680"/>
            <a:ext cx="962280" cy="78768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1" descr=""/>
          <p:cNvPicPr/>
          <p:nvPr/>
        </p:nvPicPr>
        <p:blipFill>
          <a:blip r:embed="rId2"/>
          <a:stretch/>
        </p:blipFill>
        <p:spPr>
          <a:xfrm>
            <a:off x="5003640" y="3495600"/>
            <a:ext cx="3713400" cy="278784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"/>
          <p:cNvSpPr/>
          <p:nvPr/>
        </p:nvSpPr>
        <p:spPr>
          <a:xfrm>
            <a:off x="2236320" y="170640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种子变成了幼苗课件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"/>
          <p:cNvPicPr/>
          <p:nvPr/>
        </p:nvPicPr>
        <p:blipFill>
          <a:blip r:embed="rId1"/>
          <a:stretch/>
        </p:blipFill>
        <p:spPr>
          <a:xfrm>
            <a:off x="4272120" y="1687680"/>
            <a:ext cx="4698720" cy="4713120"/>
          </a:xfrm>
          <a:prstGeom prst="rect">
            <a:avLst/>
          </a:prstGeom>
          <a:ln w="0">
            <a:noFill/>
          </a:ln>
        </p:spPr>
      </p:pic>
      <p:sp>
        <p:nvSpPr>
          <p:cNvPr id="240" name="文本框 2"/>
          <p:cNvSpPr/>
          <p:nvPr/>
        </p:nvSpPr>
        <p:spPr>
          <a:xfrm>
            <a:off x="1121400" y="552600"/>
            <a:ext cx="440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快速生长阶段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3" descr=""/>
          <p:cNvPicPr/>
          <p:nvPr/>
        </p:nvPicPr>
        <p:blipFill>
          <a:blip r:embed="rId2"/>
          <a:stretch/>
        </p:blipFill>
        <p:spPr>
          <a:xfrm>
            <a:off x="457200" y="1687680"/>
            <a:ext cx="3578400" cy="4524120"/>
          </a:xfrm>
          <a:prstGeom prst="rect">
            <a:avLst/>
          </a:prstGeom>
          <a:ln w="0">
            <a:noFill/>
          </a:ln>
        </p:spPr>
      </p:pic>
      <p:sp>
        <p:nvSpPr>
          <p:cNvPr id="242" name="文本框 5"/>
          <p:cNvSpPr/>
          <p:nvPr/>
        </p:nvSpPr>
        <p:spPr>
          <a:xfrm>
            <a:off x="1180440" y="16876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华文琥珀"/>
                <a:ea typeface="华文琥珀"/>
              </a:rPr>
              <a:t>叶是怎样排列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"/>
          <p:cNvSpPr/>
          <p:nvPr/>
        </p:nvSpPr>
        <p:spPr>
          <a:xfrm>
            <a:off x="457200" y="2795760"/>
            <a:ext cx="345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叶片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交叉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生长，伸向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四面八方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，原因是为了能最大限度地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接受太阳光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，进行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光合作用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植物生长所需要的食物是从哪里来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科学家经过多年的研究，发现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多数植物能自己制造“食物”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养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99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指导学生学习科学书</a:t>
            </a:r>
            <a:r>
              <a:rPr b="0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P11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页上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7"/>
          <p:cNvSpPr/>
          <p:nvPr/>
        </p:nvSpPr>
        <p:spPr>
          <a:xfrm>
            <a:off x="436680" y="318960"/>
            <a:ext cx="6973920" cy="92736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二</a:t>
            </a:r>
            <a:r>
              <a:rPr b="0" lang="en-US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.</a:t>
            </a:r>
            <a:r>
              <a:rPr b="0" lang="zh-CN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叶为植物提供“食物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18" descr=""/>
          <p:cNvPicPr/>
          <p:nvPr/>
        </p:nvPicPr>
        <p:blipFill>
          <a:blip r:embed="rId1"/>
          <a:stretch/>
        </p:blipFill>
        <p:spPr>
          <a:xfrm>
            <a:off x="1371600" y="674640"/>
            <a:ext cx="6512040" cy="4527720"/>
          </a:xfrm>
          <a:prstGeom prst="rect">
            <a:avLst/>
          </a:prstGeom>
          <a:ln w="0">
            <a:noFill/>
          </a:ln>
        </p:spPr>
      </p:pic>
      <p:sp>
        <p:nvSpPr>
          <p:cNvPr id="247" name="文本框 20"/>
          <p:cNvSpPr/>
          <p:nvPr/>
        </p:nvSpPr>
        <p:spPr>
          <a:xfrm>
            <a:off x="3554640" y="412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植物的光合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22"/>
          <p:cNvSpPr/>
          <p:nvPr/>
        </p:nvSpPr>
        <p:spPr>
          <a:xfrm>
            <a:off x="1012680" y="5462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华文琥珀"/>
                <a:ea typeface="华文琥珀"/>
              </a:rPr>
              <a:t>二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3"/>
          <p:cNvSpPr/>
          <p:nvPr/>
        </p:nvSpPr>
        <p:spPr>
          <a:xfrm>
            <a:off x="3128400" y="5462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华文琥珀"/>
                <a:ea typeface="华文琥珀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24"/>
          <p:cNvSpPr/>
          <p:nvPr/>
        </p:nvSpPr>
        <p:spPr>
          <a:xfrm>
            <a:off x="5652000" y="546264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华文琥珀"/>
                <a:ea typeface="华文琥珀"/>
              </a:rPr>
              <a:t>氧 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25"/>
          <p:cNvSpPr/>
          <p:nvPr/>
        </p:nvSpPr>
        <p:spPr>
          <a:xfrm>
            <a:off x="7225200" y="546264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华文琥珀"/>
                <a:ea typeface="华文琥珀"/>
              </a:rPr>
              <a:t>养 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加号 27"/>
          <p:cNvSpPr/>
          <p:nvPr/>
        </p:nvSpPr>
        <p:spPr>
          <a:xfrm>
            <a:off x="2468520" y="5464080"/>
            <a:ext cx="574560" cy="582840"/>
          </a:xfrm>
          <a:custGeom>
            <a:avLst/>
            <a:gdLst/>
            <a:ahLst/>
            <a:rect l="l" t="t" r="r" b="b"/>
            <a:pathLst>
              <a:path w="574675" h="582613">
                <a:moveTo>
                  <a:pt x="76173" y="223725"/>
                </a:moveTo>
                <a:lnTo>
                  <a:pt x="219756" y="223725"/>
                </a:lnTo>
                <a:lnTo>
                  <a:pt x="219756" y="77225"/>
                </a:lnTo>
                <a:lnTo>
                  <a:pt x="354919" y="77225"/>
                </a:lnTo>
                <a:lnTo>
                  <a:pt x="354919" y="223725"/>
                </a:lnTo>
                <a:lnTo>
                  <a:pt x="498502" y="223725"/>
                </a:lnTo>
                <a:lnTo>
                  <a:pt x="498502" y="358888"/>
                </a:lnTo>
                <a:lnTo>
                  <a:pt x="354919" y="358888"/>
                </a:lnTo>
                <a:lnTo>
                  <a:pt x="354919" y="505388"/>
                </a:lnTo>
                <a:lnTo>
                  <a:pt x="219756" y="505388"/>
                </a:lnTo>
                <a:lnTo>
                  <a:pt x="219756" y="358888"/>
                </a:lnTo>
                <a:lnTo>
                  <a:pt x="76173" y="358888"/>
                </a:lnTo>
                <a:lnTo>
                  <a:pt x="76173" y="223725"/>
                </a:lnTo>
                <a:close/>
              </a:path>
            </a:pathLst>
          </a:custGeom>
          <a:solidFill>
            <a:srgbClr val="333399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加号 29"/>
          <p:cNvSpPr/>
          <p:nvPr/>
        </p:nvSpPr>
        <p:spPr>
          <a:xfrm>
            <a:off x="6529320" y="5464080"/>
            <a:ext cx="609840" cy="582840"/>
          </a:xfrm>
          <a:custGeom>
            <a:avLst/>
            <a:gdLst/>
            <a:ahLst/>
            <a:rect l="l" t="t" r="r" b="b"/>
            <a:pathLst>
              <a:path w="609600" h="582613">
                <a:moveTo>
                  <a:pt x="80802" y="222791"/>
                </a:moveTo>
                <a:lnTo>
                  <a:pt x="236285" y="222791"/>
                </a:lnTo>
                <a:lnTo>
                  <a:pt x="236285" y="77225"/>
                </a:lnTo>
                <a:lnTo>
                  <a:pt x="373315" y="77225"/>
                </a:lnTo>
                <a:lnTo>
                  <a:pt x="373315" y="222791"/>
                </a:lnTo>
                <a:lnTo>
                  <a:pt x="528798" y="222791"/>
                </a:lnTo>
                <a:lnTo>
                  <a:pt x="528798" y="359822"/>
                </a:lnTo>
                <a:lnTo>
                  <a:pt x="373315" y="359822"/>
                </a:lnTo>
                <a:lnTo>
                  <a:pt x="373315" y="505388"/>
                </a:lnTo>
                <a:lnTo>
                  <a:pt x="236285" y="505388"/>
                </a:lnTo>
                <a:lnTo>
                  <a:pt x="236285" y="359822"/>
                </a:lnTo>
                <a:lnTo>
                  <a:pt x="80802" y="359822"/>
                </a:lnTo>
                <a:lnTo>
                  <a:pt x="80802" y="222791"/>
                </a:lnTo>
                <a:close/>
              </a:path>
            </a:pathLst>
          </a:custGeom>
          <a:solidFill>
            <a:srgbClr val="333399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30"/>
          <p:cNvSpPr/>
          <p:nvPr/>
        </p:nvSpPr>
        <p:spPr>
          <a:xfrm>
            <a:off x="15791040" y="3689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右箭头 31"/>
          <p:cNvSpPr/>
          <p:nvPr/>
        </p:nvSpPr>
        <p:spPr>
          <a:xfrm>
            <a:off x="3776760" y="5856120"/>
            <a:ext cx="1709640" cy="190800"/>
          </a:xfrm>
          <a:prstGeom prst="rightArrow">
            <a:avLst>
              <a:gd name="adj1" fmla="val 50000"/>
              <a:gd name="adj2" fmla="val 49780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32"/>
          <p:cNvSpPr/>
          <p:nvPr/>
        </p:nvSpPr>
        <p:spPr>
          <a:xfrm>
            <a:off x="4202640" y="527220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华文琥珀"/>
                <a:ea typeface="华文琥珀"/>
              </a:rPr>
              <a:t>阳 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1080" y="4647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长出花蕾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943600" y="1766880"/>
            <a:ext cx="287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蕾长在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叶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部位， 凤仙花出现花蕾时，植株增长就变得很缓慢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1" descr=""/>
          <p:cNvPicPr/>
          <p:nvPr/>
        </p:nvPicPr>
        <p:blipFill>
          <a:blip r:embed="rId1"/>
          <a:stretch/>
        </p:blipFill>
        <p:spPr>
          <a:xfrm>
            <a:off x="476280" y="1766880"/>
            <a:ext cx="4962600" cy="408132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3" descr=""/>
          <p:cNvPicPr/>
          <p:nvPr/>
        </p:nvPicPr>
        <p:blipFill>
          <a:blip r:embed="rId2"/>
          <a:stretch/>
        </p:blipFill>
        <p:spPr>
          <a:xfrm rot="17559000">
            <a:off x="717480" y="2122200"/>
            <a:ext cx="4706640" cy="3202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7018200" y="218124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凤仙花播种后两个月后就开花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2" descr=""/>
          <p:cNvPicPr/>
          <p:nvPr/>
        </p:nvPicPr>
        <p:blipFill>
          <a:blip r:embed="rId1"/>
          <a:stretch/>
        </p:blipFill>
        <p:spPr>
          <a:xfrm>
            <a:off x="654120" y="1798560"/>
            <a:ext cx="5941800" cy="4461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2" descr=""/>
          <p:cNvPicPr/>
          <p:nvPr/>
        </p:nvPicPr>
        <p:blipFill>
          <a:blip r:embed="rId1"/>
          <a:stretch/>
        </p:blipFill>
        <p:spPr>
          <a:xfrm>
            <a:off x="0" y="1486080"/>
            <a:ext cx="6369120" cy="5260680"/>
          </a:xfrm>
          <a:prstGeom prst="rect">
            <a:avLst/>
          </a:prstGeom>
          <a:ln w="0">
            <a:noFill/>
          </a:ln>
        </p:spPr>
      </p:pic>
      <p:sp>
        <p:nvSpPr>
          <p:cNvPr id="265" name="文本框 4"/>
          <p:cNvSpPr/>
          <p:nvPr/>
        </p:nvSpPr>
        <p:spPr>
          <a:xfrm>
            <a:off x="6573960" y="1943280"/>
            <a:ext cx="24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凤仙花凋谢后，花的一部分逐渐发育，长出果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6"/>
          <p:cNvSpPr/>
          <p:nvPr/>
        </p:nvSpPr>
        <p:spPr>
          <a:xfrm>
            <a:off x="1871280" y="582480"/>
            <a:ext cx="449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     （长出果实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内容占位符 3" descr=""/>
          <p:cNvPicPr/>
          <p:nvPr/>
        </p:nvPicPr>
        <p:blipFill>
          <a:blip r:embed="rId1"/>
          <a:stretch/>
        </p:blipFill>
        <p:spPr>
          <a:xfrm>
            <a:off x="0" y="361800"/>
            <a:ext cx="3862440" cy="2711520"/>
          </a:xfrm>
          <a:prstGeom prst="rect">
            <a:avLst/>
          </a:prstGeom>
          <a:ln w="0">
            <a:noFill/>
          </a:ln>
        </p:spPr>
      </p:pic>
      <p:sp>
        <p:nvSpPr>
          <p:cNvPr id="268" name="文本框 5"/>
          <p:cNvSpPr/>
          <p:nvPr/>
        </p:nvSpPr>
        <p:spPr>
          <a:xfrm>
            <a:off x="4932360" y="969840"/>
            <a:ext cx="290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凤仙花果实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           </a:t>
            </a:r>
            <a:r>
              <a:rPr b="0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（</a:t>
            </a:r>
            <a:r>
              <a:rPr b="0" lang="en-US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8"/>
          <p:cNvSpPr/>
          <p:nvPr/>
        </p:nvSpPr>
        <p:spPr>
          <a:xfrm>
            <a:off x="71280" y="3441600"/>
            <a:ext cx="37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凤仙花的果实椭圆形，绿色（成熟后变成黄色），外面有白色的茸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图片 9" descr=""/>
          <p:cNvPicPr/>
          <p:nvPr/>
        </p:nvPicPr>
        <p:blipFill>
          <a:blip r:embed="rId2"/>
          <a:stretch/>
        </p:blipFill>
        <p:spPr>
          <a:xfrm>
            <a:off x="3862440" y="2600280"/>
            <a:ext cx="5281560" cy="4146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文本框 5"/>
          <p:cNvSpPr/>
          <p:nvPr/>
        </p:nvSpPr>
        <p:spPr>
          <a:xfrm>
            <a:off x="5245200" y="1341360"/>
            <a:ext cx="290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凤仙花果实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           </a:t>
            </a:r>
            <a:r>
              <a:rPr b="0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（</a:t>
            </a:r>
            <a:r>
              <a:rPr b="0" lang="en-US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8"/>
          <p:cNvSpPr/>
          <p:nvPr/>
        </p:nvSpPr>
        <p:spPr>
          <a:xfrm>
            <a:off x="109440" y="4033800"/>
            <a:ext cx="413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轻轻碰一下成熟的果实，里面的种子会被</a:t>
            </a:r>
            <a:r>
              <a:rPr b="1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弹射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7" descr=""/>
          <p:cNvPicPr/>
          <p:nvPr/>
        </p:nvPicPr>
        <p:blipFill>
          <a:blip r:embed="rId1"/>
          <a:stretch/>
        </p:blipFill>
        <p:spPr>
          <a:xfrm>
            <a:off x="109440" y="816120"/>
            <a:ext cx="4130640" cy="276372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10" descr=""/>
          <p:cNvPicPr/>
          <p:nvPr/>
        </p:nvPicPr>
        <p:blipFill>
          <a:blip r:embed="rId2"/>
          <a:stretch/>
        </p:blipFill>
        <p:spPr>
          <a:xfrm>
            <a:off x="4249800" y="3405240"/>
            <a:ext cx="4894200" cy="33415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116128725"/>
          <p:cNvPicPr/>
          <p:nvPr/>
        </p:nvPicPr>
        <p:blipFill>
          <a:blip r:embed="rId1"/>
          <a:stretch/>
        </p:blipFill>
        <p:spPr>
          <a:xfrm>
            <a:off x="0" y="3527280"/>
            <a:ext cx="4764240" cy="333072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2" descr=""/>
          <p:cNvPicPr/>
          <p:nvPr/>
        </p:nvPicPr>
        <p:blipFill>
          <a:blip r:embed="rId2"/>
          <a:stretch/>
        </p:blipFill>
        <p:spPr>
          <a:xfrm>
            <a:off x="4179960" y="569880"/>
            <a:ext cx="4913280" cy="2957400"/>
          </a:xfrm>
          <a:prstGeom prst="rect">
            <a:avLst/>
          </a:prstGeom>
          <a:ln w="0">
            <a:noFill/>
          </a:ln>
        </p:spPr>
      </p:pic>
      <p:sp>
        <p:nvSpPr>
          <p:cNvPr id="277" name="WordArt 4"/>
          <p:cNvSpPr txBox="1"/>
          <p:nvPr/>
        </p:nvSpPr>
        <p:spPr>
          <a:xfrm>
            <a:off x="399960" y="979560"/>
            <a:ext cx="3380040" cy="19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我们的大丰收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78" name="文本框 4"/>
          <p:cNvSpPr/>
          <p:nvPr/>
        </p:nvSpPr>
        <p:spPr>
          <a:xfrm>
            <a:off x="4986360" y="3598920"/>
            <a:ext cx="3884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种下一粒种子可以收获几百粒种子，这是我们的大丰收，同时也说明凤仙花的</a:t>
            </a:r>
            <a:r>
              <a:rPr b="0" lang="zh-CN" sz="2800" spc="-1" strike="noStrike">
                <a:solidFill>
                  <a:srgbClr val="cc0000"/>
                </a:solidFill>
                <a:latin typeface="华文琥珀"/>
                <a:ea typeface="华文琥珀"/>
              </a:rPr>
              <a:t>繁殖能力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是很强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文本框 5"/>
          <p:cNvSpPr/>
          <p:nvPr/>
        </p:nvSpPr>
        <p:spPr>
          <a:xfrm>
            <a:off x="2370960" y="1308240"/>
            <a:ext cx="439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琥珀"/>
                <a:ea typeface="华文琥珀"/>
              </a:rPr>
              <a:t>三</a:t>
            </a:r>
            <a:r>
              <a:rPr b="0" lang="en-US" sz="5400" spc="-1" strike="noStrike">
                <a:solidFill>
                  <a:srgbClr val="ff0000"/>
                </a:solidFill>
                <a:latin typeface="华文琥珀"/>
                <a:ea typeface="华文琥珀"/>
              </a:rPr>
              <a:t>.</a:t>
            </a:r>
            <a:r>
              <a:rPr b="0" lang="zh-CN" sz="5400" spc="-1" strike="noStrike">
                <a:solidFill>
                  <a:srgbClr val="ff0000"/>
                </a:solidFill>
                <a:latin typeface="华文琥珀"/>
                <a:ea typeface="华文琥珀"/>
              </a:rPr>
              <a:t>凤仙花的生长过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内容占位符 3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右箭头 8"/>
          <p:cNvSpPr/>
          <p:nvPr/>
        </p:nvSpPr>
        <p:spPr>
          <a:xfrm>
            <a:off x="773280" y="2647800"/>
            <a:ext cx="1465200" cy="78120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琥珀"/>
                <a:ea typeface="华文琥珀"/>
              </a:rPr>
              <a:t>种  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右箭头 9"/>
          <p:cNvSpPr/>
          <p:nvPr/>
        </p:nvSpPr>
        <p:spPr>
          <a:xfrm>
            <a:off x="3610080" y="2679840"/>
            <a:ext cx="1466640" cy="7826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琥珀"/>
                <a:ea typeface="华文琥珀"/>
              </a:rPr>
              <a:t>发  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右箭头 10"/>
          <p:cNvSpPr/>
          <p:nvPr/>
        </p:nvSpPr>
        <p:spPr>
          <a:xfrm>
            <a:off x="6448320" y="2679840"/>
            <a:ext cx="1465200" cy="7826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琥珀"/>
                <a:ea typeface="华文琥珀"/>
              </a:rPr>
              <a:t>生   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右箭头 11"/>
          <p:cNvSpPr/>
          <p:nvPr/>
        </p:nvSpPr>
        <p:spPr>
          <a:xfrm>
            <a:off x="1230480" y="5994360"/>
            <a:ext cx="1465200" cy="78120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琥珀"/>
                <a:ea typeface="华文琥珀"/>
              </a:rPr>
              <a:t>开   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右箭头 12"/>
          <p:cNvSpPr/>
          <p:nvPr/>
        </p:nvSpPr>
        <p:spPr>
          <a:xfrm>
            <a:off x="5076720" y="5981760"/>
            <a:ext cx="1465200" cy="780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琥珀"/>
                <a:ea typeface="华文琥珀"/>
              </a:rPr>
              <a:t>结  果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61800" y="606600"/>
            <a:ext cx="8229600" cy="24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我们种的凤仙花已经从一粒种子变成了小苗，现在让我们一起分享前一段时间的观察记录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5" descr=""/>
          <p:cNvPicPr/>
          <p:nvPr/>
        </p:nvPicPr>
        <p:blipFill>
          <a:blip r:embed="rId1"/>
          <a:stretch/>
        </p:blipFill>
        <p:spPr>
          <a:xfrm>
            <a:off x="361800" y="3357720"/>
            <a:ext cx="3611880" cy="305892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6" descr=""/>
          <p:cNvPicPr/>
          <p:nvPr/>
        </p:nvPicPr>
        <p:blipFill>
          <a:blip r:embed="rId2"/>
          <a:stretch/>
        </p:blipFill>
        <p:spPr>
          <a:xfrm>
            <a:off x="5076720" y="3357720"/>
            <a:ext cx="3514680" cy="3058920"/>
          </a:xfrm>
          <a:prstGeom prst="rect">
            <a:avLst/>
          </a:prstGeom>
          <a:ln w="0">
            <a:noFill/>
          </a:ln>
        </p:spPr>
      </p:pic>
      <p:sp>
        <p:nvSpPr>
          <p:cNvPr id="157" name="右箭头 4"/>
          <p:cNvSpPr/>
          <p:nvPr/>
        </p:nvSpPr>
        <p:spPr>
          <a:xfrm>
            <a:off x="4043520" y="4494240"/>
            <a:ext cx="961920" cy="7873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Oval 4"/>
          <p:cNvSpPr/>
          <p:nvPr/>
        </p:nvSpPr>
        <p:spPr>
          <a:xfrm>
            <a:off x="2484360" y="2492280"/>
            <a:ext cx="3527640" cy="19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凤 仙 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的 组 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6"/>
          <p:cNvSpPr/>
          <p:nvPr/>
        </p:nvSpPr>
        <p:spPr>
          <a:xfrm>
            <a:off x="3848040" y="4851360"/>
            <a:ext cx="2590920" cy="1727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7"/>
          <p:cNvSpPr/>
          <p:nvPr/>
        </p:nvSpPr>
        <p:spPr>
          <a:xfrm>
            <a:off x="449280" y="4365720"/>
            <a:ext cx="2733480" cy="1790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103320" y="1695600"/>
            <a:ext cx="2555640" cy="1871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2627280" y="244440"/>
            <a:ext cx="2879640" cy="1916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5683320" y="887400"/>
            <a:ext cx="2952720" cy="2087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1"/>
          <p:cNvSpPr/>
          <p:nvPr/>
        </p:nvSpPr>
        <p:spPr>
          <a:xfrm>
            <a:off x="6084720" y="3284640"/>
            <a:ext cx="2880000" cy="19429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1559880" y="5541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1226520" y="2865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4352040" y="500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6219000" y="18111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7140600" y="4500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果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4991040" y="59612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8199"/>
          <p:cNvSpPr/>
          <p:nvPr/>
        </p:nvSpPr>
        <p:spPr>
          <a:xfrm>
            <a:off x="1450800" y="4165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Oval 5"/>
          <p:cNvSpPr/>
          <p:nvPr/>
        </p:nvSpPr>
        <p:spPr>
          <a:xfrm>
            <a:off x="2700360" y="836640"/>
            <a:ext cx="3529080" cy="4751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3384360" y="58532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植物生长需要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452520" y="4075200"/>
            <a:ext cx="2457360" cy="2070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6087960" y="4016520"/>
            <a:ext cx="2457720" cy="2170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1" descr=""/>
          <p:cNvPicPr/>
          <p:nvPr/>
        </p:nvPicPr>
        <p:blipFill>
          <a:blip r:embed="rId4"/>
          <a:stretch/>
        </p:blipFill>
        <p:spPr>
          <a:xfrm>
            <a:off x="6229440" y="681120"/>
            <a:ext cx="2457360" cy="250344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2" descr=""/>
          <p:cNvPicPr/>
          <p:nvPr/>
        </p:nvPicPr>
        <p:blipFill>
          <a:blip r:embed="rId5"/>
          <a:stretch/>
        </p:blipFill>
        <p:spPr>
          <a:xfrm>
            <a:off x="0" y="582480"/>
            <a:ext cx="2700360" cy="2602080"/>
          </a:xfrm>
          <a:prstGeom prst="rect">
            <a:avLst/>
          </a:prstGeom>
          <a:ln w="0">
            <a:noFill/>
          </a:ln>
        </p:spPr>
      </p:pic>
      <p:sp>
        <p:nvSpPr>
          <p:cNvPr id="306" name="文本框 3"/>
          <p:cNvSpPr/>
          <p:nvPr/>
        </p:nvSpPr>
        <p:spPr>
          <a:xfrm>
            <a:off x="934920" y="318456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阳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13"/>
          <p:cNvSpPr/>
          <p:nvPr/>
        </p:nvSpPr>
        <p:spPr>
          <a:xfrm>
            <a:off x="1155600" y="615780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土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14"/>
          <p:cNvSpPr/>
          <p:nvPr/>
        </p:nvSpPr>
        <p:spPr>
          <a:xfrm>
            <a:off x="6888240" y="6157800"/>
            <a:ext cx="12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水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15"/>
          <p:cNvSpPr/>
          <p:nvPr/>
        </p:nvSpPr>
        <p:spPr>
          <a:xfrm>
            <a:off x="6985080" y="301932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温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5" descr="chuangyibiankuang2_01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201240" cy="7015320"/>
          </a:xfrm>
          <a:prstGeom prst="rect">
            <a:avLst/>
          </a:prstGeom>
          <a:ln w="0">
            <a:noFill/>
          </a:ln>
        </p:spPr>
      </p:pic>
      <p:sp>
        <p:nvSpPr>
          <p:cNvPr id="313" name="文本框 5"/>
          <p:cNvSpPr/>
          <p:nvPr/>
        </p:nvSpPr>
        <p:spPr>
          <a:xfrm>
            <a:off x="1881720" y="563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6"/>
          <p:cNvSpPr/>
          <p:nvPr/>
        </p:nvSpPr>
        <p:spPr>
          <a:xfrm>
            <a:off x="584280" y="1246320"/>
            <a:ext cx="375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一粒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种子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在适宜的环境下能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发育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成一株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植物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，并结出许多种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绿色开花植物通过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种子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繁殖后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7"/>
          <p:cNvSpPr/>
          <p:nvPr/>
        </p:nvSpPr>
        <p:spPr>
          <a:xfrm>
            <a:off x="4699080" y="711360"/>
            <a:ext cx="394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绿色开花植物一生中会经历种子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萌发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幼苗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期、营养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生长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期和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开花结果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期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植物的生长发育需要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阳光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土壤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、适宜的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水分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和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温度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6F2B-2EC6-404F-B3E4-B8CA94253B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1240" y="42048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琥珀"/>
                <a:ea typeface="华文琥珀"/>
              </a:rPr>
              <a:t>通过种凤仙花我知道了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根的作用是吸收水分，叶的作用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琥珀"/>
                <a:ea typeface="华文琥珀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植物长出的第一对叶我们称为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琥珀"/>
                <a:ea typeface="华文琥珀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 ，第二对和以后的叶我们称为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琥珀"/>
                <a:ea typeface="华文琥珀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植物的绿叶可以制造植物生长所需要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凤仙花的叶在茎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琥珀"/>
                <a:ea typeface="华文琥珀"/>
              </a:rPr>
              <a:t>上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          生长，有利于接受更多的阳光进行                 作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6172200" y="15224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制造养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5562720" y="25146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子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3962520" y="29862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真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3892680" y="501156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交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054240" y="6064200"/>
            <a:ext cx="1447920" cy="360"/>
            <a:chOff x="3054240" y="6064200"/>
            <a:chExt cx="1447920" cy="360"/>
          </a:xfrm>
        </p:grpSpPr>
        <p:sp>
          <p:nvSpPr>
            <p:cNvPr id="327" name="Line 10"/>
            <p:cNvSpPr/>
            <p:nvPr/>
          </p:nvSpPr>
          <p:spPr>
            <a:xfrm>
              <a:off x="3054240" y="60642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3054240" y="606420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 Box 12"/>
          <p:cNvSpPr/>
          <p:nvPr/>
        </p:nvSpPr>
        <p:spPr>
          <a:xfrm>
            <a:off x="3022560" y="5522760"/>
            <a:ext cx="13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光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934320" y="4495680"/>
            <a:ext cx="1218960" cy="360"/>
            <a:chOff x="6934320" y="4495680"/>
            <a:chExt cx="1218960" cy="360"/>
          </a:xfrm>
        </p:grpSpPr>
        <p:sp>
          <p:nvSpPr>
            <p:cNvPr id="331" name="Line 13"/>
            <p:cNvSpPr/>
            <p:nvPr/>
          </p:nvSpPr>
          <p:spPr>
            <a:xfrm>
              <a:off x="6934320" y="4495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6934320" y="4495680"/>
              <a:ext cx="1218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14"/>
          <p:cNvSpPr/>
          <p:nvPr/>
        </p:nvSpPr>
        <p:spPr>
          <a:xfrm>
            <a:off x="6934320" y="39243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养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484280" cy="1230480"/>
          </a:xfrm>
          <a:prstGeom prst="rect">
            <a:avLst/>
          </a:prstGeom>
          <a:ln w="0">
            <a:noFill/>
          </a:ln>
        </p:spPr>
      </p:pic>
      <p:grpSp>
        <p:nvGrpSpPr>
          <p:cNvPr id="335" name=""/>
          <p:cNvGrpSpPr/>
          <p:nvPr/>
        </p:nvGrpSpPr>
        <p:grpSpPr>
          <a:xfrm>
            <a:off x="3701880" y="5572080"/>
            <a:ext cx="1447920" cy="360"/>
            <a:chOff x="3701880" y="5572080"/>
            <a:chExt cx="1447920" cy="360"/>
          </a:xfrm>
        </p:grpSpPr>
        <p:sp>
          <p:nvSpPr>
            <p:cNvPr id="336" name="Line 10"/>
            <p:cNvSpPr/>
            <p:nvPr/>
          </p:nvSpPr>
          <p:spPr>
            <a:xfrm>
              <a:off x="3701880" y="55720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3701880" y="557208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7"/>
          <p:cNvSpPr/>
          <p:nvPr/>
        </p:nvSpPr>
        <p:spPr>
          <a:xfrm>
            <a:off x="325440" y="130320"/>
            <a:ext cx="6973920" cy="92700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琥珀"/>
                <a:ea typeface="华文琥珀"/>
              </a:rPr>
              <a:t>一</a:t>
            </a:r>
            <a:r>
              <a:rPr b="0" lang="en-US" sz="5400" spc="-1" strike="noStrike">
                <a:solidFill>
                  <a:srgbClr val="ff0000"/>
                </a:solidFill>
                <a:latin typeface="华文琥珀"/>
                <a:ea typeface="华文琥珀"/>
              </a:rPr>
              <a:t>.</a:t>
            </a:r>
            <a:r>
              <a:rPr b="0" lang="zh-CN" sz="5400" spc="-1" strike="noStrike">
                <a:solidFill>
                  <a:srgbClr val="ff0000"/>
                </a:solidFill>
                <a:latin typeface="华文琥珀"/>
                <a:ea typeface="华文琥珀"/>
              </a:rPr>
              <a:t>凤仙花的生长变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40"/>
          <p:cNvGrpSpPr/>
          <p:nvPr/>
        </p:nvGrpSpPr>
        <p:grpSpPr>
          <a:xfrm>
            <a:off x="190440" y="1265040"/>
            <a:ext cx="7470360" cy="863280"/>
            <a:chOff x="190440" y="1265040"/>
            <a:chExt cx="7470360" cy="863280"/>
          </a:xfrm>
        </p:grpSpPr>
        <p:sp>
          <p:nvSpPr>
            <p:cNvPr id="160" name="自选图形 37"/>
            <p:cNvSpPr/>
            <p:nvPr/>
          </p:nvSpPr>
          <p:spPr>
            <a:xfrm>
              <a:off x="417600" y="1404360"/>
              <a:ext cx="7243200" cy="723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99cc00"/>
                </a:gs>
                <a:gs pos="100000">
                  <a:srgbClr val="ffffcc"/>
                </a:gs>
              </a:gsLst>
              <a:lin ang="18900000"/>
            </a:gradFill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39"/>
            <p:cNvSpPr/>
            <p:nvPr/>
          </p:nvSpPr>
          <p:spPr>
            <a:xfrm>
              <a:off x="190440" y="1301040"/>
              <a:ext cx="855360" cy="444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组合 26"/>
            <p:cNvGrpSpPr/>
            <p:nvPr/>
          </p:nvGrpSpPr>
          <p:grpSpPr>
            <a:xfrm>
              <a:off x="324000" y="1265040"/>
              <a:ext cx="531000" cy="355680"/>
              <a:chOff x="324000" y="1265040"/>
              <a:chExt cx="531000" cy="355680"/>
            </a:xfrm>
          </p:grpSpPr>
          <p:sp>
            <p:nvSpPr>
              <p:cNvPr id="163" name="椭圆 27"/>
              <p:cNvSpPr/>
              <p:nvPr/>
            </p:nvSpPr>
            <p:spPr>
              <a:xfrm>
                <a:off x="324000" y="1506240"/>
                <a:ext cx="5310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自选图形 28"/>
              <p:cNvSpPr/>
              <p:nvPr/>
            </p:nvSpPr>
            <p:spPr>
              <a:xfrm>
                <a:off x="408240" y="1411920"/>
                <a:ext cx="372240" cy="1735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组合 29"/>
              <p:cNvGrpSpPr/>
              <p:nvPr/>
            </p:nvGrpSpPr>
            <p:grpSpPr>
              <a:xfrm>
                <a:off x="464040" y="1265040"/>
                <a:ext cx="238680" cy="190800"/>
                <a:chOff x="464040" y="1265040"/>
                <a:chExt cx="238680" cy="190800"/>
              </a:xfrm>
            </p:grpSpPr>
            <p:sp>
              <p:nvSpPr>
                <p:cNvPr id="166" name="任意多边形 30"/>
                <p:cNvSpPr/>
                <p:nvPr/>
              </p:nvSpPr>
              <p:spPr>
                <a:xfrm rot="18580800">
                  <a:off x="515160" y="1253160"/>
                  <a:ext cx="41760" cy="1526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任意多边形 31"/>
                <p:cNvSpPr/>
                <p:nvPr/>
              </p:nvSpPr>
              <p:spPr>
                <a:xfrm rot="2400000">
                  <a:off x="603000" y="1287000"/>
                  <a:ext cx="85320" cy="7488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矩形 32"/>
                <p:cNvSpPr/>
                <p:nvPr/>
              </p:nvSpPr>
              <p:spPr>
                <a:xfrm>
                  <a:off x="589680" y="1352160"/>
                  <a:ext cx="16200" cy="10368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9" name="组合 40"/>
          <p:cNvGrpSpPr/>
          <p:nvPr/>
        </p:nvGrpSpPr>
        <p:grpSpPr>
          <a:xfrm>
            <a:off x="190440" y="2414520"/>
            <a:ext cx="7470360" cy="863280"/>
            <a:chOff x="190440" y="2414520"/>
            <a:chExt cx="7470360" cy="863280"/>
          </a:xfrm>
        </p:grpSpPr>
        <p:sp>
          <p:nvSpPr>
            <p:cNvPr id="170" name="自选图形 37"/>
            <p:cNvSpPr/>
            <p:nvPr/>
          </p:nvSpPr>
          <p:spPr>
            <a:xfrm>
              <a:off x="417600" y="2553840"/>
              <a:ext cx="7243200" cy="723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99cc00"/>
                </a:gs>
                <a:gs pos="100000">
                  <a:srgbClr val="ffffcc"/>
                </a:gs>
              </a:gsLst>
              <a:lin ang="18900000"/>
            </a:gradFill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39"/>
            <p:cNvSpPr/>
            <p:nvPr/>
          </p:nvSpPr>
          <p:spPr>
            <a:xfrm>
              <a:off x="190440" y="2450520"/>
              <a:ext cx="855360" cy="444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组合 26"/>
            <p:cNvGrpSpPr/>
            <p:nvPr/>
          </p:nvGrpSpPr>
          <p:grpSpPr>
            <a:xfrm>
              <a:off x="324000" y="2414520"/>
              <a:ext cx="531000" cy="355680"/>
              <a:chOff x="324000" y="2414520"/>
              <a:chExt cx="531000" cy="355680"/>
            </a:xfrm>
          </p:grpSpPr>
          <p:sp>
            <p:nvSpPr>
              <p:cNvPr id="173" name="椭圆 27"/>
              <p:cNvSpPr/>
              <p:nvPr/>
            </p:nvSpPr>
            <p:spPr>
              <a:xfrm>
                <a:off x="324000" y="2655720"/>
                <a:ext cx="5310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自选图形 28"/>
              <p:cNvSpPr/>
              <p:nvPr/>
            </p:nvSpPr>
            <p:spPr>
              <a:xfrm>
                <a:off x="408240" y="2561400"/>
                <a:ext cx="372240" cy="1735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组合 29"/>
              <p:cNvGrpSpPr/>
              <p:nvPr/>
            </p:nvGrpSpPr>
            <p:grpSpPr>
              <a:xfrm>
                <a:off x="464040" y="2414520"/>
                <a:ext cx="238680" cy="190800"/>
                <a:chOff x="464040" y="2414520"/>
                <a:chExt cx="238680" cy="190800"/>
              </a:xfrm>
            </p:grpSpPr>
            <p:sp>
              <p:nvSpPr>
                <p:cNvPr id="176" name="任意多边形 30"/>
                <p:cNvSpPr/>
                <p:nvPr/>
              </p:nvSpPr>
              <p:spPr>
                <a:xfrm rot="18580800">
                  <a:off x="515160" y="2402640"/>
                  <a:ext cx="41760" cy="1526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任意多边形 31"/>
                <p:cNvSpPr/>
                <p:nvPr/>
              </p:nvSpPr>
              <p:spPr>
                <a:xfrm rot="2400000">
                  <a:off x="603000" y="2436480"/>
                  <a:ext cx="85320" cy="7488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矩形 32"/>
                <p:cNvSpPr/>
                <p:nvPr/>
              </p:nvSpPr>
              <p:spPr>
                <a:xfrm>
                  <a:off x="589680" y="2501640"/>
                  <a:ext cx="16200" cy="10368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9" name="组合 40"/>
          <p:cNvGrpSpPr/>
          <p:nvPr/>
        </p:nvGrpSpPr>
        <p:grpSpPr>
          <a:xfrm>
            <a:off x="190440" y="3547800"/>
            <a:ext cx="7470360" cy="863640"/>
            <a:chOff x="190440" y="3547800"/>
            <a:chExt cx="7470360" cy="863640"/>
          </a:xfrm>
        </p:grpSpPr>
        <p:sp>
          <p:nvSpPr>
            <p:cNvPr id="180" name="自选图形 37"/>
            <p:cNvSpPr/>
            <p:nvPr/>
          </p:nvSpPr>
          <p:spPr>
            <a:xfrm>
              <a:off x="417600" y="3687120"/>
              <a:ext cx="7243200" cy="72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99cc00"/>
                </a:gs>
                <a:gs pos="100000">
                  <a:srgbClr val="ffffcc"/>
                </a:gs>
              </a:gsLst>
              <a:lin ang="18900000"/>
            </a:gradFill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 39"/>
            <p:cNvSpPr/>
            <p:nvPr/>
          </p:nvSpPr>
          <p:spPr>
            <a:xfrm>
              <a:off x="190440" y="3583800"/>
              <a:ext cx="855360" cy="444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组合 26"/>
            <p:cNvGrpSpPr/>
            <p:nvPr/>
          </p:nvGrpSpPr>
          <p:grpSpPr>
            <a:xfrm>
              <a:off x="324000" y="3547800"/>
              <a:ext cx="531000" cy="356040"/>
              <a:chOff x="324000" y="3547800"/>
              <a:chExt cx="531000" cy="356040"/>
            </a:xfrm>
          </p:grpSpPr>
          <p:sp>
            <p:nvSpPr>
              <p:cNvPr id="183" name="椭圆 27"/>
              <p:cNvSpPr/>
              <p:nvPr/>
            </p:nvSpPr>
            <p:spPr>
              <a:xfrm>
                <a:off x="324000" y="3789360"/>
                <a:ext cx="5310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自选图形 28"/>
              <p:cNvSpPr/>
              <p:nvPr/>
            </p:nvSpPr>
            <p:spPr>
              <a:xfrm>
                <a:off x="408240" y="3694680"/>
                <a:ext cx="372240" cy="1735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组合 29"/>
              <p:cNvGrpSpPr/>
              <p:nvPr/>
            </p:nvGrpSpPr>
            <p:grpSpPr>
              <a:xfrm>
                <a:off x="464040" y="3547800"/>
                <a:ext cx="238680" cy="190800"/>
                <a:chOff x="464040" y="3547800"/>
                <a:chExt cx="238680" cy="190800"/>
              </a:xfrm>
            </p:grpSpPr>
            <p:sp>
              <p:nvSpPr>
                <p:cNvPr id="186" name="任意多边形 30"/>
                <p:cNvSpPr/>
                <p:nvPr/>
              </p:nvSpPr>
              <p:spPr>
                <a:xfrm rot="18580800">
                  <a:off x="515160" y="3535920"/>
                  <a:ext cx="41760" cy="1526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任意多边形 31"/>
                <p:cNvSpPr/>
                <p:nvPr/>
              </p:nvSpPr>
              <p:spPr>
                <a:xfrm rot="2400000">
                  <a:off x="603000" y="3569760"/>
                  <a:ext cx="85320" cy="7488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矩形 32"/>
                <p:cNvSpPr/>
                <p:nvPr/>
              </p:nvSpPr>
              <p:spPr>
                <a:xfrm>
                  <a:off x="589680" y="3634920"/>
                  <a:ext cx="16200" cy="10368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9" name="组合 40"/>
          <p:cNvGrpSpPr/>
          <p:nvPr/>
        </p:nvGrpSpPr>
        <p:grpSpPr>
          <a:xfrm>
            <a:off x="190440" y="4717800"/>
            <a:ext cx="7470360" cy="862200"/>
            <a:chOff x="190440" y="4717800"/>
            <a:chExt cx="7470360" cy="862200"/>
          </a:xfrm>
        </p:grpSpPr>
        <p:sp>
          <p:nvSpPr>
            <p:cNvPr id="190" name="自选图形 37"/>
            <p:cNvSpPr/>
            <p:nvPr/>
          </p:nvSpPr>
          <p:spPr>
            <a:xfrm>
              <a:off x="417600" y="4857120"/>
              <a:ext cx="7243200" cy="72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99cc00"/>
                </a:gs>
                <a:gs pos="100000">
                  <a:srgbClr val="ffffcc"/>
                </a:gs>
              </a:gsLst>
              <a:lin ang="18900000"/>
            </a:gradFill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39"/>
            <p:cNvSpPr/>
            <p:nvPr/>
          </p:nvSpPr>
          <p:spPr>
            <a:xfrm>
              <a:off x="190440" y="4753800"/>
              <a:ext cx="855360" cy="443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组合 26"/>
            <p:cNvGrpSpPr/>
            <p:nvPr/>
          </p:nvGrpSpPr>
          <p:grpSpPr>
            <a:xfrm>
              <a:off x="324000" y="4717800"/>
              <a:ext cx="531000" cy="355320"/>
              <a:chOff x="324000" y="4717800"/>
              <a:chExt cx="531000" cy="355320"/>
            </a:xfrm>
          </p:grpSpPr>
          <p:sp>
            <p:nvSpPr>
              <p:cNvPr id="193" name="椭圆 27"/>
              <p:cNvSpPr/>
              <p:nvPr/>
            </p:nvSpPr>
            <p:spPr>
              <a:xfrm>
                <a:off x="324000" y="4958640"/>
                <a:ext cx="5310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自选图形 28"/>
              <p:cNvSpPr/>
              <p:nvPr/>
            </p:nvSpPr>
            <p:spPr>
              <a:xfrm>
                <a:off x="408240" y="4864320"/>
                <a:ext cx="372240" cy="1731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组合 29"/>
              <p:cNvGrpSpPr/>
              <p:nvPr/>
            </p:nvGrpSpPr>
            <p:grpSpPr>
              <a:xfrm>
                <a:off x="464040" y="4717800"/>
                <a:ext cx="238680" cy="190440"/>
                <a:chOff x="464040" y="4717800"/>
                <a:chExt cx="238680" cy="190440"/>
              </a:xfrm>
            </p:grpSpPr>
            <p:sp>
              <p:nvSpPr>
                <p:cNvPr id="196" name="任意多边形 30"/>
                <p:cNvSpPr/>
                <p:nvPr/>
              </p:nvSpPr>
              <p:spPr>
                <a:xfrm rot="18580800">
                  <a:off x="515160" y="4705920"/>
                  <a:ext cx="41760" cy="1526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任意多边形 31"/>
                <p:cNvSpPr/>
                <p:nvPr/>
              </p:nvSpPr>
              <p:spPr>
                <a:xfrm rot="2400000">
                  <a:off x="603000" y="4739760"/>
                  <a:ext cx="85320" cy="7488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矩形 32"/>
                <p:cNvSpPr/>
                <p:nvPr/>
              </p:nvSpPr>
              <p:spPr>
                <a:xfrm>
                  <a:off x="589680" y="4804920"/>
                  <a:ext cx="16200" cy="10332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9" name="组合 40"/>
          <p:cNvGrpSpPr/>
          <p:nvPr/>
        </p:nvGrpSpPr>
        <p:grpSpPr>
          <a:xfrm>
            <a:off x="190440" y="5765760"/>
            <a:ext cx="7470360" cy="863280"/>
            <a:chOff x="190440" y="5765760"/>
            <a:chExt cx="7470360" cy="863280"/>
          </a:xfrm>
        </p:grpSpPr>
        <p:sp>
          <p:nvSpPr>
            <p:cNvPr id="200" name="自选图形 37"/>
            <p:cNvSpPr/>
            <p:nvPr/>
          </p:nvSpPr>
          <p:spPr>
            <a:xfrm>
              <a:off x="417600" y="5905080"/>
              <a:ext cx="7243200" cy="723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99cc00"/>
                </a:gs>
                <a:gs pos="100000">
                  <a:srgbClr val="ffffcc"/>
                </a:gs>
              </a:gsLst>
              <a:lin ang="18900000"/>
            </a:gradFill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椭圆 39"/>
            <p:cNvSpPr/>
            <p:nvPr/>
          </p:nvSpPr>
          <p:spPr>
            <a:xfrm>
              <a:off x="190440" y="5801760"/>
              <a:ext cx="855360" cy="444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组合 26"/>
            <p:cNvGrpSpPr/>
            <p:nvPr/>
          </p:nvGrpSpPr>
          <p:grpSpPr>
            <a:xfrm>
              <a:off x="324000" y="5765760"/>
              <a:ext cx="531000" cy="355680"/>
              <a:chOff x="324000" y="5765760"/>
              <a:chExt cx="531000" cy="355680"/>
            </a:xfrm>
          </p:grpSpPr>
          <p:sp>
            <p:nvSpPr>
              <p:cNvPr id="203" name="椭圆 27"/>
              <p:cNvSpPr/>
              <p:nvPr/>
            </p:nvSpPr>
            <p:spPr>
              <a:xfrm>
                <a:off x="324000" y="6006960"/>
                <a:ext cx="5310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自选图形 28"/>
              <p:cNvSpPr/>
              <p:nvPr/>
            </p:nvSpPr>
            <p:spPr>
              <a:xfrm>
                <a:off x="408240" y="5912640"/>
                <a:ext cx="372240" cy="1735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组合 29"/>
              <p:cNvGrpSpPr/>
              <p:nvPr/>
            </p:nvGrpSpPr>
            <p:grpSpPr>
              <a:xfrm>
                <a:off x="464040" y="5765760"/>
                <a:ext cx="238680" cy="190800"/>
                <a:chOff x="464040" y="5765760"/>
                <a:chExt cx="238680" cy="190800"/>
              </a:xfrm>
            </p:grpSpPr>
            <p:sp>
              <p:nvSpPr>
                <p:cNvPr id="206" name="任意多边形 30"/>
                <p:cNvSpPr/>
                <p:nvPr/>
              </p:nvSpPr>
              <p:spPr>
                <a:xfrm rot="18580800">
                  <a:off x="515160" y="5753880"/>
                  <a:ext cx="41760" cy="1526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任意多边形 31"/>
                <p:cNvSpPr/>
                <p:nvPr/>
              </p:nvSpPr>
              <p:spPr>
                <a:xfrm rot="2400000">
                  <a:off x="603000" y="5787720"/>
                  <a:ext cx="85320" cy="7488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矩形 32"/>
                <p:cNvSpPr/>
                <p:nvPr/>
              </p:nvSpPr>
              <p:spPr>
                <a:xfrm>
                  <a:off x="589680" y="5852880"/>
                  <a:ext cx="16200" cy="10368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9" name="矩形 1"/>
          <p:cNvSpPr/>
          <p:nvPr/>
        </p:nvSpPr>
        <p:spPr>
          <a:xfrm>
            <a:off x="3115080" y="15732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凤仙花刚出土的时间和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94"/>
          <p:cNvSpPr/>
          <p:nvPr/>
        </p:nvSpPr>
        <p:spPr>
          <a:xfrm>
            <a:off x="1815120" y="27417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刚出土凤仙花茎是什么颜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95"/>
          <p:cNvSpPr/>
          <p:nvPr/>
        </p:nvSpPr>
        <p:spPr>
          <a:xfrm>
            <a:off x="1815120" y="38307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刚出土凤仙花叶是什么样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96"/>
          <p:cNvSpPr/>
          <p:nvPr/>
        </p:nvSpPr>
        <p:spPr>
          <a:xfrm>
            <a:off x="3861000" y="496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对叶和以后长出的叶子有什么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1963080" y="60199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凤仙花叶子在茎上是怎么排列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4"/>
          <p:cNvSpPr txBox="1"/>
          <p:nvPr/>
        </p:nvSpPr>
        <p:spPr>
          <a:xfrm>
            <a:off x="520560" y="476280"/>
            <a:ext cx="7898040" cy="258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凤仙花的观察日记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15" name="图片 5" descr=""/>
          <p:cNvPicPr/>
          <p:nvPr/>
        </p:nvPicPr>
        <p:blipFill>
          <a:blip r:embed="rId1"/>
          <a:stretch/>
        </p:blipFill>
        <p:spPr>
          <a:xfrm>
            <a:off x="1598760" y="3168720"/>
            <a:ext cx="5470200" cy="3452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36520" y="356760"/>
            <a:ext cx="58644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月</a:t>
            </a: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15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日（播种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内容占位符 5" descr=""/>
          <p:cNvPicPr/>
          <p:nvPr/>
        </p:nvPicPr>
        <p:blipFill>
          <a:blip r:embed="rId1"/>
          <a:stretch/>
        </p:blipFill>
        <p:spPr>
          <a:xfrm>
            <a:off x="5684760" y="990720"/>
            <a:ext cx="3287880" cy="239076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1"/>
          <p:cNvSpPr/>
          <p:nvPr/>
        </p:nvSpPr>
        <p:spPr>
          <a:xfrm>
            <a:off x="4729320" y="3589200"/>
            <a:ext cx="41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手指在土中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小坑，深度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厘米，每个小坑里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粒凤仙花的种子，再用土盖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往花盆中浇适量的水，使土壤湿润，将它放在温暖的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2"/>
          <p:cNvSpPr/>
          <p:nvPr/>
        </p:nvSpPr>
        <p:spPr>
          <a:xfrm>
            <a:off x="236520" y="1442880"/>
            <a:ext cx="53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挑选那些颗粒饱满的、没有受过损伤的种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一个合适的花盆，把一块小瓦片放在花盆的出水孔上然后装上适量疏松、肥沃、微酸的土壤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1" descr=""/>
          <p:cNvPicPr/>
          <p:nvPr/>
        </p:nvPicPr>
        <p:blipFill>
          <a:blip r:embed="rId2"/>
          <a:stretch/>
        </p:blipFill>
        <p:spPr>
          <a:xfrm>
            <a:off x="344520" y="3408480"/>
            <a:ext cx="427680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324000" y="61740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  <a:ea typeface="华文细黑"/>
              </a:rPr>
              <a:t>3</a:t>
            </a:r>
            <a:r>
              <a:rPr b="0" lang="zh-CN" sz="4400" spc="-1" strike="noStrike">
                <a:solidFill>
                  <a:srgbClr val="002060"/>
                </a:solidFill>
                <a:latin typeface="Arial"/>
                <a:ea typeface="华文细黑"/>
              </a:rPr>
              <a:t>月</a:t>
            </a:r>
            <a:r>
              <a:rPr b="0" lang="en-US" sz="4400" spc="-1" strike="noStrike">
                <a:solidFill>
                  <a:srgbClr val="002060"/>
                </a:solidFill>
                <a:latin typeface="Arial"/>
                <a:ea typeface="华文细黑"/>
              </a:rPr>
              <a:t>22</a:t>
            </a:r>
            <a:r>
              <a:rPr b="0" lang="zh-CN" sz="4400" spc="-1" strike="noStrike">
                <a:solidFill>
                  <a:srgbClr val="002060"/>
                </a:solidFill>
                <a:latin typeface="Arial"/>
                <a:ea typeface="华文细黑"/>
              </a:rPr>
              <a:t>日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华文细黑"/>
              </a:rPr>
              <a:t>（小苗出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5407200" y="5154480"/>
            <a:ext cx="40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刚破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出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2" descr=""/>
          <p:cNvPicPr/>
          <p:nvPr/>
        </p:nvPicPr>
        <p:blipFill>
          <a:blip r:embed="rId1"/>
          <a:stretch/>
        </p:blipFill>
        <p:spPr>
          <a:xfrm>
            <a:off x="4699080" y="1876320"/>
            <a:ext cx="4367160" cy="327816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" descr=""/>
          <p:cNvPicPr/>
          <p:nvPr/>
        </p:nvPicPr>
        <p:blipFill>
          <a:blip r:embed="rId2"/>
          <a:stretch/>
        </p:blipFill>
        <p:spPr>
          <a:xfrm>
            <a:off x="324000" y="1876320"/>
            <a:ext cx="4371840" cy="4048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61704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2060"/>
                </a:solidFill>
                <a:latin typeface="Arial"/>
              </a:rPr>
              <a:t>月</a:t>
            </a: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24</a:t>
            </a:r>
            <a:r>
              <a:rPr b="0" lang="zh-CN" sz="4400" spc="-1" strike="noStrike">
                <a:solidFill>
                  <a:srgbClr val="002060"/>
                </a:solidFill>
                <a:latin typeface="Arial"/>
              </a:rPr>
              <a:t>日（长出子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内容占位符 3" descr=""/>
          <p:cNvPicPr/>
          <p:nvPr/>
        </p:nvPicPr>
        <p:blipFill>
          <a:blip r:embed="rId1"/>
          <a:stretch/>
        </p:blipFill>
        <p:spPr>
          <a:xfrm>
            <a:off x="457200" y="1741320"/>
            <a:ext cx="4836960" cy="350208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2"/>
          <p:cNvSpPr/>
          <p:nvPr/>
        </p:nvSpPr>
        <p:spPr>
          <a:xfrm>
            <a:off x="550800" y="5450040"/>
            <a:ext cx="483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种子萌发时，需要的养料来自于种子子叶中所储存的养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"/>
          <p:cNvSpPr/>
          <p:nvPr/>
        </p:nvSpPr>
        <p:spPr>
          <a:xfrm>
            <a:off x="5483160" y="1479600"/>
            <a:ext cx="36608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凤仙花的第一对叶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子叶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叶淡绿色，椭圆形，表面光滑、无明显叶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图片 4" descr=""/>
          <p:cNvPicPr/>
          <p:nvPr/>
        </p:nvPicPr>
        <p:blipFill>
          <a:blip r:embed="rId2"/>
          <a:stretch/>
        </p:blipFill>
        <p:spPr>
          <a:xfrm rot="19569000">
            <a:off x="1517760" y="2390760"/>
            <a:ext cx="2766960" cy="1424160"/>
          </a:xfrm>
          <a:prstGeom prst="rect">
            <a:avLst/>
          </a:prstGeom>
          <a:ln w="0">
            <a:noFill/>
          </a:ln>
        </p:spPr>
      </p:pic>
      <p:sp>
        <p:nvSpPr>
          <p:cNvPr id="23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7080" y="6519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日（长出第一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真叶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27080" y="1701720"/>
            <a:ext cx="351612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叶张开约一周后长出</a:t>
            </a:r>
            <a:r>
              <a:rPr b="0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真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真叶是凤仙花真正的叶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椭圆行，边缘锯齿状，淡绿色，有明显的叶脉。茎明显变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内容占位符 4" descr=""/>
          <p:cNvPicPr/>
          <p:nvPr/>
        </p:nvPicPr>
        <p:blipFill>
          <a:blip r:embed="rId1"/>
          <a:stretch/>
        </p:blipFill>
        <p:spPr>
          <a:xfrm>
            <a:off x="3768840" y="1967040"/>
            <a:ext cx="4589280" cy="422892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3" descr=""/>
          <p:cNvPicPr/>
          <p:nvPr/>
        </p:nvPicPr>
        <p:blipFill>
          <a:blip r:embed="rId2"/>
          <a:stretch/>
        </p:blipFill>
        <p:spPr>
          <a:xfrm rot="16384800">
            <a:off x="4884480" y="887040"/>
            <a:ext cx="2590920" cy="5797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6" descr=""/>
          <p:cNvPicPr/>
          <p:nvPr/>
        </p:nvPicPr>
        <p:blipFill>
          <a:blip r:embed="rId1"/>
          <a:stretch/>
        </p:blipFill>
        <p:spPr>
          <a:xfrm>
            <a:off x="773280" y="1684440"/>
            <a:ext cx="4760640" cy="44956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7080" y="6519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日（长出第二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真叶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图片 8" descr=""/>
          <p:cNvPicPr/>
          <p:nvPr/>
        </p:nvPicPr>
        <p:blipFill>
          <a:blip r:embed="rId2"/>
          <a:stretch/>
        </p:blipFill>
        <p:spPr>
          <a:xfrm rot="19692000">
            <a:off x="1806120" y="3018960"/>
            <a:ext cx="2320920" cy="15732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5627520" y="1351080"/>
            <a:ext cx="3516480" cy="52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天后，长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第二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真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第二对真叶与第一对真叶形成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号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07:51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56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