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B8A-DD0C-414E-AE59-33EC2605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124-29A3-4FB3-91E1-26FB5D9B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B97-843B-4A2B-8AAA-2B152BC8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80E-86EB-4F29-82B5-F6FFF920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4A9B-2C1E-4D73-8E6B-1DCD7B68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2FDC-16DF-4D67-9FE8-4DA7850A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D2C9-9404-41D3-9EF5-74ABB7BC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F1B5-5ADE-455E-B1F8-85D7A47B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B052-F0B9-49B4-A614-2E833B83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F243-973C-44C1-8E54-F490F721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BE12-0292-47C7-B862-00291AA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1D8-46E5-49A2-9DD2-45336A50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890-BD65-4C5D-910A-6BB171E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AABC-9BA1-4E43-8297-1739B3C5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CF2C-EBB6-4E40-8049-46994332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AA38-45B2-400D-8AFB-2161DD1B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9170-EE00-4BE2-BACE-C8E8BC57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609-C34F-4FB3-B570-198D4DEF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E82-78EF-4B06-B9C0-CEAD06D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218-D104-45EA-B2F4-AD3C32D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6E1-7D74-40AF-9967-DA15E206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46C-0218-4029-84B5-8CD3E4D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727-7354-4869-AB0E-2CD60DCE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0E5-9A85-4677-A02D-574290F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CA5E-5571-416B-89A8-52C604B37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3966-01E5-4C3F-A374-AA51CCF8C7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288,11,&#24187;&#28783;&#29255; 11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2865240" y="1268280"/>
            <a:ext cx="47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种子的萌发课件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835280" y="369720"/>
            <a:ext cx="55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教科版）四年级科学下册课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80880" y="990720"/>
            <a:ext cx="81536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c2808"/>
                </a:solidFill>
                <a:latin typeface="Times New Roman"/>
              </a:rPr>
              <a:t>有一个描述花生果实的谜语：“麻屋子，红帐子，里头住着白胖子。”麻屋子是指花生果实的（    ），红帐子是指（     ），白胖子是指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2808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9c2808"/>
                </a:solidFill>
                <a:latin typeface="Times New Roman"/>
              </a:rPr>
              <a:t>果皮      </a:t>
            </a:r>
            <a:r>
              <a:rPr b="1" lang="en-US" sz="3200" spc="-1" strike="noStrike">
                <a:solidFill>
                  <a:srgbClr val="9c2808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9c2808"/>
                </a:solidFill>
                <a:latin typeface="Times New Roman"/>
              </a:rPr>
              <a:t>种子      </a:t>
            </a:r>
            <a:r>
              <a:rPr b="1" lang="en-US" sz="3200" spc="-1" strike="noStrike">
                <a:solidFill>
                  <a:srgbClr val="9c2808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9c2808"/>
                </a:solidFill>
                <a:latin typeface="Times New Roman"/>
              </a:rPr>
              <a:t>种皮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2808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9c2808"/>
                </a:solidFill>
                <a:latin typeface="Times New Roman"/>
              </a:rPr>
              <a:t>胚          </a:t>
            </a:r>
            <a:r>
              <a:rPr b="1" lang="en-US" sz="3200" spc="-1" strike="noStrike">
                <a:solidFill>
                  <a:srgbClr val="9c2808"/>
                </a:solidFill>
                <a:latin typeface="Times New Roman"/>
              </a:rPr>
              <a:t>E.</a:t>
            </a:r>
            <a:r>
              <a:rPr b="1" lang="zh-CN" sz="3200" spc="-1" strike="noStrike">
                <a:solidFill>
                  <a:srgbClr val="9c2808"/>
                </a:solidFill>
                <a:latin typeface="Times New Roman"/>
              </a:rPr>
              <a:t>胚乳       </a:t>
            </a:r>
            <a:r>
              <a:rPr b="1" lang="en-US" sz="3200" spc="-1" strike="noStrike">
                <a:solidFill>
                  <a:srgbClr val="9c2808"/>
                </a:solidFill>
                <a:latin typeface="Times New Roman"/>
              </a:rPr>
              <a:t>F.</a:t>
            </a:r>
            <a:r>
              <a:rPr b="1" lang="zh-CN" sz="3200" spc="-1" strike="noStrike">
                <a:solidFill>
                  <a:srgbClr val="9c2808"/>
                </a:solidFill>
                <a:latin typeface="Times New Roman"/>
              </a:rPr>
              <a:t>子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8596440" y="7113600"/>
            <a:ext cx="656280" cy="784080"/>
            <a:chOff x="8596440" y="7113600"/>
            <a:chExt cx="656280" cy="784080"/>
          </a:xfrm>
        </p:grpSpPr>
        <p:sp>
          <p:nvSpPr>
            <p:cNvPr id="215" name="Oval 4"/>
            <p:cNvSpPr/>
            <p:nvPr/>
          </p:nvSpPr>
          <p:spPr>
            <a:xfrm rot="1662000">
              <a:off x="8733960" y="7162560"/>
              <a:ext cx="380880" cy="6858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5"/>
            <p:cNvSpPr/>
            <p:nvPr/>
          </p:nvSpPr>
          <p:spPr>
            <a:xfrm flipH="1" rot="1531800">
              <a:off x="8962200" y="7162560"/>
              <a:ext cx="7596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Oval 6"/>
            <p:cNvSpPr/>
            <p:nvPr/>
          </p:nvSpPr>
          <p:spPr>
            <a:xfrm flipH="1" rot="3477000">
              <a:off x="8913600" y="7100280"/>
              <a:ext cx="7632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7"/>
          <p:cNvSpPr/>
          <p:nvPr/>
        </p:nvSpPr>
        <p:spPr>
          <a:xfrm>
            <a:off x="1187280" y="1916280"/>
            <a:ext cx="5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901440" y="2492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4933800" y="19162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3761-3E4F-41BF-929F-256725B6BC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1476360" y="2133720"/>
            <a:ext cx="6408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谢谢，再见！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2008358435857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66"/>
                </a:solidFill>
                <a:latin typeface="Times New Roman"/>
              </a:rPr>
              <a:t>种子萌芽的条件：</a:t>
            </a: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440" y="1981080"/>
            <a:ext cx="2373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适宜的温度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76720" y="191628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定的水分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796000" y="19479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充足的空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755640" y="2708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合适的土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2971800" y="1676520"/>
            <a:ext cx="4336920" cy="4800600"/>
            <a:chOff x="2971800" y="1676520"/>
            <a:chExt cx="4336920" cy="4800600"/>
          </a:xfrm>
        </p:grpSpPr>
        <p:pic>
          <p:nvPicPr>
            <p:cNvPr id="95" name="Picture 3" descr=""/>
            <p:cNvPicPr/>
            <p:nvPr/>
          </p:nvPicPr>
          <p:blipFill>
            <a:blip r:embed="rId2"/>
            <a:stretch/>
          </p:blipFill>
          <p:spPr>
            <a:xfrm>
              <a:off x="3962520" y="1676520"/>
              <a:ext cx="3346200" cy="480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2971800" y="5410080"/>
              <a:ext cx="1752480" cy="360"/>
              <a:chOff x="2971800" y="5410080"/>
              <a:chExt cx="1752480" cy="360"/>
            </a:xfrm>
          </p:grpSpPr>
          <p:sp>
            <p:nvSpPr>
              <p:cNvPr id="97" name="Line 4"/>
              <p:cNvSpPr/>
              <p:nvPr/>
            </p:nvSpPr>
            <p:spPr>
              <a:xfrm>
                <a:off x="2971800" y="5410080"/>
                <a:ext cx="175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2971800" y="541008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048120" y="3429000"/>
              <a:ext cx="1218960" cy="360"/>
              <a:chOff x="3048120" y="3429000"/>
              <a:chExt cx="1218960" cy="360"/>
            </a:xfrm>
          </p:grpSpPr>
          <p:sp>
            <p:nvSpPr>
              <p:cNvPr id="100" name="Line 5"/>
              <p:cNvSpPr/>
              <p:nvPr/>
            </p:nvSpPr>
            <p:spPr>
              <a:xfrm>
                <a:off x="3048120" y="342900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3048120" y="3429000"/>
                <a:ext cx="121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3048120" y="2666880"/>
              <a:ext cx="1143000" cy="360"/>
              <a:chOff x="3048120" y="2666880"/>
              <a:chExt cx="1143000" cy="360"/>
            </a:xfrm>
          </p:grpSpPr>
          <p:sp>
            <p:nvSpPr>
              <p:cNvPr id="103" name="Line 6"/>
              <p:cNvSpPr/>
              <p:nvPr/>
            </p:nvSpPr>
            <p:spPr>
              <a:xfrm>
                <a:off x="3048120" y="266688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>
                <a:off x="3048120" y="2666880"/>
                <a:ext cx="1143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Text Box 7"/>
          <p:cNvSpPr/>
          <p:nvPr/>
        </p:nvSpPr>
        <p:spPr>
          <a:xfrm>
            <a:off x="2286000" y="228600"/>
            <a:ext cx="46483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华文行楷"/>
              </a:rPr>
              <a:t>菜豆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Arial"/>
                <a:ea typeface="华文行楷"/>
                <a:hlinkClick r:id="rId3"/>
              </a:rPr>
              <a:t>种子</a:t>
            </a: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华文行楷"/>
              </a:rPr>
              <a:t>的结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162920" y="4343400"/>
            <a:ext cx="685800" cy="360"/>
            <a:chOff x="7162920" y="4343400"/>
            <a:chExt cx="685800" cy="360"/>
          </a:xfrm>
        </p:grpSpPr>
        <p:sp>
          <p:nvSpPr>
            <p:cNvPr id="107" name="Line 8"/>
            <p:cNvSpPr/>
            <p:nvPr/>
          </p:nvSpPr>
          <p:spPr>
            <a:xfrm>
              <a:off x="7162920" y="4343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7162920" y="43434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3047760" y="1447560"/>
            <a:ext cx="1676160" cy="914760"/>
            <a:chOff x="3047760" y="1447560"/>
            <a:chExt cx="1676160" cy="914760"/>
          </a:xfrm>
        </p:grpSpPr>
        <p:grpSp>
          <p:nvGrpSpPr>
            <p:cNvPr id="110" name=""/>
            <p:cNvGrpSpPr/>
            <p:nvPr/>
          </p:nvGrpSpPr>
          <p:grpSpPr>
            <a:xfrm>
              <a:off x="3733560" y="1447920"/>
              <a:ext cx="990360" cy="914400"/>
              <a:chOff x="3733560" y="1447920"/>
              <a:chExt cx="990360" cy="914400"/>
            </a:xfrm>
          </p:grpSpPr>
          <p:sp>
            <p:nvSpPr>
              <p:cNvPr id="111" name="Line 10"/>
              <p:cNvSpPr/>
              <p:nvPr/>
            </p:nvSpPr>
            <p:spPr>
              <a:xfrm flipH="1" flipV="1">
                <a:off x="3733560" y="1447920"/>
                <a:ext cx="99036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 rot="10800000">
                <a:off x="3733560" y="1447920"/>
                <a:ext cx="990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47760" y="1447560"/>
              <a:ext cx="686160" cy="360"/>
              <a:chOff x="3047760" y="1447560"/>
              <a:chExt cx="686160" cy="360"/>
            </a:xfrm>
          </p:grpSpPr>
          <p:sp>
            <p:nvSpPr>
              <p:cNvPr id="114" name="Line 11"/>
              <p:cNvSpPr/>
              <p:nvPr/>
            </p:nvSpPr>
            <p:spPr>
              <a:xfrm>
                <a:off x="3048120" y="144792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 rot="10800000">
                <a:off x="3047760" y="144756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Group 16"/>
          <p:cNvGrpSpPr/>
          <p:nvPr/>
        </p:nvGrpSpPr>
        <p:grpSpPr>
          <a:xfrm>
            <a:off x="1905120" y="1214280"/>
            <a:ext cx="6809760" cy="4395600"/>
            <a:chOff x="1905120" y="1214280"/>
            <a:chExt cx="6809760" cy="4395600"/>
          </a:xfrm>
        </p:grpSpPr>
        <p:sp>
          <p:nvSpPr>
            <p:cNvPr id="117" name="Text Box 17"/>
            <p:cNvSpPr/>
            <p:nvPr/>
          </p:nvSpPr>
          <p:spPr>
            <a:xfrm>
              <a:off x="7639920" y="3404160"/>
              <a:ext cx="1074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种皮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1905120" y="2331000"/>
              <a:ext cx="121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胚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1905120" y="3075120"/>
              <a:ext cx="13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胚根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0"/>
            <p:cNvSpPr/>
            <p:nvPr/>
          </p:nvSpPr>
          <p:spPr>
            <a:xfrm>
              <a:off x="1905120" y="4967280"/>
              <a:ext cx="121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子叶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1976400" y="1214280"/>
              <a:ext cx="143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胚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Text Box 22"/>
          <p:cNvSpPr/>
          <p:nvPr/>
        </p:nvSpPr>
        <p:spPr>
          <a:xfrm>
            <a:off x="3200400" y="914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276720" y="4800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3200400" y="2133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320040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7696080" y="39625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2286000" y="1522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华文行楷"/>
              </a:rPr>
              <a:t>玉米种子的结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2743200" y="1371600"/>
            <a:ext cx="4724280" cy="4876920"/>
            <a:chOff x="2743200" y="1371600"/>
            <a:chExt cx="4724280" cy="4876920"/>
          </a:xfrm>
        </p:grpSpPr>
        <p:pic>
          <p:nvPicPr>
            <p:cNvPr id="129" name="Picture 4" descr=""/>
            <p:cNvPicPr/>
            <p:nvPr/>
          </p:nvPicPr>
          <p:blipFill>
            <a:blip r:embed="rId2"/>
            <a:stretch/>
          </p:blipFill>
          <p:spPr>
            <a:xfrm>
              <a:off x="3657600" y="1371600"/>
              <a:ext cx="3352680" cy="487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" name=""/>
            <p:cNvGrpSpPr/>
            <p:nvPr/>
          </p:nvGrpSpPr>
          <p:grpSpPr>
            <a:xfrm>
              <a:off x="6095880" y="1676520"/>
              <a:ext cx="1371600" cy="360"/>
              <a:chOff x="6095880" y="1676520"/>
              <a:chExt cx="1371600" cy="360"/>
            </a:xfrm>
          </p:grpSpPr>
          <p:sp>
            <p:nvSpPr>
              <p:cNvPr id="131" name="Line 5"/>
              <p:cNvSpPr/>
              <p:nvPr/>
            </p:nvSpPr>
            <p:spPr>
              <a:xfrm>
                <a:off x="6095880" y="16765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6095880" y="1676520"/>
                <a:ext cx="1371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743200" y="2361960"/>
              <a:ext cx="2819520" cy="360"/>
              <a:chOff x="2743200" y="2361960"/>
              <a:chExt cx="2819520" cy="360"/>
            </a:xfrm>
          </p:grpSpPr>
          <p:sp>
            <p:nvSpPr>
              <p:cNvPr id="134" name="Line 6"/>
              <p:cNvSpPr/>
              <p:nvPr/>
            </p:nvSpPr>
            <p:spPr>
              <a:xfrm>
                <a:off x="2743200" y="2362320"/>
                <a:ext cx="2819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 rot="10800000">
                <a:off x="2743200" y="2361600"/>
                <a:ext cx="2819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819160" y="3352680"/>
              <a:ext cx="2972160" cy="360"/>
              <a:chOff x="2819160" y="3352680"/>
              <a:chExt cx="2972160" cy="360"/>
            </a:xfrm>
          </p:grpSpPr>
          <p:sp>
            <p:nvSpPr>
              <p:cNvPr id="137" name="Line 7"/>
              <p:cNvSpPr/>
              <p:nvPr/>
            </p:nvSpPr>
            <p:spPr>
              <a:xfrm flipH="1">
                <a:off x="2819160" y="3352680"/>
                <a:ext cx="297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2819520" y="3352680"/>
                <a:ext cx="2971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895480" y="3886200"/>
              <a:ext cx="2743200" cy="76320"/>
              <a:chOff x="2895480" y="3886200"/>
              <a:chExt cx="2743200" cy="76320"/>
            </a:xfrm>
          </p:grpSpPr>
          <p:sp>
            <p:nvSpPr>
              <p:cNvPr id="140" name="Line 8"/>
              <p:cNvSpPr/>
              <p:nvPr/>
            </p:nvSpPr>
            <p:spPr>
              <a:xfrm flipH="1">
                <a:off x="2895480" y="3886200"/>
                <a:ext cx="274320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2895480" y="3886200"/>
                <a:ext cx="274320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895480" y="4572000"/>
              <a:ext cx="2362320" cy="360"/>
              <a:chOff x="2895480" y="4572000"/>
              <a:chExt cx="2362320" cy="360"/>
            </a:xfrm>
          </p:grpSpPr>
          <p:sp>
            <p:nvSpPr>
              <p:cNvPr id="143" name="Line 9"/>
              <p:cNvSpPr/>
              <p:nvPr/>
            </p:nvSpPr>
            <p:spPr>
              <a:xfrm flipH="1">
                <a:off x="2895480" y="4572000"/>
                <a:ext cx="236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2895480" y="4572000"/>
                <a:ext cx="2362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895480" y="5410080"/>
              <a:ext cx="1905120" cy="360"/>
              <a:chOff x="2895480" y="5410080"/>
              <a:chExt cx="1905120" cy="360"/>
            </a:xfrm>
          </p:grpSpPr>
          <p:sp>
            <p:nvSpPr>
              <p:cNvPr id="146" name="Line 10"/>
              <p:cNvSpPr/>
              <p:nvPr/>
            </p:nvSpPr>
            <p:spPr>
              <a:xfrm flipH="1">
                <a:off x="2895480" y="5410080"/>
                <a:ext cx="190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2895480" y="5410080"/>
                <a:ext cx="1905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" name="Group 14"/>
          <p:cNvGrpSpPr/>
          <p:nvPr/>
        </p:nvGrpSpPr>
        <p:grpSpPr>
          <a:xfrm>
            <a:off x="1447920" y="609480"/>
            <a:ext cx="7238880" cy="5001120"/>
            <a:chOff x="1447920" y="609480"/>
            <a:chExt cx="7238880" cy="5001120"/>
          </a:xfrm>
        </p:grpSpPr>
        <p:sp>
          <p:nvSpPr>
            <p:cNvPr id="149" name="Text Box 15"/>
            <p:cNvSpPr/>
            <p:nvPr/>
          </p:nvSpPr>
          <p:spPr>
            <a:xfrm>
              <a:off x="7696080" y="609480"/>
              <a:ext cx="990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种皮和果皮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6"/>
            <p:cNvSpPr/>
            <p:nvPr/>
          </p:nvSpPr>
          <p:spPr>
            <a:xfrm>
              <a:off x="1447920" y="198108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胚乳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7"/>
            <p:cNvSpPr/>
            <p:nvPr/>
          </p:nvSpPr>
          <p:spPr>
            <a:xfrm>
              <a:off x="1600200" y="29718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子叶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8"/>
            <p:cNvSpPr/>
            <p:nvPr/>
          </p:nvSpPr>
          <p:spPr>
            <a:xfrm>
              <a:off x="1600200" y="358128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胚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1600200" y="419112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胚轴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20"/>
            <p:cNvSpPr/>
            <p:nvPr/>
          </p:nvSpPr>
          <p:spPr>
            <a:xfrm>
              <a:off x="1676520" y="5029200"/>
              <a:ext cx="106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胚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Text Box 22"/>
          <p:cNvSpPr/>
          <p:nvPr/>
        </p:nvSpPr>
        <p:spPr>
          <a:xfrm>
            <a:off x="7086600" y="1143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2895480" y="1828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2819520" y="29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2819520" y="3519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281952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2819520" y="4952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752720" cy="53215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5800" y="476280"/>
            <a:ext cx="788040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种子萌发的过程</a:t>
            </a:r>
            <a:endParaRPr b="1" lang="en-US" sz="8000" spc="-1" strike="noStrike">
              <a:solidFill>
                <a:srgbClr val="339966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95640" y="4005360"/>
            <a:ext cx="1728720" cy="360"/>
            <a:chOff x="3995640" y="4005360"/>
            <a:chExt cx="1728720" cy="360"/>
          </a:xfrm>
        </p:grpSpPr>
        <p:sp>
          <p:nvSpPr>
            <p:cNvPr id="164" name="Line 4"/>
            <p:cNvSpPr/>
            <p:nvPr/>
          </p:nvSpPr>
          <p:spPr>
            <a:xfrm>
              <a:off x="3995640" y="4005360"/>
              <a:ext cx="1728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995640" y="400536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Picture 5" descr=""/>
          <p:cNvPicPr/>
          <p:nvPr/>
        </p:nvPicPr>
        <p:blipFill>
          <a:blip r:embed="rId3"/>
          <a:srcRect l="0" t="0" r="-71" b="0"/>
          <a:stretch/>
        </p:blipFill>
        <p:spPr>
          <a:xfrm>
            <a:off x="6372360" y="1413000"/>
            <a:ext cx="2520720" cy="469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67" name=""/>
          <p:cNvGrpSpPr/>
          <p:nvPr/>
        </p:nvGrpSpPr>
        <p:grpSpPr>
          <a:xfrm>
            <a:off x="4356000" y="2133720"/>
            <a:ext cx="1871640" cy="360"/>
            <a:chOff x="4356000" y="2133720"/>
            <a:chExt cx="1871640" cy="360"/>
          </a:xfrm>
        </p:grpSpPr>
        <p:sp>
          <p:nvSpPr>
            <p:cNvPr id="168" name="Line 6"/>
            <p:cNvSpPr/>
            <p:nvPr/>
          </p:nvSpPr>
          <p:spPr>
            <a:xfrm>
              <a:off x="4356000" y="2133720"/>
              <a:ext cx="187164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4356000" y="213372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066920" y="2133360"/>
            <a:ext cx="2160720" cy="1439640"/>
            <a:chOff x="4066920" y="2133360"/>
            <a:chExt cx="2160720" cy="1439640"/>
          </a:xfrm>
        </p:grpSpPr>
        <p:sp>
          <p:nvSpPr>
            <p:cNvPr id="171" name="Line 7"/>
            <p:cNvSpPr/>
            <p:nvPr/>
          </p:nvSpPr>
          <p:spPr>
            <a:xfrm flipV="1">
              <a:off x="4067280" y="2133360"/>
              <a:ext cx="2160360" cy="143964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4066920" y="2133360"/>
              <a:ext cx="2160360" cy="14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227640" y="2133720"/>
            <a:ext cx="1008360" cy="142920"/>
            <a:chOff x="6227640" y="2133720"/>
            <a:chExt cx="1008360" cy="142920"/>
          </a:xfrm>
        </p:grpSpPr>
        <p:sp>
          <p:nvSpPr>
            <p:cNvPr id="174" name="Line 8"/>
            <p:cNvSpPr/>
            <p:nvPr/>
          </p:nvSpPr>
          <p:spPr>
            <a:xfrm>
              <a:off x="6227640" y="2133720"/>
              <a:ext cx="1008360" cy="14292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6227640" y="2133720"/>
              <a:ext cx="1008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724360" y="2349360"/>
            <a:ext cx="935280" cy="1656000"/>
            <a:chOff x="5724360" y="2349360"/>
            <a:chExt cx="935280" cy="1656000"/>
          </a:xfrm>
        </p:grpSpPr>
        <p:sp>
          <p:nvSpPr>
            <p:cNvPr id="177" name="Line 9"/>
            <p:cNvSpPr/>
            <p:nvPr/>
          </p:nvSpPr>
          <p:spPr>
            <a:xfrm flipV="1">
              <a:off x="5724360" y="2349360"/>
              <a:ext cx="935280" cy="165600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 rot="10800000">
              <a:off x="5724360" y="2349360"/>
              <a:ext cx="93528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724360" y="2997000"/>
            <a:ext cx="935280" cy="1944360"/>
            <a:chOff x="5724360" y="2997000"/>
            <a:chExt cx="935280" cy="1944360"/>
          </a:xfrm>
        </p:grpSpPr>
        <p:sp>
          <p:nvSpPr>
            <p:cNvPr id="180" name="Line 10"/>
            <p:cNvSpPr/>
            <p:nvPr/>
          </p:nvSpPr>
          <p:spPr>
            <a:xfrm flipV="1">
              <a:off x="5724360" y="2997000"/>
              <a:ext cx="935280" cy="194436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5724360" y="2997000"/>
              <a:ext cx="935280" cy="19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995640" y="4941720"/>
            <a:ext cx="1728720" cy="360"/>
            <a:chOff x="3995640" y="4941720"/>
            <a:chExt cx="1728720" cy="360"/>
          </a:xfrm>
        </p:grpSpPr>
        <p:sp>
          <p:nvSpPr>
            <p:cNvPr id="183" name="Line 11"/>
            <p:cNvSpPr/>
            <p:nvPr/>
          </p:nvSpPr>
          <p:spPr>
            <a:xfrm>
              <a:off x="3995640" y="4941720"/>
              <a:ext cx="172872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3995640" y="4941720"/>
              <a:ext cx="172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文本框 8199"/>
          <p:cNvSpPr/>
          <p:nvPr/>
        </p:nvSpPr>
        <p:spPr>
          <a:xfrm>
            <a:off x="627120" y="1317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66"/>
                </a:solidFill>
                <a:latin typeface="Times New Roman"/>
              </a:rPr>
              <a:t>归纳</a:t>
            </a:r>
            <a:endParaRPr b="1" lang="en-US" sz="44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68360" y="2637000"/>
            <a:ext cx="54936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Organization Chart 8"/>
          <p:cNvGrpSpPr/>
          <p:nvPr/>
        </p:nvGrpSpPr>
        <p:grpSpPr>
          <a:xfrm>
            <a:off x="684360" y="1773360"/>
            <a:ext cx="7487640" cy="4177440"/>
            <a:chOff x="684360" y="1773360"/>
            <a:chExt cx="7487640" cy="4177440"/>
          </a:xfrm>
        </p:grpSpPr>
        <p:sp>
          <p:nvSpPr>
            <p:cNvPr id="189" name="AutoShape 7"/>
            <p:cNvSpPr/>
            <p:nvPr/>
          </p:nvSpPr>
          <p:spPr>
            <a:xfrm>
              <a:off x="684360" y="1773360"/>
              <a:ext cx="7487640" cy="41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" name="_s1028"/>
            <p:cNvCxnSpPr>
              <a:stCxn id="191" idx="0"/>
              <a:endCxn id="192" idx="2"/>
            </p:cNvCxnSpPr>
            <p:nvPr/>
          </p:nvCxnSpPr>
          <p:spPr>
            <a:xfrm flipV="1">
              <a:off x="6364440" y="4373280"/>
              <a:ext cx="216360" cy="52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029"/>
            <p:cNvCxnSpPr>
              <a:stCxn id="194" idx="0"/>
              <a:endCxn id="192" idx="2"/>
            </p:cNvCxnSpPr>
            <p:nvPr/>
          </p:nvCxnSpPr>
          <p:spPr>
            <a:xfrm flipV="1">
              <a:off x="4118400" y="4383720"/>
              <a:ext cx="2470320" cy="52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30"/>
            <p:cNvCxnSpPr>
              <a:stCxn id="196" idx="0"/>
              <a:endCxn id="192" idx="2"/>
            </p:cNvCxnSpPr>
            <p:nvPr/>
          </p:nvCxnSpPr>
          <p:spPr>
            <a:xfrm flipV="1">
              <a:off x="2194200" y="4373280"/>
              <a:ext cx="4386600" cy="52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031"/>
            <p:cNvCxnSpPr>
              <a:stCxn id="192" idx="0"/>
              <a:endCxn id="198" idx="2"/>
            </p:cNvCxnSpPr>
            <p:nvPr/>
          </p:nvCxnSpPr>
          <p:spPr>
            <a:xfrm flipH="1" flipV="1">
              <a:off x="3930480" y="2817360"/>
              <a:ext cx="2657880" cy="52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032"/>
            <p:cNvCxnSpPr>
              <a:stCxn id="200" idx="0"/>
              <a:endCxn id="198" idx="2"/>
            </p:cNvCxnSpPr>
            <p:nvPr/>
          </p:nvCxnSpPr>
          <p:spPr>
            <a:xfrm flipV="1">
              <a:off x="1798920" y="2806560"/>
              <a:ext cx="2124720" cy="522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8" name="_s1033"/>
            <p:cNvSpPr/>
            <p:nvPr/>
          </p:nvSpPr>
          <p:spPr>
            <a:xfrm>
              <a:off x="1994400" y="1773360"/>
              <a:ext cx="3871080" cy="1044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种子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684360" y="3339720"/>
              <a:ext cx="2246040" cy="1044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种皮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_s1035"/>
            <p:cNvSpPr/>
            <p:nvPr/>
          </p:nvSpPr>
          <p:spPr>
            <a:xfrm>
              <a:off x="5148000" y="3339720"/>
              <a:ext cx="2878200" cy="1044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胚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_s1036"/>
            <p:cNvSpPr/>
            <p:nvPr/>
          </p:nvSpPr>
          <p:spPr>
            <a:xfrm>
              <a:off x="1477080" y="4906440"/>
              <a:ext cx="1453320" cy="1044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胚根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_s1037"/>
            <p:cNvSpPr/>
            <p:nvPr/>
          </p:nvSpPr>
          <p:spPr>
            <a:xfrm>
              <a:off x="3304800" y="4906440"/>
              <a:ext cx="1627200" cy="1044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胚芽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_s1038"/>
            <p:cNvSpPr/>
            <p:nvPr/>
          </p:nvSpPr>
          <p:spPr>
            <a:xfrm>
              <a:off x="5579640" y="4906440"/>
              <a:ext cx="1583280" cy="1044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子叶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3598920" cy="7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66"/>
                </a:solidFill>
                <a:latin typeface="Times New Roman"/>
              </a:rPr>
              <a:t>种子各部分作用：</a:t>
            </a:r>
            <a:endParaRPr b="1" lang="en-US" sz="3600" spc="-1" strike="noStrike">
              <a:solidFill>
                <a:srgbClr val="3399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24000" y="1125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种皮：有保护作用。既保护种子不受伤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24000" y="1989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叶：有两片，肥厚，储存营养物质，最后变小消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50920" y="292428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胚芽：生有幼叶的部分。最后发育成茎和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250920" y="386064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胚根：连接胚芽相对的一端。最后发育成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517680" y="630360"/>
            <a:ext cx="801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80880" y="1523880"/>
            <a:ext cx="84582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将颗粒完整、饱满的种子分成甲、乙两组，在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25℃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左右下分别播种，甲组种在肥沃湿润的土壤里，乙组种在贫瘠湿润的土壤里，这两组种子的发芽情况是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乙先发芽     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甲先发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同时发芽     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都不发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8396640" y="6122880"/>
            <a:ext cx="656280" cy="784080"/>
            <a:chOff x="8396640" y="6122880"/>
            <a:chExt cx="656280" cy="784080"/>
          </a:xfrm>
        </p:grpSpPr>
        <p:sp>
          <p:nvSpPr>
            <p:cNvPr id="209" name="Oval 5"/>
            <p:cNvSpPr/>
            <p:nvPr/>
          </p:nvSpPr>
          <p:spPr>
            <a:xfrm rot="1662000">
              <a:off x="8534160" y="6171840"/>
              <a:ext cx="380880" cy="6858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6"/>
            <p:cNvSpPr/>
            <p:nvPr/>
          </p:nvSpPr>
          <p:spPr>
            <a:xfrm flipH="1" rot="1531800">
              <a:off x="8762400" y="6171840"/>
              <a:ext cx="7596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Oval 7"/>
            <p:cNvSpPr/>
            <p:nvPr/>
          </p:nvSpPr>
          <p:spPr>
            <a:xfrm flipH="1" rot="3477000">
              <a:off x="8713800" y="6109560"/>
              <a:ext cx="7632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Text Box 8"/>
          <p:cNvSpPr/>
          <p:nvPr/>
        </p:nvSpPr>
        <p:spPr>
          <a:xfrm>
            <a:off x="971640" y="27082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6:24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58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