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4D9-27E1-4D63-8005-4B2FD274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AF5-748C-40CC-8E05-ABA8AA10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B43-44D6-406D-AB0A-56843A1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82F-4C56-44A6-9A6F-D64816C6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AF1-D32E-4E2A-9FB3-505F057C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AC6D-98A4-453F-9A8C-8DDCFD2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3B67-9A61-4BD9-8382-AEC055F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37B5-9328-4BBA-BFB6-373D891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5C4D-A78F-4A36-B73F-CA2EBF6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A3ED-2465-49F1-9A79-DC7629F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A120-E1FC-4D5A-8DE4-6A13E50B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88E-8F57-4340-86A8-DB12E8D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0019-0596-42F6-AF65-746DDBF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9761-B54F-40BC-896E-D2956D6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549A-85D6-4475-AA17-8F8E05B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1A8B-C59B-448A-B54A-69D98215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B14A-8349-4F71-AF59-F0D0B410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BBD-6FFB-4BDC-A961-0BE73448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E03-8EE8-4ED6-A419-02965717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A59-FA34-41DA-B49B-60B6CC42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C25-F0A4-4CD5-9F7B-8B38BEC7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CAF-0A36-4E21-9375-19346D0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27-21AB-4FD6-87C0-1240CFB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E17-16C6-4CEC-B25E-9AA0DFFF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35B-036D-4593-8264-A4C29ED3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8D6D-F266-4D32-88BE-9C6D8F7D2F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.jpe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oseup"/>
          <p:cNvPicPr/>
          <p:nvPr/>
        </p:nvPicPr>
        <p:blipFill>
          <a:blip r:embed="rId1"/>
          <a:stretch/>
        </p:blipFill>
        <p:spPr>
          <a:xfrm>
            <a:off x="380880" y="344520"/>
            <a:ext cx="3810240" cy="5626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191120" y="1447920"/>
            <a:ext cx="48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真正的英雄语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09588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  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里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E60-5723-437C-AA56-A1F875476D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memap4"/>
          <p:cNvPicPr/>
          <p:nvPr/>
        </p:nvPicPr>
        <p:blipFill>
          <a:blip r:embed="rId1"/>
          <a:stretch/>
        </p:blipFill>
        <p:spPr>
          <a:xfrm>
            <a:off x="635040" y="254160"/>
            <a:ext cx="787392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3200400" y="16765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yingxiong"/>
          <p:cNvPicPr/>
          <p:nvPr/>
        </p:nvPicPr>
        <p:blipFill>
          <a:blip r:embed="rId1"/>
          <a:stretch/>
        </p:blipFill>
        <p:spPr>
          <a:xfrm>
            <a:off x="2057400" y="0"/>
            <a:ext cx="47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cobee"/>
          <p:cNvPicPr/>
          <p:nvPr/>
        </p:nvPicPr>
        <p:blipFill>
          <a:blip r:embed="rId1"/>
          <a:stretch/>
        </p:blipFill>
        <p:spPr>
          <a:xfrm>
            <a:off x="3132000" y="1916280"/>
            <a:ext cx="2965680" cy="367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smith-michael"/>
          <p:cNvPicPr/>
          <p:nvPr/>
        </p:nvPicPr>
        <p:blipFill>
          <a:blip r:embed="rId2"/>
          <a:stretch/>
        </p:blipFill>
        <p:spPr>
          <a:xfrm>
            <a:off x="3203640" y="1916280"/>
            <a:ext cx="290808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resnik"/>
          <p:cNvPicPr/>
          <p:nvPr/>
        </p:nvPicPr>
        <p:blipFill>
          <a:blip r:embed="rId3"/>
          <a:stretch/>
        </p:blipFill>
        <p:spPr>
          <a:xfrm>
            <a:off x="3203640" y="1916280"/>
            <a:ext cx="290664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onizuka"/>
          <p:cNvPicPr/>
          <p:nvPr/>
        </p:nvPicPr>
        <p:blipFill>
          <a:blip r:embed="rId4"/>
          <a:stretch/>
        </p:blipFill>
        <p:spPr>
          <a:xfrm>
            <a:off x="3132000" y="198756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cnair"/>
          <p:cNvPicPr/>
          <p:nvPr/>
        </p:nvPicPr>
        <p:blipFill>
          <a:blip r:embed="rId5"/>
          <a:stretch/>
        </p:blipFill>
        <p:spPr>
          <a:xfrm>
            <a:off x="3132000" y="198756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jarvis"/>
          <p:cNvPicPr/>
          <p:nvPr/>
        </p:nvPicPr>
        <p:blipFill>
          <a:blip r:embed="rId6"/>
          <a:stretch/>
        </p:blipFill>
        <p:spPr>
          <a:xfrm>
            <a:off x="3203640" y="1916280"/>
            <a:ext cx="2913120" cy="3673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mcauliffe"/>
          <p:cNvPicPr/>
          <p:nvPr/>
        </p:nvPicPr>
        <p:blipFill>
          <a:blip r:embed="rId7"/>
          <a:stretch/>
        </p:blipFill>
        <p:spPr>
          <a:xfrm>
            <a:off x="3203640" y="1987560"/>
            <a:ext cx="2921040" cy="368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移柩"/>
          <p:cNvPicPr/>
          <p:nvPr/>
        </p:nvPicPr>
        <p:blipFill>
          <a:blip r:embed="rId8"/>
          <a:stretch/>
        </p:blipFill>
        <p:spPr>
          <a:xfrm>
            <a:off x="1476360" y="1773360"/>
            <a:ext cx="6048360" cy="394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loseup"/>
          <p:cNvPicPr/>
          <p:nvPr/>
        </p:nvPicPr>
        <p:blipFill>
          <a:blip r:embed="rId9"/>
          <a:stretch/>
        </p:blipFill>
        <p:spPr>
          <a:xfrm>
            <a:off x="2700360" y="907920"/>
            <a:ext cx="3809880" cy="562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candle"/>
          <p:cNvPicPr/>
          <p:nvPr/>
        </p:nvPicPr>
        <p:blipFill>
          <a:blip r:embed="rId10"/>
          <a:stretch/>
        </p:blipFill>
        <p:spPr>
          <a:xfrm>
            <a:off x="0" y="0"/>
            <a:ext cx="79380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457200" y="914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进运动使美国农业迅速发展起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成为了幅员辽阔、自然资源丰富的国家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部的开拓，带动了大规模铁路的建筑和大批移民的流动，使美国形成了广大的国内市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不断的再生，这种美国生活的流动性，这种向西扩张带来的新机会以及跟简单原始社会的不断接触，提供了支配美国性格的力量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疆不断的向西部推进就意味着逐渐离开欧洲的影响，减少了对英国的依赖，逐渐增长美国独有的特点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进运动和边疆生活铸就了美国人鲜明的个性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美国的开拓精神，自由主张，还有那极具代表性的勇敢、开拓、洒脱的西部牛仔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美国西进开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赤脚医生李春燕"/>
          <p:cNvPicPr/>
          <p:nvPr/>
        </p:nvPicPr>
        <p:blipFill>
          <a:blip r:embed="rId1"/>
          <a:stretch/>
        </p:blipFill>
        <p:spPr>
          <a:xfrm>
            <a:off x="1752480" y="380880"/>
            <a:ext cx="5257800" cy="38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219320" y="49528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她是大山里最后的赤脚医生，提着篮子在田垄里行医，一间四壁透风的竹楼，成了天下最温暖的医院，一副瘦弱的肩膀，担负起十里八乡的健康，她是迁徙的候鸟，她是照亮苗乡的月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28800" y="44197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华文中宋"/>
              </a:rPr>
              <a:t>感动中国人物：赤脚医生李春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徐本禹"/>
          <p:cNvPicPr/>
          <p:nvPr/>
        </p:nvPicPr>
        <p:blipFill>
          <a:blip r:embed="rId1"/>
          <a:stretch/>
        </p:blipFill>
        <p:spPr>
          <a:xfrm>
            <a:off x="5715000" y="533520"/>
            <a:ext cx="30351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邮递员王顺友"/>
          <p:cNvPicPr/>
          <p:nvPr/>
        </p:nvPicPr>
        <p:blipFill>
          <a:blip r:embed="rId2"/>
          <a:stretch/>
        </p:blipFill>
        <p:spPr>
          <a:xfrm>
            <a:off x="533520" y="685800"/>
            <a:ext cx="4267080" cy="3290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38080" y="48006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邮递员：王顺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943600" y="4876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教师：徐本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33520" y="7621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的碎片正纷纷扬扬撒向大西洋时，美国总统里根正同他的高级助手们共进工作午餐。副总统布什和国家安全顾问波因德克斯特急匆匆地冲进来，把这个不幸的消息告诉了众人。里根总统的第一反应是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女教师乘坐的那架航天飞机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什表情严肃地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所有人都中止了午餐站起来，随里根总统来到离那儿最近的总统书房，打开电视观看这次事故的录像新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初，这位总统被残酷的现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震惊得一言不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脸上充满了忧虑、焦急不安和悲痛的表情。后来，里根对记者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当时根本摆脱不掉遇难者家属的形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04920" y="16002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华文中宋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在痛苦中我们认识到一个意义深远的道理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未来的道路并不平坦，整个人类前进的历史是与一切艰难险阻斗争的历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1905120" y="419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28600" y="114300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中午，迪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各比等七名宇航员坐在竖立的航天飞机中，准备出发。他们的妻子、丈夫、父亲、母亲、孩子、朋友和全美国人民都坐在电视机前观看电视转播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者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空后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观看者就看到了爆炸，航天飞机化为一缕缕长烟。长烟中，迪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各比、迈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史密斯、朱蒂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莱恩尼科、埃里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尼佐卡、罗纳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克耐尔、高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杰维斯、科里斯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考利芙，七位宇航员的笑容凝固了，凝固成金属的墓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长烟在天际消散，悲痛却在人民的心中积聚起来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时任美国总统的里根在追悼会上发表演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正的英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09480" y="457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挑战者号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升空爆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5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