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E2A-CF99-4591-AB18-3FD87FFF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906-5C8F-4F73-A3F1-EF01DEA6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B8D-4106-49DD-AAB8-99B50686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BC2-B494-4DFF-8B2B-EAF7C62E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949E-1E10-41A9-B338-B04CD2DD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E327-E034-4B11-903A-7068ED75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F2F4-0BCA-4BAA-A379-D0B42EDE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CAA1-0936-4506-9C46-77E9DE65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9EC7-05FF-4063-B3EB-977C770D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0E85-97AE-4525-BC28-5DC09FB8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9415-0F8F-42D0-8181-EAD80418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85F-FBFE-41EA-92ED-B90D3BB7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C02A-D10E-49BF-963E-94866C27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A4CD-C6B9-40F2-8FE8-1E5390EA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27C6-B9CA-4EB4-8410-4689B792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C646-249E-44FA-BD51-5957EBB3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77CD-63D0-4029-B633-139B1568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57E7B-31F0-422B-934C-7DCF3044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A4331-81B6-49EE-A81B-F6352BF9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9D51C-FAD2-4E38-B82D-102F588B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4A375-5B0D-44C8-BC56-3E835134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CABB-777E-4850-866D-DC37F693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10B-4A62-4DC4-AAF5-B471EDF7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7069B-BBBF-4E07-801C-E75C8A7B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B3BD4-69A5-4C26-B04C-E9C16B75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1F5F3-2BDD-4FA4-982A-3CC165C8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BFA34-DB8D-4A00-916B-5EE64EB9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A6D4D-B1F8-4C07-A404-1FBC3567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3E776-B3DB-4A81-83E9-C833E47A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44AEC-F973-4EBD-9B03-32BC8163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F262-B49A-4FD5-BD50-B4A71944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EBE-65CB-47F1-8B95-9DE9E3CE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283-561D-46F2-903C-41CDA1C9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F9AC-7FB2-441C-AAA6-35021339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651-5AF8-48A3-943A-998B4B34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DD2-D698-459B-AE48-61C4C03E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5B9A-1D36-4304-979F-84D18114213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84A4-2A49-4A31-89D2-B9269F2027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3C95-13B5-4876-AC92-581F5CE9A127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144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1440" y="907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种子发芽试验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一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492360" y="754920"/>
            <a:ext cx="27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验计划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9280" y="1700280"/>
          <a:ext cx="8820000" cy="4497480"/>
        </p:xfrm>
        <a:graphic>
          <a:graphicData uri="http://schemas.openxmlformats.org/drawingml/2006/table">
            <a:tbl>
              <a:tblPr/>
              <a:tblGrid>
                <a:gridCol w="2730600"/>
                <a:gridCol w="6089400"/>
              </a:tblGrid>
              <a:tr h="76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我们提出的问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   </a:t>
                      </a: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绿豆发芽需要土壤吗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我们的推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 </a:t>
                      </a: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绿豆发芽需要土壤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两个组相同的条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两个组不同的条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4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楷体_GB2312"/>
                        </a:rPr>
                        <a:t>实验的方法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3"/>
          <p:cNvSpPr/>
          <p:nvPr/>
        </p:nvSpPr>
        <p:spPr>
          <a:xfrm>
            <a:off x="4427640" y="3065760"/>
            <a:ext cx="33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空气  水  相同数量的绿豆  温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3492360" y="400284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组有土，另一组没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2917800" y="52250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让一组绿豆种子在土壤的环境下发芽，我们可以把这组称为实验组。而另一组绿豆种子在没有土壤的环境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们可以把这组称为对照组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68360" y="1773360"/>
          <a:ext cx="8229600" cy="450036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645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我们提出的问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我  们  的  推 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两个组的相同条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两个组的不同条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9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实  验  的  方  法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2"/>
          <p:cNvSpPr/>
          <p:nvPr/>
        </p:nvSpPr>
        <p:spPr>
          <a:xfrm>
            <a:off x="53964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我们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种子发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实验计划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539640" y="117612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验开始时间：         班级：         姓名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24000" y="1844640"/>
          <a:ext cx="8424720" cy="4041720"/>
        </p:xfrm>
        <a:graphic>
          <a:graphicData uri="http://schemas.openxmlformats.org/drawingml/2006/table">
            <a:tbl>
              <a:tblPr/>
              <a:tblGrid>
                <a:gridCol w="1352520"/>
                <a:gridCol w="3201840"/>
                <a:gridCol w="3870360"/>
              </a:tblGrid>
              <a:tr h="4269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日   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             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绿豆种子变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960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实验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对照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月  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月  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月  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月  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31"/>
          <p:cNvSpPr/>
          <p:nvPr/>
        </p:nvSpPr>
        <p:spPr>
          <a:xfrm>
            <a:off x="0" y="48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32"/>
          <p:cNvSpPr/>
          <p:nvPr/>
        </p:nvSpPr>
        <p:spPr>
          <a:xfrm>
            <a:off x="2365200" y="619920"/>
            <a:ext cx="41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子发芽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关系实验记录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250920" y="1890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学习任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50920" y="11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练习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883440" y="1076400"/>
            <a:ext cx="716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研究水分对种子发芽的影响时不需要控制的条件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需要控制的条件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059920" y="2733120"/>
            <a:ext cx="50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做对比试验时，只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条件不同，其他条件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148400" y="3669120"/>
            <a:ext cx="507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做对比试验时，和我们的猜测一致一组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我们的猜测不一致一组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7524720" y="90792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温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0" y="1628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空气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1619280" y="1628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843280" y="1628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种子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6732720" y="17002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3492360" y="2637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7524720" y="25653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相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084720" y="35002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实验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3780000" y="4221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对照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50920" y="11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练习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06760" y="1076400"/>
            <a:ext cx="55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把两组相同的种子，一组放在常温下，一组放在冰箱内，保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低温，同时都加适量的水，这个实验设计中改变的条件是（   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光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温度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641960" y="2587680"/>
            <a:ext cx="55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常温下两组相同的种子，一组受到光照，加适量的水，另一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子用纸盒盖住，加少量的水。这个实验设计（   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是科学的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是不科学的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无法判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2652120" y="4362480"/>
            <a:ext cx="25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种子发芽的自身条件（   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完整的活的胚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适宜的温度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充足的空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7956720" y="1413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372360" y="29242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564000" y="4221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DAC9-6CA2-416A-86DD-9ACC3DBBDE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6004351"/>
          <p:cNvPicPr/>
          <p:nvPr/>
        </p:nvPicPr>
        <p:blipFill>
          <a:blip r:embed="rId1"/>
          <a:stretch/>
        </p:blipFill>
        <p:spPr>
          <a:xfrm>
            <a:off x="1332000" y="333360"/>
            <a:ext cx="7153200" cy="5365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3276720" y="5877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经营的豆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16956518"/>
          <p:cNvPicPr/>
          <p:nvPr/>
        </p:nvPicPr>
        <p:blipFill>
          <a:blip r:embed="rId1"/>
          <a:stretch/>
        </p:blipFill>
        <p:spPr>
          <a:xfrm>
            <a:off x="0" y="0"/>
            <a:ext cx="5364000" cy="4167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885960" y="4322160"/>
            <a:ext cx="190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播种后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天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116977241"/>
          <p:cNvPicPr/>
          <p:nvPr/>
        </p:nvPicPr>
        <p:blipFill>
          <a:blip r:embed="rId2"/>
          <a:stretch/>
        </p:blipFill>
        <p:spPr>
          <a:xfrm>
            <a:off x="4008600" y="1628640"/>
            <a:ext cx="5135400" cy="4203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6111000" y="5949360"/>
            <a:ext cx="11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出苗一周以后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长出第一对真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16118192"/>
          <p:cNvPicPr/>
          <p:nvPr/>
        </p:nvPicPr>
        <p:blipFill>
          <a:blip r:embed="rId1"/>
          <a:stretch/>
        </p:blipFill>
        <p:spPr>
          <a:xfrm>
            <a:off x="324000" y="404640"/>
            <a:ext cx="4314600" cy="3238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1836720" y="385704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长出花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116300662"/>
          <p:cNvPicPr/>
          <p:nvPr/>
        </p:nvPicPr>
        <p:blipFill>
          <a:blip r:embed="rId2"/>
          <a:stretch/>
        </p:blipFill>
        <p:spPr>
          <a:xfrm>
            <a:off x="4140360" y="2565360"/>
            <a:ext cx="4543200" cy="34099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5923440" y="6015960"/>
            <a:ext cx="22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播种后两个月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开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116763996"/>
          <p:cNvPicPr/>
          <p:nvPr/>
        </p:nvPicPr>
        <p:blipFill>
          <a:blip r:embed="rId1"/>
          <a:stretch/>
        </p:blipFill>
        <p:spPr>
          <a:xfrm>
            <a:off x="1979640" y="105264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3703680" y="486504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结果：播种后三个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628280"/>
            <a:ext cx="8877240" cy="179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种子发芽</a:t>
            </a:r>
            <a:r>
              <a:rPr b="1" lang="zh-CN" sz="6000" spc="-1" strike="noStrike">
                <a:solidFill>
                  <a:srgbClr val="ff5050"/>
                </a:solidFill>
                <a:latin typeface="Verdana"/>
              </a:rPr>
              <a:t>需要哪些条件呢</a:t>
            </a:r>
            <a:r>
              <a:rPr b="1" lang="zh-CN" sz="6000" spc="-1" strike="noStrike">
                <a:solidFill>
                  <a:srgbClr val="ff505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3"/>
          <p:cNvSpPr/>
          <p:nvPr/>
        </p:nvSpPr>
        <p:spPr>
          <a:xfrm>
            <a:off x="2484360" y="2565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2" descr="绿豆"/>
          <p:cNvPicPr/>
          <p:nvPr/>
        </p:nvPicPr>
        <p:blipFill>
          <a:blip r:embed="rId1"/>
          <a:stretch/>
        </p:blipFill>
        <p:spPr>
          <a:xfrm>
            <a:off x="430200" y="32400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619280" y="1773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绿豆发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所说的这些条件都需要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WordArt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582560" cy="2303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1547640" y="3500280"/>
            <a:ext cx="60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么，哪些又是必须的呢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种子发芽书图2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05628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8199"/>
          <p:cNvSpPr/>
          <p:nvPr/>
        </p:nvSpPr>
        <p:spPr>
          <a:xfrm>
            <a:off x="1949400" y="436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813240" y="475560"/>
            <a:ext cx="129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小结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539640" y="30999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们把这种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实验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对照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同时进行实验，最后对比两组实验结果的实验方法称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对比实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对比实验要注意对照组只改变一个条件，其他条件与实验组相同。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01:21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55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